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501-B320-490B-81D5-90C8B132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B4-940A-494F-A4D7-BAFB23C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3DE-C39C-47EA-8DED-1B4FFA5E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482-4995-42FE-BB6F-23BD212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BFB-8730-46A8-AE0D-A402101F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835-E99C-498B-ABE5-B9686659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0B-F7D7-48D2-BEBC-772A57C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3E0-2799-4CC7-97AE-32D612DF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723-F640-4E7A-91C2-1EC7A56B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BB9-4318-45BE-A7A0-BB34599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402-4D16-44AD-B81F-C27BF8A2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A98-C21D-4B00-94A6-0A5E011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7174-86B7-4608-8561-D291A117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nuxcentral.com/linux/man-page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tation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Handling, I/O, 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bhav Gup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13 Sectio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40384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 B: csapp.c and csapp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 All Errors ar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are not always the correc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 all information as fatal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an error is not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124080"/>
            <a:ext cx="7238880" cy="289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pid = waitpid(-1, NULL, 0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coverage in Lecture 24, and Chapter 11 in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folks were having some issues with the Shell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lush? printf? fprintf? scanf? fscan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se issues will pop up with the Malloc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eed I/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data between main memory and extern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 is a small integer – file descri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an open file a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 for file descriptor and for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buffered_io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295280"/>
            <a:ext cx="7238880" cy="266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ystem calls (kernal I/O routine)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prints out info about all the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bhav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n Hall 8218, Thursday 1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 on Tuesday, Nov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 6 (Malloc) due on Tuesday, Nov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le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Library equivalent of fil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stdin, stdout, 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fopen ( const char * path, const char *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fdopen ( int fildes, const char *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sc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an extra first argume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args) = fprint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args) = fscan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s a write of all buff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_flush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505320"/>
            <a:ext cx="723888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flush(stdou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R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86000"/>
            <a:ext cx="723888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“213", 3213) = 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ecify the list of processes that kill should sig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l.  Each pid can be one of four things.   A  p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ss  name in which case processes called tha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1: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ff that you could run from a Unix prom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p(1), bash(1), kill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2: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king with the Ker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(2), ope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3: Library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 Libr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3), scanf(3), fflush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 man s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3 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http://www.linuxcentral.com/linux/man-pag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always check erro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can help in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sure 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debugging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 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rouped into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 6 (Mal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uesday, 19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on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9 Dynamic Memory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onday’s re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, 12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session next Monda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verage of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last year’s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optim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miss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mi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ck return code of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y for 5 points in your l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subtle ways that things can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atus info kernel provides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in this class: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error handl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S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return value when encounter error (always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lobal variabl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 erro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e cause of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for text descrip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S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 NULL pointer on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globa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_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ubhav Gupta</cp:lastModifiedBy>
  <dcterms:modified xsi:type="dcterms:W3CDTF">2002-11-04T17:56:42Z</dcterms:modified>
  <cp:revision>654</cp:revision>
  <dc:subject/>
  <dc:title>Call Chain Example</dc:title>
</cp:coreProperties>
</file>