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200-6A65-4E92-B988-53CAD797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327-8678-4AB2-B5ED-640464FF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D23-DD82-47FF-BC97-32475379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D2B-110B-4F67-905B-96219857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EF7-F186-433B-8515-0AFD15EC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60C-D7B7-489E-885D-3D5D05D8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0C4-ABD6-442C-87D6-D7103273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DB5-41CE-4D37-B8D2-031FA598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20F-0D58-4592-A577-DA64BED2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AFE-C244-453C-B88B-1747EDD5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A1E-57D1-4712-9BAC-A37E6EEC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5D1-896A-4FC4-8658-C922BAC2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0B5F-6A74-4B8F-8741-E48C36C83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nuxcentral.com/linux/man-pages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itation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Handling, I/O, 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bhav Gup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213 Sectio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Wra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40384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ix B: csapp.c and csapp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-Style, for kil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es exactly like the base function if n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s informative message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1371600"/>
            <a:ext cx="72388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ot All Errors are Fa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s are not always the correct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 all information as fatal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the program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an error is not f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124080"/>
            <a:ext cx="7238880" cy="289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pid = waitpid(-1, NULL, 0))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coverage in Lecture 24, and Chapter 11 in text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folks were having some issues with the Shell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lush? printf? fprintf? scanf? fscan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se issues will pop up with the Malloc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eed I/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data between main memory and external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evices modeled as files i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drives, terminals,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nix file is a sequence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/Output performed by reading and writing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n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st 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pathnam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 is a small integer – file descrip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file descrip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d 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unistd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open with each shell-created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Input (descriptor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Output (descriptor 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Error (descriptor 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Read and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read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a file (fd) to memory (bu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current posi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aintained by 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gge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reater than fil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“EOF charact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writ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memory (buf) to a file (f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os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frees data structures created by file open (if 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ores file descriptor to a pool of available descri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a process terminat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closes all open files and free memory (for this p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ndard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I/O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,fclose, fread,fwrite, fgets,fput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forma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ntual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s the kernel I/O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s an open file a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er to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ion for file descriptor and for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eam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use stream bu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expensive Unix system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buffered_io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1295280"/>
            <a:ext cx="7238880" cy="266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46479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ystem calls (kernal I/O routine)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3352680"/>
            <a:ext cx="723888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d prints out info about all the system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bhav@cs.cmu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n Hall 8218, Thursday 1–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2 on Tuesday, Nov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 6 (Malloc) due on Tuesday, Nov 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le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Library equivalent of file 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* stdin, stdout, 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* fopen ( const char * path, const char * m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* fdopen ( int fildes, const char * mo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print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sc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an extra first argument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rintf(const char *format, ..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printf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const char *format, 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args) = fprint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args) = fscan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shing a 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ces a write of all buffe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_io_flush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505320"/>
            <a:ext cx="7238880" cy="28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flush(stdou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Rev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286000"/>
            <a:ext cx="723888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“213", 3213) = 3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Man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ecify the list of processes that kill should sig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l.  Each pid can be one of four things.   A  pr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ss  name in which case processes called that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1: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ff that you could run from a Unix prom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p(1), bash(1), kill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2: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king with the Kern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(2), open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3: Library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 Librar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3), scanf(3), fflush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pecify a man se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n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3 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Tahoma"/>
                <a:hlinkClick r:id="rId1"/>
              </a:rPr>
              <a:t>http://www.linuxcentral.com/linux/man-pag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should always check erro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s can help in mo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sure to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debugging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 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grouped into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b 6 (Mallo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e Tuesday, 19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cture on Tu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9 Dynamic Memory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Monday’s re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, 12 Nov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session next Monday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verage of 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ilar to last year’s 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optimiz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miss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mis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ux man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eck return code of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only for 5 points in your lab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subtle ways that things can go wro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status info kernel provides 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ach in this class: 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error handling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NS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return value when encounter error (always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global variabl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 erro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e cause of th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for text descrip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only indicate success (0) or failure (non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results returned in function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cod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NS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a NULL pointer on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global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_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h_err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ubhav Gupta</cp:lastModifiedBy>
  <dcterms:modified xsi:type="dcterms:W3CDTF">2002-11-04T17:56:42Z</dcterms:modified>
  <cp:revision>654</cp:revision>
  <dc:subject/>
  <dc:title>Call Chain Example</dc:title>
</cp:coreProperties>
</file>