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4E0-FE4E-423E-B5CB-637817FA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B18E-3652-4710-BB6B-02F105B8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84B-9AED-4580-A1F5-8E381984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1DA-674D-442E-8DAB-99BC3708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DD0-9F4B-487B-B367-A394C18E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057-4F10-4283-8F7A-D365888C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1D8-DE7E-458A-B990-4DEA4598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C64-4ED7-4F61-B28A-8B212A54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D8A-6024-45F2-93B4-2899D941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AD3-AC06-4F70-8FB9-D2B03B15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C0E-50A6-4A56-912B-3DE2440D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AB7-286B-4D71-A4C7-4B05C055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3CD8-8984-4DBE-9FB3-FDFAAD797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inuxcentral.com/linux/man-pages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itation 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Handling, I/O, 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bhav Gup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13 Section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: Wrap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403848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ix B: csapp.c and csapp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x-Style, for kil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es exactly like the base function if n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s informative message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rm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1371600"/>
            <a:ext cx="723888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 (pid_t pi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c = kill(pid, signum)) &l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Kill error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ot All Errors are Fa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s are not always the correct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 all information as fatal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the program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times an error is not f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124080"/>
            <a:ext cx="7238880" cy="289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chld_handler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pid = waitpid(-1, NULL, 0))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Reaped %d\n”,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rrno != ECH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x_error(“waitpid erro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coverage in Lecture 24, and Chapter 11 in text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folks were having some issues with the Shell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lush? printf? fprintf? scanf? fscan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se issues will pop up with the Malloc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eed I/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data between main memory and external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devices modeled as files i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k drives, terminals,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Unix file is a sequence of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/Output performed by reading and writing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n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st 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pathname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 is a small integer – file descrip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file descrip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d i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unistd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open with each shell-created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Input (descriptor 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Output (descriptor 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Error (descriptor =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Read and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read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count &gt;0 bytes from a file (fd) to memory (buf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current posi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maintained by 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gge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reater than fil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“EOF charact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writ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count &gt;0 bytes from memory (buf) to a file (f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los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frees data structures created by file open (if 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ores file descriptor to a pool of available descri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a process terminat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closes all open files and free memory (for this pr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ndard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I/O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pen,fclose, fread,fwrite, fgets,fputs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formate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ntuall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s the kernel I/O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s an open file as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ointer to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ion for file descriptor and for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eam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use stream buf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expensive Unix system c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: buffered_io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1295280"/>
            <a:ext cx="7238880" cy="2667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4647960"/>
            <a:ext cx="81536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ystem calls (kernal I/O routine)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352680"/>
            <a:ext cx="723888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&gt; strace ./buffered_i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"15213", 515213) = 5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prints out info about all the system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’s ru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_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bhav@cs.cmu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n Hall 8218, Thursday 1–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2 on Tuesday, Nov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 6 (Malloc) due on Tuesday, Nov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le St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Library equivalent of file 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* stdin, stdout, stde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* fopen ( const char * path, const char * mo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* fdopen ( int fildes, const char * mo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print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sca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 an extra first argument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IL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rintf(const char *format, ...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printf(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ILE *strea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 const char *format, 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args) = fprintf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(args) = fscanf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shing a 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ces a write of all buffe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flush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lush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_io_flush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505320"/>
            <a:ext cx="7238880" cy="289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flush(stdou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Rev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286000"/>
            <a:ext cx="723888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&gt; strace ./buffered_io_flu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"15", 215)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“213", 3213) = 3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ru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fered_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 Man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x&gt; man k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(1)             Linux Programmer's Manual             KILL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 terminate a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NOP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[ -s signal | -p ]  [ -a ] pi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l [ signal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 sends the specified signal to the specified pro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no signal is specified, the TERM signal is  sent.  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RM  signal  will  kill processes which do not catch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.  For other processes, if may be necessary  to 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KILL (9) signal, since this signal cannot be cau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st modern shells have a builtin kill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ecify the list of processes that kill should sig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l.  Each pid can be one of four things.   A  pr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ss  name in which case processes called that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 Page Section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1: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ff that you could run from a Unix prom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p(1), bash(1), kill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2: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lking with the Kern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(2), open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3: Library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 Librar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3), scanf(3), fflush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 Pag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pecify a man se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 n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 3 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Tahoma"/>
                <a:hlinkClick r:id="rId1"/>
              </a:rPr>
              <a:t>http://www.linuxcentral.com/linux/man-pag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should always check error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s can help in mo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sure to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lus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debugging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 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grouped into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 6 (Mallo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uesday, 19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 on Tu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9 Dynamic Memory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Monday’s re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, 12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session next Monday ev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verage of Exa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last year’s exa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optimiz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miss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miss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man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eck return code of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only for 5 points in your lab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subtle ways that things can go wro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status info kernel provides 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ach in this class: 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error handling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x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x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NS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return value when encounter error (always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global variabl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rr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 erro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e cause of the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for text descrip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r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errno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Error in wait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ix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 only indicate success (0) or failure (non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results returned in function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760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de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code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etcode = pthread_create(…))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retcode, “Error in pthread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NS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a NULL pointer on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he global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_err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760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DNS error %d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h_err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 = gethostbyname(name)) =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“Error in gethostbyname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Anubhav Gupta</cp:lastModifiedBy>
  <dcterms:modified xsi:type="dcterms:W3CDTF">2002-11-04T17:56:42Z</dcterms:modified>
  <cp:revision>654</cp:revision>
  <dc:subject/>
  <dc:title>Call Chain Example</dc:title>
</cp:coreProperties>
</file>