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EAF571-BE6E-44B0-8B2E-3810CB24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and writing raw byte arrays. No forma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we had five calls to printf, but only one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8D2F-CD0A-4DEC-9068-E484F2379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563-F90F-4A10-8EF5-E4D490AE5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AEA5-155B-453C-90BA-4D1227B4B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7D2B-9D7B-4311-A2F5-5C355BA76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3694-60DD-44AD-9F7B-6BCBFE20D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CA2C-EE4E-469B-8794-72F042F46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3D6E-BB7A-45D6-9EE2-A32D6D1EF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634F-CA4B-4F80-B70F-4098A3F83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884A-9209-418B-8855-C7D59B94D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686D-B039-4996-BE86-EA04B88A6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1F18-E6B3-49EC-8E25-AECC65169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549D-4439-4852-B90A-CFFF6B17C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6C3D-04B8-4651-8D42-79883CAF7AAA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pa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4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andle Errors Gracefull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wrappers shown above calls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it(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many situations, we want to handle errors more gracefully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xample: web server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3120" y="1857240"/>
            <a:ext cx="5791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int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pid = waitpid(…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22DB-9785-43E2-BFAA-9B3FC29B5E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coverage in Lecture 24 on Next Thu. Chapter 11 in textbook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people were having some issues with the Shell lab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these issues will pop up with the Malloc lab 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5D86-7010-4FC5-A088-619BCC2310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 I/O &amp; Standard I/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743280"/>
            <a:ext cx="7372440" cy="2114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714760"/>
            <a:ext cx="0" cy="16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00480" y="277164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ix I/O: open, close, read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7480" y="1685880"/>
            <a:ext cx="56862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andard C Library I/O: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f, fopen, fclose, fread, fwrit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1CEA-541C-452E-B569-B58ADD067B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nix 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ystem cal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ding and writing raw byte arr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le descriptors (small integer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open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const char *pathname, int flags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a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, void *buf, size_t count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, const void *buf, size_t count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os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F1AA-A50C-47F3-867F-71A3BE86E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pecial File Descrip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: standar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: standard ou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: standard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0A45-22CE-4AAE-9ECF-C111DE6C37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andard 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 library I/O routin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printf, scan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(“%x\n”, 0x15213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Eventually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ll call the Unix I/O routines (syscall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uffers input to minimize the number of syscal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467C-DA89-401B-89C5-2DD44748B4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buffered_io.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828800"/>
            <a:ext cx="525780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1456-52A8-4F8B-B18F-E4B85A9FA5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r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race </a:t>
            </a:r>
            <a:r>
              <a:rPr b="1" i="1" lang="en-US" sz="3200" spc="-1" strike="noStrike">
                <a:solidFill>
                  <a:srgbClr val="003399"/>
                </a:solidFill>
                <a:latin typeface="Courier New"/>
              </a:rPr>
              <a:t>&lt;program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uns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&lt;program&gt;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prints out info about all the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run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rac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n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buffered_i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7280" y="3486240"/>
            <a:ext cx="59436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26A5-25C7-43C4-A0C9-5E4FA8D0F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le Stream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Library equivalent of file descrip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ILE*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er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ILE *f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*path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printf, fscanf, 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ke an extra first argument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ILE*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nt printf(const char *format, ...)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nt fprintf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, const char *format, ...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rintf(arg1,arg2,…) = fprint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f(arg1,arg2,…) = fscan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FD86-E8E9-41FB-A913-58953A4CAE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lushing a File Stre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ce the C library to write any buffered data using Unix I/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flush(FILE *stream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flush(stdout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0E89-1F24-4C97-8AFF-5C10C63075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6 (Malloc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ue Tuesday, November 19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ext Monday’s recit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uesday, November 1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view session next Monday even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CDC5-9A51-4CF0-86F6-8DEFD9DC7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: buffered_i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flush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1905120"/>
            <a:ext cx="5257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3925-2F8E-4CC2-A600-EADFAA35D8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race, revisite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et’s run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trace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buffered_io_flus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590920"/>
            <a:ext cx="59436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213", 3213)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36B2-FC61-454F-9DCD-9C212DB6A8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 P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ains detailed description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060C-4351-41AA-A3CB-4BF8B1FF49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n pag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9158-C11F-4B41-B1DE-2F6DA7272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n page Se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1: 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uff that you could run from a Unix prompt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s(1), cp(1), bash(1), kill(1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2: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lking with the Kernel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ill(2), open(2), fork(2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3: Library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 Library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ntf(3), scanf(3), fflush(3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D04F-17A9-4731-A9E8-B857D978B9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e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specify a man se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3 kil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n page for the command “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ma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FCDD-148A-4C40-A2FA-A09A0EA0A5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ou should always check error cod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rappers can hel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 sure to call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flush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th debugging cod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pa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formation grouped into s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81A0-3774-40B2-8CA9-AB56294A6A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ould always check return code of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t only for 5 points in your lab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re are subtle ways that things can go wro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the status info kernel provides u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ppendix 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B1F7-E99F-4EB8-B268-42E8CFA9F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ifferent Error Handling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ix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kill, signal, fork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six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pthread_crea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NS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gethostbynam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4946-4932-49D9-82F0-28275B388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nix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pecial return value when encounter error (always –1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Global variabl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et to an error cod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error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function for text description of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r us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error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2771640"/>
            <a:ext cx="745812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C121E-586A-4AEF-8A2A-331C83BF20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-Style Error Handling Cont’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1781280"/>
            <a:ext cx="588672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ror(“Error in wai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 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35F3-8BCB-4B80-B090-A793390606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value only indicate success (0) or failure (nonzero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ful results returned in function argume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920" y="2705040"/>
            <a:ext cx="7477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CB2C-07ED-4977-8F6D-C0A04C931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NS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turn a NULL pointer on fail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t the global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h_errn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variab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2240" y="2610000"/>
            <a:ext cx="755316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0435-D92A-4F6C-898E-51659B85E8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57320" y="4038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ppendix B: csapp.h and csapp.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nix-Style, for kill f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haves exactly like the base function if no err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nts informative message and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terminate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e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0240" y="1371600"/>
            <a:ext cx="723888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Wrapp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F5BF-9850-4B2E-8854-4A807C155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04T16:32:03Z</dcterms:modified>
  <cp:revision>477</cp:revision>
  <dc:subject/>
  <dc:title>PowerPoint Presentation</dc:title>
</cp:coreProperties>
</file>