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49C9A1-9537-4EF6-94A6-1D389062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8044-8F09-4EDD-A440-8ABBB74F1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BBE0-DD3A-4E51-8D46-3732EEDB0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6845-2D76-4BAD-9024-E6C3D5B29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94E4-BC12-4623-B333-3EF6139EC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0527-1870-4A28-AB15-56543D4AA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44F1-33F4-447E-9480-28137B684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51D8-C0CF-4F72-B84A-59C7D6C97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41D4-B9E9-47C9-92FC-A4DBCE3AE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10A5-C8F4-4274-83C2-78407031C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4A9E-F735-450C-9FFE-B2FEBAECC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9F8C-1F38-406D-A904-FCE31FE26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21D9-45D8-4082-AA81-69520575B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3C1D-6CF6-498E-BEE2-C4C8E8565A10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4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andle Errors Gracefull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wrappers shown above call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it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many situations, we want to handle errors more gracefully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xample: web server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3120" y="1857240"/>
            <a:ext cx="5791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…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E740-2D7D-4643-AA19-0E247F1FD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coverage in Lecture 24 on Next Thu. Chapter 11 in textbook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people were having some issues with the Shell lab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these issues will pop up with the Malloc lab 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948D-B3EC-464F-B431-E20FCDA182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I/O &amp; Standard I/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743280"/>
            <a:ext cx="7372440" cy="211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714760"/>
            <a:ext cx="0" cy="16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00480" y="277164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I/O: open, close, read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7480" y="1685880"/>
            <a:ext cx="56862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andard C Library I/O: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, fopen, fclose, fread, fwrit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78B8-FBE4-4711-8471-B7F8DB5B3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ing and writing raw byte arr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le descriptors (small integer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ope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const char *pathname, int flags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const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os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15E7-CC26-45D1-A7D0-07F0E294E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pecial File Descrip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: standar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: standard o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: standard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832D-C5F3-420F-BB3C-32A955BA0F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ndard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 library I/O routin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(“%x\n”, 0x15213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Eventually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ll call the Unix I/O routines (syscall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uffers input to minimize the number of syscal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569C-7E2E-46EA-87A3-B445AE50C7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buffered_io.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5175-967A-4B29-B002-6498C6F1F7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un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prints out info about all the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7280" y="348624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8171-4557-40CB-8F36-ACBFA3E3A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tream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equivalent of file descrip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printf, fscanf,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ke an extra first argument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C429-ADB3-4AAB-9455-7FFF59F417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lushing a File Stre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ce the C library to write any buffered data using Unix I/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0144-52DD-46DF-9EC5-6A8B040ED8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ue Tuesday, November 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ext Monday’s recit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uesday, November 1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BF4F-402C-4740-915A-9ABC55EED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buffered_i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flush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B467-BEB6-4466-A0CC-98E6BE4FAD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, revisite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3BC0-7D62-4E74-96D1-D593386DB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ins detailed description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C724-E14A-43AA-B517-BF03F0DB4B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693D-469B-4DCA-A685-6B542A36DD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 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1: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uff that you could run from a Unix prompt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s(1), cp(1), bash(1), kill(1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2: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lking with the Kernel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ill(2), open(2), fork(2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3: Library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 Library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f(3), scanf(3), fflush(3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D71B-BA26-454D-AD94-705E045F64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specify a man se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3 kil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n page for the command “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ma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2AD2-CB43-4544-A99F-7795B066CB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ou should always check error cod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rappers can hel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 sure to call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flush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th debugging cod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formation grouped into s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2131-53AA-4340-AA85-82EB91AEE1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ould always check return code of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t only for 5 points in your lab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re are subtle ways that things can go wro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the status info kernel provides u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ppendix 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27BA-793B-450F-8865-63DAF0BF2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ifferent Error Handling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kill, signal, fork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s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pthread_crea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NS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gethostbynam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E1A9-B21A-4DA5-8565-0FBA9B6A7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pecial return value when encounter error (always –1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lobal variabl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et to an error cod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function for text description of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r us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71640"/>
            <a:ext cx="745812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6235-A53B-4F44-ABF0-32BCCF6C1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-Style Error Handling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1781280"/>
            <a:ext cx="588672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 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FE22-D393-4780-A52A-4FB1FFBCF7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value only indicate success (0) or failure (nonzero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ful results returned in function argum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920" y="2705040"/>
            <a:ext cx="7477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8947-6F73-45DF-8199-761171820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NS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a NULL pointer on fail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variab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2610000"/>
            <a:ext cx="755316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F8EB-A8EC-4D46-B0B0-8F186D354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57320" y="4038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ppendix B: csapp.h and csapp.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nix-Style, for kill f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haves exactly like the base function if no err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s informative message and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terminate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e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0240" y="1371600"/>
            <a:ext cx="723888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Wrapp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CFC2-44B6-40D5-B49B-F9E920319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04T16:32:03Z</dcterms:modified>
  <cp:revision>477</cp:revision>
  <dc:subject/>
  <dc:title>PowerPoint Presentation</dc:title>
</cp:coreProperties>
</file>