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424800" cy="69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8456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5336640" y="-360"/>
            <a:ext cx="408492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981160" y="519120"/>
            <a:ext cx="3461040" cy="259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42840" y="3287520"/>
            <a:ext cx="7537680" cy="3114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6575040"/>
            <a:ext cx="408456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5336640" y="6575040"/>
            <a:ext cx="408492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A40F8E9-3805-4AD9-8993-086713862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982960" y="519120"/>
            <a:ext cx="3460680" cy="25956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41400" y="3287520"/>
            <a:ext cx="7540560" cy="3114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ing and writing raw byte arrays. No format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982960" y="519120"/>
            <a:ext cx="3460680" cy="25956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41400" y="3287520"/>
            <a:ext cx="7540560" cy="3114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we had five calls to printf, but only one wr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19EE-429A-47C0-B3C5-04FCD2782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E9DA-BA3A-4105-B942-29B725AD9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48D5D-D1CB-4D68-B0C0-35BD3EE0B9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7F87B-500A-4DB8-A379-A9BE9CE38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D6E6-E7B4-4D8C-B1F1-0FB46C191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DC019-7244-4AE9-8932-A381FB6B2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FE3F-8E18-4D9E-845B-62B445C48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5EF4-2D56-47EC-9BF1-7AD7470C2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7E816-DE65-4222-84D5-0D6E96F2D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770B-9B59-4319-B1AB-4D96BD177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B243-CF49-4FBA-AF11-A6197A404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C62F5-5F30-4F4B-80BF-D81833CC8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6E6D-5805-4084-AA0A-EDBBBE15DE7A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rror handl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/O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an pag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92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Nov. 4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andle Errors Gracefully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wrappers shown above calls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exit(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many situations, we want to handle errors more gracefully.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example: web server, etc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43120" y="1857240"/>
            <a:ext cx="57913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igchld_handler(int sign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p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(pid = waitpid(…)) &gt;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“Reaped %d\n”, 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p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errno != ECHI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x_error(“waitpid error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30428-2984-4100-8C35-BA6B2CF856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/O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ull coverage in Lecture 24 on Next Thu. Chapter 11 in textbook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ut people were having some issues with the Shell lab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d these issues will pop up with the Malloc lab …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8FFC-F419-4C71-93EE-EBB4DB4171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x I/O &amp; Standard I/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3760" y="3743280"/>
            <a:ext cx="7372440" cy="21146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5257800"/>
            <a:ext cx="17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2714760"/>
            <a:ext cx="0" cy="16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00480" y="277164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nix I/O: open, close, read, 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57480" y="1685880"/>
            <a:ext cx="5686200" cy="9471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andard C Library I/O: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intf, fopen, fclose, fread, fwrit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81E7-ECF8-4A39-9F23-E5BC83E1DD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Unix I/O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ystem call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ading and writing raw byte array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ile descriptors (small integers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unction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open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const char *pathname, int flags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ad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int fd, void *buf, size_t count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rite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int fd, const void *buf, size_t count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lose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int fd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43FB-2E5E-4291-A0E7-E59559F3B5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pecial File Descripto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0: standard i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1: standard ou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2: standard erro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D35A-35BD-4757-8ED4-8555E337EF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tandard I/O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 C library I/O routin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printf, scanf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matt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rintf(“%x\n”, 0x15213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uffer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Eventually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will call the Unix I/O routines (syscalls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uffers input to minimize the number of syscall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C9FE-69F5-4647-987B-7A08EC09DD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xample: buffered_io.c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5120" y="1828800"/>
            <a:ext cx="5257800" cy="3505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vo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1BD55-4B79-4533-8154-ABCD4A56D1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trac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strace </a:t>
            </a:r>
            <a:r>
              <a:rPr b="1" i="1" lang="en-US" sz="3200" spc="-1" strike="noStrike">
                <a:solidFill>
                  <a:srgbClr val="003399"/>
                </a:solidFill>
                <a:latin typeface="Courier New"/>
              </a:rPr>
              <a:t>&lt;program&gt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uns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&lt;program&gt;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and prints out info about all the system cal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run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strace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on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buffered_i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57280" y="3486240"/>
            <a:ext cx="594360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x&gt; strace ./buffered_i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1, "15213", 515213) =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CEAD6-76E3-4704-97C8-D3601D8F4E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ile Stream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 Library equivalent of file descriptor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ILE*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din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dout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derr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ILE *fopen 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onst cha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*path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onst cha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*mode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printf, fscanf, …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ake an extra first argument: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ILE*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int printf(const char *format, ...);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int fprintf(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FILE *stream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, const char *format, ...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rintf(arg1,arg2,…) = fprintf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dout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,arg1,arg2,…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canf(arg1,arg2,…) = fscanf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din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,arg1,arg2,…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28B7E-C36F-4764-BA1E-12C15B176C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lushing a File Stre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rce the C library to write any buffered data using Unix I/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int fflush(FILE *stream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fflush(stdout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9EB1-E34F-4FCD-A4B4-2E019771E2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6 (Malloc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ue Tuesday, November 19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ext Monday’s recita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am 2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uesday, November 12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view session next Monday even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8E53-4AC5-4068-88AC-0A4E08AA7C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: buffered_io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_flush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.c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1905120"/>
            <a:ext cx="5257800" cy="373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vo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flush(stdou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FE44-34D6-4AF4-9234-FE205EBDD2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trace, revisited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et’s run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strace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buffered_io_flush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2590920"/>
            <a:ext cx="594360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x&gt; strace ./buffered_io_flus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1, "15", 215) = 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1, "213", 3213)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7D81-20E4-4783-A8E3-A5493777D3D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n Pag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tains detailed description of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mmand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ystem cal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 library func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4934-2AA5-4CAC-BEC1-FE1DE881E3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Man pag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unix&gt; man kill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KILL(1)             Linux Programmer's Manual             KILL(1)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kill - terminate a proces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SYNOPSI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kill [ -s signal | -p ]  [ -a ] pid ..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kill -l [ signal ]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DESCRIPTION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kill  sends the specified signal to the specified process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If no signal is specified, the TERM signal is  sent.   The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TERM  signal  will  kill processes which do not catch thi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signal.  For other processes, if may be necessary  to  use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the KILL (9) signal, since this signal cannot be caught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Most modern shells have a builtin kill function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1FD55-3B06-46B2-9691-9D8D069FB3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Man page Section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tion 1: Command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tuff that you could run from a Unix prompt”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ls(1), cp(1), bash(1), kill(1), …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tion 2: System Cal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alking with the Kernel”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kill(2), open(2), fork(2), …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tion 3: Library Cal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C Library”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rintf(3), scanf(3), fflush(3), …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564B-14B4-4ED8-9013-A725E0706C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ection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o specify a man sec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man </a:t>
            </a:r>
            <a:r>
              <a:rPr b="1" i="1" lang="en-US" sz="2800" spc="-1" strike="noStrike">
                <a:solidFill>
                  <a:srgbClr val="003399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…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man 3 kil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an page for the command “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man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man ma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208E4-D73C-4878-8FE6-653D32FC57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rror handl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You should always check error cod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rappers can help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/O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e sure to call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flush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with debugging cod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an pag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formation grouped into sec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B77DD-AC1C-434F-9FB7-D963ABCAB2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rror Handl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hould always check return code of system cal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Not only for 5 points in your lab!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re are subtle ways that things can go wrong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Use the status info kernel provides u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ppendix B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FD04-428E-428B-8350-4401506131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ifferent Error Handling Sty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nix-Styl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.g. kill, signal, fork, etc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osix-Styl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.g. pthread_creat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NS-Styl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.g. gethostbynam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8CAE8-DD51-4F5A-8B9F-1DB2C12254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Unix-Style Error Handl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pecial return value when encounter error (always –1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Global variable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rrno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set to an error cod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Use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strerror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function for text description of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errno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Or us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error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05000" y="2771640"/>
            <a:ext cx="7458120" cy="32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strerror(errno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id = wait(NULL)) &lt;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Error in wait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EFA0-3058-4623-9E4F-3A479C6953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x-Style Error Handling Cont’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52360" y="1781280"/>
            <a:ext cx="5886720" cy="32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id = wait(NULL)) &lt; 0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ror(“Error in wait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 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8CEF-A02A-42AF-BE41-12F265FAA5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osix-Style Error Handl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turn value only indicate success (0) or failure (nonzero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Useful results returned in function argument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85920" y="2705040"/>
            <a:ext cx="7477200" cy="32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de,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strerror(code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etcode = pthread_create(…)) !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retcode, “Error in pthread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BCFA-BF91-45C4-9E76-D6808635BD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DNS-Style Error Handl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turn a NULL pointer on failur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t the global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h_errno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variabl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62240" y="2610000"/>
            <a:ext cx="7553160" cy="32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DNS error %d\n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h_errn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 = gethostbyname(name)) =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“Error in gethostbyname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FAC0-C1BD-41E9-8FAE-C1120ECBE5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57320" y="40381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ppendix B: csapp.h and csapp.c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Unix-Style, for kill functio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ehaves exactly like the base function if no erro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rints informative message and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terminates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the proces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00240" y="1371600"/>
            <a:ext cx="7238880" cy="1981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ill (pid_t pid,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ign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c = kill(pid, signum)) &lt;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Kill error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xample: Wrapper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8CA4-F29F-4B16-8546-A06DB6C3E6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1-04T16:32:03Z</dcterms:modified>
  <cp:revision>477</cp:revision>
  <dc:subject/>
  <dc:title>PowerPoint Presentation</dc:title>
</cp:coreProperties>
</file>