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CDD472-F7C0-4005-813D-49248C2C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6A-4F19-4C4A-B882-EE0B020D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DA4-CE8C-4DE0-BCCB-ABD2E8F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5F8-1F52-4E49-9595-277C067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510-3C15-4A33-8EF6-C67FEC76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54A-9673-4A36-93D2-3C36750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EA7-5021-4D5A-9FB7-2C7EF103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4F9-2CF2-44E9-9AC8-799B0F6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735-61EC-4246-91D5-83D6A07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B0B-E7A8-4B71-8AAE-29D7EC6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5C6-8454-405E-B1D2-D35563F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58A-AD4C-4580-945B-67C1080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1FB-E51E-4D3F-A86C-095E630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E2D2-9FA7-484A-B95B-9EB59031A4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ix B: csapp.h and csapp.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Wrapp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ot All Errors Are Fat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are not always the correct pa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s all errors as fat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an error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9880"/>
            <a:ext cx="5791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-1, NULL, 0))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coverage in Lecture 24 on 14 November. Chapter 11 in textbo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folks were having some issues with the Shell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se issues will pop up with the Malloc lab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need I/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data between main memory and external de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raw byte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value is a small integer – file descrip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d 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ed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an open file as 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inter to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ion for file descriptor and for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e Strea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Library equivalent of file descrip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d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ldes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printf, fscanf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n extra first argume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 2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6 (Malloc) du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(Proxy) due on Thur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buffered_io.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4400" spc="-1" strike="noStrike">
                <a:solidFill>
                  <a:srgbClr val="0033cc"/>
                </a:solidFill>
                <a:latin typeface="Verdana"/>
              </a:rPr>
              <a:t>strac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to chec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prints out info about all the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495680"/>
            <a:ext cx="59436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ushing a File Stre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ce the C library to write any buffere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buffered_io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_flush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race, revisite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 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1: Comm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ff that you could run from a Unix promp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(1), bash(1), kill(1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2: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ing with the Kerne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(2), open(2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3: Library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 Library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f(3), scanf(3), fflush(3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specify a man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linuxcentral.com/linux/man-page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should always check error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can help in most c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 debugging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grouped into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verage of Exam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always check return code of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ly for 5 points in your la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subtle ways that things can go wro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status info kernel provides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in this class: Wrap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error handling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turn value when encounter error (always –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global variable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an error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s the cause of the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ction for text description of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s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msg, strerror(cod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NS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 a NULL pointer on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200400"/>
            <a:ext cx="83818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msg, h_err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04T20:39:22Z</dcterms:modified>
  <cp:revision>717</cp:revision>
  <dc:subject/>
  <dc:title>Slide 1</dc:title>
</cp:coreProperties>
</file>