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348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F8489F1-4F66-428B-8A90-CAC98814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nd writing raw byte arrays. No forma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3480" cy="3601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0080" y="456048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at we had five calls to printf, but only one w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146-7178-43C7-914F-B96C5B26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F5D-5FD7-456A-84A2-4482A4B3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886-5B3B-498E-8730-1414DC53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78D-54DF-481D-8AEB-26E0B148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780-39D9-4A11-B636-E6605A48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E29-9BB0-43A1-B80A-CA13C928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6F7-C545-4CE7-B036-552C7F9F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432-C562-4F7C-963B-4D08C95B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46D-6BC3-4FEE-BC28-D0CBC842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F50-2C67-4B5B-ABEE-A7888285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FF6-05EA-459A-BB5C-DB130FE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6F0-6FCB-4F80-800B-49601E66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8A3E-0EB9-43B0-8A1D-EF3A25728AA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citation 9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, I/O, M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November 20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09120" y="4038480"/>
            <a:ext cx="81536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endix B: csapp.h and csapp.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, for kill fun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haves exactly like the base function if no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s informative message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1371600"/>
            <a:ext cx="723888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ill (pid_t pid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ig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c = kill(pid, signum)) &lt;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Kill error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Wrapp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ot All Errors Are Fat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are not always the correct pa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s all errors as fatal err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rminate the program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it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times an error i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at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9880"/>
            <a:ext cx="5791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igchld_handler(int sign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_t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((pid = waitpid(-1, NULL, 0)) &gt;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“Reaped %d\n”,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pi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errno != ECHI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nix_error(“waitpid error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coverage in Lecture 24 on 14 November. Chapter 11 in textbo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t folks were having some issues with the Shell lab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these issues will pop up with the Malloc lab 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need I/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data between main memory and external devi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devices modeled as files in Un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k drives, terminals,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Unix file is a sequence of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put/Output performed by reading and writing fi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Kernel I/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level I/O functions provided by the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 system concepts (process, VM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impossible/inappropriate to use standard library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and writing raw byte array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kernel I/O work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s only keep track of file descriptor returned from ker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maintains all file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Op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onst 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pathnam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 value is a small integer – file descript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file descrip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d 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unistd.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open with each shell-created proc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Input (descriptor =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Output (descriptor =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 Error (descriptor =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Read and Wri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read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a file (fd) to memory (buf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current positio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aintained by kerne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igger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EO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greater than file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“EOF character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size_t writ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buf, size_t coun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y count &gt;0 bytes from memory (buf) to a file (f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ctions – Clo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os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d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frees data structures created by file open (if an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tores file descriptor to a pool of available descrip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f a process terminat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nel closes all open files and free memory (for this pro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tandard 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er level I/O fun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pen,fclose, fread,fwrite, fgets,fputs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can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ed I/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ntuall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s the kernel I/O rout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an open file as 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t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ointer to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traction for file descriptor and for a </a:t>
            </a:r>
            <a:r>
              <a:rPr b="0" lang="en-US" sz="2000" spc="-1" strike="noStrike">
                <a:solidFill>
                  <a:srgbClr val="333399"/>
                </a:solidFill>
                <a:latin typeface="Verdana"/>
              </a:rPr>
              <a:t>stream buff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use stream buffe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expensive Unix system call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ile Strea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 Library equivalent of file descrip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er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path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E *fdopen 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ldes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onst 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*mode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printf, fscanf,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e an extra first argument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LE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printf(const char *format, ...)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fprintf(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FILE *strea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const char *format, ...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f(arg1,arg2,…) = fprint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o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f(arg1,arg2,…) = fscanf(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std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arg1,arg2,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ulring@cs.cmu.ed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fice ho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SH 25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manently moving to Tuesday 2–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 2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6 (Malloc) du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 7 (Proxy) due on Thur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ample: buffered_io.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1828800"/>
            <a:ext cx="52578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4400" spc="-1" strike="noStrike">
                <a:solidFill>
                  <a:srgbClr val="0033cc"/>
                </a:solidFill>
                <a:latin typeface="Verdana"/>
              </a:rPr>
              <a:t>strace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to chec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program&gt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prints out info about all the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uffered_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495680"/>
            <a:ext cx="59436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213", 515213) =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ushing a File Stre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ce the C library to write any buffered dat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nt fflush(FILE *stream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flush(stdout)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: buffered_io</a:t>
            </a: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_flush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.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905120"/>
            <a:ext cx="5257800" cy="373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1"); printf("5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flush(stdou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2"); printf("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f("3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race, revisited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ru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a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uffered_io_flus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590920"/>
            <a:ext cx="5943600" cy="19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nix&gt; strace ./buffered_io_flus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15", 215) = 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e(1, "213", 3213)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x&gt; man k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(1)             Linux Programmer's Manual             KILL(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 terminate a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[ -s signal | -p ]  [ -a ] pid ..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-l [ signal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ill  sends the specified signal to the specified proc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no signal is specified, the TERM signal is  sent.   Th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RM  signal  will  kill processes which do not catch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nal.  For other processes, if may be necessary  to  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KILL (9) signal, since this signal cannot be caugh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st modern shells have a builtin kill func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an page 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1: Comma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ff that you could run from a Unix prompt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p(1), bash(1), kill(1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2: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lking with the Kernel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(2), open(2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3: Library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 Library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tf(3), scanf(3), fflush(3),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specify a man 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an 2 ki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linuxcentral.com/linux/man-page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should always check error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appers can help in most c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sure to cal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flush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 debugging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grouped into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 6 (Malloc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e Tuesday, 19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cture on Tues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.9 Dynamic Memory 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 Monday’s reci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esday, 12 Nove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session next Monday eve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verage of Exam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last year’s exam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ptim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si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che mis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e to the special recit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. 11/11 eve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ion TB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x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nux man p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uld always check return code of system c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only for 5 points in your lab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subtle ways that things can go wro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status info kernel provides 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in this class: Wrapp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error handling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x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S-Sty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n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return value when encounter error (always –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 global variable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an error co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s the cause of the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rerr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ction for text description of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err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, strerror(errno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id = wait(NULL)) &lt;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x_error(“Error in wait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osix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 value only indicate success (0) or failure (nonze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ful results returned in function arg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3200400"/>
            <a:ext cx="822960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de, 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%s\n“, msg, strerror(cod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retcode = pthread_create(…)) !=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six_error(retcode, “Error in pthread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NS-Style Error Handl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urn a NULL pointer on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the global </a:t>
            </a: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h_errn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3200400"/>
            <a:ext cx="8381880" cy="32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m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printf(</a:t>
            </a: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stder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“%s: DNS error %d\n“, msg, h_errn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(p = gethostbyname(name)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ns_error(“Error in gethostbyname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1-04T20:39:22Z</dcterms:modified>
  <cp:revision>717</cp:revision>
  <dc:subject/>
  <dc:title>Slide 1</dc:title>
</cp:coreProperties>
</file>