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348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1705D0-C361-43FA-A829-9456B0E4F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raw byte arrays. No forma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had five calls to printf, but only one w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E79-8681-4C2E-9E99-C05A1B99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32F-611D-4AFD-992F-2080BDAC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B61-D3AA-4BD9-A8C5-0A1E7196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AF2-CDF2-4DC8-AC6C-84603BD8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EA7-B3D1-4437-A52B-9AF69A55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F9F-F72E-451D-9516-648E0AD0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02A-781C-4886-BF51-B234E6AB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FF3-7B13-4CC1-975C-87C0A06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E09-3D0D-4331-A75E-EEC2B7B5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B9F-AECD-4586-A829-1596485B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F7F-3160-4D2E-AD7E-60710513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9E0-36B4-4890-9689-AE1C6B3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4317-A381-4EE4-9DAE-7FC77C7EBD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itation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rror Handling, I/O, M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November 20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120" y="40384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ix B: csapp.h and csapp.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: Wrapp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ot All Errors Are Fat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appers are not always the correct pa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s all errors as fatal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an error i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a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9880"/>
            <a:ext cx="57913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int sig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(pid = waitpid(-1, NULL, 0))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coverage in Lecture 24 on 14 November. Chapter 11 in textbo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folks were having some issues with the Shell l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these issues will pop up with the Malloc lab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need I/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data between main memory and external dev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Kernel I/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 level I/O functions provided by the ker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system concepts (process, VM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impossible/inappropriate to use standard library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nd writing raw byte arr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kernel I/O work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s only keep track of file descriptor returned from ker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maintains all fil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value is a small integer – file descrip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d 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ed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s an open file as 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ointer to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ction for file descriptor and for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e Strea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Library equivalent of file descrip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er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*f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path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*fd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ldes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printf, fscanf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an extra first argume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arg1,arg2,…) = fprint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f(arg1,arg2,…) = fscan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fice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SH 25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manently moving to Tuesday 2–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 2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6 (Malloc) due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7 (Proxy) due on Thur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: buffered_io.c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1828800"/>
            <a:ext cx="52578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4400" spc="-1" strike="noStrike">
                <a:solidFill>
                  <a:srgbClr val="0033cc"/>
                </a:solidFill>
                <a:latin typeface="Verdana"/>
              </a:rPr>
              <a:t>strac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to chec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prints out info about all the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t’s ru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a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495680"/>
            <a:ext cx="59436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ushing a File Stre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ce the C library to write any buffered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fflush(FILE *stream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: buffered_io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_flush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905120"/>
            <a:ext cx="525780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race, revisite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ru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ffered_io_flu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590920"/>
            <a:ext cx="59436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213", 3213)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n pag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n page Se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1: Comm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ff that you could run from a Unix promp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(1), bash(1), kill(1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2: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ing with the Kerne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(2), open(2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3: Library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 Library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f(3), scanf(3), fflush(3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specify a man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2 k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linuxcentral.com/linux/man-page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should always check error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appers can help in most c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sure to ca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 debugging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 p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grouped into s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 6 (Mallo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uesday, 19 Nov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cture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.9 Dynamic Memory Al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Monday’s rec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esday, 12 Nov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ession next Monday eve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verage of Exam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last year’s exam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ptim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si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miss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mis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 to the special recit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. 11/11 eve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ion TB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ux man p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always check return code of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only for 5 points in your lab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subtle ways that things can go wro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status info kernel provides 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in this class: Wrapp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error handling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x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x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S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turn value when encounter error (always –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 global variable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an error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cates the cause of the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rerr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unction for text description of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r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200400"/>
            <a:ext cx="8229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six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200400"/>
            <a:ext cx="8229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msg, strerror(cod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NS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urn a NULL pointer on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the global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h_errn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200400"/>
            <a:ext cx="838188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msg, h_err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1-04T20:39:22Z</dcterms:modified>
  <cp:revision>717</cp:revision>
  <dc:subject/>
  <dc:title>Slide 1</dc:title>
</cp:coreProperties>
</file>