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4566-3B63-4638-809B-28343D85A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D814-B579-4CB1-BBD8-6320639B6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90C5-90C8-4A01-9956-45E37B87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FBC2-9357-440E-8F2E-D4B18E735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49DC-4F5E-4EE5-ABF1-029C4C67F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F65D-EFC2-48B5-81C1-E6E6FECA2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0DAA-9CEB-47AA-B459-4D1CDDFEA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EA3C-3D02-4632-B027-B77176DB1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FCD3-D66D-447E-AD04-36C05DC94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39D6-9813-41A7-BD59-ADE113B5F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5C44-F595-499C-B712-BC86A869E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ADBA-4975-43DF-863A-B5F07111E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12F7-8A2C-484D-B324-BE1EA21AF820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a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ping Child Proces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ce Hazar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28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aping Child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hild process becomes zombie when termina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ill consume system re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ent performs reaping on terminated chil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ait() waitpid(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aightforward for reaping a single chil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ricky for Shell implementation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ltiple child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oth foreground and backgroun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AB2C-CA40-474F-B15A-E33DBAAFB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aping Child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wai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igchld_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 for foreground proces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ne wai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igchld_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what about foreground processes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E279-70F8-4FC2-81AD-A6A46DAC2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usy Wai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CF42-DA9B-4AF1-8F31-9BEB31A88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au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pause(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475400">
            <a:off x="3504960" y="34286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32480" y="3795840"/>
            <a:ext cx="45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signal handled before call to pause, then pause will not return when foreground process sends SIGCH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B39C-02D4-468E-8120-22A8065F6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lee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leep(1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0DAC-58A7-4C4C-B5FF-66B010E16C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aitpid (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id_t waitpid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*status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options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id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ait until child process with pid has terminat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-1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ait for any child proces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u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 tells why child terminat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NOHANG: return immediately if no children zombi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urns -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UNTRACED: report status of stopped children too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 (&amp;status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equivalent to </a:t>
            </a:r>
            <a:br>
              <a:rPr sz="2800"/>
            </a:b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pid (-1, &amp;status,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C3EA-C46F-4078-A2CC-8424869952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atus in Waitpi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status;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pid(pid, &amp;status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cros to evaluate statu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EXITED(status):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hild exited normall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EXITSTATUS(status):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turn code when child exi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IGNALED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hild exited because of a signal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   not caugh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gives the terminating signal numb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TOPPED(status):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child is currently stopp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gives the stop signal numb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7622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8862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47600" y="52484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7C92-C840-4F12-B72F-F59315B138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man page for details of a system call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waitp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586D-C5CC-421B-9982-11870E8E4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ace Hazar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data structure is shared by two pieces of code that can run concurrent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behaviors of program depending upon how the schedule interleaves the execution of cod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EDB2-88B3-4084-BFCC-3BB0DA6CCB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al &amp; sigchld_handler Race Haza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CB37-D1A2-4D7F-993D-44C2001D97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cess Concep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 instance of running progra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ultiple processes run “concurrently” by time slic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is time slicing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eemptive scheduler of OS: it can stop a program at any point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D10F-7962-49D0-977B-E10DF5C37D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Oka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563F-B73F-48D9-AF76-4D749C1B78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Problematic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9000" y="4724280"/>
            <a:ext cx="7414920" cy="1119600"/>
            <a:chOff x="1449000" y="4724280"/>
            <a:chExt cx="7414920" cy="1119600"/>
          </a:xfrm>
        </p:grpSpPr>
        <p:sp>
          <p:nvSpPr>
            <p:cNvPr id="283" name=""/>
            <p:cNvSpPr/>
            <p:nvPr/>
          </p:nvSpPr>
          <p:spPr>
            <a:xfrm>
              <a:off x="1449000" y="544500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4080" y="47242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5CCC-6B02-45B8-8CC9-E76E073E3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ing Signa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val() {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pid == 0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67600" y="56008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details 8.5.6 (page 6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C586-CB9E-46FE-8D88-61115F9C67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na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ping Child Proces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ce Hazar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man page to understand the system calls bett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n waitp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05A2-F7F8-408F-9FBA-690703965A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cess IDs &amp; Process Group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has its own, unique process 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getpid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belongs to exactly one process grou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getpgrp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new process belongs to which process group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s parent’s process grou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can make a process group for itself and its childre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pid = getpid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getpgrp(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Lucida Sans Unicode"/>
              </a:rPr>
              <a:t>→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  <a:ea typeface="Courier New"/>
              </a:rPr>
              <a:t>−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0486-133C-42DB-ADBE-3776418A6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cess Tree for She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3A40-0413-4C21-8722-8AA493D977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tion 8.5 in tex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d at least twice … really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ignal tells our program that some event has occurr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an we use signals to count even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2FFB-49C3-4140-8673-90832BD51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Signals (Fig 8.23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I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errupt signal from terminal  (ctrl-c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TS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op signal from terminal (ctrl-z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CHL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child process has stopped or termina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F330-1229-4CC1-ACCF-7A4857226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: send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24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26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52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55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59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63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64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70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B469-BA65-40C9-8D81-E692FB46B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: receiv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78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80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93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206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209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43480" y="188604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when schedule the process to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3C90-A21E-4650-A199-61F5A041FD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ceiving a Sign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fault a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terminates [and dumps core]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stops until restarted by a SIGCONT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ignore th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an modify (additional action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 the signal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void sigint_handler(int sig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ignal(SIGINT,  sigint_handler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7AE4-4F99-474A-A944-2236094B3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28T17:09:43Z</dcterms:modified>
  <cp:revision>439</cp:revision>
  <dc:subject/>
  <dc:title>PowerPoint Presentation</dc:title>
</cp:coreProperties>
</file>