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D5264-68B9-47AD-A910-2F1D26785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A461-A8D4-4029-B003-871E90E98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34208-D508-4C18-B620-AD3CE8BEA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222B0-437B-4B75-AFBA-8BB794938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2A19E-AD3A-498C-A348-0B762FA96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B856-C952-46B3-85E3-C36889056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787E-F81B-4A17-A26B-CBF121FBA5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56DE-B036-45C3-A307-8E3E81BB8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B6DD-4EC7-484F-99A4-1F478A6AEB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95452-4781-4B69-9CC4-3F0C379A9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73D0-9576-4AE6-9978-220C95742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C8DC-EFE6-498D-A4F1-7F2514178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23BE-7EF8-4AEA-9DD1-C9A34C0A715E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ces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ignal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aping Child Process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ace Hazar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Oct. 28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eaping Child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Child process becomes zombie when terminat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ill consume system resourc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ent performs reaping on terminated chil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ait() waitpid()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raightforward for reaping a single chil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ricky for Shell implementation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ultiple child process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oth foreground and backgroun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6075A-ABBE-41FE-A2B1-A29B5B0CF4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eaping Child Proces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wo wait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sigchld_handl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eval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: for foreground process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ne wai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sigchld_handler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ut what about foreground processes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AC181-91EB-4E06-912D-60D052A910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Busy Wai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fork() != 0) { 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addjob(…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</a:t>
            </a:r>
            <a:r>
              <a:rPr b="1" i="1" lang="en-US" sz="2800" spc="-1" strike="noStrike">
                <a:solidFill>
                  <a:srgbClr val="003399"/>
                </a:solidFill>
                <a:latin typeface="Courier New"/>
              </a:rPr>
              <a:t>fg process still alive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)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/* do nothing */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C170-5A5E-43D8-AF97-780C1915FA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aus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fork() != 0) { 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addjob(…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</a:t>
            </a:r>
            <a:r>
              <a:rPr b="1" i="1" lang="en-US" sz="2800" spc="-1" strike="noStrike">
                <a:solidFill>
                  <a:srgbClr val="003399"/>
                </a:solidFill>
                <a:latin typeface="Courier New"/>
              </a:rPr>
              <a:t>fg process still alive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)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pause(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475400">
            <a:off x="3504960" y="3428640"/>
            <a:ext cx="914400" cy="228600"/>
          </a:xfrm>
          <a:prstGeom prst="leftArrow">
            <a:avLst>
              <a:gd name="adj1" fmla="val 50000"/>
              <a:gd name="adj2" fmla="val 10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32480" y="3795840"/>
            <a:ext cx="451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f signal handled before call to pause, then pause will not return when foreground process sends SIGCH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FCA4-F755-43B1-85D1-1D48142F6B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lee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fork() != 0) { </a:t>
            </a:r>
            <a:r>
              <a:rPr b="1" lang="en-US" sz="2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addjob(…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</a:t>
            </a:r>
            <a:r>
              <a:rPr b="1" i="1" lang="en-US" sz="2800" spc="-1" strike="noStrike">
                <a:solidFill>
                  <a:srgbClr val="003399"/>
                </a:solidFill>
                <a:latin typeface="Courier New"/>
              </a:rPr>
              <a:t>fg process still alive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)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sleep(1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C543-F09A-4E16-979F-1314D092C0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waitpid (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id_t waitpid(pid_t pid,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*status,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options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id: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wait until child process with pid has terminate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-1: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wait for any child proces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tatus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: tells why child terminate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options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WNOHANG: return immediately if no children zombie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eturns -1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WUNTRACED: report status of stopped children too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wait (&amp;status)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equivalent to </a:t>
            </a:r>
            <a:br>
              <a:rPr sz="2800"/>
            </a:b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waitpid (-1, &amp;status,0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7DBED-45E2-4200-843A-8751F04319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tatus in Waitpid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status;</a:t>
            </a:r>
            <a:br>
              <a:rPr sz="2400"/>
            </a:b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waitpid(pid, &amp;status, NULL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Macros to evaluate status: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IFEXITED(status):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child exited normall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EXITSTATUS(status):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return code when child exits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IFSIGNALED(status):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child exited because of a signal</a:t>
            </a:r>
            <a:br>
              <a:rPr sz="2000"/>
            </a:b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   not caugh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TERMSIG(status):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gives the terminating signal numb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IFSTOPPED(status):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child is currently stoppe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WSTOPSIG(status):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gives the stop signal numb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276228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38862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47600" y="524844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8FFC2-F7B0-4F51-B4B7-83BAFC72ED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n pag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eck man page for details of a system call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an waitpi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0019-DB3B-4902-B3A9-685A831B53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ace Hazard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data structure is shared by two pieces of code that can run concurrentl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ifferent behaviors of program depending upon how the schedule interleaves the execution of code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A7B1-1AC0-43D8-BF75-4F9E707205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val &amp; sigchld_handler Race Hazar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gchld_handler(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id = waitpid(…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eletejob(pid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val(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id = fork(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(pid == 0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{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xecve(…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ddjob(…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F024-DE94-4815-BDC4-5DC7BE7932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cess Concep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 instance of running program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ultiple processes run “concurrently” by time slicin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hat is time slicing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eemptive scheduler of OS: it can stop a program at any point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0B0C3-0E2D-4E79-83D9-573343AA65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3716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n Okay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49520" y="164772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6160" y="163836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78480" y="163836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98760" y="22096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43760" y="311616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18200" y="41734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31240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411480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1600" y="51055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2760" y="163980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3880" y="21337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92920" y="31240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95800" y="411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06D4-075C-4ECD-BAF3-9E52D14FDA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716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Problematic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649520" y="164772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56160" y="163836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78480" y="163836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9120" y="2209680"/>
            <a:ext cx="12787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13760" y="26668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99120" y="37162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6668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366696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46483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2760" y="163980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21337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267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36576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98760" y="4724280"/>
            <a:ext cx="1644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51814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3880" y="46483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449000" y="4724280"/>
            <a:ext cx="7414920" cy="1119600"/>
            <a:chOff x="1449000" y="4724280"/>
            <a:chExt cx="7414920" cy="1119600"/>
          </a:xfrm>
        </p:grpSpPr>
        <p:sp>
          <p:nvSpPr>
            <p:cNvPr id="283" name=""/>
            <p:cNvSpPr/>
            <p:nvPr/>
          </p:nvSpPr>
          <p:spPr>
            <a:xfrm>
              <a:off x="1449000" y="5445000"/>
              <a:ext cx="74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Job added to job lis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Tahoma"/>
                </a:rPr>
                <a:t>after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the signal handler tried to delete it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24080" y="4724280"/>
              <a:ext cx="609840" cy="6858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16A6-B43B-4FD5-A57E-0A5DE094B8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Blocking Signal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gchld_handler() {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id = waitpid(…)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deletejob(pid)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val() {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BLOCK, …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id = fork()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(pid == 0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{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ecve(…)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ddjob(…)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67600" y="560088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re details 8.5.6 (page 63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4B76-A185-4AE1-980C-2B2EFFC566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roces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gnal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aping Child Process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ace Hazar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eck man page to understand the system calls bett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n waitpi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89BF7-C07D-4A87-A1F0-F2CAD37009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rocess IDs &amp; Process Group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715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process has its own, unique process I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id_t getpid(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process belongs to exactly one process group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id_t getpgrp(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new process belongs to which process group?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ts parent’s process group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process can make a process group for itself and its childre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id_t pid = getpid(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etpgid(0, 0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getpgrp()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Lucida Sans Unicode"/>
              </a:rPr>
              <a:t>→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  <a:ea typeface="Courier New"/>
              </a:rPr>
              <a:t>−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pi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A21C0-4EE6-4212-B488-73F56CF9FE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ocess Tree for Shel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0920" y="2622600"/>
            <a:ext cx="98280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46560" y="2622600"/>
            <a:ext cx="98280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2622600"/>
            <a:ext cx="98424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51240" y="1298520"/>
            <a:ext cx="984240" cy="77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9220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792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058840" y="3444840"/>
            <a:ext cx="18288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38600" y="3441600"/>
            <a:ext cx="1634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46600" y="20606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921040" y="1968480"/>
            <a:ext cx="148104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21360" y="1928880"/>
            <a:ext cx="14126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53480" y="146304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2516040"/>
            <a:ext cx="2442960" cy="264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1280" y="521028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590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20400" y="359568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30360" y="360216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ackgro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974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4960" y="27583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17200" y="2809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28600" y="2836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54840" y="46141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97840" y="462384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CA15-1365-495F-963C-41148304E6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ignal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tion 8.5 in tex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ad at least twice … really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 signal tells our program that some event has occurre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an we use signals to count event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C3A5-A891-4CEE-B281-022AA05EC0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mportant Signals (Fig 8.23)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GI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errupt signal from terminal  (ctrl-c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GTSTP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top signal from terminal (ctrl-z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GCHLD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child process has stopped or terminat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120A-CC6E-4452-8211-BF7AB42BBA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ignals: send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23760" y="3038400"/>
            <a:ext cx="7372440" cy="28195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5257800"/>
            <a:ext cx="17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438800" y="1333440"/>
            <a:ext cx="2190600" cy="1219320"/>
            <a:chOff x="4438800" y="1333440"/>
            <a:chExt cx="2190600" cy="1219320"/>
          </a:xfrm>
        </p:grpSpPr>
        <p:sp>
          <p:nvSpPr>
            <p:cNvPr id="124" name=""/>
            <p:cNvSpPr/>
            <p:nvPr/>
          </p:nvSpPr>
          <p:spPr>
            <a:xfrm>
              <a:off x="443880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647960" y="2209680"/>
              <a:ext cx="1828440" cy="233640"/>
              <a:chOff x="4647960" y="2209680"/>
              <a:chExt cx="1828440" cy="233640"/>
            </a:xfrm>
          </p:grpSpPr>
          <p:sp>
            <p:nvSpPr>
              <p:cNvPr id="126" name=""/>
              <p:cNvSpPr/>
              <p:nvPr/>
            </p:nvSpPr>
            <p:spPr>
              <a:xfrm>
                <a:off x="4647960" y="2209680"/>
                <a:ext cx="18284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002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52520" y="2209680"/>
                <a:ext cx="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048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2574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097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5620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1464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669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1920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718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3241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4647960" y="1905120"/>
              <a:ext cx="1828440" cy="233280"/>
              <a:chOff x="4647960" y="1905120"/>
              <a:chExt cx="1828440" cy="233280"/>
            </a:xfrm>
          </p:grpSpPr>
          <p:sp>
            <p:nvSpPr>
              <p:cNvPr id="139" name=""/>
              <p:cNvSpPr/>
              <p:nvPr/>
            </p:nvSpPr>
            <p:spPr>
              <a:xfrm>
                <a:off x="4647960" y="1905120"/>
                <a:ext cx="1828440" cy="22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8002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952520" y="190512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048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574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4097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5620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1464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669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01920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1718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3241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6477120" y="1714680"/>
            <a:ext cx="1504800" cy="459720"/>
            <a:chOff x="6477120" y="1714680"/>
            <a:chExt cx="1504800" cy="459720"/>
          </a:xfrm>
        </p:grpSpPr>
        <p:sp>
          <p:nvSpPr>
            <p:cNvPr id="152" name=""/>
            <p:cNvSpPr/>
            <p:nvPr/>
          </p:nvSpPr>
          <p:spPr>
            <a:xfrm>
              <a:off x="647712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62600" y="1714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bloc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477120" y="2114640"/>
            <a:ext cx="1504800" cy="459720"/>
            <a:chOff x="6477120" y="2114640"/>
            <a:chExt cx="1504800" cy="459720"/>
          </a:xfrm>
        </p:grpSpPr>
        <p:sp>
          <p:nvSpPr>
            <p:cNvPr id="155" name=""/>
            <p:cNvSpPr/>
            <p:nvPr/>
          </p:nvSpPr>
          <p:spPr>
            <a:xfrm>
              <a:off x="6477120" y="238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62600" y="21146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pe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43480" y="21718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71440" y="1285920"/>
            <a:ext cx="2238480" cy="1266840"/>
            <a:chOff x="1171440" y="1285920"/>
            <a:chExt cx="2238480" cy="1266840"/>
          </a:xfrm>
        </p:grpSpPr>
        <p:sp>
          <p:nvSpPr>
            <p:cNvPr id="159" name=""/>
            <p:cNvSpPr/>
            <p:nvPr/>
          </p:nvSpPr>
          <p:spPr>
            <a:xfrm>
              <a:off x="121932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71440" y="1285920"/>
              <a:ext cx="118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imes New Roman"/>
                </a:rPr>
                <a:t>Process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410000" y="12762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457440" y="3943080"/>
            <a:ext cx="2266920" cy="1600560"/>
            <a:chOff x="3457440" y="3943080"/>
            <a:chExt cx="2266920" cy="1600560"/>
          </a:xfrm>
        </p:grpSpPr>
        <p:grpSp>
          <p:nvGrpSpPr>
            <p:cNvPr id="163" name=""/>
            <p:cNvGrpSpPr/>
            <p:nvPr/>
          </p:nvGrpSpPr>
          <p:grpSpPr>
            <a:xfrm>
              <a:off x="3457440" y="4667400"/>
              <a:ext cx="2266920" cy="876240"/>
              <a:chOff x="3457440" y="4667400"/>
              <a:chExt cx="2266920" cy="876240"/>
            </a:xfrm>
          </p:grpSpPr>
          <p:sp>
            <p:nvSpPr>
              <p:cNvPr id="164" name=""/>
              <p:cNvSpPr/>
              <p:nvPr/>
            </p:nvSpPr>
            <p:spPr>
              <a:xfrm>
                <a:off x="3457440" y="4667400"/>
                <a:ext cx="2200320" cy="876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76520" y="4800600"/>
                <a:ext cx="224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Times New Roman"/>
                  </a:rPr>
                  <a:t>other event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 flipV="1">
              <a:off x="4600440" y="3943080"/>
              <a:ext cx="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514680" y="3352680"/>
            <a:ext cx="220032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81480" y="3409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43000" y="1819440"/>
            <a:ext cx="2438280" cy="1724040"/>
            <a:chOff x="1143000" y="1819440"/>
            <a:chExt cx="2438280" cy="1724040"/>
          </a:xfrm>
        </p:grpSpPr>
        <p:sp>
          <p:nvSpPr>
            <p:cNvPr id="170" name=""/>
            <p:cNvSpPr/>
            <p:nvPr/>
          </p:nvSpPr>
          <p:spPr>
            <a:xfrm>
              <a:off x="1143000" y="1819440"/>
              <a:ext cx="243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Courier New"/>
                </a:rPr>
                <a:t>kill(pid, SIGIN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62160" y="2104920"/>
              <a:ext cx="1352520" cy="1438560"/>
            </a:xfrm>
            <a:custGeom>
              <a:avLst/>
              <a:gdLst/>
              <a:ahLst/>
              <a:rect l="l" t="t" r="r" b="b"/>
              <a:pathLst>
                <a:path w="846" h="624">
                  <a:moveTo>
                    <a:pt x="6" y="0"/>
                  </a:moveTo>
                  <a:lnTo>
                    <a:pt x="0" y="624"/>
                  </a:lnTo>
                  <a:lnTo>
                    <a:pt x="846" y="62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 flipV="1">
            <a:off x="4867200" y="2448000"/>
            <a:ext cx="600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62080" y="4000680"/>
            <a:ext cx="2209680" cy="178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divide by zero: SIGF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trl-c: SIG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hild process exit: SIGCH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98FF-7F6D-449E-A748-AA6941B8EE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Signals: receiving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23760" y="3038400"/>
            <a:ext cx="7372440" cy="28195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5257800"/>
            <a:ext cx="17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438800" y="1333440"/>
            <a:ext cx="2190600" cy="1219320"/>
            <a:chOff x="4438800" y="1333440"/>
            <a:chExt cx="2190600" cy="1219320"/>
          </a:xfrm>
        </p:grpSpPr>
        <p:sp>
          <p:nvSpPr>
            <p:cNvPr id="178" name=""/>
            <p:cNvSpPr/>
            <p:nvPr/>
          </p:nvSpPr>
          <p:spPr>
            <a:xfrm>
              <a:off x="4438800" y="1333440"/>
              <a:ext cx="2190600" cy="121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647960" y="2209680"/>
              <a:ext cx="1828440" cy="233640"/>
              <a:chOff x="4647960" y="2209680"/>
              <a:chExt cx="1828440" cy="233640"/>
            </a:xfrm>
          </p:grpSpPr>
          <p:sp>
            <p:nvSpPr>
              <p:cNvPr id="180" name=""/>
              <p:cNvSpPr/>
              <p:nvPr/>
            </p:nvSpPr>
            <p:spPr>
              <a:xfrm>
                <a:off x="4647960" y="2209680"/>
                <a:ext cx="182844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8002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952520" y="2209680"/>
                <a:ext cx="0" cy="23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048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2574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097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6200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71464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669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01920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171840" y="2209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324120" y="220968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4647960" y="1905120"/>
              <a:ext cx="1828440" cy="233280"/>
              <a:chOff x="4647960" y="1905120"/>
              <a:chExt cx="1828440" cy="233280"/>
            </a:xfrm>
          </p:grpSpPr>
          <p:sp>
            <p:nvSpPr>
              <p:cNvPr id="193" name=""/>
              <p:cNvSpPr/>
              <p:nvPr/>
            </p:nvSpPr>
            <p:spPr>
              <a:xfrm>
                <a:off x="4647960" y="1905120"/>
                <a:ext cx="1828440" cy="22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8002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952520" y="190512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1048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2574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097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56200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71464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8669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01920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171840" y="190512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324120" y="1905120"/>
                <a:ext cx="0" cy="22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6477120" y="1714680"/>
            <a:ext cx="1504800" cy="459720"/>
            <a:chOff x="6477120" y="1714680"/>
            <a:chExt cx="1504800" cy="459720"/>
          </a:xfrm>
        </p:grpSpPr>
        <p:sp>
          <p:nvSpPr>
            <p:cNvPr id="206" name=""/>
            <p:cNvSpPr/>
            <p:nvPr/>
          </p:nvSpPr>
          <p:spPr>
            <a:xfrm>
              <a:off x="647712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62600" y="17146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block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477120" y="2114640"/>
            <a:ext cx="1504800" cy="459720"/>
            <a:chOff x="6477120" y="2114640"/>
            <a:chExt cx="1504800" cy="459720"/>
          </a:xfrm>
        </p:grpSpPr>
        <p:sp>
          <p:nvSpPr>
            <p:cNvPr id="209" name=""/>
            <p:cNvSpPr/>
            <p:nvPr/>
          </p:nvSpPr>
          <p:spPr>
            <a:xfrm>
              <a:off x="6477120" y="238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62600" y="21146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pe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5343480" y="217188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Courier Ne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10000" y="12762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cess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14680" y="3352680"/>
            <a:ext cx="220032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81480" y="3409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S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867200" y="2448000"/>
            <a:ext cx="600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43480" y="188604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09600" y="1305000"/>
            <a:ext cx="302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eck when schedule the process to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A370-E157-45BA-95C1-B91A1402F8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eceiving a Signa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efault actio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process terminates [and dumps core]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process stops until restarted by a SIGCONT sign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process ignore the signa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an modify (additional action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Handle the signal”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void sigint_handler(int sig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ignal(SIGINT,  sigint_handler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61D6-F8C1-48C9-9E93-1F9AE5831B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0-28T17:09:43Z</dcterms:modified>
  <cp:revision>439</cp:revision>
  <dc:subject/>
  <dc:title>PowerPoint Presentation</dc:title>
</cp:coreProperties>
</file>