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0579-FE37-448E-B5C5-BDC9E4913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AEFC-E012-4017-907D-6B37D374B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04FB-FF96-496C-87A0-2648EA673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210D-7F02-4631-BEDF-A3ABD9B01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C518-0EA8-40F5-9EE0-DAF805F71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D9B9-EC09-4BB0-95DE-0DF3F091B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E950-B8A0-4692-B198-FD2776B4E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0722-295C-43F4-B21C-FFB6E6FD4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F4FE-2F0C-4C2B-8FD6-1A6C36E51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6E7A-39B3-40A9-B2F7-E394D6082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EEDA-59C1-4EFA-90DA-F8514F202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61C3-B561-46EC-9851-971D9E47D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ABD8-DE3D-401F-AADD-E9E8CD7936A1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a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ping Child Proces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ce Hazar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28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aping Child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hild process becomes zombie when termina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ill consume system re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ent performs reaping on terminated chil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ait() waitpid(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aightforward for reaping a single chil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ricky for Shell implementation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ltiple child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oth foreground and backgroun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E909-B6B2-4842-806F-8296825791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aping Child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wai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igchld_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 for foreground proces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ne wai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igchld_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what about foreground processes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48DD-6DCD-4F1E-8EBA-32DE86F59B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usy Wai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9539-DC97-4DDE-AA0D-D00BA21A6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au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pause(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475400">
            <a:off x="3504960" y="34286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32480" y="3795840"/>
            <a:ext cx="45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signal handled before call to pause, then pause will not return when foreground process sends SIGCH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4AA6-62AB-43B8-B865-E63D766427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lee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leep(1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78D6-F635-40B8-924C-385044A750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aitpid (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id_t waitpid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*status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options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id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ait until child process with pid has terminat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-1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ait for any child proces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u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 tells why child terminat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NOHANG: return immediately if no children zombi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urns -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UNTRACED: report status of stopped children too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 (&amp;status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equivalent to </a:t>
            </a:r>
            <a:br>
              <a:rPr sz="2800"/>
            </a:b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pid (-1, &amp;status,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EADC-EAD5-4EA7-8827-6E29F05363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atus in Waitpi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status;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pid(pid, &amp;status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cros to evaluate statu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EXITED(status):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hild exited normall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EXITSTATUS(status):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turn code when child exi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IGNALED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hild exited because of a signal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   not caugh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gives the terminating signal numb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TOPPED(status):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child is currently stopp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gives the stop signal numb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7622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8862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47600" y="52484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4A3E-E41F-4196-8EEA-F5B89A9A50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man page for details of a system call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waitp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2A68-5891-4863-9EFE-89754F5752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ace Hazar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data structure is shared by two pieces of code that can run concurrent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behaviors of program depending upon how the schedule interleaves the execution of cod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9E85-1DCA-4698-96EA-117ECCD9B4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al &amp; sigchld_handler Race Haza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68B0-DCFD-4497-BAA5-2DEA288F1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cess Concep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 instance of running progra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ultiple processes run “concurrently” by time slic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is time slicing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eemptive scheduler of OS: it can stop a program at any point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12B1-3915-4818-822F-AC3E602F2D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Oka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7925-4D2C-49A0-BC59-63E2082E12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Problematic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9000" y="4724280"/>
            <a:ext cx="7414920" cy="1119600"/>
            <a:chOff x="1449000" y="4724280"/>
            <a:chExt cx="7414920" cy="1119600"/>
          </a:xfrm>
        </p:grpSpPr>
        <p:sp>
          <p:nvSpPr>
            <p:cNvPr id="283" name=""/>
            <p:cNvSpPr/>
            <p:nvPr/>
          </p:nvSpPr>
          <p:spPr>
            <a:xfrm>
              <a:off x="1449000" y="544500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4080" y="47242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0A24-CF8A-4F20-AC55-40D4AD9EAC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ing Signa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val() {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pid == 0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67600" y="56008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details 8.5.6 (page 6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2FC8-3910-4EC4-A0F0-C5F00613C7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na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ping Child Proces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ce Hazar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man page to understand the system calls bett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n waitp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747F-C901-4FB9-B089-08166F2F42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cess IDs &amp; Process Group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has its own, unique process 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getpid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belongs to exactly one process grou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getpgrp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new process belongs to which process group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s parent’s process grou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can make a process group for itself and its childre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pid = getpid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getpgrp(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Lucida Sans Unicode"/>
              </a:rPr>
              <a:t>→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  <a:ea typeface="Courier New"/>
              </a:rPr>
              <a:t>−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7CA4-7D16-4EA9-B04E-E36F61AF02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cess Tree for She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E16A-07F2-4CE4-A686-91AA7EA6F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tion 8.5 in tex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d at least twice … really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ignal tells our program that some event has occurr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an we use signals to count even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5719-D610-4BAB-B015-085D1EF17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Signals (Fig 8.23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I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errupt signal from terminal  (ctrl-c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TS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op signal from terminal (ctrl-z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CHL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child process has stopped or termina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6F55-3EA1-4B9B-8D93-DF85E1D4DC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: send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24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26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52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55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59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63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64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70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D48C-682D-468A-89B8-B621C51C01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: receiv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78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80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93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206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209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43480" y="188604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when schedule the process to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3D19-8109-41F8-B8B7-07F0260C62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ceiving a Sign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fault a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terminates [and dumps core]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stops until restarted by a SIGCONT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ignore th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an modify (additional action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 the signal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void sigint_handler(int sig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ignal(SIGINT,  sigint_handler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D9C5-AB3E-4982-8DAD-831ACDF82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28T17:09:43Z</dcterms:modified>
  <cp:revision>439</cp:revision>
  <dc:subject/>
  <dc:title>PowerPoint Presentation</dc:title>
</cp:coreProperties>
</file>