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2C59-5988-44EA-AE5E-F23F61DF0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7D59-CBD4-46ED-A56E-3A80CDB1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9053-9DAD-48E1-BE62-55B6C5F12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6746-3D6F-4D39-A098-772C99042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3DB1-0F84-4F7E-988C-C6900586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F32A-E713-4202-885A-62C6BD8F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0CF1-2272-497E-9E68-1D5170AB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9BB4-3377-408D-9CCE-56DCF9167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AA6A-790A-4A44-9BD2-09AC41C4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9958-F034-452F-9E6D-DD2EC75A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1624-9712-4D5A-8E39-49875C05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23BE-9B3A-48A4-BF2D-DD7F4904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E2D3-DD2F-43C4-AAFB-D8091661F758}" type="slidenum"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reapermini.com/photos/dh/2019.gif&amp;imgrefurl=http://www.reapermini.com/dh.htm&amp;h=371&amp;w=248&amp;prev=/images%3Fq%3Dgrim%2Breaper%26svnum%3D10%26hl%3Den%26lr%3D%26ie%3DUTF-8%26oe%3DUTF-8%26sa%3D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Recitation 8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Signals &amp; Shell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Andrew Faulring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15213 Section 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28 October 2002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Sending a Signal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nd a sign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ent by either the kern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Or another proces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hy is a signal sent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e kernel detects a system event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Divide-by-zero (SIGFPE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ermination of a child process (SIGCHLD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nother process invokes a system call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ill(pid_t pid, int SIGINT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kill(1500, SIGINT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nd SIGINT to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1500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kill(-1500, SIGINT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nd SIGINT to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progress group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1500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arm(unsigned int secs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Receiving a Signal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efault ac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process terminates [and dumps core]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process stops until restarted by a SIGCONT sign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process ignore the sign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an modify the default action with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ignal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func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dditional action: “Handle the signal”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sigint_handler(int sig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gnal(SIGINT, sigint_handler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annot modify action for SIGSTOP and SIGKIL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Receiving a Signal</a:t>
            </a: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ending: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bit vector: bit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s set when signal type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is delivered, clear when signal received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locked: 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bit vector of signals that should not be received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Only receive non-blocked, pending signal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ending &amp; ~blocke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Synchronizing Processe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reemptive scheduler run multiple programs “concurrently” by time slicin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ow does time slicing work?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scheduler can stop a program at any poi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ignal handler code can run at any point, to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rogram behaviors depend on how the scheduler interleaves the execution of process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acing condition between parent and child!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hy?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Race Hazard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Different behaviors of program depending upon how the schedule interleaves the execution of code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Parent &amp; Child Race Hazard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chld_handler() {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d = waitpid(…)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letejob(pid)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val() {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pid == 0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 child *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ve(…)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 signal handler might run BEFORE addjob() *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job(…)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371600" y="213372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79400" y="1682640"/>
            <a:ext cx="8686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53720" y="1673280"/>
            <a:ext cx="22845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ignal Hand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33200" y="1673280"/>
            <a:ext cx="9082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98760" y="2209680"/>
            <a:ext cx="1644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k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job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43760" y="3116160"/>
            <a:ext cx="1644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ecv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i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18200" y="4173480"/>
            <a:ext cx="3290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igchld_handler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etejobs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312408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411480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71600" y="510552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2057400"/>
            <a:ext cx="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2133720"/>
            <a:ext cx="0" cy="3047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7680" y="1674720"/>
            <a:ext cx="8276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2133720"/>
            <a:ext cx="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92920" y="312408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95800" y="411480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An Okay Schedule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213372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79400" y="1682640"/>
            <a:ext cx="8686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53720" y="1673280"/>
            <a:ext cx="22845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ignal Hand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33200" y="1673280"/>
            <a:ext cx="9082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99120" y="2209680"/>
            <a:ext cx="127872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k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3760" y="2666880"/>
            <a:ext cx="1644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ecv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i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99120" y="3716280"/>
            <a:ext cx="3290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igchld_handler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etejobs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266688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366696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464832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057400"/>
            <a:ext cx="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2133720"/>
            <a:ext cx="0" cy="3047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7680" y="1674720"/>
            <a:ext cx="8276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62920" y="267480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365760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98760" y="4724280"/>
            <a:ext cx="16444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job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518148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464832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328040" y="4952880"/>
            <a:ext cx="7414920" cy="1154520"/>
            <a:chOff x="1328040" y="4952880"/>
            <a:chExt cx="7414920" cy="1154520"/>
          </a:xfrm>
        </p:grpSpPr>
        <p:sp>
          <p:nvSpPr>
            <p:cNvPr id="131" name=""/>
            <p:cNvSpPr/>
            <p:nvPr/>
          </p:nvSpPr>
          <p:spPr>
            <a:xfrm>
              <a:off x="1328040" y="5708520"/>
              <a:ext cx="74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 Unicode"/>
                </a:rPr>
                <a:t>Job added to job list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Lucida Sans Unicode"/>
                </a:rPr>
                <a:t>after</a:t>
              </a:r>
              <a:r>
                <a:rPr b="0" lang="en-US" sz="2000" spc="-1" strike="noStrike">
                  <a:solidFill>
                    <a:srgbClr val="000000"/>
                  </a:solidFill>
                  <a:latin typeface="Lucida Sans Unicode"/>
                </a:rPr>
                <a:t> the signal handler tried to delete it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66880" y="4952880"/>
              <a:ext cx="609840" cy="685800"/>
            </a:xfrm>
            <a:prstGeom prst="lightningBol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A Problematic Schedule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Solution to Race Hazard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chld_handler() {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 = waitpid(…)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letejob(pid)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val() {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sigprocmask(SIG_BLOCK, …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 = fork()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pid == 0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/* child */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sigprocmask(SIG_UNBLOCK, …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ecve(…)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/* signal handler might run BEFORE addjob() */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job(…)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sigprocmask(SIG_UNBLOCK, …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"/>
          <p:cNvSpPr/>
          <p:nvPr/>
        </p:nvSpPr>
        <p:spPr>
          <a:xfrm>
            <a:off x="4467600" y="6172200"/>
            <a:ext cx="43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ore details 8.5.6 (page 63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Reaping Child Proces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hild process becomes zombie when terminat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till consume system resourc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arent performs reaping on terminated chil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sing eith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ait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aitpid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yscal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here to wait children processes to terminate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wo wait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chld_handler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val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: for foreground processe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One wai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chld_handler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But what about foreground processes?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Andrew Faulring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aulring@cs.cmu.edu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Office hours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NSH 2504 (lab) / 2507 (conference room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ursday 5-6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Lab 5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ue Thursday, 31 Oct @ 11:59p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alloween Night … happy reaping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20080" y="3848040"/>
            <a:ext cx="202392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Busy Wait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val() {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job(…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fg process still aliv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{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gchld_handler() {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d = waitpid(…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etejob(pid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Pause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val() {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job(…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fg process still aliv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{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use(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gchld_handler() {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d = waitpid(…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etejob(pid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"/>
          <p:cNvSpPr/>
          <p:nvPr/>
        </p:nvSpPr>
        <p:spPr>
          <a:xfrm rot="957000">
            <a:off x="2219400" y="3265200"/>
            <a:ext cx="2403360" cy="380880"/>
          </a:xfrm>
          <a:prstGeom prst="leftArrow">
            <a:avLst>
              <a:gd name="adj1" fmla="val 50000"/>
              <a:gd name="adj2" fmla="val 15775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32480" y="3505320"/>
            <a:ext cx="451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f signal handled (SIGCHLD) before call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use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, the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use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will not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Sleep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val() {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job(…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fg process still aliv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{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leep(1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gchld_handler() {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d = waitpid(…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etejob(pid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waitpid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Used for reaping zombied child process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d_t waitpid(pid_t pid,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status,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options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d: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wait until child process with pid has terminate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1: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wait for any child proces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us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: tells why child terminate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ptions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WNOHANG: return immediately if no children have exited (zombied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584000" indent="-226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itpid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returns -1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WUNTRACED: report status of stopped children too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waitpid’s statu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tus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aitpid(pid,&amp;status, NULL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IFEXITED(status):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hild exited normall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XITSTATUS(status):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return code when child exit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IFSIGNALED(status):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hild exited because a signal was not caugh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TERMSIG(status):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gives the number of the terminating signa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IFSTOPPED(status):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hild is stopp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STOPSIG(status):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gives the number of the stop signa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rocess provides applications with the illusions of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xclusively use of the processor and the main memor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t the interface with OS, applications can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reating child process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un new program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atch signals from other process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Us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an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if anything is not clear!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Today’s Plan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Process IDs &amp; Process Group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ignal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Preemptive Scheduler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ace hazard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Reaping Child Process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Lab 5: Shell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shref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Use as a guide for outpu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You shell should have same behavio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How Programmers Play with Processes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Process: executing copy of program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Basic function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ork()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pawns new proces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xit(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erminates calling proces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ait(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aitpid()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wait for and reap terminated childre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xecl()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xecve()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run a new program in an existing proces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Process IDs &amp; Process Group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ach process has its own, unique process I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d_t getpid()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ach process belongs to exactly one process group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d_t getpgid()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o which process group does a new process initially belong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ts parent’s process group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 process can make a process group for itself and its childre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tpgid(0, 0)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050920" y="2622600"/>
            <a:ext cx="982800" cy="885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46560" y="2622600"/>
            <a:ext cx="982800" cy="863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 #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00800" y="2622600"/>
            <a:ext cx="984240" cy="885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 #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51240" y="1298520"/>
            <a:ext cx="984240" cy="776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92200" y="3808440"/>
            <a:ext cx="984240" cy="776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17920" y="3808440"/>
            <a:ext cx="984240" cy="776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058840" y="3444840"/>
            <a:ext cx="182880" cy="37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38600" y="3441600"/>
            <a:ext cx="163440" cy="36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46600" y="2060640"/>
            <a:ext cx="0" cy="55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921040" y="1968480"/>
            <a:ext cx="1481040" cy="80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21360" y="1928880"/>
            <a:ext cx="1412640" cy="83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53480" y="146304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d=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gid=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2516040"/>
            <a:ext cx="2442960" cy="2648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01280" y="521028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re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ocess group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59080" y="2516040"/>
            <a:ext cx="1176480" cy="1086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20400" y="359568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ocess group 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30360" y="360216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ackgro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ocess group 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97480" y="2516040"/>
            <a:ext cx="1176480" cy="1086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54960" y="275832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d=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gid=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17200" y="280908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d=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gid=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428600" y="283608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d=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gid=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54840" y="461412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d=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gid=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97840" y="462384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d=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gid=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Signal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ction 8.5 in tex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ead at least twice … really!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A signal tells our program that some event has occurred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or instance, a child process has terminate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an we use signals to count events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Important Signal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IGIN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terrupt signal from keyboard (ctrl-c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IGTSTP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top signal from keyboard (ctrl-z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IGCHLD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 child process has stopped or terminate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"/>
          <p:cNvSpPr/>
          <p:nvPr/>
        </p:nvSpPr>
        <p:spPr>
          <a:xfrm>
            <a:off x="2754000" y="6095880"/>
            <a:ext cx="59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Look at Figure 8.23 for a complete list of Linux sig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3T01:46:12Z</dcterms:created>
  <dc:creator>Andrew Robert Faulring</dc:creator>
  <dc:description/>
  <dc:language>en-US</dc:language>
  <cp:lastModifiedBy>Andrew Robert Faulring</cp:lastModifiedBy>
  <dcterms:modified xsi:type="dcterms:W3CDTF">2002-10-28T16:46:22Z</dcterms:modified>
  <cp:revision>602</cp:revision>
  <dc:subject/>
  <dc:title>Slide 1</dc:title>
</cp:coreProperties>
</file>