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8A04-875E-4AF6-8F5E-F30A34021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E51-5616-47AD-A2F0-9E8476C5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B32-9477-4CF4-86C1-676E8B41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9E3-6D66-48B5-9C31-7CAB15B1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0A4-BEF1-4A9C-A2E6-EFF19814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068B-555C-432A-9639-2D817FED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3E7-5D7D-47FB-A668-76BC756C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8F9-4289-43E8-A6D3-87A0A223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DAD-4DCB-4F08-BE18-281EE6FE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493D-65D7-4390-AA37-4B4C61E9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356-B0D3-4AB1-932D-DE1698CF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DA1-8821-4E01-9D93-979AA324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5D45-E08B-4F5C-BD4F-9CB51D90441F}" type="slidenum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reapermini.com/photos/dh/2019.gif&amp;imgrefurl=http://www.reapermini.com/dh.htm&amp;h=371&amp;w=248&amp;prev=/images%3Fq%3Dgrim%2Breaper%26svnum%3D10%26hl%3Den%26lr%3D%26ie%3DUTF-8%26oe%3DUTF-8%26sa%3D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Recitation 8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ignals &amp; Shell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28 October 2002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ending a Signal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nd a sig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nt by either the kern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r another proces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y is a signal sen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he kernel detects a system event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Divide-by-zero (SIGFPE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Termination of a child process (SIGCHLD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nother process invokes a system call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ill(pid_t pid, int SIGINT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ill(1500, SIGINT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d SIGINT to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1500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ill(-1500, SIGINT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nd SIGINT to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progress group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1500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arm(unsigned int secs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Receiving a Signal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efault ac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process terminates [and dumps core]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process stops until restarted by a SIGCONT sig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process ignore the sign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n modify the default action with th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gnal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func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ditional action: “Handle the signal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sigint_handler(int sig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nal(SIGINT, sigint_handler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nnot modify action for SIGSTOP and SIGKIL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Receiving a Signal</a:t>
            </a: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ending: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bit vector: bit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s set when signal type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is delivered, clear when signal receiv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locked: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it vector of signals that should not be receiv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nly receive non-blocked, pending signa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ending &amp; ~block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ynchronizing Process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eemptive scheduler run multiple programs “concurrently” by time slic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w does time slicing work?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e scheduler can stop a program at any poi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gnal handler code can run at any point, to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ogram behaviors depend on how the scheduler interleaves the execution of process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acing condition between parent and child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y?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Race Hazard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Different behaviors of program depending upon how the schedule interleaves the execution of cod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Parent &amp; Child Race Hazard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16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9400" y="168264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53720" y="167328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33200" y="167328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98760" y="22096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43760" y="311616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8200" y="41734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1240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11480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51055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680" y="167472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1337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92920" y="31240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95800" y="411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An Okay Schedul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21337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79400" y="1682640"/>
            <a:ext cx="86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53720" y="1673280"/>
            <a:ext cx="22845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gnal Hand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33200" y="1673280"/>
            <a:ext cx="908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99120" y="2209680"/>
            <a:ext cx="127872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k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3760" y="2666880"/>
            <a:ext cx="1644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ecv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99120" y="3716280"/>
            <a:ext cx="3290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igchld_handl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letejobs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6668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366696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64832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0574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680" y="1674720"/>
            <a:ext cx="827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2674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36576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98760" y="4724280"/>
            <a:ext cx="1644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job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5181480"/>
            <a:ext cx="75438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6483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328040" y="4952880"/>
            <a:ext cx="7414920" cy="1154520"/>
            <a:chOff x="1328040" y="4952880"/>
            <a:chExt cx="7414920" cy="1154520"/>
          </a:xfrm>
        </p:grpSpPr>
        <p:sp>
          <p:nvSpPr>
            <p:cNvPr id="131" name=""/>
            <p:cNvSpPr/>
            <p:nvPr/>
          </p:nvSpPr>
          <p:spPr>
            <a:xfrm>
              <a:off x="1328040" y="5708520"/>
              <a:ext cx="74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Sans Unicode"/>
                </a:rPr>
                <a:t>Job added to job list 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Lucida Sans Unicode"/>
                </a:rPr>
                <a:t>after</a:t>
              </a:r>
              <a:r>
                <a:rPr b="0" lang="en-US" sz="2000" spc="-1" strike="noStrike">
                  <a:solidFill>
                    <a:srgbClr val="000000"/>
                  </a:solidFill>
                  <a:latin typeface="Lucida Sans Unicode"/>
                </a:rPr>
                <a:t> the signal handler tried to delete it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66880" y="4952880"/>
              <a:ext cx="609840" cy="6858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A Problematic Schedul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olution to Race Hazard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BLOCK, …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= fork(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pid == 0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child *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ecve(…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6600"/>
                </a:solidFill>
                <a:latin typeface="Courier New"/>
              </a:rPr>
              <a:t>/* signal handler might run BEFORE addjob() */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sigprocmask(SIG_UNBLOCK, …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"/>
          <p:cNvSpPr/>
          <p:nvPr/>
        </p:nvSpPr>
        <p:spPr>
          <a:xfrm>
            <a:off x="4467600" y="61722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re details 8.5.6 (page 6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Reaping Child Proces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ild process becomes zombie when terminat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till consume system resourc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Parent performs reaping on terminated chil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Using eith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itpid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syscal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here to wait children processes to terminat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wo wai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chld_handl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al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: for foreground processe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One wai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chld_handler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But what about foreground processes?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Andrew Faulrin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aulring@cs.cmu.edu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ffice hours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SH 2504 (lab) / 2507 (conference room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ursday 5-6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ab 5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ue Thursday, 31 Oct @ 11:59p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alloween Night … happy reaping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0080" y="3848040"/>
            <a:ext cx="20239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Busy Wai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fg process still aliv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Pause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fg process still aliv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use(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"/>
          <p:cNvSpPr/>
          <p:nvPr/>
        </p:nvSpPr>
        <p:spPr>
          <a:xfrm rot="957000">
            <a:off x="2219400" y="3265200"/>
            <a:ext cx="2403360" cy="380880"/>
          </a:xfrm>
          <a:prstGeom prst="leftArrow">
            <a:avLst>
              <a:gd name="adj1" fmla="val 50000"/>
              <a:gd name="adj2" fmla="val 15775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32480" y="3505320"/>
            <a:ext cx="45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If signal handled (SIGCHLD) before call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us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, th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use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 will not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leep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val() 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/* parent *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job(…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fg process still aliv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eep(1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gchld_handler() {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 = waitpid(…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tejob(pid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waitpid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sed for reaping zombied child process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d_t waitpid(pid_t pid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status, </a:t>
            </a: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ptions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d: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wait until child process with pid has terminat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: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ait for any child process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u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: tells why child terminated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NOHANG: return immediately if no children have exited (zombied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aitpid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returns -1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WUNTRACED: report status of stopped children too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waitpid’s statu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tus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aitpid(pid,&amp;status, NULL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IFEXITED(status)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ild exited normall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XITSTATUS(status):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turn code when child exit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IFSIGNALED(status)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ild exited because a signal was not caugh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TERMSIG(status):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ives the number of the terminating sign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IFSTOPPED(status):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hild is stopp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STOPSIG(status):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ives the number of the stop sign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ocess provides applications with the illusions of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xclusively use of the processor and the main memor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t the interface with OS, applications can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reating child process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un new program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Catch signals from other process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if anything is not clear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ocess IDs &amp; Process Group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gna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eemptive Schedule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ace hazar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Reaping Child Process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Lab 5: Shell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tshref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se as a guide for outpu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You shell should have same behavi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How Programmers Play with Processe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ocess: executing copy of progra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Basic func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rk()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awns new proc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it(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erminates calling proc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ait(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aitpid()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wait for and reap terminated childr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ecl()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ecve()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run a new program in an existing proc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Process IDs &amp; Process Group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ach process has its own, unique process I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d_t getpid(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ach process belongs to exactly one process group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id_t getpgid(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 which process group does a new process initially belong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ts parent’s process grou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process can make a process group for itself and its childr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tpgid(0, 0)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50920" y="2622600"/>
            <a:ext cx="98280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46560" y="2622600"/>
            <a:ext cx="982800" cy="863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2622600"/>
            <a:ext cx="984240" cy="885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b #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51240" y="1298520"/>
            <a:ext cx="984240" cy="776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9220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17920" y="3808440"/>
            <a:ext cx="984240" cy="776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058840" y="3444840"/>
            <a:ext cx="18288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38600" y="3441600"/>
            <a:ext cx="163440" cy="36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46600" y="20606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921040" y="1968480"/>
            <a:ext cx="1481040" cy="80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21360" y="1928880"/>
            <a:ext cx="141264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53480" y="146304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516040"/>
            <a:ext cx="2442960" cy="2648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1280" y="521028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590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0400" y="359568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30360" y="360216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ackgr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rocess group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97480" y="2516040"/>
            <a:ext cx="1176480" cy="10861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4960" y="27583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17200" y="2809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28600" y="283608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54840" y="461412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97840" y="462384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id=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gid=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Signal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tion 8.5 in tex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ead at least twice … really!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 signal tells our program that some event has occurr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or instance, a child process has terminat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an we use signals to count event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Important Signal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GI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terrupt signal from keyboard (ctrl-c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GTSTP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op signal from keyboard (ctrl-z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GCHL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child process has stopped or terminat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"/>
          <p:cNvSpPr/>
          <p:nvPr/>
        </p:nvSpPr>
        <p:spPr>
          <a:xfrm>
            <a:off x="2754000" y="6095880"/>
            <a:ext cx="59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Look at Figure 8.23 for a complete list of Linux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1:46:12Z</dcterms:created>
  <dc:creator>Andrew Robert Faulring</dc:creator>
  <dc:description/>
  <dc:language>en-US</dc:language>
  <cp:lastModifiedBy>Andrew Robert Faulring</cp:lastModifiedBy>
  <dcterms:modified xsi:type="dcterms:W3CDTF">2002-10-28T16:46:22Z</dcterms:modified>
  <cp:revision>602</cp:revision>
  <dc:subject/>
  <dc:title>Slide 1</dc:title>
</cp:coreProperties>
</file>