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424988" cy="6923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424800" cy="69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84560" cy="345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5336640" y="-360"/>
            <a:ext cx="4084920" cy="345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981160" y="519120"/>
            <a:ext cx="3461040" cy="259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42840" y="3287520"/>
            <a:ext cx="7537680" cy="3114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0" y="6575040"/>
            <a:ext cx="4084560" cy="344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5336640" y="6575040"/>
            <a:ext cx="4084920" cy="344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E59EBA7-EBA7-4ACE-974E-FA216E89C9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6640" y="6575040"/>
            <a:ext cx="4084920" cy="344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A4F842C-ADBF-465F-A40E-7FBF81CD21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0" y="6575040"/>
            <a:ext cx="4084560" cy="344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0" y="-360"/>
            <a:ext cx="4084560" cy="345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6640" y="-360"/>
            <a:ext cx="4084920" cy="345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2987640" y="523800"/>
            <a:ext cx="3448080" cy="2586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1257120" y="3287520"/>
            <a:ext cx="6908760" cy="31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C3418-6269-4A00-AF23-070F658FA3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66CD6-B524-4BE1-BA9C-8785BD7FF0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B91EB-6DB5-451F-A7CE-E3C67B4954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62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94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430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62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94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9BE23-2F68-4A4B-A03A-18439B9573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9AB0D-3D7E-4E73-97F2-6CD3DDE946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62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94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430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62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94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E7C36-1F48-4223-A89B-16CF237991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96B67-403E-4753-BE63-204D8413EF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18815-DAA0-44EB-AA44-E86A03C98F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B18D5-661A-44C4-B2E7-9189DE2541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2673A-7D3C-44AF-B75C-75D28A2CA0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62C2F-457E-4B4B-9F08-16560A28BD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55073-D66E-47D3-B2B3-13EE0DFF2E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733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13F32-A03D-49F3-B5FC-83DC682AB288}" type="slidenum"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1066680"/>
            <a:ext cx="777240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15213 Recitation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40080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Shimin Ch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172200"/>
            <a:ext cx="777240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99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15213 Recitation Section C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895120" y="37339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Loop Unrolling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Blocking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514600" y="1828800"/>
            <a:ext cx="4267080" cy="977760"/>
            <a:chOff x="2514600" y="1828800"/>
            <a:chExt cx="4267080" cy="977760"/>
          </a:xfrm>
        </p:grpSpPr>
        <p:sp>
          <p:nvSpPr>
            <p:cNvPr id="92" name=""/>
            <p:cNvSpPr/>
            <p:nvPr/>
          </p:nvSpPr>
          <p:spPr>
            <a:xfrm>
              <a:off x="2819520" y="1828800"/>
              <a:ext cx="36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Times New Roman"/>
                </a:rPr>
                <a:t>Shimin Ch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514600" y="2286000"/>
              <a:ext cx="426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Times New Roman"/>
                </a:rPr>
                <a:t>Oct. 21, 200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514600" y="32004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mproving Temporal Locality by Blocki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85560" y="1199880"/>
            <a:ext cx="7629480" cy="18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Example: Blocked matrix multiplication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block” (in this context) does not mean “cache block”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Instead, it mean a sub-block within the matrix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Example: N = 8; sub-block size = 4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704960" y="3200400"/>
            <a:ext cx="6508800" cy="2700720"/>
            <a:chOff x="1704960" y="3200400"/>
            <a:chExt cx="6508800" cy="2700720"/>
          </a:xfrm>
        </p:grpSpPr>
        <p:sp>
          <p:nvSpPr>
            <p:cNvPr id="120" name=""/>
            <p:cNvSpPr/>
            <p:nvPr/>
          </p:nvSpPr>
          <p:spPr>
            <a:xfrm>
              <a:off x="1898640" y="4876920"/>
              <a:ext cx="4897440" cy="102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=  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+ 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1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=  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+ 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=  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+ 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1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=  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+ 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66960" y="3224160"/>
              <a:ext cx="801720" cy="78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1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A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A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1795680" y="3200400"/>
              <a:ext cx="215280" cy="838080"/>
              <a:chOff x="1795680" y="3200400"/>
              <a:chExt cx="215280" cy="838080"/>
            </a:xfrm>
          </p:grpSpPr>
          <p:sp>
            <p:nvSpPr>
              <p:cNvPr id="123" name=""/>
              <p:cNvSpPr/>
              <p:nvPr/>
            </p:nvSpPr>
            <p:spPr>
              <a:xfrm>
                <a:off x="1795680" y="3213000"/>
                <a:ext cx="0" cy="812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807920" y="3200400"/>
                <a:ext cx="20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807920" y="4038480"/>
                <a:ext cx="20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2709720" y="3200400"/>
              <a:ext cx="228960" cy="838080"/>
              <a:chOff x="2709720" y="3200400"/>
              <a:chExt cx="228960" cy="838080"/>
            </a:xfrm>
          </p:grpSpPr>
          <p:sp>
            <p:nvSpPr>
              <p:cNvPr id="127" name=""/>
              <p:cNvSpPr/>
              <p:nvPr/>
            </p:nvSpPr>
            <p:spPr>
              <a:xfrm flipV="1">
                <a:off x="2938680" y="3200400"/>
                <a:ext cx="0" cy="838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2709720" y="4038480"/>
                <a:ext cx="228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2709720" y="3200400"/>
                <a:ext cx="228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3543120" y="3224160"/>
              <a:ext cx="801720" cy="78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1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B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B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3471840" y="3200400"/>
              <a:ext cx="215640" cy="838080"/>
              <a:chOff x="3471840" y="3200400"/>
              <a:chExt cx="215640" cy="838080"/>
            </a:xfrm>
          </p:grpSpPr>
          <p:sp>
            <p:nvSpPr>
              <p:cNvPr id="132" name=""/>
              <p:cNvSpPr/>
              <p:nvPr/>
            </p:nvSpPr>
            <p:spPr>
              <a:xfrm>
                <a:off x="3471840" y="3213000"/>
                <a:ext cx="0" cy="812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484440" y="3200400"/>
                <a:ext cx="20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484440" y="4038480"/>
                <a:ext cx="20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4309920" y="3200400"/>
              <a:ext cx="228960" cy="838080"/>
              <a:chOff x="4309920" y="3200400"/>
              <a:chExt cx="228960" cy="838080"/>
            </a:xfrm>
          </p:grpSpPr>
          <p:sp>
            <p:nvSpPr>
              <p:cNvPr id="136" name=""/>
              <p:cNvSpPr/>
              <p:nvPr/>
            </p:nvSpPr>
            <p:spPr>
              <a:xfrm flipV="1">
                <a:off x="4538880" y="3200400"/>
                <a:ext cx="0" cy="838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4309920" y="4038480"/>
                <a:ext cx="228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>
                <a:off x="4309920" y="3200400"/>
                <a:ext cx="228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3076560" y="3529080"/>
              <a:ext cx="300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675680" y="3452760"/>
              <a:ext cx="3355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43680" y="3224160"/>
              <a:ext cx="820440" cy="78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1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C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C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5072040" y="3200400"/>
              <a:ext cx="215640" cy="838080"/>
              <a:chOff x="5072040" y="3200400"/>
              <a:chExt cx="215640" cy="838080"/>
            </a:xfrm>
          </p:grpSpPr>
          <p:sp>
            <p:nvSpPr>
              <p:cNvPr id="143" name=""/>
              <p:cNvSpPr/>
              <p:nvPr/>
            </p:nvSpPr>
            <p:spPr>
              <a:xfrm>
                <a:off x="5072040" y="3213000"/>
                <a:ext cx="0" cy="812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084640" y="3200400"/>
                <a:ext cx="20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084640" y="4038480"/>
                <a:ext cx="20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5910120" y="3200400"/>
              <a:ext cx="228960" cy="838080"/>
              <a:chOff x="5910120" y="3200400"/>
              <a:chExt cx="228960" cy="838080"/>
            </a:xfrm>
          </p:grpSpPr>
          <p:sp>
            <p:nvSpPr>
              <p:cNvPr id="147" name=""/>
              <p:cNvSpPr/>
              <p:nvPr/>
            </p:nvSpPr>
            <p:spPr>
              <a:xfrm flipV="1">
                <a:off x="6139080" y="3200400"/>
                <a:ext cx="0" cy="838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5910120" y="4038480"/>
                <a:ext cx="228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>
                <a:off x="5910120" y="3200400"/>
                <a:ext cx="228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1704960" y="4257720"/>
              <a:ext cx="6508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Key idea: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Sub-blocks (i.e.,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x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 can be treated just like scalars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2E9B0-C179-4643-9A53-1F69D7F0DD8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Blocked Matrix Multiply (bijk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4680" y="1136520"/>
            <a:ext cx="6900840" cy="44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jj=0; jj&lt;n; jj+=bsiz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=0; i&lt;n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j=jj; j &lt; min(jj+bsize,n); j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[i][j] = 0.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kk=0; kk&lt;n; kk+=bsize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=0; i&lt;n; 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for (j=jj; j &lt; min(jj+bsize,n); j++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um = 0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for (k=kk; k &lt; min(kk+bsize,n); k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um += a[i][k] * b[k][j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c[i][j] += su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85880" y="2971800"/>
            <a:ext cx="230400" cy="1677960"/>
          </a:xfrm>
          <a:custGeom>
            <a:avLst/>
            <a:gdLst/>
            <a:ahLst/>
            <a:rect l="l" t="t" r="r" b="b"/>
            <a:pathLst>
              <a:path w="145" h="1057">
                <a:moveTo>
                  <a:pt x="96" y="0"/>
                </a:moveTo>
                <a:lnTo>
                  <a:pt x="0" y="0"/>
                </a:lnTo>
                <a:lnTo>
                  <a:pt x="0" y="1056"/>
                </a:lnTo>
                <a:lnTo>
                  <a:pt x="144" y="1056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14560" y="5429160"/>
            <a:ext cx="76676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lvl="1" marL="690840" indent="-26568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Provides temporal locality as block is reused multiple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Constant cache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AF03C-7487-4F2D-898B-C4D16FCEE62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Blocked Matrix Multiply Analysi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61560" y="1157040"/>
            <a:ext cx="787716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Innermost loop pair multiplies a </a:t>
            </a: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1 X bsize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sliver of </a:t>
            </a: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by a </a:t>
            </a: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bsize X bsize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block of </a:t>
            </a: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and accumulates into </a:t>
            </a: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1 X bsize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sliver of </a:t>
            </a: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Loop over </a:t>
            </a: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steps through </a:t>
            </a: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row slivers of </a:t>
            </a: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&amp; </a:t>
            </a: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, using same </a:t>
            </a: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782720" y="4214880"/>
            <a:ext cx="7226280" cy="2013840"/>
            <a:chOff x="1782720" y="4214880"/>
            <a:chExt cx="7226280" cy="2013840"/>
          </a:xfrm>
        </p:grpSpPr>
        <p:sp>
          <p:nvSpPr>
            <p:cNvPr id="158" name=""/>
            <p:cNvSpPr/>
            <p:nvPr/>
          </p:nvSpPr>
          <p:spPr>
            <a:xfrm>
              <a:off x="4051440" y="4552920"/>
              <a:ext cx="596880" cy="52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245200" y="4552920"/>
              <a:ext cx="596880" cy="52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413760" y="4552920"/>
              <a:ext cx="596880" cy="52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57640" y="513396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76960" y="513396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621480" y="513396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445280" y="5591160"/>
              <a:ext cx="22604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lock reused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times in succes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3294360" y="4648320"/>
              <a:ext cx="712800" cy="611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51680" y="4559400"/>
              <a:ext cx="203040" cy="203400"/>
            </a:xfrm>
            <a:prstGeom prst="rect">
              <a:avLst/>
            </a:prstGeom>
            <a:solidFill>
              <a:srgbClr val="80808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82720" y="5302440"/>
              <a:ext cx="21718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ow sliver access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bsiz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tim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flipV="1">
              <a:off x="5365440" y="4838760"/>
              <a:ext cx="9720" cy="704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13440" y="5257800"/>
              <a:ext cx="2095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pdate succes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lements of sli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6712200" y="4711320"/>
              <a:ext cx="596880" cy="482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72040" y="4737240"/>
              <a:ext cx="0" cy="35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233960" y="4748400"/>
              <a:ext cx="221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534360" y="4737240"/>
              <a:ext cx="0" cy="35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596280" y="4748400"/>
              <a:ext cx="221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4842000" y="4508640"/>
              <a:ext cx="361440" cy="736560"/>
              <a:chOff x="4842000" y="4508640"/>
              <a:chExt cx="361440" cy="736560"/>
            </a:xfrm>
          </p:grpSpPr>
          <p:sp>
            <p:nvSpPr>
              <p:cNvPr id="176" name=""/>
              <p:cNvSpPr/>
              <p:nvPr/>
            </p:nvSpPr>
            <p:spPr>
              <a:xfrm>
                <a:off x="5010120" y="4508640"/>
                <a:ext cx="0" cy="736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842000" y="4595760"/>
                <a:ext cx="361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k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6419880" y="4635720"/>
              <a:ext cx="203400" cy="75960"/>
            </a:xfrm>
            <a:prstGeom prst="rect">
              <a:avLst/>
            </a:prstGeom>
            <a:solidFill>
              <a:srgbClr val="80808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057920" y="4635720"/>
              <a:ext cx="203040" cy="75960"/>
            </a:xfrm>
            <a:prstGeom prst="rect">
              <a:avLst/>
            </a:prstGeom>
            <a:solidFill>
              <a:srgbClr val="80808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4032360" y="4214880"/>
              <a:ext cx="736560" cy="302040"/>
              <a:chOff x="4032360" y="4214880"/>
              <a:chExt cx="736560" cy="302040"/>
            </a:xfrm>
          </p:grpSpPr>
          <p:sp>
            <p:nvSpPr>
              <p:cNvPr id="181" name=""/>
              <p:cNvSpPr/>
              <p:nvPr/>
            </p:nvSpPr>
            <p:spPr>
              <a:xfrm>
                <a:off x="4032360" y="4343400"/>
                <a:ext cx="7365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156560" y="4214880"/>
                <a:ext cx="361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k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6394680" y="4214880"/>
              <a:ext cx="736560" cy="302040"/>
              <a:chOff x="6394680" y="4214880"/>
              <a:chExt cx="736560" cy="302040"/>
            </a:xfrm>
          </p:grpSpPr>
          <p:sp>
            <p:nvSpPr>
              <p:cNvPr id="184" name=""/>
              <p:cNvSpPr/>
              <p:nvPr/>
            </p:nvSpPr>
            <p:spPr>
              <a:xfrm>
                <a:off x="6394680" y="4343400"/>
                <a:ext cx="7365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519960" y="4214880"/>
                <a:ext cx="2606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j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5175360" y="4214880"/>
              <a:ext cx="736560" cy="302040"/>
              <a:chOff x="5175360" y="4214880"/>
              <a:chExt cx="736560" cy="302040"/>
            </a:xfrm>
          </p:grpSpPr>
          <p:sp>
            <p:nvSpPr>
              <p:cNvPr id="187" name=""/>
              <p:cNvSpPr/>
              <p:nvPr/>
            </p:nvSpPr>
            <p:spPr>
              <a:xfrm>
                <a:off x="5175360" y="4343400"/>
                <a:ext cx="7365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301000" y="4214880"/>
                <a:ext cx="2606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j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9" name=""/>
          <p:cNvGrpSpPr/>
          <p:nvPr/>
        </p:nvGrpSpPr>
        <p:grpSpPr>
          <a:xfrm>
            <a:off x="1197000" y="2325600"/>
            <a:ext cx="6900840" cy="2557800"/>
            <a:chOff x="1197000" y="2325600"/>
            <a:chExt cx="6900840" cy="2557800"/>
          </a:xfrm>
        </p:grpSpPr>
        <p:sp>
          <p:nvSpPr>
            <p:cNvPr id="190" name=""/>
            <p:cNvSpPr/>
            <p:nvPr/>
          </p:nvSpPr>
          <p:spPr>
            <a:xfrm>
              <a:off x="1197000" y="2325600"/>
              <a:ext cx="6900840" cy="255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or (i=0; i&lt;n; i++) 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for (j=jj; j &lt; min(jj+bsize,n); j++) {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  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sum = 0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  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for (k=kk; k &lt; min(kk+bsize,n); k++) 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    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sum += a[i][k] * b[k][j]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  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  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c[i][j] += sum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876680" y="2665440"/>
              <a:ext cx="230040" cy="1982880"/>
            </a:xfrm>
            <a:custGeom>
              <a:avLst/>
              <a:gdLst/>
              <a:ahLst/>
              <a:rect l="l" t="t" r="r" b="b"/>
              <a:pathLst>
                <a:path w="145" h="1249">
                  <a:moveTo>
                    <a:pt x="96" y="0"/>
                  </a:moveTo>
                  <a:lnTo>
                    <a:pt x="0" y="0"/>
                  </a:lnTo>
                  <a:lnTo>
                    <a:pt x="0" y="1248"/>
                  </a:lnTo>
                  <a:lnTo>
                    <a:pt x="144" y="1248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F36F9-C135-456C-BCEE-4554C6DDC9A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37960" y="2181240"/>
            <a:ext cx="8772840" cy="453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entium Blocked Matrix Multiply Performance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Blocking (bijk and bikj) improves performance by a factor of two over unblocked versions (ijk and jik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relatively insensitive to array size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790560" y="2276640"/>
          <a:ext cx="7815240" cy="534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0560" y="2276640"/>
                    <a:ext cx="7815240" cy="53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1ABF2-516A-404D-AEF2-5AEBFC47315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2640" y="1218960"/>
            <a:ext cx="7715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All systems favor “cache friendly code”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Can get most of the advantage with generic optimizations: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Keep working set reasonably small (temporal locality)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Use small strides (spatial locality)</a:t>
            </a: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Getting absolute optimum performance is very platform specific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Cache sizes, Line sizes, Associativities, etc.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88600-E3C6-4D7D-A9F8-F12969B9C20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Lab 4 Reminder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Due: Thursday, Oct 24, 11:59pm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ubmission i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nline *NOT* automatic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Class web page &gt; Labs &gt; L4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http://www.cs.cmu.edu/afs/cs/academic/class/15213-f02/www/L4.html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47615-F662-4382-9135-0A0C54C206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73160" y="525240"/>
            <a:ext cx="485280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oop Unrolling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411960" y="1444320"/>
            <a:ext cx="26654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Combine multiple iterations into single loop body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223920" indent="-22392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Amortizes loop overhead across multiple iteration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223920" indent="-22392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Finish extras at end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11680" y="1092240"/>
            <a:ext cx="5256360" cy="50266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combine5(vec_ptr v, int *d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length = vec_length(v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limit = length-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*data = get_vec_start(v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Combine 3 elements at a time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 = 0; i &lt; limit; i+=3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 += data[i] + data[i+1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+ data[i+2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Finish any remaining elements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; i &lt; length; 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 += data[i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dest = su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5B9FA-757D-4C22-BD01-7E9EE1202F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Practice Problem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Problem 5.12 and 5.13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01FDC-FA94-42CF-9637-AF520EFE67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Solution 5.12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819000"/>
            <a:ext cx="8229600" cy="594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void inner5(vec_ptr u, vec_ptr v, data_t *dest)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{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t length = vec_length(u)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t limit = length-3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data_t *udata = get_vec_start(u)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data_t *vdata = get_vec_start(v)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data_t sum = (data_t) 0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/* Do four elements at a time */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or (i = 0; i &lt; limit; i+=4) {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um += udata[i]*vdata[i] + udata[i+1]*vdata[i+1]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+ udata[i+2]*vdata[i+2] + udata[i+3]*vdata[i+3]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/* Finish off any remaining elements */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or (; i &lt; length; i++)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um += udata[i] * vdata[i]; 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*dest = sum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CAF03-31F8-4AE3-B455-B74465343C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Solution 5.12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A. We must perform two loads per element to read values for udata and vdata. There is only one unit to perform these loads, and it requires one cycle.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B. The performance for floating point is still limited by the 3 cycle latency of the floating-point adder.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116C0-B70C-4173-961E-FC8C5BF628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Solution 5.13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836640"/>
            <a:ext cx="8229600" cy="576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2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void inner6(vec_ptr u, vec_ptr v, data_t *dest) 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102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{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102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t length = vec_length(u)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102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t limit = length-3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102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data_t *udata = get_vec_start(u)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102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data_t *vdata = get_vec_start(v)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102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data_t sum0 = (data_t) 0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102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data_t sum1 = (data_t) 0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102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/* Do four elements at a time */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102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or (i = 0; i &lt; limit; i+=4) {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102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um0 += udata[i] * vdata[i]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102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um1 += udata[i+1] * vdata[i+1]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102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um0 += udata[i+2] * vdata[i+2]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102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um1 += udata[i+3] * vdata[i+3]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102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102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/* Finish off any remaining elements */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102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or (; i &lt; length; i++)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102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um0 = sum0 + udata[i] * vdata[i]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102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*dest = sum0 + sum1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102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C411A-D065-45E1-B29E-6599529FBB7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Solution 5.13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04640" y="1314360"/>
            <a:ext cx="738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For each element, we must perform two loads with a unit that can only load one value per clock cycle.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We must also perform one floating-point multiplication with a unit that can only perform one multiplication every two clock cycles.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Both of these factors limit the CPE to 2.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095D3-2064-4504-8C3E-EAA2DD01BA2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Summary of Matrix Multiplication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23920" y="2724120"/>
            <a:ext cx="2666880" cy="2785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(i=0; i&lt;n; i++) 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(j=0; j&lt;n; j++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m = 0.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(k=0; k&lt;n; k++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m += a[i][k] * b[k][j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[i][j] = sum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19600" y="1428840"/>
            <a:ext cx="245700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jk (&amp; jik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loads, 0 st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es/iter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43440" y="2724120"/>
            <a:ext cx="2361960" cy="2785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(k=0; k&lt;n; k++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(i=0; i&lt;n; i++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 = a[i][k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(j=0; j&lt;n; j+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[i][j] += r * b[k][j];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381720" y="2724120"/>
            <a:ext cx="2438280" cy="2572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(j=0; j&lt;n; j++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(k=0; k&lt;n; k++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 = b[k][j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(i=0; i&lt;n; i+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[i][j] += a[i][k] * 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10520" y="1428840"/>
            <a:ext cx="231516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ij (&amp; ikj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loads, 1 s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es/iter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225120" y="1428840"/>
            <a:ext cx="231516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ki (&amp; kji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loads, 1 s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es/iter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ACD83-E32C-4D1D-A6CA-8C721493F90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himin</cp:lastModifiedBy>
  <dcterms:modified xsi:type="dcterms:W3CDTF">2002-10-21T15:52:08Z</dcterms:modified>
  <cp:revision>399</cp:revision>
  <dc:subject/>
  <dc:title>PowerPoint Presentation</dc:title>
</cp:coreProperties>
</file>