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424800" cy="69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8456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5336640" y="-360"/>
            <a:ext cx="408492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981160" y="519120"/>
            <a:ext cx="3461040" cy="259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2840" y="3287520"/>
            <a:ext cx="7537680" cy="3114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6575040"/>
            <a:ext cx="408456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5336640" y="6575040"/>
            <a:ext cx="408492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276F38F-9560-4C5A-A134-8182BEA56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6640" y="6575040"/>
            <a:ext cx="408492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5163A84-CCB7-4DDA-92D2-097900C74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6575040"/>
            <a:ext cx="408456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-360"/>
            <a:ext cx="408456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6640" y="-360"/>
            <a:ext cx="408492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987640" y="523800"/>
            <a:ext cx="3448080" cy="25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257120" y="3287520"/>
            <a:ext cx="6908760" cy="31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D0EB-90C2-4975-8691-CDD763A74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3D85-D73A-4CDE-ABCC-38081E55E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F999-9BF8-4185-BA3C-79E5BC776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CDB1-3ED5-4550-89B5-4B340974B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9A2E-29F9-4363-9643-BA063A6F8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8DA3-3981-44C8-A305-1FAE7CB0B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1468-71CE-4B03-953E-82A28A838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0E5D-38A1-4FCD-8743-D0EA07CA0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DAEF-BC8B-43EC-AC14-58100B92D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2D44-F3E6-45FB-9888-9FB8EBD2F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B4AD-3F31-43CE-BAB1-074EA2B54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0D67-88BD-4A8A-B797-A304C0E6A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58DC-315F-4DF3-8789-26CF7604907C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oop Unroll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lock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92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Oct. 21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mproving Temporal Locality by Block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85560" y="1199880"/>
            <a:ext cx="762948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xample: Blocked matrix multiplica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lock” (in this context) does not mean “cache block”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stead, it mean a sub-block within the matrix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xample: N = 8; sub-block size = 4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704960" y="3200400"/>
            <a:ext cx="6508800" cy="2700720"/>
            <a:chOff x="1704960" y="3200400"/>
            <a:chExt cx="6508800" cy="2700720"/>
          </a:xfrm>
        </p:grpSpPr>
        <p:sp>
          <p:nvSpPr>
            <p:cNvPr id="120" name=""/>
            <p:cNvSpPr/>
            <p:nvPr/>
          </p:nvSpPr>
          <p:spPr>
            <a:xfrm>
              <a:off x="1898640" y="4876920"/>
              <a:ext cx="4897440" cy="10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= 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1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= 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= 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1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= 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6960" y="3224160"/>
              <a:ext cx="801720" cy="78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795680" y="3200400"/>
              <a:ext cx="215280" cy="838080"/>
              <a:chOff x="1795680" y="3200400"/>
              <a:chExt cx="215280" cy="838080"/>
            </a:xfrm>
          </p:grpSpPr>
          <p:sp>
            <p:nvSpPr>
              <p:cNvPr id="123" name=""/>
              <p:cNvSpPr/>
              <p:nvPr/>
            </p:nvSpPr>
            <p:spPr>
              <a:xfrm>
                <a:off x="1795680" y="3213000"/>
                <a:ext cx="0" cy="81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807920" y="3200400"/>
                <a:ext cx="20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07920" y="4038480"/>
                <a:ext cx="20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709720" y="3200400"/>
              <a:ext cx="228960" cy="838080"/>
              <a:chOff x="2709720" y="3200400"/>
              <a:chExt cx="228960" cy="838080"/>
            </a:xfrm>
          </p:grpSpPr>
          <p:sp>
            <p:nvSpPr>
              <p:cNvPr id="127" name=""/>
              <p:cNvSpPr/>
              <p:nvPr/>
            </p:nvSpPr>
            <p:spPr>
              <a:xfrm flipV="1">
                <a:off x="2938680" y="3200400"/>
                <a:ext cx="0" cy="83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2709720" y="403848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2709720" y="32004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543120" y="3224160"/>
              <a:ext cx="801720" cy="78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471840" y="3200400"/>
              <a:ext cx="215640" cy="838080"/>
              <a:chOff x="3471840" y="3200400"/>
              <a:chExt cx="215640" cy="838080"/>
            </a:xfrm>
          </p:grpSpPr>
          <p:sp>
            <p:nvSpPr>
              <p:cNvPr id="132" name=""/>
              <p:cNvSpPr/>
              <p:nvPr/>
            </p:nvSpPr>
            <p:spPr>
              <a:xfrm>
                <a:off x="3471840" y="3213000"/>
                <a:ext cx="0" cy="81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484440" y="3200400"/>
                <a:ext cx="20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84440" y="4038480"/>
                <a:ext cx="20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309920" y="3200400"/>
              <a:ext cx="228960" cy="838080"/>
              <a:chOff x="4309920" y="3200400"/>
              <a:chExt cx="228960" cy="838080"/>
            </a:xfrm>
          </p:grpSpPr>
          <p:sp>
            <p:nvSpPr>
              <p:cNvPr id="136" name=""/>
              <p:cNvSpPr/>
              <p:nvPr/>
            </p:nvSpPr>
            <p:spPr>
              <a:xfrm flipV="1">
                <a:off x="4538880" y="3200400"/>
                <a:ext cx="0" cy="83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309920" y="403848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309920" y="32004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076560" y="35290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75680" y="3452760"/>
              <a:ext cx="335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3680" y="3224160"/>
              <a:ext cx="820440" cy="78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5072040" y="3200400"/>
              <a:ext cx="215640" cy="838080"/>
              <a:chOff x="5072040" y="3200400"/>
              <a:chExt cx="215640" cy="838080"/>
            </a:xfrm>
          </p:grpSpPr>
          <p:sp>
            <p:nvSpPr>
              <p:cNvPr id="143" name=""/>
              <p:cNvSpPr/>
              <p:nvPr/>
            </p:nvSpPr>
            <p:spPr>
              <a:xfrm>
                <a:off x="5072040" y="3213000"/>
                <a:ext cx="0" cy="81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084640" y="3200400"/>
                <a:ext cx="20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084640" y="4038480"/>
                <a:ext cx="20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910120" y="3200400"/>
              <a:ext cx="228960" cy="838080"/>
              <a:chOff x="5910120" y="3200400"/>
              <a:chExt cx="228960" cy="83808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6139080" y="3200400"/>
                <a:ext cx="0" cy="83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910120" y="403848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5910120" y="32004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1704960" y="4257720"/>
              <a:ext cx="650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Key idea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ub-blocks (i.e.,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x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 can be treated just like scalar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6B67-AE79-46CE-9F74-B53D5856C1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locked Matrix Multiply (bijk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4680" y="1136520"/>
            <a:ext cx="69008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j=0; jj&lt;n; jj+=bsiz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jj; j &lt; min(jj+bsize,n)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= 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k=0; kk&lt;n; kk+=bsize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j=jj; j &lt; min(jj+bsize,n); j++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=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k=kk; k &lt; min(kk+bsize,n)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85880" y="2971800"/>
            <a:ext cx="230400" cy="1677960"/>
          </a:xfrm>
          <a:custGeom>
            <a:avLst/>
            <a:gdLst/>
            <a:ahLst/>
            <a:rect l="l" t="t" r="r" b="b"/>
            <a:pathLst>
              <a:path w="145" h="1057">
                <a:moveTo>
                  <a:pt x="96" y="0"/>
                </a:moveTo>
                <a:lnTo>
                  <a:pt x="0" y="0"/>
                </a:lnTo>
                <a:lnTo>
                  <a:pt x="0" y="1056"/>
                </a:lnTo>
                <a:lnTo>
                  <a:pt x="144" y="10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14560" y="5429160"/>
            <a:ext cx="7667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690840" indent="-2656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vides temporal locality as block is reused multiple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onstant cach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5017-733B-4134-A216-B3512DB7BCF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locked Matrix Multiply Analysi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61560" y="1157040"/>
            <a:ext cx="787716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nermost loop pair multiplies a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1 X bsiz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sliver of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by a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bsize X bsiz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block of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and accumulates into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1 X bsiz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sliver of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oop over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steps through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row slivers of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&amp;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, using same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82720" y="4214880"/>
            <a:ext cx="7226280" cy="2013840"/>
            <a:chOff x="1782720" y="4214880"/>
            <a:chExt cx="7226280" cy="2013840"/>
          </a:xfrm>
        </p:grpSpPr>
        <p:sp>
          <p:nvSpPr>
            <p:cNvPr id="158" name=""/>
            <p:cNvSpPr/>
            <p:nvPr/>
          </p:nvSpPr>
          <p:spPr>
            <a:xfrm>
              <a:off x="4051440" y="4552920"/>
              <a:ext cx="596880" cy="5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45200" y="4552920"/>
              <a:ext cx="596880" cy="5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13760" y="4552920"/>
              <a:ext cx="596880" cy="5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57640" y="513396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76960" y="513396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21480" y="513396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5280" y="5591160"/>
              <a:ext cx="2260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ock reused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imes in succ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294360" y="4648320"/>
              <a:ext cx="712800" cy="61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1680" y="4559400"/>
              <a:ext cx="203040" cy="20340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82720" y="5302440"/>
              <a:ext cx="21718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 sliver acces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siz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i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5365440" y="4838760"/>
              <a:ext cx="9720" cy="70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13440" y="5257800"/>
              <a:ext cx="2095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date succes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ments of sl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712200" y="4711320"/>
              <a:ext cx="59688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72040" y="473724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3960" y="474840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34360" y="473724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96280" y="474840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4842000" y="4508640"/>
              <a:ext cx="361440" cy="736560"/>
              <a:chOff x="4842000" y="4508640"/>
              <a:chExt cx="361440" cy="736560"/>
            </a:xfrm>
          </p:grpSpPr>
          <p:sp>
            <p:nvSpPr>
              <p:cNvPr id="176" name=""/>
              <p:cNvSpPr/>
              <p:nvPr/>
            </p:nvSpPr>
            <p:spPr>
              <a:xfrm>
                <a:off x="5010120" y="4508640"/>
                <a:ext cx="0" cy="73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42000" y="4595760"/>
                <a:ext cx="361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k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6419880" y="4635720"/>
              <a:ext cx="203400" cy="759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57920" y="4635720"/>
              <a:ext cx="203040" cy="759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4032360" y="4214880"/>
              <a:ext cx="736560" cy="302040"/>
              <a:chOff x="4032360" y="4214880"/>
              <a:chExt cx="736560" cy="302040"/>
            </a:xfrm>
          </p:grpSpPr>
          <p:sp>
            <p:nvSpPr>
              <p:cNvPr id="181" name=""/>
              <p:cNvSpPr/>
              <p:nvPr/>
            </p:nvSpPr>
            <p:spPr>
              <a:xfrm>
                <a:off x="4032360" y="4343400"/>
                <a:ext cx="73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156560" y="4214880"/>
                <a:ext cx="361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k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6394680" y="4214880"/>
              <a:ext cx="736560" cy="302040"/>
              <a:chOff x="6394680" y="4214880"/>
              <a:chExt cx="736560" cy="302040"/>
            </a:xfrm>
          </p:grpSpPr>
          <p:sp>
            <p:nvSpPr>
              <p:cNvPr id="184" name=""/>
              <p:cNvSpPr/>
              <p:nvPr/>
            </p:nvSpPr>
            <p:spPr>
              <a:xfrm>
                <a:off x="6394680" y="4343400"/>
                <a:ext cx="73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19960" y="4214880"/>
                <a:ext cx="2606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175360" y="4214880"/>
              <a:ext cx="736560" cy="302040"/>
              <a:chOff x="5175360" y="4214880"/>
              <a:chExt cx="736560" cy="302040"/>
            </a:xfrm>
          </p:grpSpPr>
          <p:sp>
            <p:nvSpPr>
              <p:cNvPr id="187" name=""/>
              <p:cNvSpPr/>
              <p:nvPr/>
            </p:nvSpPr>
            <p:spPr>
              <a:xfrm>
                <a:off x="5175360" y="4343400"/>
                <a:ext cx="73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301000" y="4214880"/>
                <a:ext cx="2606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197000" y="2325600"/>
            <a:ext cx="6900840" cy="2557800"/>
            <a:chOff x="1197000" y="2325600"/>
            <a:chExt cx="6900840" cy="2557800"/>
          </a:xfrm>
        </p:grpSpPr>
        <p:sp>
          <p:nvSpPr>
            <p:cNvPr id="190" name=""/>
            <p:cNvSpPr/>
            <p:nvPr/>
          </p:nvSpPr>
          <p:spPr>
            <a:xfrm>
              <a:off x="1197000" y="2325600"/>
              <a:ext cx="6900840" cy="25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n; i++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j=jj; j &lt; min(jj+bsize,n); j++) {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= 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k=kk; k &lt; min(kk+bsize,n); k++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+= a[i][k] * b[k][j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c[i][j] += su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76680" y="2665440"/>
              <a:ext cx="230040" cy="1982880"/>
            </a:xfrm>
            <a:custGeom>
              <a:avLst/>
              <a:gdLst/>
              <a:ahLst/>
              <a:rect l="l" t="t" r="r" b="b"/>
              <a:pathLst>
                <a:path w="145" h="1249">
                  <a:moveTo>
                    <a:pt x="96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144" y="124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4882-F42C-425F-81EF-04DC940DFFE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37960" y="2181240"/>
            <a:ext cx="8772840" cy="453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entium Blocked Matrix Multiply Performanc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locking (bijk and bikj) improves performance by a factor of two over unblocked versions (ijk and jik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latively insensitive to array size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90560" y="2276640"/>
          <a:ext cx="781524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2276640"/>
                    <a:ext cx="7815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EE7C4-ADA0-4C11-A416-7E2BA64CC9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ll systems favor “cache friendly code”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an get most of the advantage with generic optimizations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Keep working set reasonably small (temporal locality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Use small strides (spatial locality)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etting absolute optimum performance is very platform specifi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ache sizes, Line sizes, Associativities, etc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249B8-F7E2-4AA8-94CC-5EF179E5D8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ab 4 Remind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ue: Thursday, Oct 24, 11:59pm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ubmission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line *NOT* automatic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lass web page &gt; Labs &gt; L4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http://www.cs.cmu.edu/afs/cs/academic/class/15213-f02/www/L4.htm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86DF-4EC6-4F4F-8A09-29970464B0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3160" y="525240"/>
            <a:ext cx="48528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oop Unroll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11960" y="1444320"/>
            <a:ext cx="2665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ombine multiple iterations into single loop bod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mortizes loop overhead across multiple itera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nish extras at en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11680" y="1092240"/>
            <a:ext cx="5256360" cy="502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5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imit = length-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bine 3 elements at a tim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imit; i+=3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 + data[i+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data[i+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0C6F-8166-4734-A097-3E0A90A936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actice Proble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oblem 5.12 and 5.13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8C15-64E2-4C60-A3D1-CEF7A5553C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olution 5.1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819000"/>
            <a:ext cx="822960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id inner5(vec_ptr u, vec_ptr v, data_t *dest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{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length = vec_length(u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limit = length-3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*udata = get_vec_start(u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*vdata = get_vec_start(v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sum = (data_t) 0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/* Do four elements at a time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or (i = 0; i &lt; limit; i+=4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 += udata[i]*vdata[i] + udata[i+1]*vdata[i+1]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+ udata[i+2]*vdata[i+2] + udata[i+3]*vdata[i+3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/* Finish off any remaining elements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or (; i &lt; length; i++)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 += udata[i] * vdata[i]; 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8F8A-0B80-4694-8D0E-7E923DBB06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olution 5.1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. We must perform two loads per element to read values for udata and vdata. There is only one unit to perform these loads, and it requires one cycle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. The performance for floating point is still limited by the 3 cycle latency of the floating-point adder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F27BA-8698-46BA-99F0-11CB6174E7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olution 5.13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836640"/>
            <a:ext cx="8229600" cy="576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id inner6(vec_ptr u, vec_ptr v, data_t *dest) 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{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length = vec_length(u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limit = length-3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*udata = get_vec_start(u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*vdata = get_vec_start(v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sum0 = (data_t) 0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sum1 = (data_t) 0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/* Do four elements at a time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or (i = 0; i &lt; limit; i+=4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0 += udata[i] * vdata[i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1 += udata[i+1] * vdata[i+1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0 += udata[i+2] * vdata[i+2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1 += udata[i+3] * vdata[i+3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/* Finish off any remaining elements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or (; i &lt; length; i++)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0 = sum0 + udata[i] * vdata[i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*dest = sum0 + sum1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C340-40D4-4DB1-9EAA-59CFB10C67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olution 5.13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04640" y="1314360"/>
            <a:ext cx="738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each element, we must perform two loads with a unit that can only load one value per clock cycle.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e must also perform one floating-point multiplication with a unit that can only perform one multiplication every two clock cycles.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oth of these factors limit the CPE to 2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AEAC-21AB-4E10-A373-DD0D860891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ummary of Matrix Multiplicatio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23920" y="2724120"/>
            <a:ext cx="2666880" cy="27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i=0; i&lt;n; i++)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 = 0.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k=0; k&lt;n; k++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 += a[i][k] * b[k]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[i][j] = 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9600" y="1428840"/>
            <a:ext cx="2457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jk (&amp; jik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0 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3440" y="2724120"/>
            <a:ext cx="2361960" cy="27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i=0; i&lt;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= a[i][k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j=0; j&lt;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[i][j] += r * b[k][j];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81720" y="2724120"/>
            <a:ext cx="243828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= b[k]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i=0; i&lt;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[i][j] += a[i][k] *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0520" y="142884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j (&amp; ikj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25120" y="142884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ki (&amp; kji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A80C-70CB-4228-9C3F-54FBBEC9225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0-21T15:52:08Z</dcterms:modified>
  <cp:revision>399</cp:revision>
  <dc:subject/>
  <dc:title>PowerPoint Presentation</dc:title>
</cp:coreProperties>
</file>