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8688696-F415-411A-A394-552030FA1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105F637-3F4D-49AD-9DF3-7DA33DC75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Figure 5.12 on page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page 44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04A3-1326-4A09-BD39-F54703001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6C78-DA5F-42A1-BE84-5B44FA3E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B57E-E9E6-4742-8008-E46A8904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15E7-836C-4ED0-9DB6-E2FAFA541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CA9C-0A93-43C4-8AF3-40DE77B0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205F-428D-4865-B44D-7C5BF782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89A7-736C-40A8-A7BE-667EC149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9900-771C-4E09-A9DD-0A04D2C3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A3D3-FCDF-4DFE-A4F0-89BE8E38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97D4-3216-4754-9AE8-0B85F3BF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7CBD-8D99-4CCF-AED9-36B3BA72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822C-1AF6-4F73-9602-9968B10A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214C-874C-4FA1-932B-19E4EFE3EFDD}" type="slidenum"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Recitation 7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Memory Access Pattern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drew Faulr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15213 Section 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21 October 2002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ummary of Matrix Multiplication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924280"/>
            <a:ext cx="2667240" cy="28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=0; i&lt;n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j=0; j&lt;n; j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m = 0.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k=0; k&lt;n; k++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m += a[i][k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b[k][j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[i][j] = su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8840" y="1628640"/>
            <a:ext cx="24570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jk (&amp; jik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0 s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2924280"/>
            <a:ext cx="2743200" cy="257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k=0; k&lt;n; k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=0; i&lt;n; i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 = a[i][k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j=0; j&lt;n; j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[i][j] += 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b[k][j]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5880" y="2924280"/>
            <a:ext cx="2743200" cy="257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j=0; j&lt;n; j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k=0; k&lt;n; k++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 = b[k][j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[i][j] +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[i][k] * 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4680" y="162864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j (&amp; ikj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39280" y="1628640"/>
            <a:ext cx="2315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ki (&amp; kji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loads, 1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es/iter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Improving Temporal Locality by Blocking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xample: Blocked matrix multiplicatio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lock” (in this context) does not mean “cache block”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stead, it mean a sub-block within the matrix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xample: N = 8; sub-block size = 4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"/>
          <p:cNvSpPr/>
          <p:nvPr/>
        </p:nvSpPr>
        <p:spPr>
          <a:xfrm>
            <a:off x="1348200" y="4876920"/>
            <a:ext cx="479988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1    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1          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 = 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+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Lucida Sans Unicode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0040" y="3224160"/>
            <a:ext cx="78516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28800" y="3200400"/>
            <a:ext cx="215280" cy="838080"/>
            <a:chOff x="928800" y="3200400"/>
            <a:chExt cx="215280" cy="838080"/>
          </a:xfrm>
        </p:grpSpPr>
        <p:sp>
          <p:nvSpPr>
            <p:cNvPr id="79" name=""/>
            <p:cNvSpPr/>
            <p:nvPr/>
          </p:nvSpPr>
          <p:spPr>
            <a:xfrm>
              <a:off x="928800" y="3213000"/>
              <a:ext cx="0" cy="81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41040" y="32004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41040" y="40384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842840" y="3200400"/>
            <a:ext cx="228960" cy="838080"/>
            <a:chOff x="1842840" y="3200400"/>
            <a:chExt cx="228960" cy="838080"/>
          </a:xfrm>
        </p:grpSpPr>
        <p:sp>
          <p:nvSpPr>
            <p:cNvPr id="83" name=""/>
            <p:cNvSpPr/>
            <p:nvPr/>
          </p:nvSpPr>
          <p:spPr>
            <a:xfrm flipV="1">
              <a:off x="2071800" y="320040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1842840" y="40384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842840" y="3200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694240" y="3224160"/>
            <a:ext cx="78804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B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604960" y="3200400"/>
            <a:ext cx="215640" cy="838080"/>
            <a:chOff x="2604960" y="3200400"/>
            <a:chExt cx="215640" cy="838080"/>
          </a:xfrm>
        </p:grpSpPr>
        <p:sp>
          <p:nvSpPr>
            <p:cNvPr id="88" name=""/>
            <p:cNvSpPr/>
            <p:nvPr/>
          </p:nvSpPr>
          <p:spPr>
            <a:xfrm>
              <a:off x="2604960" y="3213000"/>
              <a:ext cx="0" cy="81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17560" y="32004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17560" y="40384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443040" y="3200400"/>
            <a:ext cx="228960" cy="838080"/>
            <a:chOff x="3443040" y="3200400"/>
            <a:chExt cx="228960" cy="838080"/>
          </a:xfrm>
        </p:grpSpPr>
        <p:sp>
          <p:nvSpPr>
            <p:cNvPr id="92" name=""/>
            <p:cNvSpPr/>
            <p:nvPr/>
          </p:nvSpPr>
          <p:spPr>
            <a:xfrm flipV="1">
              <a:off x="3672000" y="320040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3443040" y="40384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443040" y="3200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212560" y="3529080"/>
            <a:ext cx="286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28600" y="3452760"/>
            <a:ext cx="334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18560" y="3224160"/>
            <a:ext cx="78156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Lucida Sans Unicode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205160" y="3200400"/>
            <a:ext cx="215640" cy="838080"/>
            <a:chOff x="4205160" y="3200400"/>
            <a:chExt cx="215640" cy="838080"/>
          </a:xfrm>
        </p:grpSpPr>
        <p:sp>
          <p:nvSpPr>
            <p:cNvPr id="99" name=""/>
            <p:cNvSpPr/>
            <p:nvPr/>
          </p:nvSpPr>
          <p:spPr>
            <a:xfrm>
              <a:off x="4205160" y="3213000"/>
              <a:ext cx="0" cy="81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17760" y="320040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17760" y="4038480"/>
              <a:ext cx="203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043240" y="3200400"/>
            <a:ext cx="228960" cy="838080"/>
            <a:chOff x="5043240" y="3200400"/>
            <a:chExt cx="228960" cy="838080"/>
          </a:xfrm>
        </p:grpSpPr>
        <p:sp>
          <p:nvSpPr>
            <p:cNvPr id="103" name=""/>
            <p:cNvSpPr/>
            <p:nvPr/>
          </p:nvSpPr>
          <p:spPr>
            <a:xfrm flipV="1">
              <a:off x="5272200" y="320040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043240" y="40384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043240" y="320040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838080" y="4257720"/>
            <a:ext cx="72392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Lucida Sans Unicode"/>
              </a:rPr>
              <a:t>Key idea: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Sub-blocks (i.e.,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Lucida Sans Unicode"/>
              </a:rPr>
              <a:t>xy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) can be treated just like scal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Blocked Matrix Multiply (bijk)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"/>
          <p:cNvSpPr/>
          <p:nvPr/>
        </p:nvSpPr>
        <p:spPr>
          <a:xfrm>
            <a:off x="920880" y="1336680"/>
            <a:ext cx="690084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j=0; jj&lt;n; jj+=bsiz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j=jj; j &lt; min(jj+bsize,n); j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i][j] = 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kk=0; kk&lt;n; kk+=bsize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 (j=jj; j &lt; min(jj+bsize,n); j++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= 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for (k=kk; k &lt; min(kk+bsize,n); k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um += a[i][k] * b[k][j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[i][j] += su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3124080"/>
            <a:ext cx="230400" cy="1677960"/>
          </a:xfrm>
          <a:custGeom>
            <a:avLst/>
            <a:gdLst/>
            <a:ahLst/>
            <a:rect l="l" t="t" r="r" b="b"/>
            <a:pathLst>
              <a:path w="145" h="1057">
                <a:moveTo>
                  <a:pt x="96" y="0"/>
                </a:moveTo>
                <a:lnTo>
                  <a:pt x="0" y="0"/>
                </a:lnTo>
                <a:lnTo>
                  <a:pt x="0" y="1056"/>
                </a:lnTo>
                <a:lnTo>
                  <a:pt x="144" y="1056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594360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lvl="1" marL="482760" indent="-18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rovides temporal locality as block is reused multiple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onstant cache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18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46480" y="480060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Blocked Matrix Multiply Analysi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328760"/>
            <a:ext cx="8686800" cy="52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Innermost loop pair multiplies a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1 X bsiz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sliver of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by a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bsize X bsiz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block of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and accumulates into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1 X bsize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sliver of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Loop over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steps through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row slivers of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&amp;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, using same </a:t>
            </a:r>
            <a:r>
              <a:rPr b="0" i="1" lang="en-US" sz="2000" spc="-1" strike="noStrike">
                <a:solidFill>
                  <a:srgbClr val="000000"/>
                </a:solidFill>
                <a:latin typeface="Lucida Sans Unicode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"/>
          <p:cNvSpPr/>
          <p:nvPr/>
        </p:nvSpPr>
        <p:spPr>
          <a:xfrm>
            <a:off x="5340240" y="480060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08800" y="4800600"/>
            <a:ext cx="59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53040" y="538164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72000" y="538164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16880" y="538164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49840" y="6219720"/>
            <a:ext cx="2489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lock reused </a:t>
            </a:r>
            <a:r>
              <a:rPr b="1" i="1" lang="en-US" sz="1800" spc="-1" strike="noStrike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times in suc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5360" y="4895640"/>
            <a:ext cx="636840" cy="982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46720" y="4807080"/>
            <a:ext cx="203040" cy="20304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39960" y="5940360"/>
            <a:ext cx="22478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row sliver ac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Lucida Sans Unicode"/>
              </a:rPr>
              <a:t>bsize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460840" y="508608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96160" y="5838840"/>
            <a:ext cx="2153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pdate succ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elements of s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6807240" y="4959000"/>
            <a:ext cx="558720" cy="787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7080" y="4984920"/>
            <a:ext cx="0" cy="355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29000" y="499572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4984920"/>
            <a:ext cx="0" cy="355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91320" y="499572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937400" y="4756320"/>
            <a:ext cx="361440" cy="736560"/>
            <a:chOff x="4937400" y="4756320"/>
            <a:chExt cx="361440" cy="736560"/>
          </a:xfrm>
        </p:grpSpPr>
        <p:sp>
          <p:nvSpPr>
            <p:cNvPr id="131" name=""/>
            <p:cNvSpPr/>
            <p:nvPr/>
          </p:nvSpPr>
          <p:spPr>
            <a:xfrm>
              <a:off x="5105520" y="475632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37400" y="4843440"/>
              <a:ext cx="361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6515280" y="4883040"/>
            <a:ext cx="203040" cy="7632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52960" y="4883040"/>
            <a:ext cx="203040" cy="76320"/>
          </a:xfrm>
          <a:prstGeom prst="rect">
            <a:avLst/>
          </a:prstGeom>
          <a:solidFill>
            <a:srgbClr val="8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127400" y="4462560"/>
            <a:ext cx="736560" cy="302040"/>
            <a:chOff x="4127400" y="4462560"/>
            <a:chExt cx="736560" cy="302040"/>
          </a:xfrm>
        </p:grpSpPr>
        <p:sp>
          <p:nvSpPr>
            <p:cNvPr id="136" name=""/>
            <p:cNvSpPr/>
            <p:nvPr/>
          </p:nvSpPr>
          <p:spPr>
            <a:xfrm>
              <a:off x="4127400" y="459108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51600" y="4462560"/>
              <a:ext cx="3614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k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489720" y="4462560"/>
            <a:ext cx="736560" cy="302040"/>
            <a:chOff x="6489720" y="4462560"/>
            <a:chExt cx="736560" cy="302040"/>
          </a:xfrm>
        </p:grpSpPr>
        <p:sp>
          <p:nvSpPr>
            <p:cNvPr id="139" name=""/>
            <p:cNvSpPr/>
            <p:nvPr/>
          </p:nvSpPr>
          <p:spPr>
            <a:xfrm>
              <a:off x="6489720" y="459108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15000" y="4462560"/>
              <a:ext cx="2606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270400" y="4462560"/>
            <a:ext cx="736560" cy="302040"/>
            <a:chOff x="5270400" y="4462560"/>
            <a:chExt cx="736560" cy="302040"/>
          </a:xfrm>
        </p:grpSpPr>
        <p:sp>
          <p:nvSpPr>
            <p:cNvPr id="142" name=""/>
            <p:cNvSpPr/>
            <p:nvPr/>
          </p:nvSpPr>
          <p:spPr>
            <a:xfrm>
              <a:off x="5270400" y="4591080"/>
              <a:ext cx="73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96040" y="4462560"/>
              <a:ext cx="2606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768240" y="2697120"/>
            <a:ext cx="6900840" cy="2557800"/>
            <a:chOff x="768240" y="2697120"/>
            <a:chExt cx="6900840" cy="2557800"/>
          </a:xfrm>
        </p:grpSpPr>
        <p:sp>
          <p:nvSpPr>
            <p:cNvPr id="145" name=""/>
            <p:cNvSpPr/>
            <p:nvPr/>
          </p:nvSpPr>
          <p:spPr>
            <a:xfrm>
              <a:off x="768240" y="2697120"/>
              <a:ext cx="6900840" cy="25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i=0; i&lt;n; i++) 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for (j=jj; j &lt; min(jj+bsize,n); j++) {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sum = 0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for (k=kk; k &lt; min(kk+bsize,n); k++) 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sum += a[i][k] * b[k][j]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c[i][j] += sum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47920" y="3036960"/>
              <a:ext cx="230040" cy="1982880"/>
            </a:xfrm>
            <a:custGeom>
              <a:avLst/>
              <a:gdLst/>
              <a:ahLst/>
              <a:rect l="l" t="t" r="r" b="b"/>
              <a:pathLst>
                <a:path w="145" h="1249">
                  <a:moveTo>
                    <a:pt x="96" y="0"/>
                  </a:moveTo>
                  <a:lnTo>
                    <a:pt x="0" y="0"/>
                  </a:lnTo>
                  <a:lnTo>
                    <a:pt x="0" y="1248"/>
                  </a:lnTo>
                  <a:lnTo>
                    <a:pt x="144" y="124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 flipH="1">
            <a:off x="914400" y="3575160"/>
            <a:ext cx="533520" cy="43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0720" y="4019400"/>
            <a:ext cx="1251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Innerm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Loop P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Pentium Blocked Matri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Multiply Performanc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locking (bijk and bikj) improves performance by a factor of two over unblocked versions (ijk and jik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latively insensitive to array siz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33520" y="2505240"/>
          <a:ext cx="7815240" cy="53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05240"/>
                    <a:ext cx="781524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ll systems favor “cache friendly code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Getting absolute optimum performance is very platform specifi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ache sizes, line sizes, associativities, et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an get most of the advantage with generic cod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eep working set reasonably small (temporal locality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se small strides (spatial locality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Andrew Faulring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aulring@cs.cmu.edu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Office hours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SH 2504 (lab) / 2507 (conference room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ursday 5-6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ab 4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ue Thursday, 24 Oct @ 11:59p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ubmission is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onli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http://www2.cs.cmu.edu/afs/cs/academic/class/15213-f02/www/L4.htm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oop Unroll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Block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6880" y="401760"/>
            <a:ext cx="5138640" cy="8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Loop Unrolling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516640" y="1749600"/>
            <a:ext cx="36273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-22392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ptimiza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0520" indent="-22248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ombine multiple iterations into single loop bod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0520" indent="-22248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mortizes loop overhead across multiple itera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0520" indent="-22248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297180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nish extras at en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"/>
          <p:cNvSpPr/>
          <p:nvPr/>
        </p:nvSpPr>
        <p:spPr>
          <a:xfrm>
            <a:off x="235440" y="1177920"/>
            <a:ext cx="5256360" cy="50266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ombine5(vec_ptr v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*d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ength = vec_length(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mit = length-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*data = get_vec_start(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um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Combine 3 elements at a time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i = 0; i &lt; limit; i+=3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data[i] + data[i+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data[i+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* Finish any remaining element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(; i &lt; length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data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dest = su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Practice Problem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roblem 5.12 and 5.13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olution 5.12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ner5(vec_ptr u, vec_ptr v, data_t *dest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ength = vec_length(u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imit = length-3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*udata = get_vec_start(u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*vdata = get_vec_start(v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sum = (data_t) 0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Do four elements at a time */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i = 0; i &lt; limit; i += 4) {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+= udata[i] * vdata[i] + udata[i+1] * vdata[i+1]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+ udata[i+2] * vdata[i+2] + udata[i+3] * vdata[i+3]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Finish off any remaining elements */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; i &lt; length; i++)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+= udata[i] * vdata[i]; 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dest = sum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olution 5.12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. We must perform two loads per element to read values f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data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data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. There is only one unit to perform these loads, and it requires one cycl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. The performance for floating point is still limited by the 3 cycle latency of the floating-point adder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olution 5.13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0820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ner6(vec_ptr u, vec_ptr v, data_t *dest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ength = vec_length(u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imit = length-3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*udata = get_vec_start(u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*vdata = get_vec_start(v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sum0 = (data_t) 0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_t sum1 = (data_t) 0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Do four elements at a time */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i = 0; i &lt; limit; i+=4) {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0 += udata[i] * vdata[i]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1 += udata[i+1] * vdata[i+1]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0 += udata[i+2] * vdata[i+2]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1 += udata[i+3] * vdata[i+3]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* Finish off any remaining elements */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; i &lt; length; i++)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0 = sum0 + udata[i] * vdata[i]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dest = sum0 + sum1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olution 5.13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r each element, we must perform two loads with a unit that can only load one value per clock cycle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e must also perform one floating-point multiplication with a unit that can only perform one multiplication every two clock cycle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Both of these factors limit the CPE to 2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1:46:12Z</dcterms:created>
  <dc:creator>Andrew Robert Faulring</dc:creator>
  <dc:description/>
  <dc:language>en-US</dc:language>
  <cp:lastModifiedBy>Andrew Robert Faulring</cp:lastModifiedBy>
  <dcterms:modified xsi:type="dcterms:W3CDTF">2002-10-21T03:14:23Z</dcterms:modified>
  <cp:revision>422</cp:revision>
  <dc:subject/>
  <dc:title>Slide 1</dc:title>
</cp:coreProperties>
</file>