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F1701DE-CCD7-4FB8-9D99-FF097CEC5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4FAB659-C1C6-4B29-854F-D119A686E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Figure 5.12 on page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page 4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B073-018C-4322-855B-E2B069E5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F39-0FDC-4609-A500-80E2BB44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884-1A21-4596-BD64-2CF1E9D2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F80-C03B-4B9C-8FCD-CB91C394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2E5-65AC-43C2-A67D-B43465FC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774-B77B-4238-92B8-97A71A5F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F24-C748-4A5E-BE49-AB40531F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C56-7038-48A1-9394-86D628F3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601-AF80-48F6-8611-7DB817F9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A52-48E8-4B14-8CA8-334C3F2E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3AD-F092-4A96-A541-7837AA7F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415-1FA9-4294-90EF-38816D8F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5FD1-5E5F-4FAF-92EA-57C32C14687E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citation 7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Memory Access Pattern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21 October 200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ummary of Matrix Multiplicatio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924280"/>
            <a:ext cx="2667240" cy="28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 =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k=0; k&lt;n; k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 += a[i][k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b[k][j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[i][j] = su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8840" y="162864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2924280"/>
            <a:ext cx="274320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= a[i][k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=0; j&lt;n; j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[i][j] +=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b[k][j]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2924280"/>
            <a:ext cx="274320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= b[k][j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[i][j] +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i][k] * 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4680" y="162864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39280" y="162864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Improving Temporal Locality by Block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ample: Blocked matrix multipli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lock” (in this context) does not mean “cache block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stead, it mean a sub-block within the matrix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ample: N = 8; sub-block size = 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"/>
          <p:cNvSpPr/>
          <p:nvPr/>
        </p:nvSpPr>
        <p:spPr>
          <a:xfrm>
            <a:off x="1348200" y="4876920"/>
            <a:ext cx="47998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0040" y="3224160"/>
            <a:ext cx="78516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28800" y="3200400"/>
            <a:ext cx="215280" cy="838080"/>
            <a:chOff x="928800" y="3200400"/>
            <a:chExt cx="215280" cy="838080"/>
          </a:xfrm>
        </p:grpSpPr>
        <p:sp>
          <p:nvSpPr>
            <p:cNvPr id="79" name=""/>
            <p:cNvSpPr/>
            <p:nvPr/>
          </p:nvSpPr>
          <p:spPr>
            <a:xfrm>
              <a:off x="92880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41040" y="32004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41040" y="4038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842840" y="3200400"/>
            <a:ext cx="228960" cy="838080"/>
            <a:chOff x="1842840" y="3200400"/>
            <a:chExt cx="228960" cy="838080"/>
          </a:xfrm>
        </p:grpSpPr>
        <p:sp>
          <p:nvSpPr>
            <p:cNvPr id="83" name=""/>
            <p:cNvSpPr/>
            <p:nvPr/>
          </p:nvSpPr>
          <p:spPr>
            <a:xfrm flipV="1">
              <a:off x="207180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84284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84284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694240" y="3224160"/>
            <a:ext cx="7880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604960" y="3200400"/>
            <a:ext cx="215640" cy="838080"/>
            <a:chOff x="2604960" y="3200400"/>
            <a:chExt cx="215640" cy="838080"/>
          </a:xfrm>
        </p:grpSpPr>
        <p:sp>
          <p:nvSpPr>
            <p:cNvPr id="88" name=""/>
            <p:cNvSpPr/>
            <p:nvPr/>
          </p:nvSpPr>
          <p:spPr>
            <a:xfrm>
              <a:off x="260496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17560" y="32004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17560" y="4038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443040" y="3200400"/>
            <a:ext cx="228960" cy="838080"/>
            <a:chOff x="3443040" y="3200400"/>
            <a:chExt cx="228960" cy="838080"/>
          </a:xfrm>
        </p:grpSpPr>
        <p:sp>
          <p:nvSpPr>
            <p:cNvPr id="92" name=""/>
            <p:cNvSpPr/>
            <p:nvPr/>
          </p:nvSpPr>
          <p:spPr>
            <a:xfrm flipV="1">
              <a:off x="367200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44304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44304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12560" y="3529080"/>
            <a:ext cx="286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28600" y="3452760"/>
            <a:ext cx="334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8560" y="3224160"/>
            <a:ext cx="78156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205160" y="3200400"/>
            <a:ext cx="215640" cy="838080"/>
            <a:chOff x="4205160" y="3200400"/>
            <a:chExt cx="215640" cy="838080"/>
          </a:xfrm>
        </p:grpSpPr>
        <p:sp>
          <p:nvSpPr>
            <p:cNvPr id="99" name=""/>
            <p:cNvSpPr/>
            <p:nvPr/>
          </p:nvSpPr>
          <p:spPr>
            <a:xfrm>
              <a:off x="420516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17760" y="32004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17760" y="4038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043240" y="3200400"/>
            <a:ext cx="228960" cy="838080"/>
            <a:chOff x="5043240" y="3200400"/>
            <a:chExt cx="228960" cy="838080"/>
          </a:xfrm>
        </p:grpSpPr>
        <p:sp>
          <p:nvSpPr>
            <p:cNvPr id="103" name=""/>
            <p:cNvSpPr/>
            <p:nvPr/>
          </p:nvSpPr>
          <p:spPr>
            <a:xfrm flipV="1">
              <a:off x="527220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04324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04324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838080" y="4257720"/>
            <a:ext cx="7239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Key idea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Sub-blocks (i.e.,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Sans Unicode"/>
              </a:rPr>
              <a:t>x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) can be treated just like scal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Blocked Matrix Multiply (bijk)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"/>
          <p:cNvSpPr/>
          <p:nvPr/>
        </p:nvSpPr>
        <p:spPr>
          <a:xfrm>
            <a:off x="920880" y="1336680"/>
            <a:ext cx="69008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j=0; jj&lt;n; jj+=bsiz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jj; j &lt; min(jj+bsize,n); j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k=0; kk&lt;n; kk+=bsiz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j=jj; j &lt; min(jj+bsize,n); j++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k=kk; k &lt; min(kk+bsize,n); k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3124080"/>
            <a:ext cx="23040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9436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lvl="1" marL="482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ovides temporal locality as block is reused multipl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nstant cache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46480" y="480060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Blocked Matrix Multiply Analysi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328760"/>
            <a:ext cx="8686800" cy="52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nermost loop pair multiplies a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1 X bsiz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sliver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by a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bsize X bsiz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block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nd accumulates into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1 X bsiz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sliver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oop ove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steps through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row slivers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&amp;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using sam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"/>
          <p:cNvSpPr/>
          <p:nvPr/>
        </p:nvSpPr>
        <p:spPr>
          <a:xfrm>
            <a:off x="5340240" y="480060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08800" y="480060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53040" y="5381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72000" y="5381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6880" y="53816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49840" y="6219720"/>
            <a:ext cx="2489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lock reused </a:t>
            </a:r>
            <a:r>
              <a:rPr b="1" i="1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times in su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5360" y="4895640"/>
            <a:ext cx="636840" cy="982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46720" y="4807080"/>
            <a:ext cx="203040" cy="20304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39960" y="5940360"/>
            <a:ext cx="224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ow sliver ac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Unicode"/>
              </a:rPr>
              <a:t>bsiz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460840" y="50860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96160" y="5838840"/>
            <a:ext cx="2153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pdate succ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lements of s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6807240" y="4959000"/>
            <a:ext cx="55872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4984920"/>
            <a:ext cx="0" cy="355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29000" y="49957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4984920"/>
            <a:ext cx="0" cy="355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91320" y="49957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937400" y="4756320"/>
            <a:ext cx="361440" cy="736560"/>
            <a:chOff x="4937400" y="4756320"/>
            <a:chExt cx="361440" cy="736560"/>
          </a:xfrm>
        </p:grpSpPr>
        <p:sp>
          <p:nvSpPr>
            <p:cNvPr id="131" name=""/>
            <p:cNvSpPr/>
            <p:nvPr/>
          </p:nvSpPr>
          <p:spPr>
            <a:xfrm>
              <a:off x="5105520" y="475632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37400" y="484344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515280" y="4883040"/>
            <a:ext cx="2030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52960" y="4883040"/>
            <a:ext cx="2030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127400" y="4462560"/>
            <a:ext cx="736560" cy="302040"/>
            <a:chOff x="4127400" y="4462560"/>
            <a:chExt cx="736560" cy="302040"/>
          </a:xfrm>
        </p:grpSpPr>
        <p:sp>
          <p:nvSpPr>
            <p:cNvPr id="136" name=""/>
            <p:cNvSpPr/>
            <p:nvPr/>
          </p:nvSpPr>
          <p:spPr>
            <a:xfrm>
              <a:off x="4127400" y="4591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51600" y="446256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489720" y="4462560"/>
            <a:ext cx="736560" cy="302040"/>
            <a:chOff x="6489720" y="4462560"/>
            <a:chExt cx="736560" cy="302040"/>
          </a:xfrm>
        </p:grpSpPr>
        <p:sp>
          <p:nvSpPr>
            <p:cNvPr id="139" name=""/>
            <p:cNvSpPr/>
            <p:nvPr/>
          </p:nvSpPr>
          <p:spPr>
            <a:xfrm>
              <a:off x="6489720" y="4591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15000" y="446256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270400" y="4462560"/>
            <a:ext cx="736560" cy="302040"/>
            <a:chOff x="5270400" y="4462560"/>
            <a:chExt cx="736560" cy="302040"/>
          </a:xfrm>
        </p:grpSpPr>
        <p:sp>
          <p:nvSpPr>
            <p:cNvPr id="142" name=""/>
            <p:cNvSpPr/>
            <p:nvPr/>
          </p:nvSpPr>
          <p:spPr>
            <a:xfrm>
              <a:off x="5270400" y="4591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96040" y="446256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68240" y="2697120"/>
            <a:ext cx="6900840" cy="2557800"/>
            <a:chOff x="768240" y="2697120"/>
            <a:chExt cx="6900840" cy="2557800"/>
          </a:xfrm>
        </p:grpSpPr>
        <p:sp>
          <p:nvSpPr>
            <p:cNvPr id="145" name=""/>
            <p:cNvSpPr/>
            <p:nvPr/>
          </p:nvSpPr>
          <p:spPr>
            <a:xfrm>
              <a:off x="768240" y="2697120"/>
              <a:ext cx="690084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n; i++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j=jj; j &lt; min(jj+bsize,n); j++) {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= 0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k=kk; k &lt; min(kk+bsize,n); k++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+= a[i][k] * b[k][j]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c[i][j] += sum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7920" y="3036960"/>
              <a:ext cx="230040" cy="1982880"/>
            </a:xfrm>
            <a:custGeom>
              <a:avLst/>
              <a:gdLst/>
              <a:ahLst/>
              <a:rect l="l" t="t" r="r" b="b"/>
              <a:pathLst>
                <a:path w="145" h="1249">
                  <a:moveTo>
                    <a:pt x="96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144" y="124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914400" y="3575160"/>
            <a:ext cx="53352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0720" y="4019400"/>
            <a:ext cx="125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Innerm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Loop 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entium Blocked Matri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Multiply Performanc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locking (bijk and bikj) improves performance by a factor of two over unblocked versions (ijk and jik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latively insensitive to array si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3520" y="250524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0524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ll systems favor “cache friendly code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etting absolute optimum performance is very platform specif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che sizes, line sizes, associativities, et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n get most of the advantage with generic cod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eep working set reasonably small (temporal loc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small strides (spatial loc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ffice hour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SH 2504 (lab) / 2507 (conference room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ursday 5-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b 4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ue Thursday, 24 Oct @ 11:59p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ubmission is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onli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http://www2.cs.cmu.edu/afs/cs/academic/class/15213-f02/www/L4.htm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oop Unroll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lock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6880" y="401760"/>
            <a:ext cx="513864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Loop Unroll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16640" y="1749600"/>
            <a:ext cx="36273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0520" indent="-2224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bine multiple iterations into single loop bod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0520" indent="-2224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mortizes loop overhead across multiple iter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0520" indent="-2224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nish extras at e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"/>
          <p:cNvSpPr/>
          <p:nvPr/>
        </p:nvSpPr>
        <p:spPr>
          <a:xfrm>
            <a:off x="235440" y="1177920"/>
            <a:ext cx="5256360" cy="502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mbine5(vec_ptr v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d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ength = vec_length(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mit = length-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data = get_vec_start(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 = 0; i &lt; limit; i+=3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 + data[i+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data[i+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; i &lt; 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ractice Problem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blem 5.12 and 5.1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olution 5.12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ner5(vec_ptr u, vec_ptr v, data_t *dest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ength = vec_length(u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imit = length-3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udata = get_vec_start(u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vdata = get_vec_start(v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 = (data_t) 0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Do four elements at a time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i = 0; i &lt; limit; i += 4) 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udata[i] * vdata[i] + udata[i+1] * vdata[i+1]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udata[i+2] * vdata[i+2] + udata[i+3] * vdata[i+3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nish off any remaining elements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; i &lt; length; i++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udata[i] * vdata[i];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olution 5.12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. We must perform two loads per element to read values f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dat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dat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. There is only one unit to perform these loads, and it requires one cycl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. The performance for floating point is still limited by the 3 cycle latency of the floating-point add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olution 5.13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08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ner6(vec_ptr u, vec_ptr v, data_t *dest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ength = vec_length(u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imit = length-3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udata = get_vec_start(u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vdata = get_vec_start(v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0 = (data_t) 0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1 = (data_t) 0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Do four elements at a time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i = 0; i &lt; limit; i+=4) 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+= udata[i] * vdata[i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1 += udata[i+1] * vdata[i+1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+= udata[i+2] * vdata[i+2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1 += udata[i+3] * vdata[i+3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nish off any remaining elements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; i &lt; length; i++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= sum0 + udata[i] * vdata[i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dest = sum0 + sum1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olution 5.13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r each element, we must perform two loads with a unit that can only load one value per clock cycl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 must also perform one floating-point multiplication with a unit that can only perform one multiplication every two clock cycl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oth of these factors limit the CPE to 2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10-21T03:14:23Z</dcterms:modified>
  <cp:revision>422</cp:revision>
  <dc:subject/>
  <dc:title>Slide 1</dc:title>
</cp:coreProperties>
</file>