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0D663B-9D59-49B7-8B58-CC9D3644B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AA8713-AD88-49F8-AD84-DFD3F52D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Figure 5.12 on 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page 4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F29-834F-485F-9630-5EB2A905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5E6-63EE-41CF-8AE6-81E56CF2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09B-3207-40C0-8662-2A791714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546-9475-4E40-B5D5-71041427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5C1-E90E-4714-AFFF-53E888C9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410-C91B-4CFE-8030-8AEB32F0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4A8-7B34-4696-A41D-66ED33DE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C92-9EC3-455B-B7A8-FE2A9CF1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181-3250-493D-ACFA-4276A8F6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187-382E-44EC-853A-8446CE6F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E78-DF93-47AC-B303-661AA2C1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844-3516-4897-A9C2-E16A38D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1649-4CBF-4F89-BE7E-66DD25AF3D02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itation 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Memory Access Pattern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1 October 20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mmary of Matrix Multiplicat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924280"/>
            <a:ext cx="2667240" cy="28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+= a[i][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b[k][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8840" y="162864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924280"/>
            <a:ext cx="274320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[i][j] +=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b[k][j]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2924280"/>
            <a:ext cx="274320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[i][j] +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i][k] * 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4680" y="16286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9280" y="16286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mproving Temporal Locality by Block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: Blocked matrix multipli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lock” (in this context) does not mean “cache block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stead, it mean a sub-block within the matrix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: N = 8; sub-block size = 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1348200" y="4876920"/>
            <a:ext cx="4799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0040" y="3224160"/>
            <a:ext cx="7851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28800" y="3200400"/>
            <a:ext cx="215280" cy="838080"/>
            <a:chOff x="928800" y="3200400"/>
            <a:chExt cx="215280" cy="838080"/>
          </a:xfrm>
        </p:grpSpPr>
        <p:sp>
          <p:nvSpPr>
            <p:cNvPr id="79" name=""/>
            <p:cNvSpPr/>
            <p:nvPr/>
          </p:nvSpPr>
          <p:spPr>
            <a:xfrm>
              <a:off x="92880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4104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104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842840" y="3200400"/>
            <a:ext cx="228960" cy="838080"/>
            <a:chOff x="1842840" y="3200400"/>
            <a:chExt cx="228960" cy="838080"/>
          </a:xfrm>
        </p:grpSpPr>
        <p:sp>
          <p:nvSpPr>
            <p:cNvPr id="83" name=""/>
            <p:cNvSpPr/>
            <p:nvPr/>
          </p:nvSpPr>
          <p:spPr>
            <a:xfrm flipV="1">
              <a:off x="207180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84284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84284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694240" y="3224160"/>
            <a:ext cx="7880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604960" y="3200400"/>
            <a:ext cx="215640" cy="838080"/>
            <a:chOff x="2604960" y="3200400"/>
            <a:chExt cx="215640" cy="838080"/>
          </a:xfrm>
        </p:grpSpPr>
        <p:sp>
          <p:nvSpPr>
            <p:cNvPr id="88" name=""/>
            <p:cNvSpPr/>
            <p:nvPr/>
          </p:nvSpPr>
          <p:spPr>
            <a:xfrm>
              <a:off x="260496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1756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1756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43040" y="3200400"/>
            <a:ext cx="228960" cy="838080"/>
            <a:chOff x="3443040" y="3200400"/>
            <a:chExt cx="228960" cy="838080"/>
          </a:xfrm>
        </p:grpSpPr>
        <p:sp>
          <p:nvSpPr>
            <p:cNvPr id="92" name=""/>
            <p:cNvSpPr/>
            <p:nvPr/>
          </p:nvSpPr>
          <p:spPr>
            <a:xfrm flipV="1">
              <a:off x="367200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44304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4304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12560" y="3529080"/>
            <a:ext cx="286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8600" y="3452760"/>
            <a:ext cx="334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8560" y="3224160"/>
            <a:ext cx="7815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05160" y="3200400"/>
            <a:ext cx="215640" cy="838080"/>
            <a:chOff x="4205160" y="3200400"/>
            <a:chExt cx="215640" cy="838080"/>
          </a:xfrm>
        </p:grpSpPr>
        <p:sp>
          <p:nvSpPr>
            <p:cNvPr id="99" name=""/>
            <p:cNvSpPr/>
            <p:nvPr/>
          </p:nvSpPr>
          <p:spPr>
            <a:xfrm>
              <a:off x="420516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776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1776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043240" y="3200400"/>
            <a:ext cx="228960" cy="838080"/>
            <a:chOff x="5043240" y="3200400"/>
            <a:chExt cx="228960" cy="838080"/>
          </a:xfrm>
        </p:grpSpPr>
        <p:sp>
          <p:nvSpPr>
            <p:cNvPr id="103" name=""/>
            <p:cNvSpPr/>
            <p:nvPr/>
          </p:nvSpPr>
          <p:spPr>
            <a:xfrm flipV="1">
              <a:off x="527220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04324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04324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838080" y="4257720"/>
            <a:ext cx="7239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Key idea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Sub-blocks (i.e.,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Sans Unicode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can be treated just like scal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locked Matrix Multiply (bijk)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vides temporal locality as block is reused multipl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stant cach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46480" y="480060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locked Matrix Multiply Analysi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328760"/>
            <a:ext cx="868680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nermost loop pair multiplies a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y a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size X bsiz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lock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accumulates in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op ove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teps through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row slivers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using sa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"/>
          <p:cNvSpPr/>
          <p:nvPr/>
        </p:nvSpPr>
        <p:spPr>
          <a:xfrm>
            <a:off x="5340240" y="480060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08800" y="480060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53040" y="5381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72000" y="5381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6880" y="5381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49840" y="6219720"/>
            <a:ext cx="248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lock reused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times in su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5360" y="4895640"/>
            <a:ext cx="636840" cy="98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46720" y="4807080"/>
            <a:ext cx="203040" cy="20304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9960" y="5940360"/>
            <a:ext cx="224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ow sliver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460840" y="50860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96160" y="5838840"/>
            <a:ext cx="2153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pdate succ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lements of s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807240" y="4959000"/>
            <a:ext cx="55872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984920"/>
            <a:ext cx="0" cy="35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29000" y="49957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984920"/>
            <a:ext cx="0" cy="35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91320" y="49957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937400" y="4756320"/>
            <a:ext cx="361440" cy="736560"/>
            <a:chOff x="4937400" y="4756320"/>
            <a:chExt cx="361440" cy="736560"/>
          </a:xfrm>
        </p:grpSpPr>
        <p:sp>
          <p:nvSpPr>
            <p:cNvPr id="131" name=""/>
            <p:cNvSpPr/>
            <p:nvPr/>
          </p:nvSpPr>
          <p:spPr>
            <a:xfrm>
              <a:off x="5105520" y="475632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37400" y="48434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515280" y="488304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52960" y="488304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27400" y="4462560"/>
            <a:ext cx="736560" cy="302040"/>
            <a:chOff x="4127400" y="4462560"/>
            <a:chExt cx="736560" cy="302040"/>
          </a:xfrm>
        </p:grpSpPr>
        <p:sp>
          <p:nvSpPr>
            <p:cNvPr id="136" name=""/>
            <p:cNvSpPr/>
            <p:nvPr/>
          </p:nvSpPr>
          <p:spPr>
            <a:xfrm>
              <a:off x="4127400" y="4591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1600" y="446256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489720" y="4462560"/>
            <a:ext cx="736560" cy="302040"/>
            <a:chOff x="6489720" y="4462560"/>
            <a:chExt cx="736560" cy="302040"/>
          </a:xfrm>
        </p:grpSpPr>
        <p:sp>
          <p:nvSpPr>
            <p:cNvPr id="139" name=""/>
            <p:cNvSpPr/>
            <p:nvPr/>
          </p:nvSpPr>
          <p:spPr>
            <a:xfrm>
              <a:off x="6489720" y="4591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5000" y="4462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70400" y="4462560"/>
            <a:ext cx="736560" cy="302040"/>
            <a:chOff x="5270400" y="4462560"/>
            <a:chExt cx="736560" cy="302040"/>
          </a:xfrm>
        </p:grpSpPr>
        <p:sp>
          <p:nvSpPr>
            <p:cNvPr id="142" name=""/>
            <p:cNvSpPr/>
            <p:nvPr/>
          </p:nvSpPr>
          <p:spPr>
            <a:xfrm>
              <a:off x="5270400" y="4591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96040" y="4462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68240" y="2697120"/>
            <a:ext cx="6900840" cy="2557800"/>
            <a:chOff x="768240" y="2697120"/>
            <a:chExt cx="6900840" cy="2557800"/>
          </a:xfrm>
        </p:grpSpPr>
        <p:sp>
          <p:nvSpPr>
            <p:cNvPr id="145" name=""/>
            <p:cNvSpPr/>
            <p:nvPr/>
          </p:nvSpPr>
          <p:spPr>
            <a:xfrm>
              <a:off x="768240" y="269712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7920" y="303696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914400" y="3575160"/>
            <a:ext cx="53352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0720" y="4019400"/>
            <a:ext cx="125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Innerm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Loop 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entium Blocked Matri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Multiply Performanc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locking (bijk and bikj) improves performance by a factor of two over unblocked versions (ijk and jik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latively insensitive to array si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ll systems favor “cache friendly code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etting absolute optimum performance is very platform specif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che sizes, line sizes, associativities, et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get most of the advantage with generic co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eep working set reasonably small (temporal loc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small strides (spatial loc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ursday 5-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b 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ue Thursday, 24 Oct @ 11:59p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bmission is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on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ttp://www2.cs.cmu.edu/afs/cs/academic/class/15213-f02/www/L4.htm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op Unroll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6880" y="401760"/>
            <a:ext cx="51386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Loop Unroll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16640" y="1749600"/>
            <a:ext cx="36273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0520" indent="-2224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bine multiple iterations into single loop bod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0520" indent="-2224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mortizes loop overhead across multiple iter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0520" indent="-2224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ish extras at 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mbine5(vec_ptr v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d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ength = vec_length(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mit = length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data = get_vec_start(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 = 0; i &lt; limit; i+=3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; i &lt; 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blem 5.12 and 5.1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2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5(vec_ptr u, vec_ptr v, data_t *des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 = (data_t) 0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 += 4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 + udata[i+1] * vdata[i+1]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udata[i+2] * vdata[i+2] + udata[i+3] * vdata[i+3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; i &lt; length; i++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;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2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. We must perform two loads per element to read values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da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da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 There is only one unit to perform these loads, and it requires one cycl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. The performance for floating point is still limited by the 3 cycle latency of the floating-point add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3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08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6(vec_ptr u, vec_ptr v, data_t *des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0 = (data_t) 0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1 = (data_t) 0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+=4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] * vdata[i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1] * vdata[i+1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+2] * vdata[i+2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3] * vdata[i+3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; i &lt; length; i++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= sum0 + udata[i] * vdata[i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0 + sum1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3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each element, we must perform two loads with a unit that can only load one value per clock cyc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must also perform one floating-point multiplication with a unit that can only perform one multiplication every two clock cycl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oth of these factors limit the CPE to 2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0-21T03:14:23Z</dcterms:modified>
  <cp:revision>422</cp:revision>
  <dc:subject/>
  <dc:title>Slide 1</dc:title>
</cp:coreProperties>
</file>