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9424988" cy="6923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EA41A-7053-403E-87C1-4B611BFB07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9A8E1-7E07-44E0-9526-2455D93833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1B1B9-D927-46E8-92F6-E59A82E69F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162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894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430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162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894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C1FFD-8A12-4862-91FE-1A61FF0468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DDBC7-8254-4ABF-B5A7-91FC1584D6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62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94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430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62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94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58A59-3159-4CEE-A9F0-56D95CF736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2C0C7-DE95-42C5-BC7D-2556514B27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FE839-8EB3-4430-8E73-6BC4DA85E8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A5417-04A8-4746-84A6-3602102AB3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D2142-E765-444C-9B05-079895FA89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534C4-1682-4588-9C56-40A0BD3D8A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01021-300D-4981-81AA-49EC5D7B1C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7339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5CDAA-9D33-4C03-BD9D-E83201D4EE4F}" type="slidenum"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1066680"/>
            <a:ext cx="777240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62485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15213 Recitation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400800" y="62485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Shimin Ch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172200"/>
            <a:ext cx="777240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3399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15213 Recitation Section C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895120" y="37339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Floating Point Review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Last Year’s Exam Problem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2514600" y="1828800"/>
            <a:ext cx="4267080" cy="977760"/>
            <a:chOff x="2514600" y="1828800"/>
            <a:chExt cx="4267080" cy="977760"/>
          </a:xfrm>
        </p:grpSpPr>
        <p:sp>
          <p:nvSpPr>
            <p:cNvPr id="85" name=""/>
            <p:cNvSpPr/>
            <p:nvPr/>
          </p:nvSpPr>
          <p:spPr>
            <a:xfrm>
              <a:off x="2819520" y="1828800"/>
              <a:ext cx="365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Times New Roman"/>
                </a:rPr>
                <a:t>Shimin Che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514600" y="2286000"/>
              <a:ext cx="426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Times New Roman"/>
                </a:rPr>
                <a:t>Oct. 7, 200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2514600" y="32004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Important Dat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Lab 3: due Monday (Oct. 7), 11:59pm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Exam 1: Tuesday (Oct. 8), 6:00–7:30pm</a:t>
            </a:r>
            <a:br>
              <a:rPr sz="3200"/>
            </a:b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Doherty Hall 2315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55CBD-3A9E-414B-A0CB-76F3AEC9FEE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loating Point Representatio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Numerical Form: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–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)</a:t>
            </a:r>
            <a:r>
              <a:rPr b="1" i="1" lang="en-US" sz="3200" spc="-1" strike="noStrike" baseline="30000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M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en-US" sz="3200" spc="-1" strike="noStrike" baseline="30000">
                <a:solidFill>
                  <a:srgbClr val="ff0000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7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ign bit </a:t>
            </a:r>
            <a:r>
              <a:rPr b="0" i="1" lang="en-US" sz="2800" spc="-1" strike="noStrike">
                <a:solidFill>
                  <a:srgbClr val="003399"/>
                </a:solidFill>
                <a:latin typeface="Times New Roman"/>
              </a:rPr>
              <a:t>S: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lnSpc>
                <a:spcPct val="97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positive(0)/negative(1)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7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ignificand </a:t>
            </a:r>
            <a:r>
              <a:rPr b="0" i="1" lang="en-US" sz="2800" spc="-1" strike="noStrike">
                <a:solidFill>
                  <a:srgbClr val="003399"/>
                </a:solidFill>
                <a:latin typeface="Times New Roman"/>
              </a:rPr>
              <a:t>M: 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lnSpc>
                <a:spcPct val="97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in [1.0,2.0)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7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Exponent </a:t>
            </a:r>
            <a:r>
              <a:rPr b="0" i="1" lang="en-US" sz="2800" spc="-1" strike="noStrike">
                <a:solidFill>
                  <a:srgbClr val="003399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7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Encoding: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486080" y="4854600"/>
            <a:ext cx="6984360" cy="355680"/>
            <a:chOff x="1486080" y="4854600"/>
            <a:chExt cx="6984360" cy="355680"/>
          </a:xfrm>
        </p:grpSpPr>
        <p:sp>
          <p:nvSpPr>
            <p:cNvPr id="93" name=""/>
            <p:cNvSpPr/>
            <p:nvPr/>
          </p:nvSpPr>
          <p:spPr>
            <a:xfrm>
              <a:off x="1486080" y="4854600"/>
              <a:ext cx="355320" cy="355680"/>
            </a:xfrm>
            <a:prstGeom prst="rect">
              <a:avLst/>
            </a:prstGeom>
            <a:solidFill>
              <a:srgbClr val="80808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866960" y="4854600"/>
              <a:ext cx="2107800" cy="3556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ex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000320" y="4854600"/>
              <a:ext cx="4470120" cy="355680"/>
            </a:xfrm>
            <a:prstGeom prst="rect">
              <a:avLst/>
            </a:prstGeom>
            <a:solidFill>
              <a:srgbClr val="cc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ra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2647800" y="5124600"/>
            <a:ext cx="47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62680" y="5114880"/>
            <a:ext cx="62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Times New Roman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6D00D-A04A-4300-8AD1-935405FFCBB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IEEE Floating Poin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352520" y="1339920"/>
            <a:ext cx="6985080" cy="355680"/>
            <a:chOff x="1352520" y="1339920"/>
            <a:chExt cx="6985080" cy="355680"/>
          </a:xfrm>
        </p:grpSpPr>
        <p:sp>
          <p:nvSpPr>
            <p:cNvPr id="100" name=""/>
            <p:cNvSpPr/>
            <p:nvPr/>
          </p:nvSpPr>
          <p:spPr>
            <a:xfrm>
              <a:off x="1352520" y="1339920"/>
              <a:ext cx="355680" cy="355680"/>
            </a:xfrm>
            <a:prstGeom prst="rect">
              <a:avLst/>
            </a:prstGeom>
            <a:solidFill>
              <a:srgbClr val="80808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733760" y="1339920"/>
              <a:ext cx="2108160" cy="3556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ex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67120" y="1339920"/>
              <a:ext cx="4470480" cy="355680"/>
            </a:xfrm>
            <a:prstGeom prst="rect">
              <a:avLst/>
            </a:prstGeom>
            <a:solidFill>
              <a:srgbClr val="cc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ra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03" name=""/>
          <p:cNvGraphicFramePr/>
          <p:nvPr/>
        </p:nvGraphicFramePr>
        <p:xfrm>
          <a:off x="1219320" y="2028960"/>
          <a:ext cx="7191360" cy="2117520"/>
        </p:xfrm>
        <a:graphic>
          <a:graphicData uri="http://schemas.openxmlformats.org/drawingml/2006/table">
            <a:tbl>
              <a:tblPr/>
              <a:tblGrid>
                <a:gridCol w="3362400"/>
                <a:gridCol w="38289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99"/>
                          </a:solidFill>
                          <a:latin typeface="Courier New"/>
                        </a:rPr>
                        <a:t>ex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Normalized valu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99"/>
                          </a:solidFill>
                          <a:latin typeface="Courier New"/>
                        </a:rPr>
                        <a:t>00…01 ~ 11…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Denormalized valu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144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14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99"/>
                          </a:solidFill>
                          <a:latin typeface="Courier New"/>
                        </a:rPr>
                        <a:t>00…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Special valu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3399"/>
                          </a:solidFill>
                          <a:latin typeface="Courier New"/>
                        </a:rPr>
                        <a:t>11…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3F55D-EE6B-438D-A44C-8BAF6BB5F85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Normalized Valu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43000" y="2476440"/>
            <a:ext cx="7315200" cy="40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exp field must be 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00…01 ~ 11…10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Encoding of 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E = 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exp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–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bia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Encoding of M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M =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.xxxxxxxx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frac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3843360" y="4376880"/>
            <a:ext cx="193680" cy="1704960"/>
          </a:xfrm>
          <a:custGeom>
            <a:avLst/>
            <a:gdLst>
              <a:gd name="textAreaLeft" fmla="*/ 123840 w 193680"/>
              <a:gd name="textAreaRight" fmla="*/ 194040 w 193680"/>
              <a:gd name="textAreaTop" fmla="*/ 44280 h 1704960"/>
              <a:gd name="textAreaBottom" fmla="*/ 1660680 h 1704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352520" y="1816200"/>
            <a:ext cx="6985080" cy="355680"/>
            <a:chOff x="1352520" y="1816200"/>
            <a:chExt cx="6985080" cy="355680"/>
          </a:xfrm>
        </p:grpSpPr>
        <p:sp>
          <p:nvSpPr>
            <p:cNvPr id="108" name=""/>
            <p:cNvSpPr/>
            <p:nvPr/>
          </p:nvSpPr>
          <p:spPr>
            <a:xfrm>
              <a:off x="1352520" y="1816200"/>
              <a:ext cx="355680" cy="355680"/>
            </a:xfrm>
            <a:prstGeom prst="rect">
              <a:avLst/>
            </a:prstGeom>
            <a:solidFill>
              <a:srgbClr val="80808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733760" y="1816200"/>
              <a:ext cx="2108160" cy="3556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ex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67120" y="1816200"/>
              <a:ext cx="4470480" cy="355680"/>
            </a:xfrm>
            <a:prstGeom prst="rect">
              <a:avLst/>
            </a:prstGeom>
            <a:solidFill>
              <a:srgbClr val="cc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ra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1400040" y="1162080"/>
            <a:ext cx="22384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–1)</a:t>
            </a:r>
            <a:r>
              <a:rPr b="1" i="1" lang="en-US" sz="3200" spc="-1" strike="noStrike" baseline="30000">
                <a:solidFill>
                  <a:srgbClr val="003399"/>
                </a:solidFill>
                <a:latin typeface="Times New Roman"/>
              </a:rPr>
              <a:t>S</a:t>
            </a:r>
            <a:r>
              <a:rPr b="1" i="1" lang="en-US" sz="3200" spc="-1" strike="noStrike">
                <a:solidFill>
                  <a:srgbClr val="003399"/>
                </a:solidFill>
                <a:latin typeface="Times New Roman"/>
              </a:rPr>
              <a:t> M 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2</a:t>
            </a:r>
            <a:r>
              <a:rPr b="1" i="1" lang="en-US" sz="3200" spc="-1" strike="noStrike" baseline="30000">
                <a:solidFill>
                  <a:srgbClr val="003399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C3403-83C6-4C35-BBAB-7374814357C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Denormalized Valu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43000" y="23814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exp field must be 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00…00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Encoding of 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E = 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exp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3399"/>
                </a:solidFill>
                <a:latin typeface="Courier New"/>
              </a:rPr>
              <a:t>–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bias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+ 1 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= 1 -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bia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Encoding of M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M =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.xxxxxxxx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frac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16200000">
            <a:off x="3843360" y="4281480"/>
            <a:ext cx="193680" cy="1704960"/>
          </a:xfrm>
          <a:custGeom>
            <a:avLst/>
            <a:gdLst>
              <a:gd name="textAreaLeft" fmla="*/ 123840 w 193680"/>
              <a:gd name="textAreaRight" fmla="*/ 194040 w 193680"/>
              <a:gd name="textAreaTop" fmla="*/ 44280 h 1704960"/>
              <a:gd name="textAreaBottom" fmla="*/ 1660680 h 1704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352520" y="1816200"/>
            <a:ext cx="6985080" cy="355680"/>
            <a:chOff x="1352520" y="1816200"/>
            <a:chExt cx="6985080" cy="355680"/>
          </a:xfrm>
        </p:grpSpPr>
        <p:sp>
          <p:nvSpPr>
            <p:cNvPr id="116" name=""/>
            <p:cNvSpPr/>
            <p:nvPr/>
          </p:nvSpPr>
          <p:spPr>
            <a:xfrm>
              <a:off x="1352520" y="1816200"/>
              <a:ext cx="355680" cy="355680"/>
            </a:xfrm>
            <a:prstGeom prst="rect">
              <a:avLst/>
            </a:prstGeom>
            <a:solidFill>
              <a:srgbClr val="80808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33760" y="1816200"/>
              <a:ext cx="2108160" cy="3556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0…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67120" y="1816200"/>
              <a:ext cx="4470480" cy="355680"/>
            </a:xfrm>
            <a:prstGeom prst="rect">
              <a:avLst/>
            </a:prstGeom>
            <a:solidFill>
              <a:srgbClr val="cc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ra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1400040" y="1162080"/>
            <a:ext cx="22384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–1)</a:t>
            </a:r>
            <a:r>
              <a:rPr b="1" i="1" lang="en-US" sz="3200" spc="-1" strike="noStrike" baseline="30000">
                <a:solidFill>
                  <a:srgbClr val="003399"/>
                </a:solidFill>
                <a:latin typeface="Times New Roman"/>
              </a:rPr>
              <a:t>S</a:t>
            </a:r>
            <a:r>
              <a:rPr b="1" i="1" lang="en-US" sz="3200" spc="-1" strike="noStrike">
                <a:solidFill>
                  <a:srgbClr val="003399"/>
                </a:solidFill>
                <a:latin typeface="Times New Roman"/>
              </a:rPr>
              <a:t> M 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2</a:t>
            </a:r>
            <a:r>
              <a:rPr b="1" i="1" lang="en-US" sz="3200" spc="-1" strike="noStrike" baseline="30000">
                <a:solidFill>
                  <a:srgbClr val="003399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DDD56-5BBD-4637-8AD2-7C60B3920C9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pecial Valu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43000" y="1943280"/>
            <a:ext cx="7315200" cy="40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exp field must be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11…11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Values: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3399"/>
                </a:solidFill>
                <a:latin typeface="Symbol"/>
                <a:ea typeface="Symbol"/>
              </a:rPr>
              <a:t></a:t>
            </a:r>
            <a:br>
              <a:rPr sz="3200"/>
            </a:br>
            <a:r>
              <a:rPr b="0" lang="en-US" sz="3200" spc="-1" strike="noStrike">
                <a:solidFill>
                  <a:srgbClr val="003399"/>
                </a:solidFill>
                <a:latin typeface="Symbo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urier New"/>
              </a:rPr>
              <a:t>-</a:t>
            </a:r>
            <a:r>
              <a:rPr b="0" lang="en-US" sz="3200" spc="-1" strike="noStrike">
                <a:solidFill>
                  <a:srgbClr val="003399"/>
                </a:solidFill>
                <a:latin typeface="Symbol"/>
                <a:ea typeface="Symbol"/>
              </a:rPr>
              <a:t></a:t>
            </a:r>
            <a:br>
              <a:rPr sz="3200"/>
            </a:br>
            <a:r>
              <a:rPr b="0" lang="en-US" sz="3200" spc="-1" strike="noStrike">
                <a:solidFill>
                  <a:srgbClr val="003399"/>
                </a:solidFill>
                <a:latin typeface="Symbo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NaN (Not a Number): the rest</a:t>
            </a:r>
            <a:br>
              <a:rPr sz="2400"/>
            </a:b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352520" y="1339920"/>
            <a:ext cx="6985080" cy="355680"/>
            <a:chOff x="1352520" y="1339920"/>
            <a:chExt cx="6985080" cy="355680"/>
          </a:xfrm>
        </p:grpSpPr>
        <p:sp>
          <p:nvSpPr>
            <p:cNvPr id="123" name=""/>
            <p:cNvSpPr/>
            <p:nvPr/>
          </p:nvSpPr>
          <p:spPr>
            <a:xfrm>
              <a:off x="1352520" y="1339920"/>
              <a:ext cx="355680" cy="355680"/>
            </a:xfrm>
            <a:prstGeom prst="rect">
              <a:avLst/>
            </a:prstGeom>
            <a:solidFill>
              <a:srgbClr val="80808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33760" y="1339920"/>
              <a:ext cx="2108160" cy="3556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1…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67120" y="1339920"/>
              <a:ext cx="4470480" cy="355680"/>
            </a:xfrm>
            <a:prstGeom prst="rect">
              <a:avLst/>
            </a:prstGeom>
            <a:solidFill>
              <a:srgbClr val="cc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ra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1362240" y="3378240"/>
            <a:ext cx="6984360" cy="355680"/>
            <a:chOff x="1362240" y="3378240"/>
            <a:chExt cx="6984360" cy="355680"/>
          </a:xfrm>
        </p:grpSpPr>
        <p:sp>
          <p:nvSpPr>
            <p:cNvPr id="127" name=""/>
            <p:cNvSpPr/>
            <p:nvPr/>
          </p:nvSpPr>
          <p:spPr>
            <a:xfrm>
              <a:off x="1362240" y="3378240"/>
              <a:ext cx="355320" cy="355680"/>
            </a:xfrm>
            <a:prstGeom prst="rect">
              <a:avLst/>
            </a:prstGeom>
            <a:solidFill>
              <a:srgbClr val="80808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743120" y="3378240"/>
              <a:ext cx="2107800" cy="3556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1…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876480" y="3378240"/>
              <a:ext cx="4470120" cy="355680"/>
            </a:xfrm>
            <a:prstGeom prst="rect">
              <a:avLst/>
            </a:prstGeom>
            <a:solidFill>
              <a:srgbClr val="cc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0 . . . 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1362240" y="4330800"/>
            <a:ext cx="6984360" cy="355680"/>
            <a:chOff x="1362240" y="4330800"/>
            <a:chExt cx="6984360" cy="355680"/>
          </a:xfrm>
        </p:grpSpPr>
        <p:sp>
          <p:nvSpPr>
            <p:cNvPr id="131" name=""/>
            <p:cNvSpPr/>
            <p:nvPr/>
          </p:nvSpPr>
          <p:spPr>
            <a:xfrm>
              <a:off x="1362240" y="4330800"/>
              <a:ext cx="355320" cy="355680"/>
            </a:xfrm>
            <a:prstGeom prst="rect">
              <a:avLst/>
            </a:prstGeom>
            <a:solidFill>
              <a:srgbClr val="80808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743120" y="4330800"/>
              <a:ext cx="2107800" cy="3556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1…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876480" y="4330800"/>
              <a:ext cx="4470120" cy="355680"/>
            </a:xfrm>
            <a:prstGeom prst="rect">
              <a:avLst/>
            </a:prstGeom>
            <a:solidFill>
              <a:srgbClr val="cc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0 . . . 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BD3D4-2C35-4870-8F4B-B79C86BA4EB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himin</cp:lastModifiedBy>
  <dcterms:modified xsi:type="dcterms:W3CDTF">2002-10-07T15:50:46Z</dcterms:modified>
  <cp:revision>374</cp:revision>
  <dc:subject/>
  <dc:title>PowerPoint Presentation</dc:title>
</cp:coreProperties>
</file>