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7114-DD4B-4EDD-BEFF-A7FFB4ADC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70C6-93B8-4D29-BD24-4BB9CE6FE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4378-671C-4817-BD80-8843981B0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C301-AF2E-4E4B-B1DA-549CADFB4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92023-C076-49C5-B56F-DBCA46746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A425-FC27-4E3B-ADE8-9A1F653FE2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0070-7EFE-44D8-A185-47764BF4D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6533B-6737-4AE2-8CE9-281FBC11B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92C5-3CEE-4D1F-A19F-7917F0B0D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07A4-073C-4460-B2A7-899CBAA18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643CD-8F90-44B4-99CF-25D99C967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8414-7D88-45F6-9F15-62DBB6E544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E040-F25C-4593-845F-58D719E6F4E5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loating Point Revie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st Year’s Exam Problem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7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3: due Monday (Oct. 7)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1: Tuesday (Oct. 8), 6:00–7:30pm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herty Hall 231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A504-DBD2-4C69-83E8-AF07B56AE0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loating Point Represent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umerical Form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–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)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M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 bit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S: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ositive(0)/negative(1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ificand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M: 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 [1.0,2.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7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ponent </a:t>
            </a: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7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86080" y="4854600"/>
            <a:ext cx="6984360" cy="355680"/>
            <a:chOff x="1486080" y="4854600"/>
            <a:chExt cx="6984360" cy="355680"/>
          </a:xfrm>
        </p:grpSpPr>
        <p:sp>
          <p:nvSpPr>
            <p:cNvPr id="93" name=""/>
            <p:cNvSpPr/>
            <p:nvPr/>
          </p:nvSpPr>
          <p:spPr>
            <a:xfrm>
              <a:off x="1486080" y="485460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66960" y="485460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00320" y="485460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647800" y="5124600"/>
            <a:ext cx="4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62680" y="5114880"/>
            <a:ext cx="6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3227-4610-4044-8EB7-986ED0ADF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EEE Floating Poin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52520" y="1339920"/>
            <a:ext cx="6985080" cy="355680"/>
            <a:chOff x="1352520" y="1339920"/>
            <a:chExt cx="6985080" cy="355680"/>
          </a:xfrm>
        </p:grpSpPr>
        <p:sp>
          <p:nvSpPr>
            <p:cNvPr id="100" name=""/>
            <p:cNvSpPr/>
            <p:nvPr/>
          </p:nvSpPr>
          <p:spPr>
            <a:xfrm>
              <a:off x="1352520" y="133992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33760" y="133992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67120" y="133992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03" name=""/>
          <p:cNvGraphicFramePr/>
          <p:nvPr/>
        </p:nvGraphicFramePr>
        <p:xfrm>
          <a:off x="1219320" y="2028960"/>
          <a:ext cx="7191360" cy="2117520"/>
        </p:xfrm>
        <a:graphic>
          <a:graphicData uri="http://schemas.openxmlformats.org/drawingml/2006/table">
            <a:tbl>
              <a:tblPr/>
              <a:tblGrid>
                <a:gridCol w="3362400"/>
                <a:gridCol w="3828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ex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Normalized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00…01 ~ 11…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normalized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144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00…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pecial valu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11…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B504-4301-435A-802B-5C0CA51749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ormalized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2476440"/>
            <a:ext cx="731520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00…01 ~ 11…1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 =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p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–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bia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.xxxxxxx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ra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843360" y="4376880"/>
            <a:ext cx="193680" cy="1704960"/>
          </a:xfrm>
          <a:custGeom>
            <a:avLst/>
            <a:gdLst>
              <a:gd name="textAreaLeft" fmla="*/ 123840 w 193680"/>
              <a:gd name="textAreaRight" fmla="*/ 194040 w 193680"/>
              <a:gd name="textAreaTop" fmla="*/ 44280 h 1704960"/>
              <a:gd name="textAreaBottom" fmla="*/ 166068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52520" y="1816200"/>
            <a:ext cx="6985080" cy="355680"/>
            <a:chOff x="1352520" y="1816200"/>
            <a:chExt cx="6985080" cy="355680"/>
          </a:xfrm>
        </p:grpSpPr>
        <p:sp>
          <p:nvSpPr>
            <p:cNvPr id="108" name=""/>
            <p:cNvSpPr/>
            <p:nvPr/>
          </p:nvSpPr>
          <p:spPr>
            <a:xfrm>
              <a:off x="1352520" y="181620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33760" y="181620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67120" y="181620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400040" y="1162080"/>
            <a:ext cx="2238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–1)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 M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D07B-5556-406E-A97B-3A3DF477F7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normalized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2381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00…0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 =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p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Courier New"/>
              </a:rPr>
              <a:t>–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bias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+ 1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= 1 -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ia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ncoding of 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 =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.xxxxxxx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ra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3843360" y="4281480"/>
            <a:ext cx="193680" cy="1704960"/>
          </a:xfrm>
          <a:custGeom>
            <a:avLst/>
            <a:gdLst>
              <a:gd name="textAreaLeft" fmla="*/ 123840 w 193680"/>
              <a:gd name="textAreaRight" fmla="*/ 194040 w 193680"/>
              <a:gd name="textAreaTop" fmla="*/ 44280 h 1704960"/>
              <a:gd name="textAreaBottom" fmla="*/ 1660680 h 17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52520" y="1816200"/>
            <a:ext cx="6985080" cy="355680"/>
            <a:chOff x="1352520" y="1816200"/>
            <a:chExt cx="6985080" cy="355680"/>
          </a:xfrm>
        </p:grpSpPr>
        <p:sp>
          <p:nvSpPr>
            <p:cNvPr id="116" name=""/>
            <p:cNvSpPr/>
            <p:nvPr/>
          </p:nvSpPr>
          <p:spPr>
            <a:xfrm>
              <a:off x="1352520" y="181620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33760" y="181620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…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67120" y="181620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400040" y="1162080"/>
            <a:ext cx="2238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–1)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S</a:t>
            </a:r>
            <a:r>
              <a:rPr b="1" i="1" lang="en-US" sz="3200" spc="-1" strike="noStrike">
                <a:solidFill>
                  <a:srgbClr val="003399"/>
                </a:solidFill>
                <a:latin typeface="Times New Roman"/>
              </a:rPr>
              <a:t> M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003399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5CBC2-2F22-41AF-8370-D757B90152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pecial Val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943280"/>
            <a:ext cx="73152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xp field must be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11…11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Value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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-</a:t>
            </a:r>
            <a:r>
              <a:rPr b="0" lang="en-US" sz="3200" spc="-1" strike="noStrike">
                <a:solidFill>
                  <a:srgbClr val="003399"/>
                </a:solidFill>
                <a:latin typeface="Symbol"/>
                <a:ea typeface="Symbol"/>
              </a:rPr>
              <a:t>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aN (Not a Number): the rest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352520" y="1339920"/>
            <a:ext cx="6985080" cy="355680"/>
            <a:chOff x="1352520" y="1339920"/>
            <a:chExt cx="6985080" cy="355680"/>
          </a:xfrm>
        </p:grpSpPr>
        <p:sp>
          <p:nvSpPr>
            <p:cNvPr id="123" name=""/>
            <p:cNvSpPr/>
            <p:nvPr/>
          </p:nvSpPr>
          <p:spPr>
            <a:xfrm>
              <a:off x="1352520" y="1339920"/>
              <a:ext cx="35568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33760" y="1339920"/>
              <a:ext cx="210816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67120" y="1339920"/>
              <a:ext cx="447048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362240" y="3378240"/>
            <a:ext cx="6984360" cy="355680"/>
            <a:chOff x="1362240" y="3378240"/>
            <a:chExt cx="6984360" cy="355680"/>
          </a:xfrm>
        </p:grpSpPr>
        <p:sp>
          <p:nvSpPr>
            <p:cNvPr id="127" name=""/>
            <p:cNvSpPr/>
            <p:nvPr/>
          </p:nvSpPr>
          <p:spPr>
            <a:xfrm>
              <a:off x="1362240" y="337824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43120" y="337824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76480" y="337824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 . . . 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362240" y="4330800"/>
            <a:ext cx="6984360" cy="355680"/>
            <a:chOff x="1362240" y="4330800"/>
            <a:chExt cx="6984360" cy="355680"/>
          </a:xfrm>
        </p:grpSpPr>
        <p:sp>
          <p:nvSpPr>
            <p:cNvPr id="131" name=""/>
            <p:cNvSpPr/>
            <p:nvPr/>
          </p:nvSpPr>
          <p:spPr>
            <a:xfrm>
              <a:off x="1362240" y="4330800"/>
              <a:ext cx="355320" cy="3556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43120" y="4330800"/>
              <a:ext cx="2107800" cy="3556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11…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76480" y="4330800"/>
              <a:ext cx="4470120" cy="35568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00 . . . 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3CE4-E066-4DD1-98C8-720480E0D2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07T15:50:46Z</dcterms:modified>
  <cp:revision>374</cp:revision>
  <dc:subject/>
  <dc:title>PowerPoint Presentation</dc:title>
</cp:coreProperties>
</file>