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AB1F-1705-4728-986C-99C43D1C5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F223-FA1D-4D17-928D-E1786EF66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38A9-B62B-41D6-B782-7C3FA8FDB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69B1-71AD-49F6-A09C-09AD5782B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1935-8546-4DC6-9DDE-8E2243986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7A99-70AB-4310-BA9D-F9E258846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BA39B-1578-419D-BBA1-B2DAB30FF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56E6-954B-457B-BE11-906D4B186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DBB8-CF77-4F2D-B9CC-1C8EE5CE0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59B3-0065-4F9A-B854-1D9BAB6CF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9E67E-6D12-4559-856B-9659695A8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5D41-C2FC-4750-B2BD-DD5DF99E8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4AB6-2E6E-4042-9C0C-B8C261D9A39F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loating Point Review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ast Year’s Exam Problem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Oct. 7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3: due Monday (Oct. 7), 11:59pm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am 1: Tuesday (Oct. 8), 6:00–7:30pm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oherty Hall 231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7B75-BD6E-4B9C-B3C4-21E79F9FE1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loating Point Represent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Numerical Form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M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7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ign bit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S: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ositive(0)/negative(1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7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ignificand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M: 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[1.0,2.0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7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xponent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7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ncoding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486080" y="4854600"/>
            <a:ext cx="6984360" cy="355680"/>
            <a:chOff x="1486080" y="4854600"/>
            <a:chExt cx="6984360" cy="355680"/>
          </a:xfrm>
        </p:grpSpPr>
        <p:sp>
          <p:nvSpPr>
            <p:cNvPr id="93" name=""/>
            <p:cNvSpPr/>
            <p:nvPr/>
          </p:nvSpPr>
          <p:spPr>
            <a:xfrm>
              <a:off x="1486080" y="4854600"/>
              <a:ext cx="355320" cy="3556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66960" y="4854600"/>
              <a:ext cx="2107800" cy="355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00320" y="4854600"/>
              <a:ext cx="4470120" cy="35568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647800" y="5124600"/>
            <a:ext cx="4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62680" y="5114880"/>
            <a:ext cx="6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367B-A59C-48A9-92DF-70D0AD570B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EEE Floating Poin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52520" y="1339920"/>
            <a:ext cx="6985080" cy="355680"/>
            <a:chOff x="1352520" y="1339920"/>
            <a:chExt cx="6985080" cy="355680"/>
          </a:xfrm>
        </p:grpSpPr>
        <p:sp>
          <p:nvSpPr>
            <p:cNvPr id="100" name=""/>
            <p:cNvSpPr/>
            <p:nvPr/>
          </p:nvSpPr>
          <p:spPr>
            <a:xfrm>
              <a:off x="1352520" y="1339920"/>
              <a:ext cx="355680" cy="3556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33760" y="1339920"/>
              <a:ext cx="2108160" cy="355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67120" y="1339920"/>
              <a:ext cx="4470480" cy="35568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1219320" y="2028960"/>
          <a:ext cx="7191360" cy="2117520"/>
        </p:xfrm>
        <a:graphic>
          <a:graphicData uri="http://schemas.openxmlformats.org/drawingml/2006/table">
            <a:tbl>
              <a:tblPr/>
              <a:tblGrid>
                <a:gridCol w="3362400"/>
                <a:gridCol w="382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ex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Normalized 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00…01 ~ 11…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Denormalized 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00…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pecial 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11…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1091-2C81-4FD0-9AA0-192755A60A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ormalized Valu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2476440"/>
            <a:ext cx="7315200" cy="40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p field must b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00…01 ~ 11…10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ncoding of 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 =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exp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–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bia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ncoding of M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.xxxxxxxx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fra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3843360" y="4376880"/>
            <a:ext cx="193680" cy="1704960"/>
          </a:xfrm>
          <a:custGeom>
            <a:avLst/>
            <a:gdLst>
              <a:gd name="textAreaLeft" fmla="*/ 123840 w 193680"/>
              <a:gd name="textAreaRight" fmla="*/ 194040 w 193680"/>
              <a:gd name="textAreaTop" fmla="*/ 44280 h 1704960"/>
              <a:gd name="textAreaBottom" fmla="*/ 1660680 h 17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352520" y="1816200"/>
            <a:ext cx="6985080" cy="355680"/>
            <a:chOff x="1352520" y="1816200"/>
            <a:chExt cx="6985080" cy="355680"/>
          </a:xfrm>
        </p:grpSpPr>
        <p:sp>
          <p:nvSpPr>
            <p:cNvPr id="108" name=""/>
            <p:cNvSpPr/>
            <p:nvPr/>
          </p:nvSpPr>
          <p:spPr>
            <a:xfrm>
              <a:off x="1352520" y="1816200"/>
              <a:ext cx="355680" cy="3556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33760" y="1816200"/>
              <a:ext cx="2108160" cy="355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67120" y="1816200"/>
              <a:ext cx="4470480" cy="35568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400040" y="1162080"/>
            <a:ext cx="2238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–1)</a:t>
            </a:r>
            <a:r>
              <a:rPr b="1" i="1" lang="en-US" sz="3200" spc="-1" strike="noStrike" baseline="30000">
                <a:solidFill>
                  <a:srgbClr val="003399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 M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003399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3DDE-F438-4E0C-A2DA-FC54734018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normalized Valu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23814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p field must b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00…00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ncoding of 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 =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exp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Courier New"/>
              </a:rPr>
              <a:t>–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bia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+ 1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= 1 -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ia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ncoding of M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.xxxxxxxx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fra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3843360" y="4281480"/>
            <a:ext cx="193680" cy="1704960"/>
          </a:xfrm>
          <a:custGeom>
            <a:avLst/>
            <a:gdLst>
              <a:gd name="textAreaLeft" fmla="*/ 123840 w 193680"/>
              <a:gd name="textAreaRight" fmla="*/ 194040 w 193680"/>
              <a:gd name="textAreaTop" fmla="*/ 44280 h 1704960"/>
              <a:gd name="textAreaBottom" fmla="*/ 1660680 h 17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52520" y="1816200"/>
            <a:ext cx="6985080" cy="355680"/>
            <a:chOff x="1352520" y="1816200"/>
            <a:chExt cx="6985080" cy="355680"/>
          </a:xfrm>
        </p:grpSpPr>
        <p:sp>
          <p:nvSpPr>
            <p:cNvPr id="116" name=""/>
            <p:cNvSpPr/>
            <p:nvPr/>
          </p:nvSpPr>
          <p:spPr>
            <a:xfrm>
              <a:off x="1352520" y="1816200"/>
              <a:ext cx="355680" cy="3556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33760" y="1816200"/>
              <a:ext cx="2108160" cy="355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0…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67120" y="1816200"/>
              <a:ext cx="4470480" cy="35568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400040" y="1162080"/>
            <a:ext cx="2238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–1)</a:t>
            </a:r>
            <a:r>
              <a:rPr b="1" i="1" lang="en-US" sz="3200" spc="-1" strike="noStrike" baseline="30000">
                <a:solidFill>
                  <a:srgbClr val="003399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 M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003399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86AA7-882F-45C1-B5BC-978A9ED5E3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pecial Valu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1943280"/>
            <a:ext cx="73152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xp field must b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11…11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Values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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-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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NaN (Not a Number): the rest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352520" y="1339920"/>
            <a:ext cx="6985080" cy="355680"/>
            <a:chOff x="1352520" y="1339920"/>
            <a:chExt cx="6985080" cy="355680"/>
          </a:xfrm>
        </p:grpSpPr>
        <p:sp>
          <p:nvSpPr>
            <p:cNvPr id="123" name=""/>
            <p:cNvSpPr/>
            <p:nvPr/>
          </p:nvSpPr>
          <p:spPr>
            <a:xfrm>
              <a:off x="1352520" y="1339920"/>
              <a:ext cx="355680" cy="3556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33760" y="1339920"/>
              <a:ext cx="2108160" cy="355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1…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7120" y="1339920"/>
              <a:ext cx="4470480" cy="35568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362240" y="3378240"/>
            <a:ext cx="6984360" cy="355680"/>
            <a:chOff x="1362240" y="3378240"/>
            <a:chExt cx="6984360" cy="355680"/>
          </a:xfrm>
        </p:grpSpPr>
        <p:sp>
          <p:nvSpPr>
            <p:cNvPr id="127" name=""/>
            <p:cNvSpPr/>
            <p:nvPr/>
          </p:nvSpPr>
          <p:spPr>
            <a:xfrm>
              <a:off x="1362240" y="3378240"/>
              <a:ext cx="355320" cy="3556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43120" y="3378240"/>
              <a:ext cx="2107800" cy="355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1…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76480" y="3378240"/>
              <a:ext cx="4470120" cy="35568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0 . . . 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362240" y="4330800"/>
            <a:ext cx="6984360" cy="355680"/>
            <a:chOff x="1362240" y="4330800"/>
            <a:chExt cx="6984360" cy="355680"/>
          </a:xfrm>
        </p:grpSpPr>
        <p:sp>
          <p:nvSpPr>
            <p:cNvPr id="131" name=""/>
            <p:cNvSpPr/>
            <p:nvPr/>
          </p:nvSpPr>
          <p:spPr>
            <a:xfrm>
              <a:off x="1362240" y="4330800"/>
              <a:ext cx="355320" cy="3556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43120" y="4330800"/>
              <a:ext cx="2107800" cy="355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1…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76480" y="4330800"/>
              <a:ext cx="4470120" cy="35568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0 . . . 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FF5A-C1CA-41E0-89C1-2679102B9D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0-07T15:50:46Z</dcterms:modified>
  <cp:revision>374</cp:revision>
  <dc:subject/>
  <dc:title>PowerPoint Presentation</dc:title>
</cp:coreProperties>
</file>