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BF1-182A-4A76-9BC1-A7ACE330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78E-FB13-46B1-900D-BBDA5733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728-C1CB-4D4B-B86F-0AF91870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3FA-B1A6-4A0B-B038-472C3694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1E1-DF39-4174-A791-336C69F5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DD3-B245-4331-8DE7-D97D7738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0BA-9228-49D3-A62C-07163EBE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B0C-A925-4E85-80B6-68418C56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A9E-4033-4643-BB2F-0E8F1EEC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A39-13EA-400F-AC33-9DCAFCC9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2A8-5ECC-4AED-99C0-5447B5EB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69E-741B-4673-B115-2F67F2C1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9451-4716-4670-99DC-9D86859871F7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citation 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Exam 1 Review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7 October 200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aulring@cs.cmu.edu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ffice hour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SH 2504 (lab) / 2507 (conference room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uesday 4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b 3: due Monday (7 Oct), 11:59p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b 4: later this week (probably by Thursday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am 1: Tuesday (8 Oct), 6:00–7:30p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oherty Hall 231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xam 1 review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blems from last fall’s exam 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loating Poi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Floating Poin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: sign bi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p: encodes E (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bit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alue unbias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ias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m−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− 1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rac: fractional number (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bit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rmalized: [1.0, 2.0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p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≠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0…0 &amp; exp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≠ 1…1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normalized: [0.0, 1.0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p = 0…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447920"/>
            <a:ext cx="45720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447920"/>
            <a:ext cx="198144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1447920"/>
            <a:ext cx="281916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Example: exp with 3 bit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p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p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 Unicode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0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denorm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0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¼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1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1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0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1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1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/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inf, n/a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ractice Problem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#2 floating poi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#1 two’s-compleme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#5 array index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#7 struct layout (with unions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#7 chang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typedef uni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ldSensorData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ldData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SensorData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Data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 SensorDataUnion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10-07T17:10:48Z</dcterms:modified>
  <cp:revision>291</cp:revision>
  <dc:subject/>
  <dc:title>Slide 1</dc:title>
</cp:coreProperties>
</file>