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B885-6072-4153-B07C-7D41EAAC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A73-CFE3-4F69-AE5C-3B5B1671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9E12-5256-4D61-80A3-6F746CDF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56A-0B13-47B8-9C1D-A414E267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B9A-052E-4ACB-89FD-27F42BF3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A76-B535-4619-B0A4-546959B7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040A-9AD8-45C6-89E3-7EE4A544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CBD-CCC7-4B71-A59F-7387A007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93D-23BA-478F-9ED1-A8D34D71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CAA0-47CE-46DF-AAFF-C902CD1A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C18-8A7E-4A01-AE45-164C9307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8A6-B15B-40FB-8906-3789CDE0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BCC7-0E1D-4FAF-A764-1F44862C88DE}" type="slidenum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Recitation 5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Exam 1 Review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7 October 2002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Andrew Faulrin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aulring@cs.cmu.edu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ffice hour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SH 2504 (lab) / 2507 (conference room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uesday 4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b 3: due Monday (7 Oct), 11:59p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b 4: later this week (probably by Thursday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am 1: Tuesday (8 Oct), 6:00–7:30p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oherty Hall 2315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xam 1 review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oblems from last fall’s exam 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loating Poi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Floating Poin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: sign bi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p: encodes E (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bit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alue unbias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ias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m−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− 1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rac: fractional number (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bit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rmalized: [1.0, 2.0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xp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≠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0…0 &amp; exp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≠ 1…1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normalized: [0.0, 1.0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xp = 0…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447920"/>
            <a:ext cx="45720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447920"/>
            <a:ext cx="198144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1447920"/>
            <a:ext cx="281916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Example: exp with 3 bit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p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p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 Unicode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00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¼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(denorm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00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¼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01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½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01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0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1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1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/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(inf, n/a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Practice Problem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#2 floating poi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#1 two’s-compleme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#5 array index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#7 struct layout (with unions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#7 chang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typedef uni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ldSensorData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ldData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ewSensorData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ewData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 SensorDataUnion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1:46:12Z</dcterms:created>
  <dc:creator>Andrew Robert Faulring</dc:creator>
  <dc:description/>
  <dc:language>en-US</dc:language>
  <cp:lastModifiedBy>Andrew Robert Faulring</cp:lastModifiedBy>
  <dcterms:modified xsi:type="dcterms:W3CDTF">2002-10-07T17:10:48Z</dcterms:modified>
  <cp:revision>291</cp:revision>
  <dc:subject/>
  <dc:title>Slide 1</dc:title>
</cp:coreProperties>
</file>