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1D6-49F8-4C4F-B6CC-B004D49A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23A-83EB-47EF-BD48-AD7B4151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048-72BE-444F-8554-51073D30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F51-B940-49AD-8E7C-44028182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BE5D-EF4C-4C3A-9030-9DEE2C06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F85A-3795-4972-BD37-D95E8D3F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064-CC64-4400-97C1-F43AFF74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BD0-0152-4E92-B453-2C00CAC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610-1ED0-455A-BF97-0B1DA430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CC5-A578-456E-A505-14E51BD5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A3B-6B0A-41B0-B434-7DD779EA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5DC-D8A8-43CC-A79D-D48F0D72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4BFC-A618-4422-908D-42CD06BA041A}" type="slidenum"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Recitation 5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xam 1 Review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15213 Section 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7 October 2002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Andrew Faulring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aulring@cs.cmu.edu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Office hou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SH 2504 (lab) / 2507 (conference room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uesday 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b 3: due Monday (7 Oct), 11:59p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b 4: later this week (probably by Thursday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am 1: Tuesday (8 Oct), 6:00–7:30p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oherty Hall 2315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Today’s Plan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Exam 1 review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oblems from last fall’s exam 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Floating Poin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: sign bi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: encodes E (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it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alue unbia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bias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m−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− 1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ac: fractional number (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bit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rmalized: [1.0, 2.0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p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≠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0…0 &amp; exp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≠ 1…1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normalized: [0.0, 1.0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xp = 0…0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447920"/>
            <a:ext cx="45720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447920"/>
            <a:ext cx="198144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1447920"/>
            <a:ext cx="2819160" cy="53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Example: exp with 3 bit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p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Lucida Sans Unicode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denorm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0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1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½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1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0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10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111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/a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(inf, n/a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Practice Problem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2 floating poi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1 two’s-comple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5 array index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#7 struct layout (with union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#7 change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urier New"/>
              </a:rPr>
              <a:t>typedef uni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ldSensorDat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ldData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SensorData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newData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 SensorDataUnion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1:46:12Z</dcterms:created>
  <dc:creator>Andrew Robert Faulring</dc:creator>
  <dc:description/>
  <dc:language>en-US</dc:language>
  <cp:lastModifiedBy>Andrew Robert Faulring</cp:lastModifiedBy>
  <dcterms:modified xsi:type="dcterms:W3CDTF">2002-10-07T17:10:48Z</dcterms:modified>
  <cp:revision>291</cp:revision>
  <dc:subject/>
  <dc:title>Slide 1</dc:title>
</cp:coreProperties>
</file>