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9A28-DEA3-4955-A625-4FE97A06C9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F4D4-B659-4058-8C02-9D482E284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DABB-1D34-4468-AEB7-6BF40AD2F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5A50-317C-4270-BD23-16FA74CF85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B0CE-6A2F-4189-9CCF-C1C7682CF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62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9400" y="12189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30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62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9400" y="3726360"/>
            <a:ext cx="235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2546-C869-4DEC-BACD-1DA6A2DAD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D574-02FE-4E94-9C69-EBEC9153C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3552-92FE-40AC-949F-A090546CD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D049E-8DD4-40E2-B346-98CDA7EBE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31DB-0A73-4F5F-B4CC-165A49AA2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37263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6A94-869E-4652-A013-285F8037A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218960"/>
            <a:ext cx="356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726360"/>
            <a:ext cx="7315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59FC-5CD8-4A8D-8A8C-24CFE1920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15BE-5560-4060-9CE8-371CE4121335}" type="slidenum"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06668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15213 Recitati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00800" y="62485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Shimin 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777240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15213 Recitation Section C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895120" y="37339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Buffer overflo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utting code onto stack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514600" y="1828800"/>
            <a:ext cx="4267080" cy="977760"/>
            <a:chOff x="2514600" y="1828800"/>
            <a:chExt cx="4267080" cy="977760"/>
          </a:xfrm>
        </p:grpSpPr>
        <p:sp>
          <p:nvSpPr>
            <p:cNvPr id="85" name=""/>
            <p:cNvSpPr/>
            <p:nvPr/>
          </p:nvSpPr>
          <p:spPr>
            <a:xfrm>
              <a:off x="2819520" y="18288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himin Ch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286000"/>
              <a:ext cx="426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Times New Roman"/>
                </a:rPr>
                <a:t>Sept. 30, 20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5146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rite assembly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t binary representation of the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Generate ASCII for the binary cod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the program with the inpu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7DA4-127D-4645-ACEA-15AC3909AE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rite assembly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your favorite text editor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r example,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movl $0, -8(%ebp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addl $0x12345678, %eax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ave as </a:t>
            </a:r>
            <a:r>
              <a:rPr b="1" lang="en-US" sz="3200" spc="-1" strike="noStrike">
                <a:solidFill>
                  <a:srgbClr val="003399"/>
                </a:solidFill>
                <a:latin typeface="Courier New"/>
              </a:rPr>
              <a:t>*.s, e.g. input.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1ED9-22EF-4A90-816A-0A2AD20092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t binary representation of the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mpile the assembly with gcc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gcc –c input.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isplay binary representation with objdump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objdump –d input.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opy the byte code into a text fil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3EA7-1F35-4BEE-8E95-A9740D20B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Generate ASCII for the binary cod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Use sendstring to generate ASCII string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endstring &lt; input.txt &gt; input.raw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9974-B8B0-4435-95E3-48B8634F5D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un the program with the inp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at the command line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example2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un in gdb: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gdb example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run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4B438-E1D3-45CD-B69F-C4DE491891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how Code on the Stac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break example2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break *0x80483f6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run &lt; input.raw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p/x $ebp – 8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p/x $ebp + 3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continu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(gdb) disas 0xbffffa40 0xbffffa4b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4FF9-6170-4864-B797-DC8C58D6FF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mportant Dat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ab 3: due Monday (Oct. 7), 11:59pm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Exam 1: Tuesday (Oct. 8), 6:00–7:30pm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Doherty Hall 2315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DBB89-4FDA-445A-B797-805BA1202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1:  Buffer Overflow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2314440"/>
            <a:ext cx="7315200" cy="33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id example1(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latile int n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har buf[8]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volatile int x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 = 0x12345678;  x = 0xdeadbeef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cpy(buf, "abcdefghijk")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// a=0x61 b=0x62 ...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uf[8] = 0xab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uf[-4] = 0xcd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62080" y="113364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lease draw the stack frame of “example1”. What are the values of n and x at the marked poi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609640" y="4510080"/>
            <a:ext cx="426852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9000" y="42339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58080" y="4967280"/>
            <a:ext cx="15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57520" y="5300640"/>
            <a:ext cx="4268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600280" y="4214880"/>
            <a:ext cx="4268880" cy="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29280" y="39387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n=? x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F141-8752-435B-828B-380365490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M of example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71440"/>
            <a:ext cx="73152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0    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1    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3    sub    $0x1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6    movl   $0x12345678,0xfffffffc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3fd    movl   $0xdeadbeef,0xfffffff0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4    add    $0xfffffff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7    push   $0x80484a8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c    lea    0xfffffff4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0f    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0    call   0x8048308 &lt;strcpy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5    add    $0x10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8    movb   $0xab,0xfffffffc(%ebp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1c    mov    $0xfffffffc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1    lea    0xfffffff4(%ebp),%ed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4    movb   $0xcd,(%eax,%edx,1)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8    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a    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0x804842b    ret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3860-0780-4BE2-B0A9-ADAC53159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ck 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ab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cd,(%eax,%edx,1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</a:t>
            </a:r>
            <a:r>
              <a:rPr b="0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D9937-EECA-4F62-8075-38F8CB218A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fore Calling strcpy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1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3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5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134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138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448000" y="393372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819520" y="3924360"/>
            <a:ext cx="704880" cy="314280"/>
            <a:chOff x="2819520" y="3924360"/>
            <a:chExt cx="704880" cy="314280"/>
          </a:xfrm>
        </p:grpSpPr>
        <p:sp>
          <p:nvSpPr>
            <p:cNvPr id="143" name=""/>
            <p:cNvSpPr/>
            <p:nvPr/>
          </p:nvSpPr>
          <p:spPr>
            <a:xfrm>
              <a:off x="2819520" y="39337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71960" y="3924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0" y="39243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600200" y="332424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res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9760" y="361008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BDFD-0D89-4808-9103-B3DBD8A01F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fter Calling strcpy(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171440"/>
            <a:ext cx="4476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0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b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a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8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7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3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169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173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96000" y="3629160"/>
            <a:ext cx="704880" cy="314280"/>
            <a:chOff x="6696000" y="3629160"/>
            <a:chExt cx="704880" cy="314280"/>
          </a:xfrm>
        </p:grpSpPr>
        <p:sp>
          <p:nvSpPr>
            <p:cNvPr id="180" name=""/>
            <p:cNvSpPr/>
            <p:nvPr/>
          </p:nvSpPr>
          <p:spPr>
            <a:xfrm>
              <a:off x="6696000" y="3638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4844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0088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696000" y="3914640"/>
            <a:ext cx="704880" cy="314280"/>
            <a:chOff x="6696000" y="3914640"/>
            <a:chExt cx="704880" cy="314280"/>
          </a:xfrm>
        </p:grpSpPr>
        <p:sp>
          <p:nvSpPr>
            <p:cNvPr id="184" name=""/>
            <p:cNvSpPr/>
            <p:nvPr/>
          </p:nvSpPr>
          <p:spPr>
            <a:xfrm>
              <a:off x="6696000" y="3924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4844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0088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324480" y="3924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467676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trcpy (buf, "abcdefghijk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C206-6506-4B22-BCDF-993BA6CD9E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efore Retur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171080"/>
            <a:ext cx="447660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12345678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ab,0xfffffffc(%ebp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movb   $0xcd,(%eax,%edx,1)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30193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old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65800" y="308628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32385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480" y="27147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409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3242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0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b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a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362916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8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7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6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4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3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2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480" y="492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50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24480" y="42386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d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ad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e</a:t>
            </a:r>
            <a:r>
              <a:rPr b="1" lang="en-US" sz="10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454356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84812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28480" y="3386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25240" y="3986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25240" y="4276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0x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696000" y="3314880"/>
            <a:ext cx="704880" cy="314280"/>
            <a:chOff x="6696000" y="3314880"/>
            <a:chExt cx="704880" cy="314280"/>
          </a:xfrm>
        </p:grpSpPr>
        <p:sp>
          <p:nvSpPr>
            <p:cNvPr id="207" name=""/>
            <p:cNvSpPr/>
            <p:nvPr/>
          </p:nvSpPr>
          <p:spPr>
            <a:xfrm>
              <a:off x="6696000" y="33242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00880" y="33148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696000" y="4229280"/>
            <a:ext cx="704880" cy="314280"/>
            <a:chOff x="6696000" y="4229280"/>
            <a:chExt cx="704880" cy="314280"/>
          </a:xfrm>
        </p:grpSpPr>
        <p:sp>
          <p:nvSpPr>
            <p:cNvPr id="211" name=""/>
            <p:cNvSpPr/>
            <p:nvPr/>
          </p:nvSpPr>
          <p:spPr>
            <a:xfrm>
              <a:off x="6696000" y="42386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4844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00880" y="422928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613480" y="332424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03760" y="3762360"/>
            <a:ext cx="7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94400" y="421956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696000" y="3629160"/>
            <a:ext cx="704880" cy="314280"/>
            <a:chOff x="6696000" y="3629160"/>
            <a:chExt cx="704880" cy="314280"/>
          </a:xfrm>
        </p:grpSpPr>
        <p:sp>
          <p:nvSpPr>
            <p:cNvPr id="218" name=""/>
            <p:cNvSpPr/>
            <p:nvPr/>
          </p:nvSpPr>
          <p:spPr>
            <a:xfrm>
              <a:off x="6696000" y="363852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44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00880" y="3629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696000" y="3914640"/>
            <a:ext cx="704880" cy="314280"/>
            <a:chOff x="6696000" y="3914640"/>
            <a:chExt cx="704880" cy="314280"/>
          </a:xfrm>
        </p:grpSpPr>
        <p:sp>
          <p:nvSpPr>
            <p:cNvPr id="222" name=""/>
            <p:cNvSpPr/>
            <p:nvPr/>
          </p:nvSpPr>
          <p:spPr>
            <a:xfrm>
              <a:off x="6696000" y="3924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4844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00880" y="39146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324480" y="3924360"/>
            <a:ext cx="1447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AAE8-BEE7-4220-A9BA-601EE965C4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What If 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3152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f we instead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cpy(buf, "abcdefghijklmn");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5400000">
            <a:off x="5233680" y="985680"/>
            <a:ext cx="228600" cy="2647800"/>
          </a:xfrm>
          <a:custGeom>
            <a:avLst/>
            <a:gdLst>
              <a:gd name="textAreaLeft" fmla="*/ 0 w 228600"/>
              <a:gd name="textAreaRight" fmla="*/ 82440 w 228600"/>
              <a:gd name="textAreaTop" fmla="*/ 68760 h 2647800"/>
              <a:gd name="textAreaBottom" fmla="*/ 2579040 h 264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71840" y="245736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14+1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33640" y="3591000"/>
            <a:ext cx="7315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hat if we instead</a:t>
            </a:r>
            <a:br>
              <a:rPr sz="3200"/>
            </a:b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strcpy(buf, "abcdefghijklmnopq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5528880" y="3052800"/>
            <a:ext cx="228600" cy="3257640"/>
          </a:xfrm>
          <a:custGeom>
            <a:avLst/>
            <a:gdLst>
              <a:gd name="textAreaLeft" fmla="*/ 0 w 228600"/>
              <a:gd name="textAreaRight" fmla="*/ 82440 w 228600"/>
              <a:gd name="textAreaTop" fmla="*/ 84960 h 3257640"/>
              <a:gd name="textAreaBottom" fmla="*/ 3172680 h 325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62480" y="48290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17+1 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57440" y="2867040"/>
            <a:ext cx="44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ld ebp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5315040"/>
            <a:ext cx="44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turn addr is overwrit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370D-2DFC-4B40-97E1-0053384016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Example 2: How to Put Code onto Stack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466880" y="1724040"/>
            <a:ext cx="401004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dd    $0xfffffff4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ea    0xfffffff8(%ebp)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all   0x80482e8 &lt;gets&gt;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xor    %eax,%eax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2560" y="1600200"/>
            <a:ext cx="32194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int example2 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char buf[8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gets (bu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856F-82F8-4FB8-9932-5BF531D970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imin</cp:lastModifiedBy>
  <dcterms:modified xsi:type="dcterms:W3CDTF">2002-09-29T23:32:11Z</dcterms:modified>
  <cp:revision>337</cp:revision>
  <dc:subject/>
  <dc:title>PowerPoint Presentation</dc:title>
</cp:coreProperties>
</file>