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22B2-418C-4932-876D-40CE6FA26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DCDB-6ACD-4162-88DD-3E19E62ED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9DC9-8E66-49E2-8116-2F8042ACE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1CD0-5787-4EBC-A773-0D18A97B2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8CFA-1FA0-4C58-A552-901A23CF6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75E1-B9DE-4A96-8207-BD2561C2B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4029-D45E-4476-BA00-9DBEB0C9A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7C6B-1FF6-46E2-9A95-A5F052979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8039-7974-489B-810F-9DA127BB8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F394-7CCE-4588-929B-DE2160976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4BB0-0BEB-476E-9BEE-8AD5CBF36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F675-1384-4F84-8D41-5E0269CF6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1A3A-E1D9-4C67-8546-FACA6B3DD1CA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 overflo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utting code onto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30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ep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rite assembly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t binary representation of the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ate ASCII for the binary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 the program with the inpu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FCB1-4F69-45A1-9AFC-47ACB09EF2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assembly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e your favorite text edit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example,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ovl $0, -8(%ebp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l $0x12345678, %ea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ave as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*.s, e.g. input.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8635-9473-419E-83F7-F8712706E4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t binary representation of the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ile the assembly with gc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gcc –c input.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splay binary representation with objdump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objdump –d input.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py the byte code into a text fi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4449-3BDC-43F6-890E-106631195F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nerate ASCII for the binary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e sendstring to generate ASCII string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endstring &lt; input.txt &gt; input.raw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73B1-3C2A-4BEF-A100-CA04BAA471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un the program with the in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 at the command line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ample2 &lt; input.ra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 in gdb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gdb example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run &lt; input.ra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8726-5180-4073-A3E6-6D38D218ED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ow Code on the Stac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break example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break *0x80483f6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run &lt; input.ra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p/x $ebp – 8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p/x $ebp + 3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continu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disas 0xbffffa40 0xbffffa4b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5531-6D97-4E68-9B09-1A3A1C90DB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3: due Monday (Oct. 7), 11:59p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 1: Tuesday (Oct. 8), 6:00–7:30pm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herty Hall 231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6AE4-1806-451E-B4DA-B2F648874C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1:  Buffer Overflo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2314440"/>
            <a:ext cx="7315200" cy="33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example1(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latile int n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har buf[8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latile int x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 = 0x12345678;  x = 0xdeadbeef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cpy(buf, "abcdefghijk"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/ a=0x61 b=0x62 ...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uf[8] = 0xab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uf[-4] = 0xcd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62080" y="11336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lease draw the stack frame of “example1”. What are the values of n and x at the marked poi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609640" y="4510080"/>
            <a:ext cx="426852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9000" y="423396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n=? x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58080" y="496728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=? x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57520" y="5300640"/>
            <a:ext cx="4268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600280" y="4214880"/>
            <a:ext cx="426888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29280" y="393876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=? x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A6CE-D73D-46DA-B811-B2224EF0EE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example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71440"/>
            <a:ext cx="73152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 sub    $0x18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6    movl   $0x12345678,0xfffffffc(%ebp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d    movl   $0xdeadbeef,0xfffffff0(%ebp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4    add    $0xfffffff8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7    push   $0x80484a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c    lea    0xfffffff4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f 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0    call   0x8048308 &lt;strcpy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5    add    $0x10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8    movb   $0xab,0xfffffffc(%ebp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c    mov    $0xfffffffc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1    lea    0xfffffff4(%ebp)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4    movb   $0xcd,(%eax,%edx,1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8 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a 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b    re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D8AE-025C-4E8E-90A2-FB6D727146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Fra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171440"/>
            <a:ext cx="44766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ab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cd,(%eax,%edx,1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AF28-A7D5-4784-B268-B17BBEBCE2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efore Calling strcpy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171440"/>
            <a:ext cx="4476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12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34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56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d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d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696000" y="3314880"/>
            <a:ext cx="704880" cy="314280"/>
            <a:chOff x="6696000" y="3314880"/>
            <a:chExt cx="704880" cy="314280"/>
          </a:xfrm>
        </p:grpSpPr>
        <p:sp>
          <p:nvSpPr>
            <p:cNvPr id="134" name=""/>
            <p:cNvSpPr/>
            <p:nvPr/>
          </p:nvSpPr>
          <p:spPr>
            <a:xfrm>
              <a:off x="6696000" y="3324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4844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0088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96000" y="4229280"/>
            <a:ext cx="704880" cy="314280"/>
            <a:chOff x="6696000" y="4229280"/>
            <a:chExt cx="704880" cy="314280"/>
          </a:xfrm>
        </p:grpSpPr>
        <p:sp>
          <p:nvSpPr>
            <p:cNvPr id="138" name=""/>
            <p:cNvSpPr/>
            <p:nvPr/>
          </p:nvSpPr>
          <p:spPr>
            <a:xfrm>
              <a:off x="6696000" y="4238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4844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0088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448000" y="393372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19520" y="3924360"/>
            <a:ext cx="704880" cy="314280"/>
            <a:chOff x="2819520" y="3924360"/>
            <a:chExt cx="704880" cy="314280"/>
          </a:xfrm>
        </p:grpSpPr>
        <p:sp>
          <p:nvSpPr>
            <p:cNvPr id="143" name=""/>
            <p:cNvSpPr/>
            <p:nvPr/>
          </p:nvSpPr>
          <p:spPr>
            <a:xfrm>
              <a:off x="28195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71960" y="39243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24400" y="39243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600200" y="33242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ddress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9760" y="361008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3480" y="33242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03760" y="3762360"/>
            <a:ext cx="7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94400" y="421956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4A80-81E8-4299-90FF-97AC935D5C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fter Calling strcpy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171440"/>
            <a:ext cx="4476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0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b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a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8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7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6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4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3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2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d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d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696000" y="3314880"/>
            <a:ext cx="704880" cy="314280"/>
            <a:chOff x="6696000" y="3314880"/>
            <a:chExt cx="704880" cy="314280"/>
          </a:xfrm>
        </p:grpSpPr>
        <p:sp>
          <p:nvSpPr>
            <p:cNvPr id="169" name=""/>
            <p:cNvSpPr/>
            <p:nvPr/>
          </p:nvSpPr>
          <p:spPr>
            <a:xfrm>
              <a:off x="6696000" y="3324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4844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0088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96000" y="4229280"/>
            <a:ext cx="704880" cy="314280"/>
            <a:chOff x="6696000" y="4229280"/>
            <a:chExt cx="704880" cy="314280"/>
          </a:xfrm>
        </p:grpSpPr>
        <p:sp>
          <p:nvSpPr>
            <p:cNvPr id="173" name=""/>
            <p:cNvSpPr/>
            <p:nvPr/>
          </p:nvSpPr>
          <p:spPr>
            <a:xfrm>
              <a:off x="6696000" y="4238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4844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088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613480" y="33242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03760" y="3762360"/>
            <a:ext cx="7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94400" y="421956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96000" y="3629160"/>
            <a:ext cx="704880" cy="314280"/>
            <a:chOff x="6696000" y="3629160"/>
            <a:chExt cx="704880" cy="314280"/>
          </a:xfrm>
        </p:grpSpPr>
        <p:sp>
          <p:nvSpPr>
            <p:cNvPr id="180" name=""/>
            <p:cNvSpPr/>
            <p:nvPr/>
          </p:nvSpPr>
          <p:spPr>
            <a:xfrm>
              <a:off x="6696000" y="36385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4844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0088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696000" y="3914640"/>
            <a:ext cx="704880" cy="314280"/>
            <a:chOff x="6696000" y="3914640"/>
            <a:chExt cx="704880" cy="314280"/>
          </a:xfrm>
        </p:grpSpPr>
        <p:sp>
          <p:nvSpPr>
            <p:cNvPr id="184" name=""/>
            <p:cNvSpPr/>
            <p:nvPr/>
          </p:nvSpPr>
          <p:spPr>
            <a:xfrm>
              <a:off x="6696000" y="3924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4844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088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324480" y="39243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467676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cpy (buf, "abcdefghijk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ABF8-B86D-4332-8BF5-02161737FA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efore Retur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171080"/>
            <a:ext cx="4476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ab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cd,(%eax,%edx,1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0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b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a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8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7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6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4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3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2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d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d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96000" y="3314880"/>
            <a:ext cx="704880" cy="314280"/>
            <a:chOff x="6696000" y="3314880"/>
            <a:chExt cx="704880" cy="314280"/>
          </a:xfrm>
        </p:grpSpPr>
        <p:sp>
          <p:nvSpPr>
            <p:cNvPr id="207" name=""/>
            <p:cNvSpPr/>
            <p:nvPr/>
          </p:nvSpPr>
          <p:spPr>
            <a:xfrm>
              <a:off x="6696000" y="3324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088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696000" y="4229280"/>
            <a:ext cx="704880" cy="314280"/>
            <a:chOff x="6696000" y="4229280"/>
            <a:chExt cx="704880" cy="314280"/>
          </a:xfrm>
        </p:grpSpPr>
        <p:sp>
          <p:nvSpPr>
            <p:cNvPr id="211" name=""/>
            <p:cNvSpPr/>
            <p:nvPr/>
          </p:nvSpPr>
          <p:spPr>
            <a:xfrm>
              <a:off x="6696000" y="4238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4844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088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613480" y="33242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03760" y="3762360"/>
            <a:ext cx="7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4400" y="421956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696000" y="3629160"/>
            <a:ext cx="704880" cy="314280"/>
            <a:chOff x="6696000" y="3629160"/>
            <a:chExt cx="704880" cy="314280"/>
          </a:xfrm>
        </p:grpSpPr>
        <p:sp>
          <p:nvSpPr>
            <p:cNvPr id="218" name=""/>
            <p:cNvSpPr/>
            <p:nvPr/>
          </p:nvSpPr>
          <p:spPr>
            <a:xfrm>
              <a:off x="6696000" y="36385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844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0088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696000" y="3914640"/>
            <a:ext cx="704880" cy="314280"/>
            <a:chOff x="6696000" y="3914640"/>
            <a:chExt cx="704880" cy="314280"/>
          </a:xfrm>
        </p:grpSpPr>
        <p:sp>
          <p:nvSpPr>
            <p:cNvPr id="222" name=""/>
            <p:cNvSpPr/>
            <p:nvPr/>
          </p:nvSpPr>
          <p:spPr>
            <a:xfrm>
              <a:off x="6696000" y="3924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4844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0088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324480" y="39243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B237-A25D-479E-990A-E87E4A9456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at If 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if we instead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cpy(buf, "abcdefghijklmn"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233680" y="985680"/>
            <a:ext cx="228600" cy="2647800"/>
          </a:xfrm>
          <a:custGeom>
            <a:avLst/>
            <a:gdLst>
              <a:gd name="textAreaLeft" fmla="*/ 0 w 228600"/>
              <a:gd name="textAreaRight" fmla="*/ 82440 w 228600"/>
              <a:gd name="textAreaTop" fmla="*/ 68760 h 2647800"/>
              <a:gd name="textAreaBottom" fmla="*/ 2579040 h 26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71840" y="245736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14+1 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33640" y="3591000"/>
            <a:ext cx="7315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if we instead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cpy(buf, "abcdefghijklmnopq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5528880" y="3052800"/>
            <a:ext cx="228600" cy="3257640"/>
          </a:xfrm>
          <a:custGeom>
            <a:avLst/>
            <a:gdLst>
              <a:gd name="textAreaLeft" fmla="*/ 0 w 228600"/>
              <a:gd name="textAreaRight" fmla="*/ 82440 w 228600"/>
              <a:gd name="textAreaTop" fmla="*/ 84960 h 3257640"/>
              <a:gd name="textAreaBottom" fmla="*/ 3172680 h 32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62480" y="48290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17+1 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57440" y="2867040"/>
            <a:ext cx="44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ld ebp is over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5315040"/>
            <a:ext cx="44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turn addr is over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5DC3-EBC2-49D9-902F-53DEFD74D4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: How to Put Code onto Stack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66880" y="1724040"/>
            <a:ext cx="401004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ea    0xfffffff8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all   0x80482e8 &lt;gets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xor  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2560" y="1600200"/>
            <a:ext cx="32194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example2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char buf[8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gets (bu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D38B-37AA-41D3-AB96-54E2EFAF3C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29T23:32:11Z</dcterms:modified>
  <cp:revision>337</cp:revision>
  <dc:subject/>
  <dc:title>PowerPoint Presentation</dc:title>
</cp:coreProperties>
</file>