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EB0F-98B0-4040-898A-03F4C689C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5C7B-CAA1-414E-9FE8-8C6E25C1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9A56-BAFC-4639-8461-C19880AC3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0A6A-E161-4FEB-8E9C-3BD70FF09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7A24-2A62-43B8-8DF7-AB240F01C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D569-465C-46C6-97A2-812B02372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DAFF-13DE-413A-B254-19742E583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F2E3-E54F-431E-9D49-B38C49CBF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59AF-FC73-4729-A33B-840306264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9A2D-2011-4A67-8A45-3931E7619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2D55-362D-4417-8D52-19283885A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3537-9F73-4F61-9615-6C96C4B69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310-4B9C-4E71-8AD4-4EA0C9E20C7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 overflo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utting code onto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30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7FDA-C508-4213-A3FF-DC75F288D0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your favorite text edi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example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ovl $0, -8(%ebp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l $0x12345678, %ea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ve as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*.s, e.g. input.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02DB-EFCF-47D2-B301-9C02E29A51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the assembly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cc –c input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binary representation with objdump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bjdump –d input.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py the byte code into a text 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0D31-DBCC-45A3-9A6C-10448A098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sendstring to generate ASCII str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endstring &lt; input.txt &gt; input.raw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085D-1906-4DF7-9661-D8C203F925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at the command lin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ample2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in gd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db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F29A-7224-499F-89A5-24BCB3D1A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w Code on the Sta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*0x80483f6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– 8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+ 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contin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disas 0xbffffa40 0xbffffa4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BFB6-E6C0-40F8-A20B-520B4A613C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524D-3C0B-4E0B-A674-8DEB97DF8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:  Buffer Overfl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314440"/>
            <a:ext cx="731520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example1(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n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x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= 0x12345678;  x = 0xdeadbeef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(buf, "abcdefghijk"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/ a=0x61 b=0x62 ..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8] = 0xab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-4] = 0xc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1133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draw the stack frame of “example1”. What are the values of n and x at the marked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09640" y="4510080"/>
            <a:ext cx="4268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9000" y="42339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58080" y="496728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57520" y="5300640"/>
            <a:ext cx="4268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00280" y="4214880"/>
            <a:ext cx="426888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29280" y="39387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61CC-F5DF-4D7B-84F2-75F1132AA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example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71440"/>
            <a:ext cx="73152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 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6    movl   $0x12345678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 movl   $0xdeadbeef,0xfffffff0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4    add    $0xfffffff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7    push   $0x80484a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c    lea    0xfffffff4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0    call   0x8048308 &lt;strcpy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5    add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 movb   $0xab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c    mov    $0xfffffffc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 lea    0xfffffff4(%ebp)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4    movb   $0xcd,(%eax,%edx,1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a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 re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7AD9-B326-40EC-AFB4-687EEA3E1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6051-771B-42EF-B966-7B9ABE0B6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1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3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5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34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38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448000" y="393372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19520" y="3924360"/>
            <a:ext cx="704880" cy="314280"/>
            <a:chOff x="2819520" y="3924360"/>
            <a:chExt cx="704880" cy="314280"/>
          </a:xfrm>
        </p:grpSpPr>
        <p:sp>
          <p:nvSpPr>
            <p:cNvPr id="143" name=""/>
            <p:cNvSpPr/>
            <p:nvPr/>
          </p:nvSpPr>
          <p:spPr>
            <a:xfrm>
              <a:off x="28195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7196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600200" y="33242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res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9760" y="361008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4A6C-1296-4738-AF5E-9299CE97B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69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73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180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184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6767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 (buf, "abcdefghij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89CE-373F-4E2D-9FB6-8937E265FE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Retu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171080"/>
            <a:ext cx="4476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207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211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218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222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62CF-B510-48B1-AEB7-289E20F64D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"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233680" y="985680"/>
            <a:ext cx="228600" cy="2647800"/>
          </a:xfrm>
          <a:custGeom>
            <a:avLst/>
            <a:gdLst>
              <a:gd name="textAreaLeft" fmla="*/ 0 w 228600"/>
              <a:gd name="textAreaRight" fmla="*/ 82440 w 228600"/>
              <a:gd name="textAreaTop" fmla="*/ 68760 h 2647800"/>
              <a:gd name="textAreaBottom" fmla="*/ 2579040 h 26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1840" y="2457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4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3640" y="3591000"/>
            <a:ext cx="7315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opq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5528880" y="3052800"/>
            <a:ext cx="228600" cy="3257640"/>
          </a:xfrm>
          <a:custGeom>
            <a:avLst/>
            <a:gdLst>
              <a:gd name="textAreaLeft" fmla="*/ 0 w 228600"/>
              <a:gd name="textAreaRight" fmla="*/ 82440 w 228600"/>
              <a:gd name="textAreaTop" fmla="*/ 84960 h 3257640"/>
              <a:gd name="textAreaBottom" fmla="*/ 3172680 h 32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62480" y="48290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7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57440" y="286704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ld ebp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31504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turn addr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5C05-0F1F-4E82-B9BE-4600C028C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How to Put Code onto Stack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66880" y="1724040"/>
            <a:ext cx="40100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ea    0xfffffff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all   0x80482e8 &lt;gets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2560" y="1600200"/>
            <a:ext cx="32194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2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s (bu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2839-2CFE-4C64-8B7D-BC643D31A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9T23:32:11Z</dcterms:modified>
  <cp:revision>337</cp:revision>
  <dc:subject/>
  <dc:title>PowerPoint Presentation</dc:title>
</cp:coreProperties>
</file>