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B67-2BDA-4807-A838-E27B8060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DE63-941E-4791-92E6-817F5683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F78-64B7-4911-8A9C-1494DFDA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74A-B8F0-4883-AF0D-266318622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8CF5-177B-4E08-82A7-D26CFA88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E9B-FB9D-448B-98D7-BC474EBA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B85-FB8E-4521-B150-F349A69F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25E-1437-4B50-A2D6-61C8E64D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01B-4310-4E10-B717-B3B1EDBE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A3A8-48CE-4F24-8C00-6CB2173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BC4-F992-46BA-83AD-ACF8C590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6B0-7D2E-4998-85C8-9C16898F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B6FB-F88D-4A72-ACB9-D8F89E3A3B5E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4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Stack &amp; Lab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30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05320" y="2819520"/>
            <a:ext cx="2743200" cy="1218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2819520"/>
            <a:ext cx="3657600" cy="18288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39080" y="3276720"/>
            <a:ext cx="384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419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3276720"/>
            <a:ext cx="35748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81960" y="3276720"/>
            <a:ext cx="3571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39080" y="297180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419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97180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81960" y="297180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43200" y="3809880"/>
            <a:ext cx="3429000" cy="15242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uffer Overflow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overflow(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* string, int n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cpy(buf, string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8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    0xfffffff0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   0x804833c &lt;strcpy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0xc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Your Exploit Co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abs_shift(</a:t>
            </a: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n) 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(n&gt;=0 ? n : -n) &lt;&lt; 2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l 8(%ebp)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stl %eax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ge .L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egl 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L1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ll $2,%ea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long 0x0000000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971800"/>
            <a:ext cx="541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utting exploit c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nto the stack (1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gcc –c exploit.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objdump –d exploit.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0 &lt;.text&gt;: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:   8b 45 08            mov    0x8(%ebp)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:   85 c0               test   %eax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:   7d 02               jge    0x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:   f7 d8               neg    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:   c1 e0 02            shl    $0x2,%eax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  00 00               add    %al,(%eax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cat &gt; exploit.tx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b 45 08 85 c0 7d 02 f7 d8 c1 e0 0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sendstring &lt; exploit.txt &gt;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od -t x1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 8b 45 08 85 c0 7d 02 f7 d8 c1 e0 02 0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Putting exploit cod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nto the stack (2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unix&gt; gdb bufoverf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break bufoverflo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run &lt; exploit.ra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nexti 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x/4w $ebp-16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gdb) disas 0xbffff7c8 0xbffff7d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b 3: due Monday (7 Oct), 11:59p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 1: Tuesday (8 Oct), 6:00–7:30p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oherty Hall 2315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actical skills for Lab 3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ut of bounds array acc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echanics of putting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your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code onto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360" y="170964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523880" y="2133720"/>
            <a:ext cx="2971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06640" y="2517840"/>
            <a:ext cx="95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666880" y="2362320"/>
            <a:ext cx="1828800" cy="76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09760" y="279864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2433600"/>
            <a:ext cx="105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"/>
          <p:cNvSpPr/>
          <p:nvPr/>
        </p:nvSpPr>
        <p:spPr>
          <a:xfrm>
            <a:off x="4495680" y="1238400"/>
            <a:ext cx="4648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    $0x1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2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l   $0xdeadbeef,0xfffffff0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fffffff8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$0x80484a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   0x8048308 &lt;strcp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    $0x10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6c,0xfffffffc(%e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$0xfffffffc,%e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a    0xfffffff4(%ebp),%ed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b   $0xa8,(%eax,%edx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209680"/>
            <a:ext cx="22096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4920" y="1919160"/>
            <a:ext cx="1653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%ebp – 12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Sans"/>
              </a:rPr>
              <a:t>allocated for bu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Local Variab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23623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5800" y="236232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20574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7524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480" y="4800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3881520"/>
            <a:ext cx="1447920" cy="900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24480" y="477684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08840" y="260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4680" y="3247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3595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f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70840" y="6095880"/>
            <a:ext cx="2924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o what’s happening after strcpy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localvars(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uf[8]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lat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 = 2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0xdeadbeef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cpy(buf, "Carnegiem;")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'm' = 0x6d, ';' = 0x3b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3 (0x3b6d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8] = 0x6c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n = 15212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[-4] = 0xa8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x = 0xdeadbea8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971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3276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00480" y="3924360"/>
            <a:ext cx="39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77160" y="48006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xfd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39080" y="26668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419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6668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81960" y="26668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76520" y="2819160"/>
            <a:ext cx="4572000" cy="7596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39080" y="3581280"/>
            <a:ext cx="384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19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3581280"/>
            <a:ext cx="357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81960" y="3581280"/>
            <a:ext cx="3571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3124080"/>
            <a:ext cx="3505320" cy="6098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09-30T15:37:56Z</dcterms:modified>
  <cp:revision>269</cp:revision>
  <dc:subject/>
  <dc:title>Slide 1</dc:title>
</cp:coreProperties>
</file>