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39D4-321B-455C-83BB-26C7F077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A107-C1BF-4B4E-A0C4-B842F0F5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9288-899D-4E68-A7EA-D2C27BAC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BBC8-3365-42FD-9703-6BC7A185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D2AF-2D7C-4FEB-B3D4-3BBA982E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C254-99F3-4B5C-AB85-9DFE2FF4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3F9D-9B42-4479-B78C-4920512D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4C16-C8FE-4DF3-A95B-2E4C382C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C512-7AEC-45D0-84A7-620A2098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BC44-C717-470F-A701-F08D27D7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B3F5-E750-4E57-887A-20B88585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794B-6A14-4C3C-A568-85B59326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FCD1-D6BE-4CB6-884A-FD5CD9F07799}" type="slidenum"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Recitation 4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The Stack &amp; Lab3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ndrew Faulr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15213 Section 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30 September 2002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"/>
          <p:cNvSpPr/>
          <p:nvPr/>
        </p:nvSpPr>
        <p:spPr>
          <a:xfrm>
            <a:off x="6324480" y="23623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65800" y="236232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20574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17524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48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881520"/>
            <a:ext cx="1447920" cy="90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47768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08840" y="260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24680" y="3247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4680" y="3595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"/>
          <p:cNvSpPr/>
          <p:nvPr/>
        </p:nvSpPr>
        <p:spPr>
          <a:xfrm>
            <a:off x="6900480" y="3924360"/>
            <a:ext cx="39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77160" y="4800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d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39080" y="26668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19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26668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81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39080" y="3276720"/>
            <a:ext cx="384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19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276720"/>
            <a:ext cx="3574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81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39080" y="297180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19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97180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81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505320" y="2819520"/>
            <a:ext cx="2743200" cy="121896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39080" y="35812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19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24480" y="35812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81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3623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65800" y="236232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20574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17524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48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3881520"/>
            <a:ext cx="1447920" cy="90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7768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08840" y="260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4680" y="3247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3595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"/>
          <p:cNvSpPr/>
          <p:nvPr/>
        </p:nvSpPr>
        <p:spPr>
          <a:xfrm>
            <a:off x="6900480" y="3924360"/>
            <a:ext cx="39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77160" y="4800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d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39080" y="26668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19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26668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81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39080" y="3276720"/>
            <a:ext cx="384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19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3276720"/>
            <a:ext cx="3574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81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39080" y="297180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19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97180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81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2819520"/>
            <a:ext cx="3657600" cy="18288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39080" y="35812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19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24480" y="35812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681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23623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65800" y="236232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20574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24480" y="17524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3448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99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3881520"/>
            <a:ext cx="1447920" cy="90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47768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908840" y="260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24680" y="3247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924680" y="3595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"/>
          <p:cNvSpPr/>
          <p:nvPr/>
        </p:nvSpPr>
        <p:spPr>
          <a:xfrm>
            <a:off x="6900480" y="3924360"/>
            <a:ext cx="39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77160" y="4800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d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39080" y="26668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419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26668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81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39080" y="3276720"/>
            <a:ext cx="384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419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24480" y="3276720"/>
            <a:ext cx="3574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81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39080" y="297180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19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297180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81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743200" y="3809880"/>
            <a:ext cx="3429000" cy="152424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39080" y="35812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19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35812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81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Buffer Overflow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ufoverflow(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* string, int n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cpy(buf, string)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0x8(%ebp),%ea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    0xfffffff0(%ebp),%ea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  0x804833c &lt;strcpy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0xc(%ebp),%ea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Your Exploit Cod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abs_shift(</a:t>
            </a:r>
            <a:r>
              <a:rPr b="1" lang="pt-BR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n) {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(n&gt;=0 ? n : -n) &lt;&lt; 2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l 8(%ebp),%ea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l %eax,%ea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ge .L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gl %ea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L1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ll $2,%ea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long 0x0000000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971800"/>
            <a:ext cx="541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utting exploit cod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nto the stack (1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unix&gt; gcc –c exploit.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unix&gt; objdump –d exploit.o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00000 &lt;.text&gt;: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:   8b 45 08            mov    0x8(%ebp),%ea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:   85 c0               test   %eax,%ea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:   7d 02               jge    0x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:   f7 d8               neg    %ea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:   c1 e0 02            shl    $0x2,%ea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  00 00               add    %al,(%eax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unix&gt; cat &gt; exploit.tx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b 45 08 85 c0 7d 02 f7 d8 c1 e0 0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unix&gt; sendstring &lt; exploit.txt &gt; exploit.ra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unix&gt; od -t x1 exploit.ra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0000 8b 45 08 85 c0 7d 02 f7 d8 c1 e0 02 0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utting exploit cod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nto the stack (2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unix&gt; gdb bufoverflo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break bufoverflo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run &lt; exploit.ra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x/4w $ebp-16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nexti 6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x/4w $ebp-16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disas 0xbffff7c8 0xbffff7d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ndrew Faulring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aulring@cs.cmu.edu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Office hours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SH 2504 (lab) / 2507 (conference room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ursday 5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ab 3: due Monday (7 Oct), 11:59pm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xam 1: Tuesday (8 Oct), 6:00–7:30p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Doherty Hall 2315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ractical skills for Lab 3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ut of bounds array acces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echanics of putting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code onto the stac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123840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2,0xfffffffc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$0x80484a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6c,0xfffffffc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a8,(%eax,%edx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360" y="1709640"/>
            <a:ext cx="105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Sans"/>
              </a:rPr>
              <a:t>%ebp –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123840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2,0xfffffffc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$0x80484a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6c,0xfffffffc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a8,(%eax,%edx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523880" y="2133720"/>
            <a:ext cx="2971800" cy="76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06640" y="2517840"/>
            <a:ext cx="955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Sans"/>
              </a:rPr>
              <a:t>%ebp –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123840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2,0xfffffffc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$0x80484a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6c,0xfffffffc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a8,(%eax,%edx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666880" y="2362320"/>
            <a:ext cx="1828800" cy="76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9760" y="2798640"/>
            <a:ext cx="105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Sans"/>
              </a:rPr>
              <a:t>%ebp –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123840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2,0xfffffffc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$0x80484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6c,0xfffffffc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a8,(%eax,%edx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2433600"/>
            <a:ext cx="105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Sans"/>
              </a:rPr>
              <a:t>%ebp –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123840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2,0xfffffffc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$0x80484a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6c,0xfffffffc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a8,(%eax,%edx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2209680"/>
            <a:ext cx="2209680" cy="838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44920" y="1919160"/>
            <a:ext cx="16534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Sans"/>
              </a:rPr>
              <a:t>%ebp – 12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Sans"/>
              </a:rPr>
              <a:t>allocated for bu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23623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65800" y="236232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20574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24480" y="17524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448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3881520"/>
            <a:ext cx="1447920" cy="90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47768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08840" y="260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24680" y="3247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24680" y="3595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70840" y="6095880"/>
            <a:ext cx="29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o what’s happening after strcpy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29718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32767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00480" y="3924360"/>
            <a:ext cx="39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77160" y="4800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d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39080" y="26668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19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26668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81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76520" y="2819160"/>
            <a:ext cx="4572000" cy="7596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39080" y="35812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19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35812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81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3124080"/>
            <a:ext cx="3505320" cy="60984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1:46:12Z</dcterms:created>
  <dc:creator>Andrew Robert Faulring</dc:creator>
  <dc:description/>
  <dc:language>en-US</dc:language>
  <cp:lastModifiedBy>Andrew Robert Faulring</cp:lastModifiedBy>
  <dcterms:modified xsi:type="dcterms:W3CDTF">2002-09-30T15:37:56Z</dcterms:modified>
  <cp:revision>269</cp:revision>
  <dc:subject/>
  <dc:title>Slide 1</dc:title>
</cp:coreProperties>
</file>