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689-0F95-43B7-B4AF-9420B002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8CA-5A2A-49C2-B24A-636BF74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93D-590C-4E8A-BD6F-A122348F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3E2-4C80-4D04-95E2-BF447FB2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AAA-590A-4BAC-8470-6E51E74E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7D0-875D-4AC2-88FA-23BBB191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8A1-D52F-412B-A3BD-30CC6DEC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4DC-996F-4337-8C6F-1D46794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8B1-04F5-4F86-B230-11BA91AE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B6B-E7A3-4421-BCE6-D3A7F8E9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9FF-7B3D-4CE3-B1F3-4F4E59F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B5F-EE9D-471C-BF6F-DE583025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B78D-2579-4AD1-B39B-BF29CD171FF9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Stack &amp; Lab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0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uffer Overflow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Your Exploit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971800"/>
            <a:ext cx="541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cat &gt; exploit.tx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c8 0xbffff7d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3: due Monday (7 Oct)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 1: Tuesday (8 Oct), 6:00–7:30p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oherty Hall 2315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actical skills for Lab 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ut of bounds array acc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chanics of putting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code onto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1709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06640" y="2517840"/>
            <a:ext cx="95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760" y="2798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243360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4920" y="1919160"/>
            <a:ext cx="1653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124080"/>
            <a:ext cx="350532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30T15:37:56Z</dcterms:modified>
  <cp:revision>269</cp:revision>
  <dc:subject/>
  <dc:title>Slide 1</dc:title>
</cp:coreProperties>
</file>