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10B8-BDAD-4785-9FC1-B4597DD2A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974D-8131-4977-844E-A294144A1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FE70-6F93-4B24-B8AC-37304D024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9A9C-8B83-4ED6-AD0A-B2A53AF6C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EAE6-F6AF-41A3-8347-E50CA6466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943C-F3DF-4301-80A9-B1444BB6A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114E-C872-4C3A-AE63-1C2943A39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0DF0-330B-4C26-9801-BD8BC6053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5A84-19EF-4585-A834-3A52EE76D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EE27-9675-4676-9C5B-B49A05433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99CB-833D-4A27-8526-DAA5C304C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96C0-803D-44C7-9C10-4988A66A4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B809-26E1-48C7-B57B-5C099F3076AD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ast week’s exerci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unction and stack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ruct and linked-lis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ept. 23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42800" y="3943440"/>
            <a:ext cx="4917960" cy="20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4    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5    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7    mov    0xc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a    </a:t>
            </a:r>
            <a:r>
              <a:rPr b="1" i="1" lang="en-US" sz="1800" spc="-1" strike="noStrike">
                <a:solidFill>
                  <a:srgbClr val="003399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0x8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d    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f    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33640" y="1243080"/>
            <a:ext cx="762156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3399"/>
              </a:buClr>
              <a:buFont typeface="Times New Roman"/>
              <a:buChar char="•"/>
              <a:tabLst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lease draw the stack at the marked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rite C code for the assembly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Char char="•"/>
              <a:tabLst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(gdb) x/s 0x8048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0x8048478 &lt;_IO_stdin_used+4&gt;:    "%d\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3920" y="3440160"/>
            <a:ext cx="66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example_1 (int x, int 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257800" y="4510080"/>
            <a:ext cx="162072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9000" y="4233960"/>
            <a:ext cx="12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St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047D-FF74-4C5C-8C7F-FFAC46B30D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main(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2600" y="1177920"/>
            <a:ext cx="5715000" cy="49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4   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5   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7   sub    $0x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a   add    $0xfffffff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d   push   $0x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f   push   $0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1   call   0x80483e4 &lt;example_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6   add    $0xfffffff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9   push 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a   push   $0x8048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f   call   0x8048308 &lt;print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4   xor   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6   mov  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8   pop 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9   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079960" y="3468600"/>
            <a:ext cx="2363760" cy="3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24640" y="324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St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59080" y="3241800"/>
            <a:ext cx="238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4640" y="29844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St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0509D-C152-468B-9845-E821F3B6D1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at Point 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3240" y="1177920"/>
            <a:ext cx="4541760" cy="324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&lt;mai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4   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5   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7   sub    $0x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a   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d   push   $0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f   push   $0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1   call   0x80483e4 &lt;example_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6   …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29280" y="14907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18320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27840" y="2182680"/>
            <a:ext cx="1382760" cy="34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27840" y="25304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27840" y="287820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27840" y="32259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1080" y="356868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983200" y="3665520"/>
            <a:ext cx="935280" cy="368280"/>
            <a:chOff x="5983200" y="3665520"/>
            <a:chExt cx="935280" cy="368280"/>
          </a:xfrm>
        </p:grpSpPr>
        <p:sp>
          <p:nvSpPr>
            <p:cNvPr id="182" name=""/>
            <p:cNvSpPr/>
            <p:nvPr/>
          </p:nvSpPr>
          <p:spPr>
            <a:xfrm>
              <a:off x="5983200" y="366552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69000" y="386244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983200" y="1589040"/>
            <a:ext cx="935280" cy="368280"/>
            <a:chOff x="5983200" y="1589040"/>
            <a:chExt cx="935280" cy="368280"/>
          </a:xfrm>
        </p:grpSpPr>
        <p:sp>
          <p:nvSpPr>
            <p:cNvPr id="185" name=""/>
            <p:cNvSpPr/>
            <p:nvPr/>
          </p:nvSpPr>
          <p:spPr>
            <a:xfrm>
              <a:off x="5983200" y="158904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69000" y="178596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V="1">
            <a:off x="4383000" y="3071880"/>
            <a:ext cx="1710000" cy="149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6F5D-3F70-4C12-A66E-84AD0D1142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at Point 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42800" y="1887120"/>
            <a:ext cx="4351320" cy="229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&lt;example_2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4    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5    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7    mov    0xc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a    </a:t>
            </a:r>
            <a:r>
              <a:rPr b="1" i="1" lang="en-US" sz="1600" spc="-1" strike="noStrike">
                <a:solidFill>
                  <a:srgbClr val="003399"/>
                </a:solidFill>
                <a:latin typeface="Courier New"/>
              </a:rPr>
              <a:t>add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0x8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d    mov    %ebp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f    pop 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0    ret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29280" y="14907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18320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27840" y="2182680"/>
            <a:ext cx="1382760" cy="34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27840" y="25304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27840" y="287820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27840" y="32259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1080" y="356868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983200" y="4547880"/>
            <a:ext cx="916200" cy="400320"/>
            <a:chOff x="5983200" y="4547880"/>
            <a:chExt cx="916200" cy="400320"/>
          </a:xfrm>
        </p:grpSpPr>
        <p:sp>
          <p:nvSpPr>
            <p:cNvPr id="198" name=""/>
            <p:cNvSpPr/>
            <p:nvPr/>
          </p:nvSpPr>
          <p:spPr>
            <a:xfrm>
              <a:off x="5983200" y="457992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69000" y="4547880"/>
              <a:ext cx="2304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983200" y="4322880"/>
            <a:ext cx="935280" cy="368280"/>
            <a:chOff x="5983200" y="4322880"/>
            <a:chExt cx="935280" cy="368280"/>
          </a:xfrm>
        </p:grpSpPr>
        <p:sp>
          <p:nvSpPr>
            <p:cNvPr id="201" name=""/>
            <p:cNvSpPr/>
            <p:nvPr/>
          </p:nvSpPr>
          <p:spPr>
            <a:xfrm>
              <a:off x="5983200" y="432288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69000" y="451944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927840" y="390672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27840" y="424512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ain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68800" y="2523600"/>
            <a:ext cx="1252800" cy="11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AA09-67D0-46B6-940A-B0539EF069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at Point 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73240" y="1425600"/>
            <a:ext cx="4859280" cy="150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&lt;mai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f   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1   call 0x80483e4 &lt;example_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6   …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63520" y="3088800"/>
            <a:ext cx="4857840" cy="229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&lt;example_2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4    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5    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7    mov    0xc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a    </a:t>
            </a:r>
            <a:r>
              <a:rPr b="1" i="1" lang="en-US" sz="1600" spc="-1" strike="noStrike">
                <a:solidFill>
                  <a:srgbClr val="003399"/>
                </a:solidFill>
                <a:latin typeface="Courier New"/>
              </a:rPr>
              <a:t>add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0x8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d    mov    %ebp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f    pop 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0    ret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29280" y="14907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18320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27840" y="2182680"/>
            <a:ext cx="1382760" cy="34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27840" y="25304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27840" y="287820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27840" y="32259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31080" y="356868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3200" y="1579680"/>
            <a:ext cx="935280" cy="368280"/>
            <a:chOff x="5983200" y="1579680"/>
            <a:chExt cx="935280" cy="368280"/>
          </a:xfrm>
        </p:grpSpPr>
        <p:sp>
          <p:nvSpPr>
            <p:cNvPr id="217" name=""/>
            <p:cNvSpPr/>
            <p:nvPr/>
          </p:nvSpPr>
          <p:spPr>
            <a:xfrm>
              <a:off x="5983200" y="157968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69000" y="177624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927840" y="390672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27840" y="424512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ain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983200" y="3665520"/>
            <a:ext cx="935280" cy="368280"/>
            <a:chOff x="5983200" y="3665520"/>
            <a:chExt cx="935280" cy="368280"/>
          </a:xfrm>
        </p:grpSpPr>
        <p:sp>
          <p:nvSpPr>
            <p:cNvPr id="222" name=""/>
            <p:cNvSpPr/>
            <p:nvPr/>
          </p:nvSpPr>
          <p:spPr>
            <a:xfrm>
              <a:off x="5983200" y="366552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69000" y="386244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049720" y="2316240"/>
            <a:ext cx="1360440" cy="9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3A77-9778-4727-B98F-8D739EA035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42800" y="2266920"/>
            <a:ext cx="4917960" cy="20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4    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5    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7    mov    0xc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a    </a:t>
            </a:r>
            <a:r>
              <a:rPr b="1" i="1" lang="en-US" sz="1800" spc="-1" strike="noStrike">
                <a:solidFill>
                  <a:srgbClr val="003399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0x8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d    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f    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93920" y="1763640"/>
            <a:ext cx="66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example_1 (int x, int 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2752560"/>
            <a:ext cx="2136600" cy="63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ax=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ax+=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FC04-543B-410D-9619-C2563C1F29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in(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2600" y="1177920"/>
            <a:ext cx="5715000" cy="49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4   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5   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7   sub    $0x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a   add    $0xfffffff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d   push   $0x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f   push   $0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1   call   0x80483e4 &lt;example_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6   add    $0xfffffff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9   push 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a   push   $0x8048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f   call   0x8048308 &lt;print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4   xor   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6   mov  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8   pop 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9   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50160" y="3171960"/>
            <a:ext cx="2136600" cy="19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ample_1(1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rintf(“%d\n”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result_example_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8266-D6B9-4108-BF75-5C092B8F77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example_1 (int x, int y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x+y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main (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resul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sult = example_1 (1, 2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rintf ("%d\n", result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4466-7648-4A84-9DE3-9D59C94155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2: Recurs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3096720"/>
            <a:ext cx="5745240" cy="28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0   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1   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3   sub    $0x10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6   push   %esi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7   push 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8   mov    0x8(%ebp)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b   cmp    $0x2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e   jg     0x804843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0   mov    $0x1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5   jmp    0x804845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54000" y="1155600"/>
            <a:ext cx="80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lease write C code for the assembly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raw the stack changes of calling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example_2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8720" y="2563920"/>
            <a:ext cx="66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example_2 (int 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F8DB-3347-4A45-8933-9CFDE5D5BE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2 Cont’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2640" y="1333080"/>
            <a:ext cx="5892840" cy="447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7   add    $0xfffffff4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a   lea    0xfffffffe(%ebx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d   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e   call   0x8048420 &lt;example_2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3   mov    %eax,%esi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5   add    $0xfffffff4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8   lea    0xffffffff(%ebx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b   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c   call   0x8048420 &lt;example_2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1   add    %esi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3   lea    0xffffffe8(%ebp)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6   pop  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7   pop    %esi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8   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a   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b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9EFB-E0E1-4F95-B41F-301F729709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ast Week’s Final Examp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5880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int func5(int x){ ??? 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752480"/>
            <a:ext cx="48196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0    push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1    mov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3    mov  0x8(%ebp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6    xor 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8    xor  %ed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a    cmp  %ec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c    jge  0x80483d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e    mov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0    add  %ed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2    inc 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3    cmp  %ec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5    jl   0x80483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7    mov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9    pop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a    re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23880" y="1752480"/>
            <a:ext cx="6095880" cy="4114800"/>
            <a:chOff x="1523880" y="1752480"/>
            <a:chExt cx="6095880" cy="4114800"/>
          </a:xfrm>
        </p:grpSpPr>
        <p:grpSp>
          <p:nvGrpSpPr>
            <p:cNvPr id="92" name=""/>
            <p:cNvGrpSpPr/>
            <p:nvPr/>
          </p:nvGrpSpPr>
          <p:grpSpPr>
            <a:xfrm>
              <a:off x="1523880" y="1752480"/>
              <a:ext cx="6095880" cy="4114800"/>
              <a:chOff x="1523880" y="1752480"/>
              <a:chExt cx="6095880" cy="4114800"/>
            </a:xfrm>
          </p:grpSpPr>
          <p:sp>
            <p:nvSpPr>
              <p:cNvPr id="93" name=""/>
              <p:cNvSpPr/>
              <p:nvPr/>
            </p:nvSpPr>
            <p:spPr>
              <a:xfrm>
                <a:off x="1523880" y="1752480"/>
                <a:ext cx="6095880" cy="53352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523880" y="5029200"/>
                <a:ext cx="6095880" cy="83808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6505560" y="2362320"/>
              <a:ext cx="990360" cy="2666880"/>
              <a:chOff x="6505560" y="2362320"/>
              <a:chExt cx="990360" cy="2666880"/>
            </a:xfrm>
          </p:grpSpPr>
          <p:sp>
            <p:nvSpPr>
              <p:cNvPr id="96" name=""/>
              <p:cNvSpPr/>
              <p:nvPr/>
            </p:nvSpPr>
            <p:spPr>
              <a:xfrm>
                <a:off x="6505560" y="2362320"/>
                <a:ext cx="152280" cy="266688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69480 h 2666880"/>
                  <a:gd name="textAreaBottom" fmla="*/ 2597400 h 2666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57840" y="34290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od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C7A6-F08F-4972-B061-ED6DBABC91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Fram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2640" y="1333080"/>
            <a:ext cx="5118120" cy="447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&lt;example_2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20   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21   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23   sub    $0x10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26   push   %esi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27   push   %eb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. . . . . .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3   lea    0xffffffe8(%ebp)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6   pop    %eb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7   pop    %esi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8   mov    %ebp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a   pop 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b   ret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0520" y="2166840"/>
            <a:ext cx="1382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05840" y="2508120"/>
            <a:ext cx="1382400" cy="34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08720" y="2849400"/>
            <a:ext cx="1382760" cy="34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08720" y="3197160"/>
            <a:ext cx="1382760" cy="34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08720" y="3544920"/>
            <a:ext cx="1382760" cy="34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08720" y="3892680"/>
            <a:ext cx="1382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1960" y="4245120"/>
            <a:ext cx="1382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04040" y="1811160"/>
            <a:ext cx="1382760" cy="337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trn 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00800" y="1471680"/>
            <a:ext cx="1382760" cy="337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307200" y="2217600"/>
            <a:ext cx="934560" cy="368280"/>
            <a:chOff x="6307200" y="2217600"/>
            <a:chExt cx="934560" cy="368280"/>
          </a:xfrm>
        </p:grpSpPr>
        <p:sp>
          <p:nvSpPr>
            <p:cNvPr id="252" name=""/>
            <p:cNvSpPr/>
            <p:nvPr/>
          </p:nvSpPr>
          <p:spPr>
            <a:xfrm>
              <a:off x="6307200" y="2217600"/>
              <a:ext cx="74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92640" y="2414520"/>
              <a:ext cx="24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307200" y="4303800"/>
            <a:ext cx="934560" cy="368280"/>
            <a:chOff x="6307200" y="4303800"/>
            <a:chExt cx="934560" cy="368280"/>
          </a:xfrm>
        </p:grpSpPr>
        <p:sp>
          <p:nvSpPr>
            <p:cNvPr id="255" name=""/>
            <p:cNvSpPr/>
            <p:nvPr/>
          </p:nvSpPr>
          <p:spPr>
            <a:xfrm>
              <a:off x="6307200" y="4303800"/>
              <a:ext cx="74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92640" y="4500360"/>
              <a:ext cx="24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2899-CF88-4B40-8EEB-803C51628F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 For Bod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333080"/>
            <a:ext cx="5807160" cy="447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8   mov    0x8(%ebp)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b   cmp    $0x2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e   jg     0x804843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0   mov    $0x1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5   jmp    0x8048453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7   add    $0xfffffff4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a   lea    0xfffffffe(%ebx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d   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e   call   0x8048420 &lt;example_2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3   mov    %eax,%esi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5   add    $0xfffffff4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8   lea    0xffffffff(%ebx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b   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c   call   0x8048420 &lt;example_2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1   add    %esi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3   . . .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67520" y="1333440"/>
            <a:ext cx="1663560" cy="447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bx=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x&gt;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ax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sh x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ample_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si=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sh x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ample_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ax+=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4677-0B57-4CD8-B78C-A897E6BF84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nt example_2 (int n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{int result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f (n &lt;= 2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sult = 1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sult = example_2(n-2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+ example_2(n-1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62080" y="5315040"/>
            <a:ext cx="60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Fibonacci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ACE6-7B06-4407-95A7-E3CD76A66E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Changes of example_2(3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638360" y="1731960"/>
            <a:ext cx="2085840" cy="1225440"/>
            <a:chOff x="1638360" y="1731960"/>
            <a:chExt cx="2085840" cy="1225440"/>
          </a:xfrm>
        </p:grpSpPr>
        <p:sp>
          <p:nvSpPr>
            <p:cNvPr id="265" name=""/>
            <p:cNvSpPr/>
            <p:nvPr/>
          </p:nvSpPr>
          <p:spPr>
            <a:xfrm>
              <a:off x="1638360" y="215280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Courier New"/>
                </a:rPr>
                <a:t>ex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38440" y="1828800"/>
              <a:ext cx="1085760" cy="1038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697040" y="1731960"/>
              <a:ext cx="934560" cy="368280"/>
              <a:chOff x="1697040" y="1731960"/>
              <a:chExt cx="934560" cy="368280"/>
            </a:xfrm>
          </p:grpSpPr>
          <p:sp>
            <p:nvSpPr>
              <p:cNvPr id="268" name=""/>
              <p:cNvSpPr/>
              <p:nvPr/>
            </p:nvSpPr>
            <p:spPr>
              <a:xfrm>
                <a:off x="1697040" y="1731960"/>
                <a:ext cx="74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82480" y="192888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697040" y="2589120"/>
              <a:ext cx="934560" cy="368280"/>
              <a:chOff x="1697040" y="2589120"/>
              <a:chExt cx="934560" cy="368280"/>
            </a:xfrm>
          </p:grpSpPr>
          <p:sp>
            <p:nvSpPr>
              <p:cNvPr id="271" name=""/>
              <p:cNvSpPr/>
              <p:nvPr/>
            </p:nvSpPr>
            <p:spPr>
              <a:xfrm>
                <a:off x="1697040" y="2589120"/>
                <a:ext cx="74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82480" y="278604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3809880" y="1587600"/>
            <a:ext cx="1266840" cy="260280"/>
          </a:xfrm>
          <a:custGeom>
            <a:avLst/>
            <a:gdLst/>
            <a:ahLst/>
            <a:rect l="l" t="t" r="r" b="b"/>
            <a:pathLst>
              <a:path w="1416" h="164">
                <a:moveTo>
                  <a:pt x="0" y="164"/>
                </a:moveTo>
                <a:cubicBezTo>
                  <a:pt x="233" y="84"/>
                  <a:pt x="466" y="4"/>
                  <a:pt x="702" y="2"/>
                </a:cubicBezTo>
                <a:cubicBezTo>
                  <a:pt x="938" y="0"/>
                  <a:pt x="1177" y="76"/>
                  <a:pt x="1416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57640" y="1181160"/>
            <a:ext cx="21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all example_2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057560" y="1828800"/>
            <a:ext cx="2124000" cy="2804760"/>
            <a:chOff x="4057560" y="1828800"/>
            <a:chExt cx="2124000" cy="2804760"/>
          </a:xfrm>
        </p:grpSpPr>
        <p:grpSp>
          <p:nvGrpSpPr>
            <p:cNvPr id="276" name=""/>
            <p:cNvGrpSpPr/>
            <p:nvPr/>
          </p:nvGrpSpPr>
          <p:grpSpPr>
            <a:xfrm>
              <a:off x="4057560" y="1828800"/>
              <a:ext cx="2124000" cy="1038240"/>
              <a:chOff x="4057560" y="1828800"/>
              <a:chExt cx="2124000" cy="1038240"/>
            </a:xfrm>
          </p:grpSpPr>
          <p:sp>
            <p:nvSpPr>
              <p:cNvPr id="277" name=""/>
              <p:cNvSpPr/>
              <p:nvPr/>
            </p:nvSpPr>
            <p:spPr>
              <a:xfrm>
                <a:off x="4057560" y="2152440"/>
                <a:ext cx="100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Courier New"/>
                  </a:rPr>
                  <a:t>ex(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095800" y="1828800"/>
                <a:ext cx="1085760" cy="10382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4152960" y="38289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Courier New"/>
                </a:rPr>
                <a:t>ex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95800" y="3485880"/>
              <a:ext cx="1085760" cy="10382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154400" y="3408120"/>
              <a:ext cx="935280" cy="368280"/>
              <a:chOff x="4154400" y="3408120"/>
              <a:chExt cx="935280" cy="368280"/>
            </a:xfrm>
          </p:grpSpPr>
          <p:sp>
            <p:nvSpPr>
              <p:cNvPr id="282" name=""/>
              <p:cNvSpPr/>
              <p:nvPr/>
            </p:nvSpPr>
            <p:spPr>
              <a:xfrm>
                <a:off x="4154400" y="3408120"/>
                <a:ext cx="74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40200" y="3605040"/>
                <a:ext cx="24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154400" y="4265280"/>
              <a:ext cx="935280" cy="368280"/>
              <a:chOff x="4154400" y="4265280"/>
              <a:chExt cx="935280" cy="368280"/>
            </a:xfrm>
          </p:grpSpPr>
          <p:sp>
            <p:nvSpPr>
              <p:cNvPr id="285" name=""/>
              <p:cNvSpPr/>
              <p:nvPr/>
            </p:nvSpPr>
            <p:spPr>
              <a:xfrm>
                <a:off x="4154400" y="4265280"/>
                <a:ext cx="74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40200" y="4462200"/>
                <a:ext cx="24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5095800" y="2867040"/>
              <a:ext cx="1085760" cy="337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95800" y="3209760"/>
              <a:ext cx="1085760" cy="2764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Courier New"/>
                </a:rPr>
                <a:t>0x80484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553160" y="2867040"/>
            <a:ext cx="108612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53080" y="21528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Courier New"/>
              </a:rPr>
              <a:t>ex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53160" y="1828800"/>
            <a:ext cx="1086120" cy="1038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611760" y="1731960"/>
            <a:ext cx="935280" cy="368280"/>
            <a:chOff x="6611760" y="1731960"/>
            <a:chExt cx="935280" cy="368280"/>
          </a:xfrm>
        </p:grpSpPr>
        <p:sp>
          <p:nvSpPr>
            <p:cNvPr id="293" name=""/>
            <p:cNvSpPr/>
            <p:nvPr/>
          </p:nvSpPr>
          <p:spPr>
            <a:xfrm>
              <a:off x="6611760" y="173196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97560" y="192888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611760" y="2922480"/>
            <a:ext cx="935280" cy="368280"/>
            <a:chOff x="6611760" y="2922480"/>
            <a:chExt cx="935280" cy="368280"/>
          </a:xfrm>
        </p:grpSpPr>
        <p:sp>
          <p:nvSpPr>
            <p:cNvPr id="296" name=""/>
            <p:cNvSpPr/>
            <p:nvPr/>
          </p:nvSpPr>
          <p:spPr>
            <a:xfrm>
              <a:off x="6611760" y="292248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97560" y="311940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210360" y="1539720"/>
            <a:ext cx="1361880" cy="260640"/>
          </a:xfrm>
          <a:custGeom>
            <a:avLst/>
            <a:gdLst/>
            <a:ahLst/>
            <a:rect l="l" t="t" r="r" b="b"/>
            <a:pathLst>
              <a:path w="1416" h="164">
                <a:moveTo>
                  <a:pt x="0" y="164"/>
                </a:moveTo>
                <a:cubicBezTo>
                  <a:pt x="233" y="84"/>
                  <a:pt x="466" y="4"/>
                  <a:pt x="702" y="2"/>
                </a:cubicBezTo>
                <a:cubicBezTo>
                  <a:pt x="938" y="0"/>
                  <a:pt x="1177" y="76"/>
                  <a:pt x="1416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38840" y="1152360"/>
            <a:ext cx="21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5822-55BD-4AE9-A8AC-258EF7D378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Changes of example_2(3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1587600"/>
            <a:ext cx="1266840" cy="260280"/>
          </a:xfrm>
          <a:custGeom>
            <a:avLst/>
            <a:gdLst/>
            <a:ahLst/>
            <a:rect l="l" t="t" r="r" b="b"/>
            <a:pathLst>
              <a:path w="1416" h="164">
                <a:moveTo>
                  <a:pt x="0" y="164"/>
                </a:moveTo>
                <a:cubicBezTo>
                  <a:pt x="233" y="84"/>
                  <a:pt x="466" y="4"/>
                  <a:pt x="702" y="2"/>
                </a:cubicBezTo>
                <a:cubicBezTo>
                  <a:pt x="938" y="0"/>
                  <a:pt x="1177" y="76"/>
                  <a:pt x="1416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57640" y="1181160"/>
            <a:ext cx="21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all example_2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057560" y="1828800"/>
            <a:ext cx="2124000" cy="1038240"/>
            <a:chOff x="4057560" y="1828800"/>
            <a:chExt cx="2124000" cy="1038240"/>
          </a:xfrm>
        </p:grpSpPr>
        <p:sp>
          <p:nvSpPr>
            <p:cNvPr id="304" name=""/>
            <p:cNvSpPr/>
            <p:nvPr/>
          </p:nvSpPr>
          <p:spPr>
            <a:xfrm>
              <a:off x="4057560" y="2152440"/>
              <a:ext cx="10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Courier New"/>
                </a:rPr>
                <a:t>ex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95800" y="1828800"/>
              <a:ext cx="1085760" cy="1038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152960" y="3703680"/>
            <a:ext cx="2028600" cy="1225440"/>
            <a:chOff x="4152960" y="3703680"/>
            <a:chExt cx="2028600" cy="1225440"/>
          </a:xfrm>
        </p:grpSpPr>
        <p:sp>
          <p:nvSpPr>
            <p:cNvPr id="307" name=""/>
            <p:cNvSpPr/>
            <p:nvPr/>
          </p:nvSpPr>
          <p:spPr>
            <a:xfrm>
              <a:off x="4152960" y="4124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Courier New"/>
                </a:rPr>
                <a:t>ex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95800" y="3781440"/>
              <a:ext cx="1085760" cy="1038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4154400" y="3703680"/>
              <a:ext cx="935280" cy="368280"/>
              <a:chOff x="4154400" y="3703680"/>
              <a:chExt cx="935280" cy="368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154400" y="3703680"/>
                <a:ext cx="74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40200" y="3900600"/>
                <a:ext cx="24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154400" y="4560840"/>
              <a:ext cx="935280" cy="368280"/>
              <a:chOff x="4154400" y="4560840"/>
              <a:chExt cx="935280" cy="368280"/>
            </a:xfrm>
          </p:grpSpPr>
          <p:sp>
            <p:nvSpPr>
              <p:cNvPr id="313" name=""/>
              <p:cNvSpPr/>
              <p:nvPr/>
            </p:nvSpPr>
            <p:spPr>
              <a:xfrm>
                <a:off x="4154400" y="4560840"/>
                <a:ext cx="74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40200" y="4757760"/>
                <a:ext cx="24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5095800" y="2867040"/>
            <a:ext cx="108576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95800" y="3209760"/>
            <a:ext cx="108576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53160" y="2867040"/>
            <a:ext cx="108612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53080" y="21528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Courier New"/>
              </a:rPr>
              <a:t>ex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53160" y="1828800"/>
            <a:ext cx="1086120" cy="1038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611760" y="1731960"/>
            <a:ext cx="935280" cy="368280"/>
            <a:chOff x="6611760" y="1731960"/>
            <a:chExt cx="935280" cy="368280"/>
          </a:xfrm>
        </p:grpSpPr>
        <p:sp>
          <p:nvSpPr>
            <p:cNvPr id="321" name=""/>
            <p:cNvSpPr/>
            <p:nvPr/>
          </p:nvSpPr>
          <p:spPr>
            <a:xfrm>
              <a:off x="6611760" y="173196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97560" y="192888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611760" y="3274920"/>
            <a:ext cx="935280" cy="368280"/>
            <a:chOff x="6611760" y="3274920"/>
            <a:chExt cx="935280" cy="368280"/>
          </a:xfrm>
        </p:grpSpPr>
        <p:sp>
          <p:nvSpPr>
            <p:cNvPr id="324" name=""/>
            <p:cNvSpPr/>
            <p:nvPr/>
          </p:nvSpPr>
          <p:spPr>
            <a:xfrm>
              <a:off x="6611760" y="327492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97560" y="347184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210360" y="1539720"/>
            <a:ext cx="1361880" cy="260640"/>
          </a:xfrm>
          <a:custGeom>
            <a:avLst/>
            <a:gdLst/>
            <a:ahLst/>
            <a:rect l="l" t="t" r="r" b="b"/>
            <a:pathLst>
              <a:path w="1416" h="164">
                <a:moveTo>
                  <a:pt x="0" y="164"/>
                </a:moveTo>
                <a:cubicBezTo>
                  <a:pt x="233" y="84"/>
                  <a:pt x="466" y="4"/>
                  <a:pt x="702" y="2"/>
                </a:cubicBezTo>
                <a:cubicBezTo>
                  <a:pt x="938" y="0"/>
                  <a:pt x="1177" y="76"/>
                  <a:pt x="1416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38840" y="1152360"/>
            <a:ext cx="21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695600" y="1731960"/>
            <a:ext cx="2085480" cy="1558800"/>
            <a:chOff x="1695600" y="1731960"/>
            <a:chExt cx="2085480" cy="1558800"/>
          </a:xfrm>
        </p:grpSpPr>
        <p:sp>
          <p:nvSpPr>
            <p:cNvPr id="329" name=""/>
            <p:cNvSpPr/>
            <p:nvPr/>
          </p:nvSpPr>
          <p:spPr>
            <a:xfrm>
              <a:off x="2695320" y="2867040"/>
              <a:ext cx="1085760" cy="337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95600" y="2152800"/>
              <a:ext cx="97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Courier New"/>
                </a:rPr>
                <a:t>ex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95320" y="1828800"/>
              <a:ext cx="1085760" cy="1038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1753920" y="1731960"/>
              <a:ext cx="934560" cy="368280"/>
              <a:chOff x="1753920" y="1731960"/>
              <a:chExt cx="934560" cy="368280"/>
            </a:xfrm>
          </p:grpSpPr>
          <p:sp>
            <p:nvSpPr>
              <p:cNvPr id="333" name=""/>
              <p:cNvSpPr/>
              <p:nvPr/>
            </p:nvSpPr>
            <p:spPr>
              <a:xfrm>
                <a:off x="1753920" y="1731960"/>
                <a:ext cx="74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439360" y="192888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753920" y="2922480"/>
              <a:ext cx="934560" cy="368280"/>
              <a:chOff x="1753920" y="2922480"/>
              <a:chExt cx="934560" cy="368280"/>
            </a:xfrm>
          </p:grpSpPr>
          <p:sp>
            <p:nvSpPr>
              <p:cNvPr id="336" name=""/>
              <p:cNvSpPr/>
              <p:nvPr/>
            </p:nvSpPr>
            <p:spPr>
              <a:xfrm>
                <a:off x="1753920" y="2922480"/>
                <a:ext cx="74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439360" y="3119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5095800" y="3495600"/>
            <a:ext cx="1085760" cy="276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Courier New"/>
              </a:rPr>
              <a:t>0x80484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53160" y="3209760"/>
            <a:ext cx="108612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BBE2-0A22-45F5-A2A4-80A9FDF855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rray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ocated as contiguous blocks of memor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ress Computation Exampl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t cmu[5];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/* at address ‘addr’ */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mu[0]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r+0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mu[3]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r+3*sizeof(int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mu[-1]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r+(-1)*sizeof(int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67B5-6968-4ADF-88D9-60799566FA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3 Write 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5391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1   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3   push 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4   mov    0x8(%ebp)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7   mov    0xc(%ebp),%ec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a   xor    %ea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c   xor    %ed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e   cmp    %ec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0   jge    0x804840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2   add    (%ebx,%edx,4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5   inc    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6   cmp    %ec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8   jl     0x804840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a   pop  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b   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d   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e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71D1-9DBC-4D8C-AC0F-FA4EFCAE08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498168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push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1   mov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3   push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4   mov  0x8(%ebp)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7   mov  0xc(%ebp),%ec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a   xor  %ea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c   xor  %ed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e   cmp  %ec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0   jge  0x804840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2   add  (%ebx,%edx,4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5   inc  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6   cmp  %ec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8   jl   0x804840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a   pop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b   mov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d   pop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e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29440" y="2048040"/>
            <a:ext cx="2609640" cy="30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bx=ar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cx=ar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ax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dx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0&gt;=ar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eax+=arg1[ed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dx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edx&lt;ar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52360" y="1228680"/>
            <a:ext cx="4962600" cy="819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4848120"/>
            <a:ext cx="4962600" cy="104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3DD3-EADE-4826-B79D-0AA6BF6E14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498168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push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1   mov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3   push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4   mov  0x8(%ebp)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7   mov  0xc(%ebp),%ec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a   xor  %ea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c   xor  %ed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e   cmp  %ec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0   jge  0x804840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2   add  (%ebx,%edx,4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5   inc  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6   cmp  %ec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8   jl   0x804840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a   pop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b   mov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d   pop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e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29440" y="2048040"/>
            <a:ext cx="2609640" cy="30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bx=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cx=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sul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0&gt;=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result+=x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i&lt;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52360" y="1228680"/>
            <a:ext cx="4962600" cy="819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43000" y="4848120"/>
            <a:ext cx="4962600" cy="104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38800" y="1228680"/>
            <a:ext cx="2610000" cy="6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rg1:x, arg2: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dx:i, eax: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2FDF-3CE8-4C52-A48B-67FEA9D2B5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oop + Arra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nt example_3 (int x[], int num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nt i, result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sult = 0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r (i=0; i&lt;num; i++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sult += x[i]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DAE2-C577-4E7E-90C5-9680CDDD89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752480"/>
            <a:ext cx="5029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3   mov  0x8(%ebp),%ec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6   xor  %eax,%e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8   xor  %edx,%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a   cmp  %ecx,%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c   jge  0x80483d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e   mov  %esi,%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d0   add  %edx,%e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d2   inc  %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d3   cmp  %ecx,%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d5   jl   0x80483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d7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1752480"/>
            <a:ext cx="2209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cx =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ax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&gt;=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2:eax += 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 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&lt;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5880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int func5(int x){ ??? 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E961-04E4-4C91-87AB-CC3C402E0E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ruct and Linked Lis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ruct a_struct {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   int     a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   float  b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   char   c[20]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ruct b_struct {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. . .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struct b_struct *link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. . .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D0BF-B48B-4C1A-89F7-6F5D33EC69D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4: Write 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5295960" cy="40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4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5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7   mov    0x8(%ebp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a   xor    %ea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c   test   %ed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e   je     0x804844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0   add    0x4(%edx)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3   mov    (%edx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5   test   %edx,%edx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7   jne    0x804844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9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b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c   re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66840" y="5477040"/>
            <a:ext cx="64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Hint: the code visits a linked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E6B8-D4FC-4183-94A3-CD00E633F2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4962600" cy="40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4   push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5   mov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7   mov  0x8(%ebp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a   xor  %ea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c   test %ed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e   je   0x804844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0   add  0x4(%edx)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3   mov  (%edx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5   test %edx,%edx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7   jne  0x804844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9   mov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b   pop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c   re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19720" y="1838160"/>
            <a:ext cx="2724120" cy="29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=ar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ax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eax +=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*(edx+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 =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*(ed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A38F-F750-4509-BB0A-FCBD52F96D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1257480" y="1905120"/>
            <a:ext cx="3895560" cy="809280"/>
            <a:chOff x="1257480" y="1905120"/>
            <a:chExt cx="3895560" cy="809280"/>
          </a:xfrm>
        </p:grpSpPr>
        <p:grpSp>
          <p:nvGrpSpPr>
            <p:cNvPr id="366" name=""/>
            <p:cNvGrpSpPr/>
            <p:nvPr/>
          </p:nvGrpSpPr>
          <p:grpSpPr>
            <a:xfrm>
              <a:off x="2724120" y="1905120"/>
              <a:ext cx="2428920" cy="809280"/>
              <a:chOff x="2724120" y="1905120"/>
              <a:chExt cx="2428920" cy="80928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2867040" y="2190600"/>
                <a:ext cx="2286000" cy="523800"/>
                <a:chOff x="2867040" y="2190600"/>
                <a:chExt cx="2286000" cy="5238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867040" y="2190600"/>
                  <a:ext cx="2286000" cy="523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10040" y="2190600"/>
                  <a:ext cx="0" cy="514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2724120" y="1905120"/>
                <a:ext cx="37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76840" y="190512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1257480" y="2200320"/>
              <a:ext cx="1609560" cy="459720"/>
              <a:chOff x="1257480" y="2200320"/>
              <a:chExt cx="1609560" cy="459720"/>
            </a:xfrm>
          </p:grpSpPr>
          <p:sp>
            <p:nvSpPr>
              <p:cNvPr id="373" name=""/>
              <p:cNvSpPr/>
              <p:nvPr/>
            </p:nvSpPr>
            <p:spPr>
              <a:xfrm>
                <a:off x="1257480" y="2200320"/>
                <a:ext cx="92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99"/>
                    </a:solidFill>
                    <a:latin typeface="Courier New"/>
                  </a:rPr>
                  <a:t>ed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066760" y="2448000"/>
                <a:ext cx="80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derstand the Loo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19720" y="1838160"/>
            <a:ext cx="2724120" cy="29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=ar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ax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eax +=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*(edx+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 =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*(ed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85760" y="13716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dx is a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67040" y="2228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Courier New"/>
              </a:rPr>
              <a:t>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10040" y="2228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Courier New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381400" y="2600280"/>
            <a:ext cx="2752560" cy="1155240"/>
            <a:chOff x="2381400" y="2600280"/>
            <a:chExt cx="2752560" cy="1155240"/>
          </a:xfrm>
        </p:grpSpPr>
        <p:grpSp>
          <p:nvGrpSpPr>
            <p:cNvPr id="381" name=""/>
            <p:cNvGrpSpPr/>
            <p:nvPr/>
          </p:nvGrpSpPr>
          <p:grpSpPr>
            <a:xfrm>
              <a:off x="2685960" y="3019320"/>
              <a:ext cx="2448000" cy="736200"/>
              <a:chOff x="2685960" y="3019320"/>
              <a:chExt cx="2448000" cy="736200"/>
            </a:xfrm>
          </p:grpSpPr>
          <p:sp>
            <p:nvSpPr>
              <p:cNvPr id="382" name=""/>
              <p:cNvSpPr/>
              <p:nvPr/>
            </p:nvSpPr>
            <p:spPr>
              <a:xfrm>
                <a:off x="2867040" y="3295800"/>
                <a:ext cx="1133640" cy="45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99"/>
                    </a:solidFill>
                    <a:latin typeface="Courier New"/>
                  </a:rPr>
                  <a:t>add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685960" y="30290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48040" y="3019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000680" y="3295800"/>
                <a:ext cx="1133280" cy="45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99"/>
                    </a:solidFill>
                    <a:latin typeface="Courier New"/>
                  </a:rPr>
                  <a:t>da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381400" y="2600280"/>
              <a:ext cx="1055520" cy="1009800"/>
            </a:xfrm>
            <a:custGeom>
              <a:avLst/>
              <a:gdLst/>
              <a:ahLst/>
              <a:rect l="l" t="t" r="r" b="b"/>
              <a:pathLst>
                <a:path w="665" h="636">
                  <a:moveTo>
                    <a:pt x="618" y="0"/>
                  </a:moveTo>
                  <a:cubicBezTo>
                    <a:pt x="641" y="99"/>
                    <a:pt x="665" y="199"/>
                    <a:pt x="576" y="258"/>
                  </a:cubicBezTo>
                  <a:cubicBezTo>
                    <a:pt x="487" y="317"/>
                    <a:pt x="168" y="300"/>
                    <a:pt x="84" y="354"/>
                  </a:cubicBezTo>
                  <a:cubicBezTo>
                    <a:pt x="0" y="408"/>
                    <a:pt x="36" y="535"/>
                    <a:pt x="72" y="582"/>
                  </a:cubicBezTo>
                  <a:cubicBezTo>
                    <a:pt x="108" y="629"/>
                    <a:pt x="204" y="632"/>
                    <a:pt x="300" y="63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371680" y="3648240"/>
            <a:ext cx="2752920" cy="1193040"/>
            <a:chOff x="2371680" y="3648240"/>
            <a:chExt cx="2752920" cy="1193040"/>
          </a:xfrm>
        </p:grpSpPr>
        <p:grpSp>
          <p:nvGrpSpPr>
            <p:cNvPr id="388" name=""/>
            <p:cNvGrpSpPr/>
            <p:nvPr/>
          </p:nvGrpSpPr>
          <p:grpSpPr>
            <a:xfrm>
              <a:off x="2676600" y="4105440"/>
              <a:ext cx="2448000" cy="735840"/>
              <a:chOff x="2676600" y="4105440"/>
              <a:chExt cx="2448000" cy="735840"/>
            </a:xfrm>
          </p:grpSpPr>
          <p:sp>
            <p:nvSpPr>
              <p:cNvPr id="389" name=""/>
              <p:cNvSpPr/>
              <p:nvPr/>
            </p:nvSpPr>
            <p:spPr>
              <a:xfrm>
                <a:off x="2857680" y="4381560"/>
                <a:ext cx="1133640" cy="45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99"/>
                    </a:solidFill>
                    <a:latin typeface="Courier New"/>
                  </a:rPr>
                  <a:t>add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676600" y="41148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38680" y="41054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991320" y="4381560"/>
                <a:ext cx="1133280" cy="45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99"/>
                    </a:solidFill>
                    <a:latin typeface="Courier New"/>
                  </a:rPr>
                  <a:t>da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371680" y="3648240"/>
              <a:ext cx="1055880" cy="1009440"/>
            </a:xfrm>
            <a:custGeom>
              <a:avLst/>
              <a:gdLst/>
              <a:ahLst/>
              <a:rect l="l" t="t" r="r" b="b"/>
              <a:pathLst>
                <a:path w="665" h="636">
                  <a:moveTo>
                    <a:pt x="618" y="0"/>
                  </a:moveTo>
                  <a:cubicBezTo>
                    <a:pt x="641" y="99"/>
                    <a:pt x="665" y="199"/>
                    <a:pt x="576" y="258"/>
                  </a:cubicBezTo>
                  <a:cubicBezTo>
                    <a:pt x="487" y="317"/>
                    <a:pt x="168" y="300"/>
                    <a:pt x="84" y="354"/>
                  </a:cubicBezTo>
                  <a:cubicBezTo>
                    <a:pt x="0" y="408"/>
                    <a:pt x="36" y="535"/>
                    <a:pt x="72" y="582"/>
                  </a:cubicBezTo>
                  <a:cubicBezTo>
                    <a:pt x="108" y="629"/>
                    <a:pt x="204" y="632"/>
                    <a:pt x="300" y="63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676600" y="5181480"/>
            <a:ext cx="2448000" cy="736200"/>
            <a:chOff x="2676600" y="5181480"/>
            <a:chExt cx="2448000" cy="736200"/>
          </a:xfrm>
        </p:grpSpPr>
        <p:sp>
          <p:nvSpPr>
            <p:cNvPr id="395" name=""/>
            <p:cNvSpPr/>
            <p:nvPr/>
          </p:nvSpPr>
          <p:spPr>
            <a:xfrm>
              <a:off x="2857680" y="5457960"/>
              <a:ext cx="11336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Courier New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76600" y="5191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38680" y="5181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91320" y="5457960"/>
              <a:ext cx="1133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Courier New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2352600" y="4743360"/>
            <a:ext cx="1055880" cy="1009800"/>
          </a:xfrm>
          <a:custGeom>
            <a:avLst/>
            <a:gdLst/>
            <a:ahLst/>
            <a:rect l="l" t="t" r="r" b="b"/>
            <a:pathLst>
              <a:path w="665" h="636">
                <a:moveTo>
                  <a:pt x="618" y="0"/>
                </a:moveTo>
                <a:cubicBezTo>
                  <a:pt x="641" y="99"/>
                  <a:pt x="665" y="199"/>
                  <a:pt x="576" y="258"/>
                </a:cubicBezTo>
                <a:cubicBezTo>
                  <a:pt x="487" y="317"/>
                  <a:pt x="168" y="300"/>
                  <a:pt x="84" y="354"/>
                </a:cubicBezTo>
                <a:cubicBezTo>
                  <a:pt x="0" y="408"/>
                  <a:pt x="36" y="535"/>
                  <a:pt x="72" y="582"/>
                </a:cubicBezTo>
                <a:cubicBezTo>
                  <a:pt x="108" y="629"/>
                  <a:pt x="204" y="632"/>
                  <a:pt x="300" y="6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D1F4-5180-404D-9BFE-F1CDF538F1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me the Vari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85760" y="1371600"/>
            <a:ext cx="49532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arg1: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ax: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dx: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*(edx+4): p-&gt;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*(edx): p-&gt;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NULL is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43640" y="1838160"/>
            <a:ext cx="2724120" cy="29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=ar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ax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eax +=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*(edx+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 =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*(ed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28E6-5F2B-40AF-BD09-076C4824EC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me the Vari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67160" y="1838160"/>
            <a:ext cx="3333960" cy="29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=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sult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p =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2:result +=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p-&gt;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 =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p-&gt;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p !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85760" y="1371600"/>
            <a:ext cx="49532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arg1: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ax: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dx: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*(edx+4): p-&gt;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*(edx): p-&gt;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NULL is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108A-8DED-4D74-A6C0-D5D100FB99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uct linked_list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uct linked_list *nex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                data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example_4 (struct linked_list *head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uct linked_list *p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sult = 0; p = head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hile (p != NULL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sult += p-&gt;data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 = p-&gt;nex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3F04-D659-45D4-90EA-35FB71DE35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me the vari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ax– result, edx--i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905120"/>
            <a:ext cx="4486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3   mov  0x8(%ebp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6   xor 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8   xor  %ed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a   cmp  %ec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c   jge  0x80483d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e   mov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0   add  %ed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2   inc 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3   cmp  %ec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5   jl   0x80483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7   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43760" y="1905120"/>
            <a:ext cx="269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cx 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sul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i&gt;=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result +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i&lt;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9A9D-BC5F-4BF9-96CE-58E8E0A7CA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09520" y="2138400"/>
            <a:ext cx="25146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sul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i&gt;=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2:result +=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i&lt;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618000" y="1143000"/>
            <a:ext cx="4840200" cy="2133720"/>
            <a:chOff x="3618000" y="1143000"/>
            <a:chExt cx="4840200" cy="2133720"/>
          </a:xfrm>
        </p:grpSpPr>
        <p:sp>
          <p:nvSpPr>
            <p:cNvPr id="109" name=""/>
            <p:cNvSpPr/>
            <p:nvPr/>
          </p:nvSpPr>
          <p:spPr>
            <a:xfrm>
              <a:off x="4267080" y="1143000"/>
              <a:ext cx="419112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= 0; i = 0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if (i&gt;=x)  goto L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do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+= i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i++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}while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(i&lt;x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L1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618000" y="2096640"/>
              <a:ext cx="646200" cy="11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621240" y="3343320"/>
            <a:ext cx="4836960" cy="1523880"/>
            <a:chOff x="3621240" y="3343320"/>
            <a:chExt cx="4836960" cy="1523880"/>
          </a:xfrm>
        </p:grpSpPr>
        <p:sp>
          <p:nvSpPr>
            <p:cNvPr id="112" name=""/>
            <p:cNvSpPr/>
            <p:nvPr/>
          </p:nvSpPr>
          <p:spPr>
            <a:xfrm>
              <a:off x="4267080" y="3343320"/>
              <a:ext cx="41911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= 0; i = 0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While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(i&lt;x)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+= i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i++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21240" y="407844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619440" y="4743360"/>
            <a:ext cx="4838760" cy="1181160"/>
            <a:chOff x="3619440" y="4743360"/>
            <a:chExt cx="4838760" cy="1181160"/>
          </a:xfrm>
        </p:grpSpPr>
        <p:sp>
          <p:nvSpPr>
            <p:cNvPr id="115" name=""/>
            <p:cNvSpPr/>
            <p:nvPr/>
          </p:nvSpPr>
          <p:spPr>
            <a:xfrm>
              <a:off x="4267080" y="4933800"/>
              <a:ext cx="419112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= 0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for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(i=0; i&lt;x; i++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+= i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19440" y="4743360"/>
              <a:ext cx="647640" cy="74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DC7D-47FF-42AF-AC05-7DE341D71F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19400" y="1219320"/>
            <a:ext cx="613872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func5(int x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result=0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i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for (i=0; i&lt;x; i++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result += i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return result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30EA-6F54-423B-9EBF-B5DDE07E39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Bas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930400" y="4610160"/>
            <a:ext cx="2724120" cy="820440"/>
            <a:chOff x="2930400" y="4610160"/>
            <a:chExt cx="2724120" cy="820440"/>
          </a:xfrm>
        </p:grpSpPr>
        <p:sp>
          <p:nvSpPr>
            <p:cNvPr id="121" name=""/>
            <p:cNvSpPr/>
            <p:nvPr/>
          </p:nvSpPr>
          <p:spPr>
            <a:xfrm>
              <a:off x="5037120" y="4862520"/>
              <a:ext cx="61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0400" y="4610160"/>
              <a:ext cx="2171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657760" y="1212840"/>
            <a:ext cx="1292400" cy="3825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998760" y="3225960"/>
            <a:ext cx="2028600" cy="1650960"/>
            <a:chOff x="6998760" y="3225960"/>
            <a:chExt cx="2028600" cy="1650960"/>
          </a:xfrm>
        </p:grpSpPr>
        <p:sp>
          <p:nvSpPr>
            <p:cNvPr id="125" name=""/>
            <p:cNvSpPr/>
            <p:nvPr/>
          </p:nvSpPr>
          <p:spPr>
            <a:xfrm>
              <a:off x="7943760" y="3225960"/>
              <a:ext cx="0" cy="165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8760" y="3530520"/>
              <a:ext cx="2028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ck Gro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021440" y="1380960"/>
            <a:ext cx="1822680" cy="1594080"/>
            <a:chOff x="7021440" y="1380960"/>
            <a:chExt cx="1822680" cy="1594080"/>
          </a:xfrm>
        </p:grpSpPr>
        <p:sp>
          <p:nvSpPr>
            <p:cNvPr id="128" name=""/>
            <p:cNvSpPr/>
            <p:nvPr/>
          </p:nvSpPr>
          <p:spPr>
            <a:xfrm flipV="1">
              <a:off x="7943760" y="1380960"/>
              <a:ext cx="0" cy="1594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21440" y="1782720"/>
              <a:ext cx="1822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crea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res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H="1" flipV="1">
            <a:off x="6486480" y="5038560"/>
            <a:ext cx="565200" cy="331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54800" y="5348160"/>
            <a:ext cx="194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“To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7760" y="47340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402444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us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ecrement %esp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n places valu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o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et valu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n increment %esp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E222-CAB0-4475-A2F4-656A1D4416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unction Stack Fram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601992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78520" y="5616720"/>
            <a:ext cx="164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60960" y="342252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43600" y="2943360"/>
            <a:ext cx="1717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37280" y="2959200"/>
            <a:ext cx="1359000" cy="3045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37280" y="3568680"/>
            <a:ext cx="1363680" cy="1816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37280" y="5372280"/>
            <a:ext cx="1362240" cy="736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7280" y="1143000"/>
            <a:ext cx="1362240" cy="137160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43760" y="3263760"/>
            <a:ext cx="13557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37280" y="2362320"/>
            <a:ext cx="1359000" cy="609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7520" y="18288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11430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413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caller function calls a callee func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0D54-DA22-46FB-BF17-BB1FE8FF60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king a Cal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6019920"/>
            <a:ext cx="363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53320" y="58165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686640" y="3422160"/>
            <a:ext cx="3394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29200" y="3241800"/>
            <a:ext cx="72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37280" y="2959200"/>
            <a:ext cx="1359000" cy="3045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37280" y="3568680"/>
            <a:ext cx="1363680" cy="1806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37280" y="5372280"/>
            <a:ext cx="1362240" cy="736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37280" y="1143000"/>
            <a:ext cx="1362240" cy="12128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43760" y="3263760"/>
            <a:ext cx="13557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37280" y="2362320"/>
            <a:ext cx="1359000" cy="609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5516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aller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ush” arguments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in what order?</a:t>
            </a:r>
            <a:r>
              <a:rPr b="0" i="1" lang="en-US" sz="18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ll”: put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return address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onto stack, jump to the start of callee func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allee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ave (caller’s)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t up stack fr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ave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allee-saved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registers if want to us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%ebx, %esi, %edi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ut return value in 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store %ebp and 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t” to jump to the “Return Addr”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D0E5-58C1-43A1-AE50-7C4F0F8BEC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09-23T16:03:05Z</dcterms:modified>
  <cp:revision>271</cp:revision>
  <dc:subject/>
  <dc:title>PowerPoint Presentation</dc:title>
</cp:coreProperties>
</file>