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9283700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34276-0B36-4624-A506-4EFD7CD500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E9109-23FA-4E45-9D1C-640618B226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85B8E-65A6-4DD0-AFDD-B8E08C7866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F3AC2-ABC9-4CC0-A613-227DFFB0D4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880DF-5C94-47C0-84DC-436F709614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A6EE7-53DE-4090-B7B9-3407E230DF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7F338-FD61-4558-9177-D8526C62B9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ACD36-AD3D-4821-A93A-F9CDCEED38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FFF6C-536D-49F7-B396-303F75D457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D92EE-7353-4580-8021-5AA88D3C90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C40EA-7486-481C-BF1B-554B60B192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43BAA-D6D3-487E-A767-4F301620A2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C8E6-A901-4DF4-929E-F4ABA3A3A752}" type="slidenum"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15213 Recitation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0080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Shimin 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15213 Recitation Section C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120" y="37339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Last week’s exercis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unction and stack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truct and linked-lis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514600" y="1828800"/>
            <a:ext cx="4267080" cy="977760"/>
            <a:chOff x="2514600" y="1828800"/>
            <a:chExt cx="4267080" cy="977760"/>
          </a:xfrm>
        </p:grpSpPr>
        <p:sp>
          <p:nvSpPr>
            <p:cNvPr id="85" name=""/>
            <p:cNvSpPr/>
            <p:nvPr/>
          </p:nvSpPr>
          <p:spPr>
            <a:xfrm>
              <a:off x="2819520" y="18288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Shimin Ch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14600" y="228600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Sept. 23, 20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514600" y="3200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42800" y="3943440"/>
            <a:ext cx="4917960" cy="200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e4    push   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e5    mov    %esp,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e7    mov    0xc(%ebp)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ea    </a:t>
            </a:r>
            <a:r>
              <a:rPr b="1" i="1" lang="en-US" sz="1800" spc="-1" strike="noStrike">
                <a:solidFill>
                  <a:srgbClr val="003399"/>
                </a:solidFill>
                <a:latin typeface="Courier New"/>
              </a:rPr>
              <a:t>add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0x8(%ebp)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ed    mov    %ebp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ef    pop    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0    ret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33640" y="1243080"/>
            <a:ext cx="7621560" cy="19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3399"/>
              </a:buClr>
              <a:buFont typeface="Times New Roman"/>
              <a:buChar char="•"/>
              <a:tabLst>
                <a:tab algn="l" pos="176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lease draw the stack at the marked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3399"/>
              </a:buClr>
              <a:buFont typeface="Times New Roman"/>
              <a:buChar char="•"/>
              <a:tabLst>
                <a:tab algn="l" pos="176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Write C code for the assembly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Times New Roman"/>
              <a:buChar char="•"/>
              <a:tabLst>
                <a:tab algn="l" pos="176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(gdb) x/s 0x80484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176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0x8048478 &lt;_IO_stdin_used+4&gt;:    "%d\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3920" y="3440160"/>
            <a:ext cx="661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int example_1 (int x, int 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257800" y="4510080"/>
            <a:ext cx="1620720" cy="9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939000" y="4233960"/>
            <a:ext cx="12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Stac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0C746-2603-4175-9CE5-48E1B761E3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M of main(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82600" y="1177920"/>
            <a:ext cx="5715000" cy="49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4   push  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5   mov   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7   sub    $0x8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a   add    $0xfffffff8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d   push   $0x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f   push   $0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1   call   0x80483e4 &lt;example_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6   add    $0xfffffff8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9   push   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a   push   $0x80484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f   call   0x8048308 &lt;printf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14   xor    %eax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16   mov   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18   pop   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19   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5079960" y="3468600"/>
            <a:ext cx="2363760" cy="30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424640" y="324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Stac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059080" y="3241800"/>
            <a:ext cx="2384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4640" y="29844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Stac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A1FF6-8D3D-4D52-BB93-47EF03121B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tack at Point 1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73240" y="1177920"/>
            <a:ext cx="4541760" cy="324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&lt;mai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f4   push  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f5   mov    %esp,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f7   sub    $0x8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fa   add    $0xfffffff8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fd   push   $0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ff   push   $0x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401   call   0x80483e4 &lt;example_1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406   ………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29280" y="1490760"/>
            <a:ext cx="138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d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34320" y="1832040"/>
            <a:ext cx="1382760" cy="34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27840" y="2182680"/>
            <a:ext cx="1382760" cy="34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927840" y="2530440"/>
            <a:ext cx="1382760" cy="34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27840" y="2878200"/>
            <a:ext cx="1382760" cy="34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27840" y="3225960"/>
            <a:ext cx="138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31080" y="3568680"/>
            <a:ext cx="138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983200" y="3665520"/>
            <a:ext cx="935280" cy="368280"/>
            <a:chOff x="5983200" y="3665520"/>
            <a:chExt cx="935280" cy="368280"/>
          </a:xfrm>
        </p:grpSpPr>
        <p:sp>
          <p:nvSpPr>
            <p:cNvPr id="182" name=""/>
            <p:cNvSpPr/>
            <p:nvPr/>
          </p:nvSpPr>
          <p:spPr>
            <a:xfrm>
              <a:off x="5983200" y="3665520"/>
              <a:ext cx="74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69000" y="3862440"/>
              <a:ext cx="24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983200" y="1589040"/>
            <a:ext cx="935280" cy="368280"/>
            <a:chOff x="5983200" y="1589040"/>
            <a:chExt cx="935280" cy="368280"/>
          </a:xfrm>
        </p:grpSpPr>
        <p:sp>
          <p:nvSpPr>
            <p:cNvPr id="185" name=""/>
            <p:cNvSpPr/>
            <p:nvPr/>
          </p:nvSpPr>
          <p:spPr>
            <a:xfrm>
              <a:off x="5983200" y="1589040"/>
              <a:ext cx="74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669000" y="1785960"/>
              <a:ext cx="24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 flipV="1">
            <a:off x="4383000" y="3071880"/>
            <a:ext cx="1710000" cy="149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9107C-EF17-4B02-9F90-597312F8C2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tack at Point 2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42800" y="1887120"/>
            <a:ext cx="4351320" cy="229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&lt;example_2&gt;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e4    push   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e5    mov    %esp,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e7    mov    0xc(%ebp),%eax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ea    </a:t>
            </a:r>
            <a:r>
              <a:rPr b="1" i="1" lang="en-US" sz="1600" spc="-1" strike="noStrike">
                <a:solidFill>
                  <a:srgbClr val="003399"/>
                </a:solidFill>
                <a:latin typeface="Courier New"/>
              </a:rPr>
              <a:t>add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0x8(%ebp),%eax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ed    mov    %ebp,%es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ef    pop    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f0    ret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29280" y="1490760"/>
            <a:ext cx="138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d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34320" y="1832040"/>
            <a:ext cx="1382760" cy="34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27840" y="2182680"/>
            <a:ext cx="1382760" cy="34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27840" y="2530440"/>
            <a:ext cx="1382760" cy="34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27840" y="2878200"/>
            <a:ext cx="1382760" cy="34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27840" y="3225960"/>
            <a:ext cx="138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31080" y="3568680"/>
            <a:ext cx="138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983200" y="4547880"/>
            <a:ext cx="916200" cy="400320"/>
            <a:chOff x="5983200" y="4547880"/>
            <a:chExt cx="916200" cy="400320"/>
          </a:xfrm>
        </p:grpSpPr>
        <p:sp>
          <p:nvSpPr>
            <p:cNvPr id="198" name=""/>
            <p:cNvSpPr/>
            <p:nvPr/>
          </p:nvSpPr>
          <p:spPr>
            <a:xfrm>
              <a:off x="5983200" y="4579920"/>
              <a:ext cx="74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669000" y="4547880"/>
              <a:ext cx="2304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983200" y="4322880"/>
            <a:ext cx="935280" cy="368280"/>
            <a:chOff x="5983200" y="4322880"/>
            <a:chExt cx="935280" cy="368280"/>
          </a:xfrm>
        </p:grpSpPr>
        <p:sp>
          <p:nvSpPr>
            <p:cNvPr id="201" name=""/>
            <p:cNvSpPr/>
            <p:nvPr/>
          </p:nvSpPr>
          <p:spPr>
            <a:xfrm>
              <a:off x="5983200" y="4322880"/>
              <a:ext cx="74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69000" y="4519440"/>
              <a:ext cx="24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6927840" y="3906720"/>
            <a:ext cx="138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4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27840" y="4245120"/>
            <a:ext cx="138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ain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068800" y="2523600"/>
            <a:ext cx="1252800" cy="11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7B98A-F74A-4E55-AFD4-C2E2F7DA1D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tack at Point 3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73240" y="1425600"/>
            <a:ext cx="4859280" cy="150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&lt;mai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ff   ……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401   call 0x80483e4 &lt;example_1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406   ………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63520" y="3088800"/>
            <a:ext cx="4857840" cy="229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&lt;example_2&gt;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e4    push   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e5    mov    %esp,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e7    mov    0xc(%ebp),%eax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ea    </a:t>
            </a:r>
            <a:r>
              <a:rPr b="1" i="1" lang="en-US" sz="1600" spc="-1" strike="noStrike">
                <a:solidFill>
                  <a:srgbClr val="003399"/>
                </a:solidFill>
                <a:latin typeface="Courier New"/>
              </a:rPr>
              <a:t>add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0x8(%ebp),%eax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ed    mov    %ebp,%es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ef    pop    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f0    ret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29280" y="1490760"/>
            <a:ext cx="138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d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34320" y="1832040"/>
            <a:ext cx="1382760" cy="34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927840" y="2182680"/>
            <a:ext cx="1382760" cy="34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27840" y="2530440"/>
            <a:ext cx="1382760" cy="34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27840" y="2878200"/>
            <a:ext cx="1382760" cy="34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27840" y="3225960"/>
            <a:ext cx="138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931080" y="3568680"/>
            <a:ext cx="138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3200" y="1579680"/>
            <a:ext cx="935280" cy="368280"/>
            <a:chOff x="5983200" y="1579680"/>
            <a:chExt cx="935280" cy="368280"/>
          </a:xfrm>
        </p:grpSpPr>
        <p:sp>
          <p:nvSpPr>
            <p:cNvPr id="217" name=""/>
            <p:cNvSpPr/>
            <p:nvPr/>
          </p:nvSpPr>
          <p:spPr>
            <a:xfrm>
              <a:off x="5983200" y="1579680"/>
              <a:ext cx="74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669000" y="1776240"/>
              <a:ext cx="24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927840" y="3906720"/>
            <a:ext cx="138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4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27840" y="4245120"/>
            <a:ext cx="138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ain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983200" y="3665520"/>
            <a:ext cx="935280" cy="368280"/>
            <a:chOff x="5983200" y="3665520"/>
            <a:chExt cx="935280" cy="368280"/>
          </a:xfrm>
        </p:grpSpPr>
        <p:sp>
          <p:nvSpPr>
            <p:cNvPr id="222" name=""/>
            <p:cNvSpPr/>
            <p:nvPr/>
          </p:nvSpPr>
          <p:spPr>
            <a:xfrm>
              <a:off x="5983200" y="3665520"/>
              <a:ext cx="74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69000" y="3862440"/>
              <a:ext cx="24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5049720" y="2316240"/>
            <a:ext cx="1360440" cy="98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629A5-A86E-4EA8-9547-16CC2F42AB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rite Comment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42800" y="2266920"/>
            <a:ext cx="4917960" cy="200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e4    push   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e5    mov    %esp,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e7    mov    0xc(%ebp)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ea    </a:t>
            </a:r>
            <a:r>
              <a:rPr b="1" i="1" lang="en-US" sz="1800" spc="-1" strike="noStrike">
                <a:solidFill>
                  <a:srgbClr val="003399"/>
                </a:solidFill>
                <a:latin typeface="Courier New"/>
              </a:rPr>
              <a:t>add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0x8(%ebp)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ed    mov    %ebp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ef    pop    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0    ret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93920" y="1763640"/>
            <a:ext cx="661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int example_1 (int x, int 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77120" y="2752560"/>
            <a:ext cx="2136600" cy="63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ax=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ax+=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33B8C-6BDF-41BE-8561-FB7F8596C7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ain(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2600" y="1177920"/>
            <a:ext cx="5715000" cy="49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4   push  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5   mov   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7   sub    $0x8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a   add    $0xfffffff8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d   push   $0x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f   push   $0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1   call   0x80483e4 &lt;example_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6   add    $0xfffffff8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9   push   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a   push   $0x80484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f   call   0x8048308 &lt;printf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14   xor    %eax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16   mov   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18   pop   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19   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50160" y="3171960"/>
            <a:ext cx="2136600" cy="199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xample_1(1,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rintf(“%d\n”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result_example_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E8045-5520-4065-A6C1-8FCC17A445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 Cod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nt example_1 (int x, int y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x+y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nt main (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nt resul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sult = example_1 (1, 2)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rintf ("%d\n", result)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B49AD-07B3-4F49-9790-077827EECE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xample 2: Recurs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2640" y="3096720"/>
            <a:ext cx="5745240" cy="28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20   push   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21   mov    %esp,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23   sub    $0x10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26   push   %esi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27   push   %eb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28   mov    0x8(%ebp),%eb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2b   cmp    $0x2,%eb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2e   jg     0x804843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30   mov    $0x1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35   jmp    0x804845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54000" y="1155600"/>
            <a:ext cx="80154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lease write C code for the assembly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Draw the stack changes of calling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example_2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8720" y="2563920"/>
            <a:ext cx="661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int example_2 (int 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BDB9E-6248-4507-9F05-60332E0C04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xample 2 Cont’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2640" y="1333080"/>
            <a:ext cx="5892840" cy="447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37   add    $0xfffffff4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3a   lea    0xfffffffe(%ebx)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3d   push   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3e   call   0x8048420 &lt;example_2&gt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43   mov    %eax,%esi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45   add    $0xfffffff4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48   lea    0xffffffff(%ebx)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4b   push   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4c   call   0x8048420 &lt;example_2&gt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51   add    %esi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53   lea    0xffffffe8(%ebp)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56   pop    %eb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57   pop    %esi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58   mov    %ebp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5a   pop    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5b   ret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2A04A-F186-455E-B34E-5AE39453FA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ast Week’s Final Examp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3880" y="1218960"/>
            <a:ext cx="58802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int func5(int x){ ??? }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752480"/>
            <a:ext cx="48196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c0    push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c1    mov 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c3    mov  0x8(%ebp),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c6    xor  %eax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c8    xor  %edx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ca    cmp  %ecx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cc    jge  0x80483d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ce    mov  %esi,%e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d0    add  %edx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d2    inc  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d3    cmp  %ecx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d5    jl   0x80483d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d7    mov 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d9    pop 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da    ret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523880" y="1752480"/>
            <a:ext cx="6095880" cy="4114800"/>
            <a:chOff x="1523880" y="1752480"/>
            <a:chExt cx="6095880" cy="4114800"/>
          </a:xfrm>
        </p:grpSpPr>
        <p:grpSp>
          <p:nvGrpSpPr>
            <p:cNvPr id="92" name=""/>
            <p:cNvGrpSpPr/>
            <p:nvPr/>
          </p:nvGrpSpPr>
          <p:grpSpPr>
            <a:xfrm>
              <a:off x="1523880" y="1752480"/>
              <a:ext cx="6095880" cy="4114800"/>
              <a:chOff x="1523880" y="1752480"/>
              <a:chExt cx="6095880" cy="4114800"/>
            </a:xfrm>
          </p:grpSpPr>
          <p:sp>
            <p:nvSpPr>
              <p:cNvPr id="93" name=""/>
              <p:cNvSpPr/>
              <p:nvPr/>
            </p:nvSpPr>
            <p:spPr>
              <a:xfrm>
                <a:off x="1523880" y="1752480"/>
                <a:ext cx="6095880" cy="53352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523880" y="5029200"/>
                <a:ext cx="6095880" cy="83808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6505560" y="2362320"/>
              <a:ext cx="990360" cy="2666880"/>
              <a:chOff x="6505560" y="2362320"/>
              <a:chExt cx="990360" cy="2666880"/>
            </a:xfrm>
          </p:grpSpPr>
          <p:sp>
            <p:nvSpPr>
              <p:cNvPr id="96" name=""/>
              <p:cNvSpPr/>
              <p:nvPr/>
            </p:nvSpPr>
            <p:spPr>
              <a:xfrm>
                <a:off x="6505560" y="2362320"/>
                <a:ext cx="152280" cy="266688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69480 h 2666880"/>
                  <a:gd name="textAreaBottom" fmla="*/ 2597400 h 2666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657840" y="342900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od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B7E0F-6A4E-466E-9024-1B8BC3D426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tack Fram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42640" y="1333080"/>
            <a:ext cx="5118120" cy="447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&lt;example_2&gt;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420   push   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421   mov    %esp,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423   sub    $0x10,%es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426   push   %esi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427   push   %ebx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. . . . . .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453   lea    0xffffffe8(%ebp),%es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456   pop    %ebx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457   pop    %esi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458   mov    %ebp,%es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45a   pop    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45b   ret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10520" y="2166840"/>
            <a:ext cx="13827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d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05840" y="2508120"/>
            <a:ext cx="1382400" cy="349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08720" y="2849400"/>
            <a:ext cx="1382760" cy="349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08720" y="3197160"/>
            <a:ext cx="1382760" cy="349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08720" y="3544920"/>
            <a:ext cx="1382760" cy="349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08720" y="3892680"/>
            <a:ext cx="13827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d %e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11960" y="4245120"/>
            <a:ext cx="13827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d %eb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304040" y="1811160"/>
            <a:ext cx="1382760" cy="3373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rtrn 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00800" y="1471680"/>
            <a:ext cx="1382760" cy="3373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6307200" y="2217600"/>
            <a:ext cx="934560" cy="368280"/>
            <a:chOff x="6307200" y="2217600"/>
            <a:chExt cx="934560" cy="368280"/>
          </a:xfrm>
        </p:grpSpPr>
        <p:sp>
          <p:nvSpPr>
            <p:cNvPr id="252" name=""/>
            <p:cNvSpPr/>
            <p:nvPr/>
          </p:nvSpPr>
          <p:spPr>
            <a:xfrm>
              <a:off x="6307200" y="2217600"/>
              <a:ext cx="74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992640" y="2414520"/>
              <a:ext cx="249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307200" y="4303800"/>
            <a:ext cx="934560" cy="368280"/>
            <a:chOff x="6307200" y="4303800"/>
            <a:chExt cx="934560" cy="368280"/>
          </a:xfrm>
        </p:grpSpPr>
        <p:sp>
          <p:nvSpPr>
            <p:cNvPr id="255" name=""/>
            <p:cNvSpPr/>
            <p:nvPr/>
          </p:nvSpPr>
          <p:spPr>
            <a:xfrm>
              <a:off x="6307200" y="4303800"/>
              <a:ext cx="74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992640" y="4500360"/>
              <a:ext cx="249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C49A3-49D6-4897-9D59-12DD2F4264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rite Comments For Bod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2640" y="1333080"/>
            <a:ext cx="5807160" cy="447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28   mov    0x8(%ebp),%eb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2b   cmp    $0x2,%eb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2e   jg     0x804843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30   mov    $0x1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35   jmp    0x8048453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37   add    $0xfffffff4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3a   lea    0xfffffffe(%ebx)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3d   push   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3e   call   0x8048420 &lt;example_2&gt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43   mov    %eax,%esi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45   add    $0xfffffff4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48   lea    0xffffffff(%ebx)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4b   push   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4c   call   0x8048420 &lt;example_2&gt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51   add    %esi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53   . . .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067520" y="1333440"/>
            <a:ext cx="1663560" cy="447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bx=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f (x&gt;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oto L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ax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oto 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sh x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xample_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si=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sh x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xample_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ax+=e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10B90-412B-4E0F-9C02-424522C6C4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 Cod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int example_2 (int n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{int result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if (n &lt;= 2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result = 1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result = example_2(n-2)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+ example_2(n-1)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62080" y="5315040"/>
            <a:ext cx="60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Fibonacci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307E7-7CAE-460D-BC6D-3D8218893B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tack Changes of example_2(3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638360" y="1731960"/>
            <a:ext cx="2085840" cy="1225440"/>
            <a:chOff x="1638360" y="1731960"/>
            <a:chExt cx="2085840" cy="1225440"/>
          </a:xfrm>
        </p:grpSpPr>
        <p:sp>
          <p:nvSpPr>
            <p:cNvPr id="265" name=""/>
            <p:cNvSpPr/>
            <p:nvPr/>
          </p:nvSpPr>
          <p:spPr>
            <a:xfrm>
              <a:off x="1638360" y="2152800"/>
              <a:ext cx="9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Courier New"/>
                </a:rPr>
                <a:t>ex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38440" y="1828800"/>
              <a:ext cx="1085760" cy="1038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1697040" y="1731960"/>
              <a:ext cx="934560" cy="368280"/>
              <a:chOff x="1697040" y="1731960"/>
              <a:chExt cx="934560" cy="368280"/>
            </a:xfrm>
          </p:grpSpPr>
          <p:sp>
            <p:nvSpPr>
              <p:cNvPr id="268" name=""/>
              <p:cNvSpPr/>
              <p:nvPr/>
            </p:nvSpPr>
            <p:spPr>
              <a:xfrm>
                <a:off x="1697040" y="1731960"/>
                <a:ext cx="747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Courier New"/>
                  </a:rPr>
                  <a:t>%eb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382480" y="1928880"/>
                <a:ext cx="24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1697040" y="2589120"/>
              <a:ext cx="934560" cy="368280"/>
              <a:chOff x="1697040" y="2589120"/>
              <a:chExt cx="934560" cy="368280"/>
            </a:xfrm>
          </p:grpSpPr>
          <p:sp>
            <p:nvSpPr>
              <p:cNvPr id="271" name=""/>
              <p:cNvSpPr/>
              <p:nvPr/>
            </p:nvSpPr>
            <p:spPr>
              <a:xfrm>
                <a:off x="1697040" y="2589120"/>
                <a:ext cx="747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Courier New"/>
                  </a:rPr>
                  <a:t>%es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382480" y="2786040"/>
                <a:ext cx="24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3" name=""/>
          <p:cNvSpPr/>
          <p:nvPr/>
        </p:nvSpPr>
        <p:spPr>
          <a:xfrm>
            <a:off x="3809880" y="1587600"/>
            <a:ext cx="1266840" cy="260280"/>
          </a:xfrm>
          <a:custGeom>
            <a:avLst/>
            <a:gdLst/>
            <a:ahLst/>
            <a:rect l="l" t="t" r="r" b="b"/>
            <a:pathLst>
              <a:path w="1416" h="164">
                <a:moveTo>
                  <a:pt x="0" y="164"/>
                </a:moveTo>
                <a:cubicBezTo>
                  <a:pt x="233" y="84"/>
                  <a:pt x="466" y="4"/>
                  <a:pt x="702" y="2"/>
                </a:cubicBezTo>
                <a:cubicBezTo>
                  <a:pt x="938" y="0"/>
                  <a:pt x="1177" y="76"/>
                  <a:pt x="1416" y="15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57640" y="1181160"/>
            <a:ext cx="21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call example_2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4057560" y="1828800"/>
            <a:ext cx="2124000" cy="2804760"/>
            <a:chOff x="4057560" y="1828800"/>
            <a:chExt cx="2124000" cy="2804760"/>
          </a:xfrm>
        </p:grpSpPr>
        <p:grpSp>
          <p:nvGrpSpPr>
            <p:cNvPr id="276" name=""/>
            <p:cNvGrpSpPr/>
            <p:nvPr/>
          </p:nvGrpSpPr>
          <p:grpSpPr>
            <a:xfrm>
              <a:off x="4057560" y="1828800"/>
              <a:ext cx="2124000" cy="1038240"/>
              <a:chOff x="4057560" y="1828800"/>
              <a:chExt cx="2124000" cy="1038240"/>
            </a:xfrm>
          </p:grpSpPr>
          <p:sp>
            <p:nvSpPr>
              <p:cNvPr id="277" name=""/>
              <p:cNvSpPr/>
              <p:nvPr/>
            </p:nvSpPr>
            <p:spPr>
              <a:xfrm>
                <a:off x="4057560" y="2152440"/>
                <a:ext cx="100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3399"/>
                    </a:solidFill>
                    <a:latin typeface="Courier New"/>
                  </a:rPr>
                  <a:t>ex(3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095800" y="1828800"/>
                <a:ext cx="1085760" cy="10382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4152960" y="382896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Courier New"/>
                </a:rPr>
                <a:t>ex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095800" y="3485880"/>
              <a:ext cx="1085760" cy="10382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4154400" y="3408120"/>
              <a:ext cx="935280" cy="368280"/>
              <a:chOff x="4154400" y="3408120"/>
              <a:chExt cx="935280" cy="368280"/>
            </a:xfrm>
          </p:grpSpPr>
          <p:sp>
            <p:nvSpPr>
              <p:cNvPr id="282" name=""/>
              <p:cNvSpPr/>
              <p:nvPr/>
            </p:nvSpPr>
            <p:spPr>
              <a:xfrm>
                <a:off x="4154400" y="3408120"/>
                <a:ext cx="747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Courier New"/>
                  </a:rPr>
                  <a:t>%eb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840200" y="3605040"/>
                <a:ext cx="24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4154400" y="4265280"/>
              <a:ext cx="935280" cy="368280"/>
              <a:chOff x="4154400" y="4265280"/>
              <a:chExt cx="935280" cy="368280"/>
            </a:xfrm>
          </p:grpSpPr>
          <p:sp>
            <p:nvSpPr>
              <p:cNvPr id="285" name=""/>
              <p:cNvSpPr/>
              <p:nvPr/>
            </p:nvSpPr>
            <p:spPr>
              <a:xfrm>
                <a:off x="4154400" y="4265280"/>
                <a:ext cx="747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Courier New"/>
                  </a:rPr>
                  <a:t>%es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840200" y="4462200"/>
                <a:ext cx="24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5095800" y="2867040"/>
              <a:ext cx="1085760" cy="3373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95800" y="3209760"/>
              <a:ext cx="1085760" cy="2764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Courier New"/>
                </a:rPr>
                <a:t>0x804844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7553160" y="2867040"/>
            <a:ext cx="1086120" cy="337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553080" y="21528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99"/>
                </a:solidFill>
                <a:latin typeface="Courier New"/>
              </a:rPr>
              <a:t>ex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553160" y="1828800"/>
            <a:ext cx="1086120" cy="1038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6611760" y="1731960"/>
            <a:ext cx="935280" cy="368280"/>
            <a:chOff x="6611760" y="1731960"/>
            <a:chExt cx="935280" cy="368280"/>
          </a:xfrm>
        </p:grpSpPr>
        <p:sp>
          <p:nvSpPr>
            <p:cNvPr id="293" name=""/>
            <p:cNvSpPr/>
            <p:nvPr/>
          </p:nvSpPr>
          <p:spPr>
            <a:xfrm>
              <a:off x="6611760" y="1731960"/>
              <a:ext cx="74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97560" y="1928880"/>
              <a:ext cx="24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6611760" y="2922480"/>
            <a:ext cx="935280" cy="368280"/>
            <a:chOff x="6611760" y="2922480"/>
            <a:chExt cx="935280" cy="368280"/>
          </a:xfrm>
        </p:grpSpPr>
        <p:sp>
          <p:nvSpPr>
            <p:cNvPr id="296" name=""/>
            <p:cNvSpPr/>
            <p:nvPr/>
          </p:nvSpPr>
          <p:spPr>
            <a:xfrm>
              <a:off x="6611760" y="2922480"/>
              <a:ext cx="74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97560" y="3119400"/>
              <a:ext cx="24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6210360" y="1539720"/>
            <a:ext cx="1361880" cy="260640"/>
          </a:xfrm>
          <a:custGeom>
            <a:avLst/>
            <a:gdLst/>
            <a:ahLst/>
            <a:rect l="l" t="t" r="r" b="b"/>
            <a:pathLst>
              <a:path w="1416" h="164">
                <a:moveTo>
                  <a:pt x="0" y="164"/>
                </a:moveTo>
                <a:cubicBezTo>
                  <a:pt x="233" y="84"/>
                  <a:pt x="466" y="4"/>
                  <a:pt x="702" y="2"/>
                </a:cubicBezTo>
                <a:cubicBezTo>
                  <a:pt x="938" y="0"/>
                  <a:pt x="1177" y="76"/>
                  <a:pt x="1416" y="15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838840" y="1152360"/>
            <a:ext cx="21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CC1CE-1953-4888-88F4-803188D4C5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tack Changes of example_2(3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1587600"/>
            <a:ext cx="1266840" cy="260280"/>
          </a:xfrm>
          <a:custGeom>
            <a:avLst/>
            <a:gdLst/>
            <a:ahLst/>
            <a:rect l="l" t="t" r="r" b="b"/>
            <a:pathLst>
              <a:path w="1416" h="164">
                <a:moveTo>
                  <a:pt x="0" y="164"/>
                </a:moveTo>
                <a:cubicBezTo>
                  <a:pt x="233" y="84"/>
                  <a:pt x="466" y="4"/>
                  <a:pt x="702" y="2"/>
                </a:cubicBezTo>
                <a:cubicBezTo>
                  <a:pt x="938" y="0"/>
                  <a:pt x="1177" y="76"/>
                  <a:pt x="1416" y="15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57640" y="1181160"/>
            <a:ext cx="21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call example_2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057560" y="1828800"/>
            <a:ext cx="2124000" cy="1038240"/>
            <a:chOff x="4057560" y="1828800"/>
            <a:chExt cx="2124000" cy="1038240"/>
          </a:xfrm>
        </p:grpSpPr>
        <p:sp>
          <p:nvSpPr>
            <p:cNvPr id="304" name=""/>
            <p:cNvSpPr/>
            <p:nvPr/>
          </p:nvSpPr>
          <p:spPr>
            <a:xfrm>
              <a:off x="4057560" y="2152440"/>
              <a:ext cx="100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Courier New"/>
                </a:rPr>
                <a:t>ex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95800" y="1828800"/>
              <a:ext cx="1085760" cy="1038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4152960" y="3703680"/>
            <a:ext cx="2028600" cy="1225440"/>
            <a:chOff x="4152960" y="3703680"/>
            <a:chExt cx="2028600" cy="1225440"/>
          </a:xfrm>
        </p:grpSpPr>
        <p:sp>
          <p:nvSpPr>
            <p:cNvPr id="307" name=""/>
            <p:cNvSpPr/>
            <p:nvPr/>
          </p:nvSpPr>
          <p:spPr>
            <a:xfrm>
              <a:off x="4152960" y="412416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Courier New"/>
                </a:rPr>
                <a:t>ex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95800" y="3781440"/>
              <a:ext cx="1085760" cy="103824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4154400" y="3703680"/>
              <a:ext cx="935280" cy="368280"/>
              <a:chOff x="4154400" y="3703680"/>
              <a:chExt cx="935280" cy="368280"/>
            </a:xfrm>
          </p:grpSpPr>
          <p:sp>
            <p:nvSpPr>
              <p:cNvPr id="310" name=""/>
              <p:cNvSpPr/>
              <p:nvPr/>
            </p:nvSpPr>
            <p:spPr>
              <a:xfrm>
                <a:off x="4154400" y="3703680"/>
                <a:ext cx="747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Courier New"/>
                  </a:rPr>
                  <a:t>%eb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840200" y="3900600"/>
                <a:ext cx="24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4154400" y="4560840"/>
              <a:ext cx="935280" cy="368280"/>
              <a:chOff x="4154400" y="4560840"/>
              <a:chExt cx="935280" cy="368280"/>
            </a:xfrm>
          </p:grpSpPr>
          <p:sp>
            <p:nvSpPr>
              <p:cNvPr id="313" name=""/>
              <p:cNvSpPr/>
              <p:nvPr/>
            </p:nvSpPr>
            <p:spPr>
              <a:xfrm>
                <a:off x="4154400" y="4560840"/>
                <a:ext cx="747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Courier New"/>
                  </a:rPr>
                  <a:t>%es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40200" y="4757760"/>
                <a:ext cx="24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5" name=""/>
          <p:cNvSpPr/>
          <p:nvPr/>
        </p:nvSpPr>
        <p:spPr>
          <a:xfrm>
            <a:off x="5095800" y="2867040"/>
            <a:ext cx="1085760" cy="337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95800" y="3209760"/>
            <a:ext cx="1085760" cy="337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553160" y="2867040"/>
            <a:ext cx="1086120" cy="337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553080" y="21528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99"/>
                </a:solidFill>
                <a:latin typeface="Courier New"/>
              </a:rPr>
              <a:t>ex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553160" y="1828800"/>
            <a:ext cx="1086120" cy="1038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6611760" y="1731960"/>
            <a:ext cx="935280" cy="368280"/>
            <a:chOff x="6611760" y="1731960"/>
            <a:chExt cx="935280" cy="368280"/>
          </a:xfrm>
        </p:grpSpPr>
        <p:sp>
          <p:nvSpPr>
            <p:cNvPr id="321" name=""/>
            <p:cNvSpPr/>
            <p:nvPr/>
          </p:nvSpPr>
          <p:spPr>
            <a:xfrm>
              <a:off x="6611760" y="1731960"/>
              <a:ext cx="74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97560" y="1928880"/>
              <a:ext cx="24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6611760" y="3274920"/>
            <a:ext cx="935280" cy="368280"/>
            <a:chOff x="6611760" y="3274920"/>
            <a:chExt cx="935280" cy="368280"/>
          </a:xfrm>
        </p:grpSpPr>
        <p:sp>
          <p:nvSpPr>
            <p:cNvPr id="324" name=""/>
            <p:cNvSpPr/>
            <p:nvPr/>
          </p:nvSpPr>
          <p:spPr>
            <a:xfrm>
              <a:off x="6611760" y="3274920"/>
              <a:ext cx="74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97560" y="3471840"/>
              <a:ext cx="24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6210360" y="1539720"/>
            <a:ext cx="1361880" cy="260640"/>
          </a:xfrm>
          <a:custGeom>
            <a:avLst/>
            <a:gdLst/>
            <a:ahLst/>
            <a:rect l="l" t="t" r="r" b="b"/>
            <a:pathLst>
              <a:path w="1416" h="164">
                <a:moveTo>
                  <a:pt x="0" y="164"/>
                </a:moveTo>
                <a:cubicBezTo>
                  <a:pt x="233" y="84"/>
                  <a:pt x="466" y="4"/>
                  <a:pt x="702" y="2"/>
                </a:cubicBezTo>
                <a:cubicBezTo>
                  <a:pt x="938" y="0"/>
                  <a:pt x="1177" y="76"/>
                  <a:pt x="1416" y="15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838840" y="1152360"/>
            <a:ext cx="21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695600" y="1731960"/>
            <a:ext cx="2085480" cy="1558800"/>
            <a:chOff x="1695600" y="1731960"/>
            <a:chExt cx="2085480" cy="1558800"/>
          </a:xfrm>
        </p:grpSpPr>
        <p:sp>
          <p:nvSpPr>
            <p:cNvPr id="329" name=""/>
            <p:cNvSpPr/>
            <p:nvPr/>
          </p:nvSpPr>
          <p:spPr>
            <a:xfrm>
              <a:off x="2695320" y="2867040"/>
              <a:ext cx="1085760" cy="3373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695600" y="2152800"/>
              <a:ext cx="97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Courier New"/>
                </a:rPr>
                <a:t>ex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695320" y="1828800"/>
              <a:ext cx="1085760" cy="1038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1753920" y="1731960"/>
              <a:ext cx="934560" cy="368280"/>
              <a:chOff x="1753920" y="1731960"/>
              <a:chExt cx="934560" cy="368280"/>
            </a:xfrm>
          </p:grpSpPr>
          <p:sp>
            <p:nvSpPr>
              <p:cNvPr id="333" name=""/>
              <p:cNvSpPr/>
              <p:nvPr/>
            </p:nvSpPr>
            <p:spPr>
              <a:xfrm>
                <a:off x="1753920" y="1731960"/>
                <a:ext cx="747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Courier New"/>
                  </a:rPr>
                  <a:t>%eb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439360" y="1928880"/>
                <a:ext cx="24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1753920" y="2922480"/>
              <a:ext cx="934560" cy="368280"/>
              <a:chOff x="1753920" y="2922480"/>
              <a:chExt cx="934560" cy="368280"/>
            </a:xfrm>
          </p:grpSpPr>
          <p:sp>
            <p:nvSpPr>
              <p:cNvPr id="336" name=""/>
              <p:cNvSpPr/>
              <p:nvPr/>
            </p:nvSpPr>
            <p:spPr>
              <a:xfrm>
                <a:off x="1753920" y="2922480"/>
                <a:ext cx="747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Courier New"/>
                  </a:rPr>
                  <a:t>%es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439360" y="3119400"/>
                <a:ext cx="24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8" name=""/>
          <p:cNvSpPr/>
          <p:nvPr/>
        </p:nvSpPr>
        <p:spPr>
          <a:xfrm>
            <a:off x="5095800" y="3495600"/>
            <a:ext cx="1085760" cy="276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Courier New"/>
              </a:rPr>
              <a:t>0x80484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553160" y="3209760"/>
            <a:ext cx="1086120" cy="337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711F2-6180-4B25-9784-84BCBA4684F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rray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llocated as contiguous blocks of memory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ddress Computation Exampl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t cmu[5];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/* at address ‘addr’ */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mu[0]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ddr+0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mu[3]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ddr+3*sizeof(int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mu[-1]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ddr+(-1)*sizeof(int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69496-A787-484E-A453-753F5FF684E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xample 3 Write C Cod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42640" y="1218960"/>
            <a:ext cx="539100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0   push   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1   mov    %esp,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3   push   %eb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4   mov    0x8(%ebp),%eb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7   mov    0xc(%ebp),%ec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a   xor    %eax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c   xor    %edx,%ed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e   cmp    %ecx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0   jge    0x804840a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2   add    (%ebx,%edx,4)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5   inc    %ed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6   cmp    %ecx,%ed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8   jl     0x804840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a   pop    %eb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b   mov    %ebp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d   pop    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e   ret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4EBD0-76CE-4C4C-9DA5-395F1D2832C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rite Commen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498168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0   push 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1   mov  %esp,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3   push %eb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4   mov  0x8(%ebp),%eb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7   mov  0xc(%ebp),%ec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a   xor  %eax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c   xor  %edx,%ed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e   cmp  %ecx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0   jge  0x804840a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2   add  (%ebx,%edx,4)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5   inc  %ed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6   cmp  %ecx,%ed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8   jl   0x804840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a   pop  %eb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b   mov  %ebp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d   pop  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e   ret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229440" y="2048040"/>
            <a:ext cx="2609640" cy="306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bx=arg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cx=ar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ax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dx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f (0&gt;=arg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oto L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2:eax+=arg1[edx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dx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f (edx&lt;arg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oto 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152360" y="1228680"/>
            <a:ext cx="4962600" cy="819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43000" y="4848120"/>
            <a:ext cx="4962600" cy="1047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5BFF7-F0FA-4590-AEC4-CBF55EECD4A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rite Commen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498168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0   push 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1   mov  %esp,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3   push %eb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4   mov  0x8(%ebp),%eb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7   mov  0xc(%ebp),%ec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a   xor  %eax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c   xor  %edx,%ed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e   cmp  %ecx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0   jge  0x804840a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2   add  (%ebx,%edx,4)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5   inc  %ed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6   cmp  %ecx,%ed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8   jl   0x804840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a   pop  %eb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b   mov  %ebp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d   pop  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e   ret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229440" y="2048040"/>
            <a:ext cx="2609640" cy="306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bx=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cx=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sult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f (0&gt;=nu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oto L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2:result+=x[i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f (i&lt;nu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oto 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52360" y="1228680"/>
            <a:ext cx="4962600" cy="819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143000" y="4848120"/>
            <a:ext cx="4962600" cy="1047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238800" y="1228680"/>
            <a:ext cx="2610000" cy="6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rg1:x, arg2: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dx:i, eax: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D0723-D355-4C7D-B0A1-0E03FA3FCE7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oop + Arra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int example_3 (int x[], int num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int i, result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result = 0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for (i=0; i&lt;num; i++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result += x[i]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C471D-7805-4B12-B637-8DDF955596D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rite Commen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1752480"/>
            <a:ext cx="50292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3c3   mov  0x8(%ebp),%ec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3c6   xor  %eax,%e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3c8   xor  %edx,%e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3ca   cmp  %ecx,%e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3cc   jge  0x80483d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3ce   mov  %esi,%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3d0   add  %edx,%e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3d2   inc  %e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3d3   cmp  %ecx,%e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3d5   jl   0x80483d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3d7   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29400" y="1752480"/>
            <a:ext cx="2209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cx =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ax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dx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edx&gt;=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goto 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L2:eax += e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dx 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edx&lt;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goto 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L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218960"/>
            <a:ext cx="58802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int func5(int x){ ??? }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DD6A2-43C0-4A3F-A4DD-105E586257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truct and Linked Lis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truct a_struct {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     int     a;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     float  b;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     char   c[20];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truct b_struct {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  . . .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  struct b_struct *link;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  . . .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A3A22-8EB3-4442-B7A6-56DD95387A8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xample 4: Write C Cod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5295960" cy="40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34   push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35   mov    %esp,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37   mov    0x8(%ebp),%ed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3a   xor    %eax,%ea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3c   test   %edx,%ed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3e   je     0x804844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40   add    0x4(%edx),%ea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43   mov    (%edx),%ed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45   test   %edx,%edx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47   jne    0x804844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49   mov    %ebp,%es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4b   pop 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4c   ret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66840" y="5477040"/>
            <a:ext cx="64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Hint: the code visits a linked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DE8EC-8A49-414C-9960-646C2B3B8C5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rite Commen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4962600" cy="40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34   push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35   mov  %esp,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37   mov  0x8(%ebp),%ed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3a   xor  %eax,%ea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3c   test %edx,%ed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3e   je   0x804844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40   add  0x4(%edx),%ea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43   mov  (%edx),%ed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45   test %edx,%edx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47   jne  0x804844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49   mov  %ebp,%es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4b   pop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4c   ret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219720" y="1838160"/>
            <a:ext cx="2724120" cy="29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dx=arg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ax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edx =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goto 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2:eax +=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*(edx+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dx =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*(ed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edx !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goto 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L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CC974-7A43-44A8-8A7F-E6AE47B039E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1257480" y="1905120"/>
            <a:ext cx="3895560" cy="809280"/>
            <a:chOff x="1257480" y="1905120"/>
            <a:chExt cx="3895560" cy="809280"/>
          </a:xfrm>
        </p:grpSpPr>
        <p:grpSp>
          <p:nvGrpSpPr>
            <p:cNvPr id="366" name=""/>
            <p:cNvGrpSpPr/>
            <p:nvPr/>
          </p:nvGrpSpPr>
          <p:grpSpPr>
            <a:xfrm>
              <a:off x="2724120" y="1905120"/>
              <a:ext cx="2428920" cy="809280"/>
              <a:chOff x="2724120" y="1905120"/>
              <a:chExt cx="2428920" cy="809280"/>
            </a:xfrm>
          </p:grpSpPr>
          <p:grpSp>
            <p:nvGrpSpPr>
              <p:cNvPr id="367" name=""/>
              <p:cNvGrpSpPr/>
              <p:nvPr/>
            </p:nvGrpSpPr>
            <p:grpSpPr>
              <a:xfrm>
                <a:off x="2867040" y="2190600"/>
                <a:ext cx="2286000" cy="523800"/>
                <a:chOff x="2867040" y="2190600"/>
                <a:chExt cx="2286000" cy="52380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2867040" y="2190600"/>
                  <a:ext cx="2286000" cy="5238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4010040" y="2190600"/>
                  <a:ext cx="0" cy="514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0" name=""/>
              <p:cNvSpPr/>
              <p:nvPr/>
            </p:nvSpPr>
            <p:spPr>
              <a:xfrm>
                <a:off x="2724120" y="1905120"/>
                <a:ext cx="37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876840" y="190512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Courier New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1257480" y="2200320"/>
              <a:ext cx="1609560" cy="459720"/>
              <a:chOff x="1257480" y="2200320"/>
              <a:chExt cx="1609560" cy="459720"/>
            </a:xfrm>
          </p:grpSpPr>
          <p:sp>
            <p:nvSpPr>
              <p:cNvPr id="373" name=""/>
              <p:cNvSpPr/>
              <p:nvPr/>
            </p:nvSpPr>
            <p:spPr>
              <a:xfrm>
                <a:off x="1257480" y="2200320"/>
                <a:ext cx="923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3399"/>
                    </a:solidFill>
                    <a:latin typeface="Courier New"/>
                  </a:rPr>
                  <a:t>ed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066760" y="2448000"/>
                <a:ext cx="800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derstand the Loop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219720" y="1838160"/>
            <a:ext cx="2724120" cy="29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dx=arg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ax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edx =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goto 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2:eax +=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*(edx+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dx =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*(ed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edx !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goto 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L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085760" y="13716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edx is an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867040" y="22287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Courier New"/>
              </a:rPr>
              <a:t>ad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010040" y="22287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Courier New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2381400" y="2600280"/>
            <a:ext cx="2752560" cy="1155240"/>
            <a:chOff x="2381400" y="2600280"/>
            <a:chExt cx="2752560" cy="1155240"/>
          </a:xfrm>
        </p:grpSpPr>
        <p:grpSp>
          <p:nvGrpSpPr>
            <p:cNvPr id="381" name=""/>
            <p:cNvGrpSpPr/>
            <p:nvPr/>
          </p:nvGrpSpPr>
          <p:grpSpPr>
            <a:xfrm>
              <a:off x="2685960" y="3019320"/>
              <a:ext cx="2448000" cy="736200"/>
              <a:chOff x="2685960" y="3019320"/>
              <a:chExt cx="2448000" cy="736200"/>
            </a:xfrm>
          </p:grpSpPr>
          <p:sp>
            <p:nvSpPr>
              <p:cNvPr id="382" name=""/>
              <p:cNvSpPr/>
              <p:nvPr/>
            </p:nvSpPr>
            <p:spPr>
              <a:xfrm>
                <a:off x="2867040" y="3295800"/>
                <a:ext cx="1133640" cy="45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3399"/>
                    </a:solidFill>
                    <a:latin typeface="Courier New"/>
                  </a:rPr>
                  <a:t>add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685960" y="302904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848040" y="301932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Courier New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000680" y="3295800"/>
                <a:ext cx="1133280" cy="45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3399"/>
                    </a:solidFill>
                    <a:latin typeface="Courier New"/>
                  </a:rPr>
                  <a:t>dat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2381400" y="2600280"/>
              <a:ext cx="1055520" cy="1009800"/>
            </a:xfrm>
            <a:custGeom>
              <a:avLst/>
              <a:gdLst/>
              <a:ahLst/>
              <a:rect l="l" t="t" r="r" b="b"/>
              <a:pathLst>
                <a:path w="665" h="636">
                  <a:moveTo>
                    <a:pt x="618" y="0"/>
                  </a:moveTo>
                  <a:cubicBezTo>
                    <a:pt x="641" y="99"/>
                    <a:pt x="665" y="199"/>
                    <a:pt x="576" y="258"/>
                  </a:cubicBezTo>
                  <a:cubicBezTo>
                    <a:pt x="487" y="317"/>
                    <a:pt x="168" y="300"/>
                    <a:pt x="84" y="354"/>
                  </a:cubicBezTo>
                  <a:cubicBezTo>
                    <a:pt x="0" y="408"/>
                    <a:pt x="36" y="535"/>
                    <a:pt x="72" y="582"/>
                  </a:cubicBezTo>
                  <a:cubicBezTo>
                    <a:pt x="108" y="629"/>
                    <a:pt x="204" y="632"/>
                    <a:pt x="300" y="63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2371680" y="3648240"/>
            <a:ext cx="2752920" cy="1193040"/>
            <a:chOff x="2371680" y="3648240"/>
            <a:chExt cx="2752920" cy="1193040"/>
          </a:xfrm>
        </p:grpSpPr>
        <p:grpSp>
          <p:nvGrpSpPr>
            <p:cNvPr id="388" name=""/>
            <p:cNvGrpSpPr/>
            <p:nvPr/>
          </p:nvGrpSpPr>
          <p:grpSpPr>
            <a:xfrm>
              <a:off x="2676600" y="4105440"/>
              <a:ext cx="2448000" cy="735840"/>
              <a:chOff x="2676600" y="4105440"/>
              <a:chExt cx="2448000" cy="735840"/>
            </a:xfrm>
          </p:grpSpPr>
          <p:sp>
            <p:nvSpPr>
              <p:cNvPr id="389" name=""/>
              <p:cNvSpPr/>
              <p:nvPr/>
            </p:nvSpPr>
            <p:spPr>
              <a:xfrm>
                <a:off x="2857680" y="4381560"/>
                <a:ext cx="1133640" cy="45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3399"/>
                    </a:solidFill>
                    <a:latin typeface="Courier New"/>
                  </a:rPr>
                  <a:t>add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676600" y="41148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838680" y="410544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Courier New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991320" y="4381560"/>
                <a:ext cx="1133280" cy="45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3399"/>
                    </a:solidFill>
                    <a:latin typeface="Courier New"/>
                  </a:rPr>
                  <a:t>dat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2371680" y="3648240"/>
              <a:ext cx="1055880" cy="1009440"/>
            </a:xfrm>
            <a:custGeom>
              <a:avLst/>
              <a:gdLst/>
              <a:ahLst/>
              <a:rect l="l" t="t" r="r" b="b"/>
              <a:pathLst>
                <a:path w="665" h="636">
                  <a:moveTo>
                    <a:pt x="618" y="0"/>
                  </a:moveTo>
                  <a:cubicBezTo>
                    <a:pt x="641" y="99"/>
                    <a:pt x="665" y="199"/>
                    <a:pt x="576" y="258"/>
                  </a:cubicBezTo>
                  <a:cubicBezTo>
                    <a:pt x="487" y="317"/>
                    <a:pt x="168" y="300"/>
                    <a:pt x="84" y="354"/>
                  </a:cubicBezTo>
                  <a:cubicBezTo>
                    <a:pt x="0" y="408"/>
                    <a:pt x="36" y="535"/>
                    <a:pt x="72" y="582"/>
                  </a:cubicBezTo>
                  <a:cubicBezTo>
                    <a:pt x="108" y="629"/>
                    <a:pt x="204" y="632"/>
                    <a:pt x="300" y="63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676600" y="5181480"/>
            <a:ext cx="2448000" cy="736200"/>
            <a:chOff x="2676600" y="5181480"/>
            <a:chExt cx="2448000" cy="736200"/>
          </a:xfrm>
        </p:grpSpPr>
        <p:sp>
          <p:nvSpPr>
            <p:cNvPr id="395" name=""/>
            <p:cNvSpPr/>
            <p:nvPr/>
          </p:nvSpPr>
          <p:spPr>
            <a:xfrm>
              <a:off x="2857680" y="5457960"/>
              <a:ext cx="113364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99"/>
                  </a:solidFill>
                  <a:latin typeface="Courier New"/>
                </a:rPr>
                <a:t>NU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76600" y="51912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838680" y="51814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91320" y="5457960"/>
              <a:ext cx="11332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99"/>
                  </a:solidFill>
                  <a:latin typeface="Courier New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2352600" y="4743360"/>
            <a:ext cx="1055880" cy="1009800"/>
          </a:xfrm>
          <a:custGeom>
            <a:avLst/>
            <a:gdLst/>
            <a:ahLst/>
            <a:rect l="l" t="t" r="r" b="b"/>
            <a:pathLst>
              <a:path w="665" h="636">
                <a:moveTo>
                  <a:pt x="618" y="0"/>
                </a:moveTo>
                <a:cubicBezTo>
                  <a:pt x="641" y="99"/>
                  <a:pt x="665" y="199"/>
                  <a:pt x="576" y="258"/>
                </a:cubicBezTo>
                <a:cubicBezTo>
                  <a:pt x="487" y="317"/>
                  <a:pt x="168" y="300"/>
                  <a:pt x="84" y="354"/>
                </a:cubicBezTo>
                <a:cubicBezTo>
                  <a:pt x="0" y="408"/>
                  <a:pt x="36" y="535"/>
                  <a:pt x="72" y="582"/>
                </a:cubicBezTo>
                <a:cubicBezTo>
                  <a:pt x="108" y="629"/>
                  <a:pt x="204" y="632"/>
                  <a:pt x="300" y="63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6BB64-CB4C-4332-92A8-6ECA9D32042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me the Variab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085760" y="1371600"/>
            <a:ext cx="49532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arg1: 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eax: res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edx: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*(edx+4): p-&gt;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*(edx): p-&gt;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NULL is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543640" y="1838160"/>
            <a:ext cx="2724120" cy="29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dx=arg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ax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edx =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goto 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2:eax +=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*(edx+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dx =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*(ed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edx !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goto 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L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9E0ED-B2E6-48DC-A37C-C7938DC2656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me the Variab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267160" y="1838160"/>
            <a:ext cx="3333960" cy="29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=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sult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p == NU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goto 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L2:result +=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p-&gt;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 =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p-&gt;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p != NU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goto 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L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085760" y="1371600"/>
            <a:ext cx="49532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arg1: 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eax: res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edx: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*(edx+4): p-&gt;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*(edx): p-&gt;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NULL is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DFD0F-F041-4C7D-866E-78E760EDA32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 Cod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truct linked_list {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truct linked_list *next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                 data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 example_4 (struct linked_list *head)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 result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truct linked_list *p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sult = 0; p = head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hile (p != NULL) {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sult += p-&gt;data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 = p-&gt;next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1E896-30EA-4521-8FED-BF96FC359C1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me the variab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ax– result, edx--i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1905120"/>
            <a:ext cx="4486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c3   mov  0x8(%ebp),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c6   xor  %eax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c8   xor  %edx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ca   cmp  %ecx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cc   jge  0x80483d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ce   mov  %esi,%e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d0   add  %edx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d2   inc  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d3   cmp  %ecx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d5   jl   0x80483d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d7   …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43760" y="1905120"/>
            <a:ext cx="269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cx =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sult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f (i&gt;=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oto L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2:result +=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f (i&lt;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oto L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C55E4-640B-4CCC-BFEB-58CD5B8FD1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oop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09520" y="2138400"/>
            <a:ext cx="251460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sult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i&gt;=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goto L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L2:result += 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i&lt;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goto L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L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618000" y="1143000"/>
            <a:ext cx="4840200" cy="2133720"/>
            <a:chOff x="3618000" y="1143000"/>
            <a:chExt cx="4840200" cy="2133720"/>
          </a:xfrm>
        </p:grpSpPr>
        <p:sp>
          <p:nvSpPr>
            <p:cNvPr id="109" name=""/>
            <p:cNvSpPr/>
            <p:nvPr/>
          </p:nvSpPr>
          <p:spPr>
            <a:xfrm>
              <a:off x="4267080" y="1143000"/>
              <a:ext cx="4191120" cy="213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marL="332640" indent="-33264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result = 0; i = 0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if (i&gt;=x)  goto L1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do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    </a:t>
              </a: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result += i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    </a:t>
              </a: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i++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}while</a:t>
              </a: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 (i&lt;x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L1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3618000" y="2096640"/>
              <a:ext cx="646200" cy="111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621240" y="3343320"/>
            <a:ext cx="4836960" cy="1523880"/>
            <a:chOff x="3621240" y="3343320"/>
            <a:chExt cx="4836960" cy="1523880"/>
          </a:xfrm>
        </p:grpSpPr>
        <p:sp>
          <p:nvSpPr>
            <p:cNvPr id="112" name=""/>
            <p:cNvSpPr/>
            <p:nvPr/>
          </p:nvSpPr>
          <p:spPr>
            <a:xfrm>
              <a:off x="4267080" y="3343320"/>
              <a:ext cx="41911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marL="332640" indent="-33264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result = 0; i = 0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While</a:t>
              </a: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 (i&lt;x)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    </a:t>
              </a: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result += i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    </a:t>
              </a: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i++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621240" y="4078440"/>
              <a:ext cx="645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619440" y="4743360"/>
            <a:ext cx="4838760" cy="1181160"/>
            <a:chOff x="3619440" y="4743360"/>
            <a:chExt cx="4838760" cy="1181160"/>
          </a:xfrm>
        </p:grpSpPr>
        <p:sp>
          <p:nvSpPr>
            <p:cNvPr id="115" name=""/>
            <p:cNvSpPr/>
            <p:nvPr/>
          </p:nvSpPr>
          <p:spPr>
            <a:xfrm>
              <a:off x="4267080" y="4933800"/>
              <a:ext cx="419112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result = 0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for </a:t>
              </a: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(i=0; i&lt;x; i++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    </a:t>
              </a: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result += i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19440" y="4743360"/>
              <a:ext cx="647640" cy="746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971F0-35D1-469C-8BA1-2C75B2A6C5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 Cod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19400" y="1219320"/>
            <a:ext cx="6138720" cy="45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int func5(int x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int result=0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int i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for (i=0; i&lt;x; i++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result += i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return result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D2C78-164F-451A-8CEB-B50D758F59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tack Basic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930400" y="4610160"/>
            <a:ext cx="2724120" cy="820440"/>
            <a:chOff x="2930400" y="4610160"/>
            <a:chExt cx="2724120" cy="820440"/>
          </a:xfrm>
        </p:grpSpPr>
        <p:sp>
          <p:nvSpPr>
            <p:cNvPr id="121" name=""/>
            <p:cNvSpPr/>
            <p:nvPr/>
          </p:nvSpPr>
          <p:spPr>
            <a:xfrm>
              <a:off x="5037120" y="4862520"/>
              <a:ext cx="61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30400" y="4610160"/>
              <a:ext cx="2171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%e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5657760" y="1212840"/>
            <a:ext cx="1292400" cy="38257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998760" y="3225960"/>
            <a:ext cx="2028600" cy="1650960"/>
            <a:chOff x="6998760" y="3225960"/>
            <a:chExt cx="2028600" cy="1650960"/>
          </a:xfrm>
        </p:grpSpPr>
        <p:sp>
          <p:nvSpPr>
            <p:cNvPr id="125" name=""/>
            <p:cNvSpPr/>
            <p:nvPr/>
          </p:nvSpPr>
          <p:spPr>
            <a:xfrm>
              <a:off x="7943760" y="3225960"/>
              <a:ext cx="0" cy="165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98760" y="3530520"/>
              <a:ext cx="20286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ack Grow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7021440" y="1380960"/>
            <a:ext cx="1822680" cy="1594080"/>
            <a:chOff x="7021440" y="1380960"/>
            <a:chExt cx="1822680" cy="1594080"/>
          </a:xfrm>
        </p:grpSpPr>
        <p:sp>
          <p:nvSpPr>
            <p:cNvPr id="128" name=""/>
            <p:cNvSpPr/>
            <p:nvPr/>
          </p:nvSpPr>
          <p:spPr>
            <a:xfrm flipV="1">
              <a:off x="7943760" y="1380960"/>
              <a:ext cx="0" cy="1594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21440" y="1782720"/>
              <a:ext cx="18226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crea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dres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 flipH="1" flipV="1">
            <a:off x="6486480" y="5038560"/>
            <a:ext cx="565200" cy="331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54800" y="5348160"/>
            <a:ext cx="194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 “Top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57760" y="4734000"/>
            <a:ext cx="129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402444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ush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decrement %esp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n places valu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op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get valu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n increment %esp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45A3B-7B79-402D-A705-E0F14D3294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unction Stack Fram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6019920"/>
            <a:ext cx="889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78520" y="5616720"/>
            <a:ext cx="1641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60960" y="342252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43600" y="2943360"/>
            <a:ext cx="1717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me 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37280" y="2959200"/>
            <a:ext cx="1359000" cy="30456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37280" y="3568680"/>
            <a:ext cx="1363680" cy="1816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37280" y="5372280"/>
            <a:ext cx="1362240" cy="736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37280" y="1143000"/>
            <a:ext cx="1362240" cy="137160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43760" y="3263760"/>
            <a:ext cx="135576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37280" y="2362320"/>
            <a:ext cx="1359000" cy="6094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7520" y="182880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05720" y="114300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2640" y="1218960"/>
            <a:ext cx="413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 caller function calls a callee function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45EC4-4E9E-4184-B092-460ED6887B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aking a Cal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6019920"/>
            <a:ext cx="363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53320" y="581652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686640" y="3422160"/>
            <a:ext cx="3394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29200" y="3241800"/>
            <a:ext cx="72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37280" y="2959200"/>
            <a:ext cx="1359000" cy="30456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37280" y="3568680"/>
            <a:ext cx="1363680" cy="18064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37280" y="5372280"/>
            <a:ext cx="1362240" cy="736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37280" y="1143000"/>
            <a:ext cx="1362240" cy="12128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43760" y="3263760"/>
            <a:ext cx="135576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37280" y="2362320"/>
            <a:ext cx="1359000" cy="6094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5516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Caller: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ush” arguments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in what order?</a:t>
            </a:r>
            <a:r>
              <a:rPr b="0" i="1" lang="en-US" sz="1800" spc="-1" strike="noStrike">
                <a:solidFill>
                  <a:srgbClr val="003399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all”: put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return address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onto stack, jump to the start of callee functio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Callee: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ave (caller’s)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t up stack fr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ave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callee-saved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registers if want to us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%ebx, %esi, %edi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ut return value in %ea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restore %ebp and %es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ret” to jump to the “Return Addr”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11FED-CE0E-480B-BDCC-3EE5060120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imin</cp:lastModifiedBy>
  <dcterms:modified xsi:type="dcterms:W3CDTF">2002-09-23T16:03:05Z</dcterms:modified>
  <cp:revision>271</cp:revision>
  <dc:subject/>
  <dc:title>PowerPoint Presentation</dc:title>
</cp:coreProperties>
</file>