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96CF-C6D3-4316-91F9-AA8AF87B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5F8A-BDE3-4D86-AE8B-46F496F4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3670-0DA9-432C-872B-E0830796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255A-4EC3-4268-B510-8A7C189D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66FA-AB7C-491B-8F2A-2E38CAC3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0FF-35AD-45B3-AA9B-A1923AE1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1B4C-89B7-4F1A-8AF6-AD7F1108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061E-CD20-4E31-909A-782C9806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799-CC15-4DDA-BBA2-020D020B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7DE6-6499-4622-B0E0-BBD73174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6D0-337D-44D4-8076-374CC8D3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9C96-A559-48AD-A08C-3D8BBFD8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A42B-78F3-47CF-9BE1-5EB9B77976F2}" type="slidenum"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Recitation 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Procedures and the Stack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ndrew Faulr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15213 Section 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23 September 2002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2: fib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fib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n &lt;= 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ult = 1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ult = fib(n-2) + fib(n-1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ib: prolog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x8048420 &lt;fib&gt;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    $0x10,%es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%e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%eb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first part of bod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0x8(%ebp),%eb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$0x2,%eb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g     0x8048437 &lt;fib+23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$0x1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  0x8048453 &lt;fib+51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"/>
          <p:cNvSpPr/>
          <p:nvPr/>
        </p:nvSpPr>
        <p:spPr>
          <a:xfrm>
            <a:off x="7238880" y="275760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80200" y="275760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2909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38880" y="24526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214776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184320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306216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3670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367200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880" y="367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38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55800" y="304812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0x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048120"/>
            <a:ext cx="152280" cy="304560"/>
          </a:xfrm>
          <a:custGeom>
            <a:avLst/>
            <a:gdLst>
              <a:gd name="textAreaLeft" fmla="*/ 97200 w 152280"/>
              <a:gd name="textAreaRight" fmla="*/ 152640 w 15228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ib: body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x8048437 &lt;fib+23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$0xfffffff4,%es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   0xfffffffe(%ebx)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0x8048420 &lt;fib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%eax,%e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$0xfffffff4,%es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   0xffffffff(%ebx)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0x8048420 &lt;fib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%esi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27432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80200" y="274320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34320" y="2895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24382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21337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18288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30481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33526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36576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55800" y="303372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0x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3048120"/>
            <a:ext cx="152280" cy="304560"/>
          </a:xfrm>
          <a:custGeom>
            <a:avLst/>
            <a:gdLst>
              <a:gd name="textAreaLeft" fmla="*/ 97200 w 152280"/>
              <a:gd name="textAreaRight" fmla="*/ 152640 w 15228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248880" y="3672000"/>
            <a:ext cx="990000" cy="368280"/>
            <a:chOff x="6248880" y="3672000"/>
            <a:chExt cx="990000" cy="368280"/>
          </a:xfrm>
        </p:grpSpPr>
        <p:sp>
          <p:nvSpPr>
            <p:cNvPr id="142" name=""/>
            <p:cNvSpPr/>
            <p:nvPr/>
          </p:nvSpPr>
          <p:spPr>
            <a:xfrm>
              <a:off x="6248880" y="3672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34320" y="3824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324480" y="3962520"/>
            <a:ext cx="2362320" cy="914400"/>
            <a:chOff x="6324480" y="3962520"/>
            <a:chExt cx="2362320" cy="914400"/>
          </a:xfrm>
        </p:grpSpPr>
        <p:sp>
          <p:nvSpPr>
            <p:cNvPr id="145" name=""/>
            <p:cNvSpPr/>
            <p:nvPr/>
          </p:nvSpPr>
          <p:spPr>
            <a:xfrm>
              <a:off x="7238880" y="3962520"/>
              <a:ext cx="144792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39625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0x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86600" y="39625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38880" y="4267080"/>
              <a:ext cx="1447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38880" y="4572000"/>
              <a:ext cx="1447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Return 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248880" y="4876920"/>
            <a:ext cx="2437920" cy="992160"/>
            <a:chOff x="6248880" y="4876920"/>
            <a:chExt cx="2437920" cy="992160"/>
          </a:xfrm>
        </p:grpSpPr>
        <p:sp>
          <p:nvSpPr>
            <p:cNvPr id="151" name=""/>
            <p:cNvSpPr/>
            <p:nvPr/>
          </p:nvSpPr>
          <p:spPr>
            <a:xfrm>
              <a:off x="6248880" y="5500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34320" y="5653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38880" y="4876920"/>
              <a:ext cx="144792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24480" y="48769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0x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86600" y="48769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38880" y="5181480"/>
              <a:ext cx="1447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38880" y="5486400"/>
              <a:ext cx="1447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Return 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943600" y="274320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43200"/>
            <a:ext cx="380880" cy="3048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248880" y="4572000"/>
            <a:ext cx="990000" cy="368280"/>
            <a:chOff x="6248880" y="4572000"/>
            <a:chExt cx="990000" cy="368280"/>
          </a:xfrm>
        </p:grpSpPr>
        <p:sp>
          <p:nvSpPr>
            <p:cNvPr id="161" name=""/>
            <p:cNvSpPr/>
            <p:nvPr/>
          </p:nvSpPr>
          <p:spPr>
            <a:xfrm>
              <a:off x="6248880" y="4572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34320" y="4724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943600" y="2743200"/>
            <a:ext cx="380880" cy="2133720"/>
          </a:xfrm>
          <a:custGeom>
            <a:avLst/>
            <a:gdLst>
              <a:gd name="textAreaLeft" fmla="*/ 243360 w 380880"/>
              <a:gd name="textAreaRight" fmla="*/ 381240 w 3808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ib: epilog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x8048453 &lt;fib+51&gt;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   0xffffffe8(%ebp),%es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%eb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%e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"/>
          <p:cNvSpPr/>
          <p:nvPr/>
        </p:nvSpPr>
        <p:spPr>
          <a:xfrm>
            <a:off x="7238880" y="27432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80200" y="274320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2895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38880" y="24382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38880" y="21337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18288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238880" y="30481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33526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36576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55800" y="303372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0x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86600" y="3048120"/>
            <a:ext cx="152280" cy="304560"/>
          </a:xfrm>
          <a:custGeom>
            <a:avLst/>
            <a:gdLst>
              <a:gd name="textAreaLeft" fmla="*/ 97200 w 152280"/>
              <a:gd name="textAreaRight" fmla="*/ 152640 w 15228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248880" y="3672000"/>
            <a:ext cx="990000" cy="368280"/>
            <a:chOff x="6248880" y="3672000"/>
            <a:chExt cx="990000" cy="368280"/>
          </a:xfrm>
        </p:grpSpPr>
        <p:sp>
          <p:nvSpPr>
            <p:cNvPr id="178" name=""/>
            <p:cNvSpPr/>
            <p:nvPr/>
          </p:nvSpPr>
          <p:spPr>
            <a:xfrm>
              <a:off x="6248880" y="3672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34320" y="3824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324480" y="3962520"/>
            <a:ext cx="2362320" cy="914400"/>
            <a:chOff x="6324480" y="3962520"/>
            <a:chExt cx="2362320" cy="914400"/>
          </a:xfrm>
        </p:grpSpPr>
        <p:sp>
          <p:nvSpPr>
            <p:cNvPr id="181" name=""/>
            <p:cNvSpPr/>
            <p:nvPr/>
          </p:nvSpPr>
          <p:spPr>
            <a:xfrm>
              <a:off x="7238880" y="3962520"/>
              <a:ext cx="144792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480" y="39625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0x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86600" y="39625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238880" y="4267080"/>
              <a:ext cx="1447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38880" y="4572000"/>
              <a:ext cx="1447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Return 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248880" y="4876920"/>
            <a:ext cx="2437920" cy="992160"/>
            <a:chOff x="6248880" y="4876920"/>
            <a:chExt cx="2437920" cy="992160"/>
          </a:xfrm>
        </p:grpSpPr>
        <p:sp>
          <p:nvSpPr>
            <p:cNvPr id="187" name=""/>
            <p:cNvSpPr/>
            <p:nvPr/>
          </p:nvSpPr>
          <p:spPr>
            <a:xfrm>
              <a:off x="6248880" y="5500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34320" y="5653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4876920"/>
              <a:ext cx="144792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24480" y="48769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0x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86600" y="48769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38880" y="5181480"/>
              <a:ext cx="1447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38880" y="5486400"/>
              <a:ext cx="1447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Return 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943600" y="274320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2743200"/>
            <a:ext cx="380880" cy="3048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Homogenous Data: Array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llocated as contiguous blocks of memor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array[5] = {…}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begins at memory address 40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[0]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40 + 4*0 = 4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[3]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40 + 4*3 = 52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[-1]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40 + 4*-1 = 36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[15]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40 + 4*15 = 10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3: sum_array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um_array(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[],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num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, sum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m = 0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i = 0; i &lt; num; i++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m += x[i]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um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sum_array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3f0 &lt;sum_array&gt;:     push  %eb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3f1 &lt;sum_array+1&gt;:   mov   %esp,%eb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3f3 &lt;sum_array+3&gt;:   push  %eb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3f4 &lt;sum_array+4&gt;:   mov   0x8(%ebp),%ebx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3f7 &lt;sum_array+7&gt;:   mov   0xc(%ebp),%ecx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num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3fa &lt;sum_array+10&gt;:  xor   %eax,%eax     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sum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3fc &lt;sum_array+12&gt;:  xor   %edx,%edx     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i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3fe &lt;sum_array+14&gt;:  cmp   %ecx,%eax     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0 &gt;= num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00 &lt;sum_array+16&gt;:  jge   0x804840a &lt;sum_array+26&gt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02 &lt;sum_array+18&gt;:  add   (%ebx,%edx,4),%eax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sum += x[i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05 &lt;sum_array+21&gt;:  inc   %edx          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i++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06 &lt;sum_array+22&gt;:  cmp   %ecx,%edx     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i &lt; num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08 &lt;sum_array+24&gt;:  jl    0x8048402 &lt;sum_array+18&gt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0a &lt;sum_array+26&gt;:  pop   %eb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0b &lt;sum_array+27&gt;:  mov   %ebp,%es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0d &lt;sum_array+29&gt;:  pop   %eb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0e &lt;sum_array+30&gt;:  re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4: linked lis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typedef stru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linked_lis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linked_list *nex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data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linked_lis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"/>
          <p:cNvSpPr/>
          <p:nvPr/>
        </p:nvSpPr>
        <p:spPr>
          <a:xfrm>
            <a:off x="7086600" y="1752480"/>
            <a:ext cx="167652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2133720"/>
            <a:ext cx="167652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01600" y="176688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0x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01600" y="214776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0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4: sum_linked_lis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_linked_list(linked_list *hea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0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head != NULL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+= head-&gt;data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d = head-&gt;nex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sum_linked_lis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34 &lt;sum&gt;:     push   %eb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35 &lt;sum+1&gt;:   mov    %esp,%eb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37 &lt;sum+3&gt;:   mov    0x8(%ebp),%edx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head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3a &lt;sum+6&gt;:   xor    %eax,%eax     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sum = 0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3c &lt;sum+8&gt;:   test   %edx,%edx     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head == NUL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3e &lt;sum+10&gt;:  je     0x8048449 &lt;sum+21&gt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40 &lt;sum+12&gt;:  add    0x4(%edx),%eax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sum += head-&gt;data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43 &lt;sum+15&gt;:  mov    (%edx),%edx   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head = head-&gt;nex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45 &lt;sum+17&gt;:  test   %edx,%edx     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head == NUL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47 &lt;sum+19&gt;:  jne    0x8048440 &lt;sum+12&gt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49 &lt;sum+21&gt;:  mov    %ebp,%es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4b &lt;sum+23&gt;:  pop    %eb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4c &lt;sum+24&gt;:  ret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ndrew Faulring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aulring@cs.cmu.edu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Office hours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SH 2504 (lab) / 2507 (conference room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ursday 5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ab 2 due Thursday, 11:59p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ook for Lab 3 soon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Arial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ossible by Tuesda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Good luck with Lab2!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Is everyone okay with GDB and Lab2?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rocedures and the Stac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omogenous Data: Array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Stack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Grows down in memor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tores local variables that cannot fit in register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tores arguments and return address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%esp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points to the top value on the stac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%ebp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points to a function’s stack fram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shl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decrements, then places valu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opl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‘returns’ value, then incremen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Stack Fram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bstract partitioning of the stac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ach Stack Frame contains the state for a single function instanc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ecursive functions have multiple Stack Frames—one for each invoca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"/>
          <p:cNvSpPr/>
          <p:nvPr/>
        </p:nvSpPr>
        <p:spPr>
          <a:xfrm>
            <a:off x="6324480" y="6477120"/>
            <a:ext cx="889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11440" y="6073920"/>
            <a:ext cx="1708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tack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(%e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275440" y="3263760"/>
            <a:ext cx="1978920" cy="637560"/>
            <a:chOff x="5275440" y="3263760"/>
            <a:chExt cx="1978920" cy="637560"/>
          </a:xfrm>
        </p:grpSpPr>
        <p:sp>
          <p:nvSpPr>
            <p:cNvPr id="54" name=""/>
            <p:cNvSpPr/>
            <p:nvPr/>
          </p:nvSpPr>
          <p:spPr>
            <a:xfrm>
              <a:off x="6289560" y="3895560"/>
              <a:ext cx="96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5440" y="3263760"/>
              <a:ext cx="1812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Frame Poi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(%eb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7238880" y="1600200"/>
            <a:ext cx="1371600" cy="5003640"/>
            <a:chOff x="7238880" y="1600200"/>
            <a:chExt cx="1371600" cy="5003640"/>
          </a:xfrm>
        </p:grpSpPr>
        <p:sp>
          <p:nvSpPr>
            <p:cNvPr id="57" name=""/>
            <p:cNvSpPr/>
            <p:nvPr/>
          </p:nvSpPr>
          <p:spPr>
            <a:xfrm>
              <a:off x="7238880" y="3416400"/>
              <a:ext cx="1371600" cy="3045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Return Ad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38880" y="4025880"/>
              <a:ext cx="1371600" cy="927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Sav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38880" y="5867280"/>
              <a:ext cx="1371600" cy="736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Argu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Bu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38880" y="1600200"/>
              <a:ext cx="1371600" cy="1371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38880" y="3720960"/>
              <a:ext cx="13716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Old %e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38880" y="4952880"/>
              <a:ext cx="1371600" cy="927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Vari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38880" y="2819520"/>
              <a:ext cx="1371600" cy="6094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Argu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905080" y="2284560"/>
            <a:ext cx="9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34320" y="160020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Procedur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aller Responsibiliti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ave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caller sav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regist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(if necessary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ec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rguments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shl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ushed onto stac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 what order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xecute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instruc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ushes return address (that of the next instruction) onto the stac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238880" y="1625760"/>
            <a:ext cx="1371600" cy="5003640"/>
            <a:chOff x="7238880" y="1625760"/>
            <a:chExt cx="1371600" cy="5003640"/>
          </a:xfrm>
        </p:grpSpPr>
        <p:sp>
          <p:nvSpPr>
            <p:cNvPr id="69" name=""/>
            <p:cNvSpPr/>
            <p:nvPr/>
          </p:nvSpPr>
          <p:spPr>
            <a:xfrm>
              <a:off x="7238880" y="3441960"/>
              <a:ext cx="1371600" cy="3045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Return Ad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238880" y="4051440"/>
              <a:ext cx="1371600" cy="927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Sav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238880" y="5892840"/>
              <a:ext cx="1371600" cy="736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Argu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Bu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238880" y="1625760"/>
              <a:ext cx="1371600" cy="1371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238880" y="3746520"/>
              <a:ext cx="13716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Old %e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238880" y="4978440"/>
              <a:ext cx="1371600" cy="927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Vari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238880" y="2845080"/>
              <a:ext cx="1371600" cy="6094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Argu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705720" y="1600200"/>
            <a:ext cx="533160" cy="2133720"/>
          </a:xfrm>
          <a:custGeom>
            <a:avLst/>
            <a:gdLst>
              <a:gd name="textAreaLeft" fmla="*/ 340560 w 533160"/>
              <a:gd name="textAreaRight" fmla="*/ 533520 w 5331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Procedures: Callee Responsibilities (prolog)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ave base pointer on stac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 %ebp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t base pointer to point to the top of the stac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%esp,%eb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ave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callee sav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register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eb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esi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ed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 %es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llocate space for local variabl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crement the stack point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 0xFFFFFFF8, %es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238880" y="1625760"/>
            <a:ext cx="1371600" cy="5003640"/>
            <a:chOff x="7238880" y="1625760"/>
            <a:chExt cx="1371600" cy="5003640"/>
          </a:xfrm>
        </p:grpSpPr>
        <p:sp>
          <p:nvSpPr>
            <p:cNvPr id="80" name=""/>
            <p:cNvSpPr/>
            <p:nvPr/>
          </p:nvSpPr>
          <p:spPr>
            <a:xfrm>
              <a:off x="7238880" y="3441960"/>
              <a:ext cx="1371600" cy="3045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Return Ad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38880" y="4051440"/>
              <a:ext cx="1371600" cy="927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Sav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38880" y="5892840"/>
              <a:ext cx="1371600" cy="736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Argu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Bu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238880" y="1625760"/>
              <a:ext cx="1371600" cy="1371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38880" y="3746520"/>
              <a:ext cx="13716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Old %e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38880" y="4978440"/>
              <a:ext cx="1371600" cy="927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Vari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238880" y="2845080"/>
              <a:ext cx="1371600" cy="6094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Argu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705720" y="3733920"/>
            <a:ext cx="533160" cy="2133360"/>
          </a:xfrm>
          <a:custGeom>
            <a:avLst/>
            <a:gdLst>
              <a:gd name="textAreaLeft" fmla="*/ 340560 w 533160"/>
              <a:gd name="textAreaRight" fmla="*/ 533520 w 53316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86600" y="38098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Procedures: Callee Responsibilities (epilog)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ove return value int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store stack pointe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ov  %ebp,%esp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store the base pointer to value for calling func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op  %ebp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xecute the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ret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instruc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ops a value from the stac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Jumps to the addres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238880" y="1625760"/>
            <a:ext cx="1371600" cy="5003640"/>
            <a:chOff x="7238880" y="1625760"/>
            <a:chExt cx="1371600" cy="5003640"/>
          </a:xfrm>
        </p:grpSpPr>
        <p:sp>
          <p:nvSpPr>
            <p:cNvPr id="92" name=""/>
            <p:cNvSpPr/>
            <p:nvPr/>
          </p:nvSpPr>
          <p:spPr>
            <a:xfrm>
              <a:off x="7238880" y="3441960"/>
              <a:ext cx="1371600" cy="3045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Return Ad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38880" y="4051440"/>
              <a:ext cx="1371600" cy="927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Sav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38880" y="5892840"/>
              <a:ext cx="1371600" cy="736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Argu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Bu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38880" y="1625760"/>
              <a:ext cx="1371600" cy="1371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38880" y="3746520"/>
              <a:ext cx="13716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Old %e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38880" y="4978440"/>
              <a:ext cx="1371600" cy="927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Vari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238880" y="2845080"/>
              <a:ext cx="1371600" cy="6094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Argu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705720" y="3733920"/>
            <a:ext cx="533160" cy="2133360"/>
          </a:xfrm>
          <a:custGeom>
            <a:avLst/>
            <a:gdLst>
              <a:gd name="textAreaLeft" fmla="*/ 340560 w 533160"/>
              <a:gd name="textAreaRight" fmla="*/ 533520 w 53316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086600" y="38862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1: add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add (</a:t>
            </a:r>
            <a:r>
              <a:rPr b="1" lang="fr-FR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x, </a:t>
            </a:r>
            <a:r>
              <a:rPr b="1" lang="fr-FR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y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x+y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%esp,%ebp     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0xc(%ebp),%eax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0x8(%ebp)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"/>
          <p:cNvSpPr/>
          <p:nvPr/>
        </p:nvSpPr>
        <p:spPr>
          <a:xfrm>
            <a:off x="7162920" y="4495680"/>
            <a:ext cx="14475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4419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ebp, %e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4191120"/>
            <a:ext cx="144756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2920" y="3886200"/>
            <a:ext cx="14475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3581280"/>
            <a:ext cx="14475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62920" y="4800600"/>
            <a:ext cx="14475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5105520"/>
            <a:ext cx="144756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1:46:12Z</dcterms:created>
  <dc:creator>Andrew Robert Faulring</dc:creator>
  <dc:description/>
  <dc:language>en-US</dc:language>
  <cp:lastModifiedBy>Andrew Robert Faulring</cp:lastModifiedBy>
  <dcterms:modified xsi:type="dcterms:W3CDTF">2002-09-23T17:12:16Z</dcterms:modified>
  <cp:revision>212</cp:revision>
  <dc:subject/>
  <dc:title>Slide 1</dc:title>
</cp:coreProperties>
</file>