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7304088" cy="9590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41DDF-203B-49B6-82FD-58126CA9F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1303B-9BDE-4F96-90B0-AB01FE4DC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61E5B-A8D0-435F-9C98-34121ED9F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280B4-B31F-4C45-B62F-E470CED44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CF379-B964-4D95-B396-4276E1F85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6887F-EA15-418E-A460-0590FADAE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3FCDA-DB5A-4ACD-B46E-3F60C8CBD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2146C-1AB6-4D7D-AABC-A40916597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D6CF6-7D04-4C8C-8B58-A80D046E2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EB754-09D7-41EF-B50C-70F179934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1F4A4-3F15-43FE-9261-409320054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6E8B2-4DB4-4A0E-B914-F57B267A4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Lucida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Lucida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Lucida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Lucid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Lucida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Lucid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55E7C-06DA-45BF-9C41-3643DEE0B8E6}" type="slidenum">
              <a:rPr b="0" lang="en-US" sz="14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"/>
              </a:rPr>
              <a:t>Recitation 3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Lucida Sans"/>
              </a:rPr>
              <a:t>Procedures and the Stack</a:t>
            </a: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Andrew Faulring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15213 Section A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23 September 2002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"/>
              </a:rPr>
              <a:t>Example 2: fib</a:t>
            </a: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fib(</a:t>
            </a:r>
            <a:r>
              <a:rPr b="1" lang="en-US" sz="24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n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result;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33cc"/>
                </a:solidFill>
                <a:latin typeface="Courier New"/>
              </a:rPr>
              <a:t>i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n &lt;= 2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esult = 1;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33cc"/>
                </a:solidFill>
                <a:latin typeface="Courier New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esult = fib(n-2) + fib(n-1);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result;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"/>
              </a:rPr>
              <a:t>fib: prolog</a:t>
            </a: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876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0x8048420 &lt;fib&gt;: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sh   %ebp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   %esp,%ebp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ub    $0x10,%esp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sh   %esi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sh   %ebx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# first part of body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   0x8(%ebp),%ebx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mp    $0x2,%ebx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jg     0x8048437 &lt;fib+23&gt;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   $0x1,%eax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jmp    0x8048453 &lt;fib+51&gt;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5" name=""/>
          <p:cNvSpPr/>
          <p:nvPr/>
        </p:nvSpPr>
        <p:spPr>
          <a:xfrm>
            <a:off x="7238880" y="2757600"/>
            <a:ext cx="1447920" cy="304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Save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b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280200" y="2757600"/>
            <a:ext cx="73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b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934320" y="29098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238880" y="2452680"/>
            <a:ext cx="14479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Return add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238880" y="2147760"/>
            <a:ext cx="14479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238880" y="1843200"/>
            <a:ext cx="1447920" cy="304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238880" y="3062160"/>
            <a:ext cx="14479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238880" y="3367080"/>
            <a:ext cx="14479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238880" y="3672000"/>
            <a:ext cx="1447920" cy="304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b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248880" y="36720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934320" y="38242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355800" y="3048120"/>
            <a:ext cx="69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0x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086600" y="3048120"/>
            <a:ext cx="152280" cy="304560"/>
          </a:xfrm>
          <a:custGeom>
            <a:avLst/>
            <a:gdLst>
              <a:gd name="textAreaLeft" fmla="*/ 97200 w 152280"/>
              <a:gd name="textAreaRight" fmla="*/ 152640 w 152280"/>
              <a:gd name="textAreaTop" fmla="*/ 7920 h 304560"/>
              <a:gd name="textAreaBottom" fmla="*/ 29664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"/>
              </a:rPr>
              <a:t>fib: body</a:t>
            </a: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334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0x8048437 &lt;fib+23&gt;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    $0xfffffff4,%esp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ea    0xfffffffe(%ebx),%eax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sh   %eax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all   0x8048420 &lt;fib&gt;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   %eax,%esi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    $0xfffffff4,%esp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ea    0xffffffff(%ebx),%eax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sh   %eax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all   0x8048420 &lt;fib&gt;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    %esi,%eax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0" name=""/>
          <p:cNvSpPr/>
          <p:nvPr/>
        </p:nvSpPr>
        <p:spPr>
          <a:xfrm>
            <a:off x="7238880" y="2743200"/>
            <a:ext cx="14479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Save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b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280200" y="2743200"/>
            <a:ext cx="73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b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934320" y="28954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238880" y="2438280"/>
            <a:ext cx="14479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Return add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238880" y="2133720"/>
            <a:ext cx="1447920" cy="304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238880" y="1828800"/>
            <a:ext cx="14479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238880" y="3048120"/>
            <a:ext cx="1447920" cy="304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238880" y="3352680"/>
            <a:ext cx="14479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238880" y="3657600"/>
            <a:ext cx="14479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b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355800" y="3033720"/>
            <a:ext cx="69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0x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086600" y="3048120"/>
            <a:ext cx="152280" cy="304560"/>
          </a:xfrm>
          <a:custGeom>
            <a:avLst/>
            <a:gdLst>
              <a:gd name="textAreaLeft" fmla="*/ 97200 w 152280"/>
              <a:gd name="textAreaRight" fmla="*/ 152640 w 152280"/>
              <a:gd name="textAreaTop" fmla="*/ 7920 h 304560"/>
              <a:gd name="textAreaBottom" fmla="*/ 29664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6248880" y="3672000"/>
            <a:ext cx="990000" cy="368280"/>
            <a:chOff x="6248880" y="3672000"/>
            <a:chExt cx="990000" cy="368280"/>
          </a:xfrm>
        </p:grpSpPr>
        <p:sp>
          <p:nvSpPr>
            <p:cNvPr id="142" name=""/>
            <p:cNvSpPr/>
            <p:nvPr/>
          </p:nvSpPr>
          <p:spPr>
            <a:xfrm>
              <a:off x="6248880" y="367200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%es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934320" y="382428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6324480" y="3962520"/>
            <a:ext cx="2362320" cy="914400"/>
            <a:chOff x="6324480" y="3962520"/>
            <a:chExt cx="2362320" cy="914400"/>
          </a:xfrm>
        </p:grpSpPr>
        <p:sp>
          <p:nvSpPr>
            <p:cNvPr id="145" name=""/>
            <p:cNvSpPr/>
            <p:nvPr/>
          </p:nvSpPr>
          <p:spPr>
            <a:xfrm>
              <a:off x="7238880" y="3962520"/>
              <a:ext cx="1447920" cy="3045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Sans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396252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Sans"/>
                </a:rPr>
                <a:t>0x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086600" y="3962520"/>
              <a:ext cx="152280" cy="30456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7920 h 304560"/>
                <a:gd name="textAreaBottom" fmla="*/ 29664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238880" y="4267080"/>
              <a:ext cx="1447920" cy="304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%ea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238880" y="4572000"/>
              <a:ext cx="1447920" cy="304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Sans"/>
                </a:rPr>
                <a:t>Return add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6248880" y="4876920"/>
            <a:ext cx="2437920" cy="992160"/>
            <a:chOff x="6248880" y="4876920"/>
            <a:chExt cx="2437920" cy="992160"/>
          </a:xfrm>
        </p:grpSpPr>
        <p:sp>
          <p:nvSpPr>
            <p:cNvPr id="151" name=""/>
            <p:cNvSpPr/>
            <p:nvPr/>
          </p:nvSpPr>
          <p:spPr>
            <a:xfrm>
              <a:off x="6248880" y="550080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%es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934320" y="565308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238880" y="4876920"/>
              <a:ext cx="1447920" cy="3045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Sans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324480" y="487692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Sans"/>
                </a:rPr>
                <a:t>0x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086600" y="4876920"/>
              <a:ext cx="152280" cy="30456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7920 h 304560"/>
                <a:gd name="textAreaBottom" fmla="*/ 29664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38880" y="5181480"/>
              <a:ext cx="1447920" cy="304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%ea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238880" y="5486400"/>
              <a:ext cx="1447920" cy="304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Sans"/>
                </a:rPr>
                <a:t>Return add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"/>
          <p:cNvSpPr/>
          <p:nvPr/>
        </p:nvSpPr>
        <p:spPr>
          <a:xfrm>
            <a:off x="5943600" y="2743200"/>
            <a:ext cx="380880" cy="1219320"/>
          </a:xfrm>
          <a:custGeom>
            <a:avLst/>
            <a:gdLst>
              <a:gd name="textAreaLeft" fmla="*/ 243360 w 380880"/>
              <a:gd name="textAreaRight" fmla="*/ 381240 w 38088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943600" y="2743200"/>
            <a:ext cx="380880" cy="3048120"/>
          </a:xfrm>
          <a:custGeom>
            <a:avLst/>
            <a:gdLst>
              <a:gd name="textAreaLeft" fmla="*/ 243360 w 380880"/>
              <a:gd name="textAreaRight" fmla="*/ 381240 w 380880"/>
              <a:gd name="textAreaTop" fmla="*/ 79200 h 3048120"/>
              <a:gd name="textAreaBottom" fmla="*/ 2968920 h 3048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6248880" y="4572000"/>
            <a:ext cx="990000" cy="368280"/>
            <a:chOff x="6248880" y="4572000"/>
            <a:chExt cx="990000" cy="368280"/>
          </a:xfrm>
        </p:grpSpPr>
        <p:sp>
          <p:nvSpPr>
            <p:cNvPr id="161" name=""/>
            <p:cNvSpPr/>
            <p:nvPr/>
          </p:nvSpPr>
          <p:spPr>
            <a:xfrm>
              <a:off x="6248880" y="457200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%es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934320" y="472428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5943600" y="2743200"/>
            <a:ext cx="380880" cy="2133720"/>
          </a:xfrm>
          <a:custGeom>
            <a:avLst/>
            <a:gdLst>
              <a:gd name="textAreaLeft" fmla="*/ 243360 w 380880"/>
              <a:gd name="textAreaRight" fmla="*/ 381240 w 380880"/>
              <a:gd name="textAreaTop" fmla="*/ 55440 h 2133720"/>
              <a:gd name="textAreaBottom" fmla="*/ 2078280 h 2133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8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"/>
              </a:rPr>
              <a:t>fib: epilog</a:t>
            </a: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0x8048453 &lt;fib+51&gt;: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ea    0xffffffe8(%ebp),%esp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op    %ebx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op    %esi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   %ebp,%esp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op    %ebp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   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6" name=""/>
          <p:cNvSpPr/>
          <p:nvPr/>
        </p:nvSpPr>
        <p:spPr>
          <a:xfrm>
            <a:off x="7238880" y="2743200"/>
            <a:ext cx="14479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Save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b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280200" y="2743200"/>
            <a:ext cx="73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b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934320" y="28954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238880" y="2438280"/>
            <a:ext cx="14479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Return add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238880" y="2133720"/>
            <a:ext cx="1447920" cy="304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238880" y="1828800"/>
            <a:ext cx="14479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238880" y="3048120"/>
            <a:ext cx="1447920" cy="304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238880" y="3352680"/>
            <a:ext cx="14479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238880" y="3657600"/>
            <a:ext cx="14479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b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55800" y="3033720"/>
            <a:ext cx="69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0x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086600" y="3048120"/>
            <a:ext cx="152280" cy="304560"/>
          </a:xfrm>
          <a:custGeom>
            <a:avLst/>
            <a:gdLst>
              <a:gd name="textAreaLeft" fmla="*/ 97200 w 152280"/>
              <a:gd name="textAreaRight" fmla="*/ 152640 w 152280"/>
              <a:gd name="textAreaTop" fmla="*/ 7920 h 304560"/>
              <a:gd name="textAreaBottom" fmla="*/ 29664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6248880" y="3672000"/>
            <a:ext cx="990000" cy="368280"/>
            <a:chOff x="6248880" y="3672000"/>
            <a:chExt cx="990000" cy="368280"/>
          </a:xfrm>
        </p:grpSpPr>
        <p:sp>
          <p:nvSpPr>
            <p:cNvPr id="178" name=""/>
            <p:cNvSpPr/>
            <p:nvPr/>
          </p:nvSpPr>
          <p:spPr>
            <a:xfrm>
              <a:off x="6248880" y="367200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%es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934320" y="382428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6324480" y="3962520"/>
            <a:ext cx="2362320" cy="914400"/>
            <a:chOff x="6324480" y="3962520"/>
            <a:chExt cx="2362320" cy="914400"/>
          </a:xfrm>
        </p:grpSpPr>
        <p:sp>
          <p:nvSpPr>
            <p:cNvPr id="181" name=""/>
            <p:cNvSpPr/>
            <p:nvPr/>
          </p:nvSpPr>
          <p:spPr>
            <a:xfrm>
              <a:off x="7238880" y="3962520"/>
              <a:ext cx="1447920" cy="3045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Sans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324480" y="396252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Sans"/>
                </a:rPr>
                <a:t>0x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086600" y="3962520"/>
              <a:ext cx="152280" cy="30456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7920 h 304560"/>
                <a:gd name="textAreaBottom" fmla="*/ 29664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238880" y="4267080"/>
              <a:ext cx="1447920" cy="304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%ea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238880" y="4572000"/>
              <a:ext cx="1447920" cy="304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Sans"/>
                </a:rPr>
                <a:t>Return add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6248880" y="4876920"/>
            <a:ext cx="2437920" cy="992160"/>
            <a:chOff x="6248880" y="4876920"/>
            <a:chExt cx="2437920" cy="992160"/>
          </a:xfrm>
        </p:grpSpPr>
        <p:sp>
          <p:nvSpPr>
            <p:cNvPr id="187" name=""/>
            <p:cNvSpPr/>
            <p:nvPr/>
          </p:nvSpPr>
          <p:spPr>
            <a:xfrm>
              <a:off x="6248880" y="550080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%es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934320" y="565308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238880" y="4876920"/>
              <a:ext cx="1447920" cy="3045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Sans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324480" y="487692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Sans"/>
                </a:rPr>
                <a:t>0x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086600" y="4876920"/>
              <a:ext cx="152280" cy="30456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7920 h 304560"/>
                <a:gd name="textAreaBottom" fmla="*/ 29664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238880" y="5181480"/>
              <a:ext cx="1447920" cy="304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%ea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238880" y="5486400"/>
              <a:ext cx="1447920" cy="304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Sans"/>
                </a:rPr>
                <a:t>Return add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5943600" y="2743200"/>
            <a:ext cx="380880" cy="1219320"/>
          </a:xfrm>
          <a:custGeom>
            <a:avLst/>
            <a:gdLst>
              <a:gd name="textAreaLeft" fmla="*/ 243360 w 380880"/>
              <a:gd name="textAreaRight" fmla="*/ 381240 w 38088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943600" y="2743200"/>
            <a:ext cx="380880" cy="3048120"/>
          </a:xfrm>
          <a:custGeom>
            <a:avLst/>
            <a:gdLst>
              <a:gd name="textAreaLeft" fmla="*/ 243360 w 380880"/>
              <a:gd name="textAreaRight" fmla="*/ 381240 w 380880"/>
              <a:gd name="textAreaTop" fmla="*/ 79200 h 3048120"/>
              <a:gd name="textAreaBottom" fmla="*/ 2968920 h 3048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9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2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5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"/>
              </a:rPr>
              <a:t>Homogenous Data: Arrays</a:t>
            </a: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Allocated as contiguous blocks of memory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array[5] = {…}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rray</a:t>
            </a: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 begins at memory address 40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array[0]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40 + 4*0 = 40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array[3]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40 + 4*3 = 52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array[-1]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40 + 4*-1 = 36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array[15]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40 + 4*15 = 100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"/>
              </a:rPr>
              <a:t>Example 3: sum_array</a:t>
            </a: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sum_array(</a:t>
            </a:r>
            <a:r>
              <a:rPr b="1" lang="en-US" sz="2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x[], </a:t>
            </a:r>
            <a:r>
              <a:rPr b="1" lang="en-US" sz="2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num)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i, sum;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um = 0;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0033cc"/>
                </a:solidFill>
                <a:latin typeface="Courier New"/>
              </a:rPr>
              <a:t>for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i = 0; i &lt; num; i++)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um += x[i];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sum;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"/>
              </a:rPr>
              <a:t>sum_array</a:t>
            </a: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0x80483f0 &lt;sum_array&gt;:     push  %ebp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0x80483f1 &lt;sum_array+1&gt;:   mov   %esp,%ebp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0x80483f3 &lt;sum_array+3&gt;:   push  %ebx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0x80483f4 &lt;sum_array+4&gt;:   mov   0x8(%ebp),%ebx     </a:t>
            </a:r>
            <a:r>
              <a:rPr b="1" lang="en-US" sz="1600" spc="-1" strike="noStrike">
                <a:solidFill>
                  <a:srgbClr val="006600"/>
                </a:solidFill>
                <a:latin typeface="Courier New"/>
              </a:rPr>
              <a:t># x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0x80483f7 &lt;sum_array+7&gt;:   mov   0xc(%ebp),%ecx     </a:t>
            </a:r>
            <a:r>
              <a:rPr b="1" lang="en-US" sz="1600" spc="-1" strike="noStrike">
                <a:solidFill>
                  <a:srgbClr val="006600"/>
                </a:solidFill>
                <a:latin typeface="Courier New"/>
              </a:rPr>
              <a:t># num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0x80483fa &lt;sum_array+10&gt;:  xor   %eax,%eax          </a:t>
            </a:r>
            <a:r>
              <a:rPr b="1" lang="en-US" sz="1600" spc="-1" strike="noStrike">
                <a:solidFill>
                  <a:srgbClr val="006600"/>
                </a:solidFill>
                <a:latin typeface="Courier New"/>
              </a:rPr>
              <a:t># sum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0x80483fc &lt;sum_array+12&gt;:  xor   %edx,%edx          </a:t>
            </a:r>
            <a:r>
              <a:rPr b="1" lang="en-US" sz="1600" spc="-1" strike="noStrike">
                <a:solidFill>
                  <a:srgbClr val="006600"/>
                </a:solidFill>
                <a:latin typeface="Courier New"/>
              </a:rPr>
              <a:t># i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0x80483fe &lt;sum_array+14&gt;:  cmp   %ecx,%eax          </a:t>
            </a:r>
            <a:r>
              <a:rPr b="1" lang="en-US" sz="1600" spc="-1" strike="noStrike">
                <a:solidFill>
                  <a:srgbClr val="006600"/>
                </a:solidFill>
                <a:latin typeface="Courier New"/>
              </a:rPr>
              <a:t># 0 &gt;= num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0x8048400 &lt;sum_array+16&gt;:  jge   0x804840a &lt;sum_array+26&gt;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0x8048402 &lt;sum_array+18&gt;:  add   (%ebx,%edx,4),%eax </a:t>
            </a:r>
            <a:r>
              <a:rPr b="1" lang="en-US" sz="1600" spc="-1" strike="noStrike">
                <a:solidFill>
                  <a:srgbClr val="006600"/>
                </a:solidFill>
                <a:latin typeface="Courier New"/>
              </a:rPr>
              <a:t># sum += x[i]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0x8048405 &lt;sum_array+21&gt;:  inc   %edx               </a:t>
            </a:r>
            <a:r>
              <a:rPr b="1" lang="en-US" sz="1600" spc="-1" strike="noStrike">
                <a:solidFill>
                  <a:srgbClr val="006600"/>
                </a:solidFill>
                <a:latin typeface="Courier New"/>
              </a:rPr>
              <a:t># i++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0x8048406 &lt;sum_array+22&gt;:  cmp   %ecx,%edx          </a:t>
            </a:r>
            <a:r>
              <a:rPr b="1" lang="en-US" sz="1600" spc="-1" strike="noStrike">
                <a:solidFill>
                  <a:srgbClr val="006600"/>
                </a:solidFill>
                <a:latin typeface="Courier New"/>
              </a:rPr>
              <a:t># i &lt; num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0x8048408 &lt;sum_array+24&gt;:  jl    0x8048402 &lt;sum_array+18&gt;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0x804840a &lt;sum_array+26&gt;:  pop   %ebx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0x804840b &lt;sum_array+27&gt;:  mov   %ebp,%esp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0x804840d &lt;sum_array+29&gt;:  pop   %ebp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0x804840e &lt;sum_array+30&gt;:  ret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"/>
              </a:rPr>
              <a:t>Example 4: linked list</a:t>
            </a: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Courier New"/>
              </a:rPr>
              <a:t>typedef struc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linked_list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33cc"/>
                </a:solidFill>
                <a:latin typeface="Courier New"/>
              </a:rPr>
              <a:t>struc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linked_list *next;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     data;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 linked_list;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4" name=""/>
          <p:cNvSpPr/>
          <p:nvPr/>
        </p:nvSpPr>
        <p:spPr>
          <a:xfrm>
            <a:off x="7086600" y="1752480"/>
            <a:ext cx="1676520" cy="3812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086600" y="2133720"/>
            <a:ext cx="1676520" cy="380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01600" y="1766880"/>
            <a:ext cx="56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0x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501600" y="2147760"/>
            <a:ext cx="56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0x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"/>
              </a:rPr>
              <a:t>Example 4: sum_linked_list</a:t>
            </a: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sum_linked_list(linked_list *head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sum;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um = 0;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33cc"/>
                </a:solidFill>
                <a:latin typeface="Courier New"/>
              </a:rPr>
              <a:t>whi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head != NULL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um += head-&gt;data;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head = head-&gt;next;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sum;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"/>
              </a:rPr>
              <a:t>sum_linked_list</a:t>
            </a: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0x8048434 &lt;sum&gt;:     push   %ebp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0x8048435 &lt;sum+1&gt;:   mov    %esp,%ebp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0x8048437 &lt;sum+3&gt;:   mov    0x8(%ebp),%edx     </a:t>
            </a:r>
            <a:r>
              <a:rPr b="1" lang="en-US" sz="1600" spc="-1" strike="noStrike">
                <a:solidFill>
                  <a:srgbClr val="006600"/>
                </a:solidFill>
                <a:latin typeface="Courier New"/>
              </a:rPr>
              <a:t># head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0x804843a &lt;sum+6&gt;:   xor    %eax,%eax          </a:t>
            </a:r>
            <a:r>
              <a:rPr b="1" lang="en-US" sz="1600" spc="-1" strike="noStrike">
                <a:solidFill>
                  <a:srgbClr val="006600"/>
                </a:solidFill>
                <a:latin typeface="Courier New"/>
              </a:rPr>
              <a:t># sum = 0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0x804843c &lt;sum+8&gt;:   test   %edx,%edx          </a:t>
            </a:r>
            <a:r>
              <a:rPr b="1" lang="en-US" sz="1600" spc="-1" strike="noStrike">
                <a:solidFill>
                  <a:srgbClr val="006600"/>
                </a:solidFill>
                <a:latin typeface="Courier New"/>
              </a:rPr>
              <a:t># head == NULL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0x804843e &lt;sum+10&gt;:  je     0x8048449 &lt;sum+21&gt;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0x8048440 &lt;sum+12&gt;:  add    0x4(%edx),%eax     </a:t>
            </a:r>
            <a:r>
              <a:rPr b="1" lang="en-US" sz="1600" spc="-1" strike="noStrike">
                <a:solidFill>
                  <a:srgbClr val="006600"/>
                </a:solidFill>
                <a:latin typeface="Courier New"/>
              </a:rPr>
              <a:t># sum += head-&gt;data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0x8048443 &lt;sum+15&gt;:  mov    (%edx),%edx        </a:t>
            </a:r>
            <a:r>
              <a:rPr b="1" lang="en-US" sz="1600" spc="-1" strike="noStrike">
                <a:solidFill>
                  <a:srgbClr val="006600"/>
                </a:solidFill>
                <a:latin typeface="Courier New"/>
              </a:rPr>
              <a:t># head = head-&gt;next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0x8048445 &lt;sum+17&gt;:  test   %edx,%edx          </a:t>
            </a:r>
            <a:r>
              <a:rPr b="1" lang="en-US" sz="1600" spc="-1" strike="noStrike">
                <a:solidFill>
                  <a:srgbClr val="006600"/>
                </a:solidFill>
                <a:latin typeface="Courier New"/>
              </a:rPr>
              <a:t># head == NULL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0x8048447 &lt;sum+19&gt;:  jne    0x8048440 &lt;sum+12&gt;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0x8048449 &lt;sum+21&gt;:  mov    %ebp,%esp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0x804844b &lt;sum+23&gt;:  pop    %ebp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0x804844c &lt;sum+24&gt;:  ret 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"/>
              </a:rPr>
              <a:t>Andrew Faulring</a:t>
            </a: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faulring@cs.cmu.edu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Office hours: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NSH 2504 (lab) / 2507 (conference room)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Thursday 5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  <a:ea typeface="Arial"/>
              </a:rPr>
              <a:t>–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Lab 2 due Thursday, 11:59pm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Look for Lab 3 soon</a:t>
            </a:r>
            <a:r>
              <a:rPr b="0" lang="en-US" sz="3200" spc="-1" strike="noStrike">
                <a:solidFill>
                  <a:srgbClr val="000000"/>
                </a:solidFill>
                <a:latin typeface="Lucida Sans"/>
                <a:ea typeface="Arial"/>
              </a:rPr>
              <a:t>—</a:t>
            </a: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possible by Tuesday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Good luck with Lab2!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"/>
              </a:rPr>
              <a:t>Today’s Plan</a:t>
            </a: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Is everyone okay with GDB and Lab2?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Procedures and the Stack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Homogenous Data: Arrays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"/>
              </a:rPr>
              <a:t>Stacks</a:t>
            </a: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Grows down in memory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Stores local variables that cannot fit in registers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Stores arguments and return addresses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%esp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: points to the top value on the stack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%ebp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: points to a function’s stack frame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pushl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: decrements, then places value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popl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: ‘returns’ value, then increments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"/>
              </a:rPr>
              <a:t>Stack Frames</a:t>
            </a: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724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Abstract partitioning of the stack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Each Stack Frame contains the state for a single function instance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Recursive functions have multiple Stack Frames—one for each invocation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1" name=""/>
          <p:cNvSpPr/>
          <p:nvPr/>
        </p:nvSpPr>
        <p:spPr>
          <a:xfrm>
            <a:off x="6324480" y="6477120"/>
            <a:ext cx="889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311440" y="6073920"/>
            <a:ext cx="170856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Stack Poi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(%es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5275440" y="3263760"/>
            <a:ext cx="1978920" cy="637560"/>
            <a:chOff x="5275440" y="3263760"/>
            <a:chExt cx="1978920" cy="637560"/>
          </a:xfrm>
        </p:grpSpPr>
        <p:sp>
          <p:nvSpPr>
            <p:cNvPr id="54" name=""/>
            <p:cNvSpPr/>
            <p:nvPr/>
          </p:nvSpPr>
          <p:spPr>
            <a:xfrm>
              <a:off x="6289560" y="3895560"/>
              <a:ext cx="964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75440" y="3263760"/>
              <a:ext cx="181224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Lucida Sans"/>
                </a:rPr>
                <a:t>Frame Poin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Lucida Sans"/>
                </a:rPr>
                <a:t>(%ebp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7238880" y="1600200"/>
            <a:ext cx="1371600" cy="5003640"/>
            <a:chOff x="7238880" y="1600200"/>
            <a:chExt cx="1371600" cy="5003640"/>
          </a:xfrm>
        </p:grpSpPr>
        <p:sp>
          <p:nvSpPr>
            <p:cNvPr id="57" name=""/>
            <p:cNvSpPr/>
            <p:nvPr/>
          </p:nvSpPr>
          <p:spPr>
            <a:xfrm>
              <a:off x="7238880" y="3416400"/>
              <a:ext cx="1371600" cy="3045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Lucida Sans"/>
                </a:rPr>
                <a:t>Return Add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7238880" y="4025880"/>
              <a:ext cx="1371600" cy="9270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Sans"/>
                </a:rPr>
                <a:t>Sav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Sans"/>
                </a:rPr>
                <a:t>Registe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238880" y="5867280"/>
              <a:ext cx="1371600" cy="736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Sans"/>
                </a:rPr>
                <a:t>Argum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Sans"/>
                </a:rPr>
                <a:t>Buil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38880" y="1600200"/>
              <a:ext cx="1371600" cy="137160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7238880" y="3720960"/>
              <a:ext cx="1371600" cy="304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Sans"/>
                </a:rPr>
                <a:t>Old %e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238880" y="4952880"/>
              <a:ext cx="1371600" cy="927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Sans"/>
                </a:rPr>
                <a:t>Loc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Sans"/>
                </a:rPr>
                <a:t>Variabl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238880" y="2819520"/>
              <a:ext cx="1371600" cy="60948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Sans"/>
                </a:rPr>
                <a:t>Argumen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5905080" y="2284560"/>
            <a:ext cx="90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Ca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Fr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934320" y="1600200"/>
            <a:ext cx="228600" cy="2057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"/>
              </a:rPr>
              <a:t>Procedure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Lucida Sans"/>
              </a:rPr>
              <a:t>Caller Responsibilities</a:t>
            </a: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670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Save </a:t>
            </a:r>
            <a:r>
              <a:rPr b="0" i="1" lang="en-US" sz="2800" spc="-1" strike="noStrike">
                <a:solidFill>
                  <a:srgbClr val="000000"/>
                </a:solidFill>
                <a:latin typeface="Lucida Sans"/>
              </a:rPr>
              <a:t>caller save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 register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(if necessary)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%eax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%ecx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%edx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Arguments (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pushl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Pushed onto stack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In what order?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Execute the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call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 instruction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Pushes return address (that of the next instruction) onto the stack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7238880" y="1625760"/>
            <a:ext cx="1371600" cy="5003640"/>
            <a:chOff x="7238880" y="1625760"/>
            <a:chExt cx="1371600" cy="5003640"/>
          </a:xfrm>
        </p:grpSpPr>
        <p:sp>
          <p:nvSpPr>
            <p:cNvPr id="69" name=""/>
            <p:cNvSpPr/>
            <p:nvPr/>
          </p:nvSpPr>
          <p:spPr>
            <a:xfrm>
              <a:off x="7238880" y="3441960"/>
              <a:ext cx="1371600" cy="3045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Lucida Sans"/>
                </a:rPr>
                <a:t>Return Add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7238880" y="4051440"/>
              <a:ext cx="1371600" cy="9270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Sans"/>
                </a:rPr>
                <a:t>Sav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Sans"/>
                </a:rPr>
                <a:t>Registe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7238880" y="5892840"/>
              <a:ext cx="1371600" cy="736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Sans"/>
                </a:rPr>
                <a:t>Argum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Sans"/>
                </a:rPr>
                <a:t>Buil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238880" y="1625760"/>
              <a:ext cx="1371600" cy="137160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7238880" y="3746520"/>
              <a:ext cx="1371600" cy="304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Sans"/>
                </a:rPr>
                <a:t>Old %e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238880" y="4978440"/>
              <a:ext cx="1371600" cy="927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Sans"/>
                </a:rPr>
                <a:t>Loc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Sans"/>
                </a:rPr>
                <a:t>Variabl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7238880" y="2845080"/>
              <a:ext cx="1371600" cy="60948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Sans"/>
                </a:rPr>
                <a:t>Argumen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6705720" y="1600200"/>
            <a:ext cx="533160" cy="2133720"/>
          </a:xfrm>
          <a:custGeom>
            <a:avLst/>
            <a:gdLst>
              <a:gd name="textAreaLeft" fmla="*/ 340560 w 533160"/>
              <a:gd name="textAreaRight" fmla="*/ 533520 w 533160"/>
              <a:gd name="textAreaTop" fmla="*/ 55440 h 2133720"/>
              <a:gd name="textAreaBottom" fmla="*/ 2078280 h 2133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"/>
              </a:rPr>
              <a:t>Procedures: Callee Responsibilities (prolog)</a:t>
            </a: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010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Save base pointer on stack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ush %ebp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Set base pointer to point to the top of the stack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ov  %esp,%ebp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Save </a:t>
            </a:r>
            <a:r>
              <a:rPr b="0" i="1" lang="en-US" sz="2800" spc="-1" strike="noStrike">
                <a:solidFill>
                  <a:srgbClr val="000000"/>
                </a:solidFill>
                <a:latin typeface="Lucida Sans"/>
              </a:rPr>
              <a:t>callee save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 registers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%ebx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%esi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%edi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ush %esi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Allocate space for local variables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Decrement the stack pointer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dd 0xFFFFFFF8, %esp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238880" y="1625760"/>
            <a:ext cx="1371600" cy="5003640"/>
            <a:chOff x="7238880" y="1625760"/>
            <a:chExt cx="1371600" cy="5003640"/>
          </a:xfrm>
        </p:grpSpPr>
        <p:sp>
          <p:nvSpPr>
            <p:cNvPr id="80" name=""/>
            <p:cNvSpPr/>
            <p:nvPr/>
          </p:nvSpPr>
          <p:spPr>
            <a:xfrm>
              <a:off x="7238880" y="3441960"/>
              <a:ext cx="1371600" cy="3045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Lucida Sans"/>
                </a:rPr>
                <a:t>Return Add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238880" y="4051440"/>
              <a:ext cx="1371600" cy="9270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Sans"/>
                </a:rPr>
                <a:t>Sav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Sans"/>
                </a:rPr>
                <a:t>Registe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238880" y="5892840"/>
              <a:ext cx="1371600" cy="736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Sans"/>
                </a:rPr>
                <a:t>Argum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Sans"/>
                </a:rPr>
                <a:t>Buil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238880" y="1625760"/>
              <a:ext cx="1371600" cy="137160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238880" y="3746520"/>
              <a:ext cx="1371600" cy="304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Sans"/>
                </a:rPr>
                <a:t>Old %e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238880" y="4978440"/>
              <a:ext cx="1371600" cy="927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Sans"/>
                </a:rPr>
                <a:t>Loc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Sans"/>
                </a:rPr>
                <a:t>Variabl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238880" y="2845080"/>
              <a:ext cx="1371600" cy="60948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Sans"/>
                </a:rPr>
                <a:t>Argumen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" name=""/>
          <p:cNvSpPr/>
          <p:nvPr/>
        </p:nvSpPr>
        <p:spPr>
          <a:xfrm>
            <a:off x="6705720" y="3733920"/>
            <a:ext cx="533160" cy="2133360"/>
          </a:xfrm>
          <a:custGeom>
            <a:avLst/>
            <a:gdLst>
              <a:gd name="textAreaLeft" fmla="*/ 340560 w 533160"/>
              <a:gd name="textAreaRight" fmla="*/ 533520 w 533160"/>
              <a:gd name="textAreaTop" fmla="*/ 55440 h 2133360"/>
              <a:gd name="textAreaBottom" fmla="*/ 2077920 h 2133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086600" y="3809880"/>
            <a:ext cx="0" cy="198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"/>
              </a:rPr>
              <a:t>Procedures: Callee Responsibilities (epilog)</a:t>
            </a: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6781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Move return value int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%eax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Restore stack pointer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mov  %ebp,%esp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Restore the base pointer to value for calling function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pop  %ebp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Execute the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ret </a:t>
            </a: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instruction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Pops a value from the stack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Jumps to the address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7238880" y="1625760"/>
            <a:ext cx="1371600" cy="5003640"/>
            <a:chOff x="7238880" y="1625760"/>
            <a:chExt cx="1371600" cy="5003640"/>
          </a:xfrm>
        </p:grpSpPr>
        <p:sp>
          <p:nvSpPr>
            <p:cNvPr id="92" name=""/>
            <p:cNvSpPr/>
            <p:nvPr/>
          </p:nvSpPr>
          <p:spPr>
            <a:xfrm>
              <a:off x="7238880" y="3441960"/>
              <a:ext cx="1371600" cy="3045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Lucida Sans"/>
                </a:rPr>
                <a:t>Return Add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238880" y="4051440"/>
              <a:ext cx="1371600" cy="9270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Sans"/>
                </a:rPr>
                <a:t>Sav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Sans"/>
                </a:rPr>
                <a:t>Registe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238880" y="5892840"/>
              <a:ext cx="1371600" cy="736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Sans"/>
                </a:rPr>
                <a:t>Argum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Sans"/>
                </a:rPr>
                <a:t>Buil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238880" y="1625760"/>
              <a:ext cx="1371600" cy="137160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238880" y="3746520"/>
              <a:ext cx="1371600" cy="304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Sans"/>
                </a:rPr>
                <a:t>Old %e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238880" y="4978440"/>
              <a:ext cx="1371600" cy="927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Sans"/>
                </a:rPr>
                <a:t>Loc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Sans"/>
                </a:rPr>
                <a:t>Variabl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238880" y="2845080"/>
              <a:ext cx="1371600" cy="60948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Sans"/>
                </a:rPr>
                <a:t>Argumen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"/>
          <p:cNvSpPr/>
          <p:nvPr/>
        </p:nvSpPr>
        <p:spPr>
          <a:xfrm>
            <a:off x="6705720" y="3733920"/>
            <a:ext cx="533160" cy="2133360"/>
          </a:xfrm>
          <a:custGeom>
            <a:avLst/>
            <a:gdLst>
              <a:gd name="textAreaLeft" fmla="*/ 340560 w 533160"/>
              <a:gd name="textAreaRight" fmla="*/ 533520 w 533160"/>
              <a:gd name="textAreaTop" fmla="*/ 55440 h 2133360"/>
              <a:gd name="textAreaBottom" fmla="*/ 2077920 h 2133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7086600" y="388620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"/>
              </a:rPr>
              <a:t>Example 1: add</a:t>
            </a: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62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fr-FR" sz="2000" spc="-1" strike="noStrike">
                <a:solidFill>
                  <a:srgbClr val="000000"/>
                </a:solidFill>
                <a:latin typeface="Courier New"/>
              </a:rPr>
              <a:t> add (</a:t>
            </a:r>
            <a:r>
              <a:rPr b="1" lang="fr-FR" sz="2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fr-FR" sz="2000" spc="-1" strike="noStrike">
                <a:solidFill>
                  <a:srgbClr val="000000"/>
                </a:solidFill>
                <a:latin typeface="Courier New"/>
              </a:rPr>
              <a:t> x, </a:t>
            </a:r>
            <a:r>
              <a:rPr b="1" lang="fr-FR" sz="2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fr-FR" sz="2000" spc="-1" strike="noStrike">
                <a:solidFill>
                  <a:srgbClr val="000000"/>
                </a:solidFill>
                <a:latin typeface="Courier New"/>
              </a:rPr>
              <a:t> y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20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fr-FR" sz="2000" spc="-1" strike="noStrike">
                <a:solidFill>
                  <a:srgbClr val="000000"/>
                </a:solidFill>
                <a:latin typeface="Courier New"/>
              </a:rPr>
              <a:t> x+y;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sh   %ebp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   %esp,%ebp       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   0xc(%ebp),%eax  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    0x8(%ebp),%eax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   %ebp,%esp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op    %ebp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3" name=""/>
          <p:cNvSpPr/>
          <p:nvPr/>
        </p:nvSpPr>
        <p:spPr>
          <a:xfrm>
            <a:off x="7162920" y="4495680"/>
            <a:ext cx="14475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Save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eb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95680" y="441972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%ebp, %e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477120" y="4648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162920" y="4191120"/>
            <a:ext cx="1447560" cy="304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Return add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162920" y="3886200"/>
            <a:ext cx="14475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162920" y="3581280"/>
            <a:ext cx="14475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162920" y="4800600"/>
            <a:ext cx="14475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162920" y="5105520"/>
            <a:ext cx="1447560" cy="304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3T01:46:12Z</dcterms:created>
  <dc:creator>Andrew Robert Faulring</dc:creator>
  <dc:description/>
  <dc:language>en-US</dc:language>
  <cp:lastModifiedBy>Andrew Robert Faulring</cp:lastModifiedBy>
  <dcterms:modified xsi:type="dcterms:W3CDTF">2002-09-23T17:12:16Z</dcterms:modified>
  <cp:revision>212</cp:revision>
  <dc:subject/>
  <dc:title>Slide 1</dc:title>
</cp:coreProperties>
</file>