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2F8-EB20-497F-A55D-3336273A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03B-A2B9-48E5-9346-CE4F0723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56F-8755-4E3F-96D3-402A5512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F21-A002-4F2F-95E0-89FEA920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63F-7EAF-4026-B6DD-872FA0E7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73C-6622-4220-BFFB-999EFED4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238-84D5-4C84-9FAE-8410F7B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309-E1C5-4D66-8F2A-001C9F37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CB3-C5FC-4F03-AA2E-E9CB086C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8C6-1CBB-4CAD-9B24-9F35AE9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7D4-F3D3-448A-ADCB-217B5563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7CB-B2A3-43D2-B46B-5495B5A8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07A6-625A-4339-9C8E-6773CA193A78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citation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 and the Stack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3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2: fib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 &lt;= 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 = 1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 = fib(n-2) + fib(n-1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ib: prolo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8048420 &lt;fib&gt;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$0x10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first part of bod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0x8(%ebp),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$0x2,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     0x8048437 &lt;fib+23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$0x1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0x8048453 &lt;fib+51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275760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80200" y="275760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9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24526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214776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184320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06216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3670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367200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880" y="36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38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55800" y="30481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04812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ib: bod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8048437 &lt;fib+23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$0xfffffff4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0xfffffffe(%ebx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0x8048420 &lt;fib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ax,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$0xfffffff4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0xffffffff(%ebx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0x8048420 &lt;fib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%esi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27432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0200" y="274320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243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133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828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0481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3526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36576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5800" y="3033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04812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48880" y="3672000"/>
            <a:ext cx="990000" cy="368280"/>
            <a:chOff x="6248880" y="3672000"/>
            <a:chExt cx="990000" cy="368280"/>
          </a:xfrm>
        </p:grpSpPr>
        <p:sp>
          <p:nvSpPr>
            <p:cNvPr id="142" name=""/>
            <p:cNvSpPr/>
            <p:nvPr/>
          </p:nvSpPr>
          <p:spPr>
            <a:xfrm>
              <a:off x="6248880" y="3672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38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324480" y="3962520"/>
            <a:ext cx="2362320" cy="914400"/>
            <a:chOff x="6324480" y="3962520"/>
            <a:chExt cx="2362320" cy="914400"/>
          </a:xfrm>
        </p:grpSpPr>
        <p:sp>
          <p:nvSpPr>
            <p:cNvPr id="145" name=""/>
            <p:cNvSpPr/>
            <p:nvPr/>
          </p:nvSpPr>
          <p:spPr>
            <a:xfrm>
              <a:off x="7238880" y="39625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3962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39625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38880" y="42670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45720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248880" y="4876920"/>
            <a:ext cx="2437920" cy="992160"/>
            <a:chOff x="6248880" y="4876920"/>
            <a:chExt cx="2437920" cy="992160"/>
          </a:xfrm>
        </p:grpSpPr>
        <p:sp>
          <p:nvSpPr>
            <p:cNvPr id="151" name=""/>
            <p:cNvSpPr/>
            <p:nvPr/>
          </p:nvSpPr>
          <p:spPr>
            <a:xfrm>
              <a:off x="6248880" y="5500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4320" y="56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8880" y="48769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480" y="4876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48769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38880" y="51814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8880" y="54864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943600" y="27432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432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48880" y="4572000"/>
            <a:ext cx="990000" cy="368280"/>
            <a:chOff x="6248880" y="4572000"/>
            <a:chExt cx="990000" cy="368280"/>
          </a:xfrm>
        </p:grpSpPr>
        <p:sp>
          <p:nvSpPr>
            <p:cNvPr id="161" name=""/>
            <p:cNvSpPr/>
            <p:nvPr/>
          </p:nvSpPr>
          <p:spPr>
            <a:xfrm>
              <a:off x="6248880" y="4572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943600" y="274320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ib: epilo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8048453 &lt;fib+51&gt;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0xffffffe8(%ebp)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27432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80200" y="274320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243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133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1828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30481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3526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6576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55800" y="3033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304812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248880" y="3672000"/>
            <a:ext cx="990000" cy="368280"/>
            <a:chOff x="6248880" y="3672000"/>
            <a:chExt cx="990000" cy="368280"/>
          </a:xfrm>
        </p:grpSpPr>
        <p:sp>
          <p:nvSpPr>
            <p:cNvPr id="178" name=""/>
            <p:cNvSpPr/>
            <p:nvPr/>
          </p:nvSpPr>
          <p:spPr>
            <a:xfrm>
              <a:off x="6248880" y="3672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8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324480" y="3962520"/>
            <a:ext cx="2362320" cy="914400"/>
            <a:chOff x="6324480" y="3962520"/>
            <a:chExt cx="2362320" cy="914400"/>
          </a:xfrm>
        </p:grpSpPr>
        <p:sp>
          <p:nvSpPr>
            <p:cNvPr id="181" name=""/>
            <p:cNvSpPr/>
            <p:nvPr/>
          </p:nvSpPr>
          <p:spPr>
            <a:xfrm>
              <a:off x="7238880" y="39625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3962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86600" y="39625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38880" y="42670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8880" y="45720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248880" y="4876920"/>
            <a:ext cx="2437920" cy="992160"/>
            <a:chOff x="6248880" y="4876920"/>
            <a:chExt cx="2437920" cy="992160"/>
          </a:xfrm>
        </p:grpSpPr>
        <p:sp>
          <p:nvSpPr>
            <p:cNvPr id="187" name=""/>
            <p:cNvSpPr/>
            <p:nvPr/>
          </p:nvSpPr>
          <p:spPr>
            <a:xfrm>
              <a:off x="6248880" y="5500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4320" y="56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48769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24480" y="4876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6600" y="48769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8880" y="51814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38880" y="54864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943600" y="27432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27432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Homogenous Data: Array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llocated as contiguous blocks of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array[5] = {…}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begins at memory address 4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0]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0 = 4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3]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3 = 5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-1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-1 = 3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15]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15 = 10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3: sum_arra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um_array(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[],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nu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, sum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 = 0; i &lt; num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 += x[i]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um_arra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0 &lt;sum_array&gt;:     push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1 &lt;sum_array+1&gt;:   mov   %esp,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3 &lt;sum_array+3&gt;:   push  %eb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4 &lt;sum_array+4&gt;:   mov   0x8(%ebp),%eb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7 &lt;sum_array+7&gt;:   mov   0xc(%ebp),%ec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n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a &lt;sum_array+10&gt;:  xor   %eax,%ea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c &lt;sum_array+12&gt;:  xor   %ed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e &lt;sum_array+14&gt;:  cmp   %ecx,%ea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0 &gt;= n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0 &lt;sum_array+16&gt;:  jge   0x804840a &lt;sum_array+26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2 &lt;sum_array+18&gt;:  add   (%ebx,%edx,4),%eax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 += x[i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5 &lt;sum_array+21&gt;:  inc   %edx     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i++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6 &lt;sum_array+22&gt;:  cmp   %ec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i &lt; n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8 &lt;sum_array+24&gt;:  jl    0x8048402 &lt;sum_array+18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a &lt;sum_array+26&gt;:  pop   %eb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b &lt;sum_array+27&gt;:  mov   %ebp,%e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d &lt;sum_array+29&gt;:  pop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e &lt;sum_array+30&gt;:  re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4: linked li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typedef 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nked_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nked_list *nex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data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linked_lis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1752480"/>
            <a:ext cx="16765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01600" y="17668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1600" y="21477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4: sum_linked_li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_linked_list(linked_list *he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head != NUL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+= head-&gt;data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 = head-&gt;nex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um_linked_li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4 &lt;sum&gt;:     push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5 &lt;sum+1&gt;:   mov    %esp,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7 &lt;sum+3&gt;:   mov    0x8(%ebp),%ed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a &lt;sum+6&gt;:   xor    %eax,%ea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 = 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c &lt;sum+8&gt;:   test   %ed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 == NUL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e &lt;sum+10&gt;:  je     0x8048449 &lt;sum+21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0 &lt;sum+12&gt;:  add    0x4(%edx),%ea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 += head-&gt;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3 &lt;sum+15&gt;:  mov    (%edx),%edx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 = head-&gt;nex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5 &lt;sum+17&gt;:  test   %ed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 == NUL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7 &lt;sum+19&gt;:  jne    0x8048440 &lt;sum+12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9 &lt;sum+21&gt;:  mov    %ebp,%e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b &lt;sum+23&gt;:  pop 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c &lt;sum+24&gt;:  ret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ursday 5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b 2 due Thursday, 11:59p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ook for Lab 3 soo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ossible by Tuesd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ood luck with Lab2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s everyone okay with GDB and Lab2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cedures and the Stac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omogenous Data: Array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rows down in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tores local variables that cannot fit in register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tores arguments and return address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points to the top value on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points to a function’s stack fra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sh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decrements, then places valu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p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‘returns’ value, then increm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tack Fram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bstract partitioning of the stac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ach Stack Frame contains the state for a single function instanc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cursive functions have multiple Stack Frames—one for each invoc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64771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1440" y="6073920"/>
            <a:ext cx="1708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(%e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275440" y="3263760"/>
            <a:ext cx="1978920" cy="637560"/>
            <a:chOff x="5275440" y="3263760"/>
            <a:chExt cx="1978920" cy="637560"/>
          </a:xfrm>
        </p:grpSpPr>
        <p:sp>
          <p:nvSpPr>
            <p:cNvPr id="54" name=""/>
            <p:cNvSpPr/>
            <p:nvPr/>
          </p:nvSpPr>
          <p:spPr>
            <a:xfrm>
              <a:off x="6289560" y="3895560"/>
              <a:ext cx="9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5440" y="3263760"/>
              <a:ext cx="1812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Frame Po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(%eb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238880" y="1600200"/>
            <a:ext cx="1371600" cy="5003640"/>
            <a:chOff x="7238880" y="1600200"/>
            <a:chExt cx="1371600" cy="5003640"/>
          </a:xfrm>
        </p:grpSpPr>
        <p:sp>
          <p:nvSpPr>
            <p:cNvPr id="57" name=""/>
            <p:cNvSpPr/>
            <p:nvPr/>
          </p:nvSpPr>
          <p:spPr>
            <a:xfrm>
              <a:off x="7238880" y="341640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38880" y="402588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8880" y="586728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38880" y="160020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8880" y="372096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495288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8880" y="281952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905080" y="2284560"/>
            <a:ext cx="9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16002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aller Responsibiliti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v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caller sav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gist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if necessary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rgument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sh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shed onto stac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what orde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xecute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instru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shes return address (that of the next instruction) onto the stac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238880" y="1625760"/>
            <a:ext cx="1371600" cy="5003640"/>
            <a:chOff x="7238880" y="1625760"/>
            <a:chExt cx="1371600" cy="5003640"/>
          </a:xfrm>
        </p:grpSpPr>
        <p:sp>
          <p:nvSpPr>
            <p:cNvPr id="69" name=""/>
            <p:cNvSpPr/>
            <p:nvPr/>
          </p:nvSpPr>
          <p:spPr>
            <a:xfrm>
              <a:off x="7238880" y="344196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38880" y="405144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38880" y="589284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8880" y="162576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8880" y="374652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8880" y="497844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8880" y="284508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705720" y="16002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: Callee Responsibilities (prolog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ve base pointer on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%ebp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t base pointer to point to the top of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%esp,%eb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v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callee sav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gist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s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%es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ocate space for local variab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crement the stack poin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0xFFFFFFF8, %es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238880" y="1625760"/>
            <a:ext cx="1371600" cy="5003640"/>
            <a:chOff x="7238880" y="1625760"/>
            <a:chExt cx="1371600" cy="5003640"/>
          </a:xfrm>
        </p:grpSpPr>
        <p:sp>
          <p:nvSpPr>
            <p:cNvPr id="80" name=""/>
            <p:cNvSpPr/>
            <p:nvPr/>
          </p:nvSpPr>
          <p:spPr>
            <a:xfrm>
              <a:off x="7238880" y="344196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405144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8880" y="589284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162576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374652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8880" y="497844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38880" y="284508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705720" y="3733920"/>
            <a:ext cx="533160" cy="213336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: Callee Responsibilities (epilog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ove return value in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tore stack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ov  %ebp,%es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tore the base pointer to value for calling fun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p  %eb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ecute th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ret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ps a value from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umps to the addre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38880" y="1625760"/>
            <a:ext cx="1371600" cy="5003640"/>
            <a:chOff x="7238880" y="1625760"/>
            <a:chExt cx="1371600" cy="5003640"/>
          </a:xfrm>
        </p:grpSpPr>
        <p:sp>
          <p:nvSpPr>
            <p:cNvPr id="92" name=""/>
            <p:cNvSpPr/>
            <p:nvPr/>
          </p:nvSpPr>
          <p:spPr>
            <a:xfrm>
              <a:off x="7238880" y="344196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8880" y="405144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8880" y="589284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162576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374652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8880" y="497844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38880" y="284508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705720" y="3733920"/>
            <a:ext cx="533160" cy="213336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086600" y="3886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1: add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add (</a:t>
            </a: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+y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sp,%ebp    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0xc(%ebp),%eax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0x8(%ebp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449568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4419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bp, %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4191120"/>
            <a:ext cx="144756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388620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58128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480060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5105520"/>
            <a:ext cx="144756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09-23T17:12:16Z</dcterms:modified>
  <cp:revision>212</cp:revision>
  <dc:subject/>
  <dc:title>Slide 1</dc:title>
</cp:coreProperties>
</file>