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88B4E-EB92-4196-B080-9905BB602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2E24-2D28-4D42-90C3-C2F1DDB95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62BB-EEA9-4584-A917-E1AA4E961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AF35-1E90-448E-8E09-B6BFF392B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305FD-684D-4794-9871-D6D1436E9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6A75-6D84-4134-9D9B-ED0ED61CD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0776-F033-44CC-A521-7D1DF3445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8560-E942-444C-880C-87889EF10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1925-73ED-4D20-9F93-3B61A7612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8A75-B1D6-4A4E-917B-9CDDBB3FC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64C9-0A01-4395-9AB3-842696432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7D85-8314-4F18-B339-A7C213D68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2620-5CA1-4EAF-90D5-FD04B3188E6F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sembly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using GD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SM </a:t>
            </a:r>
            <a:r>
              <a:rPr b="0" lang="en-US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16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1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x, 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x = a +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y = 2*x -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x*y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9D43-FA0F-48A8-80C1-2CA17CCEA7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CCC21-E854-4495-8EBF-B8E74F9516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0 &lt;func1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1 &lt;func1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3 &lt;func1+3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6 &lt;func1+6&gt;:    mov    0x8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9 &lt;func1+9&gt;:    add    %eax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cx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b &lt;func1+11&gt;:   lea    (%ecx,%ecx,1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=2*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2e &lt;func1+14&gt;:   sub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dx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0 &lt;func1+16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%eax=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2 &lt;func1+18&gt;:   imul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#return x*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5 &lt;func1+21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7 &lt;func1+23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8 &lt;func1+24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9 &lt;func1+25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5671-646A-43EA-B373-18A2C06425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GDB to run the progra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gdb to run the program and examine registers and memory loca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eak func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/x $eb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/2wx $ebp+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F07A-3474-4857-BA68-01FA75D98F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5640" y="1218960"/>
            <a:ext cx="6172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func2(int a, int 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f(a&gt;b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a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l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95316-3520-42AF-8E24-260DF510CC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FA67-2874-41C9-889C-81818FC494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2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c &lt;func2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d &lt;func2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3f &lt;func2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2 &lt;func2+6&gt;:    mov    0xc(%ebp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5 &lt;func2+9&gt;:    cmp    %eax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dx&lt;=%eax?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7 &lt;func2+11&gt;:   jle    0x804844b &lt;func2+15&gt; #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9 &lt;func2+13&gt;:   mov 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#%ea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b &lt;func2+15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d &lt;func2+17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e &lt;func2+18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4f &lt;func2+19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d of assembler dump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DE80-5D09-4E68-BA58-4222D79004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func3(int a, int b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t r = 0xDEADBEEF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witch(a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0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 = 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2: r = a+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3: r = a-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se 4: r = a*b; break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fault: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 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F57A-7549-4A97-A7A7-BE94E90591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E8983-CE89-4121-AFE6-DD849F24EB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C3F9-54AD-4C6A-B490-7BD67DD224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Review: Machine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038480" y="2108160"/>
            <a:ext cx="1828800" cy="1912680"/>
            <a:chOff x="4038480" y="2108160"/>
            <a:chExt cx="1828800" cy="1912680"/>
          </a:xfrm>
        </p:grpSpPr>
        <p:sp>
          <p:nvSpPr>
            <p:cNvPr id="92" name=""/>
            <p:cNvSpPr/>
            <p:nvPr/>
          </p:nvSpPr>
          <p:spPr>
            <a:xfrm>
              <a:off x="4038480" y="251460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38480" y="304812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38480" y="3581280"/>
              <a:ext cx="1752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8480" y="210816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266688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3200400"/>
              <a:ext cx="1828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nstruc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91320" y="2438280"/>
            <a:ext cx="2286000" cy="2667240"/>
            <a:chOff x="5791320" y="2438280"/>
            <a:chExt cx="2286000" cy="2667240"/>
          </a:xfrm>
        </p:grpSpPr>
        <p:sp>
          <p:nvSpPr>
            <p:cNvPr id="99" name=""/>
            <p:cNvSpPr/>
            <p:nvPr/>
          </p:nvSpPr>
          <p:spPr>
            <a:xfrm>
              <a:off x="5791320" y="2438280"/>
              <a:ext cx="228600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Object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rogram 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48520" y="3733920"/>
              <a:ext cx="990360" cy="1371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66680" y="2286000"/>
            <a:ext cx="2590920" cy="1523880"/>
            <a:chOff x="1066680" y="2286000"/>
            <a:chExt cx="2590920" cy="1523880"/>
          </a:xfrm>
        </p:grpSpPr>
        <p:sp>
          <p:nvSpPr>
            <p:cNvPr id="102" name=""/>
            <p:cNvSpPr/>
            <p:nvPr/>
          </p:nvSpPr>
          <p:spPr>
            <a:xfrm>
              <a:off x="1066680" y="2362320"/>
              <a:ext cx="381240" cy="1447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52480" y="228600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52480" y="3124080"/>
              <a:ext cx="19051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nd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Sans"/>
                </a:rPr>
                <a:t>C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4990-4780-4080-90CC-CF6ABF9356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mp of assembler code for function func3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0 &lt;func3&gt;: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1 &lt;func3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3 &lt;func3+3&gt;:    mov    0x8(%ebp)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dx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6 &lt;func3+6&gt;:    mov    0xc(%ebp),%ec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cx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9 &lt;func3+9&gt;:    mov    $0xdeadbeef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%eax is 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5e &lt;func3+14&gt;:   cmp    $0x4,%ed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(a&gt;4?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3 &lt;func3+19&gt;:   jmp    *0x8048598(,%edx,4)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jmp tabl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6a &lt;func3+26&gt;:   lea    0x0(%esi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0 &lt;func3+32&gt;:   mov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4 &lt;func3+36&gt;:   lea    (%ecx,%edx,1)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+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7 &lt;func3+39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AE047-1A9F-4E19-954F-FEA226626D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79 &lt;func3+41&gt;:   lea     0x0(%esi,1),%es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no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0 &lt;func3+48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2 &lt;func3+50&gt;:   sub 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-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6 &lt;func3+54&gt;:   mov   %ed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=a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8 &lt;func3+56&gt;:   imul   %ecx,%eax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r*=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b &lt;func3+59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d &lt;func3+6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8e &lt;func3+62&gt;:   ret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(gdb) x/5wx 0x8048598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98 &lt;_IO_stdin_used+4&gt;:   0x08048470      0x08048470      0x08048474     0x0804848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0x80485a8 &lt;_IO_stdin_used+20&gt;:  0x08048486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5509-A66E-4C50-9215-6714A13F8A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oid func4 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 ("hello world!\n"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6EC8-8E52-471E-A4B4-386FFD10D2F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func4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0 &lt;func4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1 &lt;func4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3 &lt;func4+3&gt;:    sub    $0x8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6 &lt;func4+6&gt;:    add    $0xfffffff4,%es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9 &lt;func4+9&gt;:    push   $0x80485a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9e &lt;func4+14&gt;:   call   0x804833c &lt;printf&gt;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  calling print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3 &lt;func4+19&gt;: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5 &lt;func4+21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6 &lt;func4+22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4a7 &lt;func4+23&gt;:   nop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(gdb) x/s 0x80485a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5ac &lt;_IO_stdin_used+24&gt;:   "hello world!\n"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6F1C-7817-4F61-9EA8-27E79AC7E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9320" y="12189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func5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4EF3B-0E3F-46C3-897A-14A3A8EE49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: write C code for 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0 &lt;func5&gt;:     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1 &lt;func5+1&gt;: 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3 &lt;func5+3&gt;:    mov    0x8(%ebp),%ec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6 &lt;func5+6&gt;:    xor 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8 &lt;func5+8&gt;:    xor  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a &lt;func5+10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c &lt;func5+12&gt;:   jge     0x80483d7 &lt;func5+23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ce &lt;func5+14&gt;:   mov   %esi,%esi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0 &lt;func5+16&gt;:   add    %ed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2 &lt;func5+18&gt;:   inc     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3 &lt;func5+19&gt;:   cmp   %ec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5 &lt;func5+21&gt;:   jl     0x80483d0 &lt;func5+16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7 &lt;func5+23&gt;:   mov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9 &lt;func5+25&gt;: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a &lt;func5+26&gt;:   ret  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0x80483db &lt;func5+27&gt;:   nop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300D-5A1E-4D97-99A7-06448A17777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sembly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Src, Des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dd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+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ax, %ebx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# %ebx  -=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p  Ar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mp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unconditional branc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ge 0x87654321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branch if  &gt;=  in signed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comparis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C6D6-2095-4BF5-9127-D5FA4CD684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emory Addressing M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ic form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(R1, R2, 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ress: Reg[R1] + Reg[R2]*S + 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.g. 0x8(%eax, %ebx, 0x4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address is %eax + %ebx * 0x4 + 0x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pecial forms: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mit D, R1, R2, or 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(R1),  D(R1),  (R1, R2), D(R1, R2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57D4-647F-41DC-A700-5AC1A2240E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ercise: What do the ASM mean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ub  %ecx, %ed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mp %ecx, 0x4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jge 0x12345678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), %ea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ov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ea (%ebx, %esi, 0x4), %ed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xor %ecx, %ecx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261B-E681-4BC0-AA8D-65BC6C0C91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dure Related Instru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a_func (int arg1, int arg2, int arg3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argumen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1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2:  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g3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return valu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0x1, %eax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# return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39625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v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(%ebp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,%e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02A4-DAED-4818-9B04-EF7DA09A4B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ation and GDB basi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SM Examp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FD27-05EF-4562-AFA8-AD7C674A11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iling and Debugging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ing ASM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S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nerate example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bugging C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cc –O –g –o example -Wall example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db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0CA6E-9735-4BFE-8132-1D24CE4E05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compiling without “-g”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gcc –O –o example -Wall example.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db will not know the C code for assemb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he same as in L2 “bomb lab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gdb to examine the object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tools (objdump etc.) see L2 descrip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E754-440F-413E-BD4F-60DC28E858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4:00Z</dcterms:modified>
  <cp:revision>130</cp:revision>
  <dc:subject/>
  <dc:title>PowerPoint Presentation</dc:title>
</cp:coreProperties>
</file>