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CC33D-A1A4-450D-A2EA-57C3EC72F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6F4F-F442-43C8-AA7B-257825083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5EC3-E5D6-4688-B0BD-CC43F79EA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79CF-3F47-4596-BCD8-6F3F3F176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6EF7-D2D9-4A9F-A65E-F5EA93621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1303-95F1-4050-B08A-5022CA4A4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BD3A-CC4D-42DE-99D0-9B216A71B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D183-C850-4796-B771-5F3EA7D80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AEF4-C67D-42F9-A31B-C1620D751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B654-085B-4BDD-9422-C5D31D6A9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51B6-E8DC-460E-ABBC-6B232B885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9BF2-67C7-47BE-A4A9-3381F2BDA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836D-33FB-442D-9B3C-9B820576ED9D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37339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sembly Revie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M using GDB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M </a:t>
            </a:r>
            <a:r>
              <a:rPr b="0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16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8195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: func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func1(int a, int b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x, y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x = a + b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y = 2*x - b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x*y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C300-A43C-44ED-8C11-E7E2976688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1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0 &lt;func1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1 &lt;func1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3 &lt;func1+3&gt;:    mov    0xc(%ebp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6 &lt;func1+6&gt;:    mov    0x8(%ebp)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9 &lt;func1+9&gt;:    add    %eax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b &lt;func1+11&gt;:   lea    (%ecx,%ecx,1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e &lt;func1+14&gt;:   sub    %eax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0 &lt;func1+16&gt;:   mov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2 &lt;func1+18&gt;:   imul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5 &lt;func1+21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7 &lt;func1+23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8 &lt;func1+24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9 &lt;func1+25&gt;:   lea    0x0(%esi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E451-3013-488C-A0BB-73DFE726E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1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0 &lt;func1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1 &lt;func1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3 &lt;func1+3&gt;:    mov    0xc(%ebp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ax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6 &lt;func1+6&gt;:    mov    0x8(%ebp)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c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9 &lt;func1+9&gt;:    add    %eax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cx=a+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b &lt;func1+11&gt;:   lea    (%ecx,%ecx,1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dx=2*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e &lt;func1+14&gt;:   sub    %eax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dx-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0 &lt;func1+16&gt;:   mov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ax=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2 &lt;func1+18&gt;:   imul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return x*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5 &lt;func1+21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7 &lt;func1+23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8 &lt;func1+24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9 &lt;func1+25&gt;:   lea    0x0(%esi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4466-A7D3-446C-8D78-110F7BA50E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ing GDB to run the pro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use gdb to run the program and examine registers and memory loc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reak func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/x $eb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/2wx $ebp+8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EB31-9C1E-4C60-A022-71C1DB0F44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5640" y="121896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func2(int a, int b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f(a&gt;b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a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b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3977-F343-44B8-8B45-B8ED775BAF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2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c &lt;func2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d &lt;func2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f &lt;func2+3&gt;:    mov  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2 &lt;func2+6&gt;:    mov    0xc(%ebp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5 &lt;func2+9&gt;:    cmp    %ea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7 &lt;func2+11&gt;:   jle    0x804844b &lt;func2+15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9 &lt;func2+13&gt;:   mov 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b &lt;func2+15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d &lt;func2+17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e &lt;func2+18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f &lt;func2+19&gt;:   nop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9230-38AB-4496-90AD-C42A4CB949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2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c &lt;func2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d &lt;func2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f &lt;func2+3&gt;:    mov    0x8(%ebp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d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2 &lt;func2+6&gt;:    mov    0xc(%ebp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ax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5 &lt;func2+9&gt;:    cmp    %eax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dx&lt;=%eax?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7 &lt;func2+11&gt;:   jle    0x804844b &lt;func2+15&gt; #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9 &lt;func2+13&gt;:   mov 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a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b &lt;func2+15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d &lt;func2+17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e &lt;func2+18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f &lt;func2+19&gt;:   nop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7A63-28EA-4238-BC55-FC56113AD0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 func3(int a, int b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 r = 0xDEADBEEF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witch(a)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0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 = 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2: r = a+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3: r = a-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4: r = a*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fault: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turn r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EEBD-7F0E-4450-9E0F-54A52F2718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3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0 &lt;func3&gt;: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1 &lt;func3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3 &lt;func3+3&gt;:    mov  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6 &lt;func3+6&gt;:    mov    0xc(%ebp),%ec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9 &lt;func3+9&gt;:    mov    $0xdeadbeef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e &lt;func3+14&gt;:   cmp    $0x4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1 &lt;func3+17&gt;:   ja 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3 &lt;func3+19&gt;:   jmp    *0x8048598(,%edx,4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a &lt;func3+26&gt;:   lea    0x0(%esi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0 &lt;func3+32&gt;:   mov    %ec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2 &lt;func3+34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4 &lt;func3+36&gt;:   lea    (%ecx,%edx,1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7 &lt;func3+39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6D45-62DD-4C1D-81AD-6EC9AA5CF2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9 &lt;func3+41&gt;:   lea     0x0(%esi,1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0 &lt;func3+48&gt;:   mov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2 &lt;func3+50&gt;:   sub    %ec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4 &lt;func3+52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6 &lt;func3+54&gt;:   mov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8 &lt;func3+56&gt;:   imul   %ec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b &lt;func3+59&gt;:   mov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d &lt;func3+61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e &lt;func3+62&gt;:   ret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(gdb) x/5wx 0x804859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98 &lt;_IO_stdin_used+4&gt;:   0x08048470      0x08048470      0x08048474     0x0804848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a8 &lt;_IO_stdin_used+20&gt;:  0x0804848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9947-3292-4E23-B6F2-95A30A26CE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sembly Review: Machine Mod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752480"/>
            <a:ext cx="320040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1752480"/>
            <a:ext cx="2286000" cy="381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8480" y="2108160"/>
            <a:ext cx="1828800" cy="1912680"/>
            <a:chOff x="4038480" y="2108160"/>
            <a:chExt cx="1828800" cy="1912680"/>
          </a:xfrm>
        </p:grpSpPr>
        <p:sp>
          <p:nvSpPr>
            <p:cNvPr id="92" name=""/>
            <p:cNvSpPr/>
            <p:nvPr/>
          </p:nvSpPr>
          <p:spPr>
            <a:xfrm>
              <a:off x="4038480" y="251460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38480" y="304812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38480" y="358128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10816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Addre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266688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38480" y="3200400"/>
              <a:ext cx="1828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Instru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91320" y="2438280"/>
            <a:ext cx="2286000" cy="2667240"/>
            <a:chOff x="5791320" y="2438280"/>
            <a:chExt cx="2286000" cy="2667240"/>
          </a:xfrm>
        </p:grpSpPr>
        <p:sp>
          <p:nvSpPr>
            <p:cNvPr id="99" name=""/>
            <p:cNvSpPr/>
            <p:nvPr/>
          </p:nvSpPr>
          <p:spPr>
            <a:xfrm>
              <a:off x="5791320" y="2438280"/>
              <a:ext cx="22860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Object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Program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48520" y="3733920"/>
              <a:ext cx="990360" cy="137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066680" y="2286000"/>
            <a:ext cx="2590920" cy="1523880"/>
            <a:chOff x="1066680" y="2286000"/>
            <a:chExt cx="2590920" cy="1523880"/>
          </a:xfrm>
        </p:grpSpPr>
        <p:sp>
          <p:nvSpPr>
            <p:cNvPr id="102" name=""/>
            <p:cNvSpPr/>
            <p:nvPr/>
          </p:nvSpPr>
          <p:spPr>
            <a:xfrm>
              <a:off x="1066680" y="2362320"/>
              <a:ext cx="3812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52480" y="2286000"/>
              <a:ext cx="19051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3124080"/>
              <a:ext cx="19051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Con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C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1212-8A17-4663-BDDD-5BD5E18F26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3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0 &lt;func3&gt;: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1 &lt;func3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3 &lt;func3+3&gt;:    mov    0x8(%ebp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%ed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6 &lt;func3+6&gt;:    mov    0xc(%ebp)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%ecx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9 &lt;func3+9&gt;:    mov    $0xdeadbeef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%eax is 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e &lt;func3+14&gt;:   cmp    $0x4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(a&gt;4?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1 &lt;func3+17&gt;:   ja 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3 &lt;func3+19&gt;:   jmp    *0x8048598(,%edx,4)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jmp tab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a &lt;func3+26&gt;:   lea    0x0(%esi),%es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no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0 &lt;func3+32&gt;:   mov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2 &lt;func3+34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4 &lt;func3+36&gt;:   lea    (%ecx,%edx,1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a+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7 &lt;func3+39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D0C1-FB8F-4BD6-8874-3A7F68E1EC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9 &lt;func3+41&gt;:   lea     0x0(%esi,1),%es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no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0 &lt;func3+48&gt;:   mov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2 &lt;func3+50&gt;:   sub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-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4 &lt;func3+52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6 &lt;func3+54&gt;:   mov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8 &lt;func3+56&gt;:   imul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*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b &lt;func3+59&gt;:   mov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d &lt;func3+61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e &lt;func3+62&gt;:   ret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(gdb) x/5wx 0x804859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98 &lt;_IO_stdin_used+4&gt;:   0x08048470      0x08048470      0x08048474     0x0804848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a8 &lt;_IO_stdin_used+20&gt;:  0x0804848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5D9F-3C86-4A19-8DD0-64FF7D66CB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void func4 (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intf ("hello world!\n"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A878-D13A-4172-AAC4-C6B596797A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4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0 &lt;func4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1 &lt;func4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3 &lt;func4+3&gt;:    sub    $0x8,%es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6 &lt;func4+6&gt;:    add    $0xfffffff4,%es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9 &lt;func4+9&gt;:    push   $0x80485a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e &lt;func4+14&gt;:   call   0x804833c &lt;printf&gt;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  calling printf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3 &lt;func4+19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5 &lt;func4+21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6 &lt;func4+22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7 &lt;func4+23&gt;:   nop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(gdb) x/s 0x80485a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5ac &lt;_IO_stdin_used+24&gt;:   "hello world!\n"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1B98-A4EB-4936-87E3-ED0380B9A4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09320" y="121896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func5(int x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74BA-51A5-4406-B690-23C63E6BD6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: write C code for AS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0 &lt;func5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1 &lt;func5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3 &lt;func5+3&gt;:    mov    0x8(%ebp),%ec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6 &lt;func5+6&gt;:    xor     %ea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8 &lt;func5+8&gt;:    xor     %ed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a &lt;func5+10&gt;:   cmp   %ec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c &lt;func5+12&gt;:   jge     0x80483d7 &lt;func5+23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e &lt;func5+14&gt;:   mov   %esi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0 &lt;func5+16&gt;:   add 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2 &lt;func5+18&gt;:   inc     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3 &lt;func5+19&gt;:   cmp   %ec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5 &lt;func5+21&gt;:   jl     0x80483d0 &lt;func5+16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7 &lt;func5+23&gt;:   mov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9 &lt;func5+25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a &lt;func5+26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b &lt;func5+27&gt;:   nop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5FBE-8AB4-4094-BAFB-CF776CC343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sembly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p  Src, Des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dd  %eax, %ebx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# %ebx += %e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b  %eax, %ebx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# %ebx  -= %e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p  Ar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mp 0x8765432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unconditional branc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ge 0x8765432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branch if  &gt;=  in signed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comparis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6D62-7B8C-4572-BD21-AB84371A5B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emory Addressing M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ic form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(R1, R2, 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ddress: Reg[R1] + Reg[R2]*S + 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.g. 0x8(%eax, %ebx, 0x4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address is %eax + %ebx * 0x4 + 0x8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pecial forms: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mit D, R1, R2, or 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R1),  D(R1),  (R1, R2), D(R1, R2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9701-22D7-41B5-B7AF-42EC5D25B7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ercise: What do the ASM mean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b  %ecx, %ed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p %ecx, 0x4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jge 0x12345678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ov (%ebx), %e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ov (%ebx, %esi, 0x4), %ed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a (%ebx, %esi, 0x4), %ed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xor %ecx, %ec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923F-66AF-4740-9E4F-55966F6E59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cedure Related Instru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a_func (int arg1, int arg2, int arg3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t arguments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g1:  mov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(%ebp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%ec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g2:  mov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(%ebp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%ec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g3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t return valu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v 0x1, %eax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return 1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962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v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(%ebp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%ec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95CA-31EB-4020-8F92-793B53BFE7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ilation and GDB bas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SM Examp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E5F3-A216-4BCE-9638-73F3742B94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iling and Debugging 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ting ASM with gc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cc –O –S -Wall example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nerate example.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bugging C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cc –O –g –o example -Wall example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db exampl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7638-3F2D-44C6-95EC-8B1474F7B7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at if compiling without “-g”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gcc –O –o example -Wall example.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db will not know the C code for assemb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he same as in L2 “bomb lab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gdb to examine the object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ther tools (objdump etc.) see L2 descrip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D2FB-7845-488B-A2BA-3B4A1F608F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16T18:14:00Z</dcterms:modified>
  <cp:revision>130</cp:revision>
  <dc:subject/>
  <dc:title>PowerPoint Presentation</dc:title>
</cp:coreProperties>
</file>