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930E-B144-4E10-964F-4AEB4B249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/5xw 0x80485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ated gdb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A97-EFF4-4FAE-BDCE-392E2073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5B6-4835-4B8C-B943-C0E3A285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906D-6247-434B-9FC2-34FA1C46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CBB4-2D86-4E28-BFAB-9F48D9F4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341-5B53-4691-9A2C-7E98C4B6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C601-5D7C-4F6E-9F37-595EB40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2CE-14F6-44D1-B9F3-ABED8D39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9D0-FAF0-40F4-8FE0-B3A1BCAD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6B9-791B-4AD9-928A-BECF787D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548B-68DE-40A3-815A-6632883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40FB-8AA8-4F7B-BD67-EE613226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677-823E-4964-8030-92C09018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DF5E-7A94-407F-9BAB-B6151272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citation 2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sembly &amp; 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6 September 200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GNU debugg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Your friend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sag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gdb &lt;executable name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gdb command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arts the program, can include command line argum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disassembles code in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used to print values of variables &amp; memo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examine memory contents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tep through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: set breakpoints in the cod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ing gdb with func1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reak func1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u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a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a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/x $ecx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2: Contro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2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f(a&gt;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2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2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    %eax,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gt;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e    .L1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a &lt;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dx,%ea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1: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otherwise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3: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unc3(int a, int b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 = 0xDEADBEEF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tch(a)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 = a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 = 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 = a+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r = a-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r = a*b; break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$edx = a, $ecx = b, $eax = 0xdeadbeef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3 &lt;func3+3&gt;:    mov    0x8(%ebp)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6 &lt;func3+6&gt;:    mov    0xc(%ebp),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59 &lt;func3+9&gt;:    mov    $0xdeadbeef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go to default case, if a &gt; 4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5e &lt;func3+14&gt;:   cmp    $0x4,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x8048461 &lt;func3+17&gt;:   ja 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execute the jump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46a &lt;func3+26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0: return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0 &lt;func3+32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2 &lt;func3+34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1: return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4 &lt;func3+36&gt;:   mov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6 &lt;func3+38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2: return a+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8 &lt;func3+40&gt;:   lea    (%ecx,%edx,1)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b &lt;func3+43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7d &lt;func3+45&gt;:   lea    0x0(%esi),%e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SM for func3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3: a-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0 &lt;func3+48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2 &lt;func3+50&gt;:   sub 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4 &lt;func3+52&gt;:   jmp    0x804848b &lt;func3+59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ase 4: a*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6 &lt;func3+54&gt;:   mov    %ed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x8048488 &lt;func3+56&gt;:   imul   %ecx,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ddresses of the cas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0: 0x804847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1: 0x8048474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2: 0x8048478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3: 0x8048480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 4: 0x8048486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Normally Thursday 5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THIS WEEK: Wednesday 5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  <a:ea typeface="Arial"/>
              </a:rPr>
              <a:t>–</a:t>
            </a:r>
            <a:r>
              <a:rPr b="0" lang="en-US" sz="2800" spc="-1" strike="noStrike">
                <a:solidFill>
                  <a:srgbClr val="ff3300"/>
                </a:solidFill>
                <a:latin typeface="Lucida San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Jump Tab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urier New"/>
              </a:rPr>
              <a:t>0x8048463 &lt;func3+19&gt;:   jmp    *0x8048578(,%edx,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(gdb) x/5xw 0x8048578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78 &lt;_IO_stdin_used+4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70  0x08048474  0x08048478  0x08048480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0x8048588 &lt;_IO_stdin_used+20&gt;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0x0804848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%ed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Jump to instruction with addr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6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urier New"/>
              </a:rPr>
              <a:t>MEM[0x8048578 + a*4]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4: asm =&gt; 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ump of assembler code for function func4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0 &lt;func4&gt;:      push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1 &lt;func4+1&gt;:    mov    %esp,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3 &lt;func4+3&gt;:    mov    0x8(%ebp),%ec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6 &lt;func4+6&gt;:    xor    %ea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8 &lt;func4+8&gt;:    xor    %ed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a &lt;func4+10&gt;:   cmp    %ec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c &lt;func4+12&gt;:   jge    0x80483d7 &lt;func4+23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ce &lt;func4+14&gt;:   mov    %esi,%esi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0 &lt;func4+16&gt;:   add    %edx,%ea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2 &lt;func4+18&gt;:   inc    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3 &lt;func4+19&gt;:   cmp    %ecx,%edx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5 &lt;func4+21&gt;:   jl     0x80483d0 &lt;func4+16&gt;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7 &lt;func4+23&gt;:   mov    %ebp,%es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9 &lt;func4+25&gt;:   pop    %ebp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a &lt;func4+26&gt;:   ret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80483db &lt;func4+27&gt;:   nop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of assembler dump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unc4&gt;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l %ebp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%esp,%ebp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 0x8(%ebp),%ec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put arg1 into %ec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ax,%ea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orl  %edx,%edx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zero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ining 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a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ge .L4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4 if arg1 &lt;= %eax (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6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l %edx,%ea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%eax +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 %edx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%edx + 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pl %ecx,%edx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compare arg1 (%ecx) and %ed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 .L6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jump to .L06 if %edx &lt; arg1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4:       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l %ebp,%esp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l %ebp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ame the variabl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cx: x (first argument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: resul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dx: i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4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func4(int x)     // %ecx = x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result = 0;  // %eax = result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i;           // %edx = 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 (i = 0; i &lt; x; i++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sult += i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eparing for Lab2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ue Thursday, 26 Sep @ 11:59P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sembly programming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 to AS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ing gd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SM to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verse engineering (like in Lab2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achine Mode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362320"/>
            <a:ext cx="380880" cy="144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209680"/>
            <a:ext cx="13716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1752480"/>
            <a:ext cx="3200400" cy="2210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1752480"/>
            <a:ext cx="2286000" cy="381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2438280"/>
            <a:ext cx="2286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Objec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rogram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51460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304812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81280"/>
            <a:ext cx="1752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210816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666880"/>
            <a:ext cx="175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3200400"/>
            <a:ext cx="167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3733920"/>
            <a:ext cx="990360" cy="1371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124080"/>
            <a:ext cx="137160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pecial Registe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ax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turn Valu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i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struction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b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Base (Stack Frame)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%esp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tack Point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imple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0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$0x10(R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 + 16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dexed Addressing Mod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Generic Form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 Ri, 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(Rb,Ri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Reg[Ri]+D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(Rb,Ri,S)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em[Reg[Rb]+S*Reg[Ri]]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Example 1: Arithmeti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func1(int a, int b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 x, 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a +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*x - b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x*y;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unc1 assembly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1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sh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sav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sp,%eb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frame ptr = stack pt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c(%ebp),%ea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0x8(%ebp),%ecx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   %eax,%ec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cx = x = a +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a    (%ecx,%ecx,1),%edx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2 *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    %eax,%ed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dx = y = 2 * x - 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c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ul   %edx,%eax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%eax = x * 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v    %ebp,%esp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stack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p    %ebp                </a:t>
            </a:r>
            <a:r>
              <a:rPr b="1" lang="en-US" sz="2000" spc="-1" strike="noStrike">
                <a:solidFill>
                  <a:srgbClr val="969696"/>
                </a:solidFill>
                <a:latin typeface="Courier New"/>
              </a:rPr>
              <a:t># restore frame pointer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2:10:33Z</dcterms:created>
  <dc:creator>Andrew Robert Faulring</dc:creator>
  <dc:description/>
  <dc:language>en-US</dc:language>
  <cp:lastModifiedBy>Andrew Robert Faulring</cp:lastModifiedBy>
  <dcterms:modified xsi:type="dcterms:W3CDTF">2002-09-16T15:37:58Z</dcterms:modified>
  <cp:revision>135</cp:revision>
  <dc:subject/>
  <dc:title>Assembly and GDB</dc:title>
</cp:coreProperties>
</file>