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8624-4C69-47D1-95F8-C2F19EC53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/5xw 0x80485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ated gdb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139-F028-4F93-9244-C9CDD69F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E76-756B-4618-A697-4ABFAE4A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24B-594A-4802-9836-80F46CA3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B7C3-5682-43DB-BDF6-2F66478C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600-4DDC-469E-9026-B43BB94E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564C-1988-4875-92B4-686C0774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88D-3774-417F-AEB8-07D4FA74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177-9F20-4084-B9D1-E4D7C51E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A196-03ED-4F15-820B-0B82D945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E60-915A-4AF1-8E2D-116E6130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BB55-5AF6-41CB-9C52-5E2AF94F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3BB4-45F3-41C5-A4BC-FD930934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41CF-0080-4897-9C8F-C565F368C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ecitation 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ssembly &amp; gdb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6 September 2002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gdb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GNU debugge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our friend for Lab2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Usag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db &lt;executable name&gt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gdb command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starts the program, can include command line argument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as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disassembles code into as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used to print values of variables &amp; memor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examine memory contents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ep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step through cod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set breakpoints in the cod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Using gdb with func1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reak func1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u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a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/x $eax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/x $ecx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2: Control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func2(int a, int b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(a&gt;b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SM for func2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nc2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save frame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%esp,%ebp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frame ptr = stack pt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0x8(%ebp),%edx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dx =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0xc(%ebp),%eax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ax =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p    %eax,%edx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a &gt;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e    .L1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a &lt;=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%edx,%eax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return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1: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otherwise %eax =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%ebp,%esp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restore stack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p    %ebp     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restore frame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3: 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unc3(int a, int b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 = 0xDEADBEEF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a) {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0: r = a; break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1: r = b; break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2: r = a+b; break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3: r = a-b; break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4: r = a*b; break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SM for func3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$edx = a, $ecx = b, $eax = 0xdeadbee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53 &lt;func3+3&gt;:    mov    0x8(%ebp),%ed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56 &lt;func3+6&gt;:    mov    0xc(%ebp),%ec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59 &lt;func3+9&gt;:    mov    $0xdeadbeef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go to default case, if a &gt; 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0x804845e &lt;func3+14&gt;:   cmp    $0x4,%ed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0x8048461 &lt;func3+17&gt;:   ja     0x804848b &lt;func3+59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execute the jump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0x8048463 &lt;func3+19&gt;:   jmp    *0x8048578(,%edx,4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0x804846a &lt;func3+26&gt;:   lea    0x0(%esi),%e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SM for func3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0: return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0 &lt;func3+32&gt;:   mov    %edx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2 &lt;func3+34&gt;:   jmp    0x804848b &lt;func3+59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1: return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4 &lt;func3+36&gt;:   mov    %ecx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6 &lt;func3+38&gt;:   jmp    0x804848b &lt;func3+59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8 &lt;func3+40&gt;:   lea    (%ecx,%edx,1)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2: return a+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8 &lt;func3+40&gt;:   lea    (%ecx,%edx,1)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b &lt;func3+43&gt;:   jmp    0x804848b &lt;func3+59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d &lt;func3+45&gt;:   lea    0x0(%esi),%e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SM for func3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3: a-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80 &lt;func3+48&gt;:   mov    %edx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82 &lt;func3+50&gt;:   sub    %ecx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84 &lt;func3+52&gt;:   jmp    0x804848b &lt;func3+59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4: a*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86 &lt;func3+54&gt;:   mov    %edx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88 &lt;func3+56&gt;:   imul   %ecx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ddresses of the cas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0: 0x804847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1: 0x804847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2: 0x804847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3: 0x804848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4: 0x804848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ndrew Faulring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aulring@cs.cmu.edu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ffice hours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SH 2504 (lab) / 2507 (conference room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ormally Thursday 5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Lucida Sans"/>
              </a:rPr>
              <a:t>THIS WEEK: Wednesday 5</a:t>
            </a:r>
            <a:r>
              <a:rPr b="0" lang="en-US" sz="2800" spc="-1" strike="noStrike">
                <a:solidFill>
                  <a:srgbClr val="ff3300"/>
                </a:solidFill>
                <a:latin typeface="Lucida Sans"/>
                <a:ea typeface="Arial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Lucida San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The Jump Tabl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0x8048463 &lt;func3+19&gt;:   jmp    *0x8048578(,%edx,4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gdb) x/5xw 0x804857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0x8048578 &lt;_IO_stdin_used+4&gt;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0x08048470  0x08048474  0x08048478  0x0804848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0x8048588 &lt;_IO_stdin_used+20&gt;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0x0804848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%edx =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Jump to instruction with addre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EM[0x8048578 + a*4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4: asm =&gt; c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ump of assembler code for function func4: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0 &lt;func4&gt;:      push   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1 &lt;func4+1&gt;:    mov    %esp,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3 &lt;func4+3&gt;:    mov    0x8(%ebp),%ec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6 &lt;func4+6&gt;:    xor    %eax,%ea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8 &lt;func4+8&gt;:    xor    %edx,%ed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a &lt;func4+10&gt;:   cmp    %ecx,%ea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c &lt;func4+12&gt;:   jge    0x80483d7 &lt;func4+23&gt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e &lt;func4+14&gt;:   mov    %esi,%esi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0 &lt;func4+16&gt;:   add    %edx,%ea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2 &lt;func4+18&gt;:   inc    %ed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3 &lt;func4+19&gt;:   cmp    %ecx,%ed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5 &lt;func4+21&gt;:   jl     0x80483d0 &lt;func4+16&gt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7 &lt;func4+23&gt;:   mov    %ebp,%es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9 &lt;func4+25&gt;:   pop    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a &lt;func4+26&gt;:   ret   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b &lt;func4+27&gt;:   nop   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of assembler dump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ining func4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unc4&gt;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shl %ebp    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save frame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l  %esp,%ebp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frame ptr = stack pt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l  0x8(%ebp),%ecx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put arg1 into %ec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orl  %eax,%eax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zero 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orl  %edx,%edx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zero %ed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ining func4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pl %ecx,%eax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compare arg1 (%ecx) and 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ge .L4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jump to .L4 if arg1 &lt;= %eax (0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6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l %edx,%eax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ax = %eax + %ed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 %edx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dx = %edx +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pl %ecx,%edx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compare arg1 (%ecx) and %ed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 .L6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jump to .L06 if %edx &lt; arg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4:            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l %ebp,%esp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restore stack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pl %ebp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restore frame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Name the variabl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%ecx: x (first argument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%eax: resul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%edx: i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unc4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func4(int x)     // %ecx = 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result = 0;  // %eax = resul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i;           // %edx = i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 (i = 0; i &lt; x; i++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sult += i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reparing for Lab2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ue Thursday, 26 Sep @ 11:59P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ssembly programm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 to AS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Using gd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SM to 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verse engineering (like in Lab2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Machine Model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362320"/>
            <a:ext cx="380880" cy="144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2209680"/>
            <a:ext cx="13716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752480"/>
            <a:ext cx="3200400" cy="221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1752480"/>
            <a:ext cx="2286000" cy="381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2438280"/>
            <a:ext cx="2286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bjec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rogram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251460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304812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58128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210816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266688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3200400"/>
            <a:ext cx="167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3733920"/>
            <a:ext cx="99036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3124080"/>
            <a:ext cx="13716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pecial Register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%eax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turn Valu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%eip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Instruction Pointe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%ebp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ase (Stack Frame) Pointe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%esp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tack Pointe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imple Addressing Mod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$10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(R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em[R]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$10(R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em[R + 10]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$0x10(R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em[R + 16]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Indexed Addressing Mod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Generic For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D(Rb, Ri, S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em[Reg[Rb]+S*Reg[Ri]+D]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(Rb,Ri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em[Reg[Rb]+Reg[Ri]]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D(Rb,Ri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em[Reg[Rb]+Reg[Ri]+D]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(Rb,Ri,S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em[Reg[Rb]+S*Reg[Ri]]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1: Arithmetic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func1(int a, int b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x, y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a + b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*x - b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x*y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unc1 assembly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nc1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sh   %ebp        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save frame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%esp,%ebp   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frame ptr = stack pt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0xc(%ebp),%eax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ax =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0x8(%ebp),%ecx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cx =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   %eax,%ecx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cx = x = a +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a    (%ecx,%ecx,1),%edx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dx = 2 * 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    %eax,%edx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dx = y = 2 * x -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%ecx,%eax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ax = 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ul   %edx,%eax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ax = x * 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%ebp,%esp   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restore stack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p    %ebp        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restore frame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02:10:33Z</dcterms:created>
  <dc:creator>Andrew Robert Faulring</dc:creator>
  <dc:description/>
  <dc:language>en-US</dc:language>
  <cp:lastModifiedBy>Andrew Robert Faulring</cp:lastModifiedBy>
  <dcterms:modified xsi:type="dcterms:W3CDTF">2002-09-16T15:37:58Z</dcterms:modified>
  <cp:revision>135</cp:revision>
  <dc:subject/>
  <dc:title>Assembly and GDB</dc:title>
</cp:coreProperties>
</file>