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DDC-9F24-44B6-9F34-F99BC7B4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/5xw 0x80485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ated gdb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36B-D23F-4C69-B966-7F197DB6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87D-9E9C-44DA-B922-51E4208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76B-04A6-4F2E-9E0E-F9FEC03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030-BAAA-4CBD-9265-ABF894D8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BEC-4A86-4557-9EF6-5976E6BB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228-1262-4987-A08C-5CA71D2C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667-17EA-45AF-A3F8-D95B89FB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521-9D7C-4F85-BDDD-568073D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D63-B054-4508-A057-299840C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B84-0DC1-44EC-956F-0C82E23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F3A-D654-4DC8-8260-1DB0BD5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17D-B4D8-4A6C-8BB3-4AFBD4B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CF0-7F10-4116-B289-7148642E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sembly &amp; gd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6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d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NU debugg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r friend for Lab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db &lt;executable name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tarts the program, can include command line argum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a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disassembles code into as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used to print values of variables &amp;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examine memory content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tep through cod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et breakpoints in the cod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ing gdb with func1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 func1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a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/x $ea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/x $ec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Contro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func2(int a, int 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a&gt;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2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2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sp,%eb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8(%ebp),%ed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c(%ebp)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   %eax,%ed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a &gt;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e    .L1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a &lt;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dx,%ea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return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1: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otherwise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bp,%es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   %ebp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3(int a, int b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0xDEADBEEF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a)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0: r = a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 r = 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2: r = a+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3: r = a-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 r = a*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$edx = a, $ecx = b, $eax = 0xdeadbee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3 &lt;func3+3&gt;:    mov    0x8(%ebp),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6 &lt;func3+6&gt;:    mov    0xc(%ebp),%ec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9 &lt;func3+9&gt;:    mov    $0xdeadbeef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go to default case, if a &gt;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x804845e &lt;func3+14&gt;:   cmp    $0x4,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execute the jump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0x8048463 &lt;func3+19&gt;:   jmp    *0x8048578(,%edx,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46a &lt;func3+26&gt;:   lea    0x0(%esi)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0: return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0 &lt;func3+32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 return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4 &lt;func3+36&gt;:   mov 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6 &lt;func3+38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8 &lt;func3+40&gt;:   lea    (%ecx,%edx,1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2: return a+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8 &lt;func3+40&gt;:   lea    (%ecx,%edx,1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b &lt;func3+43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d &lt;func3+45&gt;:   lea    0x0(%esi)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3: a-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0 &lt;func3+48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2 &lt;func3+50&gt;:   sub 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 a*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6 &lt;func3+54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8 &lt;func3+56&gt;:   imul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ddresses of the cas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0: 0x804847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0x804847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0x804847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0x804848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4: 0x804848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rmally 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THIS WEEK: Wednesday 5</a:t>
            </a:r>
            <a:r>
              <a:rPr b="0" lang="en-US" sz="2800" spc="-1" strike="noStrike">
                <a:solidFill>
                  <a:srgbClr val="ff33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Jump Tab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0x8048463 &lt;func3+19&gt;:   jmp    *0x8048578(,%edx,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gdb) x/5xw 0x804857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578 &lt;_IO_stdin_used+4&gt;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0x08048470  0x08048474  0x08048478  0x0804848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588 &lt;_IO_stdin_used+20&gt;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0x0804848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%ed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Jump to instruction with add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EM[0x8048578 + a*4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asm =&gt; 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ump of assembler code for function func4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0 &lt;func4&gt;:      push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1 &lt;func4+1&gt;:    mov 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3 &lt;func4+3&gt;:    mov    0x8(%ebp),%ec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6 &lt;func4+6&gt;:    xor    %ea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8 &lt;func4+8&gt;:    xor    %edx,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a &lt;func4+10&gt;:   cmp    %ec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c &lt;func4+12&gt;:   jge    0x80483d7 &lt;func4+23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e &lt;func4+14&gt;:   mov    %esi,%es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0 &lt;func4+16&gt;:   add    %ed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2 &lt;func4+18&gt;:   inc    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3 &lt;func4+19&gt;:   cmp    %ecx,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5 &lt;func4+21&gt;:   jl     0x80483d0 &lt;func4+16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7 &lt;func4+23&gt;:   mov 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9 &lt;func4+25&gt;:   pop 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a &lt;func4+26&gt;:   ret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b &lt;func4+27&gt;:   nop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of assembler du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ining 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unc4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l %ebp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 %esp,%ebp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 0x8(%ebp),%ecx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put arg1 into %ec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l  %eax,%eax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zero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l  %edx,%edx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zero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ining 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l %ecx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compare arg1 (%ecx) and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ge .L4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jump to .L4 if arg1 &lt;= %eax (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6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l %edx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%eax +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 %ed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%edx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l %ecx,%ed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compare arg1 (%ecx) and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 .L6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jump to .L06 if %edx &lt; arg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4:       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%ebp,%esp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l %eb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ame the variabl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cx: x (first argument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ax: resul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dx: i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unc4(int x)     // %ecx = 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result = 0;  // %eax = resul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i;           // %edx = 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 = 0; i &lt; x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+= i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eparing for Lab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ue Thursday, 26 Sep @ 11:59P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ssembly programm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 to AS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ing gd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SM to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verse engineering (like in Lab2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achine Mode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362320"/>
            <a:ext cx="3808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20968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438280"/>
            <a:ext cx="22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5146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3048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10816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66688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320040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73392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312408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pecial Registe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ax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turn Valu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i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struction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b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ase (Stack Frame)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s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ack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imple Addressing Mod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10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10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 + 10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0x10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 + 16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dexed Addressing Mod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neric For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(Rb, Ri, S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S*Reg[Ri]+D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b,Ri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Reg[Ri]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(Rb,Ri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Reg[Ri]+D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b,Ri,S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S*Reg[Ri]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Arithmeti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func1(int a, int 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a +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*x -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*y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1 assembl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   %ebp   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sp,%ebp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c(%ebp),%eax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8(%ebp),%ecx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c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   %eax,%ec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cx = x = a +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a    (%ecx,%ecx,1),%edx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2 *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   %eax,%ed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y = 2 * x -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cx,%ea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ul   %edx,%ea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x * 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bp,%esp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   %ebp   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2:10:33Z</dcterms:created>
  <dc:creator>Andrew Robert Faulring</dc:creator>
  <dc:description/>
  <dc:language>en-US</dc:language>
  <cp:lastModifiedBy>Andrew Robert Faulring</cp:lastModifiedBy>
  <dcterms:modified xsi:type="dcterms:W3CDTF">2002-09-16T15:37:58Z</dcterms:modified>
  <cp:revision>135</cp:revision>
  <dc:subject/>
  <dc:title>Assembly and GDB</dc:title>
</cp:coreProperties>
</file>