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6D20-443A-4AF1-BF47-7725EE78D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1886-BE0C-4002-9A94-9751E04FE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EB3A-620C-4D00-BEE3-7BA694DF5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5C4F-88BB-45B0-8934-8EF84E66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AF29-FE5B-498E-B525-2345760B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2636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9776-8B4B-433E-8013-5D45B5B1E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6A787-CE20-42F6-A17B-FF77A1CC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6FF9-1183-47CB-8115-16B4BBDC5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8191-3514-4C1B-B38C-736696CD9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A649-5275-45B6-8443-AD8704AD7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263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151B9-A589-4419-8A87-0AB92D076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2636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0D37D-5D15-4340-A884-BA7DAD769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5FF-C736-4DCF-ADB8-7FCE2F59E659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chensm@cs.cmu.edu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nu.org/manual/make/html_node/make_toc.html" TargetMode="External"/><Relationship Id="rId2" Type="http://schemas.openxmlformats.org/officeDocument/2006/relationships/hyperlink" Target="http://www.gnu.org/manual/make/html_node/make_toc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-2.cs.cmu.edu/afs/cs/academic/class/15213-f02/www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352680" y="37339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ix and 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aying with Bit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actice Problem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9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819520" y="3200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eclaring Local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=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CDB5-874D-478C-B503-F7C410A236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cout,  cin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printf, scanf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 int i = 1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loat f = 1.5213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har str[20] = “15213”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integer: %d\n”, i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float: %f\n”, f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string: %s\n”, st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91FA-8B9D-4371-9D53-1D5F0A4638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i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str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335268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canf requires an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038120" y="3733920"/>
            <a:ext cx="12956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74F5B-FD9C-41D4-ACF1-55FEA664FD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ing Addresses to Call scanf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include &lt;stdio.h&gt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int i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ar str[20]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d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&amp;i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f (“%s”,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9CF8-527B-4A6D-8573-8C0D85D73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4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o “new”, “delete” operators!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se “malloc” and “free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#include &lt;malloc.h&gt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Procedure (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{char *buffer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uffer = (char *)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llo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4096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f (buffer ==NULL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intf (“can’t allocate memory!\n”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xit (1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re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(buffer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FAD9-9166-4B14-8E04-8036CDD661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urn on the Warning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with “-Wall”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heck and fix the warning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DB14-C3D2-4C85-90E7-638C372C4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laying with B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Binary, Hexadecimal,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2B52-1D79-45C4-B676-FB6C7A4E61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owers of 2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write down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~ 2</a:t>
            </a:r>
            <a:r>
              <a:rPr b="0" lang="en-US" sz="3200" spc="-1" strike="noStrike" baseline="30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BD4A-4DA8-4117-9A69-949EF6E216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Digi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~9, A, B, C, D, E, F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decimal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corresponding binary number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8199-1B89-45D8-BE6C-1C7F6DAD44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exadecimal 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Binar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B6D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Binary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1101101101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10001001001001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into hexa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C493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34B-B747-4FFD-8A00-603083ED1C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roducing Myself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ry to pronounce my name:</a:t>
            </a:r>
            <a:br>
              <a:rPr sz="3200"/>
            </a:br>
            <a:br>
              <a:rPr sz="8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y office hou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d 2-3pm, WeH 8019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ntac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chensm@cs.cmu.edu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one: x8-514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E0E7-3506-439A-9D8A-44F79B729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inary</a:t>
            </a:r>
            <a:r>
              <a:rPr b="0" lang="en-US" sz="3200" spc="-1" strike="noStrike">
                <a:solidFill>
                  <a:srgbClr val="003399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Decim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101010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decim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4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et’s convert (37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to binary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Answer: (100101)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8C66-64F5-4ACE-ADD5-7B5A6CFB4E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signed and Two’s Comple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-bit intege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for the following unsigned representation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0000, 1111, 0101, 1000, 0111, 101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are the decimals if they are two’s complements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27AC7-8553-49CD-8819-4AB1AF1B8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Negate the following 8-bit two’s complemen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10001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11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0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10000000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-X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=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lement then add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17FE-ADC5-422D-B1EC-C7F5D477B6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2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 a bit from an integer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.g.   extract_a_bit (2, 1) = 1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tract_a_bit (2, 5) = 0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B27FB-816A-4733-8E48-4BF2D55B1EE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extract_a_bit (int x, int pos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eturn ((x&gt;&gt;pos)&amp;1);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5630-8777-4572-BEF0-DE00C22C456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actice Problem (3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ute the bit parity of an integer. Return 1 if there are odd number of 1s; return 0 if there are even number of 1s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??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514C-7B21-4B54-A33B-67E456C227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 Solutio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_parity (int x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16 = x ^ (x&gt;&gt;16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8 = word16 ^ (word16 &gt;&gt; 8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4 = word8 ^ (word8 &gt;&gt; 4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word2 = word4 ^ (word4 &gt;&gt; 2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nt bit = word2 ^ (word2 &gt;&gt; 1)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turn bit &amp; 1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4787-53ED-4AA4-A2B3-2A1B436C71A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mon Questions of L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X &lt;&lt; 32 doesn’t work!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ome compilers produce: X &lt;&lt; (shif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&amp;0x1f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ight shif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gical for unsigned in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ithmetic (sign extended) for signed int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not standard, but almost all compilers do this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4F81-5FD2-42F5-A25F-3200A25F9F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x and C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ting to know Make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mon pitfalls of C programming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63A15-6E93-412A-9B4C-7D95537F81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writing ru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le Format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targets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: 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prerequisi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command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..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gcc -O -Wall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762120" y="2666520"/>
            <a:ext cx="1371600" cy="810360"/>
            <a:chOff x="762120" y="2666520"/>
            <a:chExt cx="1371600" cy="810360"/>
          </a:xfrm>
        </p:grpSpPr>
        <p:sp>
          <p:nvSpPr>
            <p:cNvPr id="95" name=""/>
            <p:cNvSpPr/>
            <p:nvPr/>
          </p:nvSpPr>
          <p:spPr>
            <a:xfrm>
              <a:off x="762120" y="28954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ta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447920" y="2666520"/>
              <a:ext cx="6858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D2BB-5251-4AC0-BA83-A813E11CA4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: using variab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value of a variable is the string after the “=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FA70-A1F8-4D52-8A8C-2228A5538B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1 Make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# Student's Makefile for the CS:APP Data Lab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TEAM = ac00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ERSION = 1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DIR = /afs/cs.cmu.edu/academic/class/15213-f02/L1/handin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C = gc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FLAGS = -O -Wal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btest: btest.c bits.c decl.c tests.c btest.h bits.h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$(CC) $(CFLAGS) -o btest bits.c btest.c decl.c tes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handi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p bits.c $(HANDINDIR)/$(TEAM)-$(VERSION)-bits.c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clean: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m -f *.o btest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97657-BF69-41B0-BC52-2C1C65506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kefile Referen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NU Make Manu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o a google search for “GNU Make Manual”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2"/>
              </a:rPr>
              <a:t>www.gnu.org/manual/make/html_node/make_toc.htm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99A3-8EB6-4F33-BB86-803E0B7991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ATH enviro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What is PATH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directories to search for executable command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Times New Roman"/>
              </a:rPr>
              <a:t>How come the Unix shell can't find my program “btest"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” is not in the PATH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/bte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 “.” into PATH: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33"/>
                </a:solidFill>
                <a:uFillTx/>
                <a:latin typeface="Times New Roman"/>
                <a:hlinkClick r:id="rId1"/>
              </a:rPr>
              <a:t>http://www-2.cs.cmu.edu/afs/cs/academic/class/15213-f02/www/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1E7E5-4257-4C17-997A-D043ADC6A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itfalls of C Programming (1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ain ()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(int i=0; i&lt;10; i++) {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    ……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362320" y="3428640"/>
            <a:ext cx="5638680" cy="2182320"/>
            <a:chOff x="2362320" y="3428640"/>
            <a:chExt cx="5638680" cy="2182320"/>
          </a:xfrm>
        </p:grpSpPr>
        <p:sp>
          <p:nvSpPr>
            <p:cNvPr id="108" name=""/>
            <p:cNvSpPr/>
            <p:nvPr/>
          </p:nvSpPr>
          <p:spPr>
            <a:xfrm flipH="1" flipV="1">
              <a:off x="2362320" y="3428640"/>
              <a:ext cx="137160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4419720"/>
              <a:ext cx="434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Local Variables should be declared at the beginning of the proced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E1F6-DDD9-4BEA-ADFD-01191F91D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16T18:11:36Z</dcterms:modified>
  <cp:revision>53</cp:revision>
  <dc:subject/>
  <dc:title>PowerPoint Presentation</dc:title>
</cp:coreProperties>
</file>