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76EA-8F0E-4599-BF93-4C3989D35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2E56-CA7F-4E63-B380-45D6BAF34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EC39-3908-45F2-AE68-E91447D7F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DA78-9F61-42CE-9A2F-B94B1CD61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9495-0E6E-4D3A-A890-CE6C6D9D3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1A4C-D283-4A9E-9C19-0A508F75A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7CAE-0125-490A-8811-468B0546E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744A-BFE6-4EF9-AD2F-FA872CBC1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FAA5-8156-4741-9631-324B23936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4AF4-3070-4612-A8A9-286CEF0E1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D9CD-6703-4FD6-BAAD-275FB4592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C060-0686-4B93-940E-21886442B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0A08-298A-4C1E-8901-85432EAD2732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chensm@cs.cmu.edu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nu.org/manual/make/html_node/make_toc.html" TargetMode="External"/><Relationship Id="rId2" Type="http://schemas.openxmlformats.org/officeDocument/2006/relationships/hyperlink" Target="http://www.gnu.org/manual/make/html_node/make_toc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-2.cs.cmu.edu/afs/cs/academic/class/15213-f02/www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352680" y="37339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nix and 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laying with Bi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actice Problem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ept. 9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819520" y="3200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claring Local Vari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in (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 i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=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; i&lt;10; i++) 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    ……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B66B-8B28-4E24-ACFE-961A41DDE0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itfalls of C Programming (2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o cout,  cin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se printf, scanf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include &lt;stdio.h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ain (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{ int i = 15213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loat f = 1.5213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har str[20] = “15213”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intf (“integer: %d\n”, i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intf (“float: %f\n”, f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intf (“string: %s\n”, str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9F43-134B-4A5C-B5C5-672F92DE39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itfalls of C Programming (3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include &lt;stdio.h&gt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in (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int i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ar str[20]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anf (“%d”, i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anf (“%s”, str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35268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canf requires a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038120" y="3733920"/>
            <a:ext cx="12956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9AE2-B5A1-4640-AED0-6FCE04107A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ing Addresses to Call scanf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include &lt;stdio.h&gt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in (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int i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ar str[20]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anf (“%d”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amp;i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anf (“%s”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r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EF8F-1F1E-46FE-B838-B4AB9E779B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itfalls of C Programming (4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o “new”, “delete” operators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se “malloc” and “free”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include &lt;malloc.h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Procedure (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{char *buffer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uffer = (char *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alloc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(4096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f (buffer ==NULL) 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intf (“can’t allocate memory!\n”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xit (1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……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re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(buffer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3631-8612-49C9-8F3A-96EBC54351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urn on the Warning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pile with “-Wall”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eck and fix the warning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6D79-9F07-485D-A904-4012583536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laying with Bi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owers of 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inary, Hexadecimal, Decima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signed and Two’s Complem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7F65-2A03-4908-90FD-059D7D74EF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owers of 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write down 2</a:t>
            </a:r>
            <a:r>
              <a:rPr b="0" lang="en-US" sz="3200" spc="-1" strike="noStrike" baseline="30000">
                <a:solidFill>
                  <a:srgbClr val="00339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~ 2</a:t>
            </a:r>
            <a:r>
              <a:rPr b="0" lang="en-US" sz="3200" spc="-1" strike="noStrike" baseline="30000">
                <a:solidFill>
                  <a:srgbClr val="003399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1321-52B6-426C-AAAE-6AC315E840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exadecimal Digi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0~9, A, B, C, D, E, F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are the corresponding decimal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are the corresponding binary number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1CD3-3064-4CCE-97FC-A1DAE994B0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exadecimal 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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Bina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convert (3B6D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16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nto Binary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swer: (11101101101101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convert (1100010010010011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nto hexadecima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swer: (C493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9FA7-98E5-4CB7-A2C2-A35172D8D1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troducing Myself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ry to pronounce my name:</a:t>
            </a:r>
            <a:br>
              <a:rPr sz="3200"/>
            </a:br>
            <a:br>
              <a:rPr sz="8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y office hour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ed 2-3pm, WeH 8019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tact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Times New Roman"/>
                <a:hlinkClick r:id="rId1"/>
              </a:rPr>
              <a:t>chensm@cs.cmu.edu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hone: x8-5143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B281-BED1-48F1-BE9D-1CA32D098F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inary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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Decima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convert (101010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o decima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swer: 4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convert (37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o binar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swer: (100101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742C-A85A-4C7B-9A85-266C11CC3D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signed and Two’s Comple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-bit integ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are the decimals for the following unsigned representation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0000, 1111, 0101, 1000, 0111, 101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are the decimals if they are two’s complement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8DFE-833F-4FCA-9243-4396942F5A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actice Problem (1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egate the following 8-bit two’s complement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0100010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1001100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0000000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1000000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plement then add 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0731-468D-4D53-8DA1-8DCE818B2C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actice Problem (2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tract a bit from an integer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 extract_a_bit (int x, int pos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??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.g.   extract_a_bit (2, 1) = 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tract_a_bit (2, 5) = 0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E6CC-035B-47E8-9621-0C24155E86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Solu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 extract_a_bit (int x, int pos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turn ((x&gt;&gt;pos)&amp;1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C5BB-A1DE-4720-8189-09A05C01FE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actice Problem (3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pute the bit parity of an integer. Return 1 if there are odd number of 1s; return 0 if there are even number of 1s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 bit_parity (int x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??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E63F-DECB-4928-B6B9-E9CD382BA4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Solu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bit_parity (int x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word16 = x ^ (x&gt;&gt;16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word8 = word16 ^ (word16 &gt;&gt; 8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word4 = word8 ^ (word8 &gt;&gt; 4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word2 = word4 ^ (word4 &gt;&gt; 2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bit = word2 ^ (word2 &gt;&gt; 1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turn bit &amp; 1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D39F-D739-45F9-A47D-4FE696AB48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mon Questions of L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 &lt;&lt; 32 doesn’t work!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ome compilers produce: X &lt;&lt; (shif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&amp;0x1f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ight shift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ogical for unsigned in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ithmetic (sign extended) for signed int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not standard, but almost all compilers do this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396D-015A-474C-A188-B23FA3E57A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x and C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tting to know Makefi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ATH environm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mon pitfalls of C programm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9094-0705-487F-9225-A772F2EDF6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kefile: writing ru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ule Format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arget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erequisit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comman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test: btest.c bits.c decl.c tests.c btest.h bits.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gcc -O -Wall -o btest bits.c btest.c decl.c tests.c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62120" y="2666520"/>
            <a:ext cx="1371600" cy="810360"/>
            <a:chOff x="762120" y="2666520"/>
            <a:chExt cx="1371600" cy="810360"/>
          </a:xfrm>
        </p:grpSpPr>
        <p:sp>
          <p:nvSpPr>
            <p:cNvPr id="95" name=""/>
            <p:cNvSpPr/>
            <p:nvPr/>
          </p:nvSpPr>
          <p:spPr>
            <a:xfrm>
              <a:off x="762120" y="2895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t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447920" y="2666520"/>
              <a:ext cx="6858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2B36-67AA-4A97-9116-E328D8C426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kefile: using vari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C = gcc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FLAGS = -O -Wal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test: btest.c bits.c decl.c tests.c btest.h bits.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$(CC) $(CFLAGS) -o btest bits.c btest.c decl.c tests.c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value of a variable is the string after the “=”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FB83-2A1B-4A6B-AEE7-A0FD9F445D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1 Make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# Student's Makefile for the CS:APP Data Lab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EAM = ac0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ERSION = 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ANDINDIR = /afs/cs.cmu.edu/academic/class/15213-f02/L1/hand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C = gcc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FLAGS = -O -Wa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btest: btest.c bits.c decl.c tests.c btest.h bits.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$(CC) $(CFLAGS) -o btest bits.c btest.c decl.c tests.c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andin: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p bits.c $(HANDINDIR)/$(TEAM)-$(VERSION)-bits.c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lean: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rm -f *.o btes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AF1D-9CE2-4EAA-8EDD-AED45B9C68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kefile Refere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NU Make Manua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o a google search for “GNU Make Manual”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33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660033"/>
                </a:solidFill>
                <a:uFillTx/>
                <a:latin typeface="Times New Roman"/>
                <a:hlinkClick r:id="rId2"/>
              </a:rPr>
              <a:t>www.gnu.org/manual/make/html_node/make_toc.htm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319B-FB72-443C-86C1-5FA3EB5783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ATH environ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What is PATH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directories to search for executable comman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How come the Unix shell can't find my program “btest"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.” is not in the PAT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./btes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dd “.” into PATH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33"/>
                </a:solidFill>
                <a:uFillTx/>
                <a:latin typeface="Times New Roman"/>
                <a:hlinkClick r:id="rId1"/>
              </a:rPr>
              <a:t>http://www-2.cs.cmu.edu/afs/cs/academic/class/15213-f02/www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3F81-91AA-42B9-B51C-F03EAA23DB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itfalls of C Programming (1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in (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 (int i=0; i&lt;10; i++) 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    ……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362320" y="3428640"/>
            <a:ext cx="5638680" cy="2182320"/>
            <a:chOff x="2362320" y="3428640"/>
            <a:chExt cx="5638680" cy="2182320"/>
          </a:xfrm>
        </p:grpSpPr>
        <p:sp>
          <p:nvSpPr>
            <p:cNvPr id="108" name=""/>
            <p:cNvSpPr/>
            <p:nvPr/>
          </p:nvSpPr>
          <p:spPr>
            <a:xfrm flipH="1" flipV="1">
              <a:off x="2362320" y="3428640"/>
              <a:ext cx="137160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4419720"/>
              <a:ext cx="4343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Local Variables should be declared at the beginning of the proce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FE427-D92A-42A8-BCB1-3AE41BD693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09-16T18:11:36Z</dcterms:modified>
  <cp:revision>53</cp:revision>
  <dc:subject/>
  <dc:title>PowerPoint Presentation</dc:title>
</cp:coreProperties>
</file>