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4FAE-F07A-4A75-9919-68171B62A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CB86-B0EE-4E5A-8B79-16FA639D4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8C26-482A-4F1D-91A9-7CAE77B10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1562-792A-4B0B-A272-1ACD2906A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C85D-2A37-43B7-83B8-DFFF08D71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7ACE-B7CB-4589-8606-06548B5B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FE45-49E8-4A54-BEEE-4C34777E4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6BA8-D50F-45B0-800E-7DDDD90C6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78E1-3616-45E7-A8F8-D30A8FB58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AE61-0FA5-4749-9FA2-90EE536C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B4EA-147D-45B4-8388-2ABAA3D3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BD2D-06DB-46D5-9B91-375E4EC46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904-208A-4B90-AE3B-C319C61C66CA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hensm@cs.cmu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nu.org/manual/make/html_node/make_toc.html" TargetMode="External"/><Relationship Id="rId2" Type="http://schemas.openxmlformats.org/officeDocument/2006/relationships/hyperlink" Target="http://www.gnu.org/manual/make/html_node/make_toc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-2.cs.cmu.edu/afs/cs/academic/class/15213-f02/www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and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aying with Bi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actice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9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ing Local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=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23AA-53FC-4479-BCB1-602A89D443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cout,  ci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 int i = 1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loat f = 1.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ar str[20] = “15213”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integer: %d\n”, i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float: %f\n”, f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string: %s\n”, st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4F69-9605-486E-BE61-8C194A3A67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i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str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canf require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8120" y="3733920"/>
            <a:ext cx="12956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7CC6-BB75-43F5-B8AC-077C65968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Addresses to Call scanf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amp;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8741-6A46-407F-B223-6B230C517F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4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“new”, “delete” operator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“malloc” and “free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malloc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Procedure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char *buffe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uffer = (char *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llo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4096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f (buffer ==NULL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can’t allocate memory!\n”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xit (1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buffe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67CF-9BEB-424C-B6B2-F325DFA7DD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urn on the Warn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with “-Wall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and fix the warn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160A-A21C-4E89-BAB5-CABA346091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ying with B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inary, Hexadecimal,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AE79-36AC-4333-8A64-A2701A67C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write down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~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A817-6E59-4BB9-9F51-14AE3E524A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Dig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~9, A, B, C, D, E, 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decimal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binary number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4826-A281-4C64-BA84-907E2E3D24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Bin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B6D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Binary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1101101101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10001001001001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hexa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C493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0086-4C38-4A34-88A4-EDDC80AFC2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roducing Myself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y to pronounce my name:</a:t>
            </a:r>
            <a:br>
              <a:rPr sz="3200"/>
            </a:br>
            <a:br>
              <a:rPr sz="8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y office hou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d 2-3pm, WeH 80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c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chensm@cs.cmu.edu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one: x8-514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B6C6-E54C-4F29-80C0-840C7A8FA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Decim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01010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4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7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bina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00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2290-F5E5-43C4-A4F2-C286DE1B3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-bit integ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for the following unsigned representation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000, 1111, 0101, 1000, 0111, 101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if they are two’s complem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1F09-3FA6-470E-B6A3-BB08BF6CAB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gate the following 8-bit two’s complemen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10001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11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lement then add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CA26-057A-4456-9255-9D668EB0B1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 a bit from an intege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.g.   extract_a_bit (2, 1) =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_a_bit (2, 5) = 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858A-0435-4F6E-A5BB-0BE849F96D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((x&gt;&gt;pos)&amp;1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B0F0-1BE1-4CA2-8BF5-9C3963E3D5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ute the bit parity of an integer. Return 1 if there are odd number of 1s; return 0 if there are even number of 1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7271-7177-4687-8EBE-EE2B774507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16 = x ^ (x&gt;&gt;16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8 = word16 ^ (word16 &gt;&gt; 8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4 = word8 ^ (word8 &gt;&gt; 4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2 = word4 ^ (word4 &gt;&gt; 2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 = word2 ^ (word2 &gt;&gt; 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it &amp;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C7D8-9FE7-441C-836F-66D5513A49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on Questions of L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 &lt;&lt; 32 doesn’t work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me compilers produce: X &lt;&lt; (shif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amp;0x1f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ight shif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gical for unsigned i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ithmetic (sign extended) for signed in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not standard, but almost all compilers do thi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161F-C40F-47B4-BBA7-229308BEF6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and 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ting to know Make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mon pitfalls of C programm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38AB-A002-4045-8920-BA9F70A49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writing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le Forma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arget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man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cc -O -Wall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2666520"/>
            <a:ext cx="1371600" cy="810360"/>
            <a:chOff x="762120" y="2666520"/>
            <a:chExt cx="1371600" cy="810360"/>
          </a:xfrm>
        </p:grpSpPr>
        <p:sp>
          <p:nvSpPr>
            <p:cNvPr id="95" name=""/>
            <p:cNvSpPr/>
            <p:nvPr/>
          </p:nvSpPr>
          <p:spPr>
            <a:xfrm>
              <a:off x="762120" y="2895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7920" y="2666520"/>
              <a:ext cx="6858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383D-91EB-478B-B0AA-4D2C5E5CD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using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value of a variable is the string after the “=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201E-7A13-4ECE-B656-DDDA84905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 Make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# Student's Makefile for the CS:APP Data Lab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AM = ac0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ERSION = 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DIR = /afs/cs.cmu.edu/academic/class/15213-f02/L1/hand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p bits.c $(HANDINDIR)/$(TEAM)-$(VERSION)-bi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lea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m -f *.o btes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0179-DB7C-47C1-8916-3B6CB74958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 Refer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NU Make Manu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 a google search for “GNU Make Manu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2"/>
              </a:rPr>
              <a:t>www.gnu.org/manual/make/html_node/make_toc.htm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5ECC-23CD-4504-9FE1-E2D31F704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What is PATH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directories to search for executable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ow come the Unix shell can't find my program “btest"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” is not in th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/bte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 “.” into PAT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www-2.cs.cmu.edu/afs/cs/academic/class/15213-f02/www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2CA2-EE28-47C2-9A3D-8D011B5A15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int i=0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62320" y="3428640"/>
            <a:ext cx="5638680" cy="2182320"/>
            <a:chOff x="2362320" y="3428640"/>
            <a:chExt cx="5638680" cy="2182320"/>
          </a:xfrm>
        </p:grpSpPr>
        <p:sp>
          <p:nvSpPr>
            <p:cNvPr id="108" name=""/>
            <p:cNvSpPr/>
            <p:nvPr/>
          </p:nvSpPr>
          <p:spPr>
            <a:xfrm flipH="1" flipV="1">
              <a:off x="2362320" y="3428640"/>
              <a:ext cx="137160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441972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Local Variables should be declared at the beginning of the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FA2F-D414-4EAF-A906-1131C1A95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1:36Z</dcterms:modified>
  <cp:revision>53</cp:revision>
  <dc:subject/>
  <dc:title>PowerPoint Presentation</dc:title>
</cp:coreProperties>
</file>