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501-57EA-4ACA-BA7A-B5A6401D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9DD7-52F5-40EF-A098-EE298E91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BAF0-C3EE-409E-9A72-29A17465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B45F-60CD-430D-93FC-6D0C7019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9F0F-5B57-4F79-BA1C-8E1E1702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84EE-6513-46A7-ACD5-E8B4E0D4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4E14-0B42-4067-BA30-2375FE3D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78F5-3C25-49F1-AF21-8F2F7E73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CC5F-3CA7-43EF-A645-98328A9B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3872-CD53-4191-B60F-D9FC1DE7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8FF-2DB5-408C-B5DA-91DBAFA5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8975-7B48-4457-94E5-BE699218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BAAB-29D8-4091-982B-2228465A1AEE}" type="slidenum"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15213 C Primer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17 September 2002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Breaking down the cod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clude the contents of the file stdio.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ase sensitive – lower case onl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 semicolon at the end of lin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ain(…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OS calls this function when the program starts running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printf(format_string, arg1, …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Prints out a string, specified by the format string and the argument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ormat_string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"/>
              </a:rPr>
              <a:t>Composed of ordinary characters (not %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Copied unchanged into the outpu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Lucida Sans"/>
              </a:rPr>
              <a:t>Conversion specifications (start with %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Fetches one or more arg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"/>
              </a:rPr>
              <a:t>For exampl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33cc"/>
                </a:solidFill>
                <a:latin typeface="Courier New"/>
              </a:rPr>
              <a:t>float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or more details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n 3 printf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 Preprocessor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#def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FIFTEEN_TWO_THIRTEEN \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The Class That Gives CMU Its Zip\n"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rgc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argv[]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FIFTEEN_TWO_THIRTEEN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fter the preprocessor (gcc –E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rgc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argv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The Class That Gives CMU Its Zip\n"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onditional Compilation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#defin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S21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rgc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argv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#ifde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CS213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The Class That Gives CMU Its Zip\n"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#els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Some other class\n"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#endif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fter the preprocessor (gcc –E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rgc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argv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The Class That Gives CMU Its Zip\n"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mmand Line Arguments (1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i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 argc, </a:t>
            </a:r>
            <a:r>
              <a:rPr b="1" i="1" lang="en-US" sz="28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* argv[]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gc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umber of arguments (including program nam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gv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rray of char*s (that is, an array of ‘c’ strings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gv[0]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= program nam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gv[1]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= first argum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rgv[argc-1]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: last argumen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mmand Line Arguments (2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rgc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argv[]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%d arguments\n", argc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i = 0; i &lt; argc; i++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  %d: %s\n", i, argv[i]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Command Line Arguments (3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 ./cmdline The Class That Gives CMU Its Zi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8 argu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: ./cmdlin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: T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2: Clas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: Tha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: Giv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5: CMU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6: I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7: Zi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rray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foo[80]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n array of 80 character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(foo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 80 ×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(cha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 80 × 1 = 80 by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bar[40]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n array of 40 integer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(ba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 40 ×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zeof(int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= 40 × 4 = 160 by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Overview comparison of C and Jav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Good even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reprocesso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ommand line argument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rrays and structur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ointers and dynamic memor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Structur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ggregate dat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struc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    name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age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; </a:t>
            </a:r>
            <a:r>
              <a:rPr b="1" lang="en-US" sz="1400" spc="-1" strike="noStrike">
                <a:solidFill>
                  <a:srgbClr val="009900"/>
                </a:solidFill>
                <a:latin typeface="Courier New"/>
              </a:rPr>
              <a:t>/* &lt;== DO NOT FORGET the semicolon */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rgc,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argv[])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struc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name bovik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vik.name = "Harry Bovik"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vik.age = 25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%s is %d years old\n", bovik.name, bovik.age)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Pointer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ointers are variables that hold an address in memory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at address contains another variable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4191120"/>
            <a:ext cx="8839440" cy="533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5         10                   12.5                       9. 8    c   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1360" y="24703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x = 5, y =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loat f = 12.5, g = 9.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c = ‘c’, d = ‘d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45820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2468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840" y="47973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73520" y="47973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3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8800" y="47973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3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15440" y="4800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3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810920" y="5486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3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29960" y="51055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43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emory layout and address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924680" y="480024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8381880" y="480024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8080" y="5105520"/>
            <a:ext cx="7315200" cy="1600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438280"/>
            <a:ext cx="7315200" cy="1828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90720" y="2496960"/>
            <a:ext cx="7010280" cy="1620000"/>
            <a:chOff x="990720" y="2496960"/>
            <a:chExt cx="7010280" cy="1620000"/>
          </a:xfrm>
        </p:grpSpPr>
        <p:sp>
          <p:nvSpPr>
            <p:cNvPr id="104" name=""/>
            <p:cNvSpPr/>
            <p:nvPr/>
          </p:nvSpPr>
          <p:spPr>
            <a:xfrm>
              <a:off x="990720" y="3004920"/>
              <a:ext cx="1752480" cy="579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09880" y="3004920"/>
              <a:ext cx="1752840" cy="579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49720" y="25300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32200" y="25635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_add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49720" y="36572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3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13520" y="36572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3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00600" y="32936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3004920"/>
              <a:ext cx="1752480" cy="579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38600" y="2496960"/>
              <a:ext cx="12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y flo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25200" y="3584160"/>
              <a:ext cx="161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y add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990720" y="5121360"/>
            <a:ext cx="4572000" cy="1586880"/>
            <a:chOff x="990720" y="5121360"/>
            <a:chExt cx="4572000" cy="1586880"/>
          </a:xfrm>
        </p:grpSpPr>
        <p:sp>
          <p:nvSpPr>
            <p:cNvPr id="115" name=""/>
            <p:cNvSpPr/>
            <p:nvPr/>
          </p:nvSpPr>
          <p:spPr>
            <a:xfrm>
              <a:off x="990720" y="5596200"/>
              <a:ext cx="1752480" cy="579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9880" y="5596200"/>
              <a:ext cx="1752840" cy="579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3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49720" y="51213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32200" y="515484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_add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49720" y="62485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3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13520" y="62485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3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286000" y="58500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Using Pointers (1)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;    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* data variable */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f_addr;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* pointer variable */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_addr = &amp;f;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* &amp; = address operator */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38080" y="5105520"/>
            <a:ext cx="7315200" cy="1600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2209680"/>
            <a:ext cx="7315200" cy="1600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Pointers made easy (2)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f_addr = 3.2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* indirection operator */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floa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g = *f_addr;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* indirection: g is now 3.2 */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1.3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/* but g is still 3.2 */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066680" y="2225520"/>
            <a:ext cx="4572000" cy="1586880"/>
            <a:chOff x="1066680" y="2225520"/>
            <a:chExt cx="4572000" cy="1586880"/>
          </a:xfrm>
        </p:grpSpPr>
        <p:sp>
          <p:nvSpPr>
            <p:cNvPr id="129" name=""/>
            <p:cNvSpPr/>
            <p:nvPr/>
          </p:nvSpPr>
          <p:spPr>
            <a:xfrm>
              <a:off x="1525680" y="2225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08160" y="225900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_add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5680" y="3352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3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89480" y="3352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3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066680" y="2700360"/>
              <a:ext cx="4572000" cy="579240"/>
              <a:chOff x="1066680" y="2700360"/>
              <a:chExt cx="4572000" cy="579240"/>
            </a:xfrm>
          </p:grpSpPr>
          <p:sp>
            <p:nvSpPr>
              <p:cNvPr id="134" name=""/>
              <p:cNvSpPr/>
              <p:nvPr/>
            </p:nvSpPr>
            <p:spPr>
              <a:xfrm>
                <a:off x="1066680" y="2700360"/>
                <a:ext cx="1752480" cy="5792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.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885840" y="2700360"/>
                <a:ext cx="1752840" cy="5792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3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2361960" y="2954160"/>
                <a:ext cx="19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1066680" y="5105520"/>
            <a:ext cx="4572000" cy="1586880"/>
            <a:chOff x="1066680" y="5105520"/>
            <a:chExt cx="4572000" cy="1586880"/>
          </a:xfrm>
        </p:grpSpPr>
        <p:sp>
          <p:nvSpPr>
            <p:cNvPr id="138" name=""/>
            <p:cNvSpPr/>
            <p:nvPr/>
          </p:nvSpPr>
          <p:spPr>
            <a:xfrm>
              <a:off x="1525680" y="51055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08160" y="513900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_add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25680" y="6232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3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89480" y="6232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3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066680" y="5580360"/>
              <a:ext cx="4572000" cy="579240"/>
              <a:chOff x="1066680" y="5580360"/>
              <a:chExt cx="4572000" cy="579240"/>
            </a:xfrm>
          </p:grpSpPr>
          <p:sp>
            <p:nvSpPr>
              <p:cNvPr id="143" name=""/>
              <p:cNvSpPr/>
              <p:nvPr/>
            </p:nvSpPr>
            <p:spPr>
              <a:xfrm>
                <a:off x="1066680" y="5580360"/>
                <a:ext cx="1752480" cy="5792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.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885840" y="5580360"/>
                <a:ext cx="1752840" cy="5792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3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361960" y="5834160"/>
                <a:ext cx="190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unction Parameters 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unction arguments are passed “by value”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What is “pass by value”?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called function is given a copy of the argument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What does this imply?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called function can’t alter a variable in the caller function, but its private copy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ree examp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1: swap_1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752480"/>
            <a:ext cx="495288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wap_1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e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mp =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7524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:  Let x=3,  y=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fter swap_1(x,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 =?  y=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28640" y="304632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1: x=4; y=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44480" y="376236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2: x=3; y=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83120" y="33130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2: swap_2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752480"/>
            <a:ext cx="525780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wap_2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a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e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mp = *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a = *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b = te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175248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:  Let x=3,  y=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fter swap_2(&amp;x,&amp;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 =?  y=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04600" y="358128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1: x=3; y=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20440" y="429732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2: x=4; y=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381780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3: scanf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1752480"/>
            <a:ext cx="457200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f(“%d\n”, &amp;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“%d\n”, 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18288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:  Why using pointers in scan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28195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: We need to assign the value to 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Dynamic Memory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Java manages memory for you, C does no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 requires the programmer to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explicitly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allocate and deallocate memor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Unknown amounts of memory can be allocated dynamically during run-time with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lloc(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and deallocated u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ee(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What we will cover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crash course in the basics of C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ou should read the K&amp;R C book for lots more detail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Not like Java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N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ew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No garbage collec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ou ask for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byt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ot a high-level request such a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“I’d like an instance of clas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malloc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llocates memory in the heap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ives between function invocation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llocate an intege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iptr =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) malloc(sizeof(int)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llocate a structu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ame* nameptr = 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ame*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lloc(sizeof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ame)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re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Deallocates memory in heap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ass in a pointer that was returned by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alloc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 iptr =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*) malloc(sizeof(int))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ee(iptr)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aveat: don’t free the same memory block twice!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Lucida Sans"/>
              </a:rPr>
              <a:t>Like Java, like C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perators same as Java: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rithmeti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 = i+1; i++; i--; i *= 2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, -, *, /, %,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elational and Logica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, &gt;, &lt;=, &gt;=, ==, !=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&amp;, ||, &amp;, |, 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yntax same as in Java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 ) { }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 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 ) { 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 }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 )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=1; i &lt;= 100; i++) { 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switc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 ) {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cas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1: … 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contin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datatype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size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Sans"/>
              </a:rPr>
              <a:t>valu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char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1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-128 to 12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short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2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-32,768 to 32,76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int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-2,147,483,648 to 2,147,483,64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long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-2,147,483,648 to 2,147,483,647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float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4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3.4E+/-38 (7 digits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double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8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1.7E+/-308 (15 digits long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Simple Data Typ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Java programmer gotchas (1)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i = 0; i &lt; 10; i++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 = 0; i &lt; 10; i++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Java programmer gotchas (2)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Uninitialized variabl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atch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–Wall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compiler op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rgc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argv[]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ctorial(i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Java programmer gotchas (3)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rror handl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o exception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ust look at return valu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Good evening”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main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rgc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 argv[]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* print a greeting */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Good evening!\n"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0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5029200"/>
            <a:ext cx="443556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$ ./goodev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Good ev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$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12:41:52Z</dcterms:created>
  <dc:creator>Andrew Robert Faulring</dc:creator>
  <dc:description/>
  <dc:language>en-US</dc:language>
  <cp:lastModifiedBy>Andrew Robert Faulring</cp:lastModifiedBy>
  <dcterms:modified xsi:type="dcterms:W3CDTF">2002-09-17T18:53:03Z</dcterms:modified>
  <cp:revision>136</cp:revision>
  <dc:subject/>
  <dc:title>C</dc:title>
</cp:coreProperties>
</file>