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DB6-204F-49C3-A8D3-00A3DBBC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D35-F158-4316-B161-846CC684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8DD-E5B1-47FF-8AEE-35A47CD9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EE6-C30E-48C0-B7A6-4AF5E868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CC2-471C-499A-BAF8-103A9B55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EB7-A826-4CA4-AAA9-24E97C8A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4E3-08D5-4309-8158-2B3B27BE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27A-C899-4635-80CA-DD6786C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E7E-F2AC-482B-854E-CC50DFCE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4BC-3ED6-4D7B-8F21-04B0C269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7FD-9BF2-4FDB-8FB0-774103C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99C-AD91-4DB1-8535-FF8B09E4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825-08EA-45EB-AC4A-CA59E3B44447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15213 C Prim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7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reaking down the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lude the contents of the file stdio.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se sensitive – lower case onl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semicolon at the end of 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OS calls this function when the program starts running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rintf(format_string, arg1,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ints out a string, specified by the format string and the argume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ormat_st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mposed of ordinary characters (not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pied unchanged into the outpu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nversion specifications (start with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etches one or more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 more detail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3 print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 Preprocesso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FTEEN_TWO_THIRTEEN \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he Class That Gives CMU Its Zip\n"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FIFTEEN_TWO_THIRTEEN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onditional Compila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f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Some other class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* argv[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arguments (including program nam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v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ray of char*s (that is, an array of ‘c’ string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0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program na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fir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argc-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la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arguments\n", argc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 = 0; i &lt; argc; i++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  %d: %s\n", i, argv[i]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cmdline The Class That Gives CMU Its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: ./cmd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Clas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Th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Giv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CM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: 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: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oo[8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80 charac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fo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ch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1 = 8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bar[4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40 integ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b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in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4 = 16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view comparison of C and Jav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eve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rocesso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rrays and structur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nd dynamic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ggregate da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nam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ag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 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/* &lt;== DO NOT FORGET the semicolon */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 bovik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name = "Harry Bovik"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age = 25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s is %d years old\n", bovik.name, bovik.age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re variables that hold an address in memory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t address contains another variabl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4191120"/>
            <a:ext cx="883944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         10                   12.5                       9. 8    c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360" y="24703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5, y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f = 12.5, g = 9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c = ‘c’, d = ‘d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58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84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352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880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15440" y="4800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0920" y="5486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9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mory layout and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24680" y="48002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381880" y="4800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7315200" cy="182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2496960"/>
            <a:ext cx="7010280" cy="1620000"/>
            <a:chOff x="990720" y="2496960"/>
            <a:chExt cx="7010280" cy="1620000"/>
          </a:xfrm>
        </p:grpSpPr>
        <p:sp>
          <p:nvSpPr>
            <p:cNvPr id="104" name=""/>
            <p:cNvSpPr/>
            <p:nvPr/>
          </p:nvSpPr>
          <p:spPr>
            <a:xfrm>
              <a:off x="9907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300492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9720" y="2530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563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97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35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0600" y="32936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8600" y="249696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flo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5200" y="358416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990720" y="5121360"/>
            <a:ext cx="4572000" cy="1586880"/>
            <a:chOff x="990720" y="5121360"/>
            <a:chExt cx="4572000" cy="1586880"/>
          </a:xfrm>
        </p:grpSpPr>
        <p:sp>
          <p:nvSpPr>
            <p:cNvPr id="115" name=""/>
            <p:cNvSpPr/>
            <p:nvPr/>
          </p:nvSpPr>
          <p:spPr>
            <a:xfrm>
              <a:off x="990720" y="559620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559620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9720" y="512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2200" y="5154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97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35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86000" y="5850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Pointer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;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data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f_addr;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pointer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_addr = &amp;f;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&amp; = address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 made easy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f_addr = 3.2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*f_addr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: g is now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1.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but g is still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2225520"/>
            <a:ext cx="4572000" cy="1586880"/>
            <a:chOff x="1066680" y="2225520"/>
            <a:chExt cx="4572000" cy="1586880"/>
          </a:xfrm>
        </p:grpSpPr>
        <p:sp>
          <p:nvSpPr>
            <p:cNvPr id="129" name=""/>
            <p:cNvSpPr/>
            <p:nvPr/>
          </p:nvSpPr>
          <p:spPr>
            <a:xfrm>
              <a:off x="1525680" y="222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160" y="225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6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94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66680" y="2700360"/>
              <a:ext cx="4572000" cy="579240"/>
              <a:chOff x="1066680" y="2700360"/>
              <a:chExt cx="4572000" cy="579240"/>
            </a:xfrm>
          </p:grpSpPr>
          <p:sp>
            <p:nvSpPr>
              <p:cNvPr id="134" name=""/>
              <p:cNvSpPr/>
              <p:nvPr/>
            </p:nvSpPr>
            <p:spPr>
              <a:xfrm>
                <a:off x="1066680" y="270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85840" y="270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361960" y="295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066680" y="5105520"/>
            <a:ext cx="4572000" cy="1586880"/>
            <a:chOff x="1066680" y="5105520"/>
            <a:chExt cx="4572000" cy="1586880"/>
          </a:xfrm>
        </p:grpSpPr>
        <p:sp>
          <p:nvSpPr>
            <p:cNvPr id="138" name=""/>
            <p:cNvSpPr/>
            <p:nvPr/>
          </p:nvSpPr>
          <p:spPr>
            <a:xfrm>
              <a:off x="1525680" y="510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8160" y="513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56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94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5580360"/>
              <a:ext cx="4572000" cy="579240"/>
              <a:chOff x="1066680" y="5580360"/>
              <a:chExt cx="4572000" cy="579240"/>
            </a:xfrm>
          </p:grpSpPr>
          <p:sp>
            <p:nvSpPr>
              <p:cNvPr id="143" name=""/>
              <p:cNvSpPr/>
              <p:nvPr/>
            </p:nvSpPr>
            <p:spPr>
              <a:xfrm>
                <a:off x="1066680" y="558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5840" y="558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1960" y="583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tion Parameters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unction arguments are passed “by value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is “pass by value”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is given a copy of the argument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does this imply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can’t alter a variable in the caller function, but its private cop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ree 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swap_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4952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1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752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1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8640" y="3046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44480" y="376236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3120" y="33130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swap_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752480"/>
            <a:ext cx="52578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2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 = 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7524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2(&amp;x,&amp;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04600" y="35812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0440" y="4297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81780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canf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45720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f(“%d\n”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%d\n”,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828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Why using pointers in scan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2819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: We need to assign the value to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Dynamic Memor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ava manages memory for you, C does no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 requires the programmer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plicitl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llocate and deallocate memo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known amounts of memory can be allocated dynamically during run-time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nd deallocated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we will cov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crash course in the basics of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should read the K&amp;R C book for lots more detai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ot like 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garbage colle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ask for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yt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 a high-level request such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“I’d like an instance of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llo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s memory in the hea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ives between function invoca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n integ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 structu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 nameptr = 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sizeof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allocates memory in heap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ss in a pointer that was returned b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iptr)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aveat: don’t free the same memory block twice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Lucida Sans"/>
              </a:rPr>
              <a:t>Like Java, like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erators same as Java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= i+1; i++; i--; i *= 2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, -, *, /, %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onal and Logi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, ||, &amp;, |,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ntax same as in Java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)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=1; i &lt;= 100; i++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: …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ontin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atatyp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siz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har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128 to 12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hor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32,768 to 32,76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in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ong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loa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3.4E+/-38 (7 dig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oubl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8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.7E+/-308 (15 digits lo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Data Typ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ninitialized variab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tch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Wal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ompiler op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i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3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 excep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st look at return valu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ood evening”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print a greeting */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Good evening!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029200"/>
            <a:ext cx="44355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./goodev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ood ev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2:41:52Z</dcterms:created>
  <dc:creator>Andrew Robert Faulring</dc:creator>
  <dc:description/>
  <dc:language>en-US</dc:language>
  <cp:lastModifiedBy>Andrew Robert Faulring</cp:lastModifiedBy>
  <dcterms:modified xsi:type="dcterms:W3CDTF">2002-09-17T18:53:03Z</dcterms:modified>
  <cp:revision>136</cp:revision>
  <dc:subject/>
  <dc:title>C</dc:title>
</cp:coreProperties>
</file>