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D0A-4B0B-4A8F-BAE8-F9BE696A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B28-A9A2-417C-BE33-D2024B8C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E77-41D6-4FA6-90F9-42E55A2E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73D-47A5-49DB-BA29-7E30FFD4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379-ADD6-4A5F-BA6D-C8812E6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CD0-30DD-4D89-978A-E205A777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80D-A7AB-4079-9E3D-86759EE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D11-62DD-4196-8DA6-B51209D2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21D-A550-4393-A819-AB2CAF1B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869-7730-4790-ABFB-DC04F10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3AE-C8A4-47FE-9FC7-6C89E2C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AB0-BB17-4A32-BA5B-F0E41CA3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937A-B4DC-4141-88DD-5F53AFD11570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15213 C Prime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7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reaking down the co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clude the contents of the file stdio.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se sensitive – lower case onl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semicolon at the end of l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in(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OS calls this function when the program starts running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rintf(format_string, arg1,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ints out a string, specified by the format string and the argume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ormat_st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"/>
              </a:rPr>
              <a:t>Composed of ordinary characters (not %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pied unchanged into the outpu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"/>
              </a:rPr>
              <a:t>Conversion specifications (start with %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Fetches one or more arg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or more detail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3 print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 Preprocesso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FTEEN_TWO_THIRTEEN \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The Class That Gives CMU Its Zip\n"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FIFTEEN_TWO_THIRTEEN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fter the preprocessor (gcc –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onditional Compila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S2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f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S2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Some other class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fter the preprocessor (gcc –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1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* argv[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g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arguments (including program nam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gv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ray of char*s (that is, an array of ‘c’ string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0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= program na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1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= first arg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argc-1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last arg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2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arguments\n", argc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 = 0; i &lt; argc; i++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  %d: %s\n", i, argv[i]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cmdline The Class That Gives CMU Its Z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arg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: ./cmdl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Clas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Th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Giv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CM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: 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: Z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foo[80]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array of 80 charac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fo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80 ×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ch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80 × 1 = 80 by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bar[40]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array of 40 integ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b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40 ×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in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40 × 4 = 160 by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view comparison of C and Jav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od eve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eprocesso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mand line argum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rrays and structur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inters and dynamic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ggregate da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name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age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 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/* &lt;== DO NOT FORGET the semicolon */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ame bovik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vik.name = "Harry Bovik"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vik.age = 25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%s is %d years old\n", bovik.name, bovik.age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inters are variables that hold an address in memory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at address contains another variabl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4191120"/>
            <a:ext cx="883944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         10                   12.5                       9. 8    c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360" y="24703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 = 5, y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f = 12.5, g = 9.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c = ‘c’, d = ‘d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58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84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352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880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15440" y="4800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0920" y="5486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9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mory layout and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24680" y="48002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381880" y="4800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510552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7315200" cy="182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2496960"/>
            <a:ext cx="7010280" cy="1620000"/>
            <a:chOff x="990720" y="2496960"/>
            <a:chExt cx="7010280" cy="1620000"/>
          </a:xfrm>
        </p:grpSpPr>
        <p:sp>
          <p:nvSpPr>
            <p:cNvPr id="104" name=""/>
            <p:cNvSpPr/>
            <p:nvPr/>
          </p:nvSpPr>
          <p:spPr>
            <a:xfrm>
              <a:off x="990720" y="300492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3004920"/>
              <a:ext cx="175284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9720" y="2530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5635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9720" y="3657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3520" y="3657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0600" y="32936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300492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38600" y="249696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flo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5200" y="358416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990720" y="5121360"/>
            <a:ext cx="4572000" cy="1586880"/>
            <a:chOff x="990720" y="5121360"/>
            <a:chExt cx="4572000" cy="1586880"/>
          </a:xfrm>
        </p:grpSpPr>
        <p:sp>
          <p:nvSpPr>
            <p:cNvPr id="115" name=""/>
            <p:cNvSpPr/>
            <p:nvPr/>
          </p:nvSpPr>
          <p:spPr>
            <a:xfrm>
              <a:off x="990720" y="559620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5596200"/>
              <a:ext cx="175284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9720" y="512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2200" y="51548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9720" y="6248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13520" y="6248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86000" y="5850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ing Pointers (1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;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data variable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f_addr;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pointer variable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_addr = &amp;f;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&amp; = address operator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510552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ointers made easy (2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f_addr = 3.2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indirection operator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*f_addr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indirection: g is now 3.2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1.3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but g is still 3.2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2225520"/>
            <a:ext cx="4572000" cy="1586880"/>
            <a:chOff x="1066680" y="2225520"/>
            <a:chExt cx="4572000" cy="1586880"/>
          </a:xfrm>
        </p:grpSpPr>
        <p:sp>
          <p:nvSpPr>
            <p:cNvPr id="129" name=""/>
            <p:cNvSpPr/>
            <p:nvPr/>
          </p:nvSpPr>
          <p:spPr>
            <a:xfrm>
              <a:off x="1525680" y="2225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160" y="2259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680" y="33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9480" y="33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66680" y="2700360"/>
              <a:ext cx="4572000" cy="579240"/>
              <a:chOff x="1066680" y="2700360"/>
              <a:chExt cx="4572000" cy="579240"/>
            </a:xfrm>
          </p:grpSpPr>
          <p:sp>
            <p:nvSpPr>
              <p:cNvPr id="134" name=""/>
              <p:cNvSpPr/>
              <p:nvPr/>
            </p:nvSpPr>
            <p:spPr>
              <a:xfrm>
                <a:off x="1066680" y="2700360"/>
                <a:ext cx="175248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85840" y="2700360"/>
                <a:ext cx="175284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361960" y="2954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066680" y="5105520"/>
            <a:ext cx="4572000" cy="1586880"/>
            <a:chOff x="1066680" y="5105520"/>
            <a:chExt cx="4572000" cy="1586880"/>
          </a:xfrm>
        </p:grpSpPr>
        <p:sp>
          <p:nvSpPr>
            <p:cNvPr id="138" name=""/>
            <p:cNvSpPr/>
            <p:nvPr/>
          </p:nvSpPr>
          <p:spPr>
            <a:xfrm>
              <a:off x="1525680" y="5105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8160" y="5139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5680" y="623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9480" y="623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5580360"/>
              <a:ext cx="4572000" cy="579240"/>
              <a:chOff x="1066680" y="5580360"/>
              <a:chExt cx="4572000" cy="579240"/>
            </a:xfrm>
          </p:grpSpPr>
          <p:sp>
            <p:nvSpPr>
              <p:cNvPr id="143" name=""/>
              <p:cNvSpPr/>
              <p:nvPr/>
            </p:nvSpPr>
            <p:spPr>
              <a:xfrm>
                <a:off x="1066680" y="5580360"/>
                <a:ext cx="175248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5840" y="5580360"/>
                <a:ext cx="175284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1960" y="5834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tion Parameters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unction arguments are passed “by value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hat is “pass by value”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called function is given a copy of the argument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hat does this imply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called function can’t alter a variable in the caller function, but its private cop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ree examp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swap_1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2480"/>
            <a:ext cx="4952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wap_1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752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Let x=3,  y=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fter swap_1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=?  y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8640" y="30463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1: x=4; y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44480" y="376236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2: x=3; y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83120" y="33130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swap_2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752480"/>
            <a:ext cx="525780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wap_2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a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 = 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a = 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7524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Let x=3,  y=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fter swap_2(&amp;x,&amp;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=?  y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04600" y="358128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1: x=3; y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0440" y="42973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2: x=4; y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81780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scanf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457200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f(“%d\n”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“%d\n”, 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828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Why using pointers in scan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2819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: We need to assign the value to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Dynamic Memor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ava manages memory for you, C does no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 requires the programmer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plicitl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allocate and deallocate memo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known amounts of memory can be allocated dynamically during run-time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and deallocated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e(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we will cove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crash course in the basics of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 should read the K&amp;R C book for lots more detai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ot like 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garbage colle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 ask for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byt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t a high-level request such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“I’d like an instance of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allo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cates memory in the hea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ives between function invocation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an integ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iptr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) malloc(sizeof(int)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a structu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* nameptr = 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*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sizeof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)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allocates memory in heap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ss in a pointer that was returned b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 iptr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) malloc(sizeof(int)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e(iptr)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aveat: don’t free the same memory block twice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Lucida Sans"/>
              </a:rPr>
              <a:t>Like Java, like 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erators same as Java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= i+1; i++; i--; i *= 2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, -, *, /, %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onal and Logi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, ||, &amp;, |,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ntax same as in Java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) { }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}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=1; i &lt;= 100; i++)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wi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 {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: …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ontin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atatype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size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har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128 to 12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hor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32,768 to 32,76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in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2,147,483,648 to 2,147,483,64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ong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2,147,483,648 to 2,147,483,64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loa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3.4E+/-38 (7 dig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oubl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8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1.7E+/-308 (15 digits lo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imple Data Typ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1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 = 0; i &lt; 10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= 0; i &lt; 10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2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ninitialized variab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tch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Wal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ompiler op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i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3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 exception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st look at return valu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ood evening”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print a greeting */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Good evening!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029200"/>
            <a:ext cx="44355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 ./goodev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ood ev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2:41:52Z</dcterms:created>
  <dc:creator>Andrew Robert Faulring</dc:creator>
  <dc:description/>
  <dc:language>en-US</dc:language>
  <cp:lastModifiedBy>Andrew Robert Faulring</cp:lastModifiedBy>
  <dcterms:modified xsi:type="dcterms:W3CDTF">2002-09-17T18:53:03Z</dcterms:modified>
  <cp:revision>136</cp:revision>
  <dc:subject/>
  <dc:title>C</dc:title>
</cp:coreProperties>
</file>