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CA9E2C6-9D88-4102-BC7F-8803BFC3FE5C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ing with Thread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ed for synchro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with semaph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safety and reentra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s and dead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2400" y="2301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528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2400" y="1692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280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denotes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08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108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272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988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700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31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7760" y="4802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560" y="41072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76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560" y="27057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0920" y="4657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85920" y="464508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920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092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592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84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920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616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092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592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4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8616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092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5920" y="2536920"/>
            <a:ext cx="381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4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2092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592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84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616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0296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04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360" y="2176920"/>
            <a:ext cx="81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53532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332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75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9244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940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04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56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056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704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jectories in 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itical Sections and Unsafe Reg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itical sect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944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and Unsafe Traject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944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mus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ynchroniz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hreads so that they never enter an unsafe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maphore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n-negative integer synchronization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 (s == 0) wait(); s--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Proberen" (t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++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Verhogen" (incremen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S guarantees that operations between brackets [ ] are executed indivisib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one P or V operation at a time can modify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oop in P terminates, only that P can decrement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1680"/>
            <a:ext cx="83073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re is how we would  use P and V operations to synchronize the threads that updat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57720" y="2655360"/>
            <a:ext cx="4082040" cy="340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emaphore s is initially 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rbidden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7728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2816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3960" y="5838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680" y="8823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0196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5440" y="4482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5440" y="2136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4000" y="387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73600" y="332856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4520" y="2241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44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53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94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703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760" y="5864400"/>
            <a:ext cx="878760" cy="580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66720" y="134208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s in Threaded C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392120"/>
            <a:ext cx="83073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Which variables  in a threaded C program are shared variable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the memory model for thread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are variables mapped to memory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many threads reference each of these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ing With 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em, 0, 1); /* sem=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3800" y="2557440"/>
            <a:ext cx="8729640" cy="43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mon synchronization patter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gnals” in this context has nothing to do with Unix signa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creates MPEG video frames, consumer renders the fram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er retrieves events from buffer and paints the displa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on a Buffer That Holds One I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0840" y="1516320"/>
            <a:ext cx="3716280" cy="365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1496160"/>
            <a:ext cx="481356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 Safe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1: Failing to protect shared vari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2: Relying on persistent state across invoc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3: Returning a pointer to a static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4: Calling thread-unsafe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692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Use P and V semaphore oper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sue: Synchronization operations will slow down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oodcnt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991800"/>
            <a:ext cx="8548920" cy="19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 number generator relies on static sta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Rewrite function so that caller passes in all necessary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96760" y="3021120"/>
            <a:ext cx="689004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and - return pseudo-random integer on 0..32767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and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int next = 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next*1103515245 + 12345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unsigned int)(next/65536) % 32768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rand - set seed for ran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rand(unsigned int see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see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8560" y="914400"/>
            <a:ext cx="4089240" cy="55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3: Returning a ptr to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es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Rewrite code so caller passe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changes in caller and calle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only simple changes in caller (and none in  call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ever, caller must free memor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97480" y="30376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1520" y="2832120"/>
            <a:ext cx="574560" cy="304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6400" y="3944880"/>
            <a:ext cx="931680" cy="214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one thread-unsafe function makes an entire function thread-unsaf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Modify the function so it calls only thread-saf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64137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entran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89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 function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ff it accesses NO shared variables when called from multiple thread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ceptual model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has its own separate thread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read ID, stack, stack pointer, program counter, condition codes, and general purpose register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data, heap, and shared library segments of the process virtual address spac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pen files and installed handl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ionally, this model is not strictly enforced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Safe Library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14560" y="362052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c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1320" y="2458800"/>
            <a:ext cx="634212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d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1177920"/>
            <a:ext cx="3105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: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iting for a condition that will never be tr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reg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fortunate fact: deadlock is often non-deterministi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cheaper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hare data between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introduce subtle synchronization erro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d carefully with thread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. Butenhof, “Programming with Posix Threads”, Addison-Wesley, 199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Threads Access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Thread’s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9040" y="163656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9480" y="266400"/>
            <a:ext cx="89722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pping Variables to Mem. Insta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6120" y="338940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748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4160" y="5985000"/>
            <a:ext cx="46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1744200"/>
            <a:ext cx="72414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89000" indent="-1890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sg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y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3760" y="200160"/>
            <a:ext cx="877572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badcnt.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An Improperly Synchronized Threaded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8411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18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967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for Counter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cnt,%eax      # 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cnt      # Sto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0 -fforce-me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3523320"/>
            <a:ext cx="1779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cnt (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cnt (U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re cnt (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2440"/>
            <a:ext cx="661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that thread i executes instruction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contents of %eax in thread i’s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4960" y="2758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5T16:18:33Z</dcterms:modified>
  <cp:revision>608</cp:revision>
  <dc:subject/>
  <dc:title>Programming with Threads</dc:title>
</cp:coreProperties>
</file>