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88D3F01-A46E-40F2-ACE1-21A1AED2DB8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Server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 3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ations of iterative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t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-based concurrent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71240" y="356760"/>
            <a:ext cx="8629560" cy="104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Process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0160" y="1449000"/>
            <a:ext cx="8737560" cy="521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Handles multiple connections concurrent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Clean sharing mod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criptors (no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le tables (y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lobal variables (no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Simple and straightforwar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Additional overhead for process control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Nontrivial to share data between process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s IPC (interprocess communication) mechanis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O’s (named pipes),  System V shared memory and semapho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I/O multiplexing provides more control with less overhead..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7767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s Using I/O Multiplex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0520" y="1554120"/>
            <a:ext cx="8307360" cy="468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 a pool of connected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eat the following forever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Unix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elect 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ction to block until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a) New connection request arrives on the listening descripto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b) New data arrives on an existing connected descriptor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(a), add the new connection to the pool of conne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(b), read any available data from the conn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se connection on EOF and remove it from the pool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44520"/>
            <a:ext cx="642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255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sleeps until one or more file descriptors in the set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adset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re ready for reading. 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6480" y="1905120"/>
            <a:ext cx="8278920" cy="916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include &lt;sys/select.h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elect(int maxfdp1, fd_set *readset, NULL, NULL, NUL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09096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ad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aque bit vector (max FD_SETSIZE bits) that indicates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bership  in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descriptor set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bit k is 1, then descriptor k is a member of  the descriptor se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xfdp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ximum descriptor in descriptor set plus 1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sts descriptors 0, 1, 2, ..., maxfdp1 - 1 for set membership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0240" y="5638680"/>
            <a:ext cx="825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select()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returns the number of ready descriptors and sets each bit  of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readset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to indicate the ready status of its corresponding descripto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2320" y="601560"/>
            <a:ext cx="8839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ros for Manipulating Set Descrip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90520" y="15066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ZERO(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ff all bits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SET(int fd, 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n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D_CLR(int fd, fd_set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rn off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FD_ISSET(int fd, *fdset);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b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s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urned o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15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7000" y="1428840"/>
            <a:ext cx="7617600" cy="4474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main loop: wait for connection request or stdin comman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If connection request, then echo input lin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and close connection. If stdin command, then process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notdon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select: check if the user typed something to stdin 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if a connection request arrived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ZERO(&amp;readfds);          /* initialize the fd s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listenfd, &amp;readfds); /* add socket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0, &amp;readfds);        /* add stdin fd (0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lect(listenfd+1, &amp;readfds, NULL, NULL, NUL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44520"/>
            <a:ext cx="61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rst we check for a pending event on stdi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6080" y="1800360"/>
            <a:ext cx="8349120" cy="44744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f the user has typed a command, process 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0, &amp;readfds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gets(buf, BUFSIZE, std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witch (buf[0]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se 'c': /* print the connection cou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Received %d conn. requests so far.\n", connect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se 'q': /* terminate the serv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otdone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fault: /* bad inpu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ERROR: unknown command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&gt; 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77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elec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xt we check for a pending connection reques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5720" y="1905120"/>
            <a:ext cx="810540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f a connection request has arrived, process 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listenfd, &amp;readfds)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struct sockaddr *) 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buf, BUFSIZ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(connfd, buf, BUFSIZ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onnfd, buf, strlen(buf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/* while */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Echo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571760"/>
            <a:ext cx="860292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echoservers.c - A concurrent echo server based on selec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def struct { /* represents a pool of connected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xfd;        /* largest descriptor in read_set */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 read_set;  /* set of all active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 ready_set; /* subset of descriptors ready for reading 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ready;       /* number of ready descriptors from select */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xi;         /* highwater index into client array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[FD_SETSIZE];    /* set of active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clientrio[FD_SETSIZE]; /* set of active read buffe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pool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yte_cnt = 0; /* counts total bytes received by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2440" y="1085760"/>
            <a:ext cx="860256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, clientlen = sizeof(struct sockaddr_i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pool pool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argv[1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it_pool(listenfd, &amp;pool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ol.ready_set = pool.read_s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ol.nready = Select(pool.maxfd+1, &amp;pool.ready_set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NULL, NUL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D_ISSET(listenfd, &amp;pool.ready_set)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&amp;clientle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_client(connfd, &amp;pool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eck_clients(&amp;poo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2440" y="1390680"/>
            <a:ext cx="8602560" cy="35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ize the descriptor poo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init_pool(int listenfd, pool *p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ly, there are no connected descriptor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i = -1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 FD_SETSIZE; i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clientfd[i] = -1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itially, listenfd is only member of select read se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fd = listenfd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ZERO(&amp;p-&gt;read_se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listenfd, &amp;p-&gt;read_se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terative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erative servers process one request at a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61120" y="2048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70800" y="2048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2643120"/>
            <a:ext cx="0" cy="35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80840" y="2048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6557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7120" y="250524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5040" y="25812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9400" y="28591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209320" y="28843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31273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2960" y="31147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33000" y="250524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419720" y="2733840"/>
            <a:ext cx="2133360" cy="3808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7280" y="32130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22240" y="3368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09320" y="357192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0480" y="35672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2240" y="3692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6960" y="39211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9080" y="4073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25772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4419720" y="448632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33000" y="4226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32280" y="4606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32280" y="5019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31920" y="5400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26640" y="4835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16440" y="4486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5019840"/>
            <a:ext cx="2133360" cy="16668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26640" y="52164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2440" y="1162080"/>
            <a:ext cx="860256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add_client(int connfd, pool *p)  /* add connfd to pool p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nready--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FD_SETSIZE; i++)  /* Find available slo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p-&gt;clientfd[i]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clientfd[i] = con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p-&gt;clientrio[i], conn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D_SET(connfd, &amp;p-&gt;read_set); /* Add desc to read se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fd &gt; p-&gt;maxfd) /* Update max descriptor nu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fd = connfd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i &gt; p-&gt;maxi) /* Update pool high water mar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-&gt;maxi = i;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i == FD_SETSIZE) /* Couldn't find an empty slo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pp_error("add_client error: Too many clients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vent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200" y="971640"/>
            <a:ext cx="8602920" cy="557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id check_clients(pool *p) { /* echo line from ready descs in pool p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i, connfd, n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har buf[MAXLINE];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i = 0; (i &lt;= p-&gt;maxi) &amp;&amp; (p-&gt;nready &gt; 0); i++) {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onnfd = p-&gt;clientfd[i]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 = p-&gt;clientrio[i]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If the descriptor is ready, echo a text line from it */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f ((connfd &gt; 0) &amp;&amp; (FD_ISSET(connfd, &amp;p-&gt;ready_set))) { 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-&gt;nready--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f ((n = Rio_readlineb(&amp;rio, buf, MAXLINE)) != 0) {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byte_cnt += n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io_writen(connfd, buf, n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else {/* EOF detected, remove descriptor from pool */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lose(connfd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D_CLR(connfd, &amp;p-&gt;read_set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-&gt;clientfd[i] = -1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400" y="247680"/>
            <a:ext cx="90932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 and Cons of Event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One logical control flow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Can single-step with a debugg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No process or thread control overhea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gn of choice for high-performance Web servers and search engin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Significantly more complex to code than process- or thread-based desig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 Can be vulnerable to denial of service at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reads provide a middle ground between processes and I/O multiplexing..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ditional View of a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= process context + code, data, and st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9580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9580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9580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6828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9580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28680" y="280620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2264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9580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9580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580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9580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9660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37240" y="2984400"/>
            <a:ext cx="3553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7788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462276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609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37240" y="3860640"/>
            <a:ext cx="3553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9976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View of a Pro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ss = thread + code, data, and kernel contex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40400" y="266688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40400" y="298620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40400" y="324000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12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40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47720" y="359712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09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40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40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5320" y="2971800"/>
            <a:ext cx="223056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6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36760" y="327672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72248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68880" y="400212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05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3240000"/>
            <a:ext cx="3556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920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20760" y="479772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77760" y="2666880"/>
            <a:ext cx="3581640" cy="2743200"/>
          </a:xfrm>
          <a:prstGeom prst="rect">
            <a:avLst/>
          </a:prstGeom>
          <a:noFill/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cess With Multiple Threa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90520" y="1039680"/>
            <a:ext cx="8307360" cy="547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threads can be associated with a proces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has its own logical control flow (sequence of PC valu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shares the same code, data, and kernel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hread has its own thread id (TI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32240" y="343368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32240" y="375300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2240" y="400680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1480" y="5073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32240" y="429588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8520" y="4363920"/>
            <a:ext cx="208584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1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13720" y="294264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432240" y="46162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32240" y="49212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1720" y="3738600"/>
            <a:ext cx="188604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29426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1 (main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12240" y="5357160"/>
            <a:ext cx="1892160" cy="137268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9800" y="4363920"/>
            <a:ext cx="208584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 2 con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P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3680" y="3738600"/>
            <a:ext cx="188604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ck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96480" y="294264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2 (peer threa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gical View of Threa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associated with a process form a pool of pee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like processes which form a tree hierarch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00800" y="30337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38718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34909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095520" y="4253040"/>
            <a:ext cx="3812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463392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29400" y="432900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81680" y="4253040"/>
            <a:ext cx="38124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3960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509112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00800" y="61578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585324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36432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43640" y="260604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hierarch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3033720"/>
            <a:ext cx="3809880" cy="2819520"/>
          </a:xfrm>
          <a:prstGeom prst="rect">
            <a:avLst/>
          </a:prstGeom>
          <a:noFill/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4080" y="25614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s associated with process fo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09680" y="31100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38480" y="33386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00200" y="524340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29000" y="5167440"/>
            <a:ext cx="45720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4100400"/>
            <a:ext cx="190512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hared code, 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nd kernel con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905120" y="4709880"/>
            <a:ext cx="304560" cy="5331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3352320" y="4710240"/>
            <a:ext cx="228600" cy="4572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1523520" y="4024440"/>
            <a:ext cx="38124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3566880"/>
            <a:ext cx="0" cy="5331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3657600" y="3719520"/>
            <a:ext cx="457200" cy="3808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Thread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threads run concurrently (are concurrent) if their logical flows overlap in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therwise, they are sequential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: A &amp; B, A&amp;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: B &amp;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94000" y="3448080"/>
            <a:ext cx="0" cy="2743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5120" y="45133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00560" y="3598920"/>
            <a:ext cx="0" cy="30492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3500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6032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84560" y="30654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8600" y="390528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32840" y="4514760"/>
            <a:ext cx="0" cy="38124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184720" y="489600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232840" y="5505480"/>
            <a:ext cx="0" cy="60948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43360" y="3903840"/>
            <a:ext cx="403884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89600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7520" y="550548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27520" y="61149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7520" y="45147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27520" y="3600360"/>
            <a:ext cx="4038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vs. Pro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35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threads and processes are simila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has its own logical control flow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can run concurrent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s context switch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threads and processes are differ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 share code and data, processes (typically) do no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s are somewhat less expensive than process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 control (creating and reaping) is twice as expensive as thread control.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/Pentium III number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20K cycles to create and reap a proces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10K cycles to create and reap a thread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963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six Threads (Pthreads)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44600" y="914400"/>
            <a:ext cx="8254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Pthreads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Standard interface for ~60 functions that manipulate threads from C program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ing and reaping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re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jo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rmining your thread I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sel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erminating th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anc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ex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[terminates all threads] 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t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terminates current thread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ing access to shared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mutex_i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mutex_[un]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ond_i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ond_[timed]wa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480" y="33480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ndamental Flaw of Iterative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4600" y="5258880"/>
            <a:ext cx="8470800" cy="115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lution: us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oncurrent servers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ea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t servers use multiple concurrent flows to serve multiple clients at the same ti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61120" y="119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70800" y="1197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1639800"/>
            <a:ext cx="0" cy="3200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80840" y="1197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09680" y="18684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7120" y="1717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5040" y="1577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22600" y="26449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9400" y="21114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209320" y="20970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2340000"/>
            <a:ext cx="2133720" cy="1666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22960" y="23083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33000" y="2765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419720" y="2949480"/>
            <a:ext cx="2133360" cy="3812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6400" y="2536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4240" y="3062160"/>
            <a:ext cx="17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 us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 type in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5280" y="3421080"/>
            <a:ext cx="213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to comple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s connec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quest until af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unch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22040" y="2720880"/>
            <a:ext cx="15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 fr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Pthreads "hello, world"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59680" y="11880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76000" y="187668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74920" y="286704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72760" y="437832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038480" y="2244600"/>
            <a:ext cx="281952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5790960" y="3159000"/>
            <a:ext cx="10666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3733920" y="4149720"/>
            <a:ext cx="31240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on of Threaded“hello, world”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76560" y="1370880"/>
            <a:ext cx="147600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86960" y="2602800"/>
            <a:ext cx="142416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95480" y="2057400"/>
            <a:ext cx="19080" cy="3413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24800" y="326088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98960" y="3550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2438280"/>
            <a:ext cx="3829320" cy="8226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800" y="3504600"/>
            <a:ext cx="28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 waits fo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 thread to termin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914560" y="3870360"/>
            <a:ext cx="3810240" cy="7621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9160" y="50288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8040" y="2209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l Pthread_create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8120" y="29718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ll Pthread_jo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920" y="4419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thread_join() retur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0960" y="31996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03640" y="3809880"/>
            <a:ext cx="14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peer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erminat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9400" y="251460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thread_create() retur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Based Concurrent Echo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600" y="1324080"/>
            <a:ext cx="847116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connfdp = Accept(listenfd, (SA *) 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42000" y="1790640"/>
            <a:ext cx="664272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_r(connfd); /* reentrant version of echo(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ssues With Thread-Based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0520" y="1049040"/>
            <a:ext cx="8307360" cy="554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run “detached” to avoid memory leak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point in time, a thread is eith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join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tach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Join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hread can be reaped and killed by other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be reaped (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joi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 to free memory resourc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tache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 cannot be reaped or killed by other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ources are automatically reaped on termina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fault state is join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detach(pthread_self()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make detach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be careful to avoid unintended shar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xample, what happens if we pass the address of connfd to the thread routine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thread_create(&amp;tid, NULL, thread, (void *)&amp;connfd)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functions called by a thread must be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read-saf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(next lectur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Thread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90520" y="1496520"/>
            <a:ext cx="83073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Easy to share data structures between threa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logging information, file cach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+ Threads are more efficient than process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--- Unintentional sharing can introduce subtle and hard-to-reproduce errors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ease with which data can be shared is both the greatest strength and the greatest weakness of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next lectur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urrent  servers handle multiple requests concurrentl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2043000"/>
            <a:ext cx="0" cy="4465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7960" y="162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2071800"/>
            <a:ext cx="0" cy="31701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70800" y="16286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2089080"/>
            <a:ext cx="0" cy="44197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68160" y="1628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2270160"/>
            <a:ext cx="2666880" cy="19692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00" y="2149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15040" y="200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12920" y="35654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5880" y="25430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520" y="2529000"/>
            <a:ext cx="2666880" cy="1220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2727360"/>
            <a:ext cx="2667240" cy="2109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22960" y="2739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20320" y="204156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19360" y="2193840"/>
            <a:ext cx="2971800" cy="4572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3240" y="29685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05320" y="3260880"/>
            <a:ext cx="91440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537000"/>
            <a:ext cx="0" cy="297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21880" y="31082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6600" y="31226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l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714840"/>
            <a:ext cx="15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r go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 to lu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ient 1 bloc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aiting for user to type in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22960" y="345744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3794040"/>
            <a:ext cx="2971800" cy="15264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20320" y="37180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conne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4419360" y="3946680"/>
            <a:ext cx="2971800" cy="1522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22960" y="40989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 accep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4760" y="402264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fg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4040" y="44481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632480"/>
            <a:ext cx="91440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6080" y="4448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4120" y="4908600"/>
            <a:ext cx="0" cy="1600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93680" y="496584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3120" y="44798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il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33760" y="4632480"/>
            <a:ext cx="205740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4520" y="5622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775480"/>
            <a:ext cx="2057400" cy="3045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4400" y="48290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94400" y="5896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nd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4040" y="61722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4520" y="5972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98320" y="51656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e Basic Mechanisms for  Creating Concurrent Fl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4600" y="14396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 Proc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utomatic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has its own privat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. I/O multiplexing with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elect(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r manu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shares the sam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r for high-performance server desig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 Threa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automatically interleaves multiple logical flow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flow shares the same address spa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ybrid of processes and I/O multiplexing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1520" y="1066680"/>
            <a:ext cx="78616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echoserverp.c - A concurrent echo server based on process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Usage: echoserverp &lt;por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ics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BUFSIZE 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cho(int 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portn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len = sizeof(struct sockaddr_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no = atoi(argv[1]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n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8360" y="582480"/>
            <a:ext cx="878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4480" y="17431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gnal(SIGCHLD, handler); /* parent must reap children!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in server loop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truct sockaddr *) &amp;clientaddr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clientlen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Fork() == 0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listenfd); /* child closes its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(connfd);    /* child reads and echoes input l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   /* child is done with this clien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        /* child exit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 /* parent must close connected socket!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4640" y="48564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Concurrent Server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11120" y="2022480"/>
            <a:ext cx="615456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handler - reaps children as they terminat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handler(int si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id_t p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(pid = waitpid(-1, &amp;stat, WNOHANG)) &g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3231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Issues With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-Based Desig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4600" y="1523520"/>
            <a:ext cx="8254800" cy="516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should restart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all if it is interrupted by a transfer of control to the SIGCHLD hand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necessary for systems with POSIX signal handling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ignal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apper tells kernel to automatically restar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ccep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for portability on some older Unix system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must reap zombie childre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avoid fatal memory lea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 must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los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ts copy of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rnel keeps reference for each sock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fork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cnt(connfd) = 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ion will not be closed until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fcnt(connfd)=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2-03T18:05:01Z</dcterms:modified>
  <cp:revision>582</cp:revision>
  <dc:subject/>
  <dc:title>Concurrent Servers</dc:title>
</cp:coreProperties>
</file>