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E0990A8-BB95-4983-A964-83E5869F8EF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3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ations of iterative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240" y="356760"/>
            <a:ext cx="8629560" cy="104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0160" y="1449000"/>
            <a:ext cx="8737560" cy="52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or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le tables (y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variable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IPC (interprocess communication) mechanis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I/O multiplexing provides more control with less overhead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767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s Using I/O Multiplex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554120"/>
            <a:ext cx="830736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 a pool of connected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 the following forev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lect 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ction to block until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a), add the new connection to the pool of conne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b), read any available data from the conn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4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2320" y="601560"/>
            <a:ext cx="883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ros for Manipulating Set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0520" y="15066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all bits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n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urned 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15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7000" y="1428840"/>
            <a:ext cx="761760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1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080" y="1800360"/>
            <a:ext cx="834912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77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720" y="1905120"/>
            <a:ext cx="810540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(connfd, 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strlen(buf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571760"/>
            <a:ext cx="860292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s.c - A concurrent echo server based on selec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{ /* represents a pool of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fd;        /* largest descriptor in read_se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_set;  /* set of all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y_set; /* subset of descriptors ready for reading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ready;       /* number of ready descriptors from selec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i;         /* highwater index into client arra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[FD_SETSIZE];    /* set of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clientrio[FD_SETSIZE]; /* set of active read buffe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pool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yte_cnt = 0; /* counts total bytes received by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2440" y="108576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clientlen = sizeof(struct sockaddr_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pool pool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argv[1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it_pool(listenfd, &amp;pool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ready_set = pool.read_s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nready = Select(pool.maxfd+1, &amp;pool.ready_set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pool.ready_set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&amp;clientle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_client(connfd, &amp;poo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eck_clients(&amp;poo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390680"/>
            <a:ext cx="8602560" cy="35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ize the descriptor poo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init_pool(int listenfd, pool *p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there are no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-1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 FD_SETSIZE; i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-1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listenfd is only member of select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liste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112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0800" y="20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8084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6557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12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5040" y="2581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28591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2884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27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3114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33840"/>
            <a:ext cx="213336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7280" y="3213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2240" y="3368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35719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0480" y="3567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240" y="369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6960" y="392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9080" y="4073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2577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720" y="44863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3000" y="4226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2280" y="4606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2280" y="5019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1920" y="540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6640" y="4835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440" y="448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1984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6640" y="5216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116208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_client(int connfd, pool *p)  /* add connfd to pool 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FD_SETSIZE; i++)  /* Find available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p-&gt;clientfd[i]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con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p-&gt;clientrio[i]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connfd, &amp;p-&gt;read_set); /* Add desc to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fd &gt; p-&gt;maxfd) /* Update max descriptor nu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con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&gt; p-&gt;maxi) /* Update pool high water mar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i;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== FD_SETSIZE) /* Couldn't find an empty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pp_error("add_client error: Too many clients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200" y="971640"/>
            <a:ext cx="8602920" cy="557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check_clients(pool *p) { /* echo line from ready descs in pool 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connfd,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(i &lt;= p-&gt;maxi) &amp;&amp; (p-&gt;nready &gt; 0); i++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nfd = p-&gt;clientfd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 = p-&gt;clientrio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If the descriptor is ready, echo a text line from it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connfd &gt; 0) &amp;&amp; (FD_ISSET(connfd, &amp;p-&gt;ready_set))) {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n = Rio_readlineb(&amp;rio, buf, MAXLINE)) != 0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byte_cnt +=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lse {/* EOF detected, remove descriptor from pool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lose(connfd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D_CLR(connfd, &amp;p-&gt;read_se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clientfd[i] = -1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247680"/>
            <a:ext cx="90932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 and Cons of Event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an single-step with a debugg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 of choice for high-performance Web servers and search eng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s provide a middle ground between processes and I/O multiplexing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ditional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cess With Multiple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039680"/>
            <a:ext cx="83073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logical control flow (sequence of PC valu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shares the same code, data, and kernel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thread id (TI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2240" y="34336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2240" y="37530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2240" y="40068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073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2240" y="429588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3720" y="2942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162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2240" y="49212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72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942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2240" y="5357160"/>
            <a:ext cx="1892160" cy="13726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980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368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6480" y="29426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View of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ike processes which form a tree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0337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871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4909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3290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396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50911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57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85324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6432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3640" y="2606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033720"/>
            <a:ext cx="3809880" cy="281952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080" y="25614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10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3386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5243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674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10040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709880"/>
            <a:ext cx="30456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352320" y="471024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523520" y="4024440"/>
            <a:ext cx="38124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356688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3719520"/>
            <a:ext cx="45720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Thread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threads run concurrently (are concurrent) if their logical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sequential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&amp;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4000" y="34480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120" y="4513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3598920"/>
            <a:ext cx="0" cy="3049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3500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6032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456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8600" y="39052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32840" y="4514760"/>
            <a:ext cx="0" cy="3812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89600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32840" y="55054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3903840"/>
            <a:ext cx="40388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89600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7520" y="550548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7520" y="61149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5147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7520" y="36003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vs.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has its own logical control f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an run concurrent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s context swit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share code and data, processes (typically) do no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are somewhat less expensive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0K cycles to create and reap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K cycles to create and reap a thread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Threads (Pthreads)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reaping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ing your thread 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rminating th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[terminates all threads] 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access to 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damental Flaw of 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525888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112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0800" y="119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084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8684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120" y="1717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5040" y="157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2600" y="2644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400" y="2111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320" y="2097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40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2960" y="2308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3000" y="2765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720" y="2949480"/>
            <a:ext cx="2133360" cy="3812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400" y="2536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240" y="306216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5280" y="3421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040" y="2720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Pthreads "hello, world"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 of Threaded“hello, world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600" y="1324080"/>
            <a:ext cx="847116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42000" y="1790640"/>
            <a:ext cx="664272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With Thread-Based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520" y="1049040"/>
            <a:ext cx="8307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point in time, a thread is eith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hread can be reaped and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cannot be reaped or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ult state is join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xample, what happens if we pass the address of connfd to the thread routin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Thread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0520" y="14965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ogging information, file cach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79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071800"/>
            <a:ext cx="0" cy="3170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70800" y="162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681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70160"/>
            <a:ext cx="2666880" cy="196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0" y="2149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5040" y="200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2920" y="35654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" y="2543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520" y="2529000"/>
            <a:ext cx="2666880" cy="1220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27360"/>
            <a:ext cx="2667240" cy="2109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2960" y="2739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0320" y="2041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2193840"/>
            <a:ext cx="29718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240" y="2968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05320" y="32608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31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6600" y="3122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148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2960" y="34574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794040"/>
            <a:ext cx="2971800" cy="1526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20320" y="3718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19360" y="3946680"/>
            <a:ext cx="2971800" cy="1522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2960" y="4098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4760" y="40226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4040" y="4448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6324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6080" y="4448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3680" y="49658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120" y="4479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4632480"/>
            <a:ext cx="20574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5622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75480"/>
            <a:ext cx="205740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4400" y="4829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4400" y="5896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597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8320" y="516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e Basic Mechanisms for  Creating Concurrent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has its own privat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I/O multiplexing with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manu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r for high-performance server desig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 of processes and I/O multiplexin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520" y="1066680"/>
            <a:ext cx="78616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360" y="582480"/>
            <a:ext cx="878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4480" y="17431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640" y="48564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323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 With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51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necessary for systems with POSIX signal handling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for portability on some older Unix system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void fatal memory lea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keeps reference for each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fork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 =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ion will not be closed unti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=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3T18:05:01Z</dcterms:modified>
  <cp:revision>582</cp:revision>
  <dc:subject/>
  <dc:title>Concurrent Servers</dc:title>
</cp:coreProperties>
</file>