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A2EA55B-8ABC-4B5E-8184-986EFE43DD9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twork Programming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2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er’s view of the Internet (review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ckets interf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clients and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6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 server (port 8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/compute cycles (CGI program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retrieves files and runs CGI programs on behalf of the cli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TP server (20, 21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and retrieve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elnet server (23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term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proxies a terminal on the serve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l server (25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urce: email “spool”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ice: stores mail messages in spool fil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15000" y="2911320"/>
            <a:ext cx="3124080" cy="11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etc/service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or a comprehensive list of the services available on a Linux machin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ed in the early 80’s as part of the original Berkeley distribution of Unix that contained an early version of the Internet protocol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s a user-level interface to the network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derlying basis for all Internet appli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d on client/server programming model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the Sockets Interf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41520" y="11426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9240" y="115848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1981080"/>
            <a:ext cx="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1920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2606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32925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39783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6641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53499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603576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8098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5867280"/>
            <a:ext cx="182880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4956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580920" y="5181480"/>
            <a:ext cx="1295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15825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76920" y="15825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22575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bi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9322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is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63996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cce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566424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76920" y="431496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4989600"/>
            <a:ext cx="144756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76920" y="6340320"/>
            <a:ext cx="144756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498960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63996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onne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4314960"/>
            <a:ext cx="1523880" cy="380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5665680"/>
            <a:ext cx="1523880" cy="38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o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18280" y="329256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3600" y="559332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OF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65530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781680" y="3809880"/>
            <a:ext cx="0" cy="2743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324480" y="3809880"/>
            <a:ext cx="4572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23800" y="45853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wait 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 fro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xt 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1600200"/>
            <a:ext cx="152280" cy="1752480"/>
          </a:xfrm>
          <a:custGeom>
            <a:avLst/>
            <a:gdLst>
              <a:gd name="textAreaLeft" fmla="*/ 0 w 152280"/>
              <a:gd name="textAreaRight" fmla="*/ 5508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33000" y="22856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1600200"/>
            <a:ext cx="152640" cy="2438280"/>
          </a:xfrm>
          <a:custGeom>
            <a:avLst/>
            <a:gdLst>
              <a:gd name="textAreaLeft" fmla="*/ 97560 w 152640"/>
              <a:gd name="textAreaRight" fmla="*/ 153000 w 1526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00" y="263484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a socket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the kernel, a socket is an endpoint of communica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an application, a socket is a file descriptor that lets the application read/write from/to the networ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member: All Unix I/O devices, including networks, are modeled as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with each by reading from and writing to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main distinction between regular file I/O and socket I/O is how the application “opens” the socket descrip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640" y="13320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cket Address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548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address argument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cessary only because C did not have generic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id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pointers when the sockets interface was design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et-specific socket addres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ast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_in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to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add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1600" y="2496960"/>
            <a:ext cx="67644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a_family;    /* protocol family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         sa_data[14];  /* address data. 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827600"/>
            <a:ext cx="853452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family;  /* address family (always 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short  sin_port;    /* port num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 sin_addr;    /* IP addr in network byte ord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char   sin_zero[8]; /* pad to sizeof(struct sockaddr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20760" y="99072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 = Open_clientfd(host, 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9760" y="990720"/>
            <a:ext cx="859320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 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12952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208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7440" y="3809880"/>
            <a:ext cx="6764400" cy="1554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820880"/>
            <a:ext cx="876312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clien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1536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gethostbynam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159984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lient then builds the server’s Internet addres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8160" y="2247840"/>
            <a:ext cx="725220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          /*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IP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fill in the server's IP address and por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7598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Client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client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connec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nally the client creates a connection with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ent process suspends (blocks) until the connection is creat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fter resuming, the client is ready to begin exchanging messages with the server via Unix I/O calls on descrip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f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4480" y="3429000"/>
            <a:ext cx="8471160" cy="228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fd;                    /*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  /* server addr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def struct sockaddr SA;      /* generic sock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onnect(client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clientf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158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Client-Server Trans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696760" y="40258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840120"/>
            <a:ext cx="1203480" cy="7970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74440" y="3671640"/>
            <a:ext cx="23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1. Client sends 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30160" y="4433040"/>
            <a:ext cx="109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. Server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709360" y="4470480"/>
            <a:ext cx="25606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5800" y="448272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. Server sends 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2200" y="4423320"/>
            <a:ext cx="10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. Cli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88200" y="4245120"/>
            <a:ext cx="8366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24840" y="3941640"/>
            <a:ext cx="1089000" cy="569880"/>
          </a:xfrm>
          <a:prstGeom prst="flowChartMagneticDisk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0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ry network application is based on the client-server mode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ocess and one or mo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ien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manages som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rver provides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rvi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manipulating resource for clien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80880" y="5562720"/>
            <a:ext cx="649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e: clients and servers are processes running on host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(can be the same or different host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3640" y="990720"/>
            <a:ext cx="859320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2748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600" y="1523880"/>
            <a:ext cx="83494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80880" y="1668240"/>
            <a:ext cx="8763120" cy="145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ocke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creates a socket descriptor on the ser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F_I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that the socket is associated with Internet protoc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OCK_STREA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elects a reliable byte stream connection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380880" y="334440"/>
            <a:ext cx="77853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ocke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8920" y="3263760"/>
            <a:ext cx="676440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setsockop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ocket can be given some attribut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y trick that allows us to rerun the server immediately after we kill i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we would have to wait about 15 sec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s “Address already in use” error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nd(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ongly suggest you do this for all your servers to simplify debugg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4840" y="2254320"/>
            <a:ext cx="7617960" cy="131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liminates "Address already in use" error from bind().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8472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initialize socket addres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4240" y="1592280"/>
            <a:ext cx="8699400" cy="503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xt, we initialize the socket with the server’s Internet address (IP address and port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P addr and port stored in network (big-endian) byte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l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ts longs from host byte order to network byte ord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htons(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vers shorts from host byte order to network byte ord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7240" y="2511360"/>
            <a:ext cx="737388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'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zero((char *) &amp;serveraddr, sizeof(serveraddr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family = AF_INE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addr.s_addr = htonl(INADDR_AN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addr.sin_port = htons((unsigned short)por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78487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bind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90520" y="1817640"/>
            <a:ext cx="8307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ind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ociates the socket with the socket address we just creat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759040"/>
            <a:ext cx="830592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                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serveraddr; /* server’s socket add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listenfd will be an endpoint for all requests to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n any IP address for this ho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bind(listenfd, (SA *)&amp;serveraddr, sizeof(serveraddr)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75726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open_listenfd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(listen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16761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dicates that this socket will accept connection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ec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requests from clien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’re finally ready to enter the main server loop that accepts and processes client connection request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80" y="2855880"/>
            <a:ext cx="871524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ake it a listening socket ready to accept connection reques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80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Main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loops endlessly, waiting for connection requests, then reading input from the client, and echoing the input back to the client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5560" y="2666880"/>
            <a:ext cx="8105400" cy="252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and configure the listening socke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1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ccept(): wait for a connection reques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echo(): read and echo input lines from client til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lose(): close the connection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44600" y="990720"/>
            <a:ext cx="8254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locks waiting for a connection reque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return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ed descriptor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onn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with the same properties as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istening descriptor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stenfd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when the connection between client and server is created and ready for I/O transf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/O with the client will be done via the connected socke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accep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so fills in client’s IP addres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82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548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00200"/>
            <a:ext cx="8245440" cy="1797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listenfd; /* listening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onnfd;   /* connected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clientlen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Programmer’s View of the Inter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 Hosts are mapped to a set of 32-bi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. The set of IP addresses is mapped to a set of identifiers called Internet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main nam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8.2.203.179 is mapped to  www.cs.cmu.edu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 A process on one Internet host can communicate with a process on another Internet host over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ccept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Illustra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300480" y="1635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0360" y="1239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19526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9800" y="15764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11560" y="1218960"/>
            <a:ext cx="329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1. Server blocks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, waiting for connection request on listening descriptor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iste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06200" y="2106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9520" y="1563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00480" y="35035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0360" y="3107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3821040"/>
            <a:ext cx="12888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9800" y="34448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6200" y="3974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49520" y="3432240"/>
            <a:ext cx="105912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36840" y="3575160"/>
            <a:ext cx="1752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48280" y="3308040"/>
            <a:ext cx="386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2. Client makes connection request by calling and blocking i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08240" y="2990880"/>
            <a:ext cx="129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87880" y="5334120"/>
            <a:ext cx="128520" cy="1285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57760" y="49384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stenfd(3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11280" y="56516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5275440"/>
            <a:ext cx="10587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3600" y="5805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lientf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36920" y="5262480"/>
            <a:ext cx="1058760" cy="581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4859280"/>
            <a:ext cx="40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3. Server returns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accep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lient returns from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ect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 Connection is now established between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lient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onnfd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14880" y="5664240"/>
            <a:ext cx="128520" cy="128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0080" y="581796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fd(4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50960" y="572292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nected vs. Listening Descript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stening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for client connection request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once and exists for lifetime of the server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ed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d point of the connection between client and serv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new descriptor is created each time the server accepts a connection request from a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ists only as long as it takes to service clie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 the distin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for concurrent servers that can communicate over many client connections simultaneous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ach time we receive a new request, we fork a child to handle the request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8382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Identifying the Cli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can determine the domain name and IP address of the cli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40" y="2193840"/>
            <a:ext cx="85932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hp;  /* pointer to DNS host entr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haddrp;        /* pointer to dotted decimal string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cho Server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ech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4480" y="3305160"/>
            <a:ext cx="725220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441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server uses RIO to read and echo text lines until EOF (end-of-file) is encountere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OF notification caused by client calling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lose(clientfd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ORTANT: EOF is a condition, not a particular data by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7524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Servers 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telne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 is invaluable for testing servers that transmit ASCII strings over Internet conne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simple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il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age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telnet &lt;host&gt; &lt;portnumber&gt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connection with a server running on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host&gt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 listening on port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&lt;portnumber&gt;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2840" y="304920"/>
            <a:ext cx="858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sting the Echo Server With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teln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9240" y="990720"/>
            <a:ext cx="8105400" cy="520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5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8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telne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rying 128.2.222.85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ed to BASS.CMCL.CS.CMU.EDU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scape character is '^]'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nection closed by foreign hos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8305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unning the Echo Client and Serv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0080" y="1371600"/>
            <a:ext cx="8105400" cy="423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server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4 bytes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established connection with KITTYHAWK.CMCL (128.2.194.24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rver received 7 bytes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12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echoclient bass 5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lease enter msg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cho from server: 45678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kittyhawk&gt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6053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More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. Richard Stevens, “Unix Network Programming: Networking APIs: Sockets and XTI”, Volume 1, Second Edition, Prentice Hall, 1998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twork programming bi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te versions of the echo client and server are developed in the tex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ailable fro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should compile and run them for yourselves to see how they work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el free to borrow any of this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. IP Addr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3120" y="1219320"/>
            <a:ext cx="828216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2-bit IP addresses are stored in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P address struc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P addresses are always stored in memory in network byte order (big-endian byte orde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ue in general for any integer transferred in a packet header from one machine to anoth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he port number used to identify an Internet connec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1600" y="3541680"/>
            <a:ext cx="77400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nternet address structu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in_addr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s_addr; /* network byte order (big-endian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485928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ndy network byte-order conversion function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on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host to network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l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tohs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ve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from network to host byte ord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758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2. Domain Naming System (DNS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6994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Internet maintains a mapping between IP addresses and domain names in a huge worldwide distributed database called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, programmers can view the DNS database as a collection of million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st entry structur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for retrieving host entries from D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query key is a DNS domain nam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ethostbyaddr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query key is an IP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121200"/>
            <a:ext cx="8915400" cy="2040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DNS host entry structure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h_name;       /* official domain name of host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liases;   /* null-terminated array of domain nam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addrtype;    /* host address type (AF_INET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   h_length;      /* length of an address, in byte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  **h_addr_list; /* null-terminated array of in_addr structs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7406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7040" y="3990960"/>
            <a:ext cx="1465200" cy="103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. Internet Conne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1360" y="4470480"/>
            <a:ext cx="405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nection socket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816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33480" y="4098960"/>
            <a:ext cx="1287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78080" y="4502160"/>
            <a:ext cx="44514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956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9480" y="4437000"/>
            <a:ext cx="128520" cy="128520"/>
          </a:xfrm>
          <a:prstGeom prst="ellipse">
            <a:avLst/>
          </a:prstGeom>
          <a:solidFill>
            <a:srgbClr val="0000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77800" y="322884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lient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57720" y="3228840"/>
            <a:ext cx="25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erver socke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278080" y="3809880"/>
            <a:ext cx="30312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5080" y="3809880"/>
            <a:ext cx="303480" cy="6271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8680" y="5133960"/>
            <a:ext cx="205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28.2.194.24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5160" y="5133960"/>
            <a:ext cx="212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ff"/>
                </a:solidFill>
                <a:latin typeface="Arial"/>
              </a:rPr>
              <a:t>208.216.181.1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ents and servers communicate by sending streams of bytes ov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nections are point-to-point, full-duplex (2-way communication), and rel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760" y="5951520"/>
            <a:ext cx="2577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00"/>
                </a:solidFill>
                <a:latin typeface="Arial"/>
              </a:rPr>
              <a:t>51213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phemeral port allocat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y the kernel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86440" y="5943600"/>
            <a:ext cx="297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00ffff"/>
                </a:solidFill>
                <a:latin typeface="Arial"/>
              </a:rPr>
              <a:t>80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is a well-known 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ssociated with Web serv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client progr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b browsers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t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teln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s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does a client find the server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IP address in the server socket address identifies the host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(more precisely, an adapter on the hos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(well-known) port in the server socket address identifies the service, and thus implicitly identifies the server process that performs that servic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 of well know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7: Echo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3: Telnet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25: Mail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rt 80: Web serv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196848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149220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4896000"/>
            <a:ext cx="1295640" cy="11430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419720"/>
            <a:ext cx="3505320" cy="19810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Ports to Identify Servi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10440" y="161136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360" y="160020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 h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31360" y="114300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er host 128.2.194.24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248292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255888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1657440"/>
            <a:ext cx="265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8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Web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943600" y="217764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440" y="4538520"/>
            <a:ext cx="174600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eb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8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410080"/>
            <a:ext cx="34290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5486400"/>
            <a:ext cx="1746360" cy="797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cho serv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port 7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62520" y="4603680"/>
            <a:ext cx="22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rvice request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.2.194.242:7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i.e., the echo serve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5486400"/>
            <a:ext cx="45720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31240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5432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5181480"/>
            <a:ext cx="1067040" cy="457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rne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040" y="228276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040" y="5210280"/>
            <a:ext cx="1054080" cy="473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v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rvers are long-running processes (daemons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d at boot-time (typically) by the init process (process 1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continuously until the machine is turned of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server waits for requests to arrive on a well-known port associated with a particular servic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7: echo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3: telnet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25: mail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rt 80: HTTP serv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machine that runs a server process is also often  referred to as a “server.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13T18:37:01Z</dcterms:modified>
  <cp:revision>456</cp:revision>
  <dc:subject/>
  <dc:title>Network Programming</dc:title>
</cp:coreProperties>
</file>