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92EC4086-D429-4F62-BEB3-BB2BC98D404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ystem-Level I/O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ov 14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obust reading and writ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/O redire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os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 file informs the kernel that you are finished accessing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sing an already closed file is a recipe for disaster in threaded programs (more on this later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ral: Always check return codes, even for seemingly benign functions such a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lose(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2225520"/>
            <a:ext cx="6324840" cy="179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retval; /* return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retval = close(fd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clos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8307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ing a file copies bytes from the current file position to memory, and then updates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read from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nto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hort coun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sizeof(buf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)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5480" y="2009880"/>
            <a:ext cx="603288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file fd ... 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read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read(fd, buf, sizeof(buf)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read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3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0520" y="990720"/>
            <a:ext cx="854856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ing a file copies bytes from memory to the current file position, and then updates current file positio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number of bytes written from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bytes &lt; 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with reads, short counts are possible and are not error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fers up to 512 bytes from address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buf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to fil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32160" y="1905120"/>
            <a:ext cx="6520320" cy="2527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512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 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bytes;   /* number of bytes 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Open the file fd ...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en write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up to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512 bytes from buf to file f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bytes = write(fd, buf, sizeof(buf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writ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standard input to standard output one byte at a tim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te the use of error handling wrappers for read and write (Appendix B)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0160" y="2286000"/>
            <a:ext cx="5212800" cy="2282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Read(STDIN_FILENO, &amp;c, 1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STDOUT_FILENO, &amp;c, 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ling with Short Cou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can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untering (end-of-file) EOF on 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text lines from a termin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network sockets or Unix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hort counts never occur in these situa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from disk files (except for EOF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ing to disk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should you deal with short counts in your code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RIO (Robust I/O) package from your textbook’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sapp.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 (Appendix B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RIO Pack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701200" cy="540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is a set of wrappers that provide efficient and robust I/O in applications such as network programs that are subject to short count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IO provides two different kinds of func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buffered input and output of binary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write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ed input of binary data and text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lineb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io_readnb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leans up some problems with Stevens’s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lin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adn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function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nlike the Stevens routines, the buffered RIO routines are 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and can be interleaved arbitrarily on the same descripto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wnload from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csapp.cs.cmu.edu/public/ics/code/src/csapp.c csapp.cs.cmu.edu/public/ics/code/include/csapp.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buffered RIO Input and Out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18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ame interface as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read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wri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specially useful for transferring data on network socke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s short count only it encounters EOF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ever returns a short coun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7000" y="2762280"/>
            <a:ext cx="8321760" cy="1407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writen(nt fd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transferred if OK,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on EOF (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only), -1 on error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ation of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io_read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0160" y="990720"/>
            <a:ext cx="7163640" cy="534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 rio_readn - robustly read n bytes (unbuffere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(int fd, void *usrbuf, size_t n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ize_t nleft =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bufp = usr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 (nleft &g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nread = read(fd, bufp, nleft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errno == EINTR) /* interrupted by sig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andler retur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read = 0;      /* and call read() agai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-1;      /* errno set by rea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nread ==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reak;              /* EO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eft -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ufp += nrea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(n - nleft);         /* return &gt;= 0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ed RIO Inpu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307360" cy="53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fficiently read text lines and binary data from a file partially cached in an internal memory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a text line of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xl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stores the line in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srbu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specially useful for reading text lines from network socket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eads up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tes from f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s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an be interleaved arbitrarily on the same descripto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rning: Don’t interleave with calls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io_read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200" y="4132440"/>
            <a:ext cx="92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1040" y="2209680"/>
            <a:ext cx="7651080" cy="1845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rio_readinitb(rio_t *rp, int f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lineb(rio_t *rp, void *usrbuf, size_t maxle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size_t rio_readnb(rio_t *rp, void *usrbuf, size_t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turn: num. bytes read if OK, 0 on EOF, -1 on err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O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9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pying the lines of a text file from standard input to standard outpu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000" y="2362320"/>
            <a:ext cx="6919920" cy="2939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t rio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buf[MAXLINE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(&amp;rio, STDIN_FILENO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hile((n = Rio_readlineb(&amp;rio, buf, MAXLINE)) != 0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(STDOUT_FILENO, buf, 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137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Typical Hardware Sys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80320" y="289548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56080" y="3048120"/>
            <a:ext cx="1492560" cy="533160"/>
          </a:xfrm>
          <a:prstGeom prst="leftRightArrow">
            <a:avLst>
              <a:gd name="adj1" fmla="val 50000"/>
              <a:gd name="adj2" fmla="val 5573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41680" y="307980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84400" y="3048120"/>
            <a:ext cx="1452600" cy="533160"/>
          </a:xfrm>
          <a:prstGeom prst="leftRightArrow">
            <a:avLst>
              <a:gd name="adj1" fmla="val 50000"/>
              <a:gd name="adj2" fmla="val 54238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4320" y="307980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016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0016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0016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0016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00160" y="23623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73440" y="17524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683800" y="213372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18040" y="1600200"/>
            <a:ext cx="53316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22240" y="14317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75040" y="259092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137160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1160" y="10663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68920" y="23619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750840" y="2666880"/>
            <a:ext cx="68580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0280" y="236196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37200" y="2666880"/>
            <a:ext cx="0" cy="457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65600" y="37339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7704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1400" y="5194440"/>
            <a:ext cx="129564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4016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1120" y="5194440"/>
            <a:ext cx="129528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63640" y="446976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20920" y="5181480"/>
            <a:ext cx="114300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6800" y="594324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94320" y="59432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6920" y="5715000"/>
            <a:ext cx="0" cy="304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13720" y="594324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571500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07080" y="6095880"/>
            <a:ext cx="609480" cy="60984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5720" y="4254480"/>
            <a:ext cx="7277040" cy="393840"/>
          </a:xfrm>
          <a:prstGeom prst="leftRightArrow">
            <a:avLst>
              <a:gd name="adj1" fmla="val 48611"/>
              <a:gd name="adj2" fmla="val 95465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32120" y="4424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08280" y="4414680"/>
            <a:ext cx="1666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42160" y="4405320"/>
            <a:ext cx="1616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3120" y="45590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32280" y="434340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2300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27920" y="4267080"/>
            <a:ext cx="12708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2840" y="4267080"/>
            <a:ext cx="1267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7600" y="4649400"/>
            <a:ext cx="21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pansion slots f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ther devices su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s network adapter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eta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data about data, in this case file data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intained by kernel, accessed by users with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sta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240" y="2612880"/>
            <a:ext cx="8227440" cy="3987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Metadata returned by the stat and fstat function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dev;      /* devi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o_t         st_ino;      /* inod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de_t        st_mode;     /* protection and file typ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link_t       st_nlink;    /* number of hard link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id_t         st_uid;      /* user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id_t         st_gid;      /* group ID of own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ev_t         st_rdev;     /* device type (if inode device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ff_t         st_size;     /* total size, in byt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ksize;  /* blocksize for filesystem I/O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long st_blocks;   /* number of blocks allocat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atime;    /* time of last ac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mtime;    /* time of last modification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ime_t        st_ctime;    /* time of last chang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Accessing File Meta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8480" y="1143000"/>
            <a:ext cx="7895160" cy="5128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tatcheck.c - Querying and manipulating a file’s meta data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 (int argc, char **argv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stat sta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type, *readok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(argv[1], &amp;sta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_ISREG(stat.st_mode)) /* file type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regula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if (S_ISDIR(stat.st_mode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directory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 = "other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stat.st_mode &amp; S_IRUSR)) /* OK to read?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yes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adok = "no"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type: %s, read: %s\n", type, readok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4920" y="1752480"/>
            <a:ext cx="3627720" cy="1188360"/>
          </a:xfrm>
          <a:prstGeom prst="rect">
            <a:avLst/>
          </a:prstGeom>
          <a:solidFill>
            <a:srgbClr val="99ffcc"/>
          </a:solidFill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y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chmod 000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ass&gt; ./statcheck statcheck.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ype: regular, read: n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the Unix Kernel Represents Open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90520" y="1405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escriptors referencing two distinct open disk files. Descriptor 1 (stdout) points to terminal, and descriptor 4 points to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50660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0660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660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0660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660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96760" y="3517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6760" y="3746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96760" y="3975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96760" y="4203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96760" y="4432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20" y="2638440"/>
            <a:ext cx="2408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one table per proces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05208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5040" y="2590920"/>
            <a:ext cx="26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hared by all processes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68560" y="3809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68560" y="4114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68560" y="4419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905120" y="350496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70700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8560" y="3505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68560" y="54864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8560" y="57913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68560" y="60958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68560" y="51814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55880" y="4530600"/>
            <a:ext cx="1930320" cy="6987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9320" y="39326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9320" y="37040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520" y="347544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78620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97760" y="3476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97760" y="43909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97760" y="3781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97760" y="40863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9776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9776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9776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9776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48520" y="320004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 (terminal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8600" y="4876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 (disk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696080" y="3733920"/>
            <a:ext cx="9144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Info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 struc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3800" y="3505320"/>
            <a:ext cx="76320" cy="121896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ile Sha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1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distinct descriptors sharing the same disk file through two distinct open file table entri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Call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e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ice with the sam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ilenam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gu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71480" y="37749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1480" y="40035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671480" y="42321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71480" y="44607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1480" y="4689360"/>
            <a:ext cx="60984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2000" y="37749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62000" y="40035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2000" y="42321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2000" y="44607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2000" y="468936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13840" y="260424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8320" y="25916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59880" y="25916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3800" y="4067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033800" y="4371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3800" y="46767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120760" y="3762360"/>
            <a:ext cx="1913040" cy="326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871880" y="3819240"/>
            <a:ext cx="1436760" cy="1771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33800" y="3762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033800" y="5743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3800" y="604836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63532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3800" y="543888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20760" y="4788000"/>
            <a:ext cx="193068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951440" y="3753000"/>
            <a:ext cx="1366920" cy="147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337440" y="3759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37440" y="4673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7440" y="4064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4368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211280" y="34761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11280" y="51526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ow Processes Share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76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child process inherits its parent’s open files. Here is the situation immediately after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for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95520" y="3365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9552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59552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9552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59552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85680" y="3365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8568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8568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8568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8568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044720" y="2238480"/>
            <a:ext cx="170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672000" y="21819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83560" y="21819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57480" y="3657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57480" y="39625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57480" y="42670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044800" y="3352320"/>
            <a:ext cx="1912680" cy="3272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95920" y="49244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57480" y="3352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57480" y="5334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57480" y="5638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957480" y="59436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957480" y="5029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44800" y="43783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4875120" y="3323880"/>
            <a:ext cx="1386000" cy="1666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7680" y="3003120"/>
            <a:ext cx="150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arent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95520" y="5076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595520" y="5305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95520" y="5533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95520" y="5762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95520" y="5991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85680" y="50767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53053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85680" y="55339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85680" y="57625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85680" y="599112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1760" y="4714560"/>
            <a:ext cx="137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hild's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070000" y="3425400"/>
            <a:ext cx="1892520" cy="19782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070000" y="5127120"/>
            <a:ext cx="1879560" cy="939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73720" y="33242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73720" y="42386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73720" y="36291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273720" y="39337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273720" y="49244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73720" y="583884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73720" y="522936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73720" y="553392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7920" y="30668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00040" y="47397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How does a shell implement I/O redirectio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unix&gt; ls &gt; foo.t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By calling th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oldfd, newfd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fun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(per-process) descriptor table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ldf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entr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wf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0988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0988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00988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00988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0988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90440" y="428292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90440" y="462744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90440" y="497196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90440" y="531648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0440" y="5661000"/>
            <a:ext cx="919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175040" y="32767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efor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9960" y="428292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9960" y="462744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249960" y="497196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249960" y="531648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9960" y="5661000"/>
            <a:ext cx="9190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332320" y="428292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2320" y="462744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2320" y="497196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2320" y="531648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2320" y="5661000"/>
            <a:ext cx="917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95400" y="327600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ft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up2(4,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733920" y="4800600"/>
            <a:ext cx="1295280" cy="457200"/>
          </a:xfrm>
          <a:prstGeom prst="rightArrow">
            <a:avLst>
              <a:gd name="adj1" fmla="val 50000"/>
              <a:gd name="adj2" fmla="val 7082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06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efore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(descriptor 1) points to a terminal and descriptor 4 points to an open disk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35200" y="35942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35200" y="38228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35200" y="40514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35200" y="42800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35200" y="450864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125360" y="35942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5360" y="38228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25360" y="40514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125360" y="42800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25360" y="450864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77560" y="242316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11680" y="241056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23240" y="241056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97160" y="3886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097160" y="41911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97160" y="44956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133720" y="3580920"/>
            <a:ext cx="1963440" cy="352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935600" y="5153040"/>
            <a:ext cx="1465200" cy="257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97160" y="3581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97160" y="5562720"/>
            <a:ext cx="106704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097160" y="586728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097160" y="61722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97160" y="5257800"/>
            <a:ext cx="106704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184480" y="4606920"/>
            <a:ext cx="1930320" cy="698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920" y="40089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e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57920" y="37803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ou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4120" y="35517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d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014800" y="3565440"/>
            <a:ext cx="1398600" cy="1540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426360" y="35528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26360" y="44672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26360" y="38577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6360" y="41623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26360" y="51530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26360" y="60674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26360" y="54579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426360" y="57625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262040" y="330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2040" y="500040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 Redirection Example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83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fter calling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dup2(4,1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stdout is now redirected to the disk file pointed at by descriptor 4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28760" y="35179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28760" y="37465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328760" y="39751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328760" y="42037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328760" y="4432320"/>
            <a:ext cx="6094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19280" y="35179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19280" y="37465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9280" y="39751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9280" y="42037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19280" y="4432320"/>
            <a:ext cx="609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d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1120" y="2347200"/>
            <a:ext cx="17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on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proces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05240" y="2334240"/>
            <a:ext cx="163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en file tabl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717160" y="2334240"/>
            <a:ext cx="153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-node tab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shared b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processe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91080" y="380988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1080" y="411480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91080" y="44197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27280" y="3857760"/>
            <a:ext cx="1942920" cy="13460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529160" y="5076360"/>
            <a:ext cx="1465200" cy="2574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91080" y="350532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691080" y="548640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p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91080" y="579132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efcnt=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91080" y="60958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91080" y="518148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778040" y="4530600"/>
            <a:ext cx="1892160" cy="7621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608360" y="3489120"/>
            <a:ext cx="1398600" cy="15372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19920" y="34765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019920" y="439092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9920" y="3781440"/>
            <a:ext cx="1066680" cy="30492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19920" y="4086360"/>
            <a:ext cx="1066680" cy="304560"/>
          </a:xfrm>
          <a:prstGeom prst="rect">
            <a:avLst/>
          </a:prstGeom>
          <a:noFill/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19920" y="50767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cc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19920" y="599112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19920" y="5381640"/>
            <a:ext cx="106668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siz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9920" y="5686560"/>
            <a:ext cx="106668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typ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55960" y="32317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55600" y="492408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ile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C standard library (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ibc.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 contains a collection of higher-leve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I/O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cumented in Appendix B of K&amp;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 of standard I/O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pe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clo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byt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text lines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ge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ut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atted reading and writing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can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Stre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29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models open files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eam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straction for a file descriptor and a buffer in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programs begin life with three open streams (defined in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dio.h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in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outpu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tandard error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55000" y="4267080"/>
            <a:ext cx="7130160" cy="1845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in;  /* standard input (descriptor 0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out; /* standard output (descriptor 1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tern FILE *stderr; /* standard error (descriptor 2)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rintf(stdout, “Hello, world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7543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439960" y="1220760"/>
            <a:ext cx="3233880" cy="43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6732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4344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904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7176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87520" y="16002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87520" y="17524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87520" y="190512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7520" y="2057400"/>
            <a:ext cx="68436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87520" y="2209680"/>
            <a:ext cx="68436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044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171880" y="1981080"/>
            <a:ext cx="444240" cy="381240"/>
          </a:xfrm>
          <a:prstGeom prst="rightArrow">
            <a:avLst>
              <a:gd name="adj1" fmla="val 50000"/>
              <a:gd name="adj2" fmla="val 2913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0504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0960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2040" y="2438280"/>
            <a:ext cx="60984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04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296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578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3876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27520" y="4317120"/>
            <a:ext cx="495000" cy="685800"/>
          </a:xfrm>
          <a:prstGeom prst="upArrow">
            <a:avLst>
              <a:gd name="adj1" fmla="val 36667"/>
              <a:gd name="adj2" fmla="val 4489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0812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25100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792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365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9864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416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8168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9392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0108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9900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5943600"/>
            <a:ext cx="60984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3080" y="4102200"/>
            <a:ext cx="6972120" cy="393480"/>
          </a:xfrm>
          <a:prstGeom prst="leftRightArrow">
            <a:avLst>
              <a:gd name="adj1" fmla="val 48611"/>
              <a:gd name="adj2" fmla="val 91549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1912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9564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328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1964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32160" y="3137040"/>
            <a:ext cx="201276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0856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7040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05480" y="4259160"/>
            <a:ext cx="0" cy="78264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1680" y="2927520"/>
            <a:ext cx="187308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PU initiates a disk read by writing a command, logical block number, and destination memory address to a port (address) associated with disk controll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ffering in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functions use buffered I/O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84680" y="2023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h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74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51460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895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3526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670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\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4114800"/>
            <a:ext cx="457200" cy="2286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2438280"/>
            <a:ext cx="0" cy="1676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41880" y="2252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e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743200" y="2590920"/>
            <a:ext cx="0" cy="15238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23120" y="24829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581280"/>
            <a:ext cx="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99320" y="2743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l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62520" y="3352680"/>
            <a:ext cx="0" cy="762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0200" y="30160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o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067640" y="327672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“\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24080" y="2819520"/>
            <a:ext cx="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3048120"/>
            <a:ext cx="0" cy="1066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86600" y="478152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067400" y="3146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581280"/>
            <a:ext cx="609480" cy="5335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60360" y="56959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rite(1, buf += 6, 6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I/O Buffering in A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ou can see this buffering in action for yourself, using the always fascinating Unix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rac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program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200400" y="2987640"/>
            <a:ext cx="5562720" cy="2040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strace ./hell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ecve("./hello", ["hello"], [/* ... */])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(1, "hello\n", 6...)               =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_exit(0)                                = 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28600" y="2209680"/>
            <a:ext cx="259092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e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l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flush(std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 vs. Standard I/O vs. RI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525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ndard I/O and RIO are implemented using low-level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ones should you use in your program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733840" y="2913120"/>
            <a:ext cx="4041720" cy="15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733840" y="4491000"/>
            <a:ext cx="4041720" cy="6858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x I/O function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ccessed via system call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733840" y="3805200"/>
            <a:ext cx="1447560" cy="6858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andard I/O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47520" y="3211560"/>
            <a:ext cx="23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application progra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200" y="2451240"/>
            <a:ext cx="1989360" cy="2040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pen  fdop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read  fwrite fscanf fprintf  sscanf sprintf fgets  fputs fflush f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0000" y="4419720"/>
            <a:ext cx="1643760" cy="8240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open  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write  lsee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   clo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230560" y="4840200"/>
            <a:ext cx="4744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149960" y="3490920"/>
            <a:ext cx="1841760" cy="13107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writ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init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line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io_readn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37000" y="3805200"/>
            <a:ext cx="1447920" cy="685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2260080" y="3339720"/>
            <a:ext cx="482760" cy="74916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794640" y="4152960"/>
            <a:ext cx="368280" cy="0"/>
          </a:xfrm>
          <a:prstGeom prst="line">
            <a:avLst/>
          </a:prstGeom>
          <a:ln w="12600">
            <a:solidFill>
              <a:srgbClr val="00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is the most general and lowest overhead form of I/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other I/O packages are implemented using Unix I/O function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I/O provides functions for accessing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aling with short counts is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icient reading of text lines requires some form of buffering, also tricky and error pron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oth of these issues are addressed by the standard I/O and RIO packag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ffering increases efficiency by decreasing the number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a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wri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ystem cal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rt counts are handled automatical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s no function for accessing file meta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I/O is not appropriate for input and output on network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are poorly documented restrictions on streams that interact badly with restrictions on sock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s on stream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1: input function cannot follow output function without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flus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atter three functions all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change file position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triction 2: output function cannot follow an input function with intervening call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e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setp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win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striction on socket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are not allowed to change the file position of a sock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s and Cons of Standard I/O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33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1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ush stream after every outpu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around for restriction 2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 two streams on the same descriptor, one for reading and one for writing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ever, this requires you to close the same descriptor twice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s a deadly race in concurrent threaded program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3203640"/>
            <a:ext cx="4800600" cy="969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ILE *fpin, *fpou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in = fdopen(sockfd, “r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pout = fdopen(sockfd, “w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14400" y="5237280"/>
            <a:ext cx="4800600" cy="531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in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close(fpou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334800"/>
            <a:ext cx="6878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oosing I/O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rule: Use the highest-level I/O functions you can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C programmers are able to do all of their work using the standard I/O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standard I/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working with disk or terminal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aw Unix I/O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need to fetch file metad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rare cases when you need absolute highest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en to use RIO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you are reading and writing network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ver use standard I/O or raw Unix I/O on sockets or pip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or Further Inform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Unix bib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. Richard  Stevens, Advanced Programming in the Unix Environment, Addison Wesley, 199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dated, but still usefu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vens is arguably the best technical writer ever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d authoritative works in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CP/IP (the protocol that makes the Internet work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network programm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ix IPC programming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gically, Stevens died Sept 1, 1999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41280"/>
            <a:ext cx="7925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4560" y="3137040"/>
            <a:ext cx="196524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92720" y="3137040"/>
            <a:ext cx="0" cy="11350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9640" y="4272120"/>
            <a:ext cx="0" cy="167148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1095480"/>
            <a:ext cx="439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sk controller reads the sector and performs a direct memory access (DMA) transfer into main mem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41280"/>
            <a:ext cx="6959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ding a Disk Sector: Step 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51480" y="2743200"/>
            <a:ext cx="909720" cy="9144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27600" y="2895480"/>
            <a:ext cx="1492200" cy="533520"/>
          </a:xfrm>
          <a:prstGeom prst="leftRightArrow">
            <a:avLst>
              <a:gd name="adj1" fmla="val 50000"/>
              <a:gd name="adj2" fmla="val 5567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13200" y="2927520"/>
            <a:ext cx="90972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55920" y="2895480"/>
            <a:ext cx="1452600" cy="533520"/>
          </a:xfrm>
          <a:prstGeom prst="leftRightArrow">
            <a:avLst>
              <a:gd name="adj1" fmla="val 50000"/>
              <a:gd name="adj2" fmla="val 54201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71680" y="16002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71680" y="17524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71680" y="190512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1680" y="2057400"/>
            <a:ext cx="68400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71680" y="2209680"/>
            <a:ext cx="68400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44600" y="1600200"/>
            <a:ext cx="444600" cy="380880"/>
          </a:xfrm>
          <a:prstGeom prst="rightArrow">
            <a:avLst>
              <a:gd name="adj1" fmla="val 50000"/>
              <a:gd name="adj2" fmla="val 29182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54960" y="1981080"/>
            <a:ext cx="444600" cy="381240"/>
          </a:xfrm>
          <a:prstGeom prst="rightArrow">
            <a:avLst>
              <a:gd name="adj1" fmla="val 50000"/>
              <a:gd name="adj2" fmla="val 2915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89200" y="1447920"/>
            <a:ext cx="533520" cy="1066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93760" y="127908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46200" y="2438280"/>
            <a:ext cx="609480" cy="45720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200" y="1219320"/>
            <a:ext cx="2971800" cy="24382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7080" y="91404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37120" y="358128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52419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22920" y="5041800"/>
            <a:ext cx="129528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91132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2280" y="5041800"/>
            <a:ext cx="129564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aphic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dap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235160" y="4317120"/>
            <a:ext cx="495360" cy="685800"/>
          </a:xfrm>
          <a:prstGeom prst="upArrow">
            <a:avLst>
              <a:gd name="adj1" fmla="val 36667"/>
              <a:gd name="adj2" fmla="val 44866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92080" y="5029200"/>
            <a:ext cx="1143000" cy="520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206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280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8320" y="579096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65840" y="579096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eybo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78080" y="5562720"/>
            <a:ext cx="0" cy="3045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85240" y="579096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onito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3160" y="5562720"/>
            <a:ext cx="0" cy="380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5943600"/>
            <a:ext cx="609480" cy="609480"/>
          </a:xfrm>
          <a:prstGeom prst="can">
            <a:avLst>
              <a:gd name="adj" fmla="val 25000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880" y="4102200"/>
            <a:ext cx="6972480" cy="393480"/>
          </a:xfrm>
          <a:prstGeom prst="leftRightArrow">
            <a:avLst>
              <a:gd name="adj1" fmla="val 48611"/>
              <a:gd name="adj2" fmla="val 91553"/>
            </a:avLst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427212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79800" y="4262400"/>
            <a:ext cx="1666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3320" y="425304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17440" y="38984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03800" y="4191120"/>
            <a:ext cx="162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3400560" y="2451240"/>
            <a:ext cx="1017360" cy="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92720" y="2438280"/>
            <a:ext cx="0" cy="18338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54560" y="4300560"/>
            <a:ext cx="1128600" cy="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483160" y="4272120"/>
            <a:ext cx="6480" cy="78264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55480" y="2927520"/>
            <a:ext cx="1873440" cy="57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1095480"/>
            <a:ext cx="43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the DMA transfer completes, the disk controller notifies the CPU with an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(i.e., asserts a special “interrupt” pin on the CPU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417600"/>
            <a:ext cx="2514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Unix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is a sequence of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byt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, .... , B</a:t>
            </a:r>
            <a:r>
              <a:rPr b="1" i="1" lang="en-US" sz="2000" spc="-1" strike="noStrike" baseline="-25000">
                <a:solidFill>
                  <a:srgbClr val="000066"/>
                </a:solidFill>
                <a:latin typeface="Arial"/>
              </a:rPr>
              <a:t>m-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I/O devices are represented as fi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sda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us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isk parti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tty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(termin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en the kernel is represented as a fil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dev/km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(kernel memory image)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/pr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(kernel data structur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5824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File Typ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14300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ula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or text fil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ix does not know the difference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rectory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hat contains the names and locations of other fi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 special and block special fil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inals (character special) and disks ( block special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O (named pip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interprocess co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c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ile type used for network communication between proc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x I/O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e elegant mapping of files to devices allows kernel to export simple interface called Unix I/O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Unix idea: All input and output is handled in a consistent and uniform wa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sic Unix I/O operations (system calls): 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ning and closing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open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los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ng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urrent file posi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seek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seek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(not discussed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ing and writing a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ad()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rite(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496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ning Fi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624880" cy="578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ning a file informs the kernel that you are getting ready to access that fi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s a small identifying integ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le descript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d == -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tes that an error occurr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process created by a Unix shell begins life with three open files associated with a terminal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: standard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: standar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: standard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073240"/>
            <a:ext cx="6324840" cy="155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fd;   /* file descripto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(fd = open(“/etc/hosts”, O_RDONLY)) &lt; 0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error(“open”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1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1-06T20:47:48Z</dcterms:modified>
  <cp:revision>325</cp:revision>
  <dc:subject/>
  <dc:title>System-Level I/O</dc:title>
</cp:coreProperties>
</file>