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40D5B3A0-86B6-4BB1-B1E9-14125DC3A51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/Linux Memory System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3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920"/>
            <a:ext cx="6175080" cy="22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6 address transl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memory manag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 page fault hand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mapp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tion of Virtual Address Sp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4114440"/>
            <a:ext cx="4921200" cy="233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ified 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pag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ag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: Is entry in physical memory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: Has this part of VA space been mappe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34600" y="914400"/>
            <a:ext cx="6700680" cy="4876920"/>
            <a:chOff x="534600" y="914400"/>
            <a:chExt cx="6700680" cy="4876920"/>
          </a:xfrm>
        </p:grpSpPr>
        <p:sp>
          <p:nvSpPr>
            <p:cNvPr id="365" name=""/>
            <p:cNvSpPr/>
            <p:nvPr/>
          </p:nvSpPr>
          <p:spPr>
            <a:xfrm>
              <a:off x="534600" y="1828800"/>
              <a:ext cx="1612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age Direct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2320" y="1143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914760" y="2209680"/>
              <a:ext cx="1066320" cy="914400"/>
              <a:chOff x="914760" y="2209680"/>
              <a:chExt cx="1066320" cy="914400"/>
            </a:xfrm>
          </p:grpSpPr>
          <p:sp>
            <p:nvSpPr>
              <p:cNvPr id="368" name=""/>
              <p:cNvSpPr/>
              <p:nvPr/>
            </p:nvSpPr>
            <p:spPr>
              <a:xfrm>
                <a:off x="914760" y="22096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14760" y="24382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14760" y="26668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914760" y="289548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52840" y="22096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52840" y="24382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52840" y="26668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52840" y="2895480"/>
                <a:ext cx="2282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 flipV="1">
              <a:off x="1905120" y="1828800"/>
              <a:ext cx="1143000" cy="4572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29160" y="2514600"/>
              <a:ext cx="121896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29160" y="2971800"/>
              <a:ext cx="1218960" cy="9907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048120" y="914400"/>
              <a:ext cx="1067040" cy="914400"/>
              <a:chOff x="3048120" y="914400"/>
              <a:chExt cx="1067040" cy="914400"/>
            </a:xfrm>
          </p:grpSpPr>
          <p:sp>
            <p:nvSpPr>
              <p:cNvPr id="380" name=""/>
              <p:cNvSpPr/>
              <p:nvPr/>
            </p:nvSpPr>
            <p:spPr>
              <a:xfrm>
                <a:off x="3048120" y="9144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8120" y="11430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48120" y="13716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48120" y="160020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86560" y="9144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86560" y="11430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86560" y="13716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86560" y="160020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3048120" y="1981080"/>
              <a:ext cx="1067040" cy="914400"/>
              <a:chOff x="3048120" y="1981080"/>
              <a:chExt cx="1067040" cy="914400"/>
            </a:xfrm>
          </p:grpSpPr>
          <p:sp>
            <p:nvSpPr>
              <p:cNvPr id="389" name=""/>
              <p:cNvSpPr/>
              <p:nvPr/>
            </p:nvSpPr>
            <p:spPr>
              <a:xfrm>
                <a:off x="3048120" y="19810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8120" y="22096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8120" y="24382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1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8120" y="2666880"/>
                <a:ext cx="83844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886560" y="19810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886560" y="22096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560" y="24382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886560" y="2666880"/>
                <a:ext cx="228600" cy="228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048120" y="3048120"/>
              <a:ext cx="1067040" cy="914400"/>
              <a:chOff x="3048120" y="3048120"/>
              <a:chExt cx="1067040" cy="914400"/>
            </a:xfrm>
          </p:grpSpPr>
          <p:sp>
            <p:nvSpPr>
              <p:cNvPr id="398" name=""/>
              <p:cNvSpPr/>
              <p:nvPr/>
            </p:nvSpPr>
            <p:spPr>
              <a:xfrm>
                <a:off x="3048120" y="30481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048120" y="32767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8120" y="35053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48120" y="3733920"/>
                <a:ext cx="83844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3300"/>
                    </a:solidFill>
                    <a:latin typeface="Arial"/>
                  </a:rPr>
                  <a:t>P=0, M=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886560" y="30481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86560" y="32767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86560" y="35053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886560" y="3733920"/>
                <a:ext cx="22860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10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00"/>
                    </a:solidFill>
                    <a:latin typeface="Arial"/>
                  </a:rPr>
                  <a:t>•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5715360" y="9144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15360" y="12193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5360" y="152388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15360" y="18288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360" y="2133720"/>
              <a:ext cx="76176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15360" y="24382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360" y="2743200"/>
              <a:ext cx="761760" cy="304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15360" y="30481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360" y="33526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5360" y="36576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360" y="3962520"/>
              <a:ext cx="76176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15360" y="42670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15360" y="4572000"/>
              <a:ext cx="761760" cy="30492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15360" y="4876920"/>
              <a:ext cx="76176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15360" y="518148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15360" y="5486400"/>
              <a:ext cx="761760" cy="30492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62520" y="990720"/>
              <a:ext cx="175284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31680" bIns="31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38840" y="144792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38840" y="1676520"/>
              <a:ext cx="1676520" cy="30456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38840" y="2057400"/>
              <a:ext cx="167652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62520" y="2514600"/>
              <a:ext cx="1752840" cy="3808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38840" y="2743200"/>
              <a:ext cx="1676520" cy="457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38840" y="3124080"/>
              <a:ext cx="1676520" cy="160020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38840" y="3352680"/>
              <a:ext cx="1676520" cy="167652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62320" y="228600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320" y="3124080"/>
              <a:ext cx="609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P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75320" y="54864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75320" y="51814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75320" y="48769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5320" y="45720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475320" y="42670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75320" y="39625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5320" y="36576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475320" y="335268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75320" y="304812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75320" y="2743200"/>
              <a:ext cx="67536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74600" y="24382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74600" y="21337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474600" y="18288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474600" y="152388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4600" y="121932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74600" y="914400"/>
              <a:ext cx="7606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00"/>
                  </a:solidFill>
                  <a:latin typeface="Arial"/>
                </a:rPr>
                <a:t>Page 1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238880" y="4191120"/>
            <a:ext cx="1684800" cy="1983960"/>
            <a:chOff x="7238880" y="4191120"/>
            <a:chExt cx="1684800" cy="1983960"/>
          </a:xfrm>
        </p:grpSpPr>
        <p:sp>
          <p:nvSpPr>
            <p:cNvPr id="449" name=""/>
            <p:cNvSpPr/>
            <p:nvPr/>
          </p:nvSpPr>
          <p:spPr>
            <a:xfrm>
              <a:off x="7238880" y="434340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38880" y="472428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38880" y="4952880"/>
              <a:ext cx="380880" cy="30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38880" y="5867280"/>
              <a:ext cx="380880" cy="304560"/>
            </a:xfrm>
            <a:prstGeom prst="rect">
              <a:avLst/>
            </a:prstGeom>
            <a:solidFill>
              <a:srgbClr val="800000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38880" y="5410080"/>
              <a:ext cx="380880" cy="30456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5720" y="4191120"/>
              <a:ext cx="1172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Mem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5000" y="4572000"/>
              <a:ext cx="1138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Disk Add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7520" y="4952880"/>
              <a:ext cx="8794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In Me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7520" y="5410080"/>
              <a:ext cx="9464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On Dis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696800" y="5867280"/>
              <a:ext cx="12268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Unmapp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5761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280" y="1143000"/>
            <a:ext cx="4724640" cy="3733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676520" y="334800"/>
            <a:ext cx="376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LB entry (not all documented, so this is speculative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indicates a valid (1) or invalid (0) TLB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is entry a PDE (1) or a PTE (0)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ta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disambiguates entries cached in the same 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PDE/P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page directory or page table ent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 of the data TLB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 sets, 4 entries/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752480" y="1676520"/>
            <a:ext cx="5791320" cy="609480"/>
            <a:chOff x="1752480" y="1676520"/>
            <a:chExt cx="5791320" cy="609480"/>
          </a:xfrm>
        </p:grpSpPr>
        <p:sp>
          <p:nvSpPr>
            <p:cNvPr id="598" name=""/>
            <p:cNvSpPr/>
            <p:nvPr/>
          </p:nvSpPr>
          <p:spPr>
            <a:xfrm>
              <a:off x="1752480" y="1905120"/>
              <a:ext cx="30481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E/PTE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00600" y="1905120"/>
              <a:ext cx="19810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Tag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781680" y="19051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P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62560" y="19051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85764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38520" y="1676520"/>
              <a:ext cx="280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648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50280" y="1676520"/>
              <a:ext cx="3794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897280" y="5176800"/>
            <a:ext cx="3499200" cy="1222200"/>
            <a:chOff x="2897280" y="5176800"/>
            <a:chExt cx="3499200" cy="1222200"/>
          </a:xfrm>
        </p:grpSpPr>
        <p:sp>
          <p:nvSpPr>
            <p:cNvPr id="607" name=""/>
            <p:cNvSpPr/>
            <p:nvPr/>
          </p:nvSpPr>
          <p:spPr>
            <a:xfrm>
              <a:off x="289728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827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85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54320" y="51814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89728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827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685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54320" y="54100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9728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827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685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54320" y="56386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9728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5827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685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54320" y="6095880"/>
              <a:ext cx="6854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00"/>
                  </a:solidFill>
                  <a:latin typeface="Arial"/>
                </a:rPr>
                <a:t>entr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061520" y="5708520"/>
              <a:ext cx="4374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26440" y="51768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35800" y="54054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40480" y="5634000"/>
              <a:ext cx="6433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40480" y="6091200"/>
              <a:ext cx="7560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set 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980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TL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638680" y="121932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1. Partition VPN into TLBT and TLBI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2. Is the PTE for VPN cached in set TLBI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75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Ye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then build physical addres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4. </a:t>
            </a:r>
            <a:r>
              <a:rPr b="1" lang="en-US" sz="2000" spc="-1" strike="noStrike" u="sng">
                <a:solidFill>
                  <a:srgbClr val="003300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: then read PTE (and PDE if not cached) from memory and build physical addres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2120" y="13716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52280" y="22860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22860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5972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7800" y="20574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0666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218960" y="2743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0876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2000" y="1981080"/>
            <a:ext cx="16232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5740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5909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37339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909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8862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238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05740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124080" y="403848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05740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90920" y="4419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4197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384280" y="400212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9320" y="327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193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380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623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06668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576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0360" y="374004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57600" y="350532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793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52560" y="25653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920" y="25909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600" y="4876920"/>
            <a:ext cx="3429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 transl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5760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419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419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19040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07680" y="4191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148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114800" y="4723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27280" y="2463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52480" y="25146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2514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316400" y="4727520"/>
            <a:ext cx="1093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676520" y="29718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954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43400" y="3886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43400" y="52578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823760" y="33480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52280" y="4495680"/>
            <a:ext cx="36576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52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1)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748120" y="1817280"/>
            <a:ext cx="2849400" cy="38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1: page table and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MU builds physical address and fetches data wor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-36648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990720" y="21337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14300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9907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523880" y="2971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002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895480" y="36576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143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86520" y="44434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1295280" y="456696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438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5909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590920" y="4572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81280" y="2971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48320" y="2971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8872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726800" y="2743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828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28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66688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66688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1174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90640" y="32385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117440" y="23875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4856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57400" y="21337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35880" y="19051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57400" y="4038480"/>
            <a:ext cx="3808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5909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00600" y="2286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540160" y="22478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95480" y="40384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2680" y="40384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72000" y="365760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343400" y="45975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229280" y="32511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26708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267080" y="4572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0" y="4038480"/>
            <a:ext cx="838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3124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63868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54097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143680" y="3098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73392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4038480" y="327636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371600" y="463068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66880" y="46483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04920" y="52578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83818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504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1/0: page table present but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ndler receives the following arg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 that caused fa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ult caused by non-present page or page-level protection vio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/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r/supervis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067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6720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305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3050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1431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1431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66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43160" y="434340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1911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49568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4956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1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412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eck for a legal virtual addr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TE through PD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free physical page (swapping out current page if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virtual page from disk and copy to virtual pag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exception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077840" y="182880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230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07784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6113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6876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6876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298296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2304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2304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284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3827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52576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67804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780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916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1628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5436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75436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2049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78120" y="29336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049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4360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4880" y="182880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233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1448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9829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44016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4590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754360" y="434340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657600" y="2705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724280" y="2705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96468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03120" y="2476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66880" y="2019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876920" y="2019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1612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57800" y="2857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715000" y="285768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5486040" y="3848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219640" y="28321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33080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368960" y="2971800"/>
            <a:ext cx="0" cy="132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68960" y="42926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835440" y="3835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V="1">
            <a:off x="4140360" y="2997000"/>
            <a:ext cx="0" cy="84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4560" y="334440"/>
            <a:ext cx="845820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1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638680" y="1142640"/>
            <a:ext cx="3200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1: page table missing but page presen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roduces consistency issu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ly every page out requires update of disk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 disallows th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page table is swapped out, then swap out its data pages to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765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371760" y="505476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6765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670040" y="3797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3188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63188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71760" y="543564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828960" y="543564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43160" y="604512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4952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67352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44492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73520" y="37339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48120" y="594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53416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 0/0: page table and page missing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MU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fault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37176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914560" y="38098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3047760" y="3809880"/>
            <a:ext cx="190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371760" y="54100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8600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828960" y="5410080"/>
            <a:ext cx="3812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0481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16280" y="334800"/>
            <a:ext cx="175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rnal Designation for Successor to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had internal designation P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damentally Different from Pentiu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of-order, superscala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gned to handle server appli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ires high performance memory syst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ulting Process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Pro (1996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 (1997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MMX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pecial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2 cache on same chi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I (1999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orporated Streaming SIMD Extens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ore instructions for parallel proc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80880" y="334440"/>
            <a:ext cx="83822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ng with the P6 Page Tabl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ase 0/0, 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866920" y="1294920"/>
            <a:ext cx="2971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S action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wap in page t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art faulting instruction by returning from handle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ke case 0/1 from here 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4670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6192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146700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00160" y="26668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076480" y="33526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07648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371760" y="33526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61928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6192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43720" y="413856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1771560" y="4262040"/>
            <a:ext cx="30492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91456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593720" y="29336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59372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82484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33680" y="182880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61216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533680" y="3733920"/>
            <a:ext cx="380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371760" y="3733920"/>
            <a:ext cx="457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847880" y="4325760"/>
            <a:ext cx="123336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186000" y="429264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52280" y="3657600"/>
            <a:ext cx="8762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52640" y="5486400"/>
            <a:ext cx="824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673520" y="502920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444920" y="5969160"/>
            <a:ext cx="1233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p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673520" y="54100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4920" y="49528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828960" y="3733920"/>
            <a:ext cx="3812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3124080" y="4267080"/>
            <a:ext cx="3049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240" bIns="-39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10200" y="3809880"/>
            <a:ext cx="20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419720" y="38098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4419720" y="5938560"/>
            <a:ext cx="30456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9600" bIns="-39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371600" y="334800"/>
            <a:ext cx="543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29200" y="2438280"/>
            <a:ext cx="3886200" cy="31244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39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1 Cache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5181480" y="1066320"/>
            <a:ext cx="365760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rtition physical address into CO, CI, and C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 CT to determine if  line containing word at address PA is cached in set CI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no: check L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yes: extract word at byte offset CO and return to processor. 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601280" y="556884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90720" y="1530360"/>
            <a:ext cx="106668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297800" y="130176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2952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2880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362320" y="36640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895480" y="36640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2952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828800" y="381636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362320" y="381636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895480" y="381636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2952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82880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362320" y="396864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2895480" y="3968640"/>
            <a:ext cx="53352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2952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82880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362320" y="434988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895480" y="434988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155680" y="393228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2666880" y="488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038480" y="472428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09680" y="4724280"/>
            <a:ext cx="182880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2057400" y="39621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3733920" y="3886200"/>
            <a:ext cx="0" cy="137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 flipV="1">
            <a:off x="3428640" y="3886200"/>
            <a:ext cx="30492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1600200" y="183528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438280" y="526428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809880" y="526428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745720" y="5035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3508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05320" y="526428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04960" y="5035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290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68316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0680" y="5226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29000" y="5943600"/>
            <a:ext cx="9907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4419720" y="282528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971800" y="130176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600560" y="334152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3809880" y="2819520"/>
            <a:ext cx="60984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3809880" y="21394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H="1">
            <a:off x="2057400" y="1676520"/>
            <a:ext cx="91440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38160" bIns="-38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559520" y="22924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775680" y="2216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276720" y="5715000"/>
            <a:ext cx="3808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37800" bIns="-37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429000" y="572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0574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2209680" y="3962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176560" y="3814920"/>
            <a:ext cx="759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38080" y="334800"/>
            <a:ext cx="6408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eding Up L1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90520" y="4266720"/>
            <a:ext cx="8548560" cy="202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27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hat determine CI identical in virtual and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index into cache while address translation taking pl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check with CT from physical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ly indexed, physically tagged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32520" indent="-208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carefully sized to make this possi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762120" y="2133720"/>
            <a:ext cx="25002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 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57600" y="182880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02920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964680" y="16002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05440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724280" y="18288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23920" y="16002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58480" y="35812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657600" y="37339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724280" y="3733920"/>
            <a:ext cx="6098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961800" y="41148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21400" y="4114800"/>
            <a:ext cx="6094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24280" y="24382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657600" y="243828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352680" y="182880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4267080" y="3504960"/>
            <a:ext cx="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962520" y="2895480"/>
            <a:ext cx="609480" cy="60984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1613">
                <a:moveTo>
                  <a:pt x="3600" y="0"/>
                </a:moveTo>
                <a:arcTo wR="3600" hR="3600" stAng="16200000" swAng="-5400000"/>
                <a:lnTo>
                  <a:pt x="0" y="18013"/>
                </a:lnTo>
                <a:arcTo wR="3600" hR="3600" stAng="10800000" swAng="-5400000"/>
                <a:lnTo>
                  <a:pt x="18000" y="216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ddr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ran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 flipV="1">
            <a:off x="4267080" y="2742840"/>
            <a:ext cx="0" cy="152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5029200" y="274320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028120" y="2941560"/>
            <a:ext cx="8323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han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6019920" y="1676520"/>
            <a:ext cx="2666880" cy="25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4008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9343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46748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001000" y="2819520"/>
            <a:ext cx="53352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5410080" y="2895480"/>
            <a:ext cx="914400" cy="990720"/>
          </a:xfrm>
          <a:prstGeom prst="line">
            <a:avLst/>
          </a:prstGeom>
          <a:ln w="1908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171840" y="3124080"/>
            <a:ext cx="359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66294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V="1">
            <a:off x="716292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608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8229600" y="1447920"/>
            <a:ext cx="0" cy="12952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19720" y="1371600"/>
            <a:ext cx="1904760" cy="38088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0" y="240"/>
                </a:moveTo>
                <a:lnTo>
                  <a:pt x="192" y="0"/>
                </a:lnTo>
                <a:lnTo>
                  <a:pt x="1200" y="0"/>
                </a:lnTo>
              </a:path>
            </a:pathLst>
          </a:custGeom>
          <a:noFill/>
          <a:ln w="19080">
            <a:solidFill>
              <a:srgbClr val="00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782040" y="1143000"/>
            <a:ext cx="1205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g Che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3809880" y="4495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3809880" y="2666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Organizes VM as Collection of “Areas”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1143000" y="1905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84320" y="1290600"/>
            <a:ext cx="12618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ask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905480" y="1447920"/>
            <a:ext cx="1216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981080" y="1854360"/>
            <a:ext cx="1067040" cy="157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981080" y="18288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g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57200" y="1625760"/>
            <a:ext cx="762120" cy="180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7200" y="1828800"/>
            <a:ext cx="7621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981080" y="228600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mma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506760" y="114300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809880" y="15494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809880" y="1523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809880" y="1981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09880" y="1752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048120" y="2362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3429000" y="15998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4290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809880" y="3378240"/>
            <a:ext cx="1067040" cy="134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09880" y="3352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809880" y="3809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809880" y="3581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09880" y="5207040"/>
            <a:ext cx="1067040" cy="111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809880" y="5181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en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809880" y="5638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pro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09880" y="60958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n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09880" y="54100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sta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1500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5364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71500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71500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71500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76920" y="167652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76920" y="190512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876920" y="35053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76920" y="37339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4876920" y="4495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876920" y="525780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35809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358128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35809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58128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2596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692840" y="541008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8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692840" y="419112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0804a0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692840" y="2743200"/>
            <a:ext cx="11721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4000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0" y="3504960"/>
            <a:ext cx="365760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gd: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age directory addr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prot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d/write permissions for this are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m_fla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ared with other processes or private to this proces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809880" y="22096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9880" y="40384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809880" y="5867280"/>
            <a:ext cx="106704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fla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Page Fault Handling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54080" y="1447920"/>
            <a:ext cx="1679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m_area_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457200" y="1828800"/>
            <a:ext cx="1066680" cy="1143000"/>
            <a:chOff x="457200" y="1828800"/>
            <a:chExt cx="1066680" cy="1143000"/>
          </a:xfrm>
        </p:grpSpPr>
        <p:sp>
          <p:nvSpPr>
            <p:cNvPr id="1347" name=""/>
            <p:cNvSpPr/>
            <p:nvPr/>
          </p:nvSpPr>
          <p:spPr>
            <a:xfrm>
              <a:off x="457200" y="185436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57200" y="18288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57200" y="22860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57200" y="27432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7200" y="205740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457200" y="3352680"/>
            <a:ext cx="1066680" cy="1143000"/>
            <a:chOff x="457200" y="3352680"/>
            <a:chExt cx="1066680" cy="1143000"/>
          </a:xfrm>
        </p:grpSpPr>
        <p:sp>
          <p:nvSpPr>
            <p:cNvPr id="1353" name=""/>
            <p:cNvSpPr/>
            <p:nvPr/>
          </p:nvSpPr>
          <p:spPr>
            <a:xfrm>
              <a:off x="457200" y="337824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57200" y="33526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57200" y="38098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57200" y="42670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57200" y="358128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57200" y="4876920"/>
            <a:ext cx="1066680" cy="1143000"/>
            <a:chOff x="457200" y="4876920"/>
            <a:chExt cx="1066680" cy="1143000"/>
          </a:xfrm>
        </p:grpSpPr>
        <p:sp>
          <p:nvSpPr>
            <p:cNvPr id="1359" name=""/>
            <p:cNvSpPr/>
            <p:nvPr/>
          </p:nvSpPr>
          <p:spPr>
            <a:xfrm>
              <a:off x="457200" y="4902480"/>
              <a:ext cx="1066680" cy="11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57200" y="48769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e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57200" y="53341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r/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57913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nex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7200" y="5105520"/>
              <a:ext cx="106668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00"/>
                  </a:solidFill>
                  <a:latin typeface="Arial"/>
                </a:rPr>
                <a:t>vm_star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2362320" y="1371600"/>
            <a:ext cx="19810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100600" y="1066680"/>
            <a:ext cx="24674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rocess virtual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4419720"/>
            <a:ext cx="1981080" cy="1143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62320" y="3657600"/>
            <a:ext cx="1981080" cy="76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362320" y="2362320"/>
            <a:ext cx="198108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523880" y="190512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23880" y="2133720"/>
            <a:ext cx="8384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523880" y="350532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23880" y="3733920"/>
            <a:ext cx="8384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1523880" y="44956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523880" y="52578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 flipH="1">
            <a:off x="22824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2860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2860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22824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2860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28600" y="487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373280" y="60181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5257440" y="1066320"/>
            <a:ext cx="350532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VA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 is it in an area defined by a vm_area_struc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segmentation violation (e.g. (1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s the operation legal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.e., can the process read/write this area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 then signal protection violation (e.g., (2)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f OK, handle fa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(3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3434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483080" y="4643280"/>
            <a:ext cx="653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343400" y="4119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81640" y="38815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343400" y="3286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1640" y="3048120"/>
            <a:ext cx="609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48320" y="28195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648320" y="4343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648320" y="35812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55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ion of new VM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are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done via “memory mapping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 and page tables for are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ea can be backed by (i.e., get its initial values from) 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ular file on disk (e.g., an executable object fil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come from a section of a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hing (e.g., bs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 page bytes are zero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ty pages are swapped back and forth between a special swap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Key poi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no virtual pages are copied into physical memory until they are referenced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nown as “demand pag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ucial for time and space efficiency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7259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er-Level Memory Mapp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*mmap(void *start, int len,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39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int prot, int flags, int fd, int offse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6152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starting at offse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ffs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 the file specified by file descrip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preferably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a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usually 0 for don’t care)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ro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READ, MAP_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ag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MAP_PRIVATE, MAP_SHAR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a pointer to the mapped are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1520" indent="-152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fast file 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for applications like Web servers that need to quickly copy fil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10640" indent="-147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ma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file transfers without copying into user space.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462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ma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) Example: Fast File Cop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54400" cy="522468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unistd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mman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types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sys/stat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#include &lt;fcntl.h&gt;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mmap.c - a program that uses mmap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 to copy itself to stdout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*/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4343400" y="1066680"/>
            <a:ext cx="4572000" cy="5265720"/>
          </a:xfrm>
          <a:prstGeom prst="rect">
            <a:avLst/>
          </a:prstGeom>
          <a:noFill/>
          <a:ln w="3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int i, fd, 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char *buf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/* open the file &amp; get its siz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d = open("./mmap.c", O_RDONL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fstat(fd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00"/>
                </a:solidFill>
                <a:latin typeface="Courier New"/>
              </a:rPr>
              <a:t>size = stat.st_siz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map the file to a new VM area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bufp = mmap(0, size, PROT_READ,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MAP_PRIVATE, fd, 0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/* write the VM area to stdout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write(1, bufp, size)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170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004760" y="259092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code/data/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004760" y="3940200"/>
            <a:ext cx="2175120" cy="455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mapped regio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shared librari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004760" y="4392720"/>
            <a:ext cx="2175120" cy="4921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004760" y="4888080"/>
            <a:ext cx="2175120" cy="453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untime heap (via malloc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004760" y="3322800"/>
            <a:ext cx="2175120" cy="61596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004760" y="5850000"/>
            <a:ext cx="2175120" cy="26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gram text (.text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04760" y="5591160"/>
            <a:ext cx="2175120" cy="27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itialized data (.data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04760" y="5332320"/>
            <a:ext cx="2175120" cy="26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nitialized data (.bs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 flipV="1">
            <a:off x="2030400" y="464004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004760" y="3094200"/>
            <a:ext cx="21751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V="1">
            <a:off x="2041560" y="3705120"/>
            <a:ext cx="0" cy="238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2050920" y="332280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004760" y="6108840"/>
            <a:ext cx="2175120" cy="2696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99920" y="6248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23480" y="3130560"/>
            <a:ext cx="64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%es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46280" y="3294000"/>
            <a:ext cx="258480" cy="1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371760" y="329256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276720" y="3336840"/>
            <a:ext cx="0" cy="549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2760" y="472428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r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31880" y="4876920"/>
            <a:ext cx="258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62080" y="2917800"/>
            <a:ext cx="577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xc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004760" y="2070000"/>
            <a:ext cx="2175120" cy="52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hysical 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flipH="1">
            <a:off x="838080" y="2070000"/>
            <a:ext cx="74880" cy="1003320"/>
          </a:xfrm>
          <a:custGeom>
            <a:avLst/>
            <a:gdLst>
              <a:gd name="textAreaLeft" fmla="*/ 360 w 74880"/>
              <a:gd name="textAreaRight" fmla="*/ 27360 w 7488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0" y="2230560"/>
            <a:ext cx="9144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ame for each proc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004760" y="1143000"/>
            <a:ext cx="2175120" cy="93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-specific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ructure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page table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sk and mm structs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3276720" y="2285640"/>
            <a:ext cx="0" cy="777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352320" y="259092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kerne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647960" y="914040"/>
            <a:ext cx="4051080" cy="526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run a new program p in the current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exec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e vm_area_struct’s and page tables for old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new vm_area_struct’s and page tables for new ar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ck, bss, data, text, shared lib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xt and data backed by ELF executable object file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ss and stack initialized to zer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C to entry point in .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2960" indent="-1616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 will swap in code and data pages as needed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3657600" y="56386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657600" y="586728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962160" y="6095880"/>
            <a:ext cx="321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H="1">
            <a:off x="320040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3200400" y="6019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640680" y="521028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3200400" y="53341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8760" y="3048120"/>
            <a:ext cx="12895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emand-zer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H="1">
            <a:off x="320040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656880" y="4464000"/>
            <a:ext cx="906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bc.s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657600" y="39625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657600" y="4191120"/>
            <a:ext cx="914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.tex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H="1">
            <a:off x="32004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3200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6205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Memory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8800" y="3798720"/>
            <a:ext cx="2590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bus interface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538280" y="2209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560" y="220968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382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3880" y="12952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6360" y="1828800"/>
            <a:ext cx="144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external system bus (e.g. PC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81080" y="4789440"/>
            <a:ext cx="12193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ruc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fetch un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00400" y="4789440"/>
            <a:ext cx="1218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909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766880" y="42559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29000" y="274320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062160" y="32763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352680"/>
            <a:ext cx="12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0" y="51703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86400" y="37987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in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86400" y="4484520"/>
            <a:ext cx="1066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19360" y="4179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052880" y="417996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52880" y="5398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19360" y="3875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19360" y="4027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81480" y="4026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81480" y="4789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7560" y="2590920"/>
            <a:ext cx="5334120" cy="32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4240" y="5862600"/>
            <a:ext cx="2028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processor pack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28600"/>
            <a:ext cx="29718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2 bit address spa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4 KB page siz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, L2, and TLB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-way set associativ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nst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ata TL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4 entri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i-cache and d-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2 B lin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2 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49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28 KB -- 2 M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0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k()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 create a new process us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(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copies of the old process’s mm_struct, vm_area_struct’s, and page t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this point the two processes are sharing all of their page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to get separate spaces without copying all the virtual pages from one space to another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py on write” techniqu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y-on-wri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 pages of  writeable areas read-on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ag vm_area_struct’s for these areas as private “copy-on-write”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s by either process to these pages will cause page faul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ault handler recognizes copy-on-write, makes a copy of the page, and restores write permiss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result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pies are deferred until absolutely necessary (i.e., when one of the processes tries to modify a shared page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827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System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rely a speed-up tech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havior invisible to application programmer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lemented totally in hard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irtual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s many OS-related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 cre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king childre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ask swit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te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 of hardware &amp; software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 management of tables, allo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access of tab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caching of table entries (TL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5560"/>
            <a:ext cx="68151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view of Abbrevi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358640"/>
            <a:ext cx="8307360" cy="464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mbol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virtual address (V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I: TLB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LBT: TLB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O: virtual page offset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PN: virtual page number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onents of the physical address (P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O: physical page offset (same as VPO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PN: physical page numb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: byte offset within cache li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I: cache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T: cache ta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P6 Address Trans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990720"/>
            <a:ext cx="60984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051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19051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568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4120" y="16765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2590920"/>
            <a:ext cx="533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TLB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4920" y="236232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080" y="23623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31680" y="1752480"/>
            <a:ext cx="20955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virtual address (V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053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6516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2895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895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04812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2096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447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235400"/>
            <a:ext cx="1752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LB (16 sets, 4 entri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495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4956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060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160" y="42908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5181480"/>
            <a:ext cx="83844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55627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5181480"/>
            <a:ext cx="83808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556272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640" y="624852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33520" y="6090840"/>
            <a:ext cx="304560" cy="1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5638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4964040"/>
            <a:ext cx="10666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29200" y="496404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7680" y="473544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3733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5638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6483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5029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50292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6140520"/>
            <a:ext cx="1450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6680" y="335916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02000" y="3124080"/>
            <a:ext cx="5745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TL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2133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21337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13040" y="5410080"/>
            <a:ext cx="14310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hysica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address (PA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1219320"/>
            <a:ext cx="10666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2600" y="9907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33526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33526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50532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350532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3657600"/>
            <a:ext cx="53316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3657600"/>
            <a:ext cx="533520" cy="152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100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038480"/>
            <a:ext cx="5331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4038480"/>
            <a:ext cx="53352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70480" y="3621240"/>
            <a:ext cx="4374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7816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815328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56386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1722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057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23888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848720" y="34286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54344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54344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754344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56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56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90640" y="20829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28880" y="21844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28880" y="47624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720" bIns="9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715000" y="15235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53080" y="4952880"/>
            <a:ext cx="10670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24680" y="49528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0520" y="4724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4988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9528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19760" y="47242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438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9796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15480" y="49150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9360" bIns="9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5638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53452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86600" y="990720"/>
            <a:ext cx="15238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L2 and DRA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360" y="3030480"/>
            <a:ext cx="279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1 (128 sets, 4 lines/se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9246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924680" y="1828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172200" y="1371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74320" y="1981080"/>
            <a:ext cx="4284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h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90480" y="1905120"/>
            <a:ext cx="64332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00"/>
                </a:solidFill>
                <a:latin typeface="Arial"/>
              </a:rPr>
              <a:t>mi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447920" y="1371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5410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27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2-level Page Tabl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48765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direct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directory entries (PDEs) that point to page t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e page directory per proces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directory must be in memory when its process is run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pointed to by PDB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age tab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24 4-byte page table entries (PTEs) that point to p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ge tables can be paged in and o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800440"/>
            <a:ext cx="124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age  direct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7280" y="4092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066680"/>
            <a:ext cx="99072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Up to 1024 page tabl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026040" y="2895480"/>
            <a:ext cx="679680" cy="56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26040" y="3689280"/>
            <a:ext cx="67968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26040" y="3841920"/>
            <a:ext cx="679680" cy="12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1066680"/>
            <a:ext cx="3124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3384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41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4527720"/>
            <a:ext cx="6998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7280" y="2949480"/>
            <a:ext cx="37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40240" y="3384720"/>
            <a:ext cx="700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10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348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Directory Entry (PD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table physical base add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2368440"/>
            <a:ext cx="693432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table physical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table address (forces page tables to be 4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These bits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size 4K (0) or 4M (1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, cleared by software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(1) or enabled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 or supervisor mod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-only or read-writ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table is present in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tabl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726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6 Page Table Entry (PTE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2120" y="16002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age physical base addres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16002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00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81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62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C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W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0572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U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1600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R/W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467480" y="16002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59080" y="2362320"/>
            <a:ext cx="6846840" cy="31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age base addres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20 most significant bits of physical page address (forces pages to be 4 KB align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vail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vailable for system programm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G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global page (don’t evict from TLB on task switch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dirty (set by MMU on writ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A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accessed (set by MMU on reads and writes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CD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cache disabled or enabl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WT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write-through or write-back cache policy for this pa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U/S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user/supervis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R/W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read/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P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 page is present in physical memory (1) or not (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68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336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5200" y="13716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907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5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0668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257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19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32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6256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43440" y="137160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5867280"/>
            <a:ext cx="6705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Available for OS (page location in secondary storage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67480" y="5867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70680" y="56386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3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344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238520" y="5638680"/>
            <a:ext cx="280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762804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6 Page Tables Map Virtual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es to Physical 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1600" y="3276720"/>
            <a:ext cx="14479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71600" y="4316400"/>
            <a:ext cx="14479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7040" y="4724280"/>
            <a:ext cx="684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DB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72080" y="3276720"/>
            <a:ext cx="144756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198108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90720" y="4495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4876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89720" y="4876920"/>
            <a:ext cx="173592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tabl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2800" y="3962520"/>
            <a:ext cx="1269720" cy="10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bas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(if P=1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6280" y="4950000"/>
            <a:ext cx="16275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of 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51840" y="213048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3600" y="2133720"/>
            <a:ext cx="156816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16160" y="3021120"/>
            <a:ext cx="15775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dir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44800" y="3021120"/>
            <a:ext cx="1182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pag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3720" y="1698480"/>
            <a:ext cx="22604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3116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1698480"/>
            <a:ext cx="18428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6640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1440" y="144792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54160" y="1698480"/>
            <a:ext cx="2262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VPN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75520" y="1652760"/>
            <a:ext cx="1832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812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4191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86400" y="4191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72080" y="4038480"/>
            <a:ext cx="144756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2900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19810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0" y="1981080"/>
            <a:ext cx="0" cy="403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8160" y="6037200"/>
            <a:ext cx="44960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64200" y="6037200"/>
            <a:ext cx="1874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PP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28080" y="571500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15880" y="5786280"/>
            <a:ext cx="379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48800" y="5991120"/>
            <a:ext cx="204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Physical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657600" y="5715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1160" y="2133720"/>
            <a:ext cx="184716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word offset into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hysical and virtu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3300"/>
                </a:solidFill>
                <a:latin typeface="Arial"/>
              </a:rPr>
              <a:t>pag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&amp; David R. O'Hallaron</dc:creator>
  <dc:description/>
  <dc:language>en-US</dc:language>
  <cp:lastModifiedBy>Randal E. Bryant</cp:lastModifiedBy>
  <cp:lastPrinted>1998-08-31T18:34:23Z</cp:lastPrinted>
  <dcterms:modified xsi:type="dcterms:W3CDTF">2002-10-30T21:21:02Z</dcterms:modified>
  <cp:revision>125</cp:revision>
  <dc:subject/>
  <dc:title>P6/Linux Memory System</dc:title>
</cp:coreProperties>
</file>