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5EA03A4F-94B1-4F68-809A-CB87A16CFDA1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/Linux Memory System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3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6 address transl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 memory manag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 page fault handl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mapp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0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ation of Virtual Address Sp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0520" y="4114440"/>
            <a:ext cx="4921200" cy="23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ified 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page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a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: Is entry in physical memory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: Has this part of VA space been mappe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4600" y="914400"/>
            <a:ext cx="6700680" cy="4876920"/>
            <a:chOff x="534600" y="914400"/>
            <a:chExt cx="6700680" cy="4876920"/>
          </a:xfrm>
        </p:grpSpPr>
        <p:sp>
          <p:nvSpPr>
            <p:cNvPr id="365" name=""/>
            <p:cNvSpPr/>
            <p:nvPr/>
          </p:nvSpPr>
          <p:spPr>
            <a:xfrm>
              <a:off x="534600" y="1828800"/>
              <a:ext cx="1612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age Direct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2320" y="1143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914760" y="2209680"/>
              <a:ext cx="1066320" cy="914400"/>
              <a:chOff x="914760" y="2209680"/>
              <a:chExt cx="1066320" cy="914400"/>
            </a:xfrm>
          </p:grpSpPr>
          <p:sp>
            <p:nvSpPr>
              <p:cNvPr id="368" name=""/>
              <p:cNvSpPr/>
              <p:nvPr/>
            </p:nvSpPr>
            <p:spPr>
              <a:xfrm>
                <a:off x="914760" y="22096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14760" y="24382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14760" y="26668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914760" y="28954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752840" y="22096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52840" y="24382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52840" y="26668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752840" y="28954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 flipV="1">
              <a:off x="1905120" y="1828800"/>
              <a:ext cx="1143000" cy="4572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29160" y="2514600"/>
              <a:ext cx="1218960" cy="380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29160" y="2971800"/>
              <a:ext cx="1218960" cy="99072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048120" y="914400"/>
              <a:ext cx="1067040" cy="914400"/>
              <a:chOff x="3048120" y="914400"/>
              <a:chExt cx="1067040" cy="914400"/>
            </a:xfrm>
          </p:grpSpPr>
          <p:sp>
            <p:nvSpPr>
              <p:cNvPr id="380" name=""/>
              <p:cNvSpPr/>
              <p:nvPr/>
            </p:nvSpPr>
            <p:spPr>
              <a:xfrm>
                <a:off x="3048120" y="9144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8120" y="11430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48120" y="13716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48120" y="16002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86560" y="9144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86560" y="11430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886560" y="13716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86560" y="16002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3048120" y="1981080"/>
              <a:ext cx="1067040" cy="914400"/>
              <a:chOff x="3048120" y="1981080"/>
              <a:chExt cx="1067040" cy="914400"/>
            </a:xfrm>
          </p:grpSpPr>
          <p:sp>
            <p:nvSpPr>
              <p:cNvPr id="389" name=""/>
              <p:cNvSpPr/>
              <p:nvPr/>
            </p:nvSpPr>
            <p:spPr>
              <a:xfrm>
                <a:off x="3048120" y="19810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8120" y="22096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8120" y="24382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8120" y="26668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886560" y="1981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88656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86560" y="24382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886560" y="2666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048120" y="3048120"/>
              <a:ext cx="1067040" cy="914400"/>
              <a:chOff x="3048120" y="3048120"/>
              <a:chExt cx="1067040" cy="914400"/>
            </a:xfrm>
          </p:grpSpPr>
          <p:sp>
            <p:nvSpPr>
              <p:cNvPr id="398" name=""/>
              <p:cNvSpPr/>
              <p:nvPr/>
            </p:nvSpPr>
            <p:spPr>
              <a:xfrm>
                <a:off x="3048120" y="30481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048120" y="32767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48120" y="35053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048120" y="37339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86560" y="30481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86560" y="32767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886560" y="35053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886560" y="37339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5715360" y="9144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15360" y="1219320"/>
              <a:ext cx="76176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5360" y="152388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15360" y="18288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360" y="2133720"/>
              <a:ext cx="7617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15360" y="24382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360" y="27432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15360" y="30481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360" y="33526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5360" y="365760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15360" y="3962520"/>
              <a:ext cx="76176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15360" y="42670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15360" y="45720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15360" y="48769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15360" y="51814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15360" y="548640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2520" y="990720"/>
              <a:ext cx="1752840" cy="7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38840" y="1447920"/>
              <a:ext cx="167652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38840" y="1676520"/>
              <a:ext cx="1676520" cy="30456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38840" y="2057400"/>
              <a:ext cx="167652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62520" y="2514600"/>
              <a:ext cx="1752840" cy="380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38840" y="2743200"/>
              <a:ext cx="1676520" cy="45720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38840" y="3124080"/>
              <a:ext cx="1676520" cy="160020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38840" y="3352680"/>
              <a:ext cx="1676520" cy="167652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62320" y="2286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62320" y="312408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75320" y="54864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75320" y="51814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75320" y="48769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75320" y="45720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5320" y="42670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5320" y="39625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75320" y="36576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5320" y="33526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75320" y="30481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75320" y="27432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74600" y="24382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74600" y="21337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74600" y="18288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74600" y="15238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4600" y="12193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474600" y="9144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7238880" y="4191120"/>
            <a:ext cx="1684800" cy="1983960"/>
            <a:chOff x="7238880" y="4191120"/>
            <a:chExt cx="1684800" cy="1983960"/>
          </a:xfrm>
        </p:grpSpPr>
        <p:sp>
          <p:nvSpPr>
            <p:cNvPr id="449" name=""/>
            <p:cNvSpPr/>
            <p:nvPr/>
          </p:nvSpPr>
          <p:spPr>
            <a:xfrm>
              <a:off x="7238880" y="4343400"/>
              <a:ext cx="45720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724280"/>
              <a:ext cx="457200" cy="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952880"/>
              <a:ext cx="380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5867280"/>
              <a:ext cx="38088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38880" y="5410080"/>
              <a:ext cx="38088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95720" y="4191120"/>
              <a:ext cx="1172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Mem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5000" y="4572000"/>
              <a:ext cx="113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Disk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97520" y="4952880"/>
              <a:ext cx="879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In Me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97520" y="5410080"/>
              <a:ext cx="946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On Dis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96800" y="5867280"/>
              <a:ext cx="1226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Unmappe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5761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TLB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280" y="1143000"/>
            <a:ext cx="4724640" cy="3733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520" y="334800"/>
            <a:ext cx="376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LB entry (not all documented, so this is speculative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V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a valid (1) or invalid (0) TLB en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P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is entry a PDE (1) or a PTE (0)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ta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disambiguates entries cached in the same 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PDE/P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page directory or page table en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ucture of the data TLB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sets, 4 entries/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752480" y="1676520"/>
            <a:ext cx="5791320" cy="609480"/>
            <a:chOff x="1752480" y="1676520"/>
            <a:chExt cx="5791320" cy="609480"/>
          </a:xfrm>
        </p:grpSpPr>
        <p:sp>
          <p:nvSpPr>
            <p:cNvPr id="598" name=""/>
            <p:cNvSpPr/>
            <p:nvPr/>
          </p:nvSpPr>
          <p:spPr>
            <a:xfrm>
              <a:off x="1752480" y="1905120"/>
              <a:ext cx="3048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PDE/PTE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0600" y="190512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Tag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781680" y="19051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62560" y="19051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5764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3852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648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502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897280" y="5176800"/>
            <a:ext cx="3499200" cy="1222200"/>
            <a:chOff x="2897280" y="5176800"/>
            <a:chExt cx="3499200" cy="1222200"/>
          </a:xfrm>
        </p:grpSpPr>
        <p:sp>
          <p:nvSpPr>
            <p:cNvPr id="607" name=""/>
            <p:cNvSpPr/>
            <p:nvPr/>
          </p:nvSpPr>
          <p:spPr>
            <a:xfrm>
              <a:off x="289728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827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685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9543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9728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827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85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543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9728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5827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685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543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9728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827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685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543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61520" y="5708520"/>
              <a:ext cx="437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26440" y="51768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35800" y="54054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640480" y="56340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40480" y="6091200"/>
              <a:ext cx="7560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1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980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638680" y="121932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1. Partition VPN into TLBT and TLBI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2. Is the PTE for VPN cached in set TLBI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Ye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then build physical addres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: then read PTE (and PDE if not cached) from memory and build physical addres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2120" y="13716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52280" y="22860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19320" y="22860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972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9780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907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666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218960" y="2743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876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2000" y="1981080"/>
            <a:ext cx="1623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5740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5909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38862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5909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740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1240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5740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90920" y="4419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384280" y="400212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932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3808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3623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6668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576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0360" y="374004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57600" y="350532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793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525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600" y="4876920"/>
            <a:ext cx="3429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table transl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576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6200" y="4419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419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040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0768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148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11480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727280" y="2463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52480" y="25146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0552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16400" y="4727520"/>
            <a:ext cx="10936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76520" y="29718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343400" y="3886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43400" y="5257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823760" y="334800"/>
            <a:ext cx="553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table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2280" y="4495680"/>
            <a:ext cx="36576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1)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748120" y="1817280"/>
            <a:ext cx="2849400" cy="38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1/1: page table and page pres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MU builds physical address and fetches data wor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-36648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990720" y="2133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1430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9907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5238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002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95480" y="36576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430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86520" y="44434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295280" y="456696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438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5909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909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581280" y="2971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6483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8872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72680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8288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66688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666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1174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906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117440" y="23875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4856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57400" y="2133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3588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057400" y="4038480"/>
            <a:ext cx="380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590920" y="2286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006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40160" y="2247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89548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52680" y="40384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5720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43400" y="45975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229280" y="32511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26708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572000" y="4038480"/>
            <a:ext cx="838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14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63868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54097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143680" y="30988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038480" y="327636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463068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666880" y="46483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4920" y="5257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334440"/>
            <a:ext cx="83818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0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334120" y="1066320"/>
            <a:ext cx="35049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1/0: page table present but page miss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fault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receives the following arg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 that caused faul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ult caused by non-present page or page-level protection vio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/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/supervis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067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06720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3050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3050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1431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1431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66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43160" y="434340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1911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49568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49568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0, 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4120" y="1066320"/>
            <a:ext cx="36576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eck for a legal virtual addr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TE through PD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 free physical page (swapping out current page if necessa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virtual page from disk and copy to virtual pag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art faulting instruction by returning from exception handl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077840" y="1828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304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07784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113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6876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876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98296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304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230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284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3827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52576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67804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780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916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9162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7543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7543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204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78120" y="29336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2049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4360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44880" y="1828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233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448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829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4016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590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754360" y="434340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657600" y="2705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724280" y="2705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96468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80312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66880" y="20192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876920" y="2019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1612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57800" y="2857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715000" y="2857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5486040" y="3848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219640" y="2832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33080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368960" y="297180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68960" y="42926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35440" y="3835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4140360" y="299700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4560" y="33444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1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638680" y="1142640"/>
            <a:ext cx="3200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0/1: page table missing but page pres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roduces consistency issue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ly every page out requires update of disk page t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ux disallows th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 page table is swapped out, then swap out its data pages to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6765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371760" y="505476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6765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70040" y="379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63188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63188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71760" y="543564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28960" y="543564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43160" y="60451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04920" y="4952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481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53416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0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0/0: page table and page miss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fault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37176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71760" y="54100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8600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828960" y="54100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30481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16280" y="334800"/>
            <a:ext cx="1752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l P6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al Designation for Successor to Pentiu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ch had internal designation P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damentally Different from Pentiu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-of-order, superscalar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gned to handle server appli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quires high performance memory syst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ulting Process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Pro (1996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 (1997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d MMX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ecial instructions for parallel process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2 cache on same chi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I (1999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d Streaming SIMD Extens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re instructions for parallel process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0, 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wap in page t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art faulting instruction by returning from handl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ke case 0/1 from here 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1456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124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18600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3124080" y="4267080"/>
            <a:ext cx="30492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240" bIns="-39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21020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41972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44197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371600" y="334800"/>
            <a:ext cx="5430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L1 Cache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029200" y="2438280"/>
            <a:ext cx="3886200" cy="31244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66680" y="334800"/>
            <a:ext cx="5392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1 Cache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5181480" y="1066320"/>
            <a:ext cx="36576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rtition physical address into CO, CI, and C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CT to determine if  line containing word at address PA is cached in set CI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no: check L2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yes: extract word at byte offset CO and return to processor. 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601280" y="556884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990720" y="1530360"/>
            <a:ext cx="10666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297800" y="130176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2952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2880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362320" y="36640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8954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2952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828800" y="381636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362320" y="381636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8954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2952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82880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362320" y="396864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8954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2952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82880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362320" y="43498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8954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155680" y="393228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2666880" y="488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038480" y="472428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09680" y="4724280"/>
            <a:ext cx="18288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057400" y="39621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3733920" y="3886200"/>
            <a:ext cx="0" cy="13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3428640" y="3886200"/>
            <a:ext cx="304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1600200" y="183528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438280" y="5264280"/>
            <a:ext cx="10670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09880" y="526428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745720" y="5035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3508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05320" y="526428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50496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290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68316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0006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29000" y="5943600"/>
            <a:ext cx="9907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419720" y="28252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971800" y="130176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00560" y="334152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3809880" y="2819520"/>
            <a:ext cx="6098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3809880" y="2139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2057400" y="1676520"/>
            <a:ext cx="91440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559520" y="22924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775680" y="2216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276720" y="5715000"/>
            <a:ext cx="380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429000" y="572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0574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22096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176560" y="3814920"/>
            <a:ext cx="759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6408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eding Up L1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290520" y="4266720"/>
            <a:ext cx="8548560" cy="20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that determine CI identical in virtual and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index into cache while address translation taking pl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n check with CT from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ly indexed, physically tagged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carefully sized to make this possi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62120" y="2133720"/>
            <a:ext cx="2500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 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576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02920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96468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05440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72428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72392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58480" y="35812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657600" y="37339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724280" y="3733920"/>
            <a:ext cx="609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961800" y="41148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721400" y="4114800"/>
            <a:ext cx="6094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724280" y="24382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657600" y="243828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18288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4267080" y="3504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962520" y="2895480"/>
            <a:ext cx="609480" cy="60984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ddr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ran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4267080" y="274284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029200" y="2743200"/>
            <a:ext cx="0" cy="990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028120" y="2941560"/>
            <a:ext cx="8323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019920" y="1676520"/>
            <a:ext cx="266688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4008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343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46748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0010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5410080" y="2895480"/>
            <a:ext cx="914400" cy="990720"/>
          </a:xfrm>
          <a:prstGeom prst="line">
            <a:avLst/>
          </a:prstGeom>
          <a:ln w="1908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171840" y="3124080"/>
            <a:ext cx="359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662940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716292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608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822960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19720" y="1371600"/>
            <a:ext cx="1904760" cy="380880"/>
          </a:xfrm>
          <a:custGeom>
            <a:avLst/>
            <a:gdLst/>
            <a:ahLst/>
            <a:rect l="l" t="t" r="r" b="b"/>
            <a:pathLst>
              <a:path w="1200" h="240">
                <a:moveTo>
                  <a:pt x="0" y="240"/>
                </a:moveTo>
                <a:lnTo>
                  <a:pt x="192" y="0"/>
                </a:lnTo>
                <a:lnTo>
                  <a:pt x="1200" y="0"/>
                </a:lnTo>
              </a:path>
            </a:pathLst>
          </a:custGeom>
          <a:noFill/>
          <a:ln w="19080">
            <a:solidFill>
              <a:srgbClr val="0000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782040" y="1143000"/>
            <a:ext cx="1205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ag Che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3809880" y="4495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2666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Organizes VM as Collection of “Areas”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114300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84320" y="1290600"/>
            <a:ext cx="1261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ask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905480" y="1447920"/>
            <a:ext cx="121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981080" y="1854360"/>
            <a:ext cx="1067040" cy="157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981080" y="18288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g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57200" y="1625760"/>
            <a:ext cx="762120" cy="180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57200" y="1828800"/>
            <a:ext cx="7621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81080" y="22860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506760" y="114300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809880" y="15494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09880" y="1523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809880" y="1981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09880" y="1752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0481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3429000" y="1599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4290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809880" y="33782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809880" y="3352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809880" y="3809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809880" y="3581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09880" y="5207040"/>
            <a:ext cx="1067040" cy="11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809880" y="5181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809880" y="5638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09880" y="6095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09880" y="5410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1500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5364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71500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71500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71500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76920" y="1676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876920" y="190512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876920" y="350532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876920" y="3733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4876920" y="4495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76920" y="52578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35809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5812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5812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35809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5812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72596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692840" y="541008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08048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692840" y="419112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0804a0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692840" y="274320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4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0" y="3504960"/>
            <a:ext cx="365760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gd: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ge directory addres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m_prot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ad/write permissions for this are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m_flag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hared with other processes or private to this proces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809880" y="2209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809880" y="4038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5867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031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Page Fault Handling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54080" y="144792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457200" y="1828800"/>
            <a:ext cx="1066680" cy="1143000"/>
            <a:chOff x="457200" y="1828800"/>
            <a:chExt cx="1066680" cy="1143000"/>
          </a:xfrm>
        </p:grpSpPr>
        <p:sp>
          <p:nvSpPr>
            <p:cNvPr id="1347" name=""/>
            <p:cNvSpPr/>
            <p:nvPr/>
          </p:nvSpPr>
          <p:spPr>
            <a:xfrm>
              <a:off x="457200" y="185436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57200" y="18288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57200" y="22860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57200" y="27432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57200" y="20574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457200" y="3352680"/>
            <a:ext cx="1066680" cy="1143000"/>
            <a:chOff x="457200" y="3352680"/>
            <a:chExt cx="1066680" cy="1143000"/>
          </a:xfrm>
        </p:grpSpPr>
        <p:sp>
          <p:nvSpPr>
            <p:cNvPr id="1353" name=""/>
            <p:cNvSpPr/>
            <p:nvPr/>
          </p:nvSpPr>
          <p:spPr>
            <a:xfrm>
              <a:off x="457200" y="337824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57200" y="33526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57200" y="38098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57200" y="42670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7200" y="35812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57200" y="4876920"/>
            <a:ext cx="1066680" cy="1143000"/>
            <a:chOff x="457200" y="4876920"/>
            <a:chExt cx="1066680" cy="1143000"/>
          </a:xfrm>
        </p:grpSpPr>
        <p:sp>
          <p:nvSpPr>
            <p:cNvPr id="1359" name=""/>
            <p:cNvSpPr/>
            <p:nvPr/>
          </p:nvSpPr>
          <p:spPr>
            <a:xfrm>
              <a:off x="457200" y="490248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57200" y="48769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57200" y="53341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57200" y="57913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57200" y="51055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236232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10060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36232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36232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523880" y="19051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23880" y="2133720"/>
            <a:ext cx="838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523880" y="350532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23880" y="37339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1523880" y="44956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523880" y="525780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22824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286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286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2824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286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2860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37328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5257440" y="1066320"/>
            <a:ext cx="35053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 the VA legal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.e. is it in an area defined by a vm_area_struct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 then signal segmentation violation (e.g. (1)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 the operation legal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.e., can the process read/write this area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 then signal protection violation (e.g., (2)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OK, handle fa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(3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3434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483080" y="4643280"/>
            <a:ext cx="653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343400" y="4119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481640" y="38815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343400" y="3286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81640" y="30481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48320" y="2819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648320" y="4343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648320" y="35812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55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ap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eation of new VM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re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done via “memory mapping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new vm_area_struct and page tables for are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ea can be backed by (i.e., get its initial values from) 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ular file on disk (e.g., an executable object fil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 page bytes come from a section of a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hing (e.g., bs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 page bytes are zero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ty pages are swapped back and forth between a special swap fi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Key poi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no virtual pages are copied into physical memory until they are referenced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nown as “demand pag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ucial for time and space efficiency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7259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er-Level Memory Map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3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*mmap(void *start, int len,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3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int prot, int flags, int fd, int offse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61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starting at offse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ffse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the file specified by file descrip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preferably at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a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usually 0 for don’t care)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ro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MAP_READ, MAP_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lag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MAP_PRIVATE, MAP_SHAR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a pointer to the mapped are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fast file 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for applications like Web servers that need to quickly copy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map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ws file transfers without copying into user space.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462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m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) Example: Fast File Cop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54400" cy="52246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unistd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mman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types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stat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fcntl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 mmap.c - a program that uses mmap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 to copy itself to stdout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/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343400" y="1066680"/>
            <a:ext cx="4572000" cy="52657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struct sta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int i, fd, siz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char *buf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/* open the file &amp; get its size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fd = open("./mmap.c", O_RDONL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fstat(fd, &amp;sta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size = stat.st_siz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map the file to a new VM area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bufp = mmap(0, size, PROT_READ,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AP_PRIVATE, fd, 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write the VM area to stdout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write(1, bufp, size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4170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()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004760" y="259092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code/data/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004760" y="3940200"/>
            <a:ext cx="217512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004760" y="4392720"/>
            <a:ext cx="217512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004760" y="4888080"/>
            <a:ext cx="217512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004760" y="3322800"/>
            <a:ext cx="217512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004760" y="5850000"/>
            <a:ext cx="217512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004760" y="5591160"/>
            <a:ext cx="217512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04760" y="5332320"/>
            <a:ext cx="217512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2030400" y="464004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004760" y="3094200"/>
            <a:ext cx="21751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2041560" y="3705120"/>
            <a:ext cx="0" cy="238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050920" y="332280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004760" y="6108840"/>
            <a:ext cx="217512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999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2348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46280" y="3294000"/>
            <a:ext cx="25848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371760" y="329256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276720" y="3336840"/>
            <a:ext cx="0" cy="549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02760" y="47242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31880" y="4876920"/>
            <a:ext cx="258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62080" y="2917800"/>
            <a:ext cx="577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c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004760" y="207000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838080" y="2070000"/>
            <a:ext cx="74880" cy="1003320"/>
          </a:xfrm>
          <a:custGeom>
            <a:avLst/>
            <a:gdLst>
              <a:gd name="textAreaLeft" fmla="*/ 360 w 74880"/>
              <a:gd name="textAreaRight" fmla="*/ 27360 w 7488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0" y="2230560"/>
            <a:ext cx="9144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ame for each proc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004760" y="1143000"/>
            <a:ext cx="2175120" cy="93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-specific 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ructure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page tables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sk and mm struct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3276720" y="2285640"/>
            <a:ext cx="0" cy="777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352320" y="259092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647960" y="914040"/>
            <a:ext cx="405108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run a new program p in the current process us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exec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ee vm_area_struct’s and page tables for old are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new vm_area_struct’s and page tables for new are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ck, bss, data, text, shared lib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xt and data backed by ELF executable object fi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ss and stack initialized to zero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PC to entry point in .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 will swap in code and data pages as need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3657600" y="56386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657600" y="58672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962160" y="609588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32004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320040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640680" y="521028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3200400" y="53341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78760" y="304812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320040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656880" y="4464000"/>
            <a:ext cx="90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657600" y="39625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657600" y="41911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3200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320040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6205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Memory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8800" y="3798720"/>
            <a:ext cx="2590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bus interface un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538280" y="2209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560" y="22096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5382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3880" y="12952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RA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6360" y="1828800"/>
            <a:ext cx="1447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external system bus (e.g. PC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81080" y="478944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fetch un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00400" y="4789440"/>
            <a:ext cx="1218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909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66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29000" y="274320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062160" y="3276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12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6400" y="51703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0" y="37987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n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86400" y="44845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19360" y="41799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52880" y="417996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52880" y="5398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19360" y="38750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19360" y="4027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81480" y="40269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81480" y="4789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7560" y="2590920"/>
            <a:ext cx="53341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4240" y="5862600"/>
            <a:ext cx="2028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processor pack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228600"/>
            <a:ext cx="29718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32 bit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4 KB page siz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, L2, and TLB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-way set associat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nst 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2 ent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8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4 ent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6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i-cache and d-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6 K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2 B lin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2  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fi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 KB -- 2 M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837720" y="334800"/>
            <a:ext cx="540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()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create a new process us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ork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copies of the old process’s mm_struct, vm_area_struct’s, and page tab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this point the two processes are sharing all of their pag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to get separate spaces without copying all the virtual pages from one space to another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py on write” techniqu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y-on-wri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ke pages of  writeable areas read-on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ag vm_area_struct’s for these areas as private “copy-on-write”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s by either process to these pages will cause page faul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ult handler recognizes copy-on-write, makes a copy of the page, and restores write permiss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 resul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pies are deferred until absolutely necessary (i.e., when one of the processes tries to modify a shared page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827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System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 Memory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rely a speed-up techniq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havior invisible to application programmer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ed totally in hard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rts many OS-related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 cre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king childre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ask switch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te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 of hardware &amp; software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ftware management of tables, allo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rdware access of tab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rdware caching of table entries (TL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85560"/>
            <a:ext cx="68151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view of Abbrevi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358640"/>
            <a:ext cx="8307360" cy="46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mbol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onents of the virtual address (V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LBI: TLB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LBT: TLB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PO: virtual page offset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PN: virtual page number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onents of the physical address (P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PO: physical page offset (same as VPO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PN: physical page numb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: byte offset within cache li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I: cache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T: cache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 of P6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 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27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2-level Page Tabl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8765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directory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24 4-byte page directory entries (PDEs) that point to page t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page directory per proc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directory must be in memory when its process is run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pointed to by PDB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tab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24 4-byte page table entries (PTEs) that point to pag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s can be paged in and ou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2800440"/>
            <a:ext cx="124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7280" y="4092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1066680"/>
            <a:ext cx="9907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Up to 1024 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026040" y="2895480"/>
            <a:ext cx="67968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26040" y="3689280"/>
            <a:ext cx="67968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26040" y="3841920"/>
            <a:ext cx="679680" cy="12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1066680"/>
            <a:ext cx="3124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3384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241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4527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7280" y="2949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40240" y="3384720"/>
            <a:ext cx="700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34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Directory Entry (PD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 physical base add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368440"/>
            <a:ext cx="693432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age table physical base addres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20 most significant bits of physical page table address (forces page tables to be 4KB align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These bits available for system programm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size 4K (0) or 4M 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ccessed (set by MMU on reads and writes, cleared by software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cache disabled (1) or enabled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write-through or write-back cache policy for this pag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user or supervisor mod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read-only or read-writ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table is present in memory (1) or not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able for OS (page table location in secondary storag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726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Table Entry (PT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physical base addres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59080" y="2362320"/>
            <a:ext cx="684684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age base addres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20 most significant bits of physical page address (forces pages to be 4 KB align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vailable for system programm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dirty (set by MMU on writ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ccessed (set by MMU on reads and writes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cache disabled or enabl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write-through or write-back cache policy for this p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user/supervis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read/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is present in physical memory (1) or not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able for OS (page location in secondary storag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334440"/>
            <a:ext cx="76280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P6 Page Tables Map Virtual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es to Physical 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327672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1600" y="4316400"/>
            <a:ext cx="1447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040" y="47242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72080" y="327672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19810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90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89720" y="4876920"/>
            <a:ext cx="17359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table ba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2800" y="3962520"/>
            <a:ext cx="1269720" cy="10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ba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6280" y="4950000"/>
            <a:ext cx="16275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direc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51840" y="213048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23600" y="213372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16160" y="3021120"/>
            <a:ext cx="157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44800" y="3021120"/>
            <a:ext cx="1182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3720" y="1698480"/>
            <a:ext cx="2260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3116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1698480"/>
            <a:ext cx="18428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6640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144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54160" y="1698480"/>
            <a:ext cx="22622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75520" y="1652760"/>
            <a:ext cx="1832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195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81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86400" y="4191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72080" y="4038480"/>
            <a:ext cx="144756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0" y="19810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8160" y="6037200"/>
            <a:ext cx="4496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64200" y="6037200"/>
            <a:ext cx="1874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28080" y="57150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15880" y="5786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48800" y="5991120"/>
            <a:ext cx="204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657600" y="5715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1160" y="2133720"/>
            <a:ext cx="184716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nd 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&amp; David R. O'Hallaron</dc:creator>
  <dc:description/>
  <dc:language>en-US</dc:language>
  <cp:lastModifiedBy>Randal E. Bryant</cp:lastModifiedBy>
  <cp:lastPrinted>1998-08-31T18:34:23Z</cp:lastPrinted>
  <dcterms:modified xsi:type="dcterms:W3CDTF">2002-10-30T21:21:02Z</dcterms:modified>
  <cp:revision>125</cp:revision>
  <dc:subject/>
  <dc:title>P6/Linux Memory System</dc:title>
</cp:coreProperties>
</file>