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9B3C4CB2-3ECA-4F6C-A43E-FAA3F87589A3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rtual Memory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2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tivations for V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lerating translation with TLB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32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ystem with Virtual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70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0920" indent="-172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tations, servers, modern PCs, et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5791320"/>
            <a:ext cx="81532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82600" indent="-282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Translation: Hardware converts virtual addresses to physical addresses via OS-managed lookup table (page table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143000" y="3124080"/>
            <a:ext cx="1218960" cy="1143000"/>
            <a:chOff x="1143000" y="3124080"/>
            <a:chExt cx="1218960" cy="1143000"/>
          </a:xfrm>
        </p:grpSpPr>
        <p:sp>
          <p:nvSpPr>
            <p:cNvPr id="258" name=""/>
            <p:cNvSpPr/>
            <p:nvPr/>
          </p:nvSpPr>
          <p:spPr>
            <a:xfrm>
              <a:off x="1218960" y="320040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43000" y="3124080"/>
              <a:ext cx="1143000" cy="1066680"/>
            </a:xfrm>
            <a:prstGeom prst="roundRect">
              <a:avLst>
                <a:gd name="adj" fmla="val 38986"/>
              </a:avLst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1600" y="3429000"/>
              <a:ext cx="71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"/>
                </a:rPr>
                <a:t>CP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248520" y="1752480"/>
            <a:ext cx="1752480" cy="3353040"/>
            <a:chOff x="6248520" y="1752480"/>
            <a:chExt cx="1752480" cy="3353040"/>
          </a:xfrm>
        </p:grpSpPr>
        <p:sp>
          <p:nvSpPr>
            <p:cNvPr id="262" name=""/>
            <p:cNvSpPr/>
            <p:nvPr/>
          </p:nvSpPr>
          <p:spPr>
            <a:xfrm>
              <a:off x="6324840" y="1828800"/>
              <a:ext cx="1676160" cy="3276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48520" y="1752480"/>
              <a:ext cx="1676520" cy="3276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6782040" y="1905120"/>
              <a:ext cx="914400" cy="2971800"/>
              <a:chOff x="6782040" y="1905120"/>
              <a:chExt cx="914400" cy="2971800"/>
            </a:xfrm>
          </p:grpSpPr>
          <p:sp>
            <p:nvSpPr>
              <p:cNvPr id="265" name=""/>
              <p:cNvSpPr/>
              <p:nvPr/>
            </p:nvSpPr>
            <p:spPr>
              <a:xfrm>
                <a:off x="6782040" y="1905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82040" y="2133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82040" y="2362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82040" y="2590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82040" y="2819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82040" y="3276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82040" y="3048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82040" y="3505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82040" y="37339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82040" y="39625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82040" y="41911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82040" y="46483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82040" y="441972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6477120" y="18288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77120" y="20574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8520" y="45720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6553440" y="137160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2590920"/>
            <a:ext cx="1218960" cy="2361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514600"/>
            <a:ext cx="1219320" cy="236232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962520" y="2666880"/>
            <a:ext cx="533160" cy="2057400"/>
            <a:chOff x="3962520" y="2666880"/>
            <a:chExt cx="533160" cy="2057400"/>
          </a:xfrm>
        </p:grpSpPr>
        <p:sp>
          <p:nvSpPr>
            <p:cNvPr id="285" name=""/>
            <p:cNvSpPr/>
            <p:nvPr/>
          </p:nvSpPr>
          <p:spPr>
            <a:xfrm>
              <a:off x="3962520" y="2666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962520" y="2895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62520" y="3124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2520" y="3352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62520" y="35812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62520" y="40384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62520" y="38098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42670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62520" y="4495680"/>
              <a:ext cx="533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657600" y="25909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0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2819520"/>
            <a:ext cx="384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29000" y="4419720"/>
            <a:ext cx="612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-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12800" y="210168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286000" y="3276360"/>
            <a:ext cx="1676520" cy="2286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72040" y="3152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81400" y="4076640"/>
            <a:ext cx="15264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57720" y="3238560"/>
            <a:ext cx="2486160" cy="863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267080" y="2971440"/>
            <a:ext cx="251460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2285640" y="3809520"/>
            <a:ext cx="1676520" cy="304920"/>
          </a:xfrm>
          <a:prstGeom prst="line">
            <a:avLst/>
          </a:prstGeom>
          <a:ln w="572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962160" y="4266720"/>
            <a:ext cx="533520" cy="228600"/>
            <a:chOff x="3962160" y="4266720"/>
            <a:chExt cx="533520" cy="228600"/>
          </a:xfrm>
        </p:grpSpPr>
        <p:sp>
          <p:nvSpPr>
            <p:cNvPr id="305" name=""/>
            <p:cNvSpPr/>
            <p:nvPr/>
          </p:nvSpPr>
          <p:spPr>
            <a:xfrm flipV="1">
              <a:off x="396252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3962160" y="42667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962160" y="3580920"/>
            <a:ext cx="533520" cy="228600"/>
            <a:chOff x="3962160" y="3580920"/>
            <a:chExt cx="533520" cy="228600"/>
          </a:xfrm>
        </p:grpSpPr>
        <p:sp>
          <p:nvSpPr>
            <p:cNvPr id="308" name=""/>
            <p:cNvSpPr/>
            <p:nvPr/>
          </p:nvSpPr>
          <p:spPr>
            <a:xfrm flipV="1">
              <a:off x="396252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3962160" y="3580920"/>
              <a:ext cx="5331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800600" y="5029200"/>
            <a:ext cx="1295280" cy="666720"/>
            <a:chOff x="4800600" y="5029200"/>
            <a:chExt cx="1295280" cy="666720"/>
          </a:xfrm>
        </p:grpSpPr>
        <p:sp>
          <p:nvSpPr>
            <p:cNvPr id="311" name=""/>
            <p:cNvSpPr/>
            <p:nvPr/>
          </p:nvSpPr>
          <p:spPr>
            <a:xfrm>
              <a:off x="4800600" y="5181840"/>
              <a:ext cx="1295280" cy="380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4800600" y="5029200"/>
              <a:ext cx="1295280" cy="666720"/>
              <a:chOff x="4800600" y="5029200"/>
              <a:chExt cx="1295280" cy="666720"/>
            </a:xfrm>
          </p:grpSpPr>
          <p:sp>
            <p:nvSpPr>
              <p:cNvPr id="313" name=""/>
              <p:cNvSpPr/>
              <p:nvPr/>
            </p:nvSpPr>
            <p:spPr>
              <a:xfrm>
                <a:off x="4800600" y="5029200"/>
                <a:ext cx="1295280" cy="304920"/>
              </a:xfrm>
              <a:prstGeom prst="ellipse">
                <a:avLst/>
              </a:prstGeom>
              <a:solidFill>
                <a:srgbClr val="33cc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0600" y="5181840"/>
                <a:ext cx="0" cy="3808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95880" y="5181840"/>
                <a:ext cx="0" cy="38088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00600" y="5562720"/>
                <a:ext cx="1295280" cy="13320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33cccc"/>
              </a:solidFill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5105520" y="5334120"/>
            <a:ext cx="66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38640" y="3705120"/>
            <a:ext cx="1297080" cy="132408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29280" y="4381560"/>
            <a:ext cx="1104840" cy="64764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cap="rnd" w="381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05840" y="236232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01320" y="2438280"/>
            <a:ext cx="1347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0440" y="334800"/>
            <a:ext cx="8801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Faults (like “Cache Misses”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f an object is on disk rather than in mem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indicates virtual address not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exception handler invoked to move data from disk into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rrent process suspends, others can resu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has full control over placement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4680" y="4732200"/>
            <a:ext cx="684000" cy="640080"/>
          </a:xfrm>
          <a:prstGeom prst="roundRect">
            <a:avLst>
              <a:gd name="adj" fmla="val 38986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4686480"/>
            <a:ext cx="684360" cy="639720"/>
          </a:xfrm>
          <a:prstGeom prst="roundRect">
            <a:avLst>
              <a:gd name="adj" fmla="val 3898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336840" y="3909960"/>
            <a:ext cx="1005120" cy="1965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90760" y="3863880"/>
            <a:ext cx="1005120" cy="196560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10080" y="39560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10080" y="409248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610080" y="423072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10080" y="436716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610080" y="450360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10080" y="477828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10080" y="464184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610080" y="49150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10080" y="5051520"/>
            <a:ext cx="54900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10080" y="5189400"/>
            <a:ext cx="54900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10080" y="532620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10080" y="5600880"/>
            <a:ext cx="54900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10080" y="5462640"/>
            <a:ext cx="54900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04160" y="358128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46280" y="4367160"/>
            <a:ext cx="730080" cy="141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200" y="4321080"/>
            <a:ext cx="730080" cy="14162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19160" y="44132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19160" y="454968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19160" y="46879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19160" y="48243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9160" y="4960800"/>
            <a:ext cx="3207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9160" y="523548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9160" y="509904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9160" y="537228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19160" y="551016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5040" y="403848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97000" y="4754520"/>
            <a:ext cx="1513080" cy="66348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2101680" y="4595400"/>
            <a:ext cx="1508400" cy="68580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91916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1918800" y="5371920"/>
            <a:ext cx="320760" cy="13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91916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1918800" y="4960800"/>
            <a:ext cx="320760" cy="13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22440" y="5921280"/>
            <a:ext cx="776520" cy="228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22440" y="5829480"/>
            <a:ext cx="776520" cy="182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592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98960" y="592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6149880"/>
            <a:ext cx="776520" cy="795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33cccc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67520" y="596736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084400" y="5035680"/>
            <a:ext cx="77796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79720" y="5440320"/>
            <a:ext cx="662040" cy="38916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4320" y="426888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0960" y="43149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72160" y="488484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6080" y="4838760"/>
            <a:ext cx="684000" cy="639720"/>
          </a:xfrm>
          <a:prstGeom prst="roundRect">
            <a:avLst>
              <a:gd name="adj" fmla="val 38986"/>
            </a:avLst>
          </a:prstGeom>
          <a:solidFill>
            <a:srgbClr val="33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34320" y="4062240"/>
            <a:ext cx="1004760" cy="1965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88240" y="4016520"/>
            <a:ext cx="1004760" cy="196524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07200" y="41083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07200" y="424512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107200" y="438300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107200" y="451944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07200" y="4656240"/>
            <a:ext cx="5493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107200" y="493092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07200" y="4794120"/>
            <a:ext cx="5493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07200" y="50673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107200" y="520380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107200" y="534204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07200" y="547848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107200" y="5753160"/>
            <a:ext cx="5493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107200" y="5614920"/>
            <a:ext cx="549360" cy="138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7640" y="3733920"/>
            <a:ext cx="86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43760" y="4519440"/>
            <a:ext cx="730080" cy="1416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7680" y="4473720"/>
            <a:ext cx="730080" cy="141588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16640" y="45655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416640" y="470232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16640" y="484020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16640" y="49766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6640" y="511344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16640" y="5388120"/>
            <a:ext cx="320760" cy="13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16640" y="525132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16640" y="5524560"/>
            <a:ext cx="320760" cy="137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6640" y="5662440"/>
            <a:ext cx="320760" cy="136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91400" y="4191120"/>
            <a:ext cx="11217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94480" y="4906800"/>
            <a:ext cx="1512720" cy="66384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599160" y="4747680"/>
            <a:ext cx="1508040" cy="68580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41664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6416280" y="5113080"/>
            <a:ext cx="3207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19920" y="6073920"/>
            <a:ext cx="776160" cy="228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919920" y="5981760"/>
            <a:ext cx="776160" cy="182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19920" y="607392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607392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919920" y="6302520"/>
            <a:ext cx="776160" cy="7920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33cccc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65000" y="6119640"/>
            <a:ext cx="558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581880" y="5187960"/>
            <a:ext cx="777600" cy="793800"/>
          </a:xfrm>
          <a:custGeom>
            <a:avLst/>
            <a:gdLst/>
            <a:ahLst/>
            <a:rect l="l" t="t" r="r" b="b"/>
            <a:pathLst>
              <a:path w="817" h="834">
                <a:moveTo>
                  <a:pt x="0" y="0"/>
                </a:moveTo>
                <a:cubicBezTo>
                  <a:pt x="58" y="7"/>
                  <a:pt x="243" y="9"/>
                  <a:pt x="348" y="42"/>
                </a:cubicBezTo>
                <a:cubicBezTo>
                  <a:pt x="453" y="75"/>
                  <a:pt x="557" y="121"/>
                  <a:pt x="630" y="198"/>
                </a:cubicBezTo>
                <a:cubicBezTo>
                  <a:pt x="703" y="275"/>
                  <a:pt x="755" y="398"/>
                  <a:pt x="786" y="504"/>
                </a:cubicBezTo>
                <a:cubicBezTo>
                  <a:pt x="817" y="610"/>
                  <a:pt x="810" y="765"/>
                  <a:pt x="816" y="83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41800" y="442116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78440" y="4467240"/>
            <a:ext cx="109116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553080" y="5105520"/>
            <a:ext cx="1524240" cy="480960"/>
          </a:xfrm>
          <a:prstGeom prst="line">
            <a:avLst/>
          </a:prstGeom>
          <a:ln cap="rnd" w="28440">
            <a:solidFill>
              <a:srgbClr val="0000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320" y="3309840"/>
            <a:ext cx="1875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efore faul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7320" y="3316320"/>
            <a:ext cx="1623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fter faul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914040" y="5097600"/>
            <a:ext cx="1004760" cy="366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5395680" y="5272200"/>
            <a:ext cx="1004760" cy="366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46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icing a Page Fa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6483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or Signals Control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block of length P starting at disk address X and store starting at memory address 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 Occu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emory Access (DM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 control of I/O control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 / O Controller Signals Comple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rupt process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resumes suspended proces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19840" y="55879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695000" y="5254560"/>
            <a:ext cx="586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19840" y="5207040"/>
            <a:ext cx="559080" cy="4446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19840" y="5130720"/>
            <a:ext cx="559080" cy="139680"/>
          </a:xfrm>
          <a:prstGeom prst="ellipse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726320" y="5505480"/>
            <a:ext cx="547560" cy="15228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691400" y="5292720"/>
            <a:ext cx="631800" cy="363240"/>
          </a:xfrm>
          <a:prstGeom prst="rect">
            <a:avLst/>
          </a:pr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900840" y="5130720"/>
            <a:ext cx="650520" cy="596880"/>
            <a:chOff x="6900840" y="5130720"/>
            <a:chExt cx="650520" cy="596880"/>
          </a:xfrm>
        </p:grpSpPr>
        <p:sp>
          <p:nvSpPr>
            <p:cNvPr id="427" name=""/>
            <p:cNvSpPr/>
            <p:nvPr/>
          </p:nvSpPr>
          <p:spPr>
            <a:xfrm>
              <a:off x="6921360" y="55879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900840" y="5254200"/>
              <a:ext cx="58680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921360" y="5206680"/>
              <a:ext cx="596880" cy="444600"/>
            </a:xfrm>
            <a:prstGeom prst="rect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21360" y="5130720"/>
              <a:ext cx="596880" cy="139680"/>
            </a:xfrm>
            <a:prstGeom prst="ellipse">
              <a:avLst/>
            </a:prstGeom>
            <a:solidFill>
              <a:srgbClr val="c4c4c4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27840" y="5505120"/>
              <a:ext cx="583920" cy="1526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26400" y="5305320"/>
              <a:ext cx="624960" cy="3632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7207200" y="4572000"/>
            <a:ext cx="0" cy="622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007480" y="4572000"/>
            <a:ext cx="0" cy="635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12120" y="3530520"/>
            <a:ext cx="0" cy="800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10400" y="2120760"/>
            <a:ext cx="0" cy="2374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1480" y="3441600"/>
            <a:ext cx="304812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-I/O b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1219320"/>
            <a:ext cx="1231920" cy="888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181480" y="2476440"/>
            <a:ext cx="1231920" cy="49536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81480" y="4368960"/>
            <a:ext cx="1231920" cy="495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934320" y="4140360"/>
            <a:ext cx="1231920" cy="49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60840" y="1828800"/>
            <a:ext cx="749520" cy="216000"/>
          </a:xfrm>
          <a:prstGeom prst="rect">
            <a:avLst/>
          </a:prstGeom>
          <a:solidFill>
            <a:srgbClr val="c4c4c4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829480" y="3530520"/>
            <a:ext cx="1739880" cy="1650960"/>
          </a:xfrm>
          <a:custGeom>
            <a:avLst/>
            <a:gdLst/>
            <a:ahLst/>
            <a:rect l="l" t="t" r="r" b="b"/>
            <a:pathLst>
              <a:path w="1096" h="1040">
                <a:moveTo>
                  <a:pt x="936" y="1040"/>
                </a:moveTo>
                <a:cubicBezTo>
                  <a:pt x="924" y="895"/>
                  <a:pt x="912" y="751"/>
                  <a:pt x="936" y="656"/>
                </a:cubicBezTo>
                <a:cubicBezTo>
                  <a:pt x="959" y="560"/>
                  <a:pt x="1064" y="552"/>
                  <a:pt x="1080" y="464"/>
                </a:cubicBezTo>
                <a:cubicBezTo>
                  <a:pt x="1096" y="376"/>
                  <a:pt x="1096" y="200"/>
                  <a:pt x="1032" y="128"/>
                </a:cubicBezTo>
                <a:cubicBezTo>
                  <a:pt x="967" y="55"/>
                  <a:pt x="839" y="47"/>
                  <a:pt x="696" y="32"/>
                </a:cubicBezTo>
                <a:cubicBezTo>
                  <a:pt x="552" y="16"/>
                  <a:pt x="280" y="0"/>
                  <a:pt x="168" y="32"/>
                </a:cubicBezTo>
                <a:cubicBezTo>
                  <a:pt x="56" y="64"/>
                  <a:pt x="47" y="144"/>
                  <a:pt x="24" y="224"/>
                </a:cubicBezTo>
                <a:cubicBezTo>
                  <a:pt x="0" y="303"/>
                  <a:pt x="12" y="407"/>
                  <a:pt x="24" y="512"/>
                </a:cubicBezTo>
              </a:path>
            </a:pathLst>
          </a:custGeom>
          <a:noFill/>
          <a:ln w="5724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3778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2) DMA Trans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00800" y="1752480"/>
            <a:ext cx="1219320" cy="236232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400800" y="1447920"/>
            <a:ext cx="1600200" cy="2666880"/>
          </a:xfrm>
          <a:custGeom>
            <a:avLst/>
            <a:gdLst/>
            <a:ahLst/>
            <a:rect l="l" t="t" r="r" b="b"/>
            <a:pathLst>
              <a:path w="720" h="1056">
                <a:moveTo>
                  <a:pt x="720" y="1056"/>
                </a:move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327720" y="99072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) Initiate Block 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77120" y="1828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3) Read Don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61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2: Memory Manag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processes can reside in physical memor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 we resolve address conflict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f two processes access something at the same addres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483000" y="2784600"/>
            <a:ext cx="2174760" cy="330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virtu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83000" y="3940200"/>
            <a:ext cx="217476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83000" y="4392720"/>
            <a:ext cx="217476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83000" y="4888080"/>
            <a:ext cx="217476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83000" y="3322800"/>
            <a:ext cx="217476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83000" y="5850000"/>
            <a:ext cx="217476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83000" y="5591160"/>
            <a:ext cx="217476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83000" y="5332320"/>
            <a:ext cx="217476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508640" y="464004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83000" y="3094200"/>
            <a:ext cx="21747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4519440" y="3705120"/>
            <a:ext cx="0" cy="238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29160" y="332280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83000" y="6108840"/>
            <a:ext cx="217476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7816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59920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224160" y="3294000"/>
            <a:ext cx="25884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842800" y="26733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invisible 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5742000" y="2752560"/>
            <a:ext cx="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80960" y="477684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e “brk” pt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5638320" y="4876920"/>
            <a:ext cx="258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4038480"/>
            <a:ext cx="190476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nux/x86 proc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emor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50532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Address Space for Process 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3429000"/>
            <a:ext cx="1067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ysical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ace (DRAM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67000" y="35798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367000" y="38084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7000" y="403704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367000" y="44956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67000" y="518004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367000" y="6095880"/>
            <a:ext cx="9018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643720" y="3351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43720" y="3579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3720" y="3808440"/>
            <a:ext cx="90144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43720" y="40370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643720" y="42656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43720" y="44942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43720" y="472284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43720" y="51562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43720" y="537048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643720" y="5802480"/>
            <a:ext cx="90144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43720" y="6018120"/>
            <a:ext cx="9014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81400" y="3954600"/>
            <a:ext cx="2349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03520" y="3497400"/>
            <a:ext cx="190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41200" y="35211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41200" y="519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88560" y="451332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93880" y="32925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88560" y="6175440"/>
            <a:ext cx="46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64920" y="603576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274920" y="4183200"/>
            <a:ext cx="2362320" cy="838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0520" y="54021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60520" y="56307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P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7240" y="494496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274920" y="5097600"/>
            <a:ext cx="2362320" cy="380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87880" y="5707080"/>
            <a:ext cx="2349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37240" y="5592600"/>
            <a:ext cx="901800" cy="216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P 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627960" y="4800600"/>
            <a:ext cx="1663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e.g., read/only library cod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0080" y="304920"/>
            <a:ext cx="895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lution: Separate Virt. Addr. Sp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and physical address spaces divided into equal-sized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s are called “pages” (both virtual and physical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rocess has its own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ng system controls how virtual pages as assigned to physical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12880" y="40784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2880" y="56786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5137200"/>
            <a:ext cx="1368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Address Space for Process 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204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ast: Macintosh Memory Mode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600" y="1066320"/>
            <a:ext cx="8254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C OS 1–9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es not use traditional virtu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17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program objects accessed through “handle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rect reference through pointer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s stored in shared glob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88880" y="18288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1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12560" y="34290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2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38080" y="236232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6880" y="2362320"/>
            <a:ext cx="381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8080" y="3886200"/>
            <a:ext cx="1524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666880" y="3886200"/>
            <a:ext cx="38124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80520" y="16765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red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10080" y="2133720"/>
            <a:ext cx="1295640" cy="838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10080" y="2971800"/>
            <a:ext cx="129564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3429000"/>
            <a:ext cx="1295640" cy="6858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4114800"/>
            <a:ext cx="1295640" cy="6858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10080" y="4800600"/>
            <a:ext cx="12956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895480" y="2133720"/>
            <a:ext cx="2514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819520" y="3047760"/>
            <a:ext cx="2590560" cy="9903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819520" y="3505320"/>
            <a:ext cx="259056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895480" y="2743200"/>
            <a:ext cx="25146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19520" y="4572000"/>
            <a:ext cx="259056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44956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743200" y="26668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1523160" y="274284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71600" y="251424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1295280" y="274320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599480" y="426672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1447920" y="403812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295280" y="4572000"/>
            <a:ext cx="1447920" cy="763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6720" y="342900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556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intosh Memory Manag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0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7000"/>
          </a:bodyPr>
          <a:p>
            <a:pPr marL="219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on / Deallo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24080" indent="-140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free-list management of malloc/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9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24080" indent="-140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move any object and just update the (unique) pointer in pointer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24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6720" y="441972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s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22400" y="32004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1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746080" y="4800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2 Pointe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3733920"/>
            <a:ext cx="1447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00400" y="3733920"/>
            <a:ext cx="380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71600" y="5257800"/>
            <a:ext cx="1523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 P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5257800"/>
            <a:ext cx="3808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3680" y="3048120"/>
            <a:ext cx="25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hared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3962520"/>
            <a:ext cx="1295280" cy="838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43600" y="3505320"/>
            <a:ext cx="129528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943600" y="4800600"/>
            <a:ext cx="1295280" cy="68580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43600" y="5486400"/>
            <a:ext cx="1295280" cy="68580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943600" y="6172200"/>
            <a:ext cx="12952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352680" y="3504960"/>
            <a:ext cx="2590920" cy="1904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352680" y="4876920"/>
            <a:ext cx="259092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4114800"/>
            <a:ext cx="25146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352680" y="5943600"/>
            <a:ext cx="25909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76720" y="58672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76720" y="56386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5334120"/>
            <a:ext cx="152280" cy="15228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76720" y="40384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76720" y="3809880"/>
            <a:ext cx="152280" cy="152640"/>
          </a:xfrm>
          <a:prstGeom prst="ellipse">
            <a:avLst/>
          </a:prstGeom>
          <a:solidFill>
            <a:srgbClr val="0033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2056680" y="4114440"/>
            <a:ext cx="121932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1905120" y="388584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828800" y="4114800"/>
            <a:ext cx="1447920" cy="4572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133720" y="5638320"/>
            <a:ext cx="1218960" cy="2286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1981080" y="5409720"/>
            <a:ext cx="1371600" cy="3049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828800" y="5943600"/>
            <a:ext cx="1371600" cy="7632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3886200"/>
            <a:ext cx="2514600" cy="76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805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 vs. VM-Based Memory Mgm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, deallocating, and moving memory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accomplished by both techniq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lock siz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variable-s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y be very small or very lar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M: fixed-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ze is equal to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ne pag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4KB on x86 Linux system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ocating contiguous chunks of memory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contiguous allocation i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equi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M: can map contiguous range of virtual addresses to disjoint ranges of physic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: “wild write” by one process can corrupt another’s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398760" y="334800"/>
            <a:ext cx="238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 OS X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ern” Operating 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memory with prot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emptive multitas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versions of MAC OS require processes to voluntarily relinquish contro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d on MACH O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ed at CMU in late 1980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6929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3: Prot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307360" cy="105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table entry contains access rights inform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enforces this protection (trap into OS if violation occur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1828800"/>
            <a:ext cx="151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79080" y="289548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 i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2209680"/>
            <a:ext cx="3886200" cy="1953360"/>
            <a:chOff x="1828800" y="2209680"/>
            <a:chExt cx="3886200" cy="1953360"/>
          </a:xfrm>
        </p:grpSpPr>
        <p:sp>
          <p:nvSpPr>
            <p:cNvPr id="583" name=""/>
            <p:cNvSpPr/>
            <p:nvPr/>
          </p:nvSpPr>
          <p:spPr>
            <a:xfrm>
              <a:off x="1828800" y="2209680"/>
              <a:ext cx="388620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63240" y="228600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62320" y="228600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5160" y="228600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62520" y="25909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115520" y="25909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3828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200400" y="25909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14240" y="25909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52680" y="25909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62520" y="29718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5520" y="297180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3828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00400" y="29718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1424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276000" y="297180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62520" y="33526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12280" y="335268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3828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00400" y="33526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14600" y="335268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52680" y="335268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828800" y="2590920"/>
              <a:ext cx="689040" cy="1069560"/>
              <a:chOff x="1828800" y="2590920"/>
              <a:chExt cx="689040" cy="1069560"/>
            </a:xfrm>
          </p:grpSpPr>
          <p:sp>
            <p:nvSpPr>
              <p:cNvPr id="606" name=""/>
              <p:cNvSpPr/>
              <p:nvPr/>
            </p:nvSpPr>
            <p:spPr>
              <a:xfrm>
                <a:off x="1828800" y="259092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828800" y="297180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28800" y="33526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266688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29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72000" y="365760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379080" y="5029200"/>
            <a:ext cx="1397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 j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6858000" y="2286000"/>
            <a:ext cx="1752480" cy="3352320"/>
            <a:chOff x="6858000" y="2286000"/>
            <a:chExt cx="1752480" cy="3352320"/>
          </a:xfrm>
        </p:grpSpPr>
        <p:sp>
          <p:nvSpPr>
            <p:cNvPr id="614" name=""/>
            <p:cNvSpPr/>
            <p:nvPr/>
          </p:nvSpPr>
          <p:spPr>
            <a:xfrm>
              <a:off x="6934320" y="2361960"/>
              <a:ext cx="1676160" cy="3276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58000" y="2286000"/>
              <a:ext cx="1676520" cy="327636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391520" y="2438280"/>
              <a:ext cx="914400" cy="2971080"/>
              <a:chOff x="7391520" y="2438280"/>
              <a:chExt cx="914400" cy="2971080"/>
            </a:xfrm>
          </p:grpSpPr>
          <p:sp>
            <p:nvSpPr>
              <p:cNvPr id="617" name=""/>
              <p:cNvSpPr/>
              <p:nvPr/>
            </p:nvSpPr>
            <p:spPr>
              <a:xfrm>
                <a:off x="7391520" y="243828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391520" y="2666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391520" y="2895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391520" y="3123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391520" y="3352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391520" y="3809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391520" y="3580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91520" y="4038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91520" y="42667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91520" y="44953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91520" y="47239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391520" y="51811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391520" y="4952520"/>
                <a:ext cx="914400" cy="228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7086600" y="23619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86600" y="25905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58000" y="510516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7239240" y="1905120"/>
            <a:ext cx="10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486400" y="3124080"/>
            <a:ext cx="19051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34120" y="3962520"/>
            <a:ext cx="2057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86400" y="2743200"/>
            <a:ext cx="19051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5334120" y="4647960"/>
            <a:ext cx="20574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1828800" y="4343400"/>
            <a:ext cx="3886200" cy="1953360"/>
            <a:chOff x="1828800" y="4343400"/>
            <a:chExt cx="3886200" cy="1953360"/>
          </a:xfrm>
        </p:grpSpPr>
        <p:sp>
          <p:nvSpPr>
            <p:cNvPr id="639" name=""/>
            <p:cNvSpPr/>
            <p:nvPr/>
          </p:nvSpPr>
          <p:spPr>
            <a:xfrm>
              <a:off x="1828800" y="4343400"/>
              <a:ext cx="388620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963240" y="4419720"/>
              <a:ext cx="1533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hysical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62320" y="4419720"/>
              <a:ext cx="8002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ead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25160" y="4419720"/>
              <a:ext cx="81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Write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62520" y="472428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15520" y="472428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3828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200400" y="472428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1424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76000" y="472428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62520" y="5105520"/>
              <a:ext cx="1523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15520" y="5105520"/>
              <a:ext cx="847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P 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3828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200400" y="5105520"/>
              <a:ext cx="68580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14240" y="5105520"/>
              <a:ext cx="542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352680" y="51055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62520" y="5486400"/>
              <a:ext cx="1523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12280" y="5486400"/>
              <a:ext cx="11307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XXXXX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382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14600" y="5486400"/>
              <a:ext cx="507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352680" y="548640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6688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429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579132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1828800" y="4724280"/>
              <a:ext cx="689040" cy="1069560"/>
              <a:chOff x="1828800" y="4724280"/>
              <a:chExt cx="689040" cy="1069560"/>
            </a:xfrm>
          </p:grpSpPr>
          <p:sp>
            <p:nvSpPr>
              <p:cNvPr id="665" name=""/>
              <p:cNvSpPr/>
              <p:nvPr/>
            </p:nvSpPr>
            <p:spPr>
              <a:xfrm>
                <a:off x="1828800" y="472428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0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828800" y="510516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1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828800" y="5486040"/>
                <a:ext cx="6890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VP 2: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32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s for Virtual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Physical DRAM as a Cache for the Di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space of a process can exceed physical memo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m of address spaces of multiple processes can exceed physical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ify Memory Mana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processes resident in main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process with its own address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“active” code and data is actually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 more memory to process as nee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process can’t interfere with ano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ause they operate in different address spac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process cannot access privileged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fferent sections of address spaces have different permission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Spa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 = {0, 1, …, 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 Spa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 = {0, 1, …, 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 &lt;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 Trans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:  V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P  U  {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virtual address a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)  =  a’  if data at virtual address a at physical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 a’ in 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a) 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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f data at virtual address a not in physical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r invalid or stored on dis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0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: H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870480" y="2310840"/>
            <a:ext cx="1243080" cy="303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749680" y="2761920"/>
            <a:ext cx="1396800" cy="77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52040" y="2908080"/>
            <a:ext cx="100224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035680" y="2749680"/>
            <a:ext cx="3454200" cy="812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210200" y="3340080"/>
            <a:ext cx="1003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60520" y="26290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60520" y="3149640"/>
            <a:ext cx="128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816200" y="322596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1800" y="34545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440" y="400068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4800240" y="3714840"/>
            <a:ext cx="412920" cy="285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08400" y="400068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1295280" y="3505320"/>
            <a:ext cx="533520" cy="419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3352680" y="36450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628720" y="400068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: Mi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70480" y="2512440"/>
            <a:ext cx="1243080" cy="303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749680" y="2963520"/>
            <a:ext cx="1396800" cy="77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 Tra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44480" y="2169720"/>
            <a:ext cx="95328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l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252040" y="3109680"/>
            <a:ext cx="100224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16760" y="3108240"/>
            <a:ext cx="1359000" cy="533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ctr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ondary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35680" y="2951280"/>
            <a:ext cx="3454200" cy="812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92800" y="3160800"/>
            <a:ext cx="660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273360" y="3541680"/>
            <a:ext cx="685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10200" y="3541680"/>
            <a:ext cx="10033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210200" y="3236760"/>
            <a:ext cx="407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4610160" y="2475000"/>
            <a:ext cx="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10160" y="2475000"/>
            <a:ext cx="6033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6254640" y="2482560"/>
            <a:ext cx="1354320" cy="4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07160" y="2489040"/>
            <a:ext cx="0" cy="563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60520" y="28306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60520" y="3351240"/>
            <a:ext cx="128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16200" y="3427560"/>
            <a:ext cx="253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01800" y="365616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45120" y="2932200"/>
            <a:ext cx="308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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231880" y="1801800"/>
            <a:ext cx="120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4863960" y="1998720"/>
            <a:ext cx="393840" cy="44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67440" y="4202280"/>
            <a:ext cx="19807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4800240" y="3916440"/>
            <a:ext cx="412920" cy="2858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661080" y="3586320"/>
            <a:ext cx="381240" cy="596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09560" y="4049640"/>
            <a:ext cx="153864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S perfor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s trans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only if mis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08400" y="4202280"/>
            <a:ext cx="1752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1295280" y="3706920"/>
            <a:ext cx="533520" cy="4190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352680" y="384660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628720" y="4202280"/>
            <a:ext cx="294696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th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-ch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mgmt unit (MM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630360" y="2924280"/>
            <a:ext cx="318744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page 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30760" y="292428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121440" y="2895480"/>
            <a:ext cx="180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34920" y="5133960"/>
            <a:ext cx="28828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ysical page 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30760" y="5133960"/>
            <a:ext cx="21970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97760" y="5105520"/>
            <a:ext cx="203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043600" y="3305160"/>
            <a:ext cx="0" cy="1663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6728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10240" y="480060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39840" y="3990960"/>
            <a:ext cx="2425680" cy="368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 trans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05320" y="48006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914400" y="4800600"/>
            <a:ext cx="624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098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n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72436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43640" y="2590920"/>
            <a:ext cx="56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29000" y="259092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452680" y="330516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452680" y="437184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880" y="5867280"/>
            <a:ext cx="832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offset bits don’t change as a result of transl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6738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M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rame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page size (bytes)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Virtual address li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Physical address li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438280" y="34830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37116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438280" y="39402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438280" y="41688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438280" y="32544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438280" y="21114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438280" y="23400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38280" y="2568600"/>
            <a:ext cx="16002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438280" y="27972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438280" y="3025800"/>
            <a:ext cx="160020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38560" y="42451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38560" y="35593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8560" y="37879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38560" y="40165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38560" y="33307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38560" y="31021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238560" y="28735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238560" y="26449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8560" y="21877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38560" y="2416320"/>
            <a:ext cx="100080" cy="759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520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56480" y="990720"/>
            <a:ext cx="200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resid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hysical pag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r disk addre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412600" y="165420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hysical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5791320" y="2111400"/>
            <a:ext cx="1379160" cy="1600200"/>
            <a:chOff x="5791320" y="2111400"/>
            <a:chExt cx="1379160" cy="1600200"/>
          </a:xfrm>
        </p:grpSpPr>
        <p:sp>
          <p:nvSpPr>
            <p:cNvPr id="761" name=""/>
            <p:cNvSpPr/>
            <p:nvPr/>
          </p:nvSpPr>
          <p:spPr>
            <a:xfrm>
              <a:off x="5791320" y="34830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91320" y="32544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91320" y="21114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91320" y="23400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791320" y="25686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791320" y="27972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791320" y="3025800"/>
              <a:ext cx="1379160" cy="2286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 flipV="1">
            <a:off x="3276720" y="3102120"/>
            <a:ext cx="2514600" cy="11808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76720" y="3584520"/>
            <a:ext cx="2522520" cy="2232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3282840" y="2720520"/>
            <a:ext cx="2508480" cy="110484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76720" y="4041720"/>
            <a:ext cx="2522520" cy="204300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270240" y="2492280"/>
            <a:ext cx="2521080" cy="88272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3282840" y="2187360"/>
            <a:ext cx="2508480" cy="9522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89320" y="2905200"/>
            <a:ext cx="2502000" cy="73008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95800" y="2689200"/>
            <a:ext cx="2516040" cy="2786040"/>
          </a:xfrm>
          <a:prstGeom prst="line">
            <a:avLst/>
          </a:prstGeom>
          <a:ln w="19080">
            <a:solidFill>
              <a:srgbClr val="00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89320" y="2238480"/>
            <a:ext cx="2502000" cy="7110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263760" y="2454120"/>
            <a:ext cx="2527560" cy="95256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418000" y="5068800"/>
            <a:ext cx="2124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18000" y="4816440"/>
            <a:ext cx="2124360" cy="341280"/>
          </a:xfrm>
          <a:prstGeom prst="ellipse">
            <a:avLst/>
          </a:pr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418000" y="50086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42360" y="50086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18000" y="60847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640480" y="3886200"/>
            <a:ext cx="266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 Stor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swap file 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ular file system fil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799240" y="558792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799240" y="52466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99240" y="5932440"/>
            <a:ext cx="137952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133720" y="2111400"/>
            <a:ext cx="304560" cy="2286000"/>
            <a:chOff x="2133720" y="2111400"/>
            <a:chExt cx="304560" cy="2286000"/>
          </a:xfrm>
        </p:grpSpPr>
        <p:sp>
          <p:nvSpPr>
            <p:cNvPr id="788" name=""/>
            <p:cNvSpPr/>
            <p:nvPr/>
          </p:nvSpPr>
          <p:spPr>
            <a:xfrm>
              <a:off x="2133720" y="34830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37116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33720" y="39402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133720" y="41688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133720" y="32544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133720" y="21114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133720" y="23400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33720" y="25686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33720" y="27972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025800"/>
              <a:ext cx="304560" cy="228600"/>
            </a:xfrm>
            <a:prstGeom prst="rect">
              <a:avLst/>
            </a:prstGeom>
            <a:noFill/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>
            <a:off x="1981080" y="18064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5160" y="2081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135160" y="2340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135160" y="279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135160" y="3025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135160" y="3254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35160" y="3711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135160" y="41688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5160" y="394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135160" y="348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135160" y="2568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5800" y="1654200"/>
            <a:ext cx="762120" cy="228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87360" y="9907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rtual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066680" y="1882800"/>
            <a:ext cx="990720" cy="1295280"/>
            <a:chOff x="1066680" y="1882800"/>
            <a:chExt cx="990720" cy="1295280"/>
          </a:xfrm>
        </p:grpSpPr>
        <p:sp>
          <p:nvSpPr>
            <p:cNvPr id="812" name=""/>
            <p:cNvSpPr/>
            <p:nvPr/>
          </p:nvSpPr>
          <p:spPr>
            <a:xfrm>
              <a:off x="1066680" y="1882800"/>
              <a:ext cx="0" cy="1295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066680" y="3178080"/>
              <a:ext cx="99072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91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via Page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52640" y="1273320"/>
            <a:ext cx="8523000" cy="5109840"/>
            <a:chOff x="152640" y="1273320"/>
            <a:chExt cx="8523000" cy="5109840"/>
          </a:xfrm>
        </p:grpSpPr>
        <p:sp>
          <p:nvSpPr>
            <p:cNvPr id="816" name=""/>
            <p:cNvSpPr/>
            <p:nvPr/>
          </p:nvSpPr>
          <p:spPr>
            <a:xfrm>
              <a:off x="3206880" y="1987560"/>
              <a:ext cx="31874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irtual page number (V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407280" y="1987560"/>
              <a:ext cx="21970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34360" y="1273320"/>
              <a:ext cx="1806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irtual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06880" y="5492880"/>
              <a:ext cx="3111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page number (P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330960" y="5492880"/>
              <a:ext cx="21970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29200" y="6019920"/>
              <a:ext cx="203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addr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620120" y="2368440"/>
              <a:ext cx="0" cy="3073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367840" y="515952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10440" y="515952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005160" y="515952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414960" y="5159520"/>
              <a:ext cx="637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186000" y="165420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300880" y="1654200"/>
              <a:ext cx="307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9800" y="1654200"/>
              <a:ext cx="574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005160" y="165420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2640" y="1378080"/>
              <a:ext cx="2796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ge table base regist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25840" y="30542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25840" y="3282840"/>
              <a:ext cx="280692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25840" y="35114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425840" y="3740040"/>
              <a:ext cx="2806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111640" y="3359160"/>
              <a:ext cx="63720" cy="633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143680" y="3422520"/>
              <a:ext cx="0" cy="2057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742840" y="4876920"/>
              <a:ext cx="685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94560" y="4572000"/>
              <a:ext cx="17571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f valid=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hen pag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t in 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41280" y="2687760"/>
              <a:ext cx="702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ali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494960" y="2666880"/>
              <a:ext cx="3281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hysical page number (PPN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523880" y="1752480"/>
              <a:ext cx="0" cy="2210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523880" y="3962520"/>
              <a:ext cx="1435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054240" y="3054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054240" y="3282840"/>
              <a:ext cx="67320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054240" y="35114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54240" y="37400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40040" y="3054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740040" y="3282840"/>
              <a:ext cx="673200" cy="21600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740040" y="35114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740040" y="37400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429000" y="3451320"/>
              <a:ext cx="0" cy="1425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387600" y="3359160"/>
              <a:ext cx="63720" cy="63360"/>
            </a:xfrm>
            <a:prstGeom prst="ellipse">
              <a:avLst/>
            </a:prstGeom>
            <a:solidFill>
              <a:srgbClr val="6600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58680" y="2670120"/>
              <a:ext cx="940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23880" y="198108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PN acts a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ble ind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2135160" y="2362320"/>
              <a:ext cx="1612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35160" y="3033720"/>
              <a:ext cx="0" cy="41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35160" y="3451320"/>
              <a:ext cx="90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parate (set of) page table(s) per pro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PN forms index into page table (points to a page table ent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598788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68680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(PTE) provides information about p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(valid bit = 1) then the page is in memory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se physical page number (PPN) to construct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(valid bit = 0) then the page is on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fa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1219320" y="3124080"/>
            <a:ext cx="598788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51040" y="4368960"/>
            <a:ext cx="72547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147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ge Table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ecking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rights field indicate allowable acc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read-only, read-write, execute-on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support multiple protection modes (e.g., kernel vs. use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tection violation fault if user doesn’t have necessary permi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295280" y="3192480"/>
            <a:ext cx="5988240" cy="35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1041120" y="914400"/>
            <a:ext cx="6559920" cy="1554120"/>
            <a:chOff x="1041120" y="914400"/>
            <a:chExt cx="6559920" cy="1554120"/>
          </a:xfrm>
        </p:grpSpPr>
        <p:sp>
          <p:nvSpPr>
            <p:cNvPr id="872" name=""/>
            <p:cNvSpPr/>
            <p:nvPr/>
          </p:nvSpPr>
          <p:spPr>
            <a:xfrm>
              <a:off x="1073160" y="1028520"/>
              <a:ext cx="990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070000" y="1035000"/>
              <a:ext cx="0" cy="939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1041120" y="2006280"/>
              <a:ext cx="1028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282680" y="13968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24120" y="10602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552920" y="10602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21400" y="1072800"/>
              <a:ext cx="1079640" cy="91404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076480" y="1206360"/>
              <a:ext cx="6350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790800" y="1206360"/>
              <a:ext cx="7495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32560" y="1180800"/>
              <a:ext cx="8762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6311520" y="1828440"/>
              <a:ext cx="2034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311880" y="1834920"/>
              <a:ext cx="0" cy="583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2323800" y="2425680"/>
              <a:ext cx="3987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2324160" y="1891800"/>
              <a:ext cx="0" cy="533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2070000" y="1892160"/>
              <a:ext cx="254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892840" y="1853640"/>
              <a:ext cx="0" cy="571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5638680" y="1854000"/>
              <a:ext cx="2541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4305240" y="1828440"/>
              <a:ext cx="241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05240" y="1834920"/>
              <a:ext cx="0" cy="583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86360" y="2381040"/>
              <a:ext cx="38160" cy="5040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08160" y="9396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22480" y="9396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89440" y="91440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98800" y="190476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959200" y="21841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1066680" y="1015920"/>
              <a:ext cx="0" cy="990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rating VM and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686800" cy="37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Caches “Physically Addressed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d by physic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multiple processes to have blocks in cache at sam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multiple processes to share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doesn’t need to be concerned with protection iss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ess rights checked as part of address trans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 Address Translation Before Cache Look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this could involve a memory access itself (of the PT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course, page table entries can also become cach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600" y="334800"/>
            <a:ext cx="8864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tivation #1: DRAM a “Cache” for Dis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ll address space is quite larg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addresses:                        ~4,000,000,000 (4 billion)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4-bit addresses: ~16,000,000,000,000,000,000 (16 quintillion)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 storage is ~300X cheaper than DRAM stor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 GB of DRAM: ~ $33,0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0 GB of disk:     ~  $11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access large amounts of data in a cost-effective manner, the bulk of the data must be stored on di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15320" y="4943520"/>
            <a:ext cx="0" cy="107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92880" y="4648320"/>
            <a:ext cx="6236640" cy="1915560"/>
            <a:chOff x="992880" y="4648320"/>
            <a:chExt cx="6236640" cy="1915560"/>
          </a:xfrm>
        </p:grpSpPr>
        <p:sp>
          <p:nvSpPr>
            <p:cNvPr id="88" name=""/>
            <p:cNvSpPr/>
            <p:nvPr/>
          </p:nvSpPr>
          <p:spPr>
            <a:xfrm>
              <a:off x="2821680" y="4800240"/>
              <a:ext cx="149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GB: ~$20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5105520" y="5055840"/>
              <a:ext cx="2124000" cy="1508040"/>
              <a:chOff x="5105520" y="5055840"/>
              <a:chExt cx="2124000" cy="1508040"/>
            </a:xfrm>
          </p:grpSpPr>
          <p:sp>
            <p:nvSpPr>
              <p:cNvPr id="90" name=""/>
              <p:cNvSpPr/>
              <p:nvPr/>
            </p:nvSpPr>
            <p:spPr>
              <a:xfrm>
                <a:off x="5105520" y="5308200"/>
                <a:ext cx="2124000" cy="10159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105520" y="5055840"/>
                <a:ext cx="2124000" cy="341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105520" y="5247720"/>
                <a:ext cx="0" cy="1076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229520" y="5247720"/>
                <a:ext cx="0" cy="10764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105520" y="6324120"/>
                <a:ext cx="2124000" cy="239760"/>
              </a:xfrm>
              <a:custGeom>
                <a:avLst/>
                <a:gdLst/>
                <a:ahLst/>
                <a:rect l="l" t="t" r="r" b="b"/>
                <a:pathLst>
                  <a:path w="816" h="84">
                    <a:moveTo>
                      <a:pt x="0" y="0"/>
                    </a:moveTo>
                    <a:cubicBezTo>
                      <a:pt x="25" y="10"/>
                      <a:pt x="81" y="46"/>
                      <a:pt x="150" y="60"/>
                    </a:cubicBezTo>
                    <a:cubicBezTo>
                      <a:pt x="219" y="74"/>
                      <a:pt x="326" y="84"/>
                      <a:pt x="414" y="84"/>
                    </a:cubicBezTo>
                    <a:cubicBezTo>
                      <a:pt x="502" y="84"/>
                      <a:pt x="611" y="74"/>
                      <a:pt x="678" y="60"/>
                    </a:cubicBezTo>
                    <a:cubicBezTo>
                      <a:pt x="745" y="46"/>
                      <a:pt x="787" y="12"/>
                      <a:pt x="816" y="0"/>
                    </a:cubicBezTo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5412600" y="4648320"/>
              <a:ext cx="16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80 GB: ~$1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24440" y="5257440"/>
              <a:ext cx="1131840" cy="11318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19320" y="5562360"/>
              <a:ext cx="849240" cy="4410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2880" y="5105160"/>
              <a:ext cx="15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MB: ~$5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79096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67440" y="579096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680" y="5638680"/>
              <a:ext cx="824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74200" y="563868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6440" y="5638680"/>
              <a:ext cx="853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S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143000" y="3079800"/>
            <a:ext cx="6559560" cy="2940120"/>
            <a:chOff x="1143000" y="3079800"/>
            <a:chExt cx="6559560" cy="2940120"/>
          </a:xfrm>
        </p:grpSpPr>
        <p:sp>
          <p:nvSpPr>
            <p:cNvPr id="901" name=""/>
            <p:cNvSpPr/>
            <p:nvPr/>
          </p:nvSpPr>
          <p:spPr>
            <a:xfrm>
              <a:off x="1174680" y="3397320"/>
              <a:ext cx="990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171880" y="3403800"/>
              <a:ext cx="0" cy="939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1143000" y="4375080"/>
              <a:ext cx="10288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46400" y="3765600"/>
              <a:ext cx="6091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25640" y="3429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L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ooku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654440" y="34290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22920" y="3441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a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178000" y="3575160"/>
              <a:ext cx="6350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62520" y="3613320"/>
              <a:ext cx="685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34080" y="3549600"/>
              <a:ext cx="8762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6395760" y="4205160"/>
              <a:ext cx="220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388200" y="4195800"/>
              <a:ext cx="0" cy="1790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438280" y="6000840"/>
              <a:ext cx="19684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2425680" y="4260600"/>
              <a:ext cx="0" cy="1739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2171520" y="4260960"/>
              <a:ext cx="25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012000" y="4222800"/>
              <a:ext cx="0" cy="1790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5740200" y="4222800"/>
              <a:ext cx="253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406400" y="4197240"/>
              <a:ext cx="241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406760" y="4203720"/>
              <a:ext cx="0" cy="1778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78520" y="5969160"/>
              <a:ext cx="38160" cy="50760"/>
            </a:xfrm>
            <a:prstGeom prst="ellipse">
              <a:avLst/>
            </a:prstGeom>
            <a:solidFill>
              <a:srgbClr val="8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209680" y="3308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24000" y="3308400"/>
              <a:ext cx="432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P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91320" y="32828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559400" y="441324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40640" y="5695920"/>
              <a:ext cx="570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25640" y="4800600"/>
              <a:ext cx="1079640" cy="91440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rans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l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24360" y="3079800"/>
              <a:ext cx="3682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h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52680" y="4356000"/>
              <a:ext cx="0" cy="4320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92440" y="4413240"/>
              <a:ext cx="5968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is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65640" y="5753160"/>
              <a:ext cx="0" cy="101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71760" y="5861160"/>
              <a:ext cx="673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4038480" y="3613320"/>
              <a:ext cx="12960" cy="2247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4393800" y="6000840"/>
              <a:ext cx="19810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3505320" y="4349520"/>
              <a:ext cx="0" cy="44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143000" y="3403800"/>
              <a:ext cx="0" cy="939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eding up Translation with a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 Lookaside Buffer” (TLB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mall hardware cache in MM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s virtual page numbers to  physical page numb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ains complete page table entries for small number of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5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with a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18160" y="1254240"/>
            <a:ext cx="1550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rtu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451240" y="1295280"/>
            <a:ext cx="1923840" cy="1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rtual page numb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387680" y="1295280"/>
            <a:ext cx="1092240" cy="17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ge offs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41640" y="3851280"/>
            <a:ext cx="358776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029200" y="1473120"/>
            <a:ext cx="0" cy="2370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6124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330160" y="1066680"/>
            <a:ext cx="1918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39080" y="1066680"/>
            <a:ext cx="399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6520" y="1066680"/>
            <a:ext cx="2012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016080" y="24004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429000" y="1488960"/>
            <a:ext cx="0" cy="3812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047320" y="2171880"/>
            <a:ext cx="499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060000" y="2171880"/>
            <a:ext cx="197352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page numb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482920" y="24004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101680" y="24004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57880" y="2171880"/>
            <a:ext cx="35964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23760" bIns="23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016080" y="255276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482920" y="255276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01680" y="255276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016080" y="2705040"/>
            <a:ext cx="1708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482920" y="2705040"/>
            <a:ext cx="56520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01680" y="2705040"/>
            <a:ext cx="412920" cy="14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016080" y="2857680"/>
            <a:ext cx="1708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482920" y="2857680"/>
            <a:ext cx="56520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101680" y="2857680"/>
            <a:ext cx="412920" cy="14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1301400" y="1863720"/>
            <a:ext cx="2133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95280" y="1863720"/>
            <a:ext cx="0" cy="144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916280" y="60260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076480" y="60199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2076480" y="6019920"/>
            <a:ext cx="0" cy="209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05320" y="481968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505320" y="4944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505320" y="5070600"/>
            <a:ext cx="149688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505320" y="532296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505320" y="5197320"/>
            <a:ext cx="149688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505320" y="5448240"/>
            <a:ext cx="149688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751120" y="481968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751120" y="4944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751120" y="5070600"/>
            <a:ext cx="74124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751120" y="5197320"/>
            <a:ext cx="74124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751120" y="532296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751120" y="5448240"/>
            <a:ext cx="74124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457360" y="481968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457360" y="4944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457360" y="5070600"/>
            <a:ext cx="281160" cy="114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457360" y="5197320"/>
            <a:ext cx="281160" cy="11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457360" y="532296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457360" y="5448240"/>
            <a:ext cx="281160" cy="1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360160" y="4584600"/>
            <a:ext cx="50904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915280" y="4584600"/>
            <a:ext cx="369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894480" y="4584600"/>
            <a:ext cx="468000" cy="2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5035320" y="5140440"/>
            <a:ext cx="533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273560" y="5146560"/>
            <a:ext cx="0" cy="978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362480" y="5897520"/>
            <a:ext cx="571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89120" y="5146560"/>
            <a:ext cx="0" cy="919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003480" y="5154480"/>
            <a:ext cx="0" cy="615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2146320" y="582624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917800" y="57834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995560" y="5951520"/>
            <a:ext cx="0" cy="223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2097000" y="6181560"/>
            <a:ext cx="898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57652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98764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257720" y="5119560"/>
            <a:ext cx="30240" cy="3024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2088720" y="6072120"/>
            <a:ext cx="500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1402920" y="6138720"/>
            <a:ext cx="490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91960" y="5943600"/>
            <a:ext cx="117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 h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044960" y="4079880"/>
            <a:ext cx="0" cy="36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2139840" y="4454640"/>
            <a:ext cx="19051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39840" y="4460760"/>
            <a:ext cx="0" cy="1359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581920" y="4173480"/>
            <a:ext cx="448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83240" y="4079880"/>
            <a:ext cx="0" cy="520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41560" y="4173480"/>
            <a:ext cx="108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yte offs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568840" y="4079880"/>
            <a:ext cx="0" cy="36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568840" y="4460760"/>
            <a:ext cx="0" cy="67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995720" y="4249800"/>
            <a:ext cx="92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687680" y="3511440"/>
            <a:ext cx="279360" cy="196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1847880" y="3505320"/>
            <a:ext cx="16812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1847880" y="3505320"/>
            <a:ext cx="0" cy="209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308240" y="3303720"/>
            <a:ext cx="1358640" cy="7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689200" y="3268800"/>
            <a:ext cx="155520" cy="155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76120"/>
                <a:tab algn="l" pos="552600"/>
                <a:tab algn="l" pos="828720"/>
                <a:tab algn="l" pos="1104840"/>
                <a:tab algn="l" pos="1380960"/>
                <a:tab algn="l" pos="1657440"/>
                <a:tab algn="l" pos="1933560"/>
                <a:tab algn="l" pos="2209680"/>
                <a:tab algn="l" pos="2486160"/>
                <a:tab algn="l" pos="2762280"/>
                <a:tab algn="l" pos="3038400"/>
                <a:tab algn="l" pos="3314880"/>
                <a:tab algn="l" pos="3591000"/>
                <a:tab algn="l" pos="3867120"/>
                <a:tab algn="l" pos="4143240"/>
                <a:tab algn="l" pos="4419720"/>
                <a:tab algn="l" pos="4695840"/>
                <a:tab algn="l" pos="4971960"/>
                <a:tab algn="l" pos="5248440"/>
                <a:tab algn="l" pos="552456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766960" y="3436920"/>
            <a:ext cx="0" cy="223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1868400" y="3666960"/>
            <a:ext cx="8985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1852560" y="3551400"/>
            <a:ext cx="509760" cy="4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1174320" y="3624120"/>
            <a:ext cx="49068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03840" y="3479760"/>
            <a:ext cx="97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LB h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781360" y="2616120"/>
            <a:ext cx="0" cy="6206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2631960"/>
            <a:ext cx="0" cy="919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886200" y="2639880"/>
            <a:ext cx="0" cy="11700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12952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620120" y="380988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605720" y="2257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987320" y="47721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230560" y="233856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75444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649600" y="2344680"/>
            <a:ext cx="2649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691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4-bit virtual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-bit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size = 6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960480" y="2819520"/>
            <a:ext cx="6823080" cy="609480"/>
            <a:chOff x="960480" y="2819520"/>
            <a:chExt cx="6823080" cy="609480"/>
          </a:xfrm>
        </p:grpSpPr>
        <p:grpSp>
          <p:nvGrpSpPr>
            <p:cNvPr id="1037" name=""/>
            <p:cNvGrpSpPr/>
            <p:nvPr/>
          </p:nvGrpSpPr>
          <p:grpSpPr>
            <a:xfrm>
              <a:off x="960480" y="2819520"/>
              <a:ext cx="487440" cy="609480"/>
              <a:chOff x="960480" y="2819520"/>
              <a:chExt cx="487440" cy="609480"/>
            </a:xfrm>
          </p:grpSpPr>
          <p:sp>
            <p:nvSpPr>
              <p:cNvPr id="1038" name=""/>
              <p:cNvSpPr/>
              <p:nvPr/>
            </p:nvSpPr>
            <p:spPr>
              <a:xfrm>
                <a:off x="9604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9604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1447920" y="2819520"/>
              <a:ext cx="487080" cy="609480"/>
              <a:chOff x="1447920" y="2819520"/>
              <a:chExt cx="487080" cy="609480"/>
            </a:xfrm>
          </p:grpSpPr>
          <p:sp>
            <p:nvSpPr>
              <p:cNvPr id="1041" name=""/>
              <p:cNvSpPr/>
              <p:nvPr/>
            </p:nvSpPr>
            <p:spPr>
              <a:xfrm>
                <a:off x="144792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44792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1935000" y="2819520"/>
              <a:ext cx="487440" cy="609480"/>
              <a:chOff x="1935000" y="2819520"/>
              <a:chExt cx="487440" cy="609480"/>
            </a:xfrm>
          </p:grpSpPr>
          <p:sp>
            <p:nvSpPr>
              <p:cNvPr id="1044" name=""/>
              <p:cNvSpPr/>
              <p:nvPr/>
            </p:nvSpPr>
            <p:spPr>
              <a:xfrm>
                <a:off x="193500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93500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"/>
            <p:cNvGrpSpPr/>
            <p:nvPr/>
          </p:nvGrpSpPr>
          <p:grpSpPr>
            <a:xfrm>
              <a:off x="2422440" y="2819520"/>
              <a:ext cx="487440" cy="609480"/>
              <a:chOff x="2422440" y="2819520"/>
              <a:chExt cx="487440" cy="609480"/>
            </a:xfrm>
          </p:grpSpPr>
          <p:sp>
            <p:nvSpPr>
              <p:cNvPr id="1047" name=""/>
              <p:cNvSpPr/>
              <p:nvPr/>
            </p:nvSpPr>
            <p:spPr>
              <a:xfrm>
                <a:off x="24224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4224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2909880" y="2819520"/>
              <a:ext cx="487440" cy="609480"/>
              <a:chOff x="2909880" y="2819520"/>
              <a:chExt cx="487440" cy="609480"/>
            </a:xfrm>
          </p:grpSpPr>
          <p:sp>
            <p:nvSpPr>
              <p:cNvPr id="1050" name=""/>
              <p:cNvSpPr/>
              <p:nvPr/>
            </p:nvSpPr>
            <p:spPr>
              <a:xfrm>
                <a:off x="29098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9098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3397320" y="2819520"/>
              <a:ext cx="487440" cy="609480"/>
              <a:chOff x="3397320" y="2819520"/>
              <a:chExt cx="487440" cy="609480"/>
            </a:xfrm>
          </p:grpSpPr>
          <p:sp>
            <p:nvSpPr>
              <p:cNvPr id="1053" name=""/>
              <p:cNvSpPr/>
              <p:nvPr/>
            </p:nvSpPr>
            <p:spPr>
              <a:xfrm>
                <a:off x="33973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3973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3884760" y="2819520"/>
              <a:ext cx="487080" cy="609480"/>
              <a:chOff x="3884760" y="2819520"/>
              <a:chExt cx="487080" cy="609480"/>
            </a:xfrm>
          </p:grpSpPr>
          <p:sp>
            <p:nvSpPr>
              <p:cNvPr id="1056" name=""/>
              <p:cNvSpPr/>
              <p:nvPr/>
            </p:nvSpPr>
            <p:spPr>
              <a:xfrm>
                <a:off x="388476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88476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8" name=""/>
            <p:cNvGrpSpPr/>
            <p:nvPr/>
          </p:nvGrpSpPr>
          <p:grpSpPr>
            <a:xfrm>
              <a:off x="4371840" y="2819520"/>
              <a:ext cx="487440" cy="609480"/>
              <a:chOff x="4371840" y="2819520"/>
              <a:chExt cx="487440" cy="6094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37184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37184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4859280" y="2819520"/>
              <a:ext cx="487440" cy="609480"/>
              <a:chOff x="4859280" y="2819520"/>
              <a:chExt cx="487440" cy="609480"/>
            </a:xfrm>
          </p:grpSpPr>
          <p:sp>
            <p:nvSpPr>
              <p:cNvPr id="1062" name=""/>
              <p:cNvSpPr/>
              <p:nvPr/>
            </p:nvSpPr>
            <p:spPr>
              <a:xfrm>
                <a:off x="48592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8592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5346720" y="2819520"/>
              <a:ext cx="487440" cy="609480"/>
              <a:chOff x="5346720" y="2819520"/>
              <a:chExt cx="487440" cy="609480"/>
            </a:xfrm>
          </p:grpSpPr>
          <p:sp>
            <p:nvSpPr>
              <p:cNvPr id="1065" name=""/>
              <p:cNvSpPr/>
              <p:nvPr/>
            </p:nvSpPr>
            <p:spPr>
              <a:xfrm>
                <a:off x="53467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3467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5834160" y="2819520"/>
              <a:ext cx="487440" cy="609480"/>
              <a:chOff x="5834160" y="2819520"/>
              <a:chExt cx="487440" cy="609480"/>
            </a:xfrm>
          </p:grpSpPr>
          <p:sp>
            <p:nvSpPr>
              <p:cNvPr id="1068" name=""/>
              <p:cNvSpPr/>
              <p:nvPr/>
            </p:nvSpPr>
            <p:spPr>
              <a:xfrm>
                <a:off x="583416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83416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6321600" y="2819520"/>
              <a:ext cx="487080" cy="609480"/>
              <a:chOff x="6321600" y="2819520"/>
              <a:chExt cx="487080" cy="609480"/>
            </a:xfrm>
          </p:grpSpPr>
          <p:sp>
            <p:nvSpPr>
              <p:cNvPr id="1071" name=""/>
              <p:cNvSpPr/>
              <p:nvPr/>
            </p:nvSpPr>
            <p:spPr>
              <a:xfrm>
                <a:off x="6321600" y="312408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21600" y="281952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6808680" y="2819520"/>
              <a:ext cx="487440" cy="609480"/>
              <a:chOff x="6808680" y="2819520"/>
              <a:chExt cx="487440" cy="609480"/>
            </a:xfrm>
          </p:grpSpPr>
          <p:sp>
            <p:nvSpPr>
              <p:cNvPr id="1074" name=""/>
              <p:cNvSpPr/>
              <p:nvPr/>
            </p:nvSpPr>
            <p:spPr>
              <a:xfrm>
                <a:off x="680868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80868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7296120" y="2819520"/>
              <a:ext cx="487440" cy="609480"/>
              <a:chOff x="7296120" y="2819520"/>
              <a:chExt cx="487440" cy="609480"/>
            </a:xfrm>
          </p:grpSpPr>
          <p:sp>
            <p:nvSpPr>
              <p:cNvPr id="1077" name=""/>
              <p:cNvSpPr/>
              <p:nvPr/>
            </p:nvSpPr>
            <p:spPr>
              <a:xfrm>
                <a:off x="7296120" y="312408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296120" y="281952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9" name=""/>
          <p:cNvGrpSpPr/>
          <p:nvPr/>
        </p:nvGrpSpPr>
        <p:grpSpPr>
          <a:xfrm>
            <a:off x="1935000" y="4572000"/>
            <a:ext cx="5848560" cy="609480"/>
            <a:chOff x="1935000" y="4572000"/>
            <a:chExt cx="5848560" cy="609480"/>
          </a:xfrm>
        </p:grpSpPr>
        <p:grpSp>
          <p:nvGrpSpPr>
            <p:cNvPr id="1080" name=""/>
            <p:cNvGrpSpPr/>
            <p:nvPr/>
          </p:nvGrpSpPr>
          <p:grpSpPr>
            <a:xfrm>
              <a:off x="1935000" y="4572000"/>
              <a:ext cx="487440" cy="609480"/>
              <a:chOff x="1935000" y="4572000"/>
              <a:chExt cx="487440" cy="609480"/>
            </a:xfrm>
          </p:grpSpPr>
          <p:sp>
            <p:nvSpPr>
              <p:cNvPr id="1081" name=""/>
              <p:cNvSpPr/>
              <p:nvPr/>
            </p:nvSpPr>
            <p:spPr>
              <a:xfrm>
                <a:off x="193500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3500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2422440" y="4572000"/>
              <a:ext cx="487440" cy="609480"/>
              <a:chOff x="2422440" y="4572000"/>
              <a:chExt cx="487440" cy="609480"/>
            </a:xfrm>
          </p:grpSpPr>
          <p:sp>
            <p:nvSpPr>
              <p:cNvPr id="1084" name=""/>
              <p:cNvSpPr/>
              <p:nvPr/>
            </p:nvSpPr>
            <p:spPr>
              <a:xfrm>
                <a:off x="24224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224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2909880" y="4572000"/>
              <a:ext cx="487440" cy="609480"/>
              <a:chOff x="2909880" y="4572000"/>
              <a:chExt cx="487440" cy="609480"/>
            </a:xfrm>
          </p:grpSpPr>
          <p:sp>
            <p:nvSpPr>
              <p:cNvPr id="1087" name=""/>
              <p:cNvSpPr/>
              <p:nvPr/>
            </p:nvSpPr>
            <p:spPr>
              <a:xfrm>
                <a:off x="29098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098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3397320" y="4572000"/>
              <a:ext cx="487440" cy="609480"/>
              <a:chOff x="3397320" y="4572000"/>
              <a:chExt cx="487440" cy="609480"/>
            </a:xfrm>
          </p:grpSpPr>
          <p:sp>
            <p:nvSpPr>
              <p:cNvPr id="1090" name=""/>
              <p:cNvSpPr/>
              <p:nvPr/>
            </p:nvSpPr>
            <p:spPr>
              <a:xfrm>
                <a:off x="33973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3973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2" name=""/>
            <p:cNvGrpSpPr/>
            <p:nvPr/>
          </p:nvGrpSpPr>
          <p:grpSpPr>
            <a:xfrm>
              <a:off x="3884760" y="4572000"/>
              <a:ext cx="487080" cy="609480"/>
              <a:chOff x="3884760" y="4572000"/>
              <a:chExt cx="487080" cy="609480"/>
            </a:xfrm>
          </p:grpSpPr>
          <p:sp>
            <p:nvSpPr>
              <p:cNvPr id="1093" name=""/>
              <p:cNvSpPr/>
              <p:nvPr/>
            </p:nvSpPr>
            <p:spPr>
              <a:xfrm>
                <a:off x="388476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88476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5" name=""/>
            <p:cNvGrpSpPr/>
            <p:nvPr/>
          </p:nvGrpSpPr>
          <p:grpSpPr>
            <a:xfrm>
              <a:off x="4371840" y="4572000"/>
              <a:ext cx="487440" cy="609480"/>
              <a:chOff x="4371840" y="4572000"/>
              <a:chExt cx="487440" cy="609480"/>
            </a:xfrm>
          </p:grpSpPr>
          <p:sp>
            <p:nvSpPr>
              <p:cNvPr id="1096" name=""/>
              <p:cNvSpPr/>
              <p:nvPr/>
            </p:nvSpPr>
            <p:spPr>
              <a:xfrm>
                <a:off x="437184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37184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859280" y="4572000"/>
              <a:ext cx="487440" cy="609480"/>
              <a:chOff x="4859280" y="4572000"/>
              <a:chExt cx="487440" cy="609480"/>
            </a:xfrm>
          </p:grpSpPr>
          <p:sp>
            <p:nvSpPr>
              <p:cNvPr id="1099" name=""/>
              <p:cNvSpPr/>
              <p:nvPr/>
            </p:nvSpPr>
            <p:spPr>
              <a:xfrm>
                <a:off x="48592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8592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1" name=""/>
            <p:cNvGrpSpPr/>
            <p:nvPr/>
          </p:nvGrpSpPr>
          <p:grpSpPr>
            <a:xfrm>
              <a:off x="5346720" y="4572000"/>
              <a:ext cx="487440" cy="609480"/>
              <a:chOff x="5346720" y="4572000"/>
              <a:chExt cx="487440" cy="609480"/>
            </a:xfrm>
          </p:grpSpPr>
          <p:sp>
            <p:nvSpPr>
              <p:cNvPr id="1102" name=""/>
              <p:cNvSpPr/>
              <p:nvPr/>
            </p:nvSpPr>
            <p:spPr>
              <a:xfrm>
                <a:off x="53467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3467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5834160" y="4572000"/>
              <a:ext cx="487440" cy="609480"/>
              <a:chOff x="5834160" y="4572000"/>
              <a:chExt cx="487440" cy="609480"/>
            </a:xfrm>
          </p:grpSpPr>
          <p:sp>
            <p:nvSpPr>
              <p:cNvPr id="1105" name=""/>
              <p:cNvSpPr/>
              <p:nvPr/>
            </p:nvSpPr>
            <p:spPr>
              <a:xfrm>
                <a:off x="583416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3416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"/>
            <p:cNvGrpSpPr/>
            <p:nvPr/>
          </p:nvGrpSpPr>
          <p:grpSpPr>
            <a:xfrm>
              <a:off x="6321600" y="4572000"/>
              <a:ext cx="487080" cy="609480"/>
              <a:chOff x="6321600" y="4572000"/>
              <a:chExt cx="487080" cy="609480"/>
            </a:xfrm>
          </p:grpSpPr>
          <p:sp>
            <p:nvSpPr>
              <p:cNvPr id="1108" name=""/>
              <p:cNvSpPr/>
              <p:nvPr/>
            </p:nvSpPr>
            <p:spPr>
              <a:xfrm>
                <a:off x="6321600" y="4876560"/>
                <a:ext cx="48708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321600" y="4572000"/>
                <a:ext cx="487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0" name=""/>
            <p:cNvGrpSpPr/>
            <p:nvPr/>
          </p:nvGrpSpPr>
          <p:grpSpPr>
            <a:xfrm>
              <a:off x="6808680" y="4572000"/>
              <a:ext cx="487440" cy="609480"/>
              <a:chOff x="6808680" y="4572000"/>
              <a:chExt cx="487440" cy="609480"/>
            </a:xfrm>
          </p:grpSpPr>
          <p:sp>
            <p:nvSpPr>
              <p:cNvPr id="1111" name=""/>
              <p:cNvSpPr/>
              <p:nvPr/>
            </p:nvSpPr>
            <p:spPr>
              <a:xfrm>
                <a:off x="680868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80868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13" name=""/>
            <p:cNvGrpSpPr/>
            <p:nvPr/>
          </p:nvGrpSpPr>
          <p:grpSpPr>
            <a:xfrm>
              <a:off x="7296120" y="4572000"/>
              <a:ext cx="487440" cy="609480"/>
              <a:chOff x="7296120" y="4572000"/>
              <a:chExt cx="487440" cy="609480"/>
            </a:xfrm>
          </p:grpSpPr>
          <p:sp>
            <p:nvSpPr>
              <p:cNvPr id="1114" name=""/>
              <p:cNvSpPr/>
              <p:nvPr/>
            </p:nvSpPr>
            <p:spPr>
              <a:xfrm>
                <a:off x="7296120" y="4876560"/>
                <a:ext cx="48744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296120" y="4572000"/>
                <a:ext cx="4874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6" name=""/>
          <p:cNvGrpSpPr/>
          <p:nvPr/>
        </p:nvGrpSpPr>
        <p:grpSpPr>
          <a:xfrm>
            <a:off x="4859280" y="3589200"/>
            <a:ext cx="2924280" cy="335520"/>
            <a:chOff x="4859280" y="3589200"/>
            <a:chExt cx="2924280" cy="335520"/>
          </a:xfrm>
        </p:grpSpPr>
        <p:sp>
          <p:nvSpPr>
            <p:cNvPr id="1117" name=""/>
            <p:cNvSpPr/>
            <p:nvPr/>
          </p:nvSpPr>
          <p:spPr>
            <a:xfrm>
              <a:off x="4859280" y="3733920"/>
              <a:ext cx="292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984640" y="35892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VP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19" name=""/>
          <p:cNvGrpSpPr/>
          <p:nvPr/>
        </p:nvGrpSpPr>
        <p:grpSpPr>
          <a:xfrm>
            <a:off x="4876920" y="5257800"/>
            <a:ext cx="2923920" cy="335520"/>
            <a:chOff x="4876920" y="5257800"/>
            <a:chExt cx="2923920" cy="335520"/>
          </a:xfrm>
        </p:grpSpPr>
        <p:sp>
          <p:nvSpPr>
            <p:cNvPr id="1120" name=""/>
            <p:cNvSpPr/>
            <p:nvPr/>
          </p:nvSpPr>
          <p:spPr>
            <a:xfrm>
              <a:off x="4876920" y="5402520"/>
              <a:ext cx="29239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01560" y="5257800"/>
              <a:ext cx="66456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PP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22" name=""/>
          <p:cNvGrpSpPr/>
          <p:nvPr/>
        </p:nvGrpSpPr>
        <p:grpSpPr>
          <a:xfrm>
            <a:off x="1981080" y="5257800"/>
            <a:ext cx="2924280" cy="335520"/>
            <a:chOff x="1981080" y="5257800"/>
            <a:chExt cx="2924280" cy="335520"/>
          </a:xfrm>
        </p:grpSpPr>
        <p:sp>
          <p:nvSpPr>
            <p:cNvPr id="1123" name=""/>
            <p:cNvSpPr/>
            <p:nvPr/>
          </p:nvSpPr>
          <p:spPr>
            <a:xfrm>
              <a:off x="1981080" y="5402520"/>
              <a:ext cx="2924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106800" y="525780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PP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960480" y="3581280"/>
            <a:ext cx="3916080" cy="335520"/>
            <a:chOff x="960480" y="3581280"/>
            <a:chExt cx="3916080" cy="335520"/>
          </a:xfrm>
        </p:grpSpPr>
        <p:sp>
          <p:nvSpPr>
            <p:cNvPr id="1126" name=""/>
            <p:cNvSpPr/>
            <p:nvPr/>
          </p:nvSpPr>
          <p:spPr>
            <a:xfrm>
              <a:off x="960480" y="3726000"/>
              <a:ext cx="3916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67440" y="3581280"/>
              <a:ext cx="65088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VP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1621080" y="4017960"/>
            <a:ext cx="2450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Virtual Page Numb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013360" y="4006800"/>
            <a:ext cx="2251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Virtual Page Off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35880" y="5607000"/>
            <a:ext cx="265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Physical Page Numb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064120" y="5638680"/>
            <a:ext cx="2453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Physical Page Off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110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Page Tab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4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show first 16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2612880" y="2325600"/>
          <a:ext cx="4154400" cy="2764080"/>
        </p:xfrm>
        <a:graphic>
          <a:graphicData uri="http://schemas.openxmlformats.org/drawingml/2006/table">
            <a:tbl>
              <a:tblPr/>
              <a:tblGrid>
                <a:gridCol w="693360"/>
                <a:gridCol w="692280"/>
                <a:gridCol w="691560"/>
                <a:gridCol w="693720"/>
                <a:gridCol w="691560"/>
                <a:gridCol w="691920"/>
              </a:tblGrid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B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F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way associ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37" name=""/>
          <p:cNvGrpSpPr/>
          <p:nvPr/>
        </p:nvGrpSpPr>
        <p:grpSpPr>
          <a:xfrm>
            <a:off x="960480" y="2362320"/>
            <a:ext cx="6823080" cy="1370520"/>
            <a:chOff x="960480" y="2362320"/>
            <a:chExt cx="6823080" cy="1370520"/>
          </a:xfrm>
        </p:grpSpPr>
        <p:grpSp>
          <p:nvGrpSpPr>
            <p:cNvPr id="1138" name=""/>
            <p:cNvGrpSpPr/>
            <p:nvPr/>
          </p:nvGrpSpPr>
          <p:grpSpPr>
            <a:xfrm>
              <a:off x="960480" y="2627280"/>
              <a:ext cx="6823080" cy="609480"/>
              <a:chOff x="960480" y="2627280"/>
              <a:chExt cx="6823080" cy="609480"/>
            </a:xfrm>
          </p:grpSpPr>
          <p:grpSp>
            <p:nvGrpSpPr>
              <p:cNvPr id="1139" name=""/>
              <p:cNvGrpSpPr/>
              <p:nvPr/>
            </p:nvGrpSpPr>
            <p:grpSpPr>
              <a:xfrm>
                <a:off x="960480" y="2627280"/>
                <a:ext cx="487440" cy="609480"/>
                <a:chOff x="960480" y="2627280"/>
                <a:chExt cx="487440" cy="60948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9604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9604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447920" y="2627280"/>
                <a:ext cx="487080" cy="609480"/>
                <a:chOff x="1447920" y="2627280"/>
                <a:chExt cx="487080" cy="60948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44792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44792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935000" y="2627280"/>
                <a:ext cx="487440" cy="609480"/>
                <a:chOff x="1935000" y="2627280"/>
                <a:chExt cx="487440" cy="6094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93500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93500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2422440" y="2627280"/>
                <a:ext cx="487440" cy="609480"/>
                <a:chOff x="2422440" y="2627280"/>
                <a:chExt cx="487440" cy="60948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242244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42244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2909880" y="2627280"/>
                <a:ext cx="487440" cy="609480"/>
                <a:chOff x="2909880" y="2627280"/>
                <a:chExt cx="487440" cy="60948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29098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29098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3397320" y="2627280"/>
                <a:ext cx="487440" cy="609480"/>
                <a:chOff x="3397320" y="2627280"/>
                <a:chExt cx="487440" cy="60948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33973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3973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"/>
              <p:cNvGrpSpPr/>
              <p:nvPr/>
            </p:nvGrpSpPr>
            <p:grpSpPr>
              <a:xfrm>
                <a:off x="3884760" y="2627280"/>
                <a:ext cx="487080" cy="609480"/>
                <a:chOff x="3884760" y="2627280"/>
                <a:chExt cx="487080" cy="609480"/>
              </a:xfrm>
            </p:grpSpPr>
            <p:sp>
              <p:nvSpPr>
                <p:cNvPr id="1158" name=""/>
                <p:cNvSpPr/>
                <p:nvPr/>
              </p:nvSpPr>
              <p:spPr>
                <a:xfrm>
                  <a:off x="388476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388476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"/>
              <p:cNvGrpSpPr/>
              <p:nvPr/>
            </p:nvGrpSpPr>
            <p:grpSpPr>
              <a:xfrm>
                <a:off x="4371840" y="2627280"/>
                <a:ext cx="487440" cy="609480"/>
                <a:chOff x="4371840" y="2627280"/>
                <a:chExt cx="487440" cy="609480"/>
              </a:xfrm>
            </p:grpSpPr>
            <p:sp>
              <p:nvSpPr>
                <p:cNvPr id="1161" name=""/>
                <p:cNvSpPr/>
                <p:nvPr/>
              </p:nvSpPr>
              <p:spPr>
                <a:xfrm>
                  <a:off x="437184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37184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"/>
              <p:cNvGrpSpPr/>
              <p:nvPr/>
            </p:nvGrpSpPr>
            <p:grpSpPr>
              <a:xfrm>
                <a:off x="4859280" y="2627280"/>
                <a:ext cx="487440" cy="609480"/>
                <a:chOff x="4859280" y="2627280"/>
                <a:chExt cx="487440" cy="60948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48592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8592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5346720" y="2627280"/>
                <a:ext cx="487440" cy="609480"/>
                <a:chOff x="5346720" y="2627280"/>
                <a:chExt cx="487440" cy="60948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53467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3467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5834160" y="2627280"/>
                <a:ext cx="487440" cy="609480"/>
                <a:chOff x="5834160" y="2627280"/>
                <a:chExt cx="487440" cy="60948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583416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83416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6321600" y="2627280"/>
                <a:ext cx="487080" cy="609480"/>
                <a:chOff x="6321600" y="2627280"/>
                <a:chExt cx="487080" cy="60948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6321600" y="293184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6321600" y="262728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6808680" y="2627280"/>
                <a:ext cx="487440" cy="609480"/>
                <a:chOff x="6808680" y="2627280"/>
                <a:chExt cx="487440" cy="60948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680868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680868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7296120" y="2627280"/>
                <a:ext cx="487440" cy="609480"/>
                <a:chOff x="7296120" y="2627280"/>
                <a:chExt cx="487440" cy="60948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7296120" y="2931840"/>
                  <a:ext cx="48744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7296120" y="2627280"/>
                  <a:ext cx="48744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1" name=""/>
            <p:cNvGrpSpPr/>
            <p:nvPr/>
          </p:nvGrpSpPr>
          <p:grpSpPr>
            <a:xfrm>
              <a:off x="4859280" y="3397320"/>
              <a:ext cx="2924280" cy="335520"/>
              <a:chOff x="4859280" y="3397320"/>
              <a:chExt cx="2924280" cy="335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4859280" y="354204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984640" y="33973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84" name=""/>
            <p:cNvGrpSpPr/>
            <p:nvPr/>
          </p:nvGrpSpPr>
          <p:grpSpPr>
            <a:xfrm>
              <a:off x="960480" y="3389400"/>
              <a:ext cx="3916080" cy="335520"/>
              <a:chOff x="960480" y="3389400"/>
              <a:chExt cx="3916080" cy="335520"/>
            </a:xfrm>
          </p:grpSpPr>
          <p:sp>
            <p:nvSpPr>
              <p:cNvPr id="1185" name=""/>
              <p:cNvSpPr/>
              <p:nvPr/>
            </p:nvSpPr>
            <p:spPr>
              <a:xfrm>
                <a:off x="960480" y="3534120"/>
                <a:ext cx="3916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467440" y="338940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3881520" y="2382840"/>
              <a:ext cx="992160" cy="307800"/>
              <a:chOff x="3881520" y="2382840"/>
              <a:chExt cx="992160" cy="307800"/>
            </a:xfrm>
          </p:grpSpPr>
          <p:sp>
            <p:nvSpPr>
              <p:cNvPr id="1188" name=""/>
              <p:cNvSpPr/>
              <p:nvPr/>
            </p:nvSpPr>
            <p:spPr>
              <a:xfrm>
                <a:off x="3881520" y="250668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105800" y="238284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960480" y="2362320"/>
              <a:ext cx="2926440" cy="307800"/>
              <a:chOff x="960480" y="2362320"/>
              <a:chExt cx="2926440" cy="307800"/>
            </a:xfrm>
          </p:grpSpPr>
          <p:sp>
            <p:nvSpPr>
              <p:cNvPr id="1191" name=""/>
              <p:cNvSpPr/>
              <p:nvPr/>
            </p:nvSpPr>
            <p:spPr>
              <a:xfrm>
                <a:off x="960480" y="2486160"/>
                <a:ext cx="292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202840" y="236232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193" name=""/>
          <p:cNvGraphicFramePr/>
          <p:nvPr/>
        </p:nvGraphicFramePr>
        <p:xfrm>
          <a:off x="457200" y="4241880"/>
          <a:ext cx="8153280" cy="1625400"/>
        </p:xfrm>
        <a:graphic>
          <a:graphicData uri="http://schemas.openxmlformats.org/drawingml/2006/table">
            <a:tbl>
              <a:tblPr/>
              <a:tblGrid>
                <a:gridCol w="625320"/>
                <a:gridCol w="630360"/>
                <a:gridCol w="625680"/>
                <a:gridCol w="628560"/>
                <a:gridCol w="625320"/>
                <a:gridCol w="627120"/>
                <a:gridCol w="628560"/>
                <a:gridCol w="627120"/>
                <a:gridCol w="625680"/>
                <a:gridCol w="628560"/>
                <a:gridCol w="625320"/>
                <a:gridCol w="630360"/>
                <a:gridCol w="625320"/>
              </a:tblGrid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et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PN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284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Memory System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8307360" cy="544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l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yte line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app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1711440" y="2362320"/>
            <a:ext cx="5865840" cy="1395720"/>
            <a:chOff x="1711440" y="2362320"/>
            <a:chExt cx="5865840" cy="1395720"/>
          </a:xfrm>
        </p:grpSpPr>
        <p:grpSp>
          <p:nvGrpSpPr>
            <p:cNvPr id="1197" name=""/>
            <p:cNvGrpSpPr/>
            <p:nvPr/>
          </p:nvGrpSpPr>
          <p:grpSpPr>
            <a:xfrm>
              <a:off x="1711440" y="2736720"/>
              <a:ext cx="5847840" cy="609480"/>
              <a:chOff x="1711440" y="2736720"/>
              <a:chExt cx="5847840" cy="609480"/>
            </a:xfrm>
          </p:grpSpPr>
          <p:grpSp>
            <p:nvGrpSpPr>
              <p:cNvPr id="1198" name=""/>
              <p:cNvGrpSpPr/>
              <p:nvPr/>
            </p:nvGrpSpPr>
            <p:grpSpPr>
              <a:xfrm>
                <a:off x="1711440" y="2736720"/>
                <a:ext cx="487080" cy="609480"/>
                <a:chOff x="1711440" y="2736720"/>
                <a:chExt cx="487080" cy="60948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17114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7114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2198520" y="2736720"/>
                <a:ext cx="487080" cy="609480"/>
                <a:chOff x="2198520" y="2736720"/>
                <a:chExt cx="487080" cy="60948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21985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1985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2685960" y="2736720"/>
                <a:ext cx="487080" cy="609480"/>
                <a:chOff x="2685960" y="2736720"/>
                <a:chExt cx="487080" cy="60948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26859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6859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3173400" y="2736720"/>
                <a:ext cx="487080" cy="609480"/>
                <a:chOff x="3173400" y="2736720"/>
                <a:chExt cx="487080" cy="60948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31734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1734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3660840" y="2736720"/>
                <a:ext cx="486720" cy="609480"/>
                <a:chOff x="3660840" y="2736720"/>
                <a:chExt cx="486720" cy="60948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366084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66084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"/>
              <p:cNvGrpSpPr/>
              <p:nvPr/>
            </p:nvGrpSpPr>
            <p:grpSpPr>
              <a:xfrm>
                <a:off x="4147920" y="2736720"/>
                <a:ext cx="487080" cy="609480"/>
                <a:chOff x="4147920" y="2736720"/>
                <a:chExt cx="487080" cy="60948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414792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414792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4635360" y="2736720"/>
                <a:ext cx="487080" cy="609480"/>
                <a:chOff x="4635360" y="2736720"/>
                <a:chExt cx="487080" cy="6094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46353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46353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5122800" y="2736720"/>
                <a:ext cx="487080" cy="609480"/>
                <a:chOff x="5122800" y="2736720"/>
                <a:chExt cx="487080" cy="60948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51228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1228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5610240" y="2736720"/>
                <a:ext cx="487080" cy="609480"/>
                <a:chOff x="5610240" y="2736720"/>
                <a:chExt cx="487080" cy="6094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561024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61024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6097680" y="2736720"/>
                <a:ext cx="486720" cy="609480"/>
                <a:chOff x="6097680" y="2736720"/>
                <a:chExt cx="486720" cy="60948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6097680" y="304128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6097680" y="273672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6584760" y="2736720"/>
                <a:ext cx="487080" cy="609480"/>
                <a:chOff x="6584760" y="2736720"/>
                <a:chExt cx="487080" cy="60948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58476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58476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7072200" y="2736720"/>
                <a:ext cx="487080" cy="609480"/>
                <a:chOff x="7072200" y="2736720"/>
                <a:chExt cx="487080" cy="60948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7072200" y="304128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7072200" y="273672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4" name=""/>
            <p:cNvGrpSpPr/>
            <p:nvPr/>
          </p:nvGrpSpPr>
          <p:grpSpPr>
            <a:xfrm>
              <a:off x="4653000" y="3422520"/>
              <a:ext cx="2924280" cy="335520"/>
              <a:chOff x="4653000" y="3422520"/>
              <a:chExt cx="2924280" cy="335520"/>
            </a:xfrm>
          </p:grpSpPr>
          <p:sp>
            <p:nvSpPr>
              <p:cNvPr id="1235" name=""/>
              <p:cNvSpPr/>
              <p:nvPr/>
            </p:nvSpPr>
            <p:spPr>
              <a:xfrm>
                <a:off x="4653000" y="356724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778360" y="342252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1757520" y="3422520"/>
              <a:ext cx="2923920" cy="335520"/>
              <a:chOff x="1757520" y="3422520"/>
              <a:chExt cx="2923920" cy="335520"/>
            </a:xfrm>
          </p:grpSpPr>
          <p:sp>
            <p:nvSpPr>
              <p:cNvPr id="1238" name=""/>
              <p:cNvSpPr/>
              <p:nvPr/>
            </p:nvSpPr>
            <p:spPr>
              <a:xfrm>
                <a:off x="1757520" y="356724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82880" y="342252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6556320" y="2382840"/>
              <a:ext cx="992160" cy="307800"/>
              <a:chOff x="6556320" y="2382840"/>
              <a:chExt cx="992160" cy="307800"/>
            </a:xfrm>
          </p:grpSpPr>
          <p:sp>
            <p:nvSpPr>
              <p:cNvPr id="1241" name=""/>
              <p:cNvSpPr/>
              <p:nvPr/>
            </p:nvSpPr>
            <p:spPr>
              <a:xfrm>
                <a:off x="6556320" y="250668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853680" y="238284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4635360" y="2362320"/>
              <a:ext cx="1927080" cy="307800"/>
              <a:chOff x="4635360" y="2362320"/>
              <a:chExt cx="1927080" cy="3078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635360" y="248616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92880" y="236232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1711440" y="2382840"/>
              <a:ext cx="2894760" cy="307800"/>
              <a:chOff x="1711440" y="2382840"/>
              <a:chExt cx="2894760" cy="307800"/>
            </a:xfrm>
          </p:grpSpPr>
          <p:sp>
            <p:nvSpPr>
              <p:cNvPr id="1247" name=""/>
              <p:cNvSpPr/>
              <p:nvPr/>
            </p:nvSpPr>
            <p:spPr>
              <a:xfrm>
                <a:off x="1711440" y="250668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062520" y="238284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49" name=""/>
          <p:cNvGraphicFramePr/>
          <p:nvPr/>
        </p:nvGraphicFramePr>
        <p:xfrm>
          <a:off x="228600" y="3851280"/>
          <a:ext cx="8686800" cy="2554200"/>
        </p:xfrm>
        <a:graphic>
          <a:graphicData uri="http://schemas.openxmlformats.org/drawingml/2006/table">
            <a:tbl>
              <a:tblPr/>
              <a:tblGrid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  <a:gridCol w="620640"/>
                <a:gridCol w="619200"/>
                <a:gridCol w="620640"/>
                <a:gridCol w="622440"/>
                <a:gridCol w="620640"/>
                <a:gridCol w="619200"/>
                <a:gridCol w="620640"/>
              </a:tblGrid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dx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ag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Vali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1872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B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D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872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66"/>
                      </a:solidFill>
                    </a:lnL>
                    <a:lnR w="1872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872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3D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253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254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6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297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300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2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303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306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8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309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310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6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347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353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356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359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B8F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364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365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07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408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411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414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417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9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420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421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4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7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428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0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431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3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434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9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440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2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443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5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8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449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1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452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455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7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458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461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464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467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470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729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Transl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0x004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PN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I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LB 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ge Faul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PN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ffset 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I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T __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it? __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yte: ____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600200"/>
                <a:tab algn="l" pos="2577960"/>
                <a:tab algn="l" pos="3886200"/>
                <a:tab algn="l" pos="5257800"/>
                <a:tab algn="l" pos="692136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998640" y="1600200"/>
            <a:ext cx="6823080" cy="1372320"/>
            <a:chOff x="998640" y="1600200"/>
            <a:chExt cx="6823080" cy="1372320"/>
          </a:xfrm>
        </p:grpSpPr>
        <p:grpSp>
          <p:nvGrpSpPr>
            <p:cNvPr id="1475" name=""/>
            <p:cNvGrpSpPr/>
            <p:nvPr/>
          </p:nvGrpSpPr>
          <p:grpSpPr>
            <a:xfrm>
              <a:off x="998640" y="1866960"/>
              <a:ext cx="6823080" cy="609480"/>
              <a:chOff x="998640" y="1866960"/>
              <a:chExt cx="6823080" cy="609480"/>
            </a:xfrm>
          </p:grpSpPr>
          <p:grpSp>
            <p:nvGrpSpPr>
              <p:cNvPr id="1476" name=""/>
              <p:cNvGrpSpPr/>
              <p:nvPr/>
            </p:nvGrpSpPr>
            <p:grpSpPr>
              <a:xfrm>
                <a:off x="998640" y="1866960"/>
                <a:ext cx="487440" cy="609480"/>
                <a:chOff x="998640" y="1866960"/>
                <a:chExt cx="487440" cy="609480"/>
              </a:xfrm>
            </p:grpSpPr>
            <p:sp>
              <p:nvSpPr>
                <p:cNvPr id="1477" name=""/>
                <p:cNvSpPr/>
                <p:nvPr/>
              </p:nvSpPr>
              <p:spPr>
                <a:xfrm>
                  <a:off x="9986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9986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9" name=""/>
              <p:cNvGrpSpPr/>
              <p:nvPr/>
            </p:nvGrpSpPr>
            <p:grpSpPr>
              <a:xfrm>
                <a:off x="1486080" y="1866960"/>
                <a:ext cx="487080" cy="609480"/>
                <a:chOff x="1486080" y="1866960"/>
                <a:chExt cx="487080" cy="609480"/>
              </a:xfrm>
            </p:grpSpPr>
            <p:sp>
              <p:nvSpPr>
                <p:cNvPr id="1480" name=""/>
                <p:cNvSpPr/>
                <p:nvPr/>
              </p:nvSpPr>
              <p:spPr>
                <a:xfrm>
                  <a:off x="14860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14860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2" name=""/>
              <p:cNvGrpSpPr/>
              <p:nvPr/>
            </p:nvGrpSpPr>
            <p:grpSpPr>
              <a:xfrm>
                <a:off x="1973160" y="1866960"/>
                <a:ext cx="487440" cy="609480"/>
                <a:chOff x="1973160" y="1866960"/>
                <a:chExt cx="487440" cy="6094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19731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9731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2460600" y="1866960"/>
                <a:ext cx="487440" cy="609480"/>
                <a:chOff x="2460600" y="1866960"/>
                <a:chExt cx="487440" cy="60948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24606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24606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2948040" y="1866960"/>
                <a:ext cx="487440" cy="609480"/>
                <a:chOff x="2948040" y="1866960"/>
                <a:chExt cx="487440" cy="6094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29480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29480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1" name=""/>
              <p:cNvGrpSpPr/>
              <p:nvPr/>
            </p:nvGrpSpPr>
            <p:grpSpPr>
              <a:xfrm>
                <a:off x="3435480" y="1866960"/>
                <a:ext cx="487080" cy="609480"/>
                <a:chOff x="3435480" y="1866960"/>
                <a:chExt cx="487080" cy="609480"/>
              </a:xfrm>
            </p:grpSpPr>
            <p:sp>
              <p:nvSpPr>
                <p:cNvPr id="1492" name=""/>
                <p:cNvSpPr/>
                <p:nvPr/>
              </p:nvSpPr>
              <p:spPr>
                <a:xfrm>
                  <a:off x="343548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343548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3922560" y="1866960"/>
                <a:ext cx="487440" cy="609480"/>
                <a:chOff x="3922560" y="1866960"/>
                <a:chExt cx="487440" cy="6094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392256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392256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7" name=""/>
              <p:cNvGrpSpPr/>
              <p:nvPr/>
            </p:nvGrpSpPr>
            <p:grpSpPr>
              <a:xfrm>
                <a:off x="4410000" y="1866960"/>
                <a:ext cx="487440" cy="609480"/>
                <a:chOff x="4410000" y="1866960"/>
                <a:chExt cx="487440" cy="609480"/>
              </a:xfrm>
            </p:grpSpPr>
            <p:sp>
              <p:nvSpPr>
                <p:cNvPr id="1498" name=""/>
                <p:cNvSpPr/>
                <p:nvPr/>
              </p:nvSpPr>
              <p:spPr>
                <a:xfrm>
                  <a:off x="44100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44100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0" name=""/>
              <p:cNvGrpSpPr/>
              <p:nvPr/>
            </p:nvGrpSpPr>
            <p:grpSpPr>
              <a:xfrm>
                <a:off x="4897440" y="1866960"/>
                <a:ext cx="487440" cy="609480"/>
                <a:chOff x="4897440" y="1866960"/>
                <a:chExt cx="487440" cy="6094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8974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48974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3" name=""/>
              <p:cNvGrpSpPr/>
              <p:nvPr/>
            </p:nvGrpSpPr>
            <p:grpSpPr>
              <a:xfrm>
                <a:off x="5384880" y="1866960"/>
                <a:ext cx="487440" cy="609480"/>
                <a:chOff x="5384880" y="1866960"/>
                <a:chExt cx="487440" cy="6094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53848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3848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5872320" y="1866960"/>
                <a:ext cx="487080" cy="609480"/>
                <a:chOff x="5872320" y="1866960"/>
                <a:chExt cx="487080" cy="60948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5872320" y="2171880"/>
                  <a:ext cx="48708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5872320" y="1866960"/>
                  <a:ext cx="48708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6359400" y="1866960"/>
                <a:ext cx="487440" cy="609480"/>
                <a:chOff x="6359400" y="1866960"/>
                <a:chExt cx="487440" cy="6094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635940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35940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6846840" y="1866960"/>
                <a:ext cx="487440" cy="609480"/>
                <a:chOff x="6846840" y="1866960"/>
                <a:chExt cx="487440" cy="60948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684684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84684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5" name=""/>
              <p:cNvGrpSpPr/>
              <p:nvPr/>
            </p:nvGrpSpPr>
            <p:grpSpPr>
              <a:xfrm>
                <a:off x="7334280" y="1866960"/>
                <a:ext cx="487440" cy="609480"/>
                <a:chOff x="7334280" y="1866960"/>
                <a:chExt cx="487440" cy="6094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7334280" y="2171880"/>
                  <a:ext cx="487440" cy="30456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334280" y="1866960"/>
                  <a:ext cx="4874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18" name=""/>
            <p:cNvGrpSpPr/>
            <p:nvPr/>
          </p:nvGrpSpPr>
          <p:grpSpPr>
            <a:xfrm>
              <a:off x="4897440" y="2637000"/>
              <a:ext cx="2924280" cy="335520"/>
              <a:chOff x="4897440" y="2637000"/>
              <a:chExt cx="2924280" cy="335520"/>
            </a:xfrm>
          </p:grpSpPr>
          <p:sp>
            <p:nvSpPr>
              <p:cNvPr id="1519" name=""/>
              <p:cNvSpPr/>
              <p:nvPr/>
            </p:nvSpPr>
            <p:spPr>
              <a:xfrm>
                <a:off x="4897440" y="278136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022440" y="263700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998640" y="2629080"/>
              <a:ext cx="3916440" cy="335520"/>
              <a:chOff x="998640" y="2629080"/>
              <a:chExt cx="3916440" cy="335520"/>
            </a:xfrm>
          </p:grpSpPr>
          <p:sp>
            <p:nvSpPr>
              <p:cNvPr id="1522" name=""/>
              <p:cNvSpPr/>
              <p:nvPr/>
            </p:nvSpPr>
            <p:spPr>
              <a:xfrm>
                <a:off x="998640" y="2773440"/>
                <a:ext cx="391644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505960" y="262908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V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4" name=""/>
            <p:cNvGrpSpPr/>
            <p:nvPr/>
          </p:nvGrpSpPr>
          <p:grpSpPr>
            <a:xfrm>
              <a:off x="3919680" y="1620720"/>
              <a:ext cx="992160" cy="307800"/>
              <a:chOff x="3919680" y="1620720"/>
              <a:chExt cx="992160" cy="307800"/>
            </a:xfrm>
          </p:grpSpPr>
          <p:sp>
            <p:nvSpPr>
              <p:cNvPr id="1525" name=""/>
              <p:cNvSpPr/>
              <p:nvPr/>
            </p:nvSpPr>
            <p:spPr>
              <a:xfrm>
                <a:off x="3919680" y="174456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143600" y="1620720"/>
                <a:ext cx="63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27" name=""/>
            <p:cNvGrpSpPr/>
            <p:nvPr/>
          </p:nvGrpSpPr>
          <p:grpSpPr>
            <a:xfrm>
              <a:off x="998640" y="1600200"/>
              <a:ext cx="2927160" cy="307800"/>
              <a:chOff x="998640" y="1600200"/>
              <a:chExt cx="2927160" cy="307800"/>
            </a:xfrm>
          </p:grpSpPr>
          <p:sp>
            <p:nvSpPr>
              <p:cNvPr id="1528" name=""/>
              <p:cNvSpPr/>
              <p:nvPr/>
            </p:nvSpPr>
            <p:spPr>
              <a:xfrm>
                <a:off x="998640" y="1724040"/>
                <a:ext cx="2927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241720" y="1600200"/>
                <a:ext cx="69804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TLB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0" name=""/>
          <p:cNvGrpSpPr/>
          <p:nvPr/>
        </p:nvGrpSpPr>
        <p:grpSpPr>
          <a:xfrm>
            <a:off x="1981080" y="4165560"/>
            <a:ext cx="5865840" cy="1395720"/>
            <a:chOff x="1981080" y="4165560"/>
            <a:chExt cx="5865840" cy="1395720"/>
          </a:xfrm>
        </p:grpSpPr>
        <p:grpSp>
          <p:nvGrpSpPr>
            <p:cNvPr id="1531" name=""/>
            <p:cNvGrpSpPr/>
            <p:nvPr/>
          </p:nvGrpSpPr>
          <p:grpSpPr>
            <a:xfrm>
              <a:off x="1981080" y="4539960"/>
              <a:ext cx="5847840" cy="609480"/>
              <a:chOff x="1981080" y="4539960"/>
              <a:chExt cx="5847840" cy="609480"/>
            </a:xfrm>
          </p:grpSpPr>
          <p:grpSp>
            <p:nvGrpSpPr>
              <p:cNvPr id="1532" name=""/>
              <p:cNvGrpSpPr/>
              <p:nvPr/>
            </p:nvGrpSpPr>
            <p:grpSpPr>
              <a:xfrm>
                <a:off x="1981080" y="4539960"/>
                <a:ext cx="487080" cy="609480"/>
                <a:chOff x="1981080" y="4539960"/>
                <a:chExt cx="487080" cy="60948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19810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19810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2468160" y="4539960"/>
                <a:ext cx="487080" cy="609480"/>
                <a:chOff x="2468160" y="4539960"/>
                <a:chExt cx="487080" cy="60948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24681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24681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2955600" y="4539960"/>
                <a:ext cx="487080" cy="609480"/>
                <a:chOff x="2955600" y="4539960"/>
                <a:chExt cx="487080" cy="60948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29556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9556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9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3443040" y="4539960"/>
                <a:ext cx="487080" cy="609480"/>
                <a:chOff x="3443040" y="4539960"/>
                <a:chExt cx="487080" cy="60948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34430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34430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3930480" y="4539960"/>
                <a:ext cx="486720" cy="609480"/>
                <a:chOff x="3930480" y="4539960"/>
                <a:chExt cx="486720" cy="60948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393048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393048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4417560" y="4539960"/>
                <a:ext cx="487080" cy="609480"/>
                <a:chOff x="4417560" y="4539960"/>
                <a:chExt cx="487080" cy="60948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441756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441756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4905000" y="4539960"/>
                <a:ext cx="487080" cy="609480"/>
                <a:chOff x="4905000" y="4539960"/>
                <a:chExt cx="487080" cy="60948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49050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9050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5392440" y="4539960"/>
                <a:ext cx="487080" cy="609480"/>
                <a:chOff x="5392440" y="4539960"/>
                <a:chExt cx="487080" cy="60948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53924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53924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5879880" y="4539960"/>
                <a:ext cx="487080" cy="609480"/>
                <a:chOff x="5879880" y="4539960"/>
                <a:chExt cx="487080" cy="60948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587988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587988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9" name=""/>
              <p:cNvGrpSpPr/>
              <p:nvPr/>
            </p:nvGrpSpPr>
            <p:grpSpPr>
              <a:xfrm>
                <a:off x="6367320" y="4539960"/>
                <a:ext cx="486720" cy="609480"/>
                <a:chOff x="6367320" y="4539960"/>
                <a:chExt cx="486720" cy="60948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6367320" y="4844520"/>
                  <a:ext cx="48672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6367320" y="4539960"/>
                  <a:ext cx="48672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2" name=""/>
              <p:cNvGrpSpPr/>
              <p:nvPr/>
            </p:nvGrpSpPr>
            <p:grpSpPr>
              <a:xfrm>
                <a:off x="6854400" y="4539960"/>
                <a:ext cx="487080" cy="609480"/>
                <a:chOff x="6854400" y="4539960"/>
                <a:chExt cx="487080" cy="60948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685440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685440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5" name=""/>
              <p:cNvGrpSpPr/>
              <p:nvPr/>
            </p:nvGrpSpPr>
            <p:grpSpPr>
              <a:xfrm>
                <a:off x="7341840" y="4539960"/>
                <a:ext cx="487080" cy="609480"/>
                <a:chOff x="7341840" y="4539960"/>
                <a:chExt cx="487080" cy="609480"/>
              </a:xfrm>
            </p:grpSpPr>
            <p:sp>
              <p:nvSpPr>
                <p:cNvPr id="1566" name=""/>
                <p:cNvSpPr/>
                <p:nvPr/>
              </p:nvSpPr>
              <p:spPr>
                <a:xfrm>
                  <a:off x="7341840" y="4844520"/>
                  <a:ext cx="487080" cy="304920"/>
                </a:xfrm>
                <a:prstGeom prst="rect">
                  <a:avLst/>
                </a:prstGeom>
                <a:noFill/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341840" y="4539960"/>
                  <a:ext cx="48708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8" name=""/>
            <p:cNvGrpSpPr/>
            <p:nvPr/>
          </p:nvGrpSpPr>
          <p:grpSpPr>
            <a:xfrm>
              <a:off x="4922640" y="5225760"/>
              <a:ext cx="2924280" cy="335520"/>
              <a:chOff x="4922640" y="5225760"/>
              <a:chExt cx="2924280" cy="335520"/>
            </a:xfrm>
          </p:grpSpPr>
          <p:sp>
            <p:nvSpPr>
              <p:cNvPr id="1569" name=""/>
              <p:cNvSpPr/>
              <p:nvPr/>
            </p:nvSpPr>
            <p:spPr>
              <a:xfrm>
                <a:off x="4922640" y="5370480"/>
                <a:ext cx="292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048000" y="5225760"/>
                <a:ext cx="66456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O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1" name=""/>
            <p:cNvGrpSpPr/>
            <p:nvPr/>
          </p:nvGrpSpPr>
          <p:grpSpPr>
            <a:xfrm>
              <a:off x="2027160" y="5225760"/>
              <a:ext cx="2923920" cy="335520"/>
              <a:chOff x="2027160" y="5225760"/>
              <a:chExt cx="2923920" cy="335520"/>
            </a:xfrm>
          </p:grpSpPr>
          <p:sp>
            <p:nvSpPr>
              <p:cNvPr id="1572" name=""/>
              <p:cNvSpPr/>
              <p:nvPr/>
            </p:nvSpPr>
            <p:spPr>
              <a:xfrm>
                <a:off x="2027160" y="5370480"/>
                <a:ext cx="29239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152520" y="5225760"/>
                <a:ext cx="650880" cy="335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PP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6825960" y="4186080"/>
              <a:ext cx="992160" cy="307800"/>
              <a:chOff x="6825960" y="4186080"/>
              <a:chExt cx="992160" cy="307800"/>
            </a:xfrm>
          </p:grpSpPr>
          <p:sp>
            <p:nvSpPr>
              <p:cNvPr id="1575" name=""/>
              <p:cNvSpPr/>
              <p:nvPr/>
            </p:nvSpPr>
            <p:spPr>
              <a:xfrm>
                <a:off x="6825960" y="4309920"/>
                <a:ext cx="99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7123320" y="4186080"/>
                <a:ext cx="48456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O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4905000" y="4165560"/>
              <a:ext cx="1927080" cy="307800"/>
              <a:chOff x="4905000" y="4165560"/>
              <a:chExt cx="1927080" cy="307800"/>
            </a:xfrm>
          </p:grpSpPr>
          <p:sp>
            <p:nvSpPr>
              <p:cNvPr id="1578" name=""/>
              <p:cNvSpPr/>
              <p:nvPr/>
            </p:nvSpPr>
            <p:spPr>
              <a:xfrm>
                <a:off x="4905000" y="4289400"/>
                <a:ext cx="19270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762520" y="4165560"/>
                <a:ext cx="38412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I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81080" y="4186080"/>
              <a:ext cx="2894760" cy="307800"/>
              <a:chOff x="1981080" y="4186080"/>
              <a:chExt cx="2894760" cy="307800"/>
            </a:xfrm>
          </p:grpSpPr>
          <p:sp>
            <p:nvSpPr>
              <p:cNvPr id="1581" name=""/>
              <p:cNvSpPr/>
              <p:nvPr/>
            </p:nvSpPr>
            <p:spPr>
              <a:xfrm>
                <a:off x="1981080" y="4309920"/>
                <a:ext cx="2894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4280" bIns="-44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332160" y="4186080"/>
                <a:ext cx="451080" cy="307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00"/>
                    </a:solidFill>
                    <a:latin typeface="Arial"/>
                  </a:rPr>
                  <a:t>C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86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Page Tab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53481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ive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KB (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page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-byte PT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a 4 MB page table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20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mon solu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-level page t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2-level table (P6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vel 1 table: 1024 entries, each of which points to a Level 2 page tab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vel 2 table:  1024 entries, each of which points to a p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486400" y="259092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624640" y="3276720"/>
            <a:ext cx="699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467480" y="190512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467480" y="327672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467480" y="4800600"/>
            <a:ext cx="700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643160" y="44020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273800" y="1066680"/>
            <a:ext cx="9558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flipV="1">
            <a:off x="6324480" y="1904760"/>
            <a:ext cx="11430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6324480" y="32767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24480" y="4336920"/>
            <a:ext cx="11430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06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evels in Memory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19320" y="2849400"/>
            <a:ext cx="42544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114640" y="2306520"/>
            <a:ext cx="982440" cy="993960"/>
            <a:chOff x="2114640" y="2306520"/>
            <a:chExt cx="982440" cy="993960"/>
          </a:xfrm>
        </p:grpSpPr>
        <p:sp>
          <p:nvSpPr>
            <p:cNvPr id="107" name=""/>
            <p:cNvSpPr/>
            <p:nvPr/>
          </p:nvSpPr>
          <p:spPr>
            <a:xfrm>
              <a:off x="2114640" y="2306520"/>
              <a:ext cx="982440" cy="993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7440" y="2946240"/>
              <a:ext cx="636840" cy="25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92680" y="2306520"/>
            <a:ext cx="297000" cy="1307880"/>
            <a:chOff x="3892680" y="2306520"/>
            <a:chExt cx="297000" cy="1307880"/>
          </a:xfrm>
        </p:grpSpPr>
        <p:sp>
          <p:nvSpPr>
            <p:cNvPr id="110" name=""/>
            <p:cNvSpPr/>
            <p:nvPr/>
          </p:nvSpPr>
          <p:spPr>
            <a:xfrm>
              <a:off x="3892680" y="2306520"/>
              <a:ext cx="271440" cy="13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00f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14640" y="2404080"/>
              <a:ext cx="275040" cy="11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85720"/>
                  <a:tab algn="l" pos="1171440"/>
                  <a:tab algn="l" pos="1757520"/>
                  <a:tab algn="l" pos="2343240"/>
                  <a:tab algn="l" pos="2928960"/>
                  <a:tab algn="l" pos="3514680"/>
                  <a:tab algn="l" pos="4100400"/>
                  <a:tab algn="l" pos="4686480"/>
                  <a:tab algn="l" pos="5272200"/>
                  <a:tab algn="l" pos="5857920"/>
                  <a:tab algn="l" pos="6443640"/>
                  <a:tab algn="l" pos="7029360"/>
                  <a:tab algn="l" pos="7615080"/>
                  <a:tab algn="l" pos="8201160"/>
                  <a:tab algn="l" pos="8786880"/>
                  <a:tab algn="l" pos="9372600"/>
                  <a:tab algn="l" pos="9958320"/>
                  <a:tab algn="l" pos="1054404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968720" y="2306520"/>
            <a:ext cx="963720" cy="102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15000" y="2550960"/>
            <a:ext cx="1328760" cy="596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4760" y="411624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1480" y="4116240"/>
            <a:ext cx="650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3751200"/>
            <a:ext cx="115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640" y="375120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69080" y="3751200"/>
            <a:ext cx="1056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45960" y="3751200"/>
            <a:ext cx="16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9400" y="4116240"/>
            <a:ext cx="1348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KB-4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25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1000" y="4116240"/>
            <a:ext cx="115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24 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2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 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3840" y="4116240"/>
            <a:ext cx="12848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0 G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001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35240" y="5791320"/>
            <a:ext cx="558792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21480" y="546408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1600" y="2592360"/>
            <a:ext cx="449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04240" y="2592360"/>
            <a:ext cx="54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1120" y="2592360"/>
            <a:ext cx="568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4 K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44960" y="1905120"/>
            <a:ext cx="12826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8840" y="1905120"/>
            <a:ext cx="173988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53400" y="1501920"/>
            <a:ext cx="78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7640" y="1501920"/>
            <a:ext cx="167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irtual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570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 The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er’s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rge “flat”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allocate large blocks of contiguous addr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or “owns”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s private address spa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affected by behavior of other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virtual address space created by mapping to set of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not be contiguo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d dynamical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force protection during address trans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manages many processes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inually switching among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when one must wait for resour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51960" indent="-2214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disk I/O to handle page fa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34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RAM vs. SRAM as a “Cach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876312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AM vs. disk is more extreme than SRAM vs. DRA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latencie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RAM ~10X slower than S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k ~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0,000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lower than D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ce of exploiting spatial locality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byte is ~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00,000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lower than successive bytes on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s. ~4X improvement for page-mode vs. regular accesses to DRA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tom line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decisions made for DRAM caches driven by enormous cost of mi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5246640"/>
            <a:ext cx="1131840" cy="113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58071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4200" y="5627520"/>
            <a:ext cx="865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5578560"/>
            <a:ext cx="849240" cy="441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68720" y="5654520"/>
            <a:ext cx="85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5297400"/>
            <a:ext cx="2124360" cy="1015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5045040"/>
            <a:ext cx="2124360" cy="34128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52372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05840" y="5237280"/>
            <a:ext cx="0" cy="107604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6313320"/>
            <a:ext cx="2124360" cy="239760"/>
          </a:xfrm>
          <a:custGeom>
            <a:avLst/>
            <a:gdLst/>
            <a:ahLst/>
            <a:rect l="l" t="t" r="r" b="b"/>
            <a:pathLst>
              <a:path w="816" h="84">
                <a:moveTo>
                  <a:pt x="0" y="0"/>
                </a:moveTo>
                <a:cubicBezTo>
                  <a:pt x="25" y="10"/>
                  <a:pt x="81" y="46"/>
                  <a:pt x="150" y="60"/>
                </a:cubicBezTo>
                <a:cubicBezTo>
                  <a:pt x="219" y="74"/>
                  <a:pt x="326" y="84"/>
                  <a:pt x="414" y="84"/>
                </a:cubicBezTo>
                <a:cubicBezTo>
                  <a:pt x="502" y="84"/>
                  <a:pt x="611" y="74"/>
                  <a:pt x="678" y="60"/>
                </a:cubicBezTo>
                <a:cubicBezTo>
                  <a:pt x="745" y="46"/>
                  <a:pt x="787" y="12"/>
                  <a:pt x="816" y="0"/>
                </a:cubicBezTo>
              </a:path>
            </a:pathLst>
          </a:custGeom>
          <a:solidFill>
            <a:srgbClr val="c0c0c0"/>
          </a:solidFill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640" y="562752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580716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640" y="334800"/>
            <a:ext cx="848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act of Properties on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f DRAM was to be organized similar to an SRAM cache, how would we set the following design parameters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e siz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arge, since disk better at transferring large block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ociativity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gh, to mimimize miss rat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hrough or write back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Write back, since can’t afford to perform small writes to disk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219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hat would the impact of these choices be 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tremely low.  &lt;&lt; 1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t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ust match cache/DRAM performanc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latenc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Very high.  ~20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g storage overhea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ow, relative to block siz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7539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cating an Object in a “Cache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RAM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g stored with cache 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s from cache block to memory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cached to uncached for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ve a few bits by only storing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tag for block not i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retrieve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quickly match against multiple tag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43000" y="4800600"/>
            <a:ext cx="1577520" cy="700560"/>
            <a:chOff x="1143000" y="4800600"/>
            <a:chExt cx="1577520" cy="700560"/>
          </a:xfrm>
        </p:grpSpPr>
        <p:sp>
          <p:nvSpPr>
            <p:cNvPr id="151" name=""/>
            <p:cNvSpPr/>
            <p:nvPr/>
          </p:nvSpPr>
          <p:spPr>
            <a:xfrm>
              <a:off x="1447560" y="518148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38080" y="516564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3000" y="480060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123360" y="3962520"/>
            <a:ext cx="4572720" cy="2286000"/>
            <a:chOff x="3123360" y="3962520"/>
            <a:chExt cx="4572720" cy="2286000"/>
          </a:xfrm>
        </p:grpSpPr>
        <p:sp>
          <p:nvSpPr>
            <p:cNvPr id="155" name=""/>
            <p:cNvSpPr/>
            <p:nvPr/>
          </p:nvSpPr>
          <p:spPr>
            <a:xfrm>
              <a:off x="4800240" y="4343400"/>
              <a:ext cx="289584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85680" y="4343400"/>
              <a:ext cx="588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3440" y="434340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333760" y="4724640"/>
              <a:ext cx="2209680" cy="335520"/>
              <a:chOff x="5333760" y="4724640"/>
              <a:chExt cx="2209680" cy="335520"/>
            </a:xfrm>
          </p:grpSpPr>
          <p:sp>
            <p:nvSpPr>
              <p:cNvPr id="159" name=""/>
              <p:cNvSpPr/>
              <p:nvPr/>
            </p:nvSpPr>
            <p:spPr>
              <a:xfrm>
                <a:off x="5333760" y="472464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48160" y="47246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638680" y="4724640"/>
                <a:ext cx="345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29400" y="472464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24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333760" y="5105520"/>
              <a:ext cx="2209680" cy="335520"/>
              <a:chOff x="5333760" y="5105520"/>
              <a:chExt cx="2209680" cy="335520"/>
            </a:xfrm>
          </p:grpSpPr>
          <p:sp>
            <p:nvSpPr>
              <p:cNvPr id="164" name=""/>
              <p:cNvSpPr/>
              <p:nvPr/>
            </p:nvSpPr>
            <p:spPr>
              <a:xfrm>
                <a:off x="5333760" y="510552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248160" y="510552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38680" y="5105520"/>
                <a:ext cx="3337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629040" y="5105520"/>
                <a:ext cx="4986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333760" y="5867640"/>
              <a:ext cx="2209680" cy="335520"/>
              <a:chOff x="5333760" y="5867640"/>
              <a:chExt cx="2209680" cy="335520"/>
            </a:xfrm>
          </p:grpSpPr>
          <p:sp>
            <p:nvSpPr>
              <p:cNvPr id="169" name=""/>
              <p:cNvSpPr/>
              <p:nvPr/>
            </p:nvSpPr>
            <p:spPr>
              <a:xfrm>
                <a:off x="5333760" y="5867640"/>
                <a:ext cx="91440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248160" y="5867640"/>
                <a:ext cx="1295280" cy="3049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38680" y="5867640"/>
                <a:ext cx="3078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629400" y="5867640"/>
                <a:ext cx="560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0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5714640" y="5410440"/>
              <a:ext cx="246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1680" y="541044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240" y="472464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00240" y="510552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4280" y="586764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114080" y="4953240"/>
              <a:ext cx="12193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4114440" y="5181480"/>
              <a:ext cx="121932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14440" y="5257800"/>
              <a:ext cx="12193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885480" y="52578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3360" y="5105520"/>
              <a:ext cx="72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3300"/>
                  </a:solidFill>
                  <a:latin typeface="Arial"/>
                </a:rPr>
                <a:t>= X?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1320" y="3962520"/>
              <a:ext cx="10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Cache”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7543440" y="5257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560" y="334800"/>
            <a:ext cx="871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cating an Object in “Cache”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72000"/>
            <a:ext cx="2057400" cy="1905120"/>
            <a:chOff x="5410080" y="4572000"/>
            <a:chExt cx="2057400" cy="1905120"/>
          </a:xfrm>
        </p:grpSpPr>
        <p:sp>
          <p:nvSpPr>
            <p:cNvPr id="187" name=""/>
            <p:cNvSpPr/>
            <p:nvPr/>
          </p:nvSpPr>
          <p:spPr>
            <a:xfrm>
              <a:off x="5486040" y="4572000"/>
              <a:ext cx="1981440" cy="1905120"/>
            </a:xfrm>
            <a:prstGeom prst="rect">
              <a:avLst/>
            </a:prstGeom>
            <a:solidFill>
              <a:srgbClr val="33cccc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24840" y="4572000"/>
              <a:ext cx="675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19560" y="495324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00800" y="495324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24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19560" y="5334120"/>
              <a:ext cx="129528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00440" y="5334120"/>
              <a:ext cx="498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19560" y="6096240"/>
              <a:ext cx="12952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00800" y="6096240"/>
              <a:ext cx="56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0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53080" y="5639040"/>
              <a:ext cx="2458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410080" y="4953240"/>
              <a:ext cx="624960" cy="1478520"/>
              <a:chOff x="5410080" y="4953240"/>
              <a:chExt cx="624960" cy="1478520"/>
            </a:xfrm>
          </p:grpSpPr>
          <p:sp>
            <p:nvSpPr>
              <p:cNvPr id="197" name=""/>
              <p:cNvSpPr/>
              <p:nvPr/>
            </p:nvSpPr>
            <p:spPr>
              <a:xfrm>
                <a:off x="5486040" y="495324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0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86040" y="5334120"/>
                <a:ext cx="3841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10080" y="6096240"/>
                <a:ext cx="6249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Arial"/>
                  </a:rPr>
                  <a:t>N-1: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609480" y="4952880"/>
            <a:ext cx="1577520" cy="700560"/>
            <a:chOff x="609480" y="4952880"/>
            <a:chExt cx="1577520" cy="700560"/>
          </a:xfrm>
        </p:grpSpPr>
        <p:sp>
          <p:nvSpPr>
            <p:cNvPr id="201" name=""/>
            <p:cNvSpPr/>
            <p:nvPr/>
          </p:nvSpPr>
          <p:spPr>
            <a:xfrm>
              <a:off x="914040" y="5333760"/>
              <a:ext cx="9144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04560" y="5317920"/>
              <a:ext cx="3337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9480" y="4952880"/>
              <a:ext cx="1577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Object Na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895480" y="4572000"/>
            <a:ext cx="1905120" cy="1905120"/>
          </a:xfrm>
          <a:prstGeom prst="rect">
            <a:avLst/>
          </a:prstGeom>
          <a:solidFill>
            <a:srgbClr val="33cccc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1960" y="4572000"/>
            <a:ext cx="1135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2680" y="4952880"/>
            <a:ext cx="1295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52680" y="5334120"/>
            <a:ext cx="129564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6095880"/>
            <a:ext cx="129564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5638680"/>
            <a:ext cx="246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895480" y="4952880"/>
            <a:ext cx="422280" cy="1478520"/>
            <a:chOff x="2895480" y="4952880"/>
            <a:chExt cx="422280" cy="1478520"/>
          </a:xfrm>
        </p:grpSpPr>
        <p:sp>
          <p:nvSpPr>
            <p:cNvPr id="211" name=""/>
            <p:cNvSpPr/>
            <p:nvPr/>
          </p:nvSpPr>
          <p:spPr>
            <a:xfrm>
              <a:off x="2895480" y="4952880"/>
              <a:ext cx="42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D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33376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J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95480" y="6095880"/>
              <a:ext cx="410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X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828800" y="5562720"/>
            <a:ext cx="15238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9880" y="6095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09880" y="495288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0280" y="5354640"/>
            <a:ext cx="946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On 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648320" y="5562360"/>
            <a:ext cx="13716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20280" y="4191120"/>
            <a:ext cx="109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ache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7760" y="4191120"/>
            <a:ext cx="1388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314840" y="5486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472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AM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llocated page of virtual memory has entry in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age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ping from virtual pages to physical p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om uncached form to cached for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 entry even if page not 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pecifies disk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way to indicate where to find p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retrieves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ystem with Physical Memory On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60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70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0920" indent="-172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ray machines, early PCs, nearly all embedded systems, etc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5884920"/>
            <a:ext cx="8686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52520" indent="-3398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generated by the CPU correspond directly to bytes in physical memor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362320" y="2057400"/>
            <a:ext cx="4343400" cy="3733560"/>
            <a:chOff x="2362320" y="2057400"/>
            <a:chExt cx="4343400" cy="3733560"/>
          </a:xfrm>
        </p:grpSpPr>
        <p:grpSp>
          <p:nvGrpSpPr>
            <p:cNvPr id="227" name=""/>
            <p:cNvGrpSpPr/>
            <p:nvPr/>
          </p:nvGrpSpPr>
          <p:grpSpPr>
            <a:xfrm>
              <a:off x="2362320" y="3124080"/>
              <a:ext cx="1218960" cy="1143000"/>
              <a:chOff x="2362320" y="3124080"/>
              <a:chExt cx="1218960" cy="1143000"/>
            </a:xfrm>
          </p:grpSpPr>
          <p:sp>
            <p:nvSpPr>
              <p:cNvPr id="228" name=""/>
              <p:cNvSpPr/>
              <p:nvPr/>
            </p:nvSpPr>
            <p:spPr>
              <a:xfrm>
                <a:off x="2438280" y="3200400"/>
                <a:ext cx="1143000" cy="1066680"/>
              </a:xfrm>
              <a:prstGeom prst="roundRect">
                <a:avLst>
                  <a:gd name="adj" fmla="val 38986"/>
                </a:avLst>
              </a:prstGeom>
              <a:solidFill>
                <a:srgbClr val="00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362320" y="3124080"/>
                <a:ext cx="1143000" cy="1066680"/>
              </a:xfrm>
              <a:prstGeom prst="roundRect">
                <a:avLst>
                  <a:gd name="adj" fmla="val 38986"/>
                </a:avLst>
              </a:prstGeom>
              <a:solidFill>
                <a:srgbClr val="33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0920" y="3429000"/>
                <a:ext cx="71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3300"/>
                    </a:solidFill>
                    <a:latin typeface="Arial"/>
                  </a:rPr>
                  <a:t>CPU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029200" y="2514600"/>
              <a:ext cx="1676520" cy="3276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52880" y="2438280"/>
              <a:ext cx="1676520" cy="3276720"/>
            </a:xfrm>
            <a:prstGeom prst="rect">
              <a:avLst/>
            </a:prstGeom>
            <a:solidFill>
              <a:srgbClr val="33cc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5486400" y="2590560"/>
              <a:ext cx="914400" cy="2971800"/>
              <a:chOff x="5486400" y="2590560"/>
              <a:chExt cx="914400" cy="2971800"/>
            </a:xfrm>
          </p:grpSpPr>
          <p:sp>
            <p:nvSpPr>
              <p:cNvPr id="234" name=""/>
              <p:cNvSpPr/>
              <p:nvPr/>
            </p:nvSpPr>
            <p:spPr>
              <a:xfrm>
                <a:off x="5486400" y="2590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6400" y="2819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86400" y="3047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486400" y="3276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86400" y="35049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486400" y="3962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486400" y="3733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86400" y="4190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486400" y="44193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86400" y="46479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86400" y="48765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86400" y="53337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86400" y="510516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5181480" y="25146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0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2743200"/>
              <a:ext cx="384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53240" y="5257800"/>
              <a:ext cx="624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N-1: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8160" y="2057400"/>
              <a:ext cx="10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581280" y="3200400"/>
              <a:ext cx="1828800" cy="304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581280" y="3885840"/>
              <a:ext cx="182880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06040" y="2730240"/>
              <a:ext cx="134748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00"/>
                  </a:solidFill>
                  <a:latin typeface="Arial"/>
                </a:rPr>
                <a:t>Address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&amp; David R. O'Hallaron</dc:creator>
  <dc:description/>
  <dc:language>en-US</dc:language>
  <cp:lastModifiedBy>Randal E. Bryant</cp:lastModifiedBy>
  <cp:lastPrinted>1998-08-31T18:34:23Z</cp:lastPrinted>
  <dcterms:modified xsi:type="dcterms:W3CDTF">2002-10-29T16:15:52Z</dcterms:modified>
  <cp:revision>123</cp:revision>
  <dc:subject/>
  <dc:title>Virtual Memory</dc:title>
</cp:coreProperties>
</file>