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E04BF904-7EA0-4684-A9CF-4B57DE0E1559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al Control Flow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t I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7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context swit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ing and destroying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6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450720"/>
            <a:ext cx="5527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8120" y="461952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62200" y="461952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71720" y="5141880"/>
            <a:ext cx="0" cy="598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78200" y="5746680"/>
            <a:ext cx="28065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1240" y="5753160"/>
            <a:ext cx="0" cy="59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865600" y="5816160"/>
            <a:ext cx="2831760" cy="546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71720" y="5904000"/>
            <a:ext cx="0" cy="725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73160" y="541980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29480" y="5692680"/>
            <a:ext cx="252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Open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11800" y="6143760"/>
            <a:ext cx="77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39920" y="545796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39920" y="5691240"/>
            <a:ext cx="7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ning a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call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en(filename, option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unction open executes system call instructi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must find or create file, get it ready for reading or writ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integer file descrip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06920" y="2057400"/>
            <a:ext cx="6215760" cy="1310760"/>
          </a:xfrm>
          <a:prstGeom prst="rect">
            <a:avLst/>
          </a:prstGeom>
          <a:solidFill>
            <a:srgbClr val="99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d070 &lt;__libc_open&gt;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d082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d 80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$0x8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d08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b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   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0720"/>
            <a:ext cx="574344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ult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09480" y="4495680"/>
            <a:ext cx="8045640" cy="1909800"/>
            <a:chOff x="609480" y="4495680"/>
            <a:chExt cx="8045640" cy="1909800"/>
          </a:xfrm>
        </p:grpSpPr>
        <p:sp>
          <p:nvSpPr>
            <p:cNvPr id="193" name=""/>
            <p:cNvSpPr/>
            <p:nvPr/>
          </p:nvSpPr>
          <p:spPr>
            <a:xfrm>
              <a:off x="2356560" y="4495680"/>
              <a:ext cx="1638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User Proc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60640" y="4495680"/>
              <a:ext cx="51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70160" y="5018040"/>
              <a:ext cx="0" cy="598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76640" y="5622840"/>
              <a:ext cx="2806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89680" y="5629320"/>
              <a:ext cx="0" cy="596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3176640" y="5616720"/>
              <a:ext cx="2819520" cy="622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70160" y="5780160"/>
              <a:ext cx="0" cy="625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71240" y="5295960"/>
              <a:ext cx="1182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page faul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27920" y="5568840"/>
              <a:ext cx="25272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Create page and load into 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57960" y="594828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retur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5356080"/>
              <a:ext cx="80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event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64480" y="54910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mov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3880" y="5567400"/>
              <a:ext cx="6858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5445360" cy="24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89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writes to memory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 portion (page) of user’s memory is currently on dis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handler must load page into physical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to faulting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8360" indent="-184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ccessful on second t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65440" y="1066680"/>
            <a:ext cx="2131560" cy="1310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[1000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 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[500] = 13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9760" y="2666880"/>
            <a:ext cx="7313040" cy="337320"/>
          </a:xfrm>
          <a:prstGeom prst="rect">
            <a:avLst/>
          </a:prstGeom>
          <a:solidFill>
            <a:srgbClr val="99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3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7 05 10 9d 04 08 0d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$0xd,0x8049d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2120" y="450720"/>
            <a:ext cx="574344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ult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04280" y="451332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08360" y="451332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17880" y="5035680"/>
            <a:ext cx="0" cy="5983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24360" y="5640480"/>
            <a:ext cx="22334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5646600"/>
            <a:ext cx="0" cy="59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10080" y="6265800"/>
            <a:ext cx="6098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18600" y="53132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5732640"/>
            <a:ext cx="2527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Detect invalid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5373720"/>
            <a:ext cx="80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11840" y="5508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5584680"/>
            <a:ext cx="685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438200"/>
            <a:ext cx="6705720" cy="21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262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writes to memory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is not vali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handler detects invalid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GSE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ignal to us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6160" indent="-167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process exits with “segmentation fault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70000" y="762120"/>
            <a:ext cx="2253600" cy="1310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[1000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 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[5000] = 13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8520" y="2819520"/>
            <a:ext cx="7313040" cy="337320"/>
          </a:xfrm>
          <a:prstGeom prst="rect">
            <a:avLst/>
          </a:prstGeom>
          <a:solidFill>
            <a:srgbClr val="99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3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7 05 60 e3 04 08 0d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$0xd,0x804e36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6113520"/>
            <a:ext cx="25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Signal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244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f: A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proc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n instance of a running program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of the most profound ideas in computer scien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the same as “program” or “processor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 provides each program with two key abstra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 control 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program seems to have exclusive use of the CPU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vate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program seems to have exclusive use of main memory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are these Illusions maintain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executions interleaved (multitasking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spaces managed by virtual memory syst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69880"/>
            <a:ext cx="6019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gical Control 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2743200"/>
            <a:ext cx="0" cy="1828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10920" y="32767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2680" y="29718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8784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1172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35600" y="25909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32767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35812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38862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0800" y="41911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327672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95480" y="358128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88620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95480" y="419112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95480" y="4495680"/>
            <a:ext cx="403884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3760" y="1523880"/>
            <a:ext cx="67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process has its own logical contro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607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processes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run concurrently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re concurrent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f their flows overlap in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therwise, they ar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equential.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t: A &amp; B, A &amp;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quential: B &amp;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82320" y="3962520"/>
            <a:ext cx="5497560" cy="1981080"/>
            <a:chOff x="1282320" y="3962520"/>
            <a:chExt cx="5497560" cy="1981080"/>
          </a:xfrm>
        </p:grpSpPr>
        <p:sp>
          <p:nvSpPr>
            <p:cNvPr id="247" name=""/>
            <p:cNvSpPr/>
            <p:nvPr/>
          </p:nvSpPr>
          <p:spPr>
            <a:xfrm>
              <a:off x="1905120" y="4114800"/>
              <a:ext cx="0" cy="1828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82320" y="464832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4080" y="434340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5924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rocess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8312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rocess 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07000" y="3962520"/>
              <a:ext cx="117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rocess 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8320" y="4648320"/>
              <a:ext cx="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72200" y="495288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24080" y="525780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72200" y="5562720"/>
              <a:ext cx="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66880" y="464832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66880" y="495288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666880" y="525780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66880" y="556272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66880" y="5867280"/>
              <a:ext cx="4038840" cy="0"/>
            </a:xfrm>
            <a:prstGeom prst="line">
              <a:avLst/>
            </a:prstGeom>
            <a:ln w="324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er View of Concurrent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flows for concurrent processes are physically disjoint in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ever, we can think of concurrent processes are running in parallel with each oth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3505320"/>
            <a:ext cx="0" cy="761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22200" y="37018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35812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1152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3540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59640" y="32004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373392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24480" y="403848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8862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19520" y="358128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19520" y="419112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43434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373392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19520" y="4038480"/>
            <a:ext cx="4038480" cy="0"/>
          </a:xfrm>
          <a:prstGeom prst="line">
            <a:avLst/>
          </a:prstGeom>
          <a:ln w="3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84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ext Switch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90160" y="990360"/>
            <a:ext cx="8294760" cy="255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es are managed by a shared chunk of OS code called th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kern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: the kernel is not a separate process, but rather runs as part of some us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flow passes from one process to another via a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ontext switch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18680" y="34290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8720" y="3429000"/>
            <a:ext cx="1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895480" y="4027320"/>
            <a:ext cx="6480" cy="4683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95480" y="4495680"/>
            <a:ext cx="144792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3400" y="487692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895480" y="5334120"/>
            <a:ext cx="144792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5715000"/>
            <a:ext cx="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20960" y="3429000"/>
            <a:ext cx="12960" cy="31240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25560" y="41148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25920" y="452916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25560" y="49417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08280" y="53784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25560" y="583560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46320" y="445284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46320" y="487980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46320" y="530712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46320" y="573408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146320" y="616104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46320" y="4027320"/>
            <a:ext cx="449568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19320" y="4038480"/>
            <a:ext cx="0" cy="1549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20760" y="46483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701640" y="3117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-914400" y="2743200"/>
            <a:ext cx="914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0" y="445140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942960" y="441972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ontext swi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0" y="5334120"/>
            <a:ext cx="76320" cy="380880"/>
          </a:xfrm>
          <a:custGeom>
            <a:avLst/>
            <a:gdLst>
              <a:gd name="textAreaLeft" fmla="*/ 0 w 76320"/>
              <a:gd name="textAreaRight" fmla="*/ 27360 w 7632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42960" y="530208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ontext swi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41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ivate Address Spa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90520" y="990720"/>
            <a:ext cx="8307360" cy="95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process has its own private address spa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8760" y="1935000"/>
            <a:ext cx="694836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95560" y="1674720"/>
            <a:ext cx="2230560" cy="793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kernel virtual 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code, data, heap, stack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95560" y="3438360"/>
            <a:ext cx="2230560" cy="53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emory mapped region fo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95560" y="3971880"/>
            <a:ext cx="2230560" cy="577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95560" y="4552920"/>
            <a:ext cx="2230560" cy="534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managed by mallo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95560" y="2711520"/>
            <a:ext cx="2230560" cy="725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4145040" y="4235040"/>
            <a:ext cx="1440" cy="30492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95560" y="2443320"/>
            <a:ext cx="2230560" cy="450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r 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created at runtim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4145040" y="3260520"/>
            <a:ext cx="1440" cy="18252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145040" y="2894040"/>
            <a:ext cx="1440" cy="18252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86200" y="6124680"/>
            <a:ext cx="2232000" cy="317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nuse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7312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65160" y="27716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%esp (stack pointer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226120" y="2892600"/>
            <a:ext cx="304560" cy="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72280" y="1824120"/>
            <a:ext cx="101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visible t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5301720" y="2041560"/>
            <a:ext cx="1800" cy="36504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92960" y="4419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5288040" y="4540320"/>
            <a:ext cx="304560" cy="1440"/>
          </a:xfrm>
          <a:prstGeom prst="line">
            <a:avLst/>
          </a:prstGeom>
          <a:ln w="3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22734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c000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52480" y="59292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8048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52480" y="3797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4000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86200" y="5087880"/>
            <a:ext cx="2232000" cy="536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ad/write segm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.data, .b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86200" y="5589720"/>
            <a:ext cx="2232000" cy="534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ead-only segm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(.init, .text, .rodata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02080" y="5087880"/>
            <a:ext cx="61920" cy="1036800"/>
          </a:xfrm>
          <a:custGeom>
            <a:avLst/>
            <a:gdLst>
              <a:gd name="textAreaLeft" fmla="*/ 0 w 61920"/>
              <a:gd name="textAreaRight" fmla="*/ 22320 w 61920"/>
              <a:gd name="textAreaTop" fmla="*/ 27000 h 1036800"/>
              <a:gd name="textAreaBottom" fmla="*/ 100980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20520" y="5418000"/>
            <a:ext cx="147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oaded from th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xecutable fi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752480" y="1592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ffffffff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95560" y="2443320"/>
            <a:ext cx="22305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419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fork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Creating new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90520" y="1295280"/>
            <a:ext cx="8307360" cy="19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 fork(void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new process (child process) that is identical to the calling process (parent proces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0 to the child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child’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the parent proces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38880" y="3438360"/>
            <a:ext cx="4707000" cy="14655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ello from chil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else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ello from parent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72920" y="3784680"/>
            <a:ext cx="26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k is interest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and often confusin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cause it is call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onc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t returns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wi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4292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71560" y="3624120"/>
            <a:ext cx="15310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&lt;startup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&lt;shutdown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294760" cy="174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rs do Only One Th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om startup to shutdown, a CPU simply reads and executes (interprets) a sequence of instructions, one at a tim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is sequence is the system’s physical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ontrol 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flow of contro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91040" y="3244680"/>
            <a:ext cx="24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control flow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05280" y="3454560"/>
            <a:ext cx="0" cy="1828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7440" y="3962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699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12760" y="3284640"/>
            <a:ext cx="8547480" cy="3111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1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pid = 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pid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has x = %d\n", ++x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Parent has x = %d\n", --x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 from process %d with x = %d\n", getpid(), x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ent and child both run sam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tinguish parent from child by return value from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or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 with same state, but each has private co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luding shared output file descript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tive ordering of their print statements undefi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5089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5520" y="3276720"/>
            <a:ext cx="3335400" cy="228852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2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878720" y="4952880"/>
            <a:ext cx="455400" cy="337320"/>
            <a:chOff x="4878720" y="4952880"/>
            <a:chExt cx="455400" cy="337320"/>
          </a:xfrm>
        </p:grpSpPr>
        <p:sp>
          <p:nvSpPr>
            <p:cNvPr id="347" name=""/>
            <p:cNvSpPr/>
            <p:nvPr/>
          </p:nvSpPr>
          <p:spPr>
            <a:xfrm>
              <a:off x="4952880" y="5257800"/>
              <a:ext cx="3812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787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334120" y="4267080"/>
            <a:ext cx="533160" cy="1023120"/>
            <a:chOff x="5334120" y="4267080"/>
            <a:chExt cx="533160" cy="1023120"/>
          </a:xfrm>
        </p:grpSpPr>
        <p:sp>
          <p:nvSpPr>
            <p:cNvPr id="350" name=""/>
            <p:cNvSpPr/>
            <p:nvPr/>
          </p:nvSpPr>
          <p:spPr>
            <a:xfrm flipV="1">
              <a:off x="5334120" y="457164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5334120" y="4267080"/>
              <a:ext cx="533160" cy="1023120"/>
              <a:chOff x="5334120" y="4267080"/>
              <a:chExt cx="533160" cy="1023120"/>
            </a:xfrm>
          </p:grpSpPr>
          <p:sp>
            <p:nvSpPr>
              <p:cNvPr id="352" name=""/>
              <p:cNvSpPr/>
              <p:nvPr/>
            </p:nvSpPr>
            <p:spPr>
              <a:xfrm>
                <a:off x="5334120" y="4572000"/>
                <a:ext cx="533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335920" y="49528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35920" y="42670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34120" y="5257800"/>
                <a:ext cx="5331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5867280" y="3962520"/>
            <a:ext cx="624960" cy="1327680"/>
            <a:chOff x="5867280" y="3962520"/>
            <a:chExt cx="624960" cy="1327680"/>
          </a:xfrm>
        </p:grpSpPr>
        <p:sp>
          <p:nvSpPr>
            <p:cNvPr id="357" name=""/>
            <p:cNvSpPr/>
            <p:nvPr/>
          </p:nvSpPr>
          <p:spPr>
            <a:xfrm flipV="1">
              <a:off x="5867280" y="49525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5867280" y="42667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67280" y="426708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67280" y="495288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4576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45760" y="4648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4576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4576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67280" y="525780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67280" y="45720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5546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10440" y="2209680"/>
            <a:ext cx="3335400" cy="28371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3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2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638680" y="2666880"/>
            <a:ext cx="2072880" cy="2623320"/>
            <a:chOff x="5638680" y="2666880"/>
            <a:chExt cx="2072880" cy="2623320"/>
          </a:xfrm>
        </p:grpSpPr>
        <p:sp>
          <p:nvSpPr>
            <p:cNvPr id="371" name=""/>
            <p:cNvSpPr/>
            <p:nvPr/>
          </p:nvSpPr>
          <p:spPr>
            <a:xfrm flipV="1">
              <a:off x="6553080" y="457164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38680" y="5257800"/>
              <a:ext cx="2057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980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53080" y="4572000"/>
              <a:ext cx="1143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52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5524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086600" y="49525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086600" y="426672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86600" y="426708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86600" y="495288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6508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65080" y="4648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6508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6508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53080" y="327636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95880" y="3962520"/>
              <a:ext cx="1600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9804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53080" y="3276720"/>
              <a:ext cx="1143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55240" y="3657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555240" y="29718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086600" y="365724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086600" y="297144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86600" y="297180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86600" y="3657600"/>
              <a:ext cx="6094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65080" y="3657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65080" y="33526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65080" y="2971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165080" y="2666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095880" y="3962520"/>
              <a:ext cx="0" cy="1295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4084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5699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4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!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248520" y="4419360"/>
            <a:ext cx="0" cy="68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334120" y="4800600"/>
            <a:ext cx="457200" cy="337320"/>
            <a:chOff x="5334120" y="4800600"/>
            <a:chExt cx="457200" cy="337320"/>
          </a:xfrm>
        </p:grpSpPr>
        <p:sp>
          <p:nvSpPr>
            <p:cNvPr id="406" name=""/>
            <p:cNvSpPr/>
            <p:nvPr/>
          </p:nvSpPr>
          <p:spPr>
            <a:xfrm>
              <a:off x="5334120" y="51055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359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791320" y="3505320"/>
            <a:ext cx="1615320" cy="1632600"/>
            <a:chOff x="5791320" y="3505320"/>
            <a:chExt cx="1615320" cy="1632600"/>
          </a:xfrm>
        </p:grpSpPr>
        <p:sp>
          <p:nvSpPr>
            <p:cNvPr id="409" name=""/>
            <p:cNvSpPr/>
            <p:nvPr/>
          </p:nvSpPr>
          <p:spPr>
            <a:xfrm>
              <a:off x="57931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91320" y="3809880"/>
              <a:ext cx="1600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60160" y="35053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5791320" y="3809520"/>
              <a:ext cx="0" cy="12956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91320" y="51055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248520" y="4114800"/>
            <a:ext cx="1158120" cy="1023120"/>
            <a:chOff x="6248520" y="4114800"/>
            <a:chExt cx="1158120" cy="1023120"/>
          </a:xfrm>
        </p:grpSpPr>
        <p:sp>
          <p:nvSpPr>
            <p:cNvPr id="415" name=""/>
            <p:cNvSpPr/>
            <p:nvPr/>
          </p:nvSpPr>
          <p:spPr>
            <a:xfrm>
              <a:off x="6248520" y="4419720"/>
              <a:ext cx="1143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250320" y="48006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60160" y="4114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48520" y="5105520"/>
              <a:ext cx="5331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781680" y="4495680"/>
            <a:ext cx="624960" cy="642240"/>
            <a:chOff x="6781680" y="4495680"/>
            <a:chExt cx="624960" cy="642240"/>
          </a:xfrm>
        </p:grpSpPr>
        <p:sp>
          <p:nvSpPr>
            <p:cNvPr id="420" name=""/>
            <p:cNvSpPr/>
            <p:nvPr/>
          </p:nvSpPr>
          <p:spPr>
            <a:xfrm flipV="1">
              <a:off x="6781680" y="4800240"/>
              <a:ext cx="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81680" y="4800600"/>
              <a:ext cx="6098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60160" y="4800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60160" y="44956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1680" y="510552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5623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 Example #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6960" y="2209680"/>
            <a:ext cx="3701160" cy="338580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5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0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1\n");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2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Poi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parent and child can continue f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5410080" y="4724280"/>
            <a:ext cx="457200" cy="337320"/>
            <a:chOff x="5410080" y="4724280"/>
            <a:chExt cx="457200" cy="337320"/>
          </a:xfrm>
        </p:grpSpPr>
        <p:sp>
          <p:nvSpPr>
            <p:cNvPr id="429" name=""/>
            <p:cNvSpPr/>
            <p:nvPr/>
          </p:nvSpPr>
          <p:spPr>
            <a:xfrm>
              <a:off x="5410080" y="5029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412240" y="47242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5867280" y="4343400"/>
            <a:ext cx="624960" cy="718200"/>
            <a:chOff x="5867280" y="4343400"/>
            <a:chExt cx="624960" cy="718200"/>
          </a:xfrm>
        </p:grpSpPr>
        <p:sp>
          <p:nvSpPr>
            <p:cNvPr id="432" name=""/>
            <p:cNvSpPr/>
            <p:nvPr/>
          </p:nvSpPr>
          <p:spPr>
            <a:xfrm>
              <a:off x="5945760" y="4724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867280" y="464832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67280" y="464832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869440" y="43434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867280" y="50292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781680" y="3581280"/>
            <a:ext cx="624960" cy="718560"/>
            <a:chOff x="6781680" y="3581280"/>
            <a:chExt cx="624960" cy="718560"/>
          </a:xfrm>
        </p:grpSpPr>
        <p:sp>
          <p:nvSpPr>
            <p:cNvPr id="438" name=""/>
            <p:cNvSpPr/>
            <p:nvPr/>
          </p:nvSpPr>
          <p:spPr>
            <a:xfrm flipV="1">
              <a:off x="6781680" y="38862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60160" y="39625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81680" y="38862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42520" y="35812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781680" y="426708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6324480" y="3962520"/>
            <a:ext cx="624960" cy="718200"/>
            <a:chOff x="6324480" y="3962520"/>
            <a:chExt cx="624960" cy="718200"/>
          </a:xfrm>
        </p:grpSpPr>
        <p:sp>
          <p:nvSpPr>
            <p:cNvPr id="444" name=""/>
            <p:cNvSpPr/>
            <p:nvPr/>
          </p:nvSpPr>
          <p:spPr>
            <a:xfrm flipV="1">
              <a:off x="6324480" y="4266720"/>
              <a:ext cx="0" cy="3812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02960" y="43434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24480" y="42670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26640" y="39625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24480" y="464832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6620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xi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Destroying Pro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oid exit(int status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its a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rmally return with status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texit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gisters functions to be executed upon ex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28320" y="2971800"/>
            <a:ext cx="3884040" cy="25628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leanup(void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leaning up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6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exit(cleanup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k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568680" y="228600"/>
            <a:ext cx="2006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Zomb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process terminates, still consumes system resour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ous tables maintained by O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ed a “zombi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ving corpse, half alive and half dea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p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ed by parent on terminated chil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rent is given exit status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discards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f Parent Doesn’t Reap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ny parent terminates without reaping a child, then child will be reaped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need explicit reaping for long-running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shells and serv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60200" y="2438280"/>
            <a:ext cx="4935600" cy="3987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./forks 7 &am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[1] 66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unning Parent, PID = 66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erminating Child, PID = 664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39 ttyp9    00:00:03 for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40 ttyp9    00:00:00 forks &lt;defunc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41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 kill 663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[1]    Termin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42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20066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Zombie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2520" y="3809880"/>
            <a:ext cx="3645000" cy="263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ws child process as “defunct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illing parent allows child to be reap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14920" y="431640"/>
            <a:ext cx="5255640" cy="30776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7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Terminating Child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Running Parent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6480" y="2666880"/>
            <a:ext cx="3838320" cy="325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./forks 8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erminating Parent, PID = 667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unning Child, PID = 66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76 ttyp9    00:00:06 fork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77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kill 667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linux&gt;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 TTY          TIME CM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585 ttyp9    00:00:00 tc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678 ttyp9    00:00:00 p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3657600" cy="1617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nterminating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ild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267080" y="3733560"/>
            <a:ext cx="4330800" cy="271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ild process still active even though parent has 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kill explicitly, or else will keep running indefinite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85040" y="380880"/>
            <a:ext cx="5362200" cy="307764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void fork8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Child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Running Child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while (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; /* Infinite loop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rintf("Terminating Parent, PID = %d\n"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getpid()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wai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Synchronizing with childre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44600" y="99072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int wait(int *child_status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spends current process until one of its children termina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value is 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i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the child process that 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ild_statu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= NUL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then the object it points to will be set to  a status indicating why the child process 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299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tering the 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p to Now: two mechanisms for changing control flow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s and bran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and return using the stack disciplin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react to changes in program st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ufficient  for a useful 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icult for the CPU to react to changes in system stat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arrives from a disk or a network adapte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divides by zer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 hits ctl-c at the keyboa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ystem timer expi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 needs mechanisms for “exceptional control flow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wai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Synchronizing with childre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9000" y="1219320"/>
            <a:ext cx="6078600" cy="393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9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child_status;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C: hello from chil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HP: hello from parent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ait(&amp;child_status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T: child has terminate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Bye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24480" y="5257800"/>
            <a:ext cx="3812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705720" y="4267080"/>
            <a:ext cx="426240" cy="1023120"/>
            <a:chOff x="6705720" y="4267080"/>
            <a:chExt cx="426240" cy="1023120"/>
          </a:xfrm>
        </p:grpSpPr>
        <p:sp>
          <p:nvSpPr>
            <p:cNvPr id="468" name=""/>
            <p:cNvSpPr/>
            <p:nvPr/>
          </p:nvSpPr>
          <p:spPr>
            <a:xfrm flipV="1">
              <a:off x="6705720" y="457164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05720" y="45720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0752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H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07520" y="42670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H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0572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086600" y="4267080"/>
            <a:ext cx="548640" cy="990720"/>
            <a:chOff x="7086600" y="4267080"/>
            <a:chExt cx="548640" cy="990720"/>
          </a:xfrm>
        </p:grpSpPr>
        <p:sp>
          <p:nvSpPr>
            <p:cNvPr id="474" name=""/>
            <p:cNvSpPr/>
            <p:nvPr/>
          </p:nvSpPr>
          <p:spPr>
            <a:xfrm>
              <a:off x="7088760" y="42670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86600" y="45720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86600" y="5257800"/>
              <a:ext cx="5335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7620120" y="4572000"/>
            <a:ext cx="380880" cy="685800"/>
            <a:chOff x="7620120" y="4572000"/>
            <a:chExt cx="380880" cy="685800"/>
          </a:xfrm>
        </p:grpSpPr>
        <p:sp>
          <p:nvSpPr>
            <p:cNvPr id="478" name=""/>
            <p:cNvSpPr/>
            <p:nvPr/>
          </p:nvSpPr>
          <p:spPr>
            <a:xfrm>
              <a:off x="7620120" y="45720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01000" y="4572000"/>
              <a:ext cx="0" cy="685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62012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8001000" y="4952880"/>
            <a:ext cx="426600" cy="337320"/>
            <a:chOff x="8001000" y="4952880"/>
            <a:chExt cx="426600" cy="337320"/>
          </a:xfrm>
        </p:grpSpPr>
        <p:sp>
          <p:nvSpPr>
            <p:cNvPr id="482" name=""/>
            <p:cNvSpPr/>
            <p:nvPr/>
          </p:nvSpPr>
          <p:spPr>
            <a:xfrm>
              <a:off x="8003160" y="4952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001000" y="5257800"/>
              <a:ext cx="3808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8381880" y="4952880"/>
            <a:ext cx="548640" cy="337320"/>
            <a:chOff x="8381880" y="4952880"/>
            <a:chExt cx="548640" cy="337320"/>
          </a:xfrm>
        </p:grpSpPr>
        <p:sp>
          <p:nvSpPr>
            <p:cNvPr id="485" name=""/>
            <p:cNvSpPr/>
            <p:nvPr/>
          </p:nvSpPr>
          <p:spPr>
            <a:xfrm>
              <a:off x="8384040" y="4952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By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1880" y="525780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4978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ait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307360" cy="12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multiple children completed, will take in arbitrary or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macros WIFEXITED and WEXITSTATUS to get information about exit statu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" y="1905120"/>
            <a:ext cx="8607600" cy="503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10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child_status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(pid[i] = fork()) =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100+i); /* Child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wpid =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&amp;child_status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WIFEXITED(child_statu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d with exit status %d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pid, WEXITSTATUS(child_status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 abnormally\n", wpi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683160" y="228600"/>
            <a:ext cx="177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aitpi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90520" y="838080"/>
            <a:ext cx="8307360" cy="168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pid(pid, &amp;status, option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wait for specific proc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ous op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3120" y="1981080"/>
            <a:ext cx="863892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fork11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pid[N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child_status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(pid[i] = fork()) == 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100+i); /* Child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id_t wpid =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waitpi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pid[i], &amp;child_status, 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WIFEXITED(child_statu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d with exit status %d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pid, WEXITSTATUS(child_status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ild %d terminated abnormally\n", wpi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416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ait/Waitpid Example Outpu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437840" y="1600200"/>
            <a:ext cx="5941440" cy="146556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5 terminated with exit status 1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4 terminated with exit status 1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3 terminated with exit status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2 terminated with exit status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6 terminated with exit status 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14160" y="4343400"/>
            <a:ext cx="5941440" cy="1465560"/>
          </a:xfrm>
          <a:prstGeom prst="rect">
            <a:avLst/>
          </a:prstGeom>
          <a:solidFill>
            <a:srgbClr val="99ffcc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8 terminated with exit status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69 terminated with exit status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70 terminated with exit status 1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71 terminated with exit status 1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ild 3572 terminated with exit status 1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84720" y="1066680"/>
            <a:ext cx="33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wai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fork1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040" y="380988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waitpi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fork1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115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xec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Running new progr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44240" y="914040"/>
            <a:ext cx="8318520" cy="263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331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execl(char *path, char *arg0, char *arg1, …, 0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4008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s and runs executable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a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 arg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rg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rg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…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at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s the complete path of an execut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rg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ecomes the name of the proc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375920" indent="-196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ly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either identical to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at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or else it contains only the executable filename from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at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l” arguments to the executable start with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rg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85680" indent="-2048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st of args is terminated by a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(char *)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rgu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4008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error, otherwise doesn’t return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4032360"/>
            <a:ext cx="7162920" cy="22885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fork() == 0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ecl("/usr/bin/cp", "cp", "foo", "bar", 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ait(NUL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opy completed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5384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iz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ts that require nonstandard control 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d externally (interrupts) or internally (traps and fault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any given time, system has multiple active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one can execute at a time, thoug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process appears to have total control of processor + private memory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5384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izing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awning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all, two retur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erminating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all, no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ping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aitpi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lacing Program Executed by Proc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ec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or varia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all, (normally) no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686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al Control Flo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3120" y="990360"/>
            <a:ext cx="8282160" cy="458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chanisms for exceptional control flow exists at all levels of a computer syste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7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w level Mechanis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nge in control flow in response to a system event (i.e.,  change in system stat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 of hardware and OS softwar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7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gher Level Mechanis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 context swit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local jumps (setjmp/longjmp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ed by eith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S software (context switch and signals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74160" indent="-202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 language runtime library: nonlocal jump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69880"/>
            <a:ext cx="7620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ystem context for 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96000" y="2136600"/>
            <a:ext cx="0" cy="89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260600" y="1981080"/>
            <a:ext cx="6120" cy="979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07080" y="2060640"/>
            <a:ext cx="0" cy="900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42120" y="1908000"/>
            <a:ext cx="0" cy="900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64280" y="2973240"/>
            <a:ext cx="0" cy="89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42120" y="2973240"/>
            <a:ext cx="0" cy="898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0960" y="2973240"/>
            <a:ext cx="6120" cy="836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39960" y="3124080"/>
            <a:ext cx="0" cy="171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1840" y="3884760"/>
            <a:ext cx="0" cy="1407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67440" y="5407200"/>
            <a:ext cx="0" cy="468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08320" y="5407200"/>
            <a:ext cx="0" cy="468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42120" y="3809880"/>
            <a:ext cx="0" cy="1584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72320" y="3657600"/>
            <a:ext cx="0" cy="17874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39960" y="4873680"/>
            <a:ext cx="0" cy="622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5240" y="2668680"/>
            <a:ext cx="0" cy="1977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581280"/>
            <a:ext cx="8280360" cy="3542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ocal/I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2920" y="4443480"/>
            <a:ext cx="12301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40640" y="4417920"/>
            <a:ext cx="1027080" cy="51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38480" y="4443480"/>
            <a:ext cx="1027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DE 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9640" y="4417920"/>
            <a:ext cx="1230480" cy="49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ide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440" y="5432400"/>
            <a:ext cx="123012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8040" y="5407200"/>
            <a:ext cx="1039680" cy="51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617920"/>
            <a:ext cx="141444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ru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40360" y="4443480"/>
            <a:ext cx="1027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CS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9040" y="5267160"/>
            <a:ext cx="1965600" cy="27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CSI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4832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ial p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50200" y="2617920"/>
            <a:ext cx="13762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rallel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46440" y="261792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81200" y="2890800"/>
            <a:ext cx="44280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46440" y="170496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26200" y="1704960"/>
            <a:ext cx="75564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26160" y="1704960"/>
            <a:ext cx="12304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34120" y="1704960"/>
            <a:ext cx="91908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de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5327640"/>
            <a:ext cx="589320" cy="634320"/>
          </a:xfrm>
          <a:prstGeom prst="flowChartMagneticDisk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81080" y="5707800"/>
            <a:ext cx="589320" cy="634320"/>
          </a:xfrm>
          <a:prstGeom prst="flowChartMagneticDisk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66680" y="5707800"/>
            <a:ext cx="948960" cy="634320"/>
          </a:xfrm>
          <a:prstGeom prst="flowChartMagneticDisk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DRO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92560" y="450720"/>
            <a:ext cx="2565360" cy="1058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68160"/>
            <a:ext cx="8686800" cy="10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excep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 transfer of control to the OS in response to som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eve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 (i.e., change in processor stat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0240" y="2585880"/>
            <a:ext cx="1638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r Proc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84320" y="2585880"/>
            <a:ext cx="51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94200" y="3108240"/>
            <a:ext cx="0" cy="598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00320" y="3713040"/>
            <a:ext cx="28069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13360" y="3719520"/>
            <a:ext cx="0" cy="59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087360" y="3782520"/>
            <a:ext cx="2832120" cy="546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94200" y="3870360"/>
            <a:ext cx="0" cy="15127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93840" y="3386160"/>
            <a:ext cx="115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51600" y="3659040"/>
            <a:ext cx="25272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 process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y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 hand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33720" y="4376880"/>
            <a:ext cx="1790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cep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return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option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446640"/>
            <a:ext cx="80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ven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6240" y="342900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48720" y="3657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657600"/>
            <a:ext cx="6858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rupt Vec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4330440" cy="25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ype of event has a unique exception number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ex into jump table (a.k.a., interrupt vecto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able entry k points to a function (exception handler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ndler k is called each time exception k occurs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2914560"/>
            <a:ext cx="10134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terru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ec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35560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37846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0132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220760" y="3797280"/>
            <a:ext cx="1219320" cy="317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79360" y="407664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6360" y="355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7800" y="3758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7800" y="4012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4760" y="40248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4495680"/>
            <a:ext cx="12189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4640" y="449460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79360" y="364500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220760" y="2425320"/>
            <a:ext cx="1219320" cy="1257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40080" y="24256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40080" y="31114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9360" y="386064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220760" y="3111120"/>
            <a:ext cx="1219320" cy="793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40080" y="3797280"/>
            <a:ext cx="25891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40080" y="5105520"/>
            <a:ext cx="25891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 f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handler n-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440568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79360" y="4559400"/>
            <a:ext cx="88920" cy="889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20760" y="4603680"/>
            <a:ext cx="1219320" cy="5018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58436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ception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57200" y="2286000"/>
            <a:ext cx="38088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ynchronous Exceptions (Interrupt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used by events external to the process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icated by setting the processor’s interrupt pi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ndler returns to “next” instruc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/O interrup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tting ctl-c at the keyboa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rival of a packet from a networ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rival of a data sector from a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reset interrup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tting the reset butt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ft reset interrup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tting ctl-alt-delete on a P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819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ynchronous 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used by events that occur as a result of executing an instructio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ntion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system calls, breakpoint traps, special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s control to “next”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ul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ntentional but possibly recoverable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page faults (recoverable), protection faults (unrecoverable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ither re-executes faulting (“current”) instruction or abort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ntentional and unrecover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mples: parity error, machine check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orts current prog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4:39Z</dcterms:modified>
  <cp:revision>112</cp:revision>
  <dc:subject/>
  <dc:title>Exceptional Control Flow I</dc:title>
</cp:coreProperties>
</file>