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A273EAE0-D55E-4FAA-AE3A-DE6EDE541D62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ceptional Control Flow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rt I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ct. 17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504960"/>
            <a:ext cx="617508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cep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 context switch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ing and destroying proc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16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450720"/>
            <a:ext cx="5527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p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58120" y="4619520"/>
            <a:ext cx="1638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User Proc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62200" y="4619520"/>
            <a:ext cx="51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71720" y="5141880"/>
            <a:ext cx="0" cy="5986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78200" y="5746680"/>
            <a:ext cx="28065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91240" y="5753160"/>
            <a:ext cx="0" cy="596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2865600" y="5816160"/>
            <a:ext cx="2831760" cy="5461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71720" y="5904000"/>
            <a:ext cx="0" cy="7254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73160" y="5419800"/>
            <a:ext cx="1156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xcep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829480" y="5692680"/>
            <a:ext cx="252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Open fi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11800" y="6143760"/>
            <a:ext cx="77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39920" y="5457960"/>
            <a:ext cx="7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39920" y="5691240"/>
            <a:ext cx="7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ning a Fi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r call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pen(filename, option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unction open executes system call instruction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i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S must find or create file, get it ready for reading or writ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integer file descript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06920" y="2057400"/>
            <a:ext cx="6215760" cy="1310760"/>
          </a:xfrm>
          <a:prstGeom prst="rect">
            <a:avLst/>
          </a:prstGeom>
          <a:solidFill>
            <a:srgbClr val="99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804d070 &lt;__libc_open&gt;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d082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d 80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$0x8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d08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5b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p    %eb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0720"/>
            <a:ext cx="5743440" cy="555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ault Example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09480" y="4495680"/>
            <a:ext cx="8045640" cy="1909800"/>
            <a:chOff x="609480" y="4495680"/>
            <a:chExt cx="8045640" cy="1909800"/>
          </a:xfrm>
        </p:grpSpPr>
        <p:sp>
          <p:nvSpPr>
            <p:cNvPr id="193" name=""/>
            <p:cNvSpPr/>
            <p:nvPr/>
          </p:nvSpPr>
          <p:spPr>
            <a:xfrm>
              <a:off x="2356560" y="4495680"/>
              <a:ext cx="1638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33"/>
                  </a:solidFill>
                  <a:latin typeface="Arial"/>
                </a:rPr>
                <a:t>User Proce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60640" y="4495680"/>
              <a:ext cx="51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33"/>
                  </a:solidFill>
                  <a:latin typeface="Arial"/>
                </a:rPr>
                <a:t>O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70160" y="5018040"/>
              <a:ext cx="0" cy="5986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76640" y="5622840"/>
              <a:ext cx="28065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89680" y="5629320"/>
              <a:ext cx="0" cy="596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3176640" y="5616720"/>
              <a:ext cx="2819520" cy="6220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70160" y="5780160"/>
              <a:ext cx="0" cy="6253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71240" y="5295960"/>
              <a:ext cx="1182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page faul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27920" y="5568840"/>
              <a:ext cx="25272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Create page and load into memo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57960" y="5948280"/>
              <a:ext cx="77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retur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9480" y="5356080"/>
              <a:ext cx="80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event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64480" y="5491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mov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23880" y="5567400"/>
              <a:ext cx="6858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5445360" cy="24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89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Refere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8360" indent="-184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r writes to memory 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360" indent="-184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at portion (page) of user’s memory is currently on dis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3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360" indent="-184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handler must load page into physical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360" indent="-184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to faulting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360" indent="-184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ccessful on second t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65440" y="1066680"/>
            <a:ext cx="2131560" cy="13107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a[1000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in 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[500] = 13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79760" y="2666880"/>
            <a:ext cx="7313040" cy="337320"/>
          </a:xfrm>
          <a:prstGeom prst="rect">
            <a:avLst/>
          </a:prstGeom>
          <a:solidFill>
            <a:srgbClr val="99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3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7 05 10 9d 04 08 0d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$0xd,0x8049d1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2120" y="450720"/>
            <a:ext cx="5743440" cy="555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ault Example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04280" y="4513320"/>
            <a:ext cx="1638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User Proc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08360" y="4513320"/>
            <a:ext cx="51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17880" y="5035680"/>
            <a:ext cx="0" cy="5983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24360" y="5640480"/>
            <a:ext cx="223344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4120" y="5646600"/>
            <a:ext cx="0" cy="596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10080" y="6265800"/>
            <a:ext cx="60984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18600" y="5313240"/>
            <a:ext cx="1182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page fau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5732640"/>
            <a:ext cx="2527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Detect invalid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5373720"/>
            <a:ext cx="80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vent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11840" y="5508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5584680"/>
            <a:ext cx="6858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438200"/>
            <a:ext cx="6705720" cy="21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262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Refere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06160" indent="-167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r writes to memory 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6160" indent="-167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is not vali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61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61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6160" indent="-167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handler detects invalid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6160" indent="-167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nd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IGSE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ignal to user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6160" indent="-167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r process exits with “segmentation fault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70000" y="762120"/>
            <a:ext cx="2253600" cy="13107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a[1000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in 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[5000] = 13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8520" y="2819520"/>
            <a:ext cx="7313040" cy="337320"/>
          </a:xfrm>
          <a:prstGeom prst="rect">
            <a:avLst/>
          </a:prstGeom>
          <a:solidFill>
            <a:srgbClr val="99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3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7 05 60 e3 04 08 0d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$0xd,0x804e36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19920" y="6113520"/>
            <a:ext cx="25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Signal proc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5244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f: A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proces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s an instance of a running program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e of the most profound ideas in computer scienc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the same as “program” or “processor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ss provides each program with two key abstrac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gical control flo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ach program seems to have exclusive use of the CPU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ivate address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ach program seems to have exclusive use of main memory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are these Illusions maintaine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 executions interleaved (multitasking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spaces managed by virtual memory syst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69880"/>
            <a:ext cx="6019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gical Control Flow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33720" y="2743200"/>
            <a:ext cx="0" cy="1828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10920" y="327672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2680" y="297180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87840" y="259092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11720" y="259092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35600" y="259092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 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76920" y="327672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00800" y="358128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52680" y="388620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00800" y="419112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95480" y="3276720"/>
            <a:ext cx="403884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95480" y="3581280"/>
            <a:ext cx="403884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95480" y="3886200"/>
            <a:ext cx="403884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95480" y="4191120"/>
            <a:ext cx="403884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95480" y="4495680"/>
            <a:ext cx="403884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3760" y="1523880"/>
            <a:ext cx="67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process has its own logical control flo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6070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t Proc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wo processes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run concurrently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are concurrent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f their flows overlap in tim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therwise, they are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equential.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urrent: A &amp; B, A &amp; 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quential: B &amp; 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282320" y="3962520"/>
            <a:ext cx="5497560" cy="1981080"/>
            <a:chOff x="1282320" y="3962520"/>
            <a:chExt cx="5497560" cy="1981080"/>
          </a:xfrm>
        </p:grpSpPr>
        <p:sp>
          <p:nvSpPr>
            <p:cNvPr id="247" name=""/>
            <p:cNvSpPr/>
            <p:nvPr/>
          </p:nvSpPr>
          <p:spPr>
            <a:xfrm>
              <a:off x="1905120" y="4114800"/>
              <a:ext cx="0" cy="1828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82320" y="4648320"/>
              <a:ext cx="6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24080" y="434340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59240" y="3962520"/>
              <a:ext cx="117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rocess 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83120" y="3962520"/>
              <a:ext cx="117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rocess 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607000" y="3962520"/>
              <a:ext cx="117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rocess 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48320" y="4648320"/>
              <a:ext cx="0" cy="3045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72200" y="495288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24080" y="525780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172200" y="5562720"/>
              <a:ext cx="0" cy="3045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66880" y="4648320"/>
              <a:ext cx="4038840" cy="0"/>
            </a:xfrm>
            <a:prstGeom prst="line">
              <a:avLst/>
            </a:prstGeom>
            <a:ln w="324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66880" y="4952880"/>
              <a:ext cx="4038840" cy="0"/>
            </a:xfrm>
            <a:prstGeom prst="line">
              <a:avLst/>
            </a:prstGeom>
            <a:ln w="324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66880" y="5257800"/>
              <a:ext cx="4038840" cy="0"/>
            </a:xfrm>
            <a:prstGeom prst="line">
              <a:avLst/>
            </a:prstGeom>
            <a:ln w="324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66880" y="5562720"/>
              <a:ext cx="4038840" cy="0"/>
            </a:xfrm>
            <a:prstGeom prst="line">
              <a:avLst/>
            </a:prstGeom>
            <a:ln w="324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66880" y="5867280"/>
              <a:ext cx="4038840" cy="0"/>
            </a:xfrm>
            <a:prstGeom prst="line">
              <a:avLst/>
            </a:prstGeom>
            <a:ln w="324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er View of Concurrent Proc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rol flows for concurrent processes are physically disjoint in tim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ever, we can think of concurrent processes are running in parallel with each other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81080" y="3505320"/>
            <a:ext cx="0" cy="7617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22200" y="370188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358128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11520" y="32004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35400" y="32004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59640" y="32004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 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00600" y="373392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24480" y="403848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76720" y="388620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19520" y="3581280"/>
            <a:ext cx="403848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19520" y="4191120"/>
            <a:ext cx="403848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434340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3733920"/>
            <a:ext cx="403848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819520" y="4038480"/>
            <a:ext cx="403848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5841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ext Switch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90160" y="990360"/>
            <a:ext cx="8294760" cy="255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sses are managed by a shared chunk of OS code called the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kern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ortant: the kernel is not a separate process, but rather runs as part of some user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rol flow passes from one process to another via a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context switch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18680" y="342900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 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8720" y="342900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895480" y="4027320"/>
            <a:ext cx="6480" cy="4683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95480" y="4495680"/>
            <a:ext cx="1447920" cy="3812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43400" y="48769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895480" y="5334120"/>
            <a:ext cx="144792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95480" y="571500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20960" y="3429000"/>
            <a:ext cx="12960" cy="312408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25560" y="41148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er 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25920" y="452916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rnel 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25560" y="494172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er 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08280" y="53784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rnel 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255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er 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46320" y="4452840"/>
            <a:ext cx="449568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46320" y="4879800"/>
            <a:ext cx="449568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46320" y="5307120"/>
            <a:ext cx="449568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146320" y="5734080"/>
            <a:ext cx="449568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146320" y="6161040"/>
            <a:ext cx="449568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46320" y="4027320"/>
            <a:ext cx="449568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19320" y="4038480"/>
            <a:ext cx="0" cy="1549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20760" y="46483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-701640" y="31179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-914400" y="2743200"/>
            <a:ext cx="914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0" y="4451400"/>
            <a:ext cx="76320" cy="380880"/>
          </a:xfrm>
          <a:custGeom>
            <a:avLst/>
            <a:gdLst>
              <a:gd name="textAreaLeft" fmla="*/ 0 w 76320"/>
              <a:gd name="textAreaRight" fmla="*/ 2736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942960" y="4419720"/>
            <a:ext cx="15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context swit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0" y="5334120"/>
            <a:ext cx="76320" cy="380880"/>
          </a:xfrm>
          <a:custGeom>
            <a:avLst/>
            <a:gdLst>
              <a:gd name="textAreaLeft" fmla="*/ 0 w 76320"/>
              <a:gd name="textAreaRight" fmla="*/ 2736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42960" y="5302080"/>
            <a:ext cx="15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context swit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413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ivate Address Spac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90520" y="990720"/>
            <a:ext cx="8307360" cy="95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ach process has its own private address spac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8760" y="1935000"/>
            <a:ext cx="6948360" cy="46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95560" y="1674720"/>
            <a:ext cx="2230560" cy="793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kernel virtual mem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(code, data, heap, stack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995560" y="3438360"/>
            <a:ext cx="2230560" cy="536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emory mapped region fo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hared librari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95560" y="3971880"/>
            <a:ext cx="2230560" cy="577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95560" y="4552920"/>
            <a:ext cx="2230560" cy="534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run-time hea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(managed by malloc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95560" y="2711520"/>
            <a:ext cx="2230560" cy="7254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4145040" y="4235040"/>
            <a:ext cx="1440" cy="304920"/>
          </a:xfrm>
          <a:prstGeom prst="line">
            <a:avLst/>
          </a:prstGeom>
          <a:ln w="3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995560" y="2443320"/>
            <a:ext cx="2230560" cy="450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ser stac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(created at runtime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4145040" y="3260520"/>
            <a:ext cx="1440" cy="182520"/>
          </a:xfrm>
          <a:prstGeom prst="line">
            <a:avLst/>
          </a:prstGeom>
          <a:ln w="3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145040" y="2894040"/>
            <a:ext cx="1440" cy="182520"/>
          </a:xfrm>
          <a:prstGeom prst="line">
            <a:avLst/>
          </a:prstGeom>
          <a:ln w="3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86200" y="6124680"/>
            <a:ext cx="2232000" cy="317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nuse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73120" y="6248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65160" y="27716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%esp (stack pointer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226120" y="2892600"/>
            <a:ext cx="304560" cy="0"/>
          </a:xfrm>
          <a:prstGeom prst="line">
            <a:avLst/>
          </a:prstGeom>
          <a:ln w="3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72280" y="1824120"/>
            <a:ext cx="1015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nvisible t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ser co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5301720" y="2041560"/>
            <a:ext cx="1800" cy="365040"/>
          </a:xfrm>
          <a:prstGeom prst="line">
            <a:avLst/>
          </a:prstGeom>
          <a:ln w="3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592960" y="4419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br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5288040" y="4540320"/>
            <a:ext cx="304560" cy="1440"/>
          </a:xfrm>
          <a:prstGeom prst="line">
            <a:avLst/>
          </a:prstGeom>
          <a:ln w="3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52480" y="227340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c00000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52480" y="592920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80480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752480" y="37972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400000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986200" y="5087880"/>
            <a:ext cx="2232000" cy="536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read/write segmen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(.data, .bs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86200" y="5589720"/>
            <a:ext cx="2232000" cy="534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read-only segmen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(.init, .text, .rodata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02080" y="5087880"/>
            <a:ext cx="61920" cy="1036800"/>
          </a:xfrm>
          <a:custGeom>
            <a:avLst/>
            <a:gdLst>
              <a:gd name="textAreaLeft" fmla="*/ 0 w 61920"/>
              <a:gd name="textAreaRight" fmla="*/ 22320 w 61920"/>
              <a:gd name="textAreaTop" fmla="*/ 27000 h 1036800"/>
              <a:gd name="textAreaBottom" fmla="*/ 1009800 h 103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20520" y="5418000"/>
            <a:ext cx="147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oaded from the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executable fi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752480" y="15922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ffffffff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995560" y="2443320"/>
            <a:ext cx="223056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419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fork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: Creating new proc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90520" y="1295280"/>
            <a:ext cx="830736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int fork(void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s a new process (child process) that is identical to the calling process (parent proces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0 to the child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child’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i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the parent proces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938880" y="3438360"/>
            <a:ext cx="4707000" cy="1465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hello from child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else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hello from parent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72920" y="3784680"/>
            <a:ext cx="262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k is interest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and often confusin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cause it is call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once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ut returns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wic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4292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ol Flo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71560" y="3624120"/>
            <a:ext cx="153108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&lt;startup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&lt;shutdown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8294760" cy="174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ers do Only One Th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rom startup to shutdown, a CPU simply reads and executes (interprets) a sequence of instructions, one at a tim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is sequence is the system’s physical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ontrol flo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or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flow of contro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91040" y="324468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hysical control flow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05280" y="3454560"/>
            <a:ext cx="0" cy="1828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7440" y="39625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5699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k Example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12760" y="3284640"/>
            <a:ext cx="8547480" cy="31114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1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id_t pid = 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pid =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hild has x = %d\n", ++x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Parent has x = %d\n", --x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Bye from process %d with x = %d\n", getpid(), x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rent and child both run same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stinguish parent from child by return value from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or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 with same state, but each has private cop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cluding shared output file descripto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lative ordering of their print statements undefin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5089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k Example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05520" y="3276720"/>
            <a:ext cx="3335400" cy="22885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2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0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1\n");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h parent and child can continue for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4878720" y="4952880"/>
            <a:ext cx="455400" cy="337320"/>
            <a:chOff x="4878720" y="4952880"/>
            <a:chExt cx="455400" cy="337320"/>
          </a:xfrm>
        </p:grpSpPr>
        <p:sp>
          <p:nvSpPr>
            <p:cNvPr id="347" name=""/>
            <p:cNvSpPr/>
            <p:nvPr/>
          </p:nvSpPr>
          <p:spPr>
            <a:xfrm>
              <a:off x="4952880" y="5257800"/>
              <a:ext cx="3812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87872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5334120" y="4267080"/>
            <a:ext cx="533160" cy="1023120"/>
            <a:chOff x="5334120" y="4267080"/>
            <a:chExt cx="533160" cy="1023120"/>
          </a:xfrm>
        </p:grpSpPr>
        <p:sp>
          <p:nvSpPr>
            <p:cNvPr id="350" name=""/>
            <p:cNvSpPr/>
            <p:nvPr/>
          </p:nvSpPr>
          <p:spPr>
            <a:xfrm flipV="1">
              <a:off x="5334120" y="4571640"/>
              <a:ext cx="0" cy="685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5334120" y="4267080"/>
              <a:ext cx="533160" cy="1023120"/>
              <a:chOff x="5334120" y="4267080"/>
              <a:chExt cx="533160" cy="1023120"/>
            </a:xfrm>
          </p:grpSpPr>
          <p:sp>
            <p:nvSpPr>
              <p:cNvPr id="352" name=""/>
              <p:cNvSpPr/>
              <p:nvPr/>
            </p:nvSpPr>
            <p:spPr>
              <a:xfrm>
                <a:off x="5334120" y="4572000"/>
                <a:ext cx="5331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335920" y="49528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335920" y="42670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334120" y="5257800"/>
                <a:ext cx="5331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5867280" y="3962520"/>
            <a:ext cx="624960" cy="1327680"/>
            <a:chOff x="5867280" y="3962520"/>
            <a:chExt cx="624960" cy="1327680"/>
          </a:xfrm>
        </p:grpSpPr>
        <p:sp>
          <p:nvSpPr>
            <p:cNvPr id="357" name=""/>
            <p:cNvSpPr/>
            <p:nvPr/>
          </p:nvSpPr>
          <p:spPr>
            <a:xfrm flipV="1">
              <a:off x="5867280" y="495252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5867280" y="426672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67280" y="4267080"/>
              <a:ext cx="6098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867280" y="4952880"/>
              <a:ext cx="6098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45760" y="4952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945760" y="46483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45760" y="42670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945760" y="39625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67280" y="5257800"/>
              <a:ext cx="6098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867280" y="457200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5546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k Example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10440" y="2209680"/>
            <a:ext cx="3335400" cy="28371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3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0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1\n");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2\n");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h parent and child can continue for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5638680" y="2666880"/>
            <a:ext cx="2072880" cy="2623320"/>
            <a:chOff x="5638680" y="2666880"/>
            <a:chExt cx="2072880" cy="2623320"/>
          </a:xfrm>
        </p:grpSpPr>
        <p:sp>
          <p:nvSpPr>
            <p:cNvPr id="371" name=""/>
            <p:cNvSpPr/>
            <p:nvPr/>
          </p:nvSpPr>
          <p:spPr>
            <a:xfrm flipV="1">
              <a:off x="6553080" y="4571640"/>
              <a:ext cx="0" cy="685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638680" y="5257800"/>
              <a:ext cx="20574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9804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53080" y="4572000"/>
              <a:ext cx="11430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5524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555240" y="42670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086600" y="495252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086600" y="426672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86600" y="4267080"/>
              <a:ext cx="6094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86600" y="4952880"/>
              <a:ext cx="6094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65080" y="4952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65080" y="46483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65080" y="42670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65080" y="39625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6553080" y="3276360"/>
              <a:ext cx="0" cy="685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95880" y="3962520"/>
              <a:ext cx="1600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098040" y="3657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553080" y="3276720"/>
              <a:ext cx="11430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55240" y="3657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555240" y="29718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7086600" y="365724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7086600" y="297144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086600" y="2971800"/>
              <a:ext cx="6094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086600" y="3657600"/>
              <a:ext cx="6094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165080" y="36576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65080" y="33526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165080" y="2971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165080" y="2666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6095880" y="3962520"/>
              <a:ext cx="0" cy="12952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4084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5699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k Example #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6960" y="2209680"/>
            <a:ext cx="3701160" cy="33858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4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0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fork() !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1\n");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fork() !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2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h parent and child can continue for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6248520" y="4419360"/>
            <a:ext cx="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5334120" y="4800600"/>
            <a:ext cx="457200" cy="337320"/>
            <a:chOff x="5334120" y="4800600"/>
            <a:chExt cx="457200" cy="337320"/>
          </a:xfrm>
        </p:grpSpPr>
        <p:sp>
          <p:nvSpPr>
            <p:cNvPr id="406" name=""/>
            <p:cNvSpPr/>
            <p:nvPr/>
          </p:nvSpPr>
          <p:spPr>
            <a:xfrm>
              <a:off x="5334120" y="510552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35920" y="4800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5791320" y="3505320"/>
            <a:ext cx="1615320" cy="1632600"/>
            <a:chOff x="5791320" y="3505320"/>
            <a:chExt cx="1615320" cy="1632600"/>
          </a:xfrm>
        </p:grpSpPr>
        <p:sp>
          <p:nvSpPr>
            <p:cNvPr id="409" name=""/>
            <p:cNvSpPr/>
            <p:nvPr/>
          </p:nvSpPr>
          <p:spPr>
            <a:xfrm>
              <a:off x="5793120" y="4800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91320" y="3809880"/>
              <a:ext cx="1600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60160" y="35053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5791320" y="3809520"/>
              <a:ext cx="0" cy="12956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791320" y="510552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248520" y="4114800"/>
            <a:ext cx="1158120" cy="1023120"/>
            <a:chOff x="6248520" y="4114800"/>
            <a:chExt cx="1158120" cy="1023120"/>
          </a:xfrm>
        </p:grpSpPr>
        <p:sp>
          <p:nvSpPr>
            <p:cNvPr id="415" name=""/>
            <p:cNvSpPr/>
            <p:nvPr/>
          </p:nvSpPr>
          <p:spPr>
            <a:xfrm>
              <a:off x="6248520" y="4419720"/>
              <a:ext cx="11430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250320" y="4800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60160" y="4114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248520" y="5105520"/>
              <a:ext cx="5331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6781680" y="4495680"/>
            <a:ext cx="624960" cy="642240"/>
            <a:chOff x="6781680" y="4495680"/>
            <a:chExt cx="624960" cy="642240"/>
          </a:xfrm>
        </p:grpSpPr>
        <p:sp>
          <p:nvSpPr>
            <p:cNvPr id="420" name=""/>
            <p:cNvSpPr/>
            <p:nvPr/>
          </p:nvSpPr>
          <p:spPr>
            <a:xfrm flipV="1">
              <a:off x="6781680" y="480024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781680" y="4800600"/>
              <a:ext cx="6098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860160" y="48006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60160" y="44956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81680" y="510552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5623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k Example #5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6960" y="2209680"/>
            <a:ext cx="3701160" cy="33858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5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0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1\n");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2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h parent and child can continue for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5410080" y="4724280"/>
            <a:ext cx="457200" cy="337320"/>
            <a:chOff x="5410080" y="4724280"/>
            <a:chExt cx="457200" cy="337320"/>
          </a:xfrm>
        </p:grpSpPr>
        <p:sp>
          <p:nvSpPr>
            <p:cNvPr id="429" name=""/>
            <p:cNvSpPr/>
            <p:nvPr/>
          </p:nvSpPr>
          <p:spPr>
            <a:xfrm>
              <a:off x="5410080" y="502920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412240" y="47242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5867280" y="4343400"/>
            <a:ext cx="624960" cy="718200"/>
            <a:chOff x="5867280" y="4343400"/>
            <a:chExt cx="624960" cy="718200"/>
          </a:xfrm>
        </p:grpSpPr>
        <p:sp>
          <p:nvSpPr>
            <p:cNvPr id="432" name=""/>
            <p:cNvSpPr/>
            <p:nvPr/>
          </p:nvSpPr>
          <p:spPr>
            <a:xfrm>
              <a:off x="5945760" y="47242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867280" y="4648320"/>
              <a:ext cx="0" cy="380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867280" y="464832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869440" y="43434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67280" y="502920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6781680" y="3581280"/>
            <a:ext cx="624960" cy="718560"/>
            <a:chOff x="6781680" y="3581280"/>
            <a:chExt cx="624960" cy="718560"/>
          </a:xfrm>
        </p:grpSpPr>
        <p:sp>
          <p:nvSpPr>
            <p:cNvPr id="438" name=""/>
            <p:cNvSpPr/>
            <p:nvPr/>
          </p:nvSpPr>
          <p:spPr>
            <a:xfrm flipV="1">
              <a:off x="6781680" y="3886200"/>
              <a:ext cx="0" cy="380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860160" y="39625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81680" y="388620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42520" y="35812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781680" y="426708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6324480" y="3962520"/>
            <a:ext cx="624960" cy="718200"/>
            <a:chOff x="6324480" y="3962520"/>
            <a:chExt cx="624960" cy="718200"/>
          </a:xfrm>
        </p:grpSpPr>
        <p:sp>
          <p:nvSpPr>
            <p:cNvPr id="444" name=""/>
            <p:cNvSpPr/>
            <p:nvPr/>
          </p:nvSpPr>
          <p:spPr>
            <a:xfrm flipV="1">
              <a:off x="6324480" y="4266720"/>
              <a:ext cx="0" cy="3812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402960" y="43434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324480" y="426708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326640" y="39625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324480" y="464832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6620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exi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: Destroying Pro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void exit(int status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its a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rmally return with status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texit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egisters functions to be executed upon ex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128320" y="2971800"/>
            <a:ext cx="3884040" cy="25628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leanup(void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leaning up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6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texit(cleanup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568680" y="228600"/>
            <a:ext cx="2006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Zomb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de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process terminates, still consumes system resourc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rious tables maintained by O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ed a “zombie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ving corpse, half alive and half dea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ap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ed by parent on terminated chil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rent is given exit status inform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rnel discards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at if Parent Doesn’t Reap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any parent terminates without reaping a child, then child will be reaped b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i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need explicit reaping for long-running proc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shells and serv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160200" y="2438280"/>
            <a:ext cx="4935600" cy="3987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./forks 7 &am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[1] 663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unning Parent, PID = 663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erminating Child, PID = 664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639 ttyp9    00:00:03 fork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640 ttyp9    00:00:00 forks &lt;defunct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641 ttyp9    00:00:00 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 kill 663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[1]    Terminat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642 ttyp9    00:00:00 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200664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Zombie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52520" y="3809880"/>
            <a:ext cx="3645000" cy="263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hows child process as “defunct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illing parent allows child to be reap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14920" y="431640"/>
            <a:ext cx="5255640" cy="30776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void fork7(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f (fork() == 0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/* Child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intf("Terminating Child, PID = %d\n"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intf("Running Parent, PID = %d\n"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while (1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; /* Infinite loop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6480" y="2666880"/>
            <a:ext cx="3838320" cy="3257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./forks 8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erminating Parent, PID = 667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unning Child, PID = 667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676 ttyp9    00:00:06 fork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677 ttyp9    00:00:00 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linux&gt;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kill 667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linux&gt;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678 ttyp9    00:00:00 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3657600" cy="1617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nterminating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hild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267080" y="3733560"/>
            <a:ext cx="4330800" cy="271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hild process still active even though parent has termina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kill explicitly, or else will keep running indefinite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785040" y="380880"/>
            <a:ext cx="5362200" cy="30776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void fork8(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f (fork() == 0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/* Child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intf("Running Child, PID = %d\n"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while (1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; /* Infinite loop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intf("Terminating Parent, PID = %d\n"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05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wai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: Synchronizing with childre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int wait(int *child_status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spends current process until one of its children termina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 value is th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i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f the child process that termina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hild_statu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!= NUL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then the object it points to will be set to  a status indicating why the child process termina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6299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ltering the Control Flo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p to Now: two mechanisms for changing control flow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mps and branch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 and return using the stack disciplin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h react to changes in program stat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sufficient  for a useful syste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fficult for the CPU to react to changes in system state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ata arrives from a disk or a network adapter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struction divides by zer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r hits ctl-c at the keyboar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ystem timer expir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ystem needs mechanisms for “exceptional control flow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wai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: Synchronizing with childre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9000" y="1219320"/>
            <a:ext cx="6078600" cy="393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9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child_status;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HC: hello from child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lse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HP: hello from parent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ait(&amp;child_status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T: child has terminated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324480" y="5257800"/>
            <a:ext cx="3812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705720" y="4267080"/>
            <a:ext cx="426240" cy="1023120"/>
            <a:chOff x="6705720" y="4267080"/>
            <a:chExt cx="426240" cy="1023120"/>
          </a:xfrm>
        </p:grpSpPr>
        <p:sp>
          <p:nvSpPr>
            <p:cNvPr id="468" name=""/>
            <p:cNvSpPr/>
            <p:nvPr/>
          </p:nvSpPr>
          <p:spPr>
            <a:xfrm flipV="1">
              <a:off x="6705720" y="4571640"/>
              <a:ext cx="0" cy="685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705720" y="457200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70752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H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07520" y="42670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H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705720" y="525780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7086600" y="4267080"/>
            <a:ext cx="548640" cy="990720"/>
            <a:chOff x="7086600" y="4267080"/>
            <a:chExt cx="548640" cy="990720"/>
          </a:xfrm>
        </p:grpSpPr>
        <p:sp>
          <p:nvSpPr>
            <p:cNvPr id="474" name=""/>
            <p:cNvSpPr/>
            <p:nvPr/>
          </p:nvSpPr>
          <p:spPr>
            <a:xfrm>
              <a:off x="7088760" y="42670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86600" y="457200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86600" y="525780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7620120" y="4572000"/>
            <a:ext cx="380880" cy="685800"/>
            <a:chOff x="7620120" y="4572000"/>
            <a:chExt cx="380880" cy="685800"/>
          </a:xfrm>
        </p:grpSpPr>
        <p:sp>
          <p:nvSpPr>
            <p:cNvPr id="478" name=""/>
            <p:cNvSpPr/>
            <p:nvPr/>
          </p:nvSpPr>
          <p:spPr>
            <a:xfrm>
              <a:off x="7620120" y="457200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001000" y="4572000"/>
              <a:ext cx="0" cy="685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620120" y="525780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8001000" y="4952880"/>
            <a:ext cx="426600" cy="337320"/>
            <a:chOff x="8001000" y="4952880"/>
            <a:chExt cx="426600" cy="337320"/>
          </a:xfrm>
        </p:grpSpPr>
        <p:sp>
          <p:nvSpPr>
            <p:cNvPr id="482" name=""/>
            <p:cNvSpPr/>
            <p:nvPr/>
          </p:nvSpPr>
          <p:spPr>
            <a:xfrm>
              <a:off x="800316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001000" y="525780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8381880" y="4952880"/>
            <a:ext cx="548640" cy="337320"/>
            <a:chOff x="8381880" y="4952880"/>
            <a:chExt cx="548640" cy="337320"/>
          </a:xfrm>
        </p:grpSpPr>
        <p:sp>
          <p:nvSpPr>
            <p:cNvPr id="485" name=""/>
            <p:cNvSpPr/>
            <p:nvPr/>
          </p:nvSpPr>
          <p:spPr>
            <a:xfrm>
              <a:off x="8384040" y="4952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81880" y="525780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4978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ait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30736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multiple children completed, will take in arbitrary ord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use macros WIFEXITED and WEXITSTATUS to get information about exit statu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8600" y="1905120"/>
            <a:ext cx="8607600" cy="5031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10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id_t pid[N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child_status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(pid[i] = fork()) == 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100+i); /* Child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N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id_t wpid =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&amp;child_status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WIFEXITED(child_status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hild %d terminated with exit status %d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pid, WEXITSTATUS(child_status)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hild %d terminate abnormally\n", wpi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683160" y="228600"/>
            <a:ext cx="1777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aitpi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90520" y="838080"/>
            <a:ext cx="8307360" cy="168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aitpid(pid, &amp;status, option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wait for specific proc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rious op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13120" y="1981080"/>
            <a:ext cx="8638920" cy="448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11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id_t pid[N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child_status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(pid[i] = fork()) == 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100+i); /* Child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N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id_t wpid =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waitpi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pid[i], &amp;child_status, 0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WIFEXITED(child_status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hild %d terminated with exit status %d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pid, WEXITSTATUS(child_status)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hild %d terminated abnormally\n", wpi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416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ait/Waitpid Example Outpu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437840" y="1600200"/>
            <a:ext cx="5941440" cy="146556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65 terminated with exit status 10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64 terminated with exit status 10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63 terminated with exit status 1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62 terminated with exit status 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66 terminated with exit status 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514160" y="4343400"/>
            <a:ext cx="5941440" cy="146556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68 terminated with exit status 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69 terminated with exit status 1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70 terminated with exit status 10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71 terminated with exit status 10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72 terminated with exit status 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84720" y="1066680"/>
            <a:ext cx="332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ing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wai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fork10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8040" y="3809880"/>
            <a:ext cx="387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ing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waitpid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fork1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115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exec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: Running new program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44240" y="914040"/>
            <a:ext cx="8318520" cy="263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3315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int execl(char *path, char *arg0, char *arg1, …, 0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64008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s and runs executable a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at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with arg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rg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rg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…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85680" indent="-2048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ath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is the complete path of an executa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85680" indent="-2048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rg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becomes the name of the proc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375920" indent="-19656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ypically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rg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s either identical to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ath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or else it contains only the executable filename from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at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985680" indent="-2048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al” arguments to the executable start with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rg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etc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85680" indent="-2048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st of args is terminated by a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(char *)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argum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4008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f error, otherwise doesn’t return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143000" y="4032360"/>
            <a:ext cx="7162920" cy="228852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in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ecl("/usr/bin/cp", "cp", "foo", "bar", 0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ait(NULL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opy completed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5384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iz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cep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nts that require nonstandard control flo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ted externally (interrupts) or internally (traps and fault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s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t any given time, system has multiple active proc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one can execute at a time, thoug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process appears to have total control of processor + private memory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5384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izing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pawning Proces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or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e call, two retur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erminating Proces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e call, no retur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aping Proces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ai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aitpi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lacing Program Executed by Proc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ec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or varian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e call, (normally) no retur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686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ceptional Control Flo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3120" y="990360"/>
            <a:ext cx="8282160" cy="458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chanisms for exceptional control flow exists at all levels of a computer system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27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ow level Mechanis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ception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74160" indent="-202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hange in control flow in response to a system event (i.e.,  change in system state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ation of hardware and OS softwar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27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igher Level Mechanism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 context switc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nlocal jumps (setjmp/longjmp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lemented by either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74160" indent="-202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S software (context switch and signals)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74160" indent="-202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 language runtime library: nonlocal jump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69880"/>
            <a:ext cx="7620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ystem context for excep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96000" y="2136600"/>
            <a:ext cx="0" cy="898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260600" y="1981080"/>
            <a:ext cx="6120" cy="979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07080" y="2060640"/>
            <a:ext cx="0" cy="900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142120" y="1908000"/>
            <a:ext cx="0" cy="9003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64280" y="2973240"/>
            <a:ext cx="0" cy="898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142120" y="2973240"/>
            <a:ext cx="0" cy="898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60960" y="2973240"/>
            <a:ext cx="6120" cy="836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39960" y="3124080"/>
            <a:ext cx="0" cy="1711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1840" y="3884760"/>
            <a:ext cx="0" cy="14079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67440" y="5407200"/>
            <a:ext cx="0" cy="468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08320" y="5407200"/>
            <a:ext cx="0" cy="468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42120" y="3809880"/>
            <a:ext cx="0" cy="15843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72320" y="3657600"/>
            <a:ext cx="0" cy="17874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39960" y="4873680"/>
            <a:ext cx="0" cy="6220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5240" y="2668680"/>
            <a:ext cx="0" cy="19778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3581280"/>
            <a:ext cx="8280360" cy="3542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ocal/IO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2920" y="4443480"/>
            <a:ext cx="123012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40640" y="4417920"/>
            <a:ext cx="1027080" cy="51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38480" y="4443480"/>
            <a:ext cx="10270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DE 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19640" y="4417920"/>
            <a:ext cx="1230480" cy="49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ide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440" y="5432400"/>
            <a:ext cx="123012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8040" y="5407200"/>
            <a:ext cx="1039680" cy="51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2617920"/>
            <a:ext cx="141444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261792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terru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40360" y="4443480"/>
            <a:ext cx="10270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CS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9040" y="5267160"/>
            <a:ext cx="1965600" cy="27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CSI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48320" y="261792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ial por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50200" y="2617920"/>
            <a:ext cx="13762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rallel po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46440" y="261792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81200" y="2890800"/>
            <a:ext cx="4428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46440" y="170496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26200" y="1704960"/>
            <a:ext cx="75564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26160" y="170496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i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34120" y="1704960"/>
            <a:ext cx="9190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de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11280" y="5327640"/>
            <a:ext cx="589320" cy="634320"/>
          </a:xfrm>
          <a:prstGeom prst="flowChartMagneticDisk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81080" y="5707800"/>
            <a:ext cx="589320" cy="634320"/>
          </a:xfrm>
          <a:prstGeom prst="flowChartMagneticDisk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66680" y="5707800"/>
            <a:ext cx="948960" cy="634320"/>
          </a:xfrm>
          <a:prstGeom prst="flowChartMagneticDisk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DRO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92560" y="450720"/>
            <a:ext cx="2565360" cy="10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cep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568160"/>
            <a:ext cx="8686800" cy="109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exception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s a transfer of control to the OS in response to some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even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 (i.e., change in processor state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0240" y="2585880"/>
            <a:ext cx="1638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ser Proc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84320" y="2585880"/>
            <a:ext cx="51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94200" y="3108240"/>
            <a:ext cx="0" cy="5986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00320" y="3713040"/>
            <a:ext cx="280692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13360" y="3719520"/>
            <a:ext cx="0" cy="596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3087360" y="3782520"/>
            <a:ext cx="2832120" cy="5461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94200" y="3870360"/>
            <a:ext cx="0" cy="15127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93840" y="3386160"/>
            <a:ext cx="1156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xcep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51600" y="3659040"/>
            <a:ext cx="25272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xception process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y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xception handl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33720" y="4376880"/>
            <a:ext cx="1790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xception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return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optional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3446640"/>
            <a:ext cx="80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vent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36240" y="34290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urr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48720" y="36576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3657600"/>
            <a:ext cx="6858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rrupt Vecto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4330440" cy="25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type of event has a unique exception number 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dex into jump table (a.k.a., interrupt vector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mp table entry k points to a function (exception handler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ndler k is called each time exception k occurs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2914560"/>
            <a:ext cx="10134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terru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ect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3556080"/>
            <a:ext cx="12189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3784680"/>
            <a:ext cx="12189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4013280"/>
            <a:ext cx="12189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220760" y="3797280"/>
            <a:ext cx="1219320" cy="3175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79360" y="4076640"/>
            <a:ext cx="88920" cy="8892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6360" y="3555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7800" y="3758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7800" y="4012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04760" y="40248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4495680"/>
            <a:ext cx="12189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4640" y="44946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-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79360" y="3645000"/>
            <a:ext cx="88920" cy="8892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220760" y="2425320"/>
            <a:ext cx="1219320" cy="12574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40080" y="2425680"/>
            <a:ext cx="25891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de for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ception handler 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40080" y="3111480"/>
            <a:ext cx="25891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de for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ception handler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79360" y="3860640"/>
            <a:ext cx="88920" cy="8892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220760" y="3111120"/>
            <a:ext cx="1219320" cy="7938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40080" y="3797280"/>
            <a:ext cx="25891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de f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ception handler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40080" y="5105520"/>
            <a:ext cx="258912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de for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ception handler n-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440568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79360" y="4559400"/>
            <a:ext cx="88920" cy="8892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20760" y="4603680"/>
            <a:ext cx="1219320" cy="5018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4600" y="1584360"/>
            <a:ext cx="120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ception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umb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57200" y="2286000"/>
            <a:ext cx="380880" cy="1219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ynchronous Exceptions (Interrupts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used by events external to the process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dicated by setting the processor’s interrupt pi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ndler returns to “next” instruction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/O interrup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itting ctl-c at the keyboar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rival of a packet from a networ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rival of a data sector from a dis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reset interrup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itting the reset butt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ft reset interrup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itting ctl-alt-delete on a P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819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ynchronous Excep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used by events that occur as a result of executing an instruction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a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entiona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amples: system calls, breakpoint traps, special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s control to “next” instru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aul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intentional but possibly recoverable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amples: page faults (recoverable), protection faults (unrecoverable)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ither re-executes faulting (“current”) instruction or abort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bor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intentional and unrecovera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amples: parity error, machine check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borts current progra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34:39Z</dcterms:modified>
  <cp:revision>112</cp:revision>
  <dc:subject/>
  <dc:title>Exceptional Control Flow I</dc:title>
</cp:coreProperties>
</file>