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6ADB562-413E-46D8-A52F-4C016AC0123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n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linking of shared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symtab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mbol 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dure and static variable na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 names and lo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instructions that will need to be modified in the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for modify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pointer data that will need to be modified in the merged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ebu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 for symbolic debugging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C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2640" y="197964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88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364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9320" y="192888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4720" y="22860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rging Relocatable Object Files into an Executable Object Fi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701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0840" y="39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5486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952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000" y="542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9720" y="47862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2309760"/>
            <a:ext cx="1981080" cy="3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9720" y="29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9720" y="349092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6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0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50148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235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9092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9720" y="4024440"/>
            <a:ext cx="198108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150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9436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45576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9720" y="5243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" y="144792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840" y="14619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2271600"/>
            <a:ext cx="304560" cy="2224080"/>
          </a:xfrm>
          <a:custGeom>
            <a:avLst/>
            <a:gdLst>
              <a:gd name="textAreaLeft" fmla="*/ 0 w 304560"/>
              <a:gd name="textAreaRight" fmla="*/ 109800 w 30456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4320" y="3149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5960" y="2112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478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74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54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024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8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86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9720" y="5715000"/>
            <a:ext cx="19810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47120" y="4557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04320" y="4781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54864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nitialize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3760" y="5405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191120"/>
            <a:ext cx="12193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2193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4800240"/>
            <a:ext cx="121932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9720" y="2633760"/>
            <a:ext cx="1981080" cy="318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ocating Symbols and Resolv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re lexical entities that name functions and variab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ymbol ha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typically a memory addres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consists of symbo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finit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feren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s can be eith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7720" y="313056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9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07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6080" y="3079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3349800"/>
            <a:ext cx="2514600" cy="642600"/>
            <a:chOff x="0" y="3349800"/>
            <a:chExt cx="2514600" cy="642600"/>
          </a:xfrm>
        </p:grpSpPr>
        <p:sp>
          <p:nvSpPr>
            <p:cNvPr id="210" name=""/>
            <p:cNvSpPr/>
            <p:nvPr/>
          </p:nvSpPr>
          <p:spPr>
            <a:xfrm>
              <a:off x="0" y="33498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95280" y="3425760"/>
              <a:ext cx="1219320" cy="308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0400" y="4568760"/>
            <a:ext cx="2207880" cy="1722960"/>
            <a:chOff x="230400" y="4568760"/>
            <a:chExt cx="2207880" cy="1722960"/>
          </a:xfrm>
        </p:grpSpPr>
        <p:sp>
          <p:nvSpPr>
            <p:cNvPr id="213" name=""/>
            <p:cNvSpPr/>
            <p:nvPr/>
          </p:nvSpPr>
          <p:spPr>
            <a:xfrm>
              <a:off x="230400" y="5100480"/>
              <a:ext cx="183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ex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(defined in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ibc.so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71600" y="456876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77120" y="3719520"/>
            <a:ext cx="2519640" cy="916920"/>
            <a:chOff x="6477120" y="3719520"/>
            <a:chExt cx="2519640" cy="916920"/>
          </a:xfrm>
        </p:grpSpPr>
        <p:sp>
          <p:nvSpPr>
            <p:cNvPr id="216" name=""/>
            <p:cNvSpPr/>
            <p:nvPr/>
          </p:nvSpPr>
          <p:spPr>
            <a:xfrm>
              <a:off x="7741440" y="3719520"/>
              <a:ext cx="125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477120" y="3872880"/>
              <a:ext cx="1295280" cy="307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87640" y="3882600"/>
            <a:ext cx="1827360" cy="1799640"/>
            <a:chOff x="3887640" y="3882600"/>
            <a:chExt cx="1827360" cy="1799640"/>
          </a:xfrm>
        </p:grpSpPr>
        <p:sp>
          <p:nvSpPr>
            <p:cNvPr id="219" name=""/>
            <p:cNvSpPr/>
            <p:nvPr/>
          </p:nvSpPr>
          <p:spPr>
            <a:xfrm>
              <a:off x="3887640" y="4491000"/>
              <a:ext cx="10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572000" y="3882600"/>
              <a:ext cx="11430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67280" y="4264200"/>
            <a:ext cx="3200400" cy="1648440"/>
            <a:chOff x="5867280" y="4264200"/>
            <a:chExt cx="3200400" cy="1648440"/>
          </a:xfrm>
        </p:grpSpPr>
        <p:sp>
          <p:nvSpPr>
            <p:cNvPr id="222" name=""/>
            <p:cNvSpPr/>
            <p:nvPr/>
          </p:nvSpPr>
          <p:spPr>
            <a:xfrm>
              <a:off x="7772400" y="47214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s of local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67280" y="4264200"/>
              <a:ext cx="1905120" cy="917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19920" y="5330520"/>
            <a:ext cx="2117160" cy="1177920"/>
            <a:chOff x="6019920" y="5330520"/>
            <a:chExt cx="2117160" cy="1177920"/>
          </a:xfrm>
        </p:grpSpPr>
        <p:sp>
          <p:nvSpPr>
            <p:cNvPr id="225" name=""/>
            <p:cNvSpPr/>
            <p:nvPr/>
          </p:nvSpPr>
          <p:spPr>
            <a:xfrm>
              <a:off x="6019920" y="5865840"/>
              <a:ext cx="21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s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,x,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866640" y="5330520"/>
              <a:ext cx="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01320" y="5025600"/>
            <a:ext cx="1245960" cy="1603080"/>
            <a:chOff x="4801320" y="5025600"/>
            <a:chExt cx="1245960" cy="1603080"/>
          </a:xfrm>
        </p:grpSpPr>
        <p:sp>
          <p:nvSpPr>
            <p:cNvPr id="228" name=""/>
            <p:cNvSpPr/>
            <p:nvPr/>
          </p:nvSpPr>
          <p:spPr>
            <a:xfrm>
              <a:off x="4801320" y="5711760"/>
              <a:ext cx="124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410080" y="5025600"/>
              <a:ext cx="152640" cy="763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78280" y="4263840"/>
            <a:ext cx="1831320" cy="1784160"/>
            <a:chOff x="2078280" y="4263840"/>
            <a:chExt cx="1831320" cy="1784160"/>
          </a:xfrm>
        </p:grpSpPr>
        <p:sp>
          <p:nvSpPr>
            <p:cNvPr id="231" name=""/>
            <p:cNvSpPr/>
            <p:nvPr/>
          </p:nvSpPr>
          <p:spPr>
            <a:xfrm>
              <a:off x="2078280" y="540540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95480" y="4263840"/>
              <a:ext cx="4572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7840" y="1295280"/>
            <a:ext cx="5667120" cy="27709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main&gt;: 0000000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3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4 &lt;main+0x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4: R_386_PC32   a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: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b &lt;main+0xb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: R_386_PC32   exi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: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8320" y="4572000"/>
            <a:ext cx="3838320" cy="1310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000004"/>
                </a:solidFill>
                <a:latin typeface="Courier New"/>
              </a:rPr>
              <a:t>07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7320" y="60958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objdu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" y="129528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e=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080" y="93492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28321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56868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.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1295280"/>
            <a:ext cx="5639040" cy="447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: R_386_32     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7: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8: R_386_32     x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: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0: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: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7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4: R_386_32    y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8: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9:   c3              ret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8065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3019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477504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4240" y="1295280"/>
            <a:ext cx="5371920" cy="1797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: R_386_32     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4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: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3367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918640" cy="113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9400" y="1685880"/>
            <a:ext cx="7495920" cy="496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3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1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3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540 &lt;a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8:    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a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5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474 &lt;_init+0x9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f:    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4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1:    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c a0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1c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6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7:    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2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c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e:    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0:    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2:    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0 a3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804a3d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7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8:    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9:       c3              re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6960" y="228240"/>
            <a:ext cx="8691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1828800"/>
            <a:ext cx="3809880" cy="3501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8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8:       07 00 00 00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c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c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8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20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20:    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760" y="167652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7080" y="13161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360" y="3525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2400" y="3844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ong and Weak Symb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ymbols are either strong or wea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rocedures and 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ea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un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54120" y="3133800"/>
            <a:ext cx="155232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=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69440" y="3133800"/>
            <a:ext cx="127800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62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08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4520" y="365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3868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2440" y="3124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588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320" y="3672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320" y="3138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0020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7960" y="238140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9440" y="23875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7960" y="329580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9800" y="330192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160" y="434484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434484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4160" y="541188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8040" y="54118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3800" y="13906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5280" y="13971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1431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9904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26572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5280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’s Symbol Ru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1. A strong symbol  can only appear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2. A weak symbol  can be overridden by a strong symbol of the same na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ences to the weak symbol resolve to the strong symbo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3. If there are multiple weak symbols, the linker can pick an arbitrary on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7960" y="20289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9440" y="20350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60" y="294336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294948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160" y="399240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77840" y="399240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160" y="505944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040" y="50594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3800" y="10382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25280" y="10447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01320" y="1168560"/>
            <a:ext cx="40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ink time error: two strong symbols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73960" y="202248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ferences to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will refer to the sam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int. Is this what you really want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97360" y="3057480"/>
            <a:ext cx="35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ight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vil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240" y="4003560"/>
            <a:ext cx="34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ill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asty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5760" y="5022720"/>
            <a:ext cx="8016840" cy="1473120"/>
            <a:chOff x="635760" y="5022720"/>
            <a:chExt cx="8016840" cy="1473120"/>
          </a:xfrm>
        </p:grpSpPr>
        <p:sp>
          <p:nvSpPr>
            <p:cNvPr id="293" name=""/>
            <p:cNvSpPr/>
            <p:nvPr/>
          </p:nvSpPr>
          <p:spPr>
            <a:xfrm>
              <a:off x="635760" y="5915160"/>
              <a:ext cx="787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ightmare scenario: two identical weak structs, compiled by different compil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ith different alignment rules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760" y="5022720"/>
              <a:ext cx="474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ferences to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will refer to the same initializ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riable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09480" y="279072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84660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491328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8003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ckaging  Commonly Used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ow to package functions commonly used by programm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h, I/O, memory management, string manipulation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wkward, given the linker framework so far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1: Put all functions in a singl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link big object file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pace and time ineffici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2: Put each function in a separat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explicitly link appropriate binaries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re efficient, but burdensome on the program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atic librari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.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4"/>
                </a:solidFill>
                <a:latin typeface="Arial"/>
              </a:rPr>
              <a:t>archive fil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atenate related relocatable object files into a single file with an index (called an archive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 linker so that it tries to resolve unresolved external references by looking for the symbols in one or more archiv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an archive member file resolves reference, link into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Libraries (archive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36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8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2788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89548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86200" y="2895480"/>
            <a:ext cx="83808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2320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brary (archive) of relocatable object files concatenated into one fil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37321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(only contains code and data for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 lib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that are called from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1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2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4876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rther improves modularity and efficiency by packaging commonly used functions [e.g., C standard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, math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selectively only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in the archive that are actually needed by the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2767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55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0" y="3668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295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22400" y="266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1600" y="1295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0680" y="2666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044880"/>
            <a:ext cx="0" cy="4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7960" y="435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962520" y="2982960"/>
            <a:ext cx="12952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351648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(a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183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19810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130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6680" y="2678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16113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37348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982960"/>
            <a:ext cx="12193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2120" y="344016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 rs libc.a 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toi.o printf.o … random.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39592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51498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allows incremental update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ompile function that changes and replace .o file in archiv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 standard libr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monly Us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standard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MB archive of 900 object fi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/O, memory allocation, signal handling, string handling, data and time, random numbers, integer m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m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math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MB archive of 226 object fil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math (sin, cos, tan, log, exp, sqrt, …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5120" y="358452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c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_contro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c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ope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ca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ee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tab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359424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m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’s algorithm for resolving external referenc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n .o files and .a files in the command lin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ring the scan, keep a list of the current unresolved referenc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each new .o or .a file obj is encountered, try to resolve each unresolved reference in the list against the symbols in obj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entries in the unresolved list at end of scan, then err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and line order matte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l: put libraries at the end of the command lin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26080" y="5295960"/>
            <a:ext cx="6764400" cy="10674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libtest.o -lm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-lmine libtest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: In function `main'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(.text+0x4): undefined reference to `libfun'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ading Executable Bin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002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1981080"/>
            <a:ext cx="29718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590920"/>
            <a:ext cx="297180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text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971800"/>
            <a:ext cx="2971800" cy="3808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ata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bss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3733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1148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495680"/>
            <a:ext cx="2971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4876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257800"/>
            <a:ext cx="2971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3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3276720"/>
            <a:ext cx="19051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/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4267080"/>
            <a:ext cx="1905120" cy="6098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334120"/>
            <a:ext cx="190512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un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2743200"/>
            <a:ext cx="129564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200400"/>
            <a:ext cx="12956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581280"/>
            <a:ext cx="1295640" cy="2057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360" y="990720"/>
            <a:ext cx="26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able object fil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ample program 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2080" y="19051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im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3200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49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2286000"/>
            <a:ext cx="19051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 and shared li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g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22096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3e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1360" y="1797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rtual ad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18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0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5181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3b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ic libraries have the following disadvantage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 lots of common code in the executable files on a filesyst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every C program needs the standard C librar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lots of code in the virtual memory space of many process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or bug fixes of system libraries require each application to explicitly relin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i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dynamic link libraries, DLLs) whose members are dynamically loaded into memory and linked into an application at run-time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occur when executable is first loaded and r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mon case for Linux, handled automatically by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d-linux.s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also occur after program has beg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 Linux, this is done explicitly by user with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lopen()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sis for High-Performance Web Servers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library routines can be shared by multiple processe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ally Linked Shared Libraries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3880" y="50007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libc.s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called by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re loaded, linked, and (potentially) shared among process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3886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y of dynamically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692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77920" y="1665360"/>
            <a:ext cx="1504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 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308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9308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7640" y="1665360"/>
            <a:ext cx="15238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924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924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344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692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7344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6920" y="296064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73440" y="296064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5640" y="3943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91120" y="4343400"/>
            <a:ext cx="612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3415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90560" y="402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65760"/>
            <a:ext cx="2971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1120" y="3733920"/>
            <a:ext cx="6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4419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1120" y="5532480"/>
            <a:ext cx="0" cy="658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7360" y="5889600"/>
            <a:ext cx="2879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ully linked executa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’ (in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7080" y="4029120"/>
            <a:ext cx="32414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rtially linked executable p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8480" y="619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implistic Program Translation Sc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6800" y="4641840"/>
            <a:ext cx="7209000" cy="14655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blem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ficiency: small change requires complete recompi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ity: hard to share common functions (e.g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nker (or link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133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236232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416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548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92520" y="1752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CII source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8080" y="29718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inary 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memory image 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omplete Pi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5444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864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4700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700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4480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2352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352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060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444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3060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4440" y="2809800"/>
            <a:ext cx="76176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30600" y="28098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712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00600" y="4334040"/>
            <a:ext cx="8604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6720" y="32670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4960" y="401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4856040"/>
            <a:ext cx="4190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8640" y="3724200"/>
            <a:ext cx="61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4100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82520" y="251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whatever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136840" y="2820960"/>
            <a:ext cx="825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49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816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736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791320" y="4334040"/>
            <a:ext cx="10699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Better Scheme Using a Link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7339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10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70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98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758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7920" y="41259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4880" y="290664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parately compiled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2960" y="4189320"/>
            <a:ext cx="45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 (contains code and data for all functions defined in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the Example Program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iler driv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oordinates all steps in the translation and linking process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included with each compilation system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okes preprocesso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compi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assemb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 and link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es command line arguments to appropriate pha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create execut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040" y="4145040"/>
            <a:ext cx="8547480" cy="2014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 gcc -O2 -v -o p m.c a.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pp [args] m.c /tmp/cca07630.i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c1 /tmp/cca07630.i m.c -O2 [args] -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[args] -o /tmp/cca076301.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similar process for a.c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 -o p [system obj files] /tmp/cca076301.o /tmp/cca076302.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Does a Linker Do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rges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rges multiple relocatable (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object files into a single executable object file that can loaded and executed by the load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olves external referenc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part of the merging process, resolves external referenc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ternal referenc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reference to a symbol defined in another object fil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locates symbo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es symbols from their relative locations in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to new absolute positions in the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s all references to these symbols to reflect their new pos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ferences can be in either code or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();         /* reference to symbol a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: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p=&amp;x;  /* reference to symbol x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Linker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an be written as a collection of smaller source files, rather than one monolithic ma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uild libraries of common functions (more on this la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Math library, standard C libra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one source file, compile, and then relin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recompile other source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braries of common functions can be aggregated into a single file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t executable files and running memory images contain only code for the functions they actually us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49356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nd Linkable Format (ELF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5160" cy="39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binary format for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rives from AT&amp;T System V Uni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r adopted by BSD Unix variants and Linu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ne unified format for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Relocatable object files (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Executable object fi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Shared object files (.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s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eneric name: ELF binari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support for shared libraries than old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forma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lf hea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gic number, type (.o, exec, .so), machine, byte ordering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 header tab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size, virtual addresses memory segments (sections), segment siz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bs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tarted by Symbol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ave Space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s section header but occupies no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 Bryant and David R. O'Hallaron</dc:creator>
  <dc:description/>
  <dc:language>en-US</dc:language>
  <cp:lastModifiedBy>droh</cp:lastModifiedBy>
  <cp:lastPrinted>2001-10-04T12:22:59Z</cp:lastPrinted>
  <dcterms:modified xsi:type="dcterms:W3CDTF">2002-10-28T20:33:11Z</dcterms:modified>
  <cp:revision>358</cp:revision>
  <dc:subject/>
  <dc:title>Linking</dc:title>
</cp:coreProperties>
</file>