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AFD0DCC-90A3-4213-A738-05B2A7FA2FA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n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ic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 linking of shared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symtab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mbol 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dure and static variable nam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 names and lo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instructions that will need to be modified in the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for modify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rel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ion info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 of pointer data that will need to be modified in the merged executab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ebug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 for symbolic debugging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g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C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62640" y="197964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6588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3640" y="16095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9320" y="192888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4720" y="228600"/>
            <a:ext cx="759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rging Relocatable Object Files into an Executable Object Fi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3701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0840" y="39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5486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495288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000" y="5427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89720" y="47862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9720" y="2309760"/>
            <a:ext cx="1981080" cy="319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89720" y="29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in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89720" y="349092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(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86600" y="2057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057400"/>
            <a:ext cx="1981080" cy="533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89720" y="50148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 = &amp;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235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 = 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59092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89720" y="4024440"/>
            <a:ext cx="1981080" cy="5331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ore 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7150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9436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89720" y="45576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89720" y="5243400"/>
            <a:ext cx="1981080" cy="22860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" y="144792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840" y="146196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7120" y="2271600"/>
            <a:ext cx="304560" cy="2224080"/>
          </a:xfrm>
          <a:custGeom>
            <a:avLst/>
            <a:gdLst>
              <a:gd name="textAreaLeft" fmla="*/ 0 w 304560"/>
              <a:gd name="textAreaRight" fmla="*/ 109800 w 304560"/>
              <a:gd name="textAreaTop" fmla="*/ 57960 h 2224080"/>
              <a:gd name="textAreaBottom" fmla="*/ 2166120 h 22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104320" y="3149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5960" y="2112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24782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3741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54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024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481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86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9720" y="5715000"/>
            <a:ext cx="19810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47120" y="4557600"/>
            <a:ext cx="304560" cy="914400"/>
          </a:xfrm>
          <a:custGeom>
            <a:avLst/>
            <a:gdLst>
              <a:gd name="textAreaLeft" fmla="*/ 0 w 304560"/>
              <a:gd name="textAreaRight" fmla="*/ 109800 w 304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04320" y="4781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89720" y="5486400"/>
            <a:ext cx="1981080" cy="228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ninitialized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23760" y="5405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4191120"/>
            <a:ext cx="12193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21932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38480" y="4800240"/>
            <a:ext cx="1219320" cy="6094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89720" y="2633760"/>
            <a:ext cx="1981080" cy="31896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yste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ocating Symbols and Resolv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5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re lexical entities that name functions and variab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ymbol ha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typically a memory addres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consists of symbol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finit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ferenc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s can be eith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terna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7720" y="313056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09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0760" y="2760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06080" y="3079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3349800"/>
            <a:ext cx="2514600" cy="642600"/>
            <a:chOff x="0" y="3349800"/>
            <a:chExt cx="2514600" cy="642600"/>
          </a:xfrm>
        </p:grpSpPr>
        <p:sp>
          <p:nvSpPr>
            <p:cNvPr id="210" name=""/>
            <p:cNvSpPr/>
            <p:nvPr/>
          </p:nvSpPr>
          <p:spPr>
            <a:xfrm>
              <a:off x="0" y="334980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295280" y="3425760"/>
              <a:ext cx="1219320" cy="308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0400" y="4568760"/>
            <a:ext cx="2207880" cy="1722960"/>
            <a:chOff x="230400" y="4568760"/>
            <a:chExt cx="2207880" cy="1722960"/>
          </a:xfrm>
        </p:grpSpPr>
        <p:sp>
          <p:nvSpPr>
            <p:cNvPr id="213" name=""/>
            <p:cNvSpPr/>
            <p:nvPr/>
          </p:nvSpPr>
          <p:spPr>
            <a:xfrm>
              <a:off x="230400" y="5100480"/>
              <a:ext cx="1831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ex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(defined in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ibc.so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371600" y="456876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477120" y="3719520"/>
            <a:ext cx="2519640" cy="916920"/>
            <a:chOff x="6477120" y="3719520"/>
            <a:chExt cx="2519640" cy="916920"/>
          </a:xfrm>
        </p:grpSpPr>
        <p:sp>
          <p:nvSpPr>
            <p:cNvPr id="216" name=""/>
            <p:cNvSpPr/>
            <p:nvPr/>
          </p:nvSpPr>
          <p:spPr>
            <a:xfrm>
              <a:off x="7741440" y="3719520"/>
              <a:ext cx="1255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ter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6477120" y="3872880"/>
              <a:ext cx="1295280" cy="307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887640" y="3882600"/>
            <a:ext cx="1827360" cy="1799640"/>
            <a:chOff x="3887640" y="3882600"/>
            <a:chExt cx="1827360" cy="1799640"/>
          </a:xfrm>
        </p:grpSpPr>
        <p:sp>
          <p:nvSpPr>
            <p:cNvPr id="219" name=""/>
            <p:cNvSpPr/>
            <p:nvPr/>
          </p:nvSpPr>
          <p:spPr>
            <a:xfrm>
              <a:off x="3887640" y="4491000"/>
              <a:ext cx="104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572000" y="3882600"/>
              <a:ext cx="11430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867280" y="4264200"/>
            <a:ext cx="3200400" cy="1648440"/>
            <a:chOff x="5867280" y="4264200"/>
            <a:chExt cx="3200400" cy="1648440"/>
          </a:xfrm>
        </p:grpSpPr>
        <p:sp>
          <p:nvSpPr>
            <p:cNvPr id="222" name=""/>
            <p:cNvSpPr/>
            <p:nvPr/>
          </p:nvSpPr>
          <p:spPr>
            <a:xfrm>
              <a:off x="7772400" y="4721400"/>
              <a:ext cx="1295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s of local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and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5867280" y="4264200"/>
              <a:ext cx="1905120" cy="9172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019920" y="5330520"/>
            <a:ext cx="2117160" cy="1177920"/>
            <a:chOff x="6019920" y="5330520"/>
            <a:chExt cx="2117160" cy="1177920"/>
          </a:xfrm>
        </p:grpSpPr>
        <p:sp>
          <p:nvSpPr>
            <p:cNvPr id="225" name=""/>
            <p:cNvSpPr/>
            <p:nvPr/>
          </p:nvSpPr>
          <p:spPr>
            <a:xfrm>
              <a:off x="6019920" y="5865840"/>
              <a:ext cx="2117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s of 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s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p,x,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866640" y="5330520"/>
              <a:ext cx="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01320" y="5025600"/>
            <a:ext cx="1245960" cy="1603080"/>
            <a:chOff x="4801320" y="5025600"/>
            <a:chExt cx="1245960" cy="1603080"/>
          </a:xfrm>
        </p:grpSpPr>
        <p:sp>
          <p:nvSpPr>
            <p:cNvPr id="228" name=""/>
            <p:cNvSpPr/>
            <p:nvPr/>
          </p:nvSpPr>
          <p:spPr>
            <a:xfrm>
              <a:off x="4801320" y="5711760"/>
              <a:ext cx="124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f o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c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410080" y="5025600"/>
              <a:ext cx="152640" cy="763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78280" y="4263840"/>
            <a:ext cx="1831320" cy="1784160"/>
            <a:chOff x="2078280" y="4263840"/>
            <a:chExt cx="1831320" cy="1784160"/>
          </a:xfrm>
        </p:grpSpPr>
        <p:sp>
          <p:nvSpPr>
            <p:cNvPr id="231" name=""/>
            <p:cNvSpPr/>
            <p:nvPr/>
          </p:nvSpPr>
          <p:spPr>
            <a:xfrm>
              <a:off x="2078280" y="540540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f to external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ymbol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95480" y="4263840"/>
              <a:ext cx="457200" cy="11430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37840" y="1295280"/>
            <a:ext cx="5667120" cy="277092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main&gt;: 0000000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3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4 &lt;main+0x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4: R_386_PC32   a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: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: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fc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b &lt;main+0xb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b: R_386_PC32   exi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: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8320" y="4572000"/>
            <a:ext cx="3838320" cy="1310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000004"/>
                </a:solidFill>
                <a:latin typeface="Courier New"/>
              </a:rPr>
              <a:t>07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7320" y="6095880"/>
            <a:ext cx="182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ource: objdum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" y="129528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e=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080" y="93492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72200" y="28321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72200" y="356868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.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52680" y="1295280"/>
            <a:ext cx="5639040" cy="4474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text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: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6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: R_386_32     e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7: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8: R_386_32     x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: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: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0: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: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7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4: R_386_32    y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8: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9:   c3              ret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28065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330192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477504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.o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Relocation Info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0760" y="100008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6440" y="131904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94240" y="1295280"/>
            <a:ext cx="5371920" cy="1797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0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: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0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: R_386_32     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0000004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: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72200" y="2336760"/>
            <a:ext cx="2616120" cy="2541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3040" y="266400"/>
            <a:ext cx="8918640" cy="1135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 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x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9400" y="1685880"/>
            <a:ext cx="7495920" cy="4961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30 &lt;main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1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3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00 00 0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540 &lt;a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8:       6a 00           pushl  $0x0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a:       e8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35 ff ff ff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call   8048474 &lt;_init+0x94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3f:       90              nop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8540 &lt;a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0:       55              pushl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1:       8b 1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c a0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1c,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6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7:       a1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20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movl   0x804a02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c:       89 e5           movl   %esp,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4e:       03 02           addl   (%edx)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0:       89 ec           movl   %ebp,%es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2:       03 05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d0 a3 0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addl   0x804a3d0,%ea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7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8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8:       5d              popl   %eb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559:       c3              re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6960" y="228240"/>
            <a:ext cx="8691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fter Relocation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ternal Reference Resolution(.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data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86200" y="1828800"/>
            <a:ext cx="3809880" cy="3501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isassembly of section .data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8 &lt;e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8:       07 00 00 00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1c &lt;ep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1c: 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18 a0 04 0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804a020 &lt;x&gt;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a020:       0f 00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8760" y="1676520"/>
            <a:ext cx="2100960" cy="17398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e=7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 = a(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7080" y="131616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5360" y="3525840"/>
            <a:ext cx="59220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2400" y="3844800"/>
            <a:ext cx="2649600" cy="2562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tern int e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ep=&amp;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=15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(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*ep+x+y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ong and Weak Symb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symbols are either strong or wea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ro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rocedures and 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ea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uninitialized glob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54120" y="3133800"/>
            <a:ext cx="155232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=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69440" y="3133800"/>
            <a:ext cx="1278000" cy="11912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foo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(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562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0880" y="2763720"/>
            <a:ext cx="729360" cy="3682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54520" y="36576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3868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2440" y="3124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a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588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6320" y="36720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600200" y="388620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6320" y="313848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o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600200" y="3352680"/>
            <a:ext cx="9144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7960" y="238140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9440" y="23875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7960" y="329580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9800" y="330192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4160" y="434484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35080" y="434484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4160" y="541188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8040" y="54118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3800" y="13906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25280" y="13971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31431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419904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26572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15280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’s Symbol Ru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1. A strong symbol  can only appear on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2. A weak symbol  can be overridden by a strong symbol of the same na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ences to the weak symbol resolve to the strong symbo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ule 3. If there are multiple weak symbols, the linker can pick an arbitrary on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er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7960" y="202896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09440" y="203508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960" y="2943360"/>
            <a:ext cx="103428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9800" y="294948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4160" y="3992400"/>
            <a:ext cx="1155960" cy="8240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y=5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77840" y="3992400"/>
            <a:ext cx="127800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4160" y="5059440"/>
            <a:ext cx="115596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=7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8040" y="50594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13800" y="103824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25280" y="1044720"/>
            <a:ext cx="1034280" cy="58068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() {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01320" y="1168560"/>
            <a:ext cx="40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ink time error: two strong symbols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73960" y="2022480"/>
            <a:ext cx="451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ferences to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will refer to the sam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nitialized int. Is this what you really want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97360" y="3057480"/>
            <a:ext cx="35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ight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vil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00240" y="4003560"/>
            <a:ext cx="34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s to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in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2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ill overwrite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asty!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35760" y="5022720"/>
            <a:ext cx="8016840" cy="1473120"/>
            <a:chOff x="635760" y="5022720"/>
            <a:chExt cx="8016840" cy="1473120"/>
          </a:xfrm>
        </p:grpSpPr>
        <p:sp>
          <p:nvSpPr>
            <p:cNvPr id="293" name=""/>
            <p:cNvSpPr/>
            <p:nvPr/>
          </p:nvSpPr>
          <p:spPr>
            <a:xfrm>
              <a:off x="635760" y="5915160"/>
              <a:ext cx="7876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ightmare scenario: two identical weak structs, compiled by different compiler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ith different alignment rules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2760" y="5022720"/>
              <a:ext cx="4749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ferences to 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will refer to the same initializ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riable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609480" y="279072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84660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4913280"/>
            <a:ext cx="7696440" cy="111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1800360"/>
            <a:ext cx="76964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ckaging  Commonly Used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ow to package functions commonly used by programmers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th, I/O, memory management, string manipulation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wkward, given the linker framework so far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1: Put all functions in a singl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link big object file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pace and time ineffici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ption 2: Put each function in a separate source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grammers explicitly link appropriate binaries into their progra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re efficient, but burdensome on the programme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tatic librari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.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4"/>
                </a:solidFill>
                <a:latin typeface="Arial"/>
              </a:rPr>
              <a:t>archive file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atenate related relocatable object files into a single file with an index (called an archive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hance linker so that it tries to resolve unresolved external references by looking for the symbols in one or more archiv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 an archive member file resolves reference, link into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ic Libraries (archive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0020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6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136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90920" y="189396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27880" y="1219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27880" y="2590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2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15238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76720" y="22860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0200" y="289548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280" y="2590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886200" y="2895480"/>
            <a:ext cx="83808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23209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brary (archive) of relocatable object files concatenated into one fil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37321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(only contains code and data for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 lib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that are called from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1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p2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48769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urther improves modularity and efficiency by packaging commonly used functions [e.g., C standard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, math library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selectively only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in the archive that are actually needed by the program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52480" y="32767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5520" y="3962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54400" y="36687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eat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8080" y="1295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22400" y="2666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toi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62320" y="196992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1600" y="12952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80680" y="2666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1600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8120" y="2362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044880"/>
            <a:ext cx="0" cy="4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77960" y="4354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962520" y="2982960"/>
            <a:ext cx="12952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351648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(a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183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48320" y="19810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7600" y="13064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6680" y="26780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o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16113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34120" y="237348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71600" y="2982960"/>
            <a:ext cx="12193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172120" y="344016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 rs libc.a \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toi.o printf.o … random.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39592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514980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chiver allows incremental updates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compile function that changes and replace .o file in archiv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2520" y="4343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 standard libr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monly Us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5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standard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 MB archive of 900 object fil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/O, memory allocation, signal handling, string handling, data and time, random numbers, integer ma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ibm.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(the C math librar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MB archive of 226 object fil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math (sin, cos, tan, log, exp, sqrt, …)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5120" y="358452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c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_contro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c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ope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ca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eek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stab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84840" y="3594240"/>
            <a:ext cx="3960360" cy="30142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ar -t /usr/lib/libm.a | s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h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cos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f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asinl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tatic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41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’s algorithm for resolving external referenc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n .o files and .a files in the command lin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uring the scan, keep a list of the current unresolved referenc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each new .o or .a file obj is encountered, try to resolve each unresolved reference in the list against the symbols in obj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ny entries in the unresolved list at end of scan, then err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and line order matte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ral: put libraries at the end of the command lin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126080" y="5295960"/>
            <a:ext cx="6764400" cy="10674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libtest.o -lmin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gcc -L. -lmine libtest.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: In function `main':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btest.o(.text+0x4): undefined reference to `libfun'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ading Executable Bin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16002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1981080"/>
            <a:ext cx="2971800" cy="609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2590920"/>
            <a:ext cx="297180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text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971800"/>
            <a:ext cx="2971800" cy="38088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ata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33526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bss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3733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411480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480" y="4495680"/>
            <a:ext cx="29718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4876920"/>
            <a:ext cx="2971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9480" y="5257800"/>
            <a:ext cx="2971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83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52880" y="3276720"/>
            <a:ext cx="1905120" cy="6094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/o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952880" y="4267080"/>
            <a:ext cx="1905120" cy="60984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5334120"/>
            <a:ext cx="190512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g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uninitialized r/w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743200"/>
            <a:ext cx="129564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581280" y="3200400"/>
            <a:ext cx="129564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3581280"/>
            <a:ext cx="1295640" cy="2057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360" y="990720"/>
            <a:ext cx="263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able object file fo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ample program 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32080" y="1905120"/>
            <a:ext cx="161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 im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32004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49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2286000"/>
            <a:ext cx="19051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 and shared li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gmen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22096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83e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1360" y="1797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irtual add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34320" y="41846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0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5181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804a3b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Libra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ic libraries have the following disadvantages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 lots of common code in the executable files on a filesyst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every C program needs the standard C librar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duplicating lots of code in the virtual memory space of many process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or bug fixes of system libraries require each application to explicitly relink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lu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i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dynamic link libraries, DLLs) whose members are dynamically loaded into memory and linked into an application at run-time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occur when executable is first loaded and r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mon case for Linux, handled automatically by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d-linux.s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ynamic linking can also occur after program has begun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 Linux, this is done explicitly by user with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lopen()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sis for High-Performance Web Servers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library routines can be shared by multiple processe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ally Linked Shared Libraries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03880" y="5000760"/>
            <a:ext cx="37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libc.so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functions called by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re loaded, linked, and (potentially) shared among process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38680" y="3886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hared library of dynamically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9692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77920" y="1665360"/>
            <a:ext cx="1504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 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9308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9308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7640" y="1665360"/>
            <a:ext cx="152388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c1,a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69240" y="990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69240" y="2655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73440" y="12952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73440" y="23511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6920" y="2960640"/>
            <a:ext cx="76212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73440" y="296064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55640" y="3943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191120" y="4343400"/>
            <a:ext cx="612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49560" y="33415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90560" y="4027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865760"/>
            <a:ext cx="297180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1120" y="3733920"/>
            <a:ext cx="6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419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1120" y="5532480"/>
            <a:ext cx="0" cy="658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7360" y="5889600"/>
            <a:ext cx="2879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ully linked executa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’ (in 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7080" y="4029120"/>
            <a:ext cx="3241440" cy="7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artially linked executable p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98480" y="619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implistic Program Translation Schem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6800" y="4641840"/>
            <a:ext cx="7209000" cy="146556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blem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fficiency: small change requires complete recompil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dularity: hard to share common functions (e.g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print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tatic linker (or linke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1337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2514600"/>
            <a:ext cx="236232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74160" y="1752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95480" y="3214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8954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92520" y="1752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SCII source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18080" y="29718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Binary executable object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(memory image on dis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omplete Pi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5444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6864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4700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4700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44800" y="1808280"/>
            <a:ext cx="13716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23520" y="1133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3520" y="25052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30600" y="14382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5444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30600" y="220032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4440" y="2809800"/>
            <a:ext cx="76176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30600" y="28098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712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00600" y="4334040"/>
            <a:ext cx="8604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06720" y="326700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04960" y="4017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362320" y="4856040"/>
            <a:ext cx="4190760" cy="63756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er/Dynamic Link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ld-linux.so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08640" y="3724200"/>
            <a:ext cx="61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441000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582520" y="251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whatever.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136840" y="2820960"/>
            <a:ext cx="82548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495680" y="549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268160" y="5948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’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360" y="4029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bm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791320" y="4334040"/>
            <a:ext cx="10699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Better Scheme Using a Link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3733920"/>
            <a:ext cx="297180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ld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10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470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2351160"/>
            <a:ext cx="1523880" cy="3632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lato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99840" y="1676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75800" y="3048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.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43200" y="4419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274320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7920" y="4125960"/>
            <a:ext cx="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4880" y="290664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eparately compiled relocatable object fi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52960" y="4189320"/>
            <a:ext cx="45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able object file  (contains code and data for all functions defined in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m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a.c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335268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the Example Program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mpiler drive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oordinates all steps in the translation and linking process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included with each compilation system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okes preprocesso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p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compi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c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assembl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,  and linker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es command line arguments to appropriate phas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create executab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m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.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040" y="4145040"/>
            <a:ext cx="8547480" cy="2014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 gcc -O2 -v -o p m.c a.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pp [args] m.c /tmp/cca07630.i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c1 /tmp/cca07630.i m.c -O2 [args] -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 [args] -o /tmp/cca076301.o /tmp/cca07630.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similar process for a.c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 -o p [system obj files] /tmp/cca076301.o /tmp/cca076302.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ass&g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Does a Linker Do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rges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rges multiple relocatable (.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object files into a single executable object file that can loaded and executed by the load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olves external referenc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 part of the merging process, resolves external referenc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External referenc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: reference to a symbol defined in another object fil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locates symbol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locates symbols from their relative locations in th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iles to new absolute positions in the executabl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s all references to these symbols to reflect their new pos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ferences can be in either code or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();         /* reference to symbol a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: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*xp=&amp;x;  /* reference to symbol x */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Linker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an be written as a collection of smaller source files, rather than one monolithic ma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uild libraries of common functions (more on this lat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Math library, standard C libra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ge one source file, compile, and then relink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recompile other source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a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braries of common functions can be aggregated into a single file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et executable files and running memory images contain only code for the functions they actually us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49356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able and Linkable Format (ELF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255160" cy="399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ndard binary format for object fi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rives from AT&amp;T System V Uni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r adopted by BSD Unix variants and Linu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ne unified format for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Relocatable object files (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.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Executable object fil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Shared object files (.</a:t>
            </a:r>
            <a:r>
              <a:rPr b="1" lang="en-US" sz="1800" spc="-1" strike="noStrike">
                <a:solidFill>
                  <a:srgbClr val="000004"/>
                </a:solidFill>
                <a:latin typeface="Courier New"/>
              </a:rPr>
              <a:t>so</a:t>
            </a:r>
            <a:r>
              <a:rPr b="1" lang="en-US" sz="1800" spc="-1" strike="noStrike">
                <a:solidFill>
                  <a:srgbClr val="000004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eneric name: ELF binari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tter support for shared libraries than old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forma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F Object File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5767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lf hea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gic number, type (.o, exec, .so), machine, byte ordering, et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 header tabl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ge size, virtual addresses memory segments (sections), segment size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tex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data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.bss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sec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nitialized (static)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tarted by Symbol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ave Space”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s section header but occupies no spa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3716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LF head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752480"/>
            <a:ext cx="2971800" cy="6098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gram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execu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2362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tex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743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ata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3124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s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505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symta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388620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t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4267080"/>
            <a:ext cx="2971800" cy="38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rel.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648320"/>
            <a:ext cx="2971800" cy="3808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debu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5029200"/>
            <a:ext cx="2971800" cy="6094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ction heade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required for relocatabl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40880" y="1219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 Bryant and David R. O'Hallaron</dc:creator>
  <dc:description/>
  <dc:language>en-US</dc:language>
  <cp:lastModifiedBy>droh</cp:lastModifiedBy>
  <cp:lastPrinted>2001-10-04T12:22:59Z</cp:lastPrinted>
  <dcterms:modified xsi:type="dcterms:W3CDTF">2002-10-28T20:33:11Z</dcterms:modified>
  <cp:revision>358</cp:revision>
  <dc:subject/>
  <dc:title>Linking</dc:title>
</cp:coreProperties>
</file>