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270FF5E1-E908-4685-B0FF-CA9E8276F4E4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0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ic cache memory orga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rect mapped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associative ca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mpact of caches on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4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y Use Middle Bits as Index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6960" y="3156120"/>
            <a:ext cx="438300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High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jacent memory lines would map to same cache ent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or use of spatial localit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iddle-Order Bit Index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ecutive memory lines map to different cache lin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9360" indent="-2408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n hold C-byte region of address space in cache at one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2320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15238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18288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752480" y="21337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52480" y="2438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51240" y="10666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-line Cac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16002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410080" y="1905120"/>
            <a:ext cx="121932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220968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10080" y="2514600"/>
            <a:ext cx="121932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410080" y="28195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312408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410080" y="3429000"/>
            <a:ext cx="121932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410080" y="3733920"/>
            <a:ext cx="121932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10080" y="40384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10080" y="434340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410080" y="4648320"/>
            <a:ext cx="121932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410080" y="4952880"/>
            <a:ext cx="121932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410080" y="52578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5562720"/>
            <a:ext cx="121932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586728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10080" y="6172200"/>
            <a:ext cx="121932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258160" y="990720"/>
            <a:ext cx="14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igh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670880" y="16002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70880" y="19051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70880" y="22096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70880" y="25146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70880" y="2819520"/>
            <a:ext cx="1218960" cy="30456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70880" y="312408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70880" y="342900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70880" y="3733920"/>
            <a:ext cx="1218960" cy="30456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670880" y="403848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70880" y="4343400"/>
            <a:ext cx="12189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670880" y="4648320"/>
            <a:ext cx="1218960" cy="3045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670880" y="495288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70880" y="5257800"/>
            <a:ext cx="1218960" cy="304920"/>
          </a:xfrm>
          <a:prstGeom prst="rect">
            <a:avLst/>
          </a:prstGeom>
          <a:solidFill>
            <a:srgbClr val="ff99cc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670880" y="5562720"/>
            <a:ext cx="1218960" cy="304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670880" y="5867280"/>
            <a:ext cx="1218960" cy="3049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70880" y="6172200"/>
            <a:ext cx="1218960" cy="30492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462440" y="9907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ddle-Or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t Index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1523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19320" y="1828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9320" y="2133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219320" y="2438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7692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87692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7692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69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87692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7692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7692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7692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692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156440" y="1600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156440" y="19051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156440" y="22096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56440" y="25146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5644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15644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156440" y="34290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56440" y="37339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156440" y="40384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156440" y="4343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156440" y="4648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56440" y="49528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156440" y="5257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156440" y="5562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56440" y="58672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156440" y="6172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Courier New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more than one line per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78160" y="22096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06760" y="2314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92560" y="2314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82640" y="2452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21560" y="2209680"/>
            <a:ext cx="144360" cy="92880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28800"/>
              <a:gd name="textAreaBottom" fmla="*/ 904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24520" y="249660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2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374920" y="327672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679400" y="3519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374920" y="451008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51160" y="4752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06960" y="420516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435560" y="2314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06760" y="2695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92560" y="2695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35560" y="2695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06760" y="33814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292560" y="33814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35560" y="33814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6760" y="37623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92560" y="37623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435560" y="376236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06760" y="46004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92560" y="46004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435560" y="46004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06760" y="498168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92560" y="498168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35560" y="4981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dentical to direct-mapped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00720" y="2111400"/>
            <a:ext cx="4267080" cy="928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9320" y="21877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9320" y="25830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15120" y="21877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415120" y="25830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5200" y="23540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7480" y="3178080"/>
            <a:ext cx="4267080" cy="9288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726080" y="325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6080" y="364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11880" y="325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11880" y="36496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801960" y="34207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97480" y="4411800"/>
            <a:ext cx="4267080" cy="928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726080" y="448776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726080" y="4883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11880" y="448776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1880" y="4883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573720" y="47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329520" y="41068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6680" y="47577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534680" y="47577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17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74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1760" y="50608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460680" y="5288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-1800" y="52887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647800" y="47721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6880" y="53053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352520" y="53053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44320" y="53053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rot="16200000">
            <a:off x="1693800" y="42415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 flipV="1">
            <a:off x="1842840" y="3634920"/>
            <a:ext cx="3240" cy="1063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46440" y="3635280"/>
            <a:ext cx="179064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32200" y="333036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07000" y="2187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07000" y="2568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507000" y="32544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07000" y="363528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07000" y="447372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507000" y="485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Set Associative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compare the tag in each valid line in the selected se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114640" y="3040200"/>
            <a:ext cx="5816520" cy="925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4165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957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43240" y="35416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29040" y="35416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55292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936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1690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482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30540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11840" y="3541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26240" y="35402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421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212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36844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054240" y="31478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7848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98492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1946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737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3096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37400" y="31478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25960" y="51292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23960" y="51292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207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64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921040" y="543240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249960" y="56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25640" y="566028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437080" y="51436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96160" y="567684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41800" y="567684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33600" y="567684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95080" y="33699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2322720" y="2311200"/>
            <a:ext cx="3421800" cy="1229040"/>
            <a:chOff x="2322720" y="2311200"/>
            <a:chExt cx="3421800" cy="1229040"/>
          </a:xfrm>
        </p:grpSpPr>
        <p:sp>
          <p:nvSpPr>
            <p:cNvPr id="720" name=""/>
            <p:cNvSpPr/>
            <p:nvPr/>
          </p:nvSpPr>
          <p:spPr>
            <a:xfrm>
              <a:off x="2322720" y="232560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2460600" y="268488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2651040" y="2684880"/>
              <a:ext cx="0" cy="8553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841840" y="2311200"/>
              <a:ext cx="29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0" y="3449520"/>
            <a:ext cx="4032360" cy="1812960"/>
            <a:chOff x="0" y="3449520"/>
            <a:chExt cx="4032360" cy="1812960"/>
          </a:xfrm>
        </p:grpSpPr>
        <p:sp>
          <p:nvSpPr>
            <p:cNvPr id="725" name=""/>
            <p:cNvSpPr/>
            <p:nvPr/>
          </p:nvSpPr>
          <p:spPr>
            <a:xfrm rot="16200000">
              <a:off x="3400560" y="456192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251880" y="434916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479760" y="467028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0" y="4195080"/>
              <a:ext cx="32958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one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f the cache lines mus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atch the tag bits 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22840" y="3830400"/>
              <a:ext cx="0" cy="595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211560" y="3449520"/>
              <a:ext cx="0" cy="976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238720" y="3858840"/>
            <a:ext cx="3828960" cy="1334880"/>
            <a:chOff x="5238720" y="3858840"/>
            <a:chExt cx="3828960" cy="1334880"/>
          </a:xfrm>
        </p:grpSpPr>
        <p:sp>
          <p:nvSpPr>
            <p:cNvPr id="732" name=""/>
            <p:cNvSpPr/>
            <p:nvPr/>
          </p:nvSpPr>
          <p:spPr>
            <a:xfrm>
              <a:off x="5791320" y="4705200"/>
              <a:ext cx="0" cy="370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5238720" y="3858840"/>
              <a:ext cx="3828960" cy="1334880"/>
              <a:chOff x="5238720" y="3858840"/>
              <a:chExt cx="3828960" cy="1334880"/>
            </a:xfrm>
          </p:grpSpPr>
          <p:sp>
            <p:nvSpPr>
              <p:cNvPr id="734" name=""/>
              <p:cNvSpPr/>
              <p:nvPr/>
            </p:nvSpPr>
            <p:spPr>
              <a:xfrm rot="16200000">
                <a:off x="5718240" y="4561920"/>
                <a:ext cx="152280" cy="111132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8800 h 1111320"/>
                  <a:gd name="textAreaBottom" fmla="*/ 1082520 h 111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784840" y="4699080"/>
                <a:ext cx="3175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165720" y="4093560"/>
                <a:ext cx="290196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(3) If (1) and (2), then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cache hit, an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block  offset selects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tarting byte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102360" y="3858840"/>
                <a:ext cx="0" cy="839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8" name=""/>
          <p:cNvSpPr/>
          <p:nvPr/>
        </p:nvSpPr>
        <p:spPr>
          <a:xfrm>
            <a:off x="5445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241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8136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878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1978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770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3420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40640" y="281304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-Level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ons: separat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struction caches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, or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fied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40480" y="4191120"/>
            <a:ext cx="1068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peed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/Mbyt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ine siz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600560" y="4191120"/>
            <a:ext cx="77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00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895840" y="4191120"/>
            <a:ext cx="100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-64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 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639040" y="4191120"/>
            <a:ext cx="17038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28 MB D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0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.5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 K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67480" y="4191120"/>
            <a:ext cx="1158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0 G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8 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0.05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5791320"/>
            <a:ext cx="6410160" cy="0"/>
          </a:xfrm>
          <a:prstGeom prst="line">
            <a:avLst/>
          </a:prstGeom>
          <a:ln w="507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15040" y="53118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rger, slower, cheap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544760" y="2243160"/>
            <a:ext cx="2197080" cy="17254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741760" y="3670200"/>
            <a:ext cx="93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45240" y="2305080"/>
            <a:ext cx="963360" cy="15717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27440" y="241920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33400" y="2471760"/>
            <a:ext cx="650880" cy="4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287960" y="2281320"/>
            <a:ext cx="801720" cy="1633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ifi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29160" y="2550960"/>
            <a:ext cx="658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52920" y="368316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05520" y="3095640"/>
            <a:ext cx="6220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789600" y="3086280"/>
            <a:ext cx="7588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90880" y="2550960"/>
            <a:ext cx="1208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14800" y="4191120"/>
            <a:ext cx="1577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-4MB SRA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 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$100/M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2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84280" y="2703600"/>
            <a:ext cx="443160" cy="0"/>
          </a:xfrm>
          <a:prstGeom prst="line">
            <a:avLst/>
          </a:prstGeom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836800" y="3209760"/>
            <a:ext cx="801720" cy="66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-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67480" y="2792520"/>
            <a:ext cx="1328760" cy="596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1612800" y="1447920"/>
            <a:ext cx="3187800" cy="309852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cessor Chi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tel Pentium Cache Hierarch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08440" y="1752480"/>
            <a:ext cx="14983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 cycle latenc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through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679840" y="3352680"/>
            <a:ext cx="1498320" cy="812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1 Instru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6 KB, 4-wa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765440" y="1981080"/>
            <a:ext cx="583920" cy="12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374920" y="21970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374920" y="2654280"/>
            <a:ext cx="50796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1905120"/>
            <a:ext cx="127008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2 Unifi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28KB--2 M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4-way asso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-b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ite allocat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32B lin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934320" y="1905120"/>
            <a:ext cx="1269720" cy="233676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 to 4G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432320" y="250200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03720" y="3797280"/>
            <a:ext cx="8128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3035160"/>
            <a:ext cx="584280" cy="0"/>
          </a:xfrm>
          <a:prstGeom prst="line">
            <a:avLst/>
          </a:prstGeom>
          <a:ln w="255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Performance Metr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action of memory references not found in cache (misses/referenc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10%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quite small (e.g., &lt; 1%) for L2, depending on size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it Tim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to deliver a line in the cache to the processor (includes time to determine whether the line is in the cache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ypical numbers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 clock cycle for L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8 clock cycles for L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Penal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al time required because of a mi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25-100 cycles for mai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Cache Friendly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peated references to variables are good (tempor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ride-1 reference patterns are good (spatial locality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d cache, 4-byte words, 4-word cache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4360" y="357516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row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83680" y="3597120"/>
            <a:ext cx="3960000" cy="228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umarraycols(int a[M][N]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j, sum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 = 0; j &lt; N; j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M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6968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411520" y="5958000"/>
            <a:ext cx="14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ss rate =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171880" y="5985000"/>
            <a:ext cx="1536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/4 = 25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751080" y="5985000"/>
            <a:ext cx="67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ad throughput (read bandwidth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umber of bytes read from memory per second (MB/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 mountai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read throughput as a function of spatial and temporal localit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act way to characterize memory system performance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Test Fun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19320" y="1434960"/>
            <a:ext cx="8638920" cy="48870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The test function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id test(int elems, int stride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i, result = 0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volatile int sink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i = 0; i &lt; elems; i += stride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sult += data[i]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sink = result; /* So compiler doesn't optimize away the loop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Run test(elems, stride) and return read throughput (MB/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run(int size, int stride, double Mhz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cycles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elems = size / sizeof(int);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test(elems, stride);                     /* warm up the cache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cycles = fcyc2(test, elems, stride, 0);  /* call test(elems,stride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return (size / stride) / (cycles / Mhz); /* convert cycles to MB/s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433872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ache Mem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6680" y="102708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che memories are small, fast SRAM-based memories managed automatically in hardware.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 frequently accessed blocks of mai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U looks first for data in L1, then in L2, then in main memor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ypical bus structur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889760" y="5500800"/>
            <a:ext cx="819360" cy="823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5637240"/>
            <a:ext cx="1344600" cy="480960"/>
          </a:xfrm>
          <a:prstGeom prst="leftRightArrow">
            <a:avLst>
              <a:gd name="adj1" fmla="val 50000"/>
              <a:gd name="adj2" fmla="val 55654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92680" y="5665680"/>
            <a:ext cx="81936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/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79760" y="5637240"/>
            <a:ext cx="1309680" cy="480960"/>
          </a:xfrm>
          <a:prstGeom prst="leftRightArrow">
            <a:avLst>
              <a:gd name="adj1" fmla="val 50000"/>
              <a:gd name="adj2" fmla="val 54209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68680" y="5665680"/>
            <a:ext cx="1687320" cy="5209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s interfa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4160" y="447048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460836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474516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94160" y="4883040"/>
            <a:ext cx="615960" cy="13680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5019840"/>
            <a:ext cx="615960" cy="1378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470480"/>
            <a:ext cx="399960" cy="342720"/>
          </a:xfrm>
          <a:prstGeom prst="rightArrow">
            <a:avLst>
              <a:gd name="adj1" fmla="val 50000"/>
              <a:gd name="adj2" fmla="val 29175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109400" y="4813200"/>
            <a:ext cx="399960" cy="344520"/>
          </a:xfrm>
          <a:prstGeom prst="rightArrow">
            <a:avLst>
              <a:gd name="adj1" fmla="val 50000"/>
              <a:gd name="adj2" fmla="val 2902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01920" y="5637240"/>
            <a:ext cx="1166760" cy="480960"/>
          </a:xfrm>
          <a:prstGeom prst="leftRightArrow">
            <a:avLst>
              <a:gd name="adj1" fmla="val 50000"/>
              <a:gd name="adj2" fmla="val 48293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665680"/>
            <a:ext cx="887400" cy="520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2 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1080" y="4334040"/>
            <a:ext cx="479520" cy="9601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81320" y="416520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60760" y="5226120"/>
            <a:ext cx="549360" cy="41112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32240" y="4127400"/>
            <a:ext cx="2676240" cy="2197080"/>
          </a:xfrm>
          <a:prstGeom prst="rect">
            <a:avLst/>
          </a:prstGeom>
          <a:noFill/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91480" y="383652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PU chi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73880" y="50032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69960" y="5294160"/>
            <a:ext cx="41292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00560" y="500328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ystem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070240" y="5294160"/>
            <a:ext cx="61884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9280" y="50032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 b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30880" y="5294160"/>
            <a:ext cx="0" cy="4129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8680" y="4567320"/>
            <a:ext cx="657000" cy="520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1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36720" y="5087880"/>
            <a:ext cx="549360" cy="549360"/>
          </a:xfrm>
          <a:prstGeom prst="upDownArrow">
            <a:avLst>
              <a:gd name="adj1" fmla="val 50000"/>
              <a:gd name="adj2" fmla="val 19907"/>
            </a:avLst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Mountain Main Rout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18960" y="1025640"/>
            <a:ext cx="8524800" cy="534348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/* mountain.c - Generate the memory mountain.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INBYTES (1 &lt;&lt; 10)  /* Working set size ranges from 1 K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BYTES (1 &lt;&lt; 23)  /* ... up to 8 MB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STRIDE 16        /* Strides range from 1 to 16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#define MAXELEMS MAXBYTES/sizeof(int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data[MAXELEMS];         /* The array we'll be traversing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ize;        /* Working set size (in byte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t stride;      /* Stride (in array elements)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double Mhz;      /*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init_data(data, MAXELEMS); /* Initialize each element in data to 1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Mhz = mhz(0);              /* Estimate the clock frequency */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ize = MAXBYTES; size &gt;= MINBYTES; size &gt;&gt;= 1) {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for (stride = 1; stride &lt;= MAXSTRIDE; stride++) 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%.1f\t", run(size, stride, Mhz));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printf("\n"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Memory Mountai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799" name=""/>
          <p:cNvGraphicFramePr/>
          <p:nvPr/>
        </p:nvGraphicFramePr>
        <p:xfrm>
          <a:off x="222120" y="1087560"/>
          <a:ext cx="868068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120" y="1087560"/>
                    <a:ext cx="86806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dges of Tempor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the memory mountain with stride=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lluminates read throughputs of different caches and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1219320" y="2371680"/>
          <a:ext cx="651816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71680"/>
                    <a:ext cx="651816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lope of Spatial Loc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lice through memory mountain with size=256K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ws cache block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644400" y="2057400"/>
          <a:ext cx="651852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400" y="2057400"/>
                    <a:ext cx="65185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ajor Cache Effects to Consider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tal cache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temporal locality and keep the working set small (e.g., by using blocking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siz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loit spatial local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scriptio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ply N x N matri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(N3) total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cces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reads per source elemen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 values summed per destinatio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t may be able to hold in register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70320" y="2751120"/>
            <a:ext cx="4492800" cy="2527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um += a[i][k] * b[k][j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88040" y="2714760"/>
            <a:ext cx="1676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Variable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held in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6248160" y="3733920"/>
            <a:ext cx="144756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7695720" y="3276720"/>
            <a:ext cx="228600" cy="4442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s Rate Analysis for Matrix Multipl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ume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 size = 32B (big enough for 4 64-bit word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trix dimension (N) is very lar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proximate 1/N as 0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 is not even big enough to hold multiple row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alysis Method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at access pattern of inner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867280" y="525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814400" y="4367160"/>
            <a:ext cx="1068480" cy="1307880"/>
            <a:chOff x="1814400" y="4367160"/>
            <a:chExt cx="1068480" cy="1307880"/>
          </a:xfrm>
        </p:grpSpPr>
        <p:sp>
          <p:nvSpPr>
            <p:cNvPr id="819" name=""/>
            <p:cNvSpPr/>
            <p:nvPr/>
          </p:nvSpPr>
          <p:spPr>
            <a:xfrm>
              <a:off x="213984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7160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2146320" y="4367160"/>
              <a:ext cx="736560" cy="302040"/>
              <a:chOff x="2146320" y="4367160"/>
              <a:chExt cx="736560" cy="302040"/>
            </a:xfrm>
          </p:grpSpPr>
          <p:sp>
            <p:nvSpPr>
              <p:cNvPr id="822" name=""/>
              <p:cNvSpPr/>
              <p:nvPr/>
            </p:nvSpPr>
            <p:spPr>
              <a:xfrm>
                <a:off x="214632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271240" y="4367160"/>
                <a:ext cx="280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1814400" y="4737240"/>
              <a:ext cx="221040" cy="736560"/>
              <a:chOff x="1814400" y="4737240"/>
              <a:chExt cx="221040" cy="736560"/>
            </a:xfrm>
          </p:grpSpPr>
          <p:sp>
            <p:nvSpPr>
              <p:cNvPr id="825" name=""/>
              <p:cNvSpPr/>
              <p:nvPr/>
            </p:nvSpPr>
            <p:spPr>
              <a:xfrm>
                <a:off x="192420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81440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7" name=""/>
          <p:cNvGrpSpPr/>
          <p:nvPr/>
        </p:nvGrpSpPr>
        <p:grpSpPr>
          <a:xfrm>
            <a:off x="3566520" y="4367160"/>
            <a:ext cx="992880" cy="1307880"/>
            <a:chOff x="3566520" y="4367160"/>
            <a:chExt cx="992880" cy="1307880"/>
          </a:xfrm>
        </p:grpSpPr>
        <p:sp>
          <p:nvSpPr>
            <p:cNvPr id="828" name=""/>
            <p:cNvSpPr/>
            <p:nvPr/>
          </p:nvSpPr>
          <p:spPr>
            <a:xfrm>
              <a:off x="38926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024440" y="53118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3566520" y="4737240"/>
              <a:ext cx="271440" cy="736560"/>
              <a:chOff x="3566520" y="4737240"/>
              <a:chExt cx="271440" cy="736560"/>
            </a:xfrm>
          </p:grpSpPr>
          <p:sp>
            <p:nvSpPr>
              <p:cNvPr id="831" name=""/>
              <p:cNvSpPr/>
              <p:nvPr/>
            </p:nvSpPr>
            <p:spPr>
              <a:xfrm>
                <a:off x="36766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566520" y="4824360"/>
                <a:ext cx="27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822840" y="4367160"/>
              <a:ext cx="736560" cy="302040"/>
              <a:chOff x="3822840" y="4367160"/>
              <a:chExt cx="736560" cy="302040"/>
            </a:xfrm>
          </p:grpSpPr>
          <p:sp>
            <p:nvSpPr>
              <p:cNvPr id="834" name=""/>
              <p:cNvSpPr/>
              <p:nvPr/>
            </p:nvSpPr>
            <p:spPr>
              <a:xfrm>
                <a:off x="382284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947400" y="4367160"/>
                <a:ext cx="2318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6" name=""/>
          <p:cNvGrpSpPr/>
          <p:nvPr/>
        </p:nvGrpSpPr>
        <p:grpSpPr>
          <a:xfrm>
            <a:off x="5396040" y="4367160"/>
            <a:ext cx="1068120" cy="1106640"/>
            <a:chOff x="5396040" y="4367160"/>
            <a:chExt cx="1068120" cy="1106640"/>
          </a:xfrm>
        </p:grpSpPr>
        <p:sp>
          <p:nvSpPr>
            <p:cNvPr id="837" name=""/>
            <p:cNvSpPr/>
            <p:nvPr/>
          </p:nvSpPr>
          <p:spPr>
            <a:xfrm>
              <a:off x="5721480" y="4730760"/>
              <a:ext cx="596880" cy="520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5396040" y="4737240"/>
              <a:ext cx="221040" cy="736560"/>
              <a:chOff x="5396040" y="4737240"/>
              <a:chExt cx="221040" cy="736560"/>
            </a:xfrm>
          </p:grpSpPr>
          <p:sp>
            <p:nvSpPr>
              <p:cNvPr id="839" name=""/>
              <p:cNvSpPr/>
              <p:nvPr/>
            </p:nvSpPr>
            <p:spPr>
              <a:xfrm>
                <a:off x="5505480" y="4737240"/>
                <a:ext cx="0" cy="73656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6040" y="48243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5727600" y="4367160"/>
              <a:ext cx="736560" cy="302040"/>
              <a:chOff x="5727600" y="4367160"/>
              <a:chExt cx="736560" cy="302040"/>
            </a:xfrm>
          </p:grpSpPr>
          <p:sp>
            <p:nvSpPr>
              <p:cNvPr id="842" name=""/>
              <p:cNvSpPr/>
              <p:nvPr/>
            </p:nvSpPr>
            <p:spPr>
              <a:xfrm>
                <a:off x="5727600" y="4495680"/>
                <a:ext cx="73656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53240" y="4367160"/>
                <a:ext cx="2210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ayout of C Arrays in Memory (review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 arrays allocated in row-major ord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row in contiguous memory loc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columns in one row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0][i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successive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block size (B) &gt; 4 bytes, exploit spatial local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4 bytes /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epping through rows in one column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9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um += a[i][0]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esses distant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spatial locality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lsory miss rate = 1 (i.e. 100%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27040" y="1765440"/>
            <a:ext cx="44928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j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9288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11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854840" y="25876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62464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43600" y="31687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986600" y="31687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934320" y="2593800"/>
            <a:ext cx="0" cy="508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99000" y="29624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81840" y="27874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691320" y="22543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13600" y="28987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34320" y="255888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96760" y="179712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6435000" y="3592440"/>
            <a:ext cx="1042560" cy="1301040"/>
            <a:chOff x="6435000" y="3592440"/>
            <a:chExt cx="1042560" cy="1301040"/>
          </a:xfrm>
        </p:grpSpPr>
        <p:sp>
          <p:nvSpPr>
            <p:cNvPr id="862" name=""/>
            <p:cNvSpPr/>
            <p:nvPr/>
          </p:nvSpPr>
          <p:spPr>
            <a:xfrm>
              <a:off x="6435000" y="4255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V="1">
              <a:off x="699120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14600" y="4255920"/>
            <a:ext cx="116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-wis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772240" y="35924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7590240" y="3592440"/>
            <a:ext cx="739080" cy="1026720"/>
            <a:chOff x="7590240" y="3592440"/>
            <a:chExt cx="739080" cy="1026720"/>
          </a:xfrm>
        </p:grpSpPr>
        <p:sp>
          <p:nvSpPr>
            <p:cNvPr id="867" name=""/>
            <p:cNvSpPr/>
            <p:nvPr/>
          </p:nvSpPr>
          <p:spPr>
            <a:xfrm>
              <a:off x="7590240" y="42559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8147160" y="3592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90520" y="4964040"/>
            <a:ext cx="50734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i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99880" y="1779480"/>
            <a:ext cx="4721400" cy="283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ik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su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56884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88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31160" y="265428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70060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919920" y="323532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139240" y="32353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010280" y="2660760"/>
            <a:ext cx="0" cy="50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575320" y="302904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157800" y="285444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67640" y="232092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89920" y="29653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910640" y="2625840"/>
            <a:ext cx="498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549040" y="17874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5333760" y="3803760"/>
            <a:ext cx="1168920" cy="1027080"/>
            <a:chOff x="5333760" y="3803760"/>
            <a:chExt cx="1168920" cy="1027080"/>
          </a:xfrm>
        </p:grpSpPr>
        <p:sp>
          <p:nvSpPr>
            <p:cNvPr id="886" name=""/>
            <p:cNvSpPr/>
            <p:nvPr/>
          </p:nvSpPr>
          <p:spPr>
            <a:xfrm>
              <a:off x="5333760" y="44676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589104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536520" y="3803760"/>
            <a:ext cx="1042560" cy="1301400"/>
            <a:chOff x="6536520" y="3803760"/>
            <a:chExt cx="1042560" cy="1301400"/>
          </a:xfrm>
        </p:grpSpPr>
        <p:sp>
          <p:nvSpPr>
            <p:cNvPr id="889" name=""/>
            <p:cNvSpPr/>
            <p:nvPr/>
          </p:nvSpPr>
          <p:spPr>
            <a:xfrm>
              <a:off x="6536520" y="44676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7093080" y="38037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7666200" y="3811680"/>
            <a:ext cx="739080" cy="1027080"/>
            <a:chOff x="7666200" y="3811680"/>
            <a:chExt cx="739080" cy="1027080"/>
          </a:xfrm>
        </p:grpSpPr>
        <p:sp>
          <p:nvSpPr>
            <p:cNvPr id="892" name=""/>
            <p:cNvSpPr/>
            <p:nvPr/>
          </p:nvSpPr>
          <p:spPr>
            <a:xfrm>
              <a:off x="7666200" y="44755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8223120" y="381168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i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2520" y="1770120"/>
            <a:ext cx="4263840" cy="301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i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2434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11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14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075640" y="3459240"/>
            <a:ext cx="739080" cy="1026720"/>
            <a:chOff x="5075640" y="3459240"/>
            <a:chExt cx="739080" cy="1026720"/>
          </a:xfrm>
        </p:grpSpPr>
        <p:sp>
          <p:nvSpPr>
            <p:cNvPr id="917" name=""/>
            <p:cNvSpPr/>
            <p:nvPr/>
          </p:nvSpPr>
          <p:spPr>
            <a:xfrm>
              <a:off x="5075640" y="4122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5632560" y="34592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erting an L1 Cache  Between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e CPU and Main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0080" y="2590920"/>
            <a:ext cx="1066680" cy="838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0080" y="4038480"/>
            <a:ext cx="1066680" cy="2438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6040" y="13716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6040" y="1523880"/>
            <a:ext cx="380880" cy="1526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167652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6040" y="1828800"/>
            <a:ext cx="380880" cy="1522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86040" y="4191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 b c 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7600" y="419076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86040" y="4952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 q 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55000" y="4952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2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14640" y="52567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14640" y="449460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86040" y="5715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 x y z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7600" y="571464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block 3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35520" y="60188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6640" y="4755960"/>
            <a:ext cx="300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big slow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many 4-wor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57160" y="2664720"/>
            <a:ext cx="36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mall fast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1 cach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r two  4-word block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28280" y="1371240"/>
            <a:ext cx="38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iny, very fast CPU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as room for four 4-byte wor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86040" y="26668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86040" y="304812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43240" y="1981080"/>
            <a:ext cx="0" cy="6098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43240" y="3429000"/>
            <a:ext cx="0" cy="6094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137160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2590920"/>
            <a:ext cx="304560" cy="838080"/>
          </a:xfrm>
          <a:custGeom>
            <a:avLst/>
            <a:gdLst>
              <a:gd name="textAreaLeft" fmla="*/ 0 w 304560"/>
              <a:gd name="textAreaRight" fmla="*/ 10980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038480"/>
            <a:ext cx="304560" cy="2438640"/>
          </a:xfrm>
          <a:custGeom>
            <a:avLst/>
            <a:gdLst>
              <a:gd name="textAreaLeft" fmla="*/ 0 w 304560"/>
              <a:gd name="textAreaRight" fmla="*/ 109800 w 30456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65840" y="166068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280" y="3254040"/>
            <a:ext cx="278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and ma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y is a 4-word b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16 bytes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760" y="1740960"/>
            <a:ext cx="308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ransfer unit betwe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PU register file an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cache is a 4-byte block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48120" y="1981080"/>
            <a:ext cx="304560" cy="533520"/>
          </a:xfrm>
          <a:custGeom>
            <a:avLst/>
            <a:gdLst>
              <a:gd name="textAreaLeft" fmla="*/ 360 w 304560"/>
              <a:gd name="textAreaRight" fmla="*/ 110160 w 3045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48120" y="3429000"/>
            <a:ext cx="304560" cy="609480"/>
          </a:xfrm>
          <a:custGeom>
            <a:avLst/>
            <a:gdLst>
              <a:gd name="textAreaLeft" fmla="*/ 360 w 304560"/>
              <a:gd name="textAreaRight" fmla="*/ 11016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13840" y="263484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3840" y="30157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line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ikj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90680" y="1757520"/>
            <a:ext cx="43146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ikj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a[i][k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r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34024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55956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28120" y="2378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7200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691320" y="2959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35840" y="2959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317080" y="25779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734240" y="2752560"/>
            <a:ext cx="584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423040" y="27655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272200" y="234936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i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148520" y="23493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*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566040" y="2523960"/>
            <a:ext cx="583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83800" y="18162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6324480" y="3450960"/>
            <a:ext cx="1168920" cy="1027080"/>
            <a:chOff x="6324480" y="3450960"/>
            <a:chExt cx="1168920" cy="1027080"/>
          </a:xfrm>
        </p:grpSpPr>
        <p:sp>
          <p:nvSpPr>
            <p:cNvPr id="936" name=""/>
            <p:cNvSpPr/>
            <p:nvPr/>
          </p:nvSpPr>
          <p:spPr>
            <a:xfrm>
              <a:off x="6324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6881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7467480" y="3450960"/>
            <a:ext cx="1168920" cy="1027080"/>
            <a:chOff x="7467480" y="3450960"/>
            <a:chExt cx="1168920" cy="1027080"/>
          </a:xfrm>
        </p:grpSpPr>
        <p:sp>
          <p:nvSpPr>
            <p:cNvPr id="939" name=""/>
            <p:cNvSpPr/>
            <p:nvPr/>
          </p:nvSpPr>
          <p:spPr>
            <a:xfrm>
              <a:off x="7467480" y="4114800"/>
              <a:ext cx="116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ow-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8024760" y="34509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227920" y="4122720"/>
            <a:ext cx="73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x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5632560" y="3459240"/>
            <a:ext cx="0" cy="6271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4600" y="4869000"/>
            <a:ext cx="51940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jk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66640" y="1766880"/>
            <a:ext cx="435312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jk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34024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5595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72812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7200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913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93584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65648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692760" y="3006720"/>
            <a:ext cx="51120" cy="50760"/>
          </a:xfrm>
          <a:prstGeom prst="rect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47532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6968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80392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88688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52276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106240" y="3679560"/>
            <a:ext cx="1106640" cy="1301400"/>
            <a:chOff x="5106240" y="3679560"/>
            <a:chExt cx="1106640" cy="1301400"/>
          </a:xfrm>
        </p:grpSpPr>
        <p:sp>
          <p:nvSpPr>
            <p:cNvPr id="960" name=""/>
            <p:cNvSpPr/>
            <p:nvPr/>
          </p:nvSpPr>
          <p:spPr>
            <a:xfrm>
              <a:off x="5106240" y="4343400"/>
              <a:ext cx="11066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 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566244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7468560" y="3679560"/>
            <a:ext cx="1042560" cy="1301400"/>
            <a:chOff x="7468560" y="3679560"/>
            <a:chExt cx="1042560" cy="1301400"/>
          </a:xfrm>
        </p:grpSpPr>
        <p:sp>
          <p:nvSpPr>
            <p:cNvPr id="963" name=""/>
            <p:cNvSpPr/>
            <p:nvPr/>
          </p:nvSpPr>
          <p:spPr>
            <a:xfrm>
              <a:off x="7468560" y="434340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8024760" y="3679560"/>
              <a:ext cx="0" cy="626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370920" y="3687840"/>
            <a:ext cx="739080" cy="1026720"/>
            <a:chOff x="6370920" y="3687840"/>
            <a:chExt cx="739080" cy="1026720"/>
          </a:xfrm>
        </p:grpSpPr>
        <p:sp>
          <p:nvSpPr>
            <p:cNvPr id="966" name=""/>
            <p:cNvSpPr/>
            <p:nvPr/>
          </p:nvSpPr>
          <p:spPr>
            <a:xfrm>
              <a:off x="6370920" y="43513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6927840" y="36878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44600" y="4869000"/>
            <a:ext cx="481320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trix Multiplication (kji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17400" y="1782720"/>
            <a:ext cx="4518000" cy="251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  <a:effectLst>
            <a:outerShdw dist="107932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kji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=0; k&lt;n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0; j&lt;n; j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 =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a[i][k] * r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5776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877080" y="26067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8045280" y="2606760"/>
            <a:ext cx="59724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78952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08840" y="31878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8253360" y="31878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974000" y="227340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010280" y="3006720"/>
            <a:ext cx="50760" cy="50760"/>
          </a:xfrm>
          <a:prstGeom prst="rect">
            <a:avLst/>
          </a:prstGeom>
          <a:solidFill>
            <a:srgbClr val="000066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2840" y="2590920"/>
            <a:ext cx="5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k,j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87200" y="1828800"/>
            <a:ext cx="1258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ner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6121440" y="26002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8204040" y="2612880"/>
            <a:ext cx="0" cy="533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840280" y="227340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*,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6599520" y="3573360"/>
            <a:ext cx="739080" cy="1026720"/>
            <a:chOff x="6599520" y="3573360"/>
            <a:chExt cx="739080" cy="1026720"/>
          </a:xfrm>
        </p:grpSpPr>
        <p:sp>
          <p:nvSpPr>
            <p:cNvPr id="985" name=""/>
            <p:cNvSpPr/>
            <p:nvPr/>
          </p:nvSpPr>
          <p:spPr>
            <a:xfrm>
              <a:off x="6599520" y="423684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ix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156440" y="357336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5411160" y="3565440"/>
            <a:ext cx="1042560" cy="1301040"/>
            <a:chOff x="5411160" y="3565440"/>
            <a:chExt cx="1042560" cy="1301040"/>
          </a:xfrm>
        </p:grpSpPr>
        <p:sp>
          <p:nvSpPr>
            <p:cNvPr id="988" name=""/>
            <p:cNvSpPr/>
            <p:nvPr/>
          </p:nvSpPr>
          <p:spPr>
            <a:xfrm>
              <a:off x="5411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5967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7697160" y="3565440"/>
            <a:ext cx="1042560" cy="1301040"/>
            <a:chOff x="7697160" y="3565440"/>
            <a:chExt cx="1042560" cy="1301040"/>
          </a:xfrm>
        </p:grpSpPr>
        <p:sp>
          <p:nvSpPr>
            <p:cNvPr id="991" name=""/>
            <p:cNvSpPr/>
            <p:nvPr/>
          </p:nvSpPr>
          <p:spPr>
            <a:xfrm>
              <a:off x="7697160" y="4228920"/>
              <a:ext cx="1042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olumn-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is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8253360" y="3565440"/>
              <a:ext cx="0" cy="6271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44600" y="4869000"/>
            <a:ext cx="4965480" cy="12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23920" indent="-223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Misses per Inner Loop Itera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60520" indent="-2224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971640"/>
                <a:tab algn="ctr" pos="2343240"/>
                <a:tab algn="ctr" pos="365760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 of Matrix Multiplic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0880" y="2666880"/>
            <a:ext cx="266724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76560" y="137160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00400" y="2666880"/>
            <a:ext cx="2362320" cy="2785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638680" y="2666880"/>
            <a:ext cx="2438640" cy="257256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9674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82080" y="137160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66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Matrix 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-360" y="1220760"/>
            <a:ext cx="893124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iss rates are helpful but not perfect predictor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scheduling matters, too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03" name=""/>
          <p:cNvGraphicFramePr/>
          <p:nvPr/>
        </p:nvGraphicFramePr>
        <p:xfrm>
          <a:off x="835200" y="2158920"/>
          <a:ext cx="8308800" cy="57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158920"/>
                    <a:ext cx="8308800" cy="57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roving Temporal Locality by Block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: Blocked matrix multiplic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lock” (in this context) does not mean “cache block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ead, it mean a sub-block within the matrix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N = 8; sub-block size =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031760" y="5072040"/>
            <a:ext cx="4897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= 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+ A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00008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A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928800" y="3060720"/>
            <a:ext cx="215280" cy="838080"/>
            <a:chOff x="928800" y="3060720"/>
            <a:chExt cx="215280" cy="838080"/>
          </a:xfrm>
        </p:grpSpPr>
        <p:sp>
          <p:nvSpPr>
            <p:cNvPr id="1010" name=""/>
            <p:cNvSpPr/>
            <p:nvPr/>
          </p:nvSpPr>
          <p:spPr>
            <a:xfrm>
              <a:off x="92880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94104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4104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1842840" y="3060720"/>
            <a:ext cx="228960" cy="838080"/>
            <a:chOff x="1842840" y="3060720"/>
            <a:chExt cx="228960" cy="838080"/>
          </a:xfrm>
        </p:grpSpPr>
        <p:sp>
          <p:nvSpPr>
            <p:cNvPr id="1014" name=""/>
            <p:cNvSpPr/>
            <p:nvPr/>
          </p:nvSpPr>
          <p:spPr>
            <a:xfrm flipV="1">
              <a:off x="20718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>
              <a:off x="18428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18428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7" name=""/>
          <p:cNvSpPr/>
          <p:nvPr/>
        </p:nvSpPr>
        <p:spPr>
          <a:xfrm>
            <a:off x="2676240" y="3084480"/>
            <a:ext cx="80172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B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2604960" y="3060720"/>
            <a:ext cx="215640" cy="838080"/>
            <a:chOff x="2604960" y="3060720"/>
            <a:chExt cx="215640" cy="838080"/>
          </a:xfrm>
        </p:grpSpPr>
        <p:sp>
          <p:nvSpPr>
            <p:cNvPr id="1019" name=""/>
            <p:cNvSpPr/>
            <p:nvPr/>
          </p:nvSpPr>
          <p:spPr>
            <a:xfrm>
              <a:off x="26049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175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175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3443040" y="3060720"/>
            <a:ext cx="228960" cy="838080"/>
            <a:chOff x="3443040" y="3060720"/>
            <a:chExt cx="228960" cy="838080"/>
          </a:xfrm>
        </p:grpSpPr>
        <p:sp>
          <p:nvSpPr>
            <p:cNvPr id="1023" name=""/>
            <p:cNvSpPr/>
            <p:nvPr/>
          </p:nvSpPr>
          <p:spPr>
            <a:xfrm flipV="1">
              <a:off x="36720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34430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34430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2209680" y="33894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808800" y="3313080"/>
            <a:ext cx="335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76800" y="3084480"/>
            <a:ext cx="8204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C</a:t>
            </a:r>
            <a:r>
              <a:rPr b="0" lang="en-US" sz="14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4205160" y="3060720"/>
            <a:ext cx="215640" cy="838080"/>
            <a:chOff x="4205160" y="3060720"/>
            <a:chExt cx="215640" cy="838080"/>
          </a:xfrm>
        </p:grpSpPr>
        <p:sp>
          <p:nvSpPr>
            <p:cNvPr id="1030" name=""/>
            <p:cNvSpPr/>
            <p:nvPr/>
          </p:nvSpPr>
          <p:spPr>
            <a:xfrm>
              <a:off x="4205160" y="3073320"/>
              <a:ext cx="0" cy="8121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17760" y="306072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17760" y="3898800"/>
              <a:ext cx="20304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5043240" y="3060720"/>
            <a:ext cx="228960" cy="838080"/>
            <a:chOff x="5043240" y="3060720"/>
            <a:chExt cx="228960" cy="838080"/>
          </a:xfrm>
        </p:grpSpPr>
        <p:sp>
          <p:nvSpPr>
            <p:cNvPr id="1034" name=""/>
            <p:cNvSpPr/>
            <p:nvPr/>
          </p:nvSpPr>
          <p:spPr>
            <a:xfrm flipV="1">
              <a:off x="5272200" y="3060720"/>
              <a:ext cx="0" cy="838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043240" y="389880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043240" y="3060720"/>
              <a:ext cx="228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37" name=""/>
          <p:cNvSpPr/>
          <p:nvPr/>
        </p:nvSpPr>
        <p:spPr>
          <a:xfrm>
            <a:off x="838080" y="4257720"/>
            <a:ext cx="6508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Key idea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ub-blocks (i.e.,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x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can be treated just like scala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(bijk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414648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locked Matrix Multiply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5485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nermost loop pair multiplies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size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lock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accumulates into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1 X bs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liver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p over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eps through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ow slivers of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&amp;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using sam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34024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508800" y="461016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25304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72000" y="519120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16880" y="519120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749840" y="6029280"/>
            <a:ext cx="2260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lock reused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 in succ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465360" y="4705200"/>
            <a:ext cx="636840" cy="9828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46720" y="4616280"/>
            <a:ext cx="203040" cy="20340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06480" y="5749920"/>
            <a:ext cx="217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ow sliver access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siz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tim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460840" y="4895640"/>
            <a:ext cx="0" cy="11430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872040" y="5648400"/>
            <a:ext cx="2095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pdate successiv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lements of sliv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 flipV="1">
            <a:off x="6807240" y="4768560"/>
            <a:ext cx="55872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26708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32900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629400" y="4794120"/>
            <a:ext cx="0" cy="355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691320" y="48052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937400" y="4565520"/>
            <a:ext cx="361440" cy="736560"/>
            <a:chOff x="4937400" y="4565520"/>
            <a:chExt cx="361440" cy="736560"/>
          </a:xfrm>
        </p:grpSpPr>
        <p:sp>
          <p:nvSpPr>
            <p:cNvPr id="1061" name=""/>
            <p:cNvSpPr/>
            <p:nvPr/>
          </p:nvSpPr>
          <p:spPr>
            <a:xfrm>
              <a:off x="5105520" y="4565520"/>
              <a:ext cx="0" cy="736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937400" y="46526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1528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152960" y="4692600"/>
            <a:ext cx="203040" cy="76320"/>
          </a:xfrm>
          <a:prstGeom prst="rect">
            <a:avLst/>
          </a:prstGeom>
          <a:solidFill>
            <a:srgbClr val="00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4127400" y="4272120"/>
            <a:ext cx="736560" cy="302040"/>
            <a:chOff x="4127400" y="4272120"/>
            <a:chExt cx="736560" cy="302040"/>
          </a:xfrm>
        </p:grpSpPr>
        <p:sp>
          <p:nvSpPr>
            <p:cNvPr id="1066" name=""/>
            <p:cNvSpPr/>
            <p:nvPr/>
          </p:nvSpPr>
          <p:spPr>
            <a:xfrm>
              <a:off x="4127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251600" y="427212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6489720" y="4272120"/>
            <a:ext cx="736560" cy="302040"/>
            <a:chOff x="6489720" y="4272120"/>
            <a:chExt cx="736560" cy="302040"/>
          </a:xfrm>
        </p:grpSpPr>
        <p:sp>
          <p:nvSpPr>
            <p:cNvPr id="1069" name=""/>
            <p:cNvSpPr/>
            <p:nvPr/>
          </p:nvSpPr>
          <p:spPr>
            <a:xfrm>
              <a:off x="648972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61500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70400" y="4272120"/>
            <a:ext cx="736560" cy="302040"/>
            <a:chOff x="5270400" y="4272120"/>
            <a:chExt cx="736560" cy="302040"/>
          </a:xfrm>
        </p:grpSpPr>
        <p:sp>
          <p:nvSpPr>
            <p:cNvPr id="1072" name=""/>
            <p:cNvSpPr/>
            <p:nvPr/>
          </p:nvSpPr>
          <p:spPr>
            <a:xfrm>
              <a:off x="5270400" y="4400280"/>
              <a:ext cx="73656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96040" y="427212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768240" y="2308320"/>
            <a:ext cx="6900840" cy="2557800"/>
            <a:chOff x="768240" y="2308320"/>
            <a:chExt cx="6900840" cy="2557800"/>
          </a:xfrm>
        </p:grpSpPr>
        <p:sp>
          <p:nvSpPr>
            <p:cNvPr id="1075" name=""/>
            <p:cNvSpPr/>
            <p:nvPr/>
          </p:nvSpPr>
          <p:spPr>
            <a:xfrm>
              <a:off x="768240" y="230832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47920" y="264816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 flipH="1">
            <a:off x="914400" y="3575160"/>
            <a:ext cx="533520" cy="4316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16000" y="4019400"/>
            <a:ext cx="1159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nermo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oop Pai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Blocked Matrix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ultiply Performan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locking (bijk and bikj) improves performance by a factor of two over unblocked versions (ijk and jik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atively insensitive to array siz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81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luding Observ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ogrammer can optimize for cache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structures are organiz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ata are acces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sted loop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ing is a general techniq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systems favor “cache friendly code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ting absolute optimum performance is very platform specif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che sizes, line sizes, associativities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get most of the advantage with generic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 working set reasonably small (tempor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small strides (spatial locality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520" y="228600"/>
            <a:ext cx="8940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Org of a Cache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35480" y="173844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30960" y="1814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16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37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656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30960" y="24876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6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737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1656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64080" y="1814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64080" y="2487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9880" y="1814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9880" y="24876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55800" y="2209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6330960" y="595080"/>
            <a:ext cx="152280" cy="1981080"/>
          </a:xfrm>
          <a:custGeom>
            <a:avLst/>
            <a:gdLst>
              <a:gd name="textAreaLeft" fmla="*/ 0 w 152280"/>
              <a:gd name="textAreaRight" fmla="*/ 55080 w 152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73960" y="976320"/>
            <a:ext cx="17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778880" y="1738440"/>
            <a:ext cx="152280" cy="120780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7800"/>
              <a:gd name="textAreaBottom" fmla="*/ 1176480 h 120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07400" y="2009880"/>
            <a:ext cx="94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44760" y="1814400"/>
            <a:ext cx="228600" cy="4281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1600 h 4281480"/>
              <a:gd name="textAreaBottom" fmla="*/ 4169880 h 42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10760" y="3777840"/>
            <a:ext cx="118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 = 2</a:t>
            </a:r>
            <a:r>
              <a:rPr b="1" i="1" lang="en-US" sz="1600" spc="-1" strike="noStrike" baseline="30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se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4690800" y="11282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01"/>
                </a:lnTo>
                <a:cubicBezTo>
                  <a:pt x="10800" y="10401"/>
                  <a:pt x="16200" y="11301"/>
                  <a:pt x="21600" y="11301"/>
                </a:cubicBezTo>
                <a:cubicBezTo>
                  <a:pt x="16200" y="11301"/>
                  <a:pt x="10800" y="12201"/>
                  <a:pt x="10800" y="1310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05600" y="914400"/>
            <a:ext cx="1023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 rot="16200000">
            <a:off x="3783960" y="1299240"/>
            <a:ext cx="190440" cy="533160"/>
          </a:xfrm>
          <a:custGeom>
            <a:avLst/>
            <a:gdLst>
              <a:gd name="textAreaLeft" fmla="*/ 121320 w 190440"/>
              <a:gd name="textAreaRight" fmla="*/ 190440 w 19044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3800" y="92880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valid b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 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0880" y="621612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size: 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C = B x E x S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a byt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13520" y="2157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2240" y="3124080"/>
            <a:ext cx="4267080" cy="12081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7720" y="32004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3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705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332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7720" y="3873600"/>
            <a:ext cx="6858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3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8705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332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60840" y="32004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60840" y="387360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6640" y="32004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6640" y="387360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2560" y="3595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10280" y="3543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32240" y="4888080"/>
            <a:ext cx="4267080" cy="1207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27720" y="49640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3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705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332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7720" y="563724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13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05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1332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60840" y="49640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60840" y="563724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6640" y="49640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6640" y="563724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52760" y="5358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10280" y="530712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64280" y="4495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" y="1143000"/>
            <a:ext cx="2151360" cy="22885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ache is an arra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set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set contai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e or more line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line holds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ock of data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ressing 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26200" y="133200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24200" y="133200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07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64280" y="171144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1280" y="1711440"/>
            <a:ext cx="1143000" cy="231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0" y="13017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24640" y="1910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5880" y="191052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26560" y="2416320"/>
            <a:ext cx="722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tag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37200" y="2416320"/>
            <a:ext cx="129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set index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3560" y="2416320"/>
            <a:ext cx="1554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&lt;block offset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5401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54480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764120" y="175896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43160" y="105372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Address A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2736720"/>
            <a:ext cx="0" cy="3049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12080" y="2749680"/>
            <a:ext cx="0" cy="5778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8480" y="2001960"/>
            <a:ext cx="3087720" cy="8744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4040" y="205740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89400" y="205740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62120" y="205740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3200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4040" y="2544840"/>
            <a:ext cx="4953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89400" y="2544840"/>
            <a:ext cx="33156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62120" y="254484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3200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63720" y="205740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3720" y="254484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60520" y="205740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60520" y="2544840"/>
            <a:ext cx="6602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920" y="231048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84400" y="2305080"/>
            <a:ext cx="4968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7320" y="302256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0800" y="30607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8760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60680" y="30607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28760" y="30607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0800" y="35481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8760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60680" y="35481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8760" y="35481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61920" y="30607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61920" y="35481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7280" y="30607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57280" y="3548160"/>
            <a:ext cx="662040" cy="2206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040" y="331524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82960" y="33084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5240" y="4281480"/>
            <a:ext cx="3089520" cy="8748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0800" y="433692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760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560680" y="433692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28760" y="433692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890800" y="4824360"/>
            <a:ext cx="49680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8760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B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–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60680" y="4824360"/>
            <a:ext cx="3301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28760" y="4824360"/>
            <a:ext cx="33192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61920" y="433692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61920" y="4824360"/>
            <a:ext cx="33048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57280" y="433692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7280" y="4824360"/>
            <a:ext cx="6620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76680" y="4590000"/>
            <a:ext cx="82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t </a:t>
            </a:r>
            <a:r>
              <a:rPr b="1" i="1" lang="en-US" sz="1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1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82960" y="4584600"/>
            <a:ext cx="495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0760" y="3997440"/>
            <a:ext cx="4971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79800" y="3335400"/>
            <a:ext cx="0" cy="2206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60720" y="3314880"/>
            <a:ext cx="4851360" cy="1260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885840" y="3022560"/>
            <a:ext cx="2832120" cy="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10160" y="3643200"/>
            <a:ext cx="4254480" cy="201420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at address A is in the cache i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tag bits in one of the &lt;valid&gt; lines i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t &lt;set index&gt; match &lt;tag&gt;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word contents begin at offse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&lt;block offset&gt; bytes from the beginning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 the block. 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mplest kind of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racterized by exactly one line per set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2805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335268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4191120"/>
            <a:ext cx="42674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66880" y="28814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3429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42670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2680" y="28814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342900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426708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5560" y="380952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43120" y="28634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739880" y="3428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87600" y="4266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81680" y="2805120"/>
            <a:ext cx="152640" cy="471600"/>
          </a:xfrm>
          <a:custGeom>
            <a:avLst/>
            <a:gdLst>
              <a:gd name="textAreaLeft" fmla="*/ 0 w 152640"/>
              <a:gd name="textAreaRight" fmla="*/ 55080 w 1526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85000" y="2863440"/>
            <a:ext cx="18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E=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lines per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28814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19720" y="341460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19720" y="425304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t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the set index bits to determine the set of interest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65600" y="276876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65600" y="3316320"/>
            <a:ext cx="4114800" cy="4572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65600" y="4154400"/>
            <a:ext cx="41148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18240" y="2844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18240" y="339264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18240" y="423072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i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04040" y="2844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4040" y="3392640"/>
            <a:ext cx="914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04040" y="4230720"/>
            <a:ext cx="914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96560" y="37731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• • 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70440" y="28270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67200" y="3392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423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S-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8520" y="407196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96520" y="407196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79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6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 0  0 0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3600" y="437508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22520" y="460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1800" y="460296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09640" y="408636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8720" y="461952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14360" y="461952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06160" y="461952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1655640" y="3555720"/>
            <a:ext cx="304920" cy="1143000"/>
          </a:xfrm>
          <a:custGeom>
            <a:avLst/>
            <a:gdLst>
              <a:gd name="textAreaLeft" fmla="*/ 0 w 304920"/>
              <a:gd name="textAreaRight" fmla="*/ 110160 w 3049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1804680" y="3558960"/>
            <a:ext cx="3240" cy="453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8280" y="3559320"/>
            <a:ext cx="21621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8600" y="328572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58120" y="28576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558120" y="3390840"/>
            <a:ext cx="20574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558120" y="4229280"/>
            <a:ext cx="20574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ache b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ccessing Direct-Mapped Ca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ne matching and word sel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 match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Find a valid line in the selected set with a matching ta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ord sele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Then extract the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955880" y="3774960"/>
            <a:ext cx="58449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369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84480" y="3851280"/>
            <a:ext cx="4572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02120" y="5329080"/>
            <a:ext cx="66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00120" y="5329080"/>
            <a:ext cx="71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83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40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97200" y="5632560"/>
            <a:ext cx="1143000" cy="23184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26120" y="5860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01800" y="5860440"/>
            <a:ext cx="40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13240" y="5343480"/>
            <a:ext cx="72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 bit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72320" y="5877000"/>
            <a:ext cx="4845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17960" y="5877000"/>
            <a:ext cx="1059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inde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09760" y="5877000"/>
            <a:ext cx="1316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lock offs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0920" y="381132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ed set (i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114880" y="4144680"/>
            <a:ext cx="3671280" cy="1655640"/>
            <a:chOff x="5114880" y="4144680"/>
            <a:chExt cx="3671280" cy="1655640"/>
          </a:xfrm>
        </p:grpSpPr>
        <p:sp>
          <p:nvSpPr>
            <p:cNvPr id="342" name=""/>
            <p:cNvSpPr/>
            <p:nvPr/>
          </p:nvSpPr>
          <p:spPr>
            <a:xfrm flipV="1">
              <a:off x="5667480" y="4144680"/>
              <a:ext cx="228600" cy="1066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559440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60280" y="4489560"/>
              <a:ext cx="22258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3) If (1) and (2), the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ache hit,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and block offset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lect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tarting byte.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135520" y="3058920"/>
            <a:ext cx="3350520" cy="790920"/>
            <a:chOff x="2135520" y="3058920"/>
            <a:chExt cx="3350520" cy="790920"/>
          </a:xfrm>
        </p:grpSpPr>
        <p:sp>
          <p:nvSpPr>
            <p:cNvPr id="346" name=""/>
            <p:cNvSpPr/>
            <p:nvPr/>
          </p:nvSpPr>
          <p:spPr>
            <a:xfrm flipV="1">
              <a:off x="2400480" y="3392640"/>
              <a:ext cx="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5520" y="3058920"/>
              <a:ext cx="53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1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9880" y="3061800"/>
              <a:ext cx="284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1) The valid bit must be s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40560" y="4092480"/>
            <a:ext cx="3567960" cy="1301400"/>
            <a:chOff x="340560" y="4092480"/>
            <a:chExt cx="3567960" cy="1301400"/>
          </a:xfrm>
        </p:grpSpPr>
        <p:sp>
          <p:nvSpPr>
            <p:cNvPr id="350" name=""/>
            <p:cNvSpPr/>
            <p:nvPr/>
          </p:nvSpPr>
          <p:spPr>
            <a:xfrm rot="16200000">
              <a:off x="3276720" y="4762080"/>
              <a:ext cx="152280" cy="1111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800 h 1111320"/>
                <a:gd name="textAreaBottom" fmla="*/ 1082520 h 111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102480" y="4549320"/>
              <a:ext cx="4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55920" y="4870440"/>
              <a:ext cx="0" cy="3697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0560" y="4393440"/>
              <a:ext cx="284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(2) The tag bits in the cac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line must match th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ag bits in th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55920" y="4092480"/>
              <a:ext cx="0" cy="497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2870280" y="3851280"/>
            <a:ext cx="9144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1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9416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102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894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4664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553080" y="3851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67480" y="3849840"/>
            <a:ext cx="1828800" cy="3045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78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369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9416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0060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6894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4664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354636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rect-Mapped Cache Simul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7760" y="1117440"/>
            <a:ext cx="6161040" cy="14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=16 byte addresses, B=2 bytes/block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=4 sets, E=1 entry/s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 trace (reads)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1 [00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13 [1101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8 [1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,  0 [0000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60200" y="1577880"/>
            <a:ext cx="2046600" cy="549360"/>
            <a:chOff x="160200" y="1577880"/>
            <a:chExt cx="2046600" cy="549360"/>
          </a:xfrm>
        </p:grpSpPr>
        <p:sp>
          <p:nvSpPr>
            <p:cNvPr id="374" name=""/>
            <p:cNvSpPr/>
            <p:nvPr/>
          </p:nvSpPr>
          <p:spPr>
            <a:xfrm>
              <a:off x="1602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2360" y="1577880"/>
              <a:ext cx="506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76240" y="15778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s=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38360" y="1577880"/>
              <a:ext cx="568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=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60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31800" y="1911240"/>
              <a:ext cx="673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01880" y="2936880"/>
            <a:ext cx="3065400" cy="1552680"/>
            <a:chOff x="1001880" y="2936880"/>
            <a:chExt cx="3065400" cy="1552680"/>
          </a:xfrm>
        </p:grpSpPr>
        <p:sp>
          <p:nvSpPr>
            <p:cNvPr id="381" name=""/>
            <p:cNvSpPr/>
            <p:nvPr/>
          </p:nvSpPr>
          <p:spPr>
            <a:xfrm>
              <a:off x="1568160" y="35877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25360" y="35877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58880" y="35877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8696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6820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3032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68160" y="38163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25360" y="38163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58880" y="38163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68160" y="40449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25360" y="40449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58880" y="40449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68160" y="4273560"/>
              <a:ext cx="4442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25360" y="4273560"/>
              <a:ext cx="5202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58880" y="4273560"/>
              <a:ext cx="112968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02560" y="293688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018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659480" y="2936880"/>
            <a:ext cx="2811600" cy="1552680"/>
            <a:chOff x="4659480" y="2936880"/>
            <a:chExt cx="2811600" cy="1552680"/>
          </a:xfrm>
        </p:grpSpPr>
        <p:sp>
          <p:nvSpPr>
            <p:cNvPr id="399" name=""/>
            <p:cNvSpPr/>
            <p:nvPr/>
          </p:nvSpPr>
          <p:spPr>
            <a:xfrm>
              <a:off x="5149800" y="35877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07000" y="35877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40520" y="35877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69320" y="324180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49840" y="324180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11960" y="324180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49800" y="38163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607000" y="38163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40520" y="38163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49800" y="40449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07000" y="40449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0520" y="40449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149800" y="4273560"/>
              <a:ext cx="4446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07000" y="4273560"/>
              <a:ext cx="52092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40520" y="4273560"/>
              <a:ext cx="11304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79640" y="2936880"/>
              <a:ext cx="189144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3 [1101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59480" y="385128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077840" y="5070600"/>
            <a:ext cx="2837520" cy="1551960"/>
            <a:chOff x="1077840" y="5070600"/>
            <a:chExt cx="2837520" cy="1551960"/>
          </a:xfrm>
        </p:grpSpPr>
        <p:sp>
          <p:nvSpPr>
            <p:cNvPr id="417" name=""/>
            <p:cNvSpPr/>
            <p:nvPr/>
          </p:nvSpPr>
          <p:spPr>
            <a:xfrm>
              <a:off x="1568520" y="57211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2572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5924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9] m[8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8732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6856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3068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68520" y="59497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572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5924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8520" y="61783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2572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5924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68520" y="640692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2572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5924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5064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8 [1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784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659480" y="5070600"/>
            <a:ext cx="2836800" cy="1551960"/>
            <a:chOff x="4659480" y="5070600"/>
            <a:chExt cx="2836800" cy="1551960"/>
          </a:xfrm>
        </p:grpSpPr>
        <p:sp>
          <p:nvSpPr>
            <p:cNvPr id="435" name=""/>
            <p:cNvSpPr/>
            <p:nvPr/>
          </p:nvSpPr>
          <p:spPr>
            <a:xfrm>
              <a:off x="5149440" y="57211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06640" y="57211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40160" y="57211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] m[0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68960" y="5375160"/>
              <a:ext cx="295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9480" y="5375160"/>
              <a:ext cx="498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ta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411600" y="5375160"/>
              <a:ext cx="6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149440" y="59497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06640" y="59497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40160" y="59497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149440" y="61783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606640" y="61783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0160" y="61783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m[13] m[12]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49440" y="640692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06640" y="640692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40160" y="640692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731560" y="5070600"/>
              <a:ext cx="17647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 [0000</a:t>
              </a:r>
              <a:r>
                <a:rPr b="0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0" i="1" lang="en-US" sz="1800" spc="-1" strike="noStrike">
                  <a:solidFill>
                    <a:srgbClr val="000066"/>
                  </a:solidFill>
                  <a:latin typeface="Arial"/>
                </a:rPr>
                <a:t>(miss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59480" y="5984640"/>
              <a:ext cx="460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(5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562040" y="3581280"/>
            <a:ext cx="2121120" cy="901440"/>
            <a:chOff x="1562040" y="3581280"/>
            <a:chExt cx="2121120" cy="901440"/>
          </a:xfrm>
        </p:grpSpPr>
        <p:sp>
          <p:nvSpPr>
            <p:cNvPr id="453" name=""/>
            <p:cNvSpPr/>
            <p:nvPr/>
          </p:nvSpPr>
          <p:spPr>
            <a:xfrm>
              <a:off x="1562040" y="35812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19240" y="35812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52760" y="35812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62040" y="38098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19240" y="38098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52760" y="38098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562040" y="40384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19240" y="40384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2760" y="40384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62040" y="426708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19240" y="426708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552760" y="426708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143680" y="3581280"/>
            <a:ext cx="2120400" cy="901440"/>
            <a:chOff x="5143680" y="3581280"/>
            <a:chExt cx="2120400" cy="901440"/>
          </a:xfrm>
        </p:grpSpPr>
        <p:sp>
          <p:nvSpPr>
            <p:cNvPr id="466" name=""/>
            <p:cNvSpPr/>
            <p:nvPr/>
          </p:nvSpPr>
          <p:spPr>
            <a:xfrm>
              <a:off x="5143680" y="35812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600520" y="35812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34040" y="35812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43680" y="38098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600520" y="38098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34040" y="38098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3680" y="40384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00520" y="40384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34040" y="40384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43680" y="426708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600520" y="426708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34040" y="426708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562040" y="5715000"/>
            <a:ext cx="2121120" cy="901440"/>
            <a:chOff x="1562040" y="5715000"/>
            <a:chExt cx="2121120" cy="901440"/>
          </a:xfrm>
        </p:grpSpPr>
        <p:sp>
          <p:nvSpPr>
            <p:cNvPr id="479" name=""/>
            <p:cNvSpPr/>
            <p:nvPr/>
          </p:nvSpPr>
          <p:spPr>
            <a:xfrm>
              <a:off x="1562040" y="57150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19240" y="57150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52760" y="57150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62040" y="59436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19240" y="59436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2760" y="59436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62040" y="61722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19240" y="61722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552760" y="61722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62040" y="6400800"/>
              <a:ext cx="4446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9240" y="6400800"/>
              <a:ext cx="5209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52760" y="6400800"/>
              <a:ext cx="11304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143680" y="5715000"/>
            <a:ext cx="2120400" cy="901440"/>
            <a:chOff x="5143680" y="5715000"/>
            <a:chExt cx="2120400" cy="901440"/>
          </a:xfrm>
        </p:grpSpPr>
        <p:sp>
          <p:nvSpPr>
            <p:cNvPr id="492" name=""/>
            <p:cNvSpPr/>
            <p:nvPr/>
          </p:nvSpPr>
          <p:spPr>
            <a:xfrm>
              <a:off x="5143680" y="57150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00520" y="57150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34040" y="57150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43680" y="59436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00520" y="59436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34040" y="59436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43680" y="61722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00520" y="61722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134040" y="61722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3680" y="6400800"/>
              <a:ext cx="4442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00520" y="6400800"/>
              <a:ext cx="52056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34040" y="6400800"/>
              <a:ext cx="11300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1714680" y="3537000"/>
            <a:ext cx="1650240" cy="312840"/>
            <a:chOff x="1714680" y="3537000"/>
            <a:chExt cx="1650240" cy="312840"/>
          </a:xfrm>
        </p:grpSpPr>
        <p:sp>
          <p:nvSpPr>
            <p:cNvPr id="505" name=""/>
            <p:cNvSpPr/>
            <p:nvPr/>
          </p:nvSpPr>
          <p:spPr>
            <a:xfrm>
              <a:off x="219384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76960" y="3537000"/>
              <a:ext cx="687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[0-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14680" y="353700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1714680" y="5661000"/>
            <a:ext cx="1766160" cy="784080"/>
            <a:chOff x="1714680" y="5661000"/>
            <a:chExt cx="1766160" cy="784080"/>
          </a:xfrm>
        </p:grpSpPr>
        <p:grpSp>
          <p:nvGrpSpPr>
            <p:cNvPr id="509" name=""/>
            <p:cNvGrpSpPr/>
            <p:nvPr/>
          </p:nvGrpSpPr>
          <p:grpSpPr>
            <a:xfrm>
              <a:off x="1714680" y="6132240"/>
              <a:ext cx="1766160" cy="312840"/>
              <a:chOff x="1714680" y="6132240"/>
              <a:chExt cx="1766160" cy="312840"/>
            </a:xfrm>
          </p:grpSpPr>
          <p:sp>
            <p:nvSpPr>
              <p:cNvPr id="510" name=""/>
              <p:cNvSpPr/>
              <p:nvPr/>
            </p:nvSpPr>
            <p:spPr>
              <a:xfrm>
                <a:off x="219384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567160" y="613224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714680" y="613224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1714680" y="5661000"/>
              <a:ext cx="1652040" cy="312840"/>
              <a:chOff x="1714680" y="5661000"/>
              <a:chExt cx="1652040" cy="312840"/>
            </a:xfrm>
          </p:grpSpPr>
          <p:sp>
            <p:nvSpPr>
              <p:cNvPr id="514" name=""/>
              <p:cNvSpPr/>
              <p:nvPr/>
            </p:nvSpPr>
            <p:spPr>
              <a:xfrm>
                <a:off x="219384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78760" y="566100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8-9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714680" y="5661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7" name=""/>
          <p:cNvGrpSpPr/>
          <p:nvPr/>
        </p:nvGrpSpPr>
        <p:grpSpPr>
          <a:xfrm>
            <a:off x="5294160" y="5672160"/>
            <a:ext cx="1766160" cy="775080"/>
            <a:chOff x="5294160" y="5672160"/>
            <a:chExt cx="1766160" cy="775080"/>
          </a:xfrm>
        </p:grpSpPr>
        <p:grpSp>
          <p:nvGrpSpPr>
            <p:cNvPr id="518" name=""/>
            <p:cNvGrpSpPr/>
            <p:nvPr/>
          </p:nvGrpSpPr>
          <p:grpSpPr>
            <a:xfrm>
              <a:off x="5294160" y="6134400"/>
              <a:ext cx="1766160" cy="312840"/>
              <a:chOff x="5294160" y="6134400"/>
              <a:chExt cx="1766160" cy="312840"/>
            </a:xfrm>
          </p:grpSpPr>
          <p:sp>
            <p:nvSpPr>
              <p:cNvPr id="519" name=""/>
              <p:cNvSpPr/>
              <p:nvPr/>
            </p:nvSpPr>
            <p:spPr>
              <a:xfrm>
                <a:off x="577332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46640" y="61344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294160" y="61344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5294160" y="5672160"/>
              <a:ext cx="1653480" cy="312840"/>
              <a:chOff x="5294160" y="5672160"/>
              <a:chExt cx="1653480" cy="312840"/>
            </a:xfrm>
          </p:grpSpPr>
          <p:sp>
            <p:nvSpPr>
              <p:cNvPr id="523" name=""/>
              <p:cNvSpPr/>
              <p:nvPr/>
            </p:nvSpPr>
            <p:spPr>
              <a:xfrm>
                <a:off x="577332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59680" y="56721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294160" y="56721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"/>
          <p:cNvGrpSpPr/>
          <p:nvPr/>
        </p:nvGrpSpPr>
        <p:grpSpPr>
          <a:xfrm>
            <a:off x="5289480" y="3533760"/>
            <a:ext cx="1766160" cy="775080"/>
            <a:chOff x="5289480" y="3533760"/>
            <a:chExt cx="1766160" cy="775080"/>
          </a:xfrm>
        </p:grpSpPr>
        <p:grpSp>
          <p:nvGrpSpPr>
            <p:cNvPr id="527" name=""/>
            <p:cNvGrpSpPr/>
            <p:nvPr/>
          </p:nvGrpSpPr>
          <p:grpSpPr>
            <a:xfrm>
              <a:off x="5289480" y="3996000"/>
              <a:ext cx="1766160" cy="312840"/>
              <a:chOff x="5289480" y="3996000"/>
              <a:chExt cx="1766160" cy="312840"/>
            </a:xfrm>
          </p:grpSpPr>
          <p:sp>
            <p:nvSpPr>
              <p:cNvPr id="528" name=""/>
              <p:cNvSpPr/>
              <p:nvPr/>
            </p:nvSpPr>
            <p:spPr>
              <a:xfrm>
                <a:off x="576864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141960" y="3996000"/>
                <a:ext cx="9136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12-13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289480" y="399600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5289480" y="3533760"/>
              <a:ext cx="1653480" cy="312840"/>
              <a:chOff x="5289480" y="3533760"/>
              <a:chExt cx="1653480" cy="312840"/>
            </a:xfrm>
          </p:grpSpPr>
          <p:sp>
            <p:nvSpPr>
              <p:cNvPr id="532" name=""/>
              <p:cNvSpPr/>
              <p:nvPr/>
            </p:nvSpPr>
            <p:spPr>
              <a:xfrm>
                <a:off x="576864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55000" y="3533760"/>
                <a:ext cx="68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M[0-1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289480" y="3533760"/>
                <a:ext cx="2048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8:51Z</dcterms:created>
  <dc:creator>Randal E. Bryant and David R. O'Hallaron</dc:creator>
  <dc:description/>
  <dc:language>en-US</dc:language>
  <cp:lastModifiedBy>droh</cp:lastModifiedBy>
  <cp:lastPrinted>2001-10-04T12:22:59Z</cp:lastPrinted>
  <dcterms:modified xsi:type="dcterms:W3CDTF">2002-10-28T20:32:33Z</dcterms:modified>
  <cp:revision>278</cp:revision>
  <dc:subject/>
  <dc:title>Cache Memories</dc:title>
</cp:coreProperties>
</file>