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960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8320" y="122076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5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960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08320" y="3949920"/>
            <a:ext cx="267480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640" y="247680"/>
            <a:ext cx="87170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7520" y="394992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7520" y="1220760"/>
            <a:ext cx="40539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520" y="3949920"/>
            <a:ext cx="8307360" cy="24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200" y="640188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654900D4-7CDE-4FA8-B90B-A036EA793785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59280" y="6391800"/>
            <a:ext cx="1093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15-213, F’0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36720"/>
            <a:ext cx="9144000" cy="156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de Optimization II: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Dependent Optimizations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ct. 1, 200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3504960"/>
            <a:ext cx="6175080" cy="24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chine-Dependent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er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roll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abling instruction level parallelis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derstanding Processor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lation of instructions into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62640" indent="-200160">
              <a:lnSpc>
                <a:spcPct val="80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-of-order execution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anches and Branch 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25320" indent="-206280">
              <a:lnSpc>
                <a:spcPct val="8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vi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45920" y="6500880"/>
            <a:ext cx="1355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lass11.pp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0120" y="762120"/>
            <a:ext cx="5644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15-213</a:t>
            </a:r>
            <a:br>
              <a:rPr sz="3800"/>
            </a:br>
            <a:r>
              <a:rPr b="1" i="1" lang="en-US" sz="2500" spc="-1" strike="noStrike">
                <a:solidFill>
                  <a:srgbClr val="000066"/>
                </a:solidFill>
                <a:latin typeface="Arial"/>
              </a:rPr>
              <a:t>“The course that gives CMU its Zip!”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334800"/>
            <a:ext cx="59770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3120" y="1066320"/>
            <a:ext cx="828216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5000"/>
          </a:bodyPr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sion of Combine4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86120" indent="-612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ata, multiply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96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ion of First It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1981080"/>
            <a:ext cx="6477120" cy="1460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t *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168800"/>
            <a:ext cx="3886200" cy="20091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168800"/>
            <a:ext cx="4419720" cy="17348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8576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"/>
          </a:bodyPr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 into two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oa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ds from memory to generate temporary result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.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ltiply operation just operates 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9400" indent="-19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does not change in loop.  Values will be retrieved from register file during decod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1440" indent="-187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hanges on every iteration.  Uniquely identify different versions a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0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1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cx.2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renam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27800" indent="-180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s passed directly from producer to consum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43000"/>
            <a:ext cx="4419720" cy="63756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0760" y="334800"/>
            <a:ext cx="82342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3120" y="1828440"/>
            <a:ext cx="8282160" cy="29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hanges on each iteration.  Rename 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1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dx.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…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112248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12248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 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3120" y="1297080"/>
            <a:ext cx="8282160" cy="83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5000"/>
          </a:bodyPr>
          <a:p>
            <a:pPr marL="250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 are treated similar t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83840" indent="-159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ign tag to define connection between producer and consum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21932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121932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334800"/>
            <a:ext cx="8564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l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3120" y="1752120"/>
            <a:ext cx="8282160" cy="3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1000"/>
          </a:bodyPr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determines destination of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s whether will be taken and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s fetching instruction at predicte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unit simply checks whether or not prediction was O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1720" indent="-270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not, it signals instruction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control then “invalidates” any operations generated from misfetched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26000" indent="-25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s fetching and decoding instructions at correct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143000"/>
            <a:ext cx="3886200" cy="363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1143000"/>
            <a:ext cx="4191120" cy="36324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3579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30760" y="3032280"/>
            <a:ext cx="4767120" cy="273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tical position denotes time at which exec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8440" indent="-192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begin operation until 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eight denotes lat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4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03000" indent="-199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shown only for operands that are passed within execution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14680" y="990720"/>
            <a:ext cx="3015360" cy="3504960"/>
            <a:chOff x="814680" y="990720"/>
            <a:chExt cx="3015360" cy="3504960"/>
          </a:xfrm>
        </p:grpSpPr>
        <p:sp>
          <p:nvSpPr>
            <p:cNvPr id="196" name=""/>
            <p:cNvSpPr/>
            <p:nvPr/>
          </p:nvSpPr>
          <p:spPr>
            <a:xfrm>
              <a:off x="2700000" y="2084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80640" y="251136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6880" y="137160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62600" y="41911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78120" y="4343400"/>
              <a:ext cx="1295280" cy="7632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78120" y="25146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35320" y="1371600"/>
              <a:ext cx="76176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5320" y="18288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35320" y="228600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16200" y="16002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16200" y="205740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75200" y="990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00680" y="140184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4680" y="23623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20920" y="1219320"/>
              <a:ext cx="1295280" cy="15228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78120" y="1219320"/>
              <a:ext cx="0" cy="152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16200" y="1676520"/>
              <a:ext cx="4572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3400" y="16765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73400" y="4419720"/>
              <a:ext cx="228600" cy="7596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20920" y="25909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191960" y="259092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880" y="2743200"/>
              <a:ext cx="755640" cy="16002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600200"/>
                <a:gd name="textAreaBottom" fmla="*/ 1560240 h 1600200"/>
              </a:gdLst>
              <a:ahLst/>
              <a:rect l="textAreaLeft" t="textAreaTop" r="textAreaRight" b="textAreaBottom"/>
              <a:pathLst>
                <a:path w="21600" h="45730">
                  <a:moveTo>
                    <a:pt x="3927" y="0"/>
                  </a:moveTo>
                  <a:arcTo wR="3927" hR="3927" stAng="16200000" swAng="-5400000"/>
                  <a:lnTo>
                    <a:pt x="0" y="41803"/>
                  </a:lnTo>
                  <a:arcTo wR="3927" hR="3927" stAng="10800000" swAng="-5400000"/>
                  <a:lnTo>
                    <a:pt x="17673" y="45730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mul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4572000" y="114300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14300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6440" y="293220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02840" y="334800"/>
            <a:ext cx="70786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Operations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444920" y="3716280"/>
            <a:ext cx="4152960" cy="27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before, except that add has latency of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523880"/>
            <a:ext cx="0" cy="312444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440" y="331308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89400" y="1752480"/>
            <a:ext cx="2988360" cy="2287800"/>
            <a:chOff x="689400" y="1752480"/>
            <a:chExt cx="2988360" cy="2287800"/>
          </a:xfrm>
        </p:grpSpPr>
        <p:sp>
          <p:nvSpPr>
            <p:cNvPr id="226" name=""/>
            <p:cNvSpPr/>
            <p:nvPr/>
          </p:nvSpPr>
          <p:spPr>
            <a:xfrm>
              <a:off x="2547720" y="28465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cc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8000" y="32734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t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09600" y="2590920"/>
              <a:ext cx="88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</a:t>
              </a:r>
              <a:r>
                <a:rPr b="1" i="1" lang="en-US" sz="1200" spc="-1" strike="noStrike">
                  <a:solidFill>
                    <a:srgbClr val="000066"/>
                  </a:solidFill>
                  <a:latin typeface="Times New Roman"/>
                </a:rPr>
                <a:t>i </a:t>
              </a: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5480" y="3733920"/>
              <a:ext cx="1295640" cy="75960"/>
            </a:xfrm>
            <a:custGeom>
              <a:avLst/>
              <a:gdLst/>
              <a:ahLst/>
              <a:rect l="l" t="t" r="r" b="b"/>
              <a:pathLst>
                <a:path w="1056" h="48">
                  <a:moveTo>
                    <a:pt x="0" y="0"/>
                  </a:moveTo>
                  <a:lnTo>
                    <a:pt x="0" y="48"/>
                  </a:lnTo>
                  <a:lnTo>
                    <a:pt x="1056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5480" y="32767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82680" y="2133720"/>
              <a:ext cx="76212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inc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2680" y="25909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mp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182680" y="30481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99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j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63920" y="23623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63920" y="2819520"/>
              <a:ext cx="0" cy="2286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44600" y="21337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22920" y="17524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48400" y="21636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9400" y="3124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68280" y="1981080"/>
              <a:ext cx="1295640" cy="152640"/>
            </a:xfrm>
            <a:custGeom>
              <a:avLst/>
              <a:gdLst/>
              <a:ahLst/>
              <a:rect l="l" t="t" r="r" b="b"/>
              <a:pathLst>
                <a:path w="1008" h="48">
                  <a:moveTo>
                    <a:pt x="0" y="0"/>
                  </a:moveTo>
                  <a:lnTo>
                    <a:pt x="1008" y="0"/>
                  </a:lnTo>
                  <a:lnTo>
                    <a:pt x="1008" y="48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1981080"/>
              <a:ext cx="0" cy="152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63920" y="2438280"/>
              <a:ext cx="4572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21120" y="24382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211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68280" y="33526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144" y="0"/>
                  </a:lnTo>
                  <a:lnTo>
                    <a:pt x="144" y="96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44600" y="3505320"/>
              <a:ext cx="755640" cy="228600"/>
            </a:xfrm>
            <a:prstGeom prst="roundRect">
              <a:avLst>
                <a:gd name="adj" fmla="val 50000"/>
              </a:avLst>
            </a:pr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add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039320" y="3352680"/>
              <a:ext cx="22860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98880" y="37638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4600" y="2133720"/>
              <a:ext cx="755640" cy="1143000"/>
            </a:xfrm>
            <a:custGeom>
              <a:avLst/>
              <a:gdLst>
                <a:gd name="textAreaLeft" fmla="*/ 39960 w 755640"/>
                <a:gd name="textAreaRight" fmla="*/ 715680 w 755640"/>
                <a:gd name="textAreaTop" fmla="*/ 39960 h 1143000"/>
                <a:gd name="textAreaBottom" fmla="*/ 1103040 h 1143000"/>
              </a:gdLst>
              <a:ahLst/>
              <a:rect l="textAreaLeft" t="textAreaTop" r="textAreaRight" b="textAreaBottom"/>
              <a:pathLst>
                <a:path w="21600" h="32667">
                  <a:moveTo>
                    <a:pt x="3927" y="0"/>
                  </a:moveTo>
                  <a:arcTo wR="3927" hR="3927" stAng="16200000" swAng="-5400000"/>
                  <a:lnTo>
                    <a:pt x="0" y="28740"/>
                  </a:lnTo>
                  <a:arcTo wR="3927" hR="3927" stAng="10800000" swAng="-5400000"/>
                  <a:lnTo>
                    <a:pt x="17673" y="32667"/>
                  </a:lnTo>
                  <a:arcTo wR="3927" hR="3927" stAng="5400000" swAng="-5400000"/>
                  <a:lnTo>
                    <a:pt x="21600" y="3927"/>
                  </a:lnTo>
                  <a:arcTo wR="3927" hR="3927" stAng="0" swAng="-5400000"/>
                  <a:close/>
                </a:path>
              </a:pathLst>
            </a:custGeom>
            <a:solidFill>
              <a:srgbClr val="99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572000" y="1447920"/>
            <a:ext cx="4191120" cy="146052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, %ecx.0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.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62908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5073480" cy="5632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916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 Iterations of Combining Produc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86040" y="990720"/>
            <a:ext cx="342900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ume operation can start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for multiple iterations overlap in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miting factor becomes latency of integer multipli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s CPE of 4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34800"/>
            <a:ext cx="751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4 Iterations of Combining Su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4190760"/>
            <a:ext cx="8140680" cy="225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limited Resource Analysi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a new iteration 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give CPE of 1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require executing 4 integer operations in parall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6810480" cy="2949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19320" y="2540160"/>
            <a:ext cx="7619760" cy="304560"/>
          </a:xfrm>
          <a:prstGeom prst="roundRect">
            <a:avLst>
              <a:gd name="adj" fmla="val 16667"/>
            </a:avLst>
          </a:prstGeom>
          <a:solidFill>
            <a:srgbClr val="33cccc">
              <a:alpha val="50000"/>
            </a:srgbClr>
          </a:solidFill>
          <a:ln w="255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 integer op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ing Sum: Resource Constrain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7304040" cy="4761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5715000" cy="107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ave two integer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operations delayed even though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priority based on program or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64680" indent="-1202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stain CPE of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12760" y="334800"/>
            <a:ext cx="7421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vious Best Combining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3120" y="4017600"/>
            <a:ext cx="828216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as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sum of all elements in vec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tor represented by C-style abstract data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hieved CPE of 2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14400" indent="-2397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ycles per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1440" y="990720"/>
            <a:ext cx="498204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34800"/>
            <a:ext cx="5443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516640" y="1749600"/>
            <a:ext cx="3627360" cy="42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multiple iterations into single loop bod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mortizes loop overhead across multiple it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ish extras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CPE = 1.3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 + data[i+2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+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6680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Unrolled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51792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can pipeline, since don’t have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one set of loop control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81280"/>
            <a:ext cx="4572000" cy="2557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a, %ecx.0c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b, %ecx.1a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8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t.1c, %ecx.1b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3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9907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66040" y="27795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61560" y="838080"/>
            <a:ext cx="4986720" cy="3048120"/>
            <a:chOff x="3661560" y="838080"/>
            <a:chExt cx="4986720" cy="3048120"/>
          </a:xfrm>
        </p:grpSpPr>
        <p:sp>
          <p:nvSpPr>
            <p:cNvPr id="270" name=""/>
            <p:cNvSpPr/>
            <p:nvPr/>
          </p:nvSpPr>
          <p:spPr>
            <a:xfrm>
              <a:off x="4337640" y="83808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920" y="1249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61560" y="2286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15320" y="1523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15320" y="380988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4486320" y="1066680"/>
              <a:ext cx="3578400" cy="2791080"/>
              <a:chOff x="4486320" y="1066680"/>
              <a:chExt cx="3578400" cy="2791080"/>
            </a:xfrm>
          </p:grpSpPr>
          <p:sp>
            <p:nvSpPr>
              <p:cNvPr id="276" name=""/>
              <p:cNvSpPr/>
              <p:nvPr/>
            </p:nvSpPr>
            <p:spPr>
              <a:xfrm>
                <a:off x="7518240" y="1932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927320" y="23623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03800" y="1676520"/>
                <a:ext cx="881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</a:t>
                </a:r>
                <a:r>
                  <a:rPr b="1" i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i </a:t>
                </a:r>
                <a:r>
                  <a:rPr b="1" lang="en-US" sz="1200" spc="-1" strike="noStrike">
                    <a:solidFill>
                      <a:srgbClr val="000066"/>
                    </a:solidFill>
                    <a:latin typeface="Times New Roman"/>
                  </a:rPr>
                  <a:t>+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20040" y="3733920"/>
                <a:ext cx="1295280" cy="7596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943520" y="23623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077240" y="121932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77240" y="16765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077240" y="21337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4479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9051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486320" y="1066680"/>
                <a:ext cx="2971800" cy="15264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58120" y="152388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86320" y="25909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004880" y="358128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400720" y="30481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38800" y="350532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867200" y="2819520"/>
                <a:ext cx="76212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943520" y="1066680"/>
                <a:ext cx="0" cy="1526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86320" y="2438280"/>
                <a:ext cx="228600" cy="152640"/>
              </a:xfrm>
              <a:custGeom>
                <a:avLst/>
                <a:gdLst/>
                <a:ahLst/>
                <a:rect l="l" t="t" r="r" b="b"/>
                <a:pathLst>
                  <a:path w="912" h="96">
                    <a:moveTo>
                      <a:pt x="0" y="0"/>
                    </a:moveTo>
                    <a:lnTo>
                      <a:pt x="912" y="0"/>
                    </a:lnTo>
                    <a:lnTo>
                      <a:pt x="912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65400" y="28195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622920" y="32767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42560" y="28494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90360" y="3306600"/>
                <a:ext cx="82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62640" y="12193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7200" y="16765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245280" y="213372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99ff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781600" y="28195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20040" y="327672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781600" y="3276720"/>
                <a:ext cx="685800" cy="228600"/>
              </a:xfrm>
              <a:custGeom>
                <a:avLst/>
                <a:gdLst/>
                <a:ahLst/>
                <a:rect l="l" t="t" r="r" b="b"/>
                <a:pathLst>
                  <a:path w="432" h="144">
                    <a:moveTo>
                      <a:pt x="0" y="0"/>
                    </a:moveTo>
                    <a:lnTo>
                      <a:pt x="0" y="48"/>
                    </a:lnTo>
                    <a:lnTo>
                      <a:pt x="432" y="48"/>
                    </a:lnTo>
                    <a:lnTo>
                      <a:pt x="432" y="144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781600" y="1066680"/>
                <a:ext cx="0" cy="6098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620040" y="1066680"/>
                <a:ext cx="0" cy="10670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1755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6618240" cy="4322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5410080" cy="10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complete iteration in 3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hould give CPE of 1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72240" indent="-122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E of 1.3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73120" indent="-1191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teration every 4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2120" y="334800"/>
            <a:ext cx="58752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ffect of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90520" y="4244760"/>
            <a:ext cx="830736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helps integer sum for our examp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cases constrained by functional unit latenc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 is nonlinear with degree of unro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ny subtle effects determine exact scheduling of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33520" y="1600200"/>
          <a:ext cx="8076960" cy="2133720"/>
        </p:xfrm>
        <a:graphic>
          <a:graphicData uri="http://schemas.openxmlformats.org/drawingml/2006/table">
            <a:tbl>
              <a:tblPr/>
              <a:tblGrid>
                <a:gridCol w="1009440"/>
                <a:gridCol w="1200240"/>
                <a:gridCol w="914400"/>
                <a:gridCol w="762120"/>
                <a:gridCol w="1162080"/>
                <a:gridCol w="1009440"/>
                <a:gridCol w="1104840"/>
                <a:gridCol w="914400"/>
              </a:tblGrid>
              <a:tr h="426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 Degre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2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1.0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te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4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FP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5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ria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9880" y="837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7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2210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52280" y="-76320"/>
            <a:ext cx="7129440" cy="6934320"/>
            <a:chOff x="152280" y="-76320"/>
            <a:chExt cx="7129440" cy="6934320"/>
          </a:xfrm>
        </p:grpSpPr>
        <p:sp>
          <p:nvSpPr>
            <p:cNvPr id="316" name=""/>
            <p:cNvSpPr/>
            <p:nvPr/>
          </p:nvSpPr>
          <p:spPr>
            <a:xfrm>
              <a:off x="152280" y="457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45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160" y="228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1760" y="990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4400" y="838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43000" y="762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200" y="762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8000" y="-76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000" y="-76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96480" y="4572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55760" y="15238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08040" y="1371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36640" y="1295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50840" y="1295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90120" y="9907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49400" y="20574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01680" y="19051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30280" y="18288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44480" y="18288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84120" y="15238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43040" y="25909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95320" y="24382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23920" y="23623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238120" y="23623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77760" y="20574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36680" y="31240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89320" y="29718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17920" y="28954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32120" y="28954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1400" y="25909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0680" y="36576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82960" y="35053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11560" y="34290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25760" y="34290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5040" y="31240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324320" y="41911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6600" y="40384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05200" y="39625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19400" y="39625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59040" y="36576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917960" y="47242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70240" y="45720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298840" y="44956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13040" y="44956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41911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11600" y="52578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64240" y="51055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92840" y="50292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7040" y="50292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6320" y="47242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05240" y="57913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57880" y="56386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86480" y="55627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00680" y="55627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00360" y="52578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99240" y="63244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51520" y="61722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80120" y="6095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94320" y="60958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94000" y="579132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10280" y="6629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1671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Loop Unro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e in two different 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4280" indent="-150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performed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e at e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3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09760" indent="-202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X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35440" y="990720"/>
            <a:ext cx="5256360" cy="5301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0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1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1 *=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0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0 * x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ual Product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97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73120" indent="-1890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~2X performance improveme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362320"/>
            <a:ext cx="3567240" cy="3504960"/>
            <a:chOff x="1828800" y="2362320"/>
            <a:chExt cx="3567240" cy="3504960"/>
          </a:xfrm>
        </p:grpSpPr>
        <p:sp>
          <p:nvSpPr>
            <p:cNvPr id="383" name=""/>
            <p:cNvSpPr/>
            <p:nvPr/>
          </p:nvSpPr>
          <p:spPr>
            <a:xfrm>
              <a:off x="182880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810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8280" y="34290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9092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1952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3372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7452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6352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7300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32280" y="39625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8456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1316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2736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6664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25920" y="449568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7820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0680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2100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6064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1956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7184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0044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1464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5428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13200" y="55627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6584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9444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50864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0832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72000" y="5867280"/>
            <a:ext cx="457200" cy="228600"/>
            <a:chOff x="4572000" y="5867280"/>
            <a:chExt cx="457200" cy="228600"/>
          </a:xfrm>
        </p:grpSpPr>
        <p:sp>
          <p:nvSpPr>
            <p:cNvPr id="414" name=""/>
            <p:cNvSpPr/>
            <p:nvPr/>
          </p:nvSpPr>
          <p:spPr>
            <a:xfrm>
              <a:off x="45720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72000" y="58672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4191120" y="6095880"/>
            <a:ext cx="533160" cy="304920"/>
          </a:xfrm>
          <a:prstGeom prst="roundRect">
            <a:avLst>
              <a:gd name="adj" fmla="val 19644"/>
            </a:avLst>
          </a:prstGeom>
          <a:solidFill>
            <a:srgbClr val="99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02160" y="640080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80880" y="2362320"/>
            <a:ext cx="3962520" cy="3733560"/>
            <a:chOff x="380880" y="2362320"/>
            <a:chExt cx="3962520" cy="3733560"/>
          </a:xfrm>
        </p:grpSpPr>
        <p:sp>
          <p:nvSpPr>
            <p:cNvPr id="419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71600" y="32004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5600" y="23623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25080" y="28954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65240" y="37339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19080" y="342900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58880" y="42670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12720" y="396252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152880" y="480060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06360" y="4495680"/>
              <a:ext cx="308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6520" y="533412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60400" y="5029200"/>
              <a:ext cx="3877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x</a:t>
              </a:r>
              <a:r>
                <a:rPr b="1" lang="en-US" sz="1800" spc="-1" strike="noStrike" baseline="-25000">
                  <a:solidFill>
                    <a:srgbClr val="003300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43400" y="59436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654360" y="5867280"/>
              <a:ext cx="68904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320" y="247680"/>
            <a:ext cx="904536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quirements for Parallel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thematica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ing operation must be associative &amp; commuta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K for integer multipl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strictly true for floating poi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K for most applic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d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ility to dynamically extract parallelism from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642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Visualizing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657600" cy="25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 multiplies within loop no longer have data dep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ows them to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4191120"/>
            <a:ext cx="4572000" cy="200916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(%eax,%edx.0,4)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a, %ec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c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oad 4(%eax,%edx.0,4)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t.1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t.1b, %ebx.0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b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addl $2,%edx.0  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%edx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 %edx.1     </a:t>
            </a:r>
            <a:r>
              <a:rPr b="1" lang="en-US" sz="1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-taken cc.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05920" y="1447920"/>
            <a:ext cx="0" cy="31240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908840" y="3236760"/>
            <a:ext cx="77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347000" y="914400"/>
            <a:ext cx="3853440" cy="3962520"/>
            <a:chOff x="4347000" y="914400"/>
            <a:chExt cx="3853440" cy="3962520"/>
          </a:xfrm>
        </p:grpSpPr>
        <p:sp>
          <p:nvSpPr>
            <p:cNvPr id="459" name=""/>
            <p:cNvSpPr/>
            <p:nvPr/>
          </p:nvSpPr>
          <p:spPr>
            <a:xfrm>
              <a:off x="7471080" y="13255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dx.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47000" y="2286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c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43800" y="16002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47000" y="27432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Courier New"/>
                </a:rPr>
                <a:t>%ebx.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543800" y="48006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3800" y="4343400"/>
              <a:ext cx="228600" cy="76320"/>
            </a:xfrm>
            <a:custGeom>
              <a:avLst/>
              <a:gdLst/>
              <a:ahLst/>
              <a:rect l="l" t="t" r="r" b="b"/>
              <a:pathLst>
                <a:path w="348" h="1">
                  <a:moveTo>
                    <a:pt x="0" y="0"/>
                  </a:moveTo>
                  <a:lnTo>
                    <a:pt x="348" y="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723920" y="914400"/>
              <a:ext cx="2892960" cy="3934080"/>
              <a:chOff x="4723920" y="914400"/>
              <a:chExt cx="2892960" cy="3934080"/>
            </a:xfrm>
          </p:grpSpPr>
          <p:sp>
            <p:nvSpPr>
              <p:cNvPr id="466" name=""/>
              <p:cNvSpPr/>
              <p:nvPr/>
            </p:nvSpPr>
            <p:spPr>
              <a:xfrm>
                <a:off x="4952880" y="2971800"/>
                <a:ext cx="106704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070400" y="200808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cc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412960" y="24354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a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29200" y="26668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09320" y="41148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c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10080" y="4267080"/>
                <a:ext cx="213372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410080" y="24382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705720" y="1295280"/>
                <a:ext cx="76176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705720" y="17524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cmp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05720" y="2209680"/>
                <a:ext cx="755640" cy="228600"/>
              </a:xfrm>
              <a:prstGeom prst="roundRect">
                <a:avLst>
                  <a:gd name="adj" fmla="val 50000"/>
                </a:avLst>
              </a:prstGeom>
              <a:solidFill>
                <a:srgbClr val="ff99cc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086600" y="15238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86600" y="19810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07520" y="9144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dx.0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952880" y="1143000"/>
                <a:ext cx="2133720" cy="152280"/>
              </a:xfrm>
              <a:custGeom>
                <a:avLst/>
                <a:gdLst/>
                <a:ahLst/>
                <a:rect l="l" t="t" r="r" b="b"/>
                <a:pathLst>
                  <a:path w="1008" h="48">
                    <a:moveTo>
                      <a:pt x="0" y="0"/>
                    </a:moveTo>
                    <a:lnTo>
                      <a:pt x="1008" y="0"/>
                    </a:lnTo>
                    <a:lnTo>
                      <a:pt x="1008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410080" y="114300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086600" y="1600200"/>
                <a:ext cx="457200" cy="76320"/>
              </a:xfrm>
              <a:custGeom>
                <a:avLst/>
                <a:gdLst/>
                <a:ahLst/>
                <a:rect l="l" t="t" r="r" b="b"/>
                <a:pathLst>
                  <a:path w="348" h="1">
                    <a:moveTo>
                      <a:pt x="0" y="0"/>
                    </a:moveTo>
                    <a:lnTo>
                      <a:pt x="3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952880" y="2514600"/>
                <a:ext cx="228600" cy="152280"/>
              </a:xfrm>
              <a:custGeom>
                <a:avLst/>
                <a:gdLst/>
                <a:ahLst/>
                <a:rect l="l" t="t" r="r" b="b"/>
                <a:pathLst>
                  <a:path w="144" h="96">
                    <a:moveTo>
                      <a:pt x="0" y="0"/>
                    </a:moveTo>
                    <a:lnTo>
                      <a:pt x="144" y="0"/>
                    </a:lnTo>
                    <a:lnTo>
                      <a:pt x="144" y="96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4723920" y="25146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7280" y="3124080"/>
                <a:ext cx="755640" cy="16002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600200"/>
                  <a:gd name="textAreaBottom" fmla="*/ 1560240 h 1600200"/>
                </a:gdLst>
                <a:ahLst/>
                <a:rect l="textAreaLeft" t="textAreaTop" r="textAreaRight" b="textAreaBottom"/>
                <a:pathLst>
                  <a:path w="21600" h="45730">
                    <a:moveTo>
                      <a:pt x="3927" y="0"/>
                    </a:moveTo>
                    <a:arcTo wR="3927" hR="3927" stAng="16200000" swAng="-5400000"/>
                    <a:lnTo>
                      <a:pt x="0" y="41803"/>
                    </a:lnTo>
                    <a:arcTo wR="3927" hR="3927" stAng="10800000" swAng="-5400000"/>
                    <a:lnTo>
                      <a:pt x="17673" y="45730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imul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709320" y="4572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%ebx.1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48520" y="4724280"/>
                <a:ext cx="1295280" cy="76320"/>
              </a:xfrm>
              <a:custGeom>
                <a:avLst/>
                <a:gdLst/>
                <a:ahLst/>
                <a:rect l="l" t="t" r="r" b="b"/>
                <a:pathLst>
                  <a:path w="1056" h="48">
                    <a:moveTo>
                      <a:pt x="0" y="0"/>
                    </a:moveTo>
                    <a:lnTo>
                      <a:pt x="0" y="48"/>
                    </a:lnTo>
                    <a:lnTo>
                      <a:pt x="1056" y="48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48520" y="2895480"/>
                <a:ext cx="0" cy="2286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48520" y="1143000"/>
                <a:ext cx="0" cy="6094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028840" y="29718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4723920" y="2971800"/>
                <a:ext cx="2286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5866920" y="4343400"/>
                <a:ext cx="7621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51400" y="289260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Courier New"/>
                  </a:rPr>
                  <a:t>t.1b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9200" y="12952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3760" y="1752480"/>
                <a:ext cx="755640" cy="1143000"/>
              </a:xfrm>
              <a:custGeom>
                <a:avLst/>
                <a:gdLst>
                  <a:gd name="textAreaLeft" fmla="*/ 39960 w 755640"/>
                  <a:gd name="textAreaRight" fmla="*/ 715680 w 755640"/>
                  <a:gd name="textAreaTop" fmla="*/ 39960 h 1143000"/>
                  <a:gd name="textAreaBottom" fmla="*/ 1103040 h 1143000"/>
                </a:gdLst>
                <a:ahLst/>
                <a:rect l="textAreaLeft" t="textAreaTop" r="textAreaRight" b="textAreaBottom"/>
                <a:pathLst>
                  <a:path w="21600" h="32667">
                    <a:moveTo>
                      <a:pt x="3927" y="0"/>
                    </a:moveTo>
                    <a:arcTo wR="3927" hR="3927" stAng="16200000" swAng="-5400000"/>
                    <a:lnTo>
                      <a:pt x="0" y="28740"/>
                    </a:lnTo>
                    <a:arcTo wR="3927" hR="3927" stAng="10800000" swAng="-5400000"/>
                    <a:lnTo>
                      <a:pt x="17673" y="32667"/>
                    </a:lnTo>
                    <a:arcTo wR="3927" hR="3927" stAng="5400000" swAng="-5400000"/>
                    <a:lnTo>
                      <a:pt x="21600" y="3927"/>
                    </a:lnTo>
                    <a:arcTo wR="3927" hR="3927" stAng="0" swAng="-5400000"/>
                    <a:close/>
                  </a:path>
                </a:pathLst>
              </a:custGeom>
              <a:solidFill>
                <a:srgbClr val="66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Courier New"/>
                  </a:rPr>
                  <a:t>loa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441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with Parallel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1828800" y="649440"/>
            <a:ext cx="7075440" cy="597996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2280" y="4724280"/>
            <a:ext cx="426744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lvl="1" marL="684720" indent="-2260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ed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keep 4-cycle multiplier busy performing two simultaneous multiplic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54440" indent="-219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ives CPE of 2.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9160" y="334800"/>
            <a:ext cx="70023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General Forms of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4240" y="4114800"/>
            <a:ext cx="405108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claration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ata_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flo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dou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9240" y="990720"/>
            <a:ext cx="6627960" cy="28321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abstract_combine4(vec_ptr v, data_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_t t = IDEN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ength; i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 = t OP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1240" y="4244760"/>
            <a:ext cx="4076640" cy="219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different definitions of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+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*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2854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timization Results for Combin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304920" y="1219320"/>
          <a:ext cx="8229600" cy="450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229600" cy="45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arallel Unrolling: Method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562720" y="1066320"/>
            <a:ext cx="3581280" cy="397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e Vers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y pairs of elements 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then update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ee height reduction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5440" y="990720"/>
            <a:ext cx="5256360" cy="475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6aa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imit = length-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x = 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*=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 *= data[i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6683400" cy="780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thod #2 Comput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971440" y="76212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1000"/>
          </a:bodyPr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(((((1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3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5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6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7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8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9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 * (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0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*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Courier New"/>
              </a:rPr>
              <a:t>11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)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273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 elements, D cycles/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hould be (N/2+1)*D cycles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813600" indent="-1692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PE = 2.0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528480" indent="-1742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asured CPE wors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380880" y="1870200"/>
            <a:ext cx="4114800" cy="4225680"/>
            <a:chOff x="380880" y="1870200"/>
            <a:chExt cx="4114800" cy="4225680"/>
          </a:xfrm>
        </p:grpSpPr>
        <p:sp>
          <p:nvSpPr>
            <p:cNvPr id="507" name=""/>
            <p:cNvSpPr/>
            <p:nvPr/>
          </p:nvSpPr>
          <p:spPr>
            <a:xfrm>
              <a:off x="3657600" y="58672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0880" y="28954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3520" y="2666880"/>
              <a:ext cx="0" cy="2286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90720" y="3429000"/>
              <a:ext cx="53316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43000" y="32767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" y="32004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6600" y="236232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584360" y="3962520"/>
              <a:ext cx="53352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36640" y="38098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79440" y="37339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78000" y="449568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30280" y="434340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73080" y="426708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71640" y="5029200"/>
              <a:ext cx="533520" cy="30492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24280" y="4876920"/>
              <a:ext cx="0" cy="1522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67080" y="4800600"/>
              <a:ext cx="457200" cy="7632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600" bIns="30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65640" y="5562720"/>
              <a:ext cx="533160" cy="304560"/>
            </a:xfrm>
            <a:prstGeom prst="roundRect">
              <a:avLst>
                <a:gd name="adj" fmla="val 19644"/>
              </a:avLst>
            </a:prstGeom>
            <a:solidFill>
              <a:srgbClr val="99ffcc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urier New"/>
                </a:rPr>
                <a:t>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17920" y="5410080"/>
              <a:ext cx="0" cy="1526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60720" y="5334120"/>
              <a:ext cx="457200" cy="75960"/>
            </a:xfrm>
            <a:custGeom>
              <a:avLst/>
              <a:gdLst/>
              <a:ahLst/>
              <a:rect l="l" t="t" r="r" b="b"/>
              <a:pathLst>
                <a:path w="288" h="48">
                  <a:moveTo>
                    <a:pt x="0" y="0"/>
                  </a:moveTo>
                  <a:lnTo>
                    <a:pt x="0" y="48"/>
                  </a:lnTo>
                  <a:lnTo>
                    <a:pt x="288" y="48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30240" bIns="30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15600" y="1870200"/>
              <a:ext cx="695520" cy="1025280"/>
              <a:chOff x="615600" y="1870200"/>
              <a:chExt cx="695520" cy="1025280"/>
            </a:xfrm>
          </p:grpSpPr>
          <p:sp>
            <p:nvSpPr>
              <p:cNvPr id="527" name=""/>
              <p:cNvSpPr/>
              <p:nvPr/>
            </p:nvSpPr>
            <p:spPr>
              <a:xfrm>
                <a:off x="685800" y="23623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90720" y="18702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6212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15600" y="18702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62120" y="26668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143000" y="21337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225440" y="2403360"/>
              <a:ext cx="695520" cy="1025280"/>
              <a:chOff x="1225440" y="2403360"/>
              <a:chExt cx="695520" cy="1025280"/>
            </a:xfrm>
          </p:grpSpPr>
          <p:sp>
            <p:nvSpPr>
              <p:cNvPr id="534" name=""/>
              <p:cNvSpPr/>
              <p:nvPr/>
            </p:nvSpPr>
            <p:spPr>
              <a:xfrm>
                <a:off x="1295640" y="28954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600560" y="24033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7196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225440" y="24033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71960" y="32000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752840" y="26668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1834920" y="2936880"/>
              <a:ext cx="695520" cy="1025280"/>
              <a:chOff x="1834920" y="2936880"/>
              <a:chExt cx="695520" cy="1025280"/>
            </a:xfrm>
          </p:grpSpPr>
          <p:sp>
            <p:nvSpPr>
              <p:cNvPr id="541" name=""/>
              <p:cNvSpPr/>
              <p:nvPr/>
            </p:nvSpPr>
            <p:spPr>
              <a:xfrm>
                <a:off x="1905120" y="342900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10040" y="293688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98144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34920" y="293688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981440" y="373356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62320" y="32004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444400" y="3470400"/>
              <a:ext cx="695520" cy="1025280"/>
              <a:chOff x="2444400" y="3470400"/>
              <a:chExt cx="695520" cy="1025280"/>
            </a:xfrm>
          </p:grpSpPr>
          <p:sp>
            <p:nvSpPr>
              <p:cNvPr id="548" name=""/>
              <p:cNvSpPr/>
              <p:nvPr/>
            </p:nvSpPr>
            <p:spPr>
              <a:xfrm>
                <a:off x="2514600" y="396252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819520" y="347040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59092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44400" y="347040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90920" y="426708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71800" y="373392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054240" y="4003560"/>
              <a:ext cx="695520" cy="1025280"/>
              <a:chOff x="3054240" y="4003560"/>
              <a:chExt cx="695520" cy="1025280"/>
            </a:xfrm>
          </p:grpSpPr>
          <p:sp>
            <p:nvSpPr>
              <p:cNvPr id="555" name=""/>
              <p:cNvSpPr/>
              <p:nvPr/>
            </p:nvSpPr>
            <p:spPr>
              <a:xfrm>
                <a:off x="3124440" y="4495680"/>
                <a:ext cx="533520" cy="30456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429360" y="4003560"/>
                <a:ext cx="32040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0076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054240" y="4003560"/>
                <a:ext cx="3085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200760" y="4800240"/>
                <a:ext cx="15228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81640" y="426708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624120" y="4537080"/>
              <a:ext cx="871560" cy="1025640"/>
              <a:chOff x="3624120" y="4537080"/>
              <a:chExt cx="871560" cy="1025640"/>
            </a:xfrm>
          </p:grpSpPr>
          <p:sp>
            <p:nvSpPr>
              <p:cNvPr id="562" name=""/>
              <p:cNvSpPr/>
              <p:nvPr/>
            </p:nvSpPr>
            <p:spPr>
              <a:xfrm>
                <a:off x="3733920" y="5029200"/>
                <a:ext cx="533160" cy="304920"/>
              </a:xfrm>
              <a:prstGeom prst="roundRect">
                <a:avLst>
                  <a:gd name="adj" fmla="val 19644"/>
                </a:avLst>
              </a:prstGeom>
              <a:solidFill>
                <a:srgbClr val="99ffcc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Courier New"/>
                  </a:rPr>
                  <a:t>*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962520" y="4537080"/>
                <a:ext cx="53316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0988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24120" y="4537080"/>
                <a:ext cx="387720" cy="37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3300"/>
                    </a:solidFill>
                    <a:latin typeface="Courier New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09880" y="5334120"/>
                <a:ext cx="152640" cy="22860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lnTo>
                      <a:pt x="96" y="48"/>
                    </a:lnTo>
                    <a:lnTo>
                      <a:pt x="0" y="48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0000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191120" y="4800600"/>
                <a:ext cx="0" cy="2286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8" name=""/>
          <p:cNvGraphicFramePr/>
          <p:nvPr/>
        </p:nvGraphicFramePr>
        <p:xfrm>
          <a:off x="4419720" y="3809880"/>
          <a:ext cx="4267080" cy="21718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Unrolling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measured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PE (theoretical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93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7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3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93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93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936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533412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derstanding Parallelis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4.0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multiplies perfomed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11920" y="396252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x * (data[i] * data[i+1]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4400" y="1371600"/>
            <a:ext cx="511920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Combine 2 elements at a time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i = 0; i &lt; limit; i+=2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x = (x * data[i]) * data[i+1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5257800"/>
            <a:ext cx="349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 = 2.5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4480" indent="-2458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ies overla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334120" y="168120"/>
            <a:ext cx="3592440" cy="348948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5791320" y="4267080"/>
            <a:ext cx="207468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 of Parallel Execu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ed Lots of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hold sums/produc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6 usable integer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so needed for pointers, loop condi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FP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enough registers, must spill temporaries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pes out any performance gai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helped by renam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not reference more operands than instruction set allow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jor drawback of IA32 instruction s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6532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Spill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6320" y="1220760"/>
            <a:ext cx="4419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 X 8 integer produ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 local variables share 1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e that are storing locals on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-8(%ebp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18120" y="990720"/>
            <a:ext cx="3473280" cy="5301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165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(%eax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4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4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4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8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8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8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2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2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2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-16(%ebp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16(%eax),%ed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movl %edi,-16(%ebp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32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8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-32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16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8001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: Results for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iggest gain doing basic optimiz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, last little bit hel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Alpha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90520" y="537840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trends very similar to those for Pentium III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65120" indent="-18432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n though very different architecture and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34800"/>
            <a:ext cx="7043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ults for Pentium 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0880" y="5181480"/>
            <a:ext cx="8307360" cy="61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er latencies (int * = 14, fp + = 5.0, fp * = 7.0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ock runs at 2.0 GHz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61080" indent="-70920">
              <a:lnSpc>
                <a:spcPct val="9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n improvement over 1.0 GHz P3 for integer *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40840" indent="-95400">
              <a:lnSpc>
                <a:spcPct val="9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voids FP multiplication anoma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711360" y="1219320"/>
          <a:ext cx="8305560" cy="448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219320"/>
                    <a:ext cx="83055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61760" y="334800"/>
            <a:ext cx="64213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About Branches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624880" cy="514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hallen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Control Unit must work well ahead of Exec.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 generate enough operations to keep EU bus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s conditional branch, cannot reliably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230120" y="2873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30960" y="294012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30960" y="354960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697440" y="30528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788880" y="362592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ing &amp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82280" y="334800"/>
            <a:ext cx="81327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 Independent Opt. Resul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520" y="1220400"/>
            <a:ext cx="8307360" cy="16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0000"/>
          </a:bodyPr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 function calls and memory references within loo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1155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Anomal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ing FP product of all elements exceptionally slow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large speedup when accumulate in tempora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23200" indent="-73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used by quirk of IA32 floating poi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mory uses 64-bit format, register use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343800" indent="-71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nchmark data caused overflow of 64 bits, but not 8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223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057400"/>
          <a:ext cx="8229600" cy="23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82296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7467480" y="28195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3274920"/>
            <a:ext cx="3800520" cy="1195560"/>
          </a:xfrm>
          <a:custGeom>
            <a:avLst/>
            <a:gdLst/>
            <a:ahLst/>
            <a:rect l="l" t="t" r="r" b="b"/>
            <a:pathLst>
              <a:path w="2394" h="753">
                <a:moveTo>
                  <a:pt x="0" y="753"/>
                </a:moveTo>
                <a:cubicBezTo>
                  <a:pt x="243" y="749"/>
                  <a:pt x="1109" y="744"/>
                  <a:pt x="1456" y="729"/>
                </a:cubicBezTo>
                <a:cubicBezTo>
                  <a:pt x="1803" y="714"/>
                  <a:pt x="1956" y="747"/>
                  <a:pt x="2082" y="661"/>
                </a:cubicBezTo>
                <a:cubicBezTo>
                  <a:pt x="2208" y="575"/>
                  <a:pt x="2184" y="316"/>
                  <a:pt x="2214" y="211"/>
                </a:cubicBezTo>
                <a:cubicBezTo>
                  <a:pt x="2244" y="106"/>
                  <a:pt x="2232" y="62"/>
                  <a:pt x="2262" y="31"/>
                </a:cubicBezTo>
                <a:cubicBezTo>
                  <a:pt x="2292" y="0"/>
                  <a:pt x="2367" y="26"/>
                  <a:pt x="2394" y="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59389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Outcom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ncounter conditional branch, cannot determine where to continue fetc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Taken: Transfer control to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ranch Not-Taken: Continue with next instruction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resolve until outcome determined by branch/integer un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320" y="2819520"/>
            <a:ext cx="5045400" cy="17348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e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si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0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mull  (%eax,%edx,4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86240" y="480060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02960" y="41911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267080" y="3809880"/>
            <a:ext cx="393840" cy="228600"/>
          </a:xfrm>
          <a:custGeom>
            <a:avLst/>
            <a:gdLst/>
            <a:ahLst/>
            <a:rect l="l" t="t" r="r" b="b"/>
            <a:pathLst>
              <a:path w="248" h="144">
                <a:moveTo>
                  <a:pt x="0" y="0"/>
                </a:moveTo>
                <a:cubicBezTo>
                  <a:pt x="116" y="12"/>
                  <a:pt x="232" y="24"/>
                  <a:pt x="240" y="48"/>
                </a:cubicBezTo>
                <a:cubicBezTo>
                  <a:pt x="248" y="72"/>
                  <a:pt x="148" y="108"/>
                  <a:pt x="48" y="14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21880" y="3443400"/>
            <a:ext cx="21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Not-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241880" y="3898800"/>
            <a:ext cx="2189160" cy="1054080"/>
          </a:xfrm>
          <a:custGeom>
            <a:avLst/>
            <a:gdLst/>
            <a:ahLst/>
            <a:rect l="l" t="t" r="r" b="b"/>
            <a:pathLst>
              <a:path w="1379" h="664">
                <a:moveTo>
                  <a:pt x="0" y="0"/>
                </a:moveTo>
                <a:cubicBezTo>
                  <a:pt x="195" y="37"/>
                  <a:pt x="957" y="149"/>
                  <a:pt x="1168" y="216"/>
                </a:cubicBezTo>
                <a:cubicBezTo>
                  <a:pt x="1379" y="283"/>
                  <a:pt x="1320" y="325"/>
                  <a:pt x="1264" y="400"/>
                </a:cubicBezTo>
                <a:cubicBezTo>
                  <a:pt x="1208" y="475"/>
                  <a:pt x="922" y="609"/>
                  <a:pt x="832" y="66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720" y="334800"/>
            <a:ext cx="56340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20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way branch will g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gin executing instructions at predicted pos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don’t actually modify register or memory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0880" y="2666880"/>
            <a:ext cx="381096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3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$0x1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8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  %edx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a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9f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jnl    8048a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19760" y="4495680"/>
            <a:ext cx="5456880" cy="14605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5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  %edi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7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    8048a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9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0xc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c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8048a2f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  %ecx,(%eax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573800" y="32004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51440" y="3668760"/>
            <a:ext cx="2639880" cy="992160"/>
          </a:xfrm>
          <a:custGeom>
            <a:avLst/>
            <a:gdLst/>
            <a:ahLst/>
            <a:rect l="l" t="t" r="r" b="b"/>
            <a:pathLst>
              <a:path w="1663" h="625">
                <a:moveTo>
                  <a:pt x="0" y="1"/>
                </a:moveTo>
                <a:cubicBezTo>
                  <a:pt x="232" y="13"/>
                  <a:pt x="1121" y="0"/>
                  <a:pt x="1392" y="73"/>
                </a:cubicBezTo>
                <a:cubicBezTo>
                  <a:pt x="1663" y="146"/>
                  <a:pt x="1644" y="349"/>
                  <a:pt x="1624" y="441"/>
                </a:cubicBezTo>
                <a:cubicBezTo>
                  <a:pt x="1604" y="533"/>
                  <a:pt x="1345" y="587"/>
                  <a:pt x="1272" y="625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711920" y="4535640"/>
            <a:ext cx="304920" cy="609480"/>
          </a:xfrm>
          <a:custGeom>
            <a:avLst/>
            <a:gdLst>
              <a:gd name="textAreaLeft" fmla="*/ 0 w 304920"/>
              <a:gd name="textAreaRight" fmla="*/ 11016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79480" y="46483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856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Prediction Through Lo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640840" y="335268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200" y="505152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68520" y="573732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38680" y="403848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valid loc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4571640" y="3962160"/>
            <a:ext cx="1066680" cy="22860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943760" y="4495680"/>
            <a:ext cx="0" cy="121932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943760" y="3276720"/>
            <a:ext cx="0" cy="121896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336440" y="3595680"/>
            <a:ext cx="11955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18520" y="4800600"/>
            <a:ext cx="1056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etch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91480" y="327672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791480" y="449568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791480" y="5715000"/>
            <a:ext cx="3049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794556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Invalid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6200" y="22860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56200" y="36576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</a:t>
            </a:r>
            <a:r>
              <a:rPr b="1" i="1" lang="en-US" sz="1600" spc="-1" strike="noStrike">
                <a:solidFill>
                  <a:srgbClr val="000066"/>
                </a:solidFill>
                <a:latin typeface="Courier New"/>
              </a:rPr>
              <a:t>(%ecx,%edx,4)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127400" y="3429000"/>
            <a:ext cx="158760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8520" y="43434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639760" y="335268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op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6200" y="5051520"/>
            <a:ext cx="4664520" cy="819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268520" y="541008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1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45040" y="44956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alida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14800" y="4826160"/>
            <a:ext cx="158760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85800" y="380988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5800" y="4114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4343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572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48006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5800" y="52578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5800" y="54864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5800" y="5715000"/>
            <a:ext cx="4419720" cy="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62720" y="3733920"/>
            <a:ext cx="304560" cy="2057400"/>
          </a:xfrm>
          <a:custGeom>
            <a:avLst/>
            <a:gdLst>
              <a:gd name="textAreaLeft" fmla="*/ 0 w 304560"/>
              <a:gd name="textAreaRight" fmla="*/ 109800 w 30456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755172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Recove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90520" y="5076360"/>
            <a:ext cx="8307360" cy="13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 Cos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ion on Pentium III wastes ~14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at’s a lot of time on a high performance process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56200" y="914400"/>
            <a:ext cx="4664520" cy="1305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33520" y="2286000"/>
            <a:ext cx="5076720" cy="227916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1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movl   (%ecx,%edx,4)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4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  %eax,(%edi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6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cl  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7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mpl   %esi,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9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jl     80488b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b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leal   0xffffffe8(%ebp),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e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bf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80488c0: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   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00680" y="2082960"/>
            <a:ext cx="1587240" cy="35532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27400" y="3429000"/>
            <a:ext cx="1968480" cy="355680"/>
          </a:xfrm>
          <a:custGeom>
            <a:avLst/>
            <a:gdLst/>
            <a:ahLst/>
            <a:rect l="l" t="t" r="r" b="b"/>
            <a:pathLst>
              <a:path w="1000" h="224">
                <a:moveTo>
                  <a:pt x="0" y="0"/>
                </a:moveTo>
                <a:cubicBezTo>
                  <a:pt x="147" y="9"/>
                  <a:pt x="760" y="19"/>
                  <a:pt x="880" y="56"/>
                </a:cubicBezTo>
                <a:cubicBezTo>
                  <a:pt x="1000" y="93"/>
                  <a:pt x="753" y="189"/>
                  <a:pt x="720" y="224"/>
                </a:cubicBezTo>
              </a:path>
            </a:pathLst>
          </a:custGeom>
          <a:noFill/>
          <a:ln w="255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268160" y="15238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68160" y="289548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i = 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4160" y="19810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edict Taken (OK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325560" y="335268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finitely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88200" y="129528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Assume vector length = 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 Modern Processor, Branches Very Expensiv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less prediction can be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possible, best to avoid altoge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6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0200" indent="-2016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maximum of two valu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when prediction 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39600" indent="-1951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9 cycles when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3080" y="4549680"/>
            <a:ext cx="3610440" cy="11862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x &lt; y) ? y : x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4092480"/>
            <a:ext cx="5181480" cy="1734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ge L1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when &gt;=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1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style of Lab #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masking rather than conditio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98600" indent="-1645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r still uses condit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 cycles when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767880" indent="-1594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2 cycles when mispredi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98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455840" y="1981080"/>
            <a:ext cx="4844880" cy="1460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4648320"/>
            <a:ext cx="518148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dx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e L13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kip if x&lt;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$-1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mask = -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3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Branches with Bit Tri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ce compiler to generate desired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volat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claration forces value to be written to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iler must therefore generate code to compute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mplest way i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setg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zb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very elegan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hack to get control over compil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20040" indent="-105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2 clock cycles on all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492840" indent="-102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ter than mispredi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320" y="1684440"/>
            <a:ext cx="3884760" cy="20091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bvmax(int x, int 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latile int t = (x&gt;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ask = -t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(mask &amp; x) |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(~mask &amp; y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14349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1676520"/>
            <a:ext cx="4953240" cy="200916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x: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etg %al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(x&gt;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zbl %al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Zero ext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ax,-4(%ebp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as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-4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trieve 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ditional Mov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22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7000"/>
          </a:bodyPr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ed with P6 microarchitecture (PentiumPro onwar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cmov</a:t>
            </a:r>
            <a:r>
              <a:rPr b="1" i="1" lang="en-US" sz="2000" spc="-1" strike="noStrike">
                <a:solidFill>
                  <a:srgbClr val="000066"/>
                </a:solidFill>
                <a:latin typeface="Courier New"/>
              </a:rPr>
              <a:t>XX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l %edx, %ea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condition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X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holds, copy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d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to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n’t involve any branching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ndled as operation within Execution Un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urrent version of GCC won’t use this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nks it’s compiling for a 3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349560" indent="-1155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538560" indent="-111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4 cycles on all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523880" y="3048120"/>
            <a:ext cx="5181840" cy="11862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12(%ebp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=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 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val: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2914560"/>
                <a:tab algn="l" pos="360684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ovl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, rval=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0726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chine-Dependent Opt.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290520" y="1220760"/>
            <a:ext cx="8307360" cy="522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ok carefully at generated code to see whether helpfu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op Unroll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 compilers do this automatica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lly not as clever as what can achieve by han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posing Instruction-Level Parallelis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machine depende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arning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nefits depend heavily on particular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st if performed by compi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6240" indent="-2383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GCC on IA32/Linux is not very goo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only for performance-critical parts of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087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timiz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pointers rather than array referen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E:   3.00 (Compiled -O2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39880" indent="-165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ops!  We’re not making progress her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0"/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Warn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Some compilers do better job optimizing array 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0">
              <a:spcBef>
                <a:spcPts val="624"/>
              </a:spcBef>
              <a:buNone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93200" y="914400"/>
            <a:ext cx="5119200" cy="3380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void combine4p(vec_ptr v, int *des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*dend = data+length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data &lt; dend) 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um += *dat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ata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6167520" cy="55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ole of Programme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83908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4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How should I write my programs, given that I have a good, optimizing compiler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n’t: Smash Code into Obliv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 to read, maintain, &amp; assure correctn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best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that’s readable &amp; maintain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dures, recursion, without built-in constant lim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en though these factors can slow down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liminate optimization block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00160" indent="-228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ws compiler to do its jo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cus on Inner Loo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 detailed optimizations where code will be executed repeated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get most performance gain he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8717040" cy="781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ointer vs. Array Code Inner Lo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4600" y="1066680"/>
            <a:ext cx="8254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ray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ointer 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ray Code: 4 instructions in 2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4480" indent="-245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inter Code: Almost same 4 instructions in 3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523880"/>
            <a:ext cx="647676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24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,%edx,4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um += data[i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:lengt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3492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l .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581280"/>
            <a:ext cx="6553080" cy="1460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30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op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(%eax)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sum += *da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 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mpl %ed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data:de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196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b .L30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 if &lt; goto 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334800"/>
            <a:ext cx="586260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5560" y="3276720"/>
            <a:ext cx="5029200" cy="30477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52760" y="3657600"/>
            <a:ext cx="4495680" cy="8380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unctiona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Unit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95560" y="10666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90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/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480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57880" y="3809880"/>
            <a:ext cx="53316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P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ult/Di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73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o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684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to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81760" y="15238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67360" y="5334120"/>
            <a:ext cx="11430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29280" y="14479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29280" y="20574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43680" y="16765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143680" y="22860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2590920"/>
            <a:ext cx="0" cy="990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705040" y="1523880"/>
            <a:ext cx="1524240" cy="22860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28440">
            <a:solidFill>
              <a:srgbClr val="000066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4824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29480" y="4267080"/>
            <a:ext cx="0" cy="1067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58080" y="4267080"/>
            <a:ext cx="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91840" y="13478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79680" y="19731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7600" y="254304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04320" y="2847960"/>
            <a:ext cx="105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edi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K?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83200" y="493704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80200" y="492912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11760" y="472428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50040" y="470844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ddr.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36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22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8176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33640" y="3581280"/>
            <a:ext cx="30481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38560" y="3809880"/>
            <a:ext cx="53352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ene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teg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43480" y="3581280"/>
            <a:ext cx="0" cy="228600"/>
          </a:xfrm>
          <a:prstGeom prst="line">
            <a:avLst/>
          </a:prstGeom>
          <a:ln w="1908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4648320"/>
            <a:ext cx="39625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857680" y="4267080"/>
            <a:ext cx="3047760" cy="380880"/>
            <a:chOff x="2857680" y="4267080"/>
            <a:chExt cx="3047760" cy="380880"/>
          </a:xfrm>
        </p:grpSpPr>
        <p:sp>
          <p:nvSpPr>
            <p:cNvPr id="140" name=""/>
            <p:cNvSpPr/>
            <p:nvPr/>
          </p:nvSpPr>
          <p:spPr>
            <a:xfrm>
              <a:off x="28576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66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648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959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544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67160" y="4267080"/>
              <a:ext cx="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87360" y="4648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Operation Result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86280" y="16002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38560" y="20574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5040" y="1981080"/>
            <a:ext cx="381240" cy="0"/>
          </a:xfrm>
          <a:prstGeom prst="line">
            <a:avLst/>
          </a:prstGeom>
          <a:ln w="28440">
            <a:solidFill>
              <a:srgbClr val="00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400480" y="2438280"/>
            <a:ext cx="838080" cy="221004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0" y="0"/>
                </a:moveTo>
                <a:lnTo>
                  <a:pt x="144" y="0"/>
                </a:lnTo>
                <a:lnTo>
                  <a:pt x="144" y="864"/>
                </a:lnTo>
              </a:path>
            </a:pathLst>
          </a:custGeom>
          <a:noFill/>
          <a:ln w="19080">
            <a:solidFill>
              <a:srgbClr val="0000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2560" y="2832120"/>
            <a:ext cx="89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pda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48040" y="22860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4360" y="25909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34800"/>
            <a:ext cx="737388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0520" y="990360"/>
            <a:ext cx="8307360" cy="545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43600" indent="-215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170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5689440" cy="573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3035160"/>
            <a:ext cx="885348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704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14600" indent="-2358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838080"/>
            <a:ext cx="495288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66"/>
            </a:solidFill>
            <a:miter/>
          </a:ln>
          <a:effectLst>
            <a:outerShdw dist="17819" dir="2700000" blurRad="0" rotWithShape="0">
              <a:srgbClr val="00ff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struction Contro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1295280"/>
            <a:ext cx="838080" cy="10670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ch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1219320"/>
            <a:ext cx="914400" cy="53316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tc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1828800"/>
            <a:ext cx="9144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od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144792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05520" y="2057400"/>
            <a:ext cx="8380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0" cy="533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53680" y="111924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41520" y="174456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str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3560" y="274320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pera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371600"/>
            <a:ext cx="914400" cy="990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iremen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1828800"/>
            <a:ext cx="60948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gis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2057400"/>
            <a:ext cx="3812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2362320"/>
            <a:ext cx="762120" cy="228600"/>
          </a:xfrm>
          <a:custGeom>
            <a:avLst/>
            <a:gdLst/>
            <a:ahLst/>
            <a:rect l="l" t="t" r="r" b="b"/>
            <a:pathLst>
              <a:path w="480" h="144">
                <a:moveTo>
                  <a:pt x="480" y="144"/>
                </a:moveTo>
                <a:lnTo>
                  <a:pt x="0" y="14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09:19:24Z</dcterms:created>
  <dc:creator>Randal E. Bryant and David R. O'Hallaron</dc:creator>
  <dc:description/>
  <dc:language>en-US</dc:language>
  <cp:lastModifiedBy>droh</cp:lastModifiedBy>
  <cp:lastPrinted>1998-08-31T18:34:23Z</cp:lastPrinted>
  <dcterms:modified xsi:type="dcterms:W3CDTF">2002-10-28T20:31:29Z</dcterms:modified>
  <cp:revision>108</cp:revision>
  <dc:subject/>
  <dc:title>Code Optimization II</dc:title>
</cp:coreProperties>
</file>