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46888" cy="9396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9960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083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905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9960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083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04640" y="247680"/>
            <a:ext cx="871704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9960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83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05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09960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9083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04640" y="247680"/>
            <a:ext cx="871704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385920" indent="-385920">
              <a:lnSpc>
                <a:spcPct val="95000"/>
              </a:lnSpc>
              <a:spcBef>
                <a:spcPts val="1500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385920" indent="-385920">
              <a:lnSpc>
                <a:spcPct val="95000"/>
              </a:lnSpc>
              <a:spcBef>
                <a:spcPts val="1500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3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4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5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6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79200" y="6401880"/>
            <a:ext cx="120168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– </a:t>
            </a:r>
            <a:fld id="{89C7D635-7F7E-41D3-A28A-6C4A4E7A70E7}" type="slidenum">
              <a:rPr b="0" lang="en-US" sz="14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 –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559280" y="6391800"/>
            <a:ext cx="10933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15-213, F’0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6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ff99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1836720"/>
            <a:ext cx="9144000" cy="1565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de Optimization I: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achine Independent Optimizations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ept. 26, 2002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5717880" cy="246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opic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8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achine-Independent Optimiza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80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ode motio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80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eduction in strength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80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ommon subexpression sharing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lnSpc>
                <a:spcPct val="8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unin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80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dentifying performance bottleneck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45920" y="6500880"/>
            <a:ext cx="1355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class10.pp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860120" y="762120"/>
            <a:ext cx="56444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66"/>
                </a:solidFill>
                <a:latin typeface="Arial"/>
              </a:rPr>
              <a:t>15-213</a:t>
            </a:r>
            <a:br>
              <a:rPr sz="3800"/>
            </a:br>
            <a:r>
              <a:rPr b="1" i="1" lang="en-US" sz="2500" spc="-1" strike="noStrike">
                <a:solidFill>
                  <a:srgbClr val="000066"/>
                </a:solidFill>
                <a:latin typeface="Arial"/>
              </a:rPr>
              <a:t>“The course that gives CMU its Zip!”</a:t>
            </a:r>
            <a:endParaRPr b="0" lang="en-US" sz="2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34800"/>
            <a:ext cx="46814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Vector AD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2285640"/>
            <a:ext cx="8381880" cy="415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rocedure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vec_ptr new_vec(int len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reate vector of specified length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get_vec_element(vec_ptr v, int index, int *dest)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etrieve vector element, store at *des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eturn 0 if out of bounds, 1 if successful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int *get_vec_start(vec_ptr v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eturn pointer to start of vector data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imilar to array implementations in Pascal, ML, Java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.g., always do bounds checking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1295280" y="1523880"/>
            <a:ext cx="3657600" cy="609840"/>
            <a:chOff x="1295280" y="1523880"/>
            <a:chExt cx="3657600" cy="609840"/>
          </a:xfrm>
        </p:grpSpPr>
        <p:sp>
          <p:nvSpPr>
            <p:cNvPr id="116" name=""/>
            <p:cNvSpPr/>
            <p:nvPr/>
          </p:nvSpPr>
          <p:spPr>
            <a:xfrm>
              <a:off x="1295280" y="1523880"/>
              <a:ext cx="914400" cy="304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length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295280" y="1828800"/>
              <a:ext cx="914400" cy="304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data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2819520" y="1828800"/>
              <a:ext cx="2133000" cy="304920"/>
              <a:chOff x="2819520" y="1828800"/>
              <a:chExt cx="2133000" cy="304920"/>
            </a:xfrm>
          </p:grpSpPr>
          <p:sp>
            <p:nvSpPr>
              <p:cNvPr id="119" name=""/>
              <p:cNvSpPr/>
              <p:nvPr/>
            </p:nvSpPr>
            <p:spPr>
              <a:xfrm>
                <a:off x="2819520" y="1828800"/>
                <a:ext cx="30456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124080" y="1828800"/>
                <a:ext cx="30456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3429000" y="1828800"/>
                <a:ext cx="30420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647960" y="1828800"/>
                <a:ext cx="30456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33560" y="1828800"/>
                <a:ext cx="91404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Symbol"/>
                    <a:ea typeface="Symbol"/>
                  </a:rPr>
                  <a:t></a:t>
                </a: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 </a:t>
                </a:r>
                <a:r>
                  <a:rPr b="1" lang="en-US" sz="1800" spc="-1" strike="noStrike">
                    <a:solidFill>
                      <a:srgbClr val="000066"/>
                    </a:solidFill>
                    <a:latin typeface="Symbol"/>
                    <a:ea typeface="Symbol"/>
                  </a:rPr>
                  <a:t></a:t>
                </a: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 </a:t>
                </a:r>
                <a:r>
                  <a:rPr b="1" lang="en-US" sz="1800" spc="-1" strike="noStrike">
                    <a:solidFill>
                      <a:srgbClr val="000066"/>
                    </a:solidFill>
                    <a:latin typeface="Symbol"/>
                    <a:ea typeface="Symbol"/>
                  </a:rPr>
                  <a:t>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2057400" y="1981080"/>
              <a:ext cx="76212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819520" y="1523880"/>
              <a:ext cx="30456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124080" y="1523880"/>
              <a:ext cx="30492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429000" y="1523880"/>
              <a:ext cx="30492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648320" y="1523880"/>
              <a:ext cx="30456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length–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334800"/>
            <a:ext cx="61293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Optimization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33160" y="4266720"/>
            <a:ext cx="8305560" cy="2057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rocedur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ute sum of all elements of vecto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ore result at destination loc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530360" y="990720"/>
            <a:ext cx="5530680" cy="2832120"/>
          </a:xfrm>
          <a:prstGeom prst="rect">
            <a:avLst/>
          </a:prstGeom>
          <a:solidFill>
            <a:srgbClr val="ffff66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void combine1(vec_ptr v, int *dest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i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*dest = 0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i = 0; i &lt; vec_length(v); i++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val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get_vec_element(v, i, &amp;val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*dest += val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160" y="334800"/>
            <a:ext cx="54435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ime Scal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bsolute Tim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ypically use nanosecond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10</a:t>
            </a:r>
            <a:r>
              <a:rPr b="1" lang="en-US" sz="1800" spc="-1" strike="noStrike" baseline="30000">
                <a:solidFill>
                  <a:srgbClr val="000099"/>
                </a:solidFill>
                <a:latin typeface="Arial"/>
              </a:rPr>
              <a:t>–9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second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ime scale of computer instruc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lock Cycle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ost computers controlled by high frequency clock signal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ypical Rang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100 MHz 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10</a:t>
            </a:r>
            <a:r>
              <a:rPr b="1" lang="en-US" sz="1800" spc="-1" strike="noStrike" baseline="30000">
                <a:solidFill>
                  <a:srgbClr val="000066"/>
                </a:solidFill>
                <a:latin typeface="Arial"/>
              </a:rPr>
              <a:t>8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cycles per second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lock period = 10n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2 GHz 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2 X 10</a:t>
            </a:r>
            <a:r>
              <a:rPr b="1" lang="en-US" sz="1800" spc="-1" strike="noStrike" baseline="30000">
                <a:solidFill>
                  <a:srgbClr val="000066"/>
                </a:solidFill>
                <a:latin typeface="Arial"/>
              </a:rPr>
              <a:t>9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cycles per second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lock period = 0.5n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ish machines: 550 MHz (1.8 ns clock period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334800"/>
            <a:ext cx="57103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ycles Per Elemen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90520" y="990360"/>
            <a:ext cx="8307360" cy="151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nvenient way to express performance of program that operators on vectors or lis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ength = 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 = CPE*n + Overhea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676520" y="2514600"/>
          <a:ext cx="5848200" cy="4057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514600"/>
                    <a:ext cx="5848200" cy="405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"/>
          <p:cNvSpPr/>
          <p:nvPr/>
        </p:nvSpPr>
        <p:spPr>
          <a:xfrm>
            <a:off x="3933720" y="3362400"/>
            <a:ext cx="12574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vsum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lope = 4.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10080" y="4343400"/>
            <a:ext cx="15433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vsum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lope = 3.5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18960" y="334800"/>
            <a:ext cx="58244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Optimization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3160" y="3877920"/>
            <a:ext cx="8305560" cy="244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208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rocedur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21280" indent="-2066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ute sum of all elements of integer vecto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21280" indent="-2066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ore result at destination loc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21280" indent="-2066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Vector data structure and operations defined via abstract data typ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08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entium II/III Performance: Clock Cycles / Elemen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21280" indent="-2066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42.06 (Compiled -g)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31.25 (Compiled -O2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21280" indent="0">
              <a:spcBef>
                <a:spcPts val="624"/>
              </a:spcBef>
              <a:buNone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530360" y="990720"/>
            <a:ext cx="5530680" cy="2832120"/>
          </a:xfrm>
          <a:prstGeom prst="rect">
            <a:avLst/>
          </a:prstGeom>
          <a:solidFill>
            <a:srgbClr val="ffff66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void combine1(vec_ptr v, int *dest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i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*dest = 0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i = 0; i &lt; vec_length(v); i++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val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get_vec_element(v, i, &amp;val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*dest += val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334800"/>
            <a:ext cx="62056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Understanding Loop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33520" y="5181120"/>
            <a:ext cx="8254800" cy="122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nefficiency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ocedure vec_length called every iter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ven though result always the sam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523880" y="990720"/>
            <a:ext cx="5680080" cy="4203720"/>
          </a:xfrm>
          <a:prstGeom prst="rect">
            <a:avLst/>
          </a:prstGeom>
          <a:solidFill>
            <a:srgbClr val="ffcccc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void combine1-goto(vec_ptr v, int *dest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i = 0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val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*dest = 0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f (i &gt;= vec_length(v)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goto done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oop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get_vec_element(v, i, &amp;val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*dest += val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++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f (i &lt; </a:t>
            </a:r>
            <a:r>
              <a:rPr b="1" i="1" lang="en-US" sz="1800" spc="-1" strike="noStrike">
                <a:solidFill>
                  <a:srgbClr val="a50021"/>
                </a:solidFill>
                <a:latin typeface="Courier New"/>
              </a:rPr>
              <a:t>vec_length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(v)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goto loo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one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172200" y="3124080"/>
            <a:ext cx="457200" cy="1447920"/>
          </a:xfrm>
          <a:custGeom>
            <a:avLst/>
            <a:gdLst>
              <a:gd name="textAreaLeft" fmla="*/ 0 w 457200"/>
              <a:gd name="textAreaRight" fmla="*/ 164880 w 4572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716440" y="2666880"/>
            <a:ext cx="127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1 iteratio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66360" y="334800"/>
            <a:ext cx="82486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ove </a:t>
            </a: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vec_length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 Call Out of Loop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4114800"/>
            <a:ext cx="8305920" cy="2209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214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ptimiz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54760" indent="-2199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ove call to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vec_length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out of inner loop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1240" indent="-1634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Value does not change from one iteration to nex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831240" indent="-1634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ode motio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554760" indent="-2199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PE:   20.66 (Compiled -O2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1240" indent="-1634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vec_length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requires only constant time, but significant overhead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554760" indent="0">
              <a:spcBef>
                <a:spcPts val="624"/>
              </a:spcBef>
              <a:buNone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531440" y="990720"/>
            <a:ext cx="4982040" cy="3106440"/>
          </a:xfrm>
          <a:prstGeom prst="rect">
            <a:avLst/>
          </a:prstGeom>
          <a:solidFill>
            <a:srgbClr val="ffff66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void combine2(vec_ptr v, int *dest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i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a50021"/>
                </a:solidFill>
                <a:latin typeface="Courier New"/>
              </a:rPr>
              <a:t>length = vec_length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(v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*dest = 0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i = 0; i &lt; </a:t>
            </a:r>
            <a:r>
              <a:rPr b="1" lang="en-US" sz="1800" spc="-1" strike="noStrike">
                <a:solidFill>
                  <a:srgbClr val="a50021"/>
                </a:solidFill>
                <a:latin typeface="Courier New"/>
              </a:rPr>
              <a:t>length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; i++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val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get_vec_element(v, i, &amp;val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*dest += val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080800" y="1905120"/>
            <a:ext cx="4982040" cy="2009160"/>
          </a:xfrm>
          <a:prstGeom prst="rect">
            <a:avLst/>
          </a:prstGeom>
          <a:solidFill>
            <a:srgbClr val="ffff66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void lower(char *s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i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i = 0; i &lt; strlen(s); i++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f (s[i] &gt;= 'A' &amp;&amp; s[i] &lt;= 'Z'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[i] -= ('A' - 'a'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120" y="334800"/>
            <a:ext cx="67518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de Motion Example #2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rocedure to Convert String to Lower Cas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xtracted from 213 lab submissions, Fall, 1998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334800"/>
            <a:ext cx="86788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Lower Case Conversion Performanc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90520" y="1522440"/>
            <a:ext cx="8307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ime quadruples when double string length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Quadratic performanc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885960" y="2438280"/>
          <a:ext cx="7372080" cy="3514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5960" y="2438280"/>
                    <a:ext cx="7372080" cy="351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334800"/>
            <a:ext cx="70311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nvert Loop To Goto Form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3120" y="5000760"/>
            <a:ext cx="82821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8000"/>
          </a:bodyPr>
          <a:p>
            <a:pPr lvl="1" marL="431640" indent="-1425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strlen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executed every iter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31640" indent="-1425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strlen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linear in length of strin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664560" indent="-13788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Must scan string until finds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'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\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'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31640" indent="-1425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verall performance is quadratic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209680" y="1143000"/>
            <a:ext cx="4962600" cy="3660120"/>
          </a:xfrm>
          <a:prstGeom prst="rect">
            <a:avLst/>
          </a:prstGeom>
          <a:solidFill>
            <a:srgbClr val="ffff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void lower(char *s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i = 0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f (i &gt;= strlen(s)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goto done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oop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f (s[i] &gt;= 'A' &amp;&amp; s[i] &lt;= 'Z'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[i] -= ('A' - 'a'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++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f (i &lt; </a:t>
            </a:r>
            <a:r>
              <a:rPr b="1" lang="en-US" sz="1800" spc="-1" strike="noStrike">
                <a:solidFill>
                  <a:srgbClr val="a50021"/>
                </a:solidFill>
                <a:latin typeface="Courier New"/>
              </a:rPr>
              <a:t>strlen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(s)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goto loop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one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68280"/>
            <a:ext cx="53164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Great Reality #4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There’s more to performance than asymptotic complexity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nstant factors matter too!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asily see 10:1 performance range depending on how code is writte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ust optimize at multiple levels: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lgorithm, data representations, procedures, and loop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ust understand system to optimize performanc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ow programs are compiled and execute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ow to measure program performance and identify bottleneck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ow to improve performance without destroying code modularity and generalit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90720" y="334800"/>
            <a:ext cx="62308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mproving Performanc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90520" y="3866760"/>
            <a:ext cx="8307360" cy="257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ove call to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strlen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outside of loop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ince result does not change from one iteration to anoth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orm of code mo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988640" y="1143000"/>
            <a:ext cx="4982040" cy="2283480"/>
          </a:xfrm>
          <a:prstGeom prst="rect">
            <a:avLst/>
          </a:prstGeom>
          <a:solidFill>
            <a:srgbClr val="ffff66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void lower(char *s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i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a50021"/>
                </a:solidFill>
                <a:latin typeface="Courier New"/>
              </a:rPr>
              <a:t>len = strlen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(s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i = 0; i &lt;</a:t>
            </a:r>
            <a:r>
              <a:rPr b="1" lang="en-US" sz="1800" spc="-1" strike="noStrike">
                <a:solidFill>
                  <a:srgbClr val="a50021"/>
                </a:solidFill>
                <a:latin typeface="Courier New"/>
              </a:rPr>
              <a:t> len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; i++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f (s[i] &gt;= 'A' &amp;&amp; s[i] &lt;= 'Z'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[i] -= ('A' - 'a'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2280" y="334800"/>
            <a:ext cx="87631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Lower Case Conversion Performanc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906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ime doubles when double string length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inear performanc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888840" y="1943280"/>
          <a:ext cx="7328160" cy="3974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8840" y="1943280"/>
                    <a:ext cx="7328160" cy="397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Optimization Blocker: Procedure Call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52280" y="990360"/>
            <a:ext cx="8839440" cy="5065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54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Why couldn’t the compiler move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vec_len</a:t>
            </a: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 or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strlen</a:t>
            </a: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 out of the inner loop?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84720" indent="-2260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ocedure may have side effec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054440" indent="-219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lters global state each time called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84720" indent="-2260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unction may not return same value for given argumen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054440" indent="-219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Depends on other parts of global stat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054440" indent="-219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rocedure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lower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could interact with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strle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54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Why doesn’t compiler look at code for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vec_len</a:t>
            </a: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 or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strlen</a:t>
            </a: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?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84720" indent="-2260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inker may overload with different vers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054440" indent="-219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nless declared static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84720" indent="-2260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terprocedural optimization is not used extensively due to cos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54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Warning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84720" indent="-2260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iler treats procedure call as a black box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84720" indent="-2260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eak optimizations in and around them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61760" y="334800"/>
            <a:ext cx="62816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eduction in Strength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3733920"/>
            <a:ext cx="8305920" cy="266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ptimiz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void procedure call to retrieve each vector elemen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9880" indent="-16524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Get pointer to start of array before loop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839880" indent="-16524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Within loop just do pointer referenc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839880" indent="-16524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Not as clean in terms of data abstractio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PE:   6.00 (Compiled -O2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9880" indent="-16524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rocedure calls are expensive!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839880" indent="-16524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Bounds checking is expensiv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531440" y="990720"/>
            <a:ext cx="4982040" cy="2557800"/>
          </a:xfrm>
          <a:prstGeom prst="rect">
            <a:avLst/>
          </a:prstGeom>
          <a:solidFill>
            <a:srgbClr val="ffff66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void combine3(vec_ptr v, int *dest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i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length = vec_length(v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*data = get_vec_start(v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*dest = 0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i = 0; i &lt; length; i++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*dest += data[i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9440" y="334800"/>
            <a:ext cx="89661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liminate Unneeded Memory Ref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3120" y="4017600"/>
            <a:ext cx="8282160" cy="234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ptimiz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on’t need to store in destination until en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ocal variable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sum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held in regist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voids 1 memory read, 1 memory write per cycl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PE:   2.00 (Compiled -O2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9880" indent="-165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Memory references are expensive!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560520" indent="0">
              <a:spcBef>
                <a:spcPts val="624"/>
              </a:spcBef>
              <a:buNone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531440" y="990720"/>
            <a:ext cx="4982040" cy="2832120"/>
          </a:xfrm>
          <a:prstGeom prst="rect">
            <a:avLst/>
          </a:prstGeom>
          <a:solidFill>
            <a:srgbClr val="ffff66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void combine4(vec_ptr v, int *dest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i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length = vec_length(v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*data = get_vec_start(v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sum = 0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i = 0; i &lt; length; i++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um += data[i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*dest = sum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80" y="334800"/>
            <a:ext cx="90169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Detecting Unneeded Memory Refs.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3120" y="4017600"/>
            <a:ext cx="8282160" cy="234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erformanc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bine3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9880" indent="-165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5 instructions in 6 clock cycl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839880" indent="-165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addl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must read and write memor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bine4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9880" indent="-165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4 instructions in  2 clock cycl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09960" y="1501920"/>
            <a:ext cx="4250520" cy="1734840"/>
          </a:xfrm>
          <a:prstGeom prst="rect">
            <a:avLst/>
          </a:prstGeom>
          <a:solidFill>
            <a:srgbClr val="ccec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L18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(%ecx,%edx,4)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ddl %eax,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(%edi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cl %ed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mpl %esi,%ed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l .L18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7600" y="1066680"/>
            <a:ext cx="128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ombine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812120" y="1501920"/>
            <a:ext cx="4250520" cy="1734840"/>
          </a:xfrm>
          <a:prstGeom prst="rect">
            <a:avLst/>
          </a:prstGeom>
          <a:solidFill>
            <a:srgbClr val="ccec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L24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ddl (%eax,%edx,4),%ec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cl %ed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mpl %esi,%ed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l .L2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802400" y="1066680"/>
            <a:ext cx="128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ombine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6320" y="304920"/>
            <a:ext cx="91440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Optimization Blocker: Memory Aliasing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5029200"/>
                <a:tab algn="l" pos="57150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liasing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5029200"/>
                <a:tab algn="l" pos="57150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wo different memory references specify single loc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5029200"/>
                <a:tab algn="l" pos="57150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xampl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5029200"/>
                <a:tab algn="l" pos="57150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v: [3, 2, 17]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5029200"/>
                <a:tab algn="l" pos="57150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combine3(v, get_vec_start(v)+2)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--&gt;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?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5029200"/>
                <a:tab algn="l" pos="57150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combine4(v, get_vec_start(v)+2)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--&gt;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?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5029200"/>
                <a:tab algn="l" pos="57150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bservation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5029200"/>
                <a:tab algn="l" pos="57150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asy to have happen in C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9880" indent="-165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5029200"/>
                <a:tab algn="l" pos="57150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ince allowed to do address arithmetic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839880" indent="-165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5029200"/>
                <a:tab algn="l" pos="57150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Direct access to storage structur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5029200"/>
                <a:tab algn="l" pos="57150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Get in habit of introducing local variabl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9880" indent="-165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5029200"/>
                <a:tab algn="l" pos="57150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ccumulating within loop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839880" indent="-165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5029200"/>
                <a:tab algn="l" pos="57150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Your way of telling compiler not to check for aliasing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4772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achine-Independent Opt. Summary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de Mo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Compilers are good at this for simple loop/array structur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Don’t do well in presence of procedure calls and memory aliasin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eduction in Strength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hift, add instead of multiply or divid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compilers are (generally) good at thi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Exact trade-offs machine-dependen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Keep data in registers rather than memor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compilers are not good at this, since concerned with aliasing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hare Common Subexpression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compilers have limited algebraic reasoning capabiliti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3160" y="334800"/>
            <a:ext cx="58496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mportant Tool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64008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easuremen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64008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ccurately compute time taken by cod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9880" indent="-165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64008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Most modern machines have built in cycle counter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839880" indent="-165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64008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sing them to get reliable measurements is trick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64008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ofile procedure calling frequenci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9880" indent="-165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64008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nix tool gprof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64008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bserv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64008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Generating assembly cod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9880" indent="-165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64008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Lets you see what optimizations compiler can mak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839880" indent="-165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64008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nderstand capabilities/limitations of particular compiler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3520" y="334800"/>
            <a:ext cx="66880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de Profiling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90520" y="990360"/>
            <a:ext cx="8307360" cy="60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"/>
          </a:bodyPr>
          <a:p>
            <a:pPr marL="345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ask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6960" indent="-219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unt word frequencies in text documen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6960" indent="-219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oduce sorted list of words from most frequent to leas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5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ep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6960" indent="-219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nvert strings to lowercas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6960" indent="-219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pply hash func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6960" indent="-219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ad words and insert into hash tabl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02960" indent="-21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Mostly list operation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02960" indent="-21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Maintain counter for each unique word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6960" indent="-219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ort resul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5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ata Se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6960" indent="-219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llected works of Shakespear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6960" indent="-219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946,596 total words, 26,596 uniqu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6960" indent="-219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itial implementation: 9.2 second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5867280" y="3124080"/>
          <a:ext cx="2438280" cy="3111480"/>
        </p:xfrm>
        <a:graphic>
          <a:graphicData uri="http://schemas.openxmlformats.org/drawingml/2006/table">
            <a:tbl>
              <a:tblPr/>
              <a:tblGrid>
                <a:gridCol w="1219320"/>
                <a:gridCol w="1218960"/>
              </a:tblGrid>
              <a:tr h="32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29,801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the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32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27,529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and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32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21,029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I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32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20,957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to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32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8,514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of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32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5,370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32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4010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you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32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2,936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my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32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1,722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in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32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1,519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that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1" name=""/>
          <p:cNvSpPr/>
          <p:nvPr/>
        </p:nvSpPr>
        <p:spPr>
          <a:xfrm>
            <a:off x="5780520" y="2362320"/>
            <a:ext cx="25567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11448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Shakespeare’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11448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most frequent word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65610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Optimizing Compiler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rovide efficient mapping of program to machin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gister alloc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de selection and orderin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liminating minor inefficienci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on’t (usually) improve asymptotic efficiency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p to programmer to select best overall algorithm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ig-O savings are (often) more important than constant factor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but constant factors also matter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Have difficulty overcoming “optimization blockers”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otential memory aliasin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otential procedure side-effec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334800"/>
            <a:ext cx="56088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de Profiling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90520" y="990360"/>
            <a:ext cx="8307360" cy="545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81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ugment Executable Program with Timing Function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utes (approximate) amount of time spent in each func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ime computation metho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34720" indent="-2358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eriodically (~ every 10ms) interrupt program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34720" indent="-2358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Determine what function is currently executing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34720" indent="-2358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ncrement its timer by interval (e.g., 10ms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lso maintains counter for each function indicating number of times calle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1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Using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3692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gcc –O2 –pg prog. –o pro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./pro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34720" indent="-2358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xecutes in normal fashion, but also generates file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gmon.ou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3692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gprof pro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34720" indent="-2358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Generates profile information based on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gmon.ou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80880" y="334800"/>
            <a:ext cx="60912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rofiling Result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90520" y="3261960"/>
            <a:ext cx="8307360" cy="318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all Statistic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umber of calls and cumulative time for each func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erformance Limiter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sing inefficient sorting algorithm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ingle call uses 87% of CPU tim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57760" y="1219320"/>
            <a:ext cx="8228160" cy="1549080"/>
          </a:xfrm>
          <a:prstGeom prst="rect">
            <a:avLst/>
          </a:prstGeom>
          <a:solidFill>
            <a:srgbClr val="ffcc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%   cumulative   self              self     total         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time   seconds   seconds    calls  ms/call  ms/call  name  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6.60      8.21     8.21        1  8210.00  8210.00  sort_word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5.80      8.76     0.55   946596     0.00     0.00  lower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4.75      9.21     0.45   946596     0.00     0.00  find_ele_rec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1.27      9.33     0.12   946596     0.00     0.00  h_ad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382480" y="334800"/>
            <a:ext cx="44197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de Optimizatio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90520" y="4395600"/>
            <a:ext cx="8307360" cy="37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42000"/>
          </a:bodyPr>
          <a:p>
            <a:pPr lvl="1" marL="312480" indent="-1029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irst step: Use more efficient sorting func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312480" indent="-1029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ibrary function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qsor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961920" y="1371600"/>
          <a:ext cx="7220160" cy="2638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1920" y="1371600"/>
                    <a:ext cx="7220160" cy="26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59644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Further Optimizatio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90520" y="3657600"/>
            <a:ext cx="8307360" cy="209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0000"/>
          </a:bodyPr>
          <a:p>
            <a:pPr lvl="1" marL="595440" indent="-1965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ter first: Use iterative function to insert elements into linked lis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916920" indent="-1904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auses code to slow dow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595440" indent="-1965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ter last: Iterative function, places new entry at end of lis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916920" indent="-1904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Tend to place most common words at front of lis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595440" indent="-1965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ig table: Increase number of hash bucke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95440" indent="-1965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etter hash: Use more sophisticated hash func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95440" indent="-1965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inear lower: Move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strlen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out of loop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961920" y="838080"/>
          <a:ext cx="7220160" cy="2638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1920" y="838080"/>
                    <a:ext cx="7220160" cy="26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61760" y="334800"/>
            <a:ext cx="63450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rofiling Observatio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Benefit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elps identify performance bottleneck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specially useful when have complex system with many componen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Limitation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nly shows performance for data teste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.g., linear lower did not show big gain, since words are shor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Quadratic inefficiency could remain lurking in cod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iming mechanism fairly crud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nly works for programs that run for &gt; 3 second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5345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Limitations of Optimizing Compiler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90520" y="1066680"/>
            <a:ext cx="8307360" cy="522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Operate Under Fundamental Constraint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ust not cause any change in program behavior under any possible condition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ften prevents it from making optimizations when would only affect behavior under pathological conditions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Behavior that may be obvious to the programmer can  be obfuscated by languages and coding styles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.g., data ranges may be more limited than variable types suggest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Most analysis is performed only within procedures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whole-program analysis is too expensive in most case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Most analysis is based only on </a:t>
            </a:r>
            <a:r>
              <a:rPr b="1" i="1" lang="en-US" sz="2000" spc="-1" strike="noStrike">
                <a:solidFill>
                  <a:srgbClr val="003300"/>
                </a:solidFill>
                <a:latin typeface="Arial"/>
              </a:rPr>
              <a:t>static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 information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ompiler has difficulty anticipating run-time input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When in doubt, the compiler must be conservative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350200" cy="1060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achine-Independent Optimizatio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90520" y="1220400"/>
            <a:ext cx="8307360" cy="1663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lvl="1" marL="625320" indent="-2062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ptimizations you should do regardless of processor / compil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240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de Mo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25320" indent="-2062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duce frequency with which computation performe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962640" indent="-2001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f it will always produce same resul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962640" indent="-2001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specially moving code out of loop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57640" y="3895560"/>
            <a:ext cx="2848680" cy="728280"/>
          </a:xfrm>
          <a:prstGeom prst="rect">
            <a:avLst/>
          </a:prstGeom>
          <a:solidFill>
            <a:srgbClr val="ffff66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for (i = 0; i &lt; n; i++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for (j = 0; j &lt; n; j++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a[n*i + j] = b[j]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596120" y="3666960"/>
            <a:ext cx="2848680" cy="1154520"/>
          </a:xfrm>
          <a:prstGeom prst="rect">
            <a:avLst/>
          </a:prstGeom>
          <a:solidFill>
            <a:srgbClr val="ffff66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for (i = 0; i &lt; n; i++) {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i="1" lang="en-US" sz="1400" spc="-1" strike="noStrike">
                <a:solidFill>
                  <a:srgbClr val="000066"/>
                </a:solidFill>
                <a:latin typeface="Courier New"/>
              </a:rPr>
              <a:t>int ni = n*i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for (j = 0; j &lt; n; j++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a[ni + j] = b[j]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13040" y="4205160"/>
            <a:ext cx="58428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79945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mpiler-Generated Code Mo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90520" y="914400"/>
            <a:ext cx="8307360" cy="196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ost compilers do a good job with array code + simple loop structur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de Generated by GCC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3600" y="2209680"/>
            <a:ext cx="2848680" cy="728280"/>
          </a:xfrm>
          <a:prstGeom prst="rect">
            <a:avLst/>
          </a:prstGeom>
          <a:solidFill>
            <a:srgbClr val="ffff66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for (i = 0; i &lt; n; i++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for (j = 0; j &lt; n; j++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a[n*i + j] = b[j]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243440" y="3809880"/>
            <a:ext cx="5591520" cy="2433240"/>
          </a:xfrm>
          <a:prstGeom prst="rect">
            <a:avLst/>
          </a:prstGeom>
          <a:solidFill>
            <a:srgbClr val="ccecf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imull %ebx,%eax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# i*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movl 8(%ebp),%edi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# a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leal (%edi,%eax,4),%edx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# p = a+i*n (scaled by 4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# Inner Loop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.L40: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movl 12(%ebp),%edi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# b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movl (%edi,%ecx,4),%eax # b+j  (scaled by 4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movl %eax,(%edx)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# *p = b[j]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addl $4,%edx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# p++  (scaled by 4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incl %ecx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# j++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jl .L40                 # loop if j&lt;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666880" y="3200400"/>
            <a:ext cx="609840" cy="4572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410080" y="1828800"/>
            <a:ext cx="2897280" cy="1367640"/>
          </a:xfrm>
          <a:prstGeom prst="rect">
            <a:avLst/>
          </a:prstGeom>
          <a:solidFill>
            <a:srgbClr val="ffff66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for (i = 0; i &lt; n; i++) {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int ni = n*i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i="1" lang="en-US" sz="1400" spc="-1" strike="noStrike">
                <a:solidFill>
                  <a:srgbClr val="000066"/>
                </a:solidFill>
                <a:latin typeface="Courier New"/>
              </a:rPr>
              <a:t>int *p = a+ni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for (j = 0; j &lt; n; j++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*p++ = b[j]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800600" y="3047760"/>
            <a:ext cx="457200" cy="60948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6204240" cy="55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eduction in Strength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place costly operation with simpler on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hift, add instead of multiply or divid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16*x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--&gt;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x &lt;&lt; 4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tility machine dependen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Depends on cost of multiply or divide instructio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n Pentium II or III, integer multiply only requires 4 CPU cycl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cognize sequence of produc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62200" y="4216320"/>
            <a:ext cx="2848680" cy="728280"/>
          </a:xfrm>
          <a:prstGeom prst="rect">
            <a:avLst/>
          </a:prstGeom>
          <a:solidFill>
            <a:srgbClr val="ffff66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for (i = 0; i &lt; n; i++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for (j = 0; j &lt; n; j++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a[n*i + j] = b[j]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901040" y="3987720"/>
            <a:ext cx="2848680" cy="1367640"/>
          </a:xfrm>
          <a:prstGeom prst="rect">
            <a:avLst/>
          </a:prstGeom>
          <a:solidFill>
            <a:srgbClr val="ffff66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66"/>
                </a:solidFill>
                <a:latin typeface="Courier New"/>
              </a:rPr>
              <a:t>int ni = 0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for (i = 0; i &lt; n; i++) {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for (j = 0; j &lt; n; j++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a[ni + j] = b[j]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i="1" lang="en-US" sz="1400" spc="-1" strike="noStrike">
                <a:solidFill>
                  <a:srgbClr val="000066"/>
                </a:solidFill>
                <a:latin typeface="Courier New"/>
              </a:rPr>
              <a:t>ni += n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017960" y="4525920"/>
            <a:ext cx="58428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334800"/>
            <a:ext cx="63324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ake Use of Register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ading and writing registers much faster than reading/writing memor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Limit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iler not always able to determine whether variable can be held in regist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ossibility of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Aliasin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e example lat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381880" cy="1060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achine-Independent Opts. (Cont.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90520" y="1066680"/>
            <a:ext cx="8307360" cy="537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hare Common Subexpression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use portions of express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ilers often not very sophisticated in exploiting arithmetic properti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47200" y="2590920"/>
            <a:ext cx="3488400" cy="1367640"/>
          </a:xfrm>
          <a:prstGeom prst="rect">
            <a:avLst/>
          </a:prstGeom>
          <a:solidFill>
            <a:srgbClr val="ffff66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/* Sum neighbors of i,j */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up =    val[(i-1)*n + j]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down =  val[(i+1)*n + j]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left =  val[i*n   + j-1]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right = val[i*n   + j+1]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sum = up + down + left + right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433400" y="2590920"/>
            <a:ext cx="3488400" cy="1367640"/>
          </a:xfrm>
          <a:prstGeom prst="rect">
            <a:avLst/>
          </a:prstGeom>
          <a:solidFill>
            <a:srgbClr val="ffff66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int inj = i*n + j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up =    val[inj - n]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down =  val[inj + n]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left =  val[inj - 1]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right = val[inj + 1]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sum = up + down + left + right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74840" y="4097160"/>
            <a:ext cx="36302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3 multiplications: i*n, (i–1)*n, (i+1)*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660560" y="4097160"/>
            <a:ext cx="20484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 multiplication: i*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33520" y="4648320"/>
            <a:ext cx="3657600" cy="1154520"/>
          </a:xfrm>
          <a:prstGeom prst="rect">
            <a:avLst/>
          </a:prstGeom>
          <a:solidFill>
            <a:srgbClr val="ffff66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leal -1(%edx),%ecx  # i-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imull %ebx,%ecx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 # (i-1)*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leal 1(%edx),%eax   # i+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imull %ebx,%eax     # (i+1)*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imull %ebx,%edx     # i*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1T09:19:24Z</dcterms:created>
  <dc:creator>Randal E. Bryant and David R. O'Hallaron</dc:creator>
  <dc:description/>
  <dc:language>en-US</dc:language>
  <cp:lastModifiedBy>droh</cp:lastModifiedBy>
  <cp:lastPrinted>1998-08-31T18:34:23Z</cp:lastPrinted>
  <dcterms:modified xsi:type="dcterms:W3CDTF">2002-10-28T20:31:04Z</dcterms:modified>
  <cp:revision>98</cp:revision>
  <dc:subject/>
  <dc:title>Code Optimization I</dc:title>
</cp:coreProperties>
</file>