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782DD3B-F10E-4391-83B5-7B082CEAE1E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57178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In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duction in str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on subexpression sha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performance bottlene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468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ector AD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1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ptr new_vec(int le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vector of specified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rieve vector element, store at *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0 if out of bounds, 1 if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get_vec_start(vec_ptr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 to start of vect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array implementations in Pascal, M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always do bounds check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116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129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use nan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 of computer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uters controlled by high frequency clock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M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10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G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0.5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sh machines: 550 MHz (1.8 ns clock perio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71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s Per El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5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nient way to express performance of program that operators on vectors or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=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 = CPE*n +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514600"/>
          <a:ext cx="584820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48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343400"/>
            <a:ext cx="154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34800"/>
            <a:ext cx="582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integer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data structure and operations defined via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2.06 (Compiled -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.25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20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vec_length call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result always the s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a50021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6440" y="2666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824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vec_length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all Out of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does not change from one iteration to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0.66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quires only constant time, but significan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 = 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6751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Mo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ed from 213 lab submissions, Fall, 199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522440"/>
            <a:ext cx="8307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quadrup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drat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vert Loop To Goto F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3120" y="5000760"/>
            <a:ext cx="82821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xecut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near in length of st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64560" indent="-137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scan string until fi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performance is quadr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531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is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gorithm, data representations, procedures, and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are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623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3866760"/>
            <a:ext cx="830736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side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result does not change from one iteration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 of code mo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 = 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doub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Procedure C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0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may have side 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s global state each time ca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may not return same value for given argu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other parts of global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w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uld interac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l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ker may overload with different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ess declared sta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procedural optimization is not used extensively due to c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treats procedure call as a black bo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ak optimizations in and around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28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 procedure call to retrieve each vector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pointer to start of array before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oop just do pointer re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clean in terms of data abstra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6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call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nds checking is expens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iminate Unneeded Memory Ref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need to store in destination until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1 memory read, 1 memory write per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reference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Unneeded Memory Refs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instructions in 6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read and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instructions in  2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96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212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Memory Alias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different memory references specify singl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: [3, 2, 17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3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4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have happen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allowed to do address arithme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 access to storage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in habit of introducing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umulating within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our way of telling compiler not to check for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77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are good at this for simple loop/array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n’t do well in presence of procedure calls and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(generally) good at th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act trade-offs machine-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ata in registers rather tha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not good at this, since concerned with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have limited algebraic reasoning capabil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ortant To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rately compute time taken b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modern machines have built in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them to get reliable measurements is trick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ile procedure calling frequ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tool gpro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ing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s you see what optimizations compiler can mak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 capabilities/limitations of particula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6688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word frequencies in tex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 sorted list of words from most frequent to le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strings to lowerca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s and insert into hash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ly list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 counter for each unique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rt res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ed works of Shakespe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46,596 total words, 26,596 u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implementation: 9.2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78052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56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selection and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ing minor ineffici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programmer to select best overall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-O savings are (often) more important than constant fa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constant factors also mat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procedure side-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56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(approximate) amount of time spent in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computation meth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iodically (~ every 10ms) interrup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 what function is currently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ment its timer by interval (e.g., 10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maintains counter for each function indicating number of times call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–O2 –pg prog. –o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/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cutes in normal fashion, but also generates fil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prof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profile information based 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091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0520" y="3261960"/>
            <a:ext cx="830736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alls and cumulative time for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ing inefficient sorting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call uses 87% of 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520" y="4395600"/>
            <a:ext cx="8307360" cy="3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step: Use more efficient sorting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brary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s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5964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rther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3657600"/>
            <a:ext cx="830736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first: Use iterative function to insert elements into link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es code to slow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last: Iterative function, places new entry at end of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nd to place most common words at front of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table: Increase number of hash bu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ter hash: Use more sophisticated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lower: Mov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61920" y="8380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8380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45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identify performance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useful when have complex system with many compon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s performance for data tes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inear lower did not show big gain, since words are sh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adratic inefficiency could remain lurking i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ing mechanism fairly cru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orks for programs that run for &gt; 3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e Under Fundamental Constrai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performed only within procedur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based only on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nform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en in doubt, the compiler must be conservativ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50200" cy="106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mizations you should do regardless of processor /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requency with which computation perform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it will always produce same res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moving code out of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7640" y="389556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6120" y="3666960"/>
            <a:ext cx="2848680" cy="11545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3040" y="420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9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er-Generated Code Mo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19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ilers do a good job with array code + simple loop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 costly operation with simpler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 &lt;&lt;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ility machine 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cost of multiply or divide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Pentium II or III, integer multiply only requires 4 CPU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ognize sequence of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2200" y="421632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1040" y="3987720"/>
            <a:ext cx="28486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960" y="452592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633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ke Use of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registers much faster than reading/writing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not always able to determine whether variable can be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ility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example la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s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use portions of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often not very sophisticated in exploiting arithmetic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04Z</dcterms:modified>
  <cp:revision>98</cp:revision>
  <dc:subject/>
  <dc:title>Code Optimization I</dc:title>
</cp:coreProperties>
</file>