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A758541E-19F5-4A21-BAD7-77939D9F505A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836720"/>
            <a:ext cx="9144000" cy="1565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de Optimization I: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chine Independent Optimizations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pt. 26, 200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5717880" cy="246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chine-Independent Optimiza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80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de mo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80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duction in strength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80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mmon subexpression sharin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un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80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dentifying performance bottleneck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5920" y="650088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lass10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60120" y="762120"/>
            <a:ext cx="5644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"/>
              </a:rPr>
              <a:t>15-213</a:t>
            </a:r>
            <a:br>
              <a:rPr sz="3800"/>
            </a:br>
            <a:r>
              <a:rPr b="1" i="1" lang="en-US" sz="2500" spc="-1" strike="noStrike">
                <a:solidFill>
                  <a:srgbClr val="000066"/>
                </a:solidFill>
                <a:latin typeface="Arial"/>
              </a:rPr>
              <a:t>“The course that gives CMU its Zip!”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34800"/>
            <a:ext cx="4681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Vector AD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8381880" cy="415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cedur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vec_ptr new_vec(int len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reate vector of specified length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get_vec_element(vec_ptr v, int index, int *dest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trieve vector element, store at *des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turn 0 if out of bounds, 1 if successfu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 *get_vec_start(vec_ptr v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turn pointer to start of vector data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milar to array implementations in Pascal, ML, Jav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.g., always do bounds checkin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295280" y="1523880"/>
            <a:ext cx="3657600" cy="609840"/>
            <a:chOff x="1295280" y="1523880"/>
            <a:chExt cx="3657600" cy="609840"/>
          </a:xfrm>
        </p:grpSpPr>
        <p:sp>
          <p:nvSpPr>
            <p:cNvPr id="116" name=""/>
            <p:cNvSpPr/>
            <p:nvPr/>
          </p:nvSpPr>
          <p:spPr>
            <a:xfrm>
              <a:off x="1295280" y="1523880"/>
              <a:ext cx="91440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length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95280" y="1828800"/>
              <a:ext cx="91440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dat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2819520" y="1828800"/>
              <a:ext cx="2133000" cy="304920"/>
              <a:chOff x="2819520" y="1828800"/>
              <a:chExt cx="2133000" cy="304920"/>
            </a:xfrm>
          </p:grpSpPr>
          <p:sp>
            <p:nvSpPr>
              <p:cNvPr id="119" name=""/>
              <p:cNvSpPr/>
              <p:nvPr/>
            </p:nvSpPr>
            <p:spPr>
              <a:xfrm>
                <a:off x="2819520" y="182880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124080" y="182880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429000" y="1828800"/>
                <a:ext cx="30420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647960" y="182880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33560" y="1828800"/>
                <a:ext cx="91404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Symbol"/>
                    <a:ea typeface="Symbol"/>
                  </a:rPr>
                  <a:t></a:t>
                </a: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 </a:t>
                </a:r>
                <a:r>
                  <a:rPr b="1" lang="en-US" sz="1800" spc="-1" strike="noStrike">
                    <a:solidFill>
                      <a:srgbClr val="000066"/>
                    </a:solidFill>
                    <a:latin typeface="Symbol"/>
                    <a:ea typeface="Symbol"/>
                  </a:rPr>
                  <a:t></a:t>
                </a: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 </a:t>
                </a:r>
                <a:r>
                  <a:rPr b="1" lang="en-US" sz="1800" spc="-1" strike="noStrike">
                    <a:solidFill>
                      <a:srgbClr val="000066"/>
                    </a:solidFill>
                    <a:latin typeface="Symbol"/>
                    <a:ea typeface="Symbol"/>
                  </a:rPr>
                  <a:t>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2057400" y="1981080"/>
              <a:ext cx="76212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819520" y="1523880"/>
              <a:ext cx="3045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124080" y="1523880"/>
              <a:ext cx="30492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429000" y="1523880"/>
              <a:ext cx="30492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648320" y="1523880"/>
              <a:ext cx="3045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length–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334800"/>
            <a:ext cx="61293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ptimization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160" y="4266720"/>
            <a:ext cx="830556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cedur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e sum of all elements of vecto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ore result at destination loc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30360" y="990720"/>
            <a:ext cx="5530680" cy="2832120"/>
          </a:xfrm>
          <a:prstGeom prst="rect">
            <a:avLst/>
          </a:prstGeom>
          <a:solidFill>
            <a:srgbClr val="ffff66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combine1(vec_ptr v, int *des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dest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 = 0; i &lt; vec_length(v); i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val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et_vec_element(v, i, &amp;val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dest += val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160" y="334800"/>
            <a:ext cx="5443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ime Sca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bsolute Tim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ypically use nanosecond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0</a:t>
            </a:r>
            <a:r>
              <a:rPr b="1" lang="en-US" sz="1800" spc="-1" strike="noStrike" baseline="30000">
                <a:solidFill>
                  <a:srgbClr val="000099"/>
                </a:solidFill>
                <a:latin typeface="Arial"/>
              </a:rPr>
              <a:t>–9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second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ime scale of computer instruc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ock Cycl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ost computers controlled by high frequency clock signa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ypical Ran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00 MHz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0</a:t>
            </a:r>
            <a:r>
              <a:rPr b="1" lang="en-US" sz="1800" spc="-1" strike="noStrike" baseline="30000">
                <a:solidFill>
                  <a:srgbClr val="000066"/>
                </a:solidFill>
                <a:latin typeface="Arial"/>
              </a:rPr>
              <a:t>8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cycles per second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lock period = 10n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 GHz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2 X 10</a:t>
            </a:r>
            <a:r>
              <a:rPr b="1" lang="en-US" sz="1800" spc="-1" strike="noStrike" baseline="30000">
                <a:solidFill>
                  <a:srgbClr val="000066"/>
                </a:solidFill>
                <a:latin typeface="Arial"/>
              </a:rPr>
              <a:t>9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cycles per second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lock period = 0.5n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ish machines: 550 MHz (1.8 ns clock period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334800"/>
            <a:ext cx="57103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ycles Per Elemen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151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venient way to express performance of program that operators on vectors or lis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ength = 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 = CPE*n + Overhea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676520" y="2514600"/>
          <a:ext cx="5848200" cy="4057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514600"/>
                    <a:ext cx="5848200" cy="40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3933720" y="3362400"/>
            <a:ext cx="12574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sum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lope = 4.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10080" y="4343400"/>
            <a:ext cx="15433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sum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lope = 3.5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18960" y="334800"/>
            <a:ext cx="5824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ptimization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160" y="3877920"/>
            <a:ext cx="8305560" cy="244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08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cedur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21280" indent="-206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e sum of all elements of integer vecto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21280" indent="-206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ore result at destination loc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21280" indent="-206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ector data structure and operations defined via abstract data typ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08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ntium II/III Performance: Clock Cycles / Elemen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21280" indent="-206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2.06 (Compiled -g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1.25 (Compiled -O2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21280" indent="0">
              <a:spcBef>
                <a:spcPts val="624"/>
              </a:spcBef>
              <a:buNone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30360" y="990720"/>
            <a:ext cx="5530680" cy="2832120"/>
          </a:xfrm>
          <a:prstGeom prst="rect">
            <a:avLst/>
          </a:prstGeom>
          <a:solidFill>
            <a:srgbClr val="ffff66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combine1(vec_ptr v, int *des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dest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 = 0; i &lt; vec_length(v); i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val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et_vec_element(v, i, &amp;val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dest += val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34800"/>
            <a:ext cx="62056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derstanding Loo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520" y="5181120"/>
            <a:ext cx="8254800" cy="122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nefficienc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cedure vec_length called every iter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ven though result always the sam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23880" y="990720"/>
            <a:ext cx="5680080" cy="4203720"/>
          </a:xfrm>
          <a:prstGeom prst="rect">
            <a:avLst/>
          </a:prstGeom>
          <a:solidFill>
            <a:srgbClr val="ffcccc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combine1-goto(vec_ptr v, int *des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val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dest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i &gt;= vec_length(v)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oto done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op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et_vec_element(v, i, &amp;val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dest += val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++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i &lt; </a:t>
            </a:r>
            <a:r>
              <a:rPr b="1" i="1" lang="en-US" sz="1800" spc="-1" strike="noStrike">
                <a:solidFill>
                  <a:srgbClr val="a50021"/>
                </a:solidFill>
                <a:latin typeface="Courier New"/>
              </a:rPr>
              <a:t>vec_length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v)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oto lo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ne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172200" y="3124080"/>
            <a:ext cx="457200" cy="1447920"/>
          </a:xfrm>
          <a:custGeom>
            <a:avLst/>
            <a:gdLst>
              <a:gd name="textAreaLeft" fmla="*/ 0 w 457200"/>
              <a:gd name="textAreaRight" fmla="*/ 164880 w 4572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16440" y="266688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 itera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66360" y="334800"/>
            <a:ext cx="82486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ove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vec_length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Call Out of Loo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41148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214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timiz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54760" indent="-2199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ove call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vec_length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out of inner loo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1240" indent="-163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Value does not change from one iteration to nex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1240" indent="-163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de mo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54760" indent="-2199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PE:   20.66 (Compiled -O2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1240" indent="-163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vec_length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requires only constant time, but significant overhea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54760" indent="0">
              <a:spcBef>
                <a:spcPts val="624"/>
              </a:spcBef>
              <a:buNone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531440" y="990720"/>
            <a:ext cx="4982040" cy="3106440"/>
          </a:xfrm>
          <a:prstGeom prst="rect">
            <a:avLst/>
          </a:prstGeom>
          <a:solidFill>
            <a:srgbClr val="ffff66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combine2(vec_ptr v, int *des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a50021"/>
                </a:solidFill>
                <a:latin typeface="Courier New"/>
              </a:rPr>
              <a:t>length = vec_length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v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dest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 = 0; i &lt; </a:t>
            </a:r>
            <a:r>
              <a:rPr b="1" lang="en-US" sz="1800" spc="-1" strike="noStrike">
                <a:solidFill>
                  <a:srgbClr val="a50021"/>
                </a:solidFill>
                <a:latin typeface="Courier New"/>
              </a:rPr>
              <a:t>length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 i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val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et_vec_element(v, i, &amp;val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dest += val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080800" y="1905120"/>
            <a:ext cx="4982040" cy="2009160"/>
          </a:xfrm>
          <a:prstGeom prst="rect">
            <a:avLst/>
          </a:prstGeom>
          <a:solidFill>
            <a:srgbClr val="ffff66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lower(char *s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 = 0; i &lt; strlen(s); i++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s[i] &gt;= 'A' &amp;&amp; s[i] &lt;= 'Z'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[i] -= ('A' - 'a'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120" y="334800"/>
            <a:ext cx="6751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de Motion Example #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cedure to Convert String to Lower Cas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tracted from 213 lab submissions, Fall, 1998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334800"/>
            <a:ext cx="86788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ower Case Conversion Performanc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90520" y="1522440"/>
            <a:ext cx="8307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ime quadruples when double string length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Quadratic performa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885960" y="2438280"/>
          <a:ext cx="7372080" cy="3514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5960" y="2438280"/>
                    <a:ext cx="7372080" cy="35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334800"/>
            <a:ext cx="70311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vert Loop To Goto Form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3120" y="5000760"/>
            <a:ext cx="82821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8000"/>
          </a:bodyPr>
          <a:p>
            <a:pPr lvl="1" marL="431640" indent="-1425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trle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executed every iter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31640" indent="-1425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trle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linear in length of str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664560" indent="-1378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ust scan string until finds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'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\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'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31640" indent="-1425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verall performance is quadrati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09680" y="1143000"/>
            <a:ext cx="4962600" cy="3660120"/>
          </a:xfrm>
          <a:prstGeom prst="rect">
            <a:avLst/>
          </a:prstGeom>
          <a:solidFill>
            <a:srgbClr val="ffff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lower(char *s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i &gt;= strlen(s)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oto done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op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s[i] &gt;= 'A' &amp;&amp; s[i] &lt;= 'Z'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[i] -= ('A' - 'a'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++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i &lt; </a:t>
            </a:r>
            <a:r>
              <a:rPr b="1" lang="en-US" sz="1800" spc="-1" strike="noStrike">
                <a:solidFill>
                  <a:srgbClr val="a50021"/>
                </a:solidFill>
                <a:latin typeface="Courier New"/>
              </a:rPr>
              <a:t>strlen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s)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oto loo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ne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68280"/>
            <a:ext cx="53164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Great Reality #4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There’s more to performance than asymptotic complexit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stant factors matter too!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sily see 10:1 performance range depending on how code is writte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st optimize at multiple levels: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lgorithm, data representations, procedures, and loop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ust understand system to optimize performan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ow programs are compiled and execut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ow to measure program performance and identify bottleneck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ow to improve performance without destroying code modularity and generalit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90720" y="334800"/>
            <a:ext cx="62308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mproving Performanc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90520" y="3866760"/>
            <a:ext cx="8307360" cy="257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ove call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trle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outside of loo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nce result does not change from one iteration to anoth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orm of code mo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988640" y="1143000"/>
            <a:ext cx="4982040" cy="2283480"/>
          </a:xfrm>
          <a:prstGeom prst="rect">
            <a:avLst/>
          </a:prstGeom>
          <a:solidFill>
            <a:srgbClr val="ffff66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lower(char *s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a50021"/>
                </a:solidFill>
                <a:latin typeface="Courier New"/>
              </a:rPr>
              <a:t>len = strlen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s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 = 0; i &lt;</a:t>
            </a:r>
            <a:r>
              <a:rPr b="1" lang="en-US" sz="1800" spc="-1" strike="noStrike">
                <a:solidFill>
                  <a:srgbClr val="a50021"/>
                </a:solidFill>
                <a:latin typeface="Courier New"/>
              </a:rPr>
              <a:t> len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 i++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f (s[i] &gt;= 'A' &amp;&amp; s[i] &lt;= 'Z'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[i] -= ('A' - 'a'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280" y="334800"/>
            <a:ext cx="87631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ower Case Conversion Performanc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90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ime doubles when double string length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near performa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888840" y="1943280"/>
          <a:ext cx="7328160" cy="3974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8840" y="1943280"/>
                    <a:ext cx="7328160" cy="39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ptimization Blocker: Procedure Call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839440" cy="506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54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Why couldn’t the compiler move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vec_len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strlen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 out of the inner loop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84720" indent="-226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cedure may have side effec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54440" indent="-219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lters global state each time calle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84720" indent="-226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unction may not return same value for given argumen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54440" indent="-219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epends on other parts of global stat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54440" indent="-219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rocedure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lower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could interact with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strle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54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Why doesn’t compiler look at code for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vec_len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strlen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84720" indent="-226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nker may overload with different vers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54440" indent="-219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nless declared static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84720" indent="-226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terprocedural optimization is not used extensively due to cos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54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arning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84720" indent="-226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iler treats procedure call as a black box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84720" indent="-226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eak optimizations in and around the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1760" y="334800"/>
            <a:ext cx="62816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duction in Strength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3733920"/>
            <a:ext cx="830592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timiz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void procedure call to retrieve each vector elem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Get pointer to start of array before loop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ithin loop just do pointer referenc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t as clean in terms of data abstrac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PE:   6.00 (Compiled -O2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rocedure calls are expensive!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ounds checking is expensiv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31440" y="990720"/>
            <a:ext cx="4982040" cy="2557800"/>
          </a:xfrm>
          <a:prstGeom prst="rect">
            <a:avLst/>
          </a:prstGeom>
          <a:solidFill>
            <a:srgbClr val="ffff66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combine3(vec_ptr v, int *des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length = vec_length(v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data = get_vec_start(v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dest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 = 0; i &lt; length; i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dest += data[i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9440" y="334800"/>
            <a:ext cx="89661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liminate Unneeded Memory Ref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3120" y="4017600"/>
            <a:ext cx="8282160" cy="234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timiz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on’t need to store in destination until en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cal variable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u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held in regist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voids 1 memory read, 1 memory write per cyc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PE:   2.00 (Compiled -O2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emory references are expensive!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0">
              <a:spcBef>
                <a:spcPts val="624"/>
              </a:spcBef>
              <a:buNone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531440" y="990720"/>
            <a:ext cx="4982040" cy="2832120"/>
          </a:xfrm>
          <a:prstGeom prst="rect">
            <a:avLst/>
          </a:prstGeom>
          <a:solidFill>
            <a:srgbClr val="ffff66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combine4(vec_ptr v, int *des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length = vec_length(v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data = get_vec_start(v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sum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 = 0; i &lt; length; i++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um += data[i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dest = sum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80" y="334800"/>
            <a:ext cx="90169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etecting Unneeded Memory Refs.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3120" y="4017600"/>
            <a:ext cx="8282160" cy="234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rforman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bine3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5 instructions in 6 clock cycl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ddl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must read and write memor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bine4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4 instructions in  2 clock cycl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09960" y="1501920"/>
            <a:ext cx="4250520" cy="173484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18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cx,%edx,4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%eax,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(%edi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cl 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si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 .L1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7600" y="106668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mbine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12120" y="1501920"/>
            <a:ext cx="4250520" cy="173484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24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(%eax,%edx,4),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cl 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si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 .L2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02400" y="106668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mbine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320" y="304920"/>
            <a:ext cx="91440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ptimization Blocker: Memory Alias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5029200"/>
                <a:tab algn="l" pos="57150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lias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5029200"/>
                <a:tab algn="l" pos="57150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wo different memory references specify single loc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5029200"/>
                <a:tab algn="l" pos="57150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5029200"/>
                <a:tab algn="l" pos="57150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v: [3, 2, 17]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5029200"/>
                <a:tab algn="l" pos="57150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ombine3(v, get_vec_start(v)+2)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--&gt;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5029200"/>
                <a:tab algn="l" pos="57150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ombine4(v, get_vec_start(v)+2)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--&gt;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?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5029200"/>
                <a:tab algn="l" pos="57150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bserva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5029200"/>
                <a:tab algn="l" pos="57150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sy to have happen in 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5029200"/>
                <a:tab algn="l" pos="57150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ince allowed to do address arithmetic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5029200"/>
                <a:tab algn="l" pos="57150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irect access to storage structur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5029200"/>
                <a:tab algn="l" pos="57150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et in habit of introducing local variab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5029200"/>
                <a:tab algn="l" pos="57150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ccumulating within loop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5029200"/>
                <a:tab algn="l" pos="57150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Your way of telling compiler not to check for aliasin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4772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chine-Independent Opt. Summa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de Mo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Compilers are good at this for simple loop/array structur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Don’t do well in presence of procedure calls and memory alias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duction in Strength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hift, add instead of multiply or divi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compilers are (generally) good at thi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Exact trade-offs machine-dependen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Keep data in registers rather than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compilers are not good at this, since concerned with aliasin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hare Common Subexpress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compilers have limited algebraic reasoning capabilit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160" y="334800"/>
            <a:ext cx="58496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mportant Tool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64008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asuremen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64008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ccurately compute time taken by 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64008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ost modern machines have built in cycle counter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64008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ing them to get reliable measurements is trick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64008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file procedure calling frequenc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64008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nix tool gprof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64008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bserv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64008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enerating assembly 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64008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ets you see what optimizations compiler can mak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64008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nderstand capabilities/limitations of particular compil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334800"/>
            <a:ext cx="66880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de Profiling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60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"/>
          </a:bodyPr>
          <a:p>
            <a:pPr marL="34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ask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6960" indent="-219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unt word frequencies in text docum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6960" indent="-219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duce sorted list of words from most frequent to leas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ep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6960" indent="-219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vert strings to lowercas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6960" indent="-219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pply hash fun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6960" indent="-219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 words and insert into hash tab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2960" indent="-21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ostly list opera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2960" indent="-21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aintain counter for each unique wor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6960" indent="-219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ort resul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ata Se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6960" indent="-219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llected works of Shakespea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6960" indent="-219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946,596 total words, 26,596 uniqu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6960" indent="-219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itial implementation: 9.2 second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5867280" y="3124080"/>
          <a:ext cx="2438280" cy="311148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</a:tblGrid>
              <a:tr h="32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9,801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the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2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7,529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and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2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1,029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2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0,957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to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2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8,514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of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2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5,370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2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4010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you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2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2,936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my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2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1,722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in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2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1,519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6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that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5780520" y="2362320"/>
            <a:ext cx="25567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144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Shakespeare’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1144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most frequent word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65610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ptimizing Compile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vide efficient mapping of program to machin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gister alloc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de selection and order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liminating minor inefficienc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on’t (usually) improve asymptotic efficienc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p to programmer to select best overall algorith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ig-O savings are (often) more important than constant facto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ut constant factors also matt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ave difficulty overcoming “optimization blockers”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tential memory alias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tential procedure side-effec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34800"/>
            <a:ext cx="5608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de Profil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ugment Executable Program with Timing Func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es (approximate) amount of time spent in each fun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ime computation metho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eriodically (~ every 10ms) interrupt program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etermine what function is currently executin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crement its timer by interval (e.g., 10ms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so maintains counter for each function indicating number of times call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Us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gcc –O2 –pg prog. –o pro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./pro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xecutes in normal fashion, but also generates file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gmon.ou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369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gprof pro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Generates profile information based on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gmon.ou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880" y="334800"/>
            <a:ext cx="60912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filing Resul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90520" y="3261960"/>
            <a:ext cx="8307360" cy="318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ll Statist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umber of calls and cumulative time for each fun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rformance Limite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ing inefficient sorting algorith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ngle call uses 87% of CPU tim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57760" y="1219320"/>
            <a:ext cx="8228160" cy="154908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%   cumulative   self              self     total       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time   seconds   seconds    calls  ms/call  ms/call  name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6.60      8.21     8.21        1  8210.00  8210.00  sort_word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5.80      8.76     0.55   946596     0.00     0.00  lower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4.75      9.21     0.45   946596     0.00     0.00  find_ele_re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1.27      9.33     0.12   946596     0.00     0.00  h_ad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382480" y="334800"/>
            <a:ext cx="44197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de Optimiz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90520" y="4395600"/>
            <a:ext cx="8307360" cy="37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42000"/>
          </a:bodyPr>
          <a:p>
            <a:pPr lvl="1" marL="312480" indent="-1029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irst step: Use more efficient sorting fun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12480" indent="-1029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brary function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qsor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961920" y="1371600"/>
          <a:ext cx="7220160" cy="2638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1920" y="1371600"/>
                    <a:ext cx="7220160" cy="26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59644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urther Optimiz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90520" y="3657600"/>
            <a:ext cx="8307360" cy="209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lvl="1" marL="595440" indent="-1965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ter first: Use iterative function to insert elements into linked lis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16920" indent="-190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uses code to slow dow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95440" indent="-1965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ter last: Iterative function, places new entry at end of lis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16920" indent="-190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end to place most common words at front of lis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95440" indent="-1965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ig table: Increase number of hash bucke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95440" indent="-1965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etter hash: Use more sophisticated hash fun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95440" indent="-1965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near lower: Move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trle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out of loo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961920" y="838080"/>
          <a:ext cx="7220160" cy="2638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1920" y="838080"/>
                    <a:ext cx="7220160" cy="26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61760" y="334800"/>
            <a:ext cx="63450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filing Observ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enefi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elps identify performance bottleneck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specially useful when have complex system with many componen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imita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nly shows performance for data test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.g., linear lower did not show big gain, since words are shor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Quadratic inefficiency could remain lurking in cod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iming mechanism fairly cru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nly works for programs that run for &gt; 3 second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imitations of Optimizing Compile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90520" y="1066680"/>
            <a:ext cx="8307360" cy="522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Operate Under Fundamental Constraint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ust not cause any change in program behavior under any possible condition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ften prevents it from making optimizations when would only affect behavior under pathological conditions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Behavior that may be obvious to the programmer can  be obfuscated by languages and coding style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.g., data ranges may be more limited than variable types suggest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Most analysis is performed only within procedure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hole-program analysis is too expensive in most cas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Most analysis is based only on </a:t>
            </a:r>
            <a:r>
              <a:rPr b="1" i="1" lang="en-US" sz="2000" spc="-1" strike="noStrike">
                <a:solidFill>
                  <a:srgbClr val="003300"/>
                </a:solidFill>
                <a:latin typeface="Arial"/>
              </a:rPr>
              <a:t>static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 information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mpiler has difficulty anticipating run-time input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When in doubt, the compiler must be conservativ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50200" cy="1060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chine-Independent Optimiz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8307360" cy="166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lvl="1" marL="625320" indent="-206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ptimizations you should do regardless of processor / compil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24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de Mo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25320" indent="-206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duce frequency with which computation perform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62640" indent="-2001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f it will always produce same resul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962640" indent="-2001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specially moving code out of loop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57640" y="3895560"/>
            <a:ext cx="2848680" cy="728280"/>
          </a:xfrm>
          <a:prstGeom prst="rect">
            <a:avLst/>
          </a:prstGeom>
          <a:solidFill>
            <a:srgbClr val="ffff66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for (i = 0; i &lt; n; i++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for (j = 0; j &lt; n; j++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a[n*i + j] = b[j]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96120" y="3666960"/>
            <a:ext cx="2848680" cy="1154520"/>
          </a:xfrm>
          <a:prstGeom prst="rect">
            <a:avLst/>
          </a:prstGeom>
          <a:solidFill>
            <a:srgbClr val="ffff66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for (i = 0; i &lt; n; i++) 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i="1" lang="en-US" sz="1400" spc="-1" strike="noStrike">
                <a:solidFill>
                  <a:srgbClr val="000066"/>
                </a:solidFill>
                <a:latin typeface="Courier New"/>
              </a:rPr>
              <a:t>int ni = n*i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for (j = 0; j &lt; n; j++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a[ni + j] = b[j]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13040" y="4205160"/>
            <a:ext cx="58428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79945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mpiler-Generated Code Mo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90520" y="914400"/>
            <a:ext cx="8307360" cy="196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ost compilers do a good job with array code + simple loop structur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de Generated by GCC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3600" y="2209680"/>
            <a:ext cx="2848680" cy="728280"/>
          </a:xfrm>
          <a:prstGeom prst="rect">
            <a:avLst/>
          </a:prstGeom>
          <a:solidFill>
            <a:srgbClr val="ffff66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for (i = 0; i &lt; n; i++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for (j = 0; j &lt; n; j++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a[n*i + j] = b[j]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43440" y="3809880"/>
            <a:ext cx="5591520" cy="2433240"/>
          </a:xfrm>
          <a:prstGeom prst="rect">
            <a:avLst/>
          </a:prstGeom>
          <a:solidFill>
            <a:srgbClr val="ccec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imull %ebx,%eax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# i*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movl 8(%ebp),%edi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# a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leal (%edi,%eax,4),%edx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# p = a+i*n (scaled by 4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# Inner Loop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.L40: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movl 12(%ebp),%edi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# b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movl (%edi,%ecx,4),%eax # b+j  (scaled by 4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movl %eax,(%edx)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# *p = b[j]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addl $4,%edx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# p++  (scaled by 4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incl %ecx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# j++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jl .L40                 # loop if j&lt;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666880" y="3200400"/>
            <a:ext cx="609840" cy="4572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10080" y="1828800"/>
            <a:ext cx="2897280" cy="1367640"/>
          </a:xfrm>
          <a:prstGeom prst="rect">
            <a:avLst/>
          </a:prstGeom>
          <a:solidFill>
            <a:srgbClr val="ffff66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for (i = 0; i &lt; n; i++) 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int ni = n*i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i="1" lang="en-US" sz="1400" spc="-1" strike="noStrike">
                <a:solidFill>
                  <a:srgbClr val="000066"/>
                </a:solidFill>
                <a:latin typeface="Courier New"/>
              </a:rPr>
              <a:t>int *p = a+ni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for (j = 0; j &lt; n; j++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*p++ = b[j]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800600" y="3047760"/>
            <a:ext cx="457200" cy="6094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20424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duction in Strength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place costly operation with simpler on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hift, add instead of multiply or divi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16*x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--&gt;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x &lt;&lt; 4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tility machine dependen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epends on cost of multiply or divide instruc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n Pentium II or III, integer multiply only requires 4 CPU cycl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cognize sequence of produc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62200" y="4216320"/>
            <a:ext cx="2848680" cy="728280"/>
          </a:xfrm>
          <a:prstGeom prst="rect">
            <a:avLst/>
          </a:prstGeom>
          <a:solidFill>
            <a:srgbClr val="ffff66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for (i = 0; i &lt; n; i++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for (j = 0; j &lt; n; j++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a[n*i + j] = b[j]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901040" y="3987720"/>
            <a:ext cx="2848680" cy="1367640"/>
          </a:xfrm>
          <a:prstGeom prst="rect">
            <a:avLst/>
          </a:prstGeom>
          <a:solidFill>
            <a:srgbClr val="ffff66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66"/>
                </a:solidFill>
                <a:latin typeface="Courier New"/>
              </a:rPr>
              <a:t>int ni = 0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for (i = 0; i &lt; n; i++) 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for (j = 0; j &lt; n; j++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a[ni + j] = b[j]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i="1" lang="en-US" sz="1400" spc="-1" strike="noStrike">
                <a:solidFill>
                  <a:srgbClr val="000066"/>
                </a:solidFill>
                <a:latin typeface="Courier New"/>
              </a:rPr>
              <a:t>ni += n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17960" y="4525920"/>
            <a:ext cx="58428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334800"/>
            <a:ext cx="63324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ke Use of Registe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ing and writing registers much faster than reading/writing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imit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iler not always able to determine whether variable can be held in regist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ssibility of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Alias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e example lat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381880" cy="1060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chine-Independent Opts. (Cont.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90520" y="1066680"/>
            <a:ext cx="8307360" cy="537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hare Common Subexpress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use portions of express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ilers often not very sophisticated in exploiting arithmetic propert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47200" y="2590920"/>
            <a:ext cx="3488400" cy="1367640"/>
          </a:xfrm>
          <a:prstGeom prst="rect">
            <a:avLst/>
          </a:prstGeom>
          <a:solidFill>
            <a:srgbClr val="ffff66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/* Sum neighbors of i,j */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up =    val[(i-1)*n + j]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down =  val[(i+1)*n + j]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left =  val[i*n   + j-1]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right = val[i*n   + j+1]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sum = up + down + left + right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33400" y="2590920"/>
            <a:ext cx="3488400" cy="1367640"/>
          </a:xfrm>
          <a:prstGeom prst="rect">
            <a:avLst/>
          </a:prstGeom>
          <a:solidFill>
            <a:srgbClr val="ffff66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int inj = i*n + j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up =    val[inj - n]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down =  val[inj + n]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left =  val[inj - 1]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right = val[inj + 1]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sum = up + down + left + right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4840" y="4097160"/>
            <a:ext cx="3630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3 multiplications: i*n, (i–1)*n, (i+1)*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60560" y="4097160"/>
            <a:ext cx="2048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 multiplication: i*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3520" y="4648320"/>
            <a:ext cx="3657600" cy="1154520"/>
          </a:xfrm>
          <a:prstGeom prst="rect">
            <a:avLst/>
          </a:prstGeom>
          <a:solidFill>
            <a:srgbClr val="ffff66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leal -1(%edx),%ecx  # i-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imull %ebx,%ecx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   # (i-1)*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leal 1(%edx),%eax   # i+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imull %ebx,%eax     # (i+1)*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imull %ebx,%edx     # i*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9:24Z</dcterms:created>
  <dc:creator>Randal E. Bryant and David R. O'Hallaron</dc:creator>
  <dc:description/>
  <dc:language>en-US</dc:language>
  <cp:lastModifiedBy>droh</cp:lastModifiedBy>
  <cp:lastPrinted>1998-08-31T18:34:23Z</cp:lastPrinted>
  <dcterms:modified xsi:type="dcterms:W3CDTF">2002-10-28T20:31:04Z</dcterms:modified>
  <cp:revision>98</cp:revision>
  <dc:subject/>
  <dc:title>Code Optimization I</dc:title>
</cp:coreProperties>
</file>