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77242B7D-CA30-44DD-864E-DC2B40D93EDB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836720"/>
            <a:ext cx="77724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V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d Data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9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8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-360" y="4267080"/>
            <a:ext cx="899172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pgh[4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pgh[4]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notes  array of 4 elemen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element is an array of 5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55840" indent="-20772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ocated contiguousl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” ordering of all elements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81080" y="838080"/>
            <a:ext cx="492444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PCOUNT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pgh[PCOUNT]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{1, 5, 2, 0, 6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3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1, 7 }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1, 5, 2, 2, 1 }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609120" y="2819520"/>
            <a:ext cx="7916400" cy="1282680"/>
            <a:chOff x="609120" y="2819520"/>
            <a:chExt cx="7916400" cy="1282680"/>
          </a:xfrm>
        </p:grpSpPr>
        <p:sp>
          <p:nvSpPr>
            <p:cNvPr id="340" name=""/>
            <p:cNvSpPr/>
            <p:nvPr/>
          </p:nvSpPr>
          <p:spPr>
            <a:xfrm>
              <a:off x="609120" y="289548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ip_di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gh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905840" y="2819520"/>
              <a:ext cx="6619680" cy="1282680"/>
              <a:chOff x="1905840" y="2819520"/>
              <a:chExt cx="6619680" cy="1282680"/>
            </a:xfrm>
          </p:grpSpPr>
          <p:sp>
            <p:nvSpPr>
              <p:cNvPr id="342" name=""/>
              <p:cNvSpPr/>
              <p:nvPr/>
            </p:nvSpPr>
            <p:spPr>
              <a:xfrm flipV="1">
                <a:off x="2133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0584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V="1">
                <a:off x="3657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29720" y="37339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9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518148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8520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670536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40908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8229240" y="3580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933320" y="37339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057040" y="2819520"/>
                <a:ext cx="6096240" cy="761760"/>
                <a:chOff x="2057040" y="2819520"/>
                <a:chExt cx="6096240" cy="76176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2057040" y="2819520"/>
                  <a:ext cx="1524240" cy="761760"/>
                  <a:chOff x="2057040" y="2819520"/>
                  <a:chExt cx="1524240" cy="76176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2057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361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666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971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3276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6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3581280" y="2819520"/>
                  <a:ext cx="1523520" cy="761760"/>
                  <a:chOff x="3581280" y="2819520"/>
                  <a:chExt cx="1523520" cy="7617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35812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8858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19076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44953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480024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5105160" y="2819520"/>
                  <a:ext cx="1523520" cy="761760"/>
                  <a:chOff x="5105160" y="2819520"/>
                  <a:chExt cx="1523520" cy="7617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510516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4097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714640" y="2819520"/>
                    <a:ext cx="30420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601920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32412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6629040" y="2819520"/>
                  <a:ext cx="1524240" cy="761760"/>
                  <a:chOff x="6629040" y="2819520"/>
                  <a:chExt cx="1524240" cy="761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66290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9339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238880" y="2819520"/>
                    <a:ext cx="30456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54344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848360" y="2819520"/>
                    <a:ext cx="304920" cy="7617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2057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58128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05160" y="2819520"/>
                  <a:ext cx="152388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629040" y="2819520"/>
                  <a:ext cx="1524240" cy="7617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69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4434120" cy="336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la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[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s,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lum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 requires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Siz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ng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47640" indent="-2138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w-Major Order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724280" y="990720"/>
            <a:ext cx="4038120" cy="2209680"/>
            <a:chOff x="4724280" y="990720"/>
            <a:chExt cx="4038120" cy="2209680"/>
          </a:xfrm>
        </p:grpSpPr>
        <p:sp>
          <p:nvSpPr>
            <p:cNvPr id="384" name=""/>
            <p:cNvSpPr/>
            <p:nvPr/>
          </p:nvSpPr>
          <p:spPr>
            <a:xfrm>
              <a:off x="4876560" y="114300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67480" y="114300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76560" y="2666880"/>
              <a:ext cx="121932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1840" y="114300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248160" y="2666880"/>
              <a:ext cx="914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467480" y="2666880"/>
              <a:ext cx="121896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[C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3376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96080" y="1752480"/>
              <a:ext cx="4572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72428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8609760" y="990720"/>
              <a:ext cx="152280" cy="2209680"/>
            </a:xfrm>
            <a:custGeom>
              <a:avLst/>
              <a:gdLst/>
              <a:ahLst/>
              <a:rect l="l" t="t" r="r" b="b"/>
              <a:pathLst>
                <a:path w="96" h="1392">
                  <a:moveTo>
                    <a:pt x="96" y="0"/>
                  </a:moveTo>
                  <a:lnTo>
                    <a:pt x="0" y="0"/>
                  </a:lnTo>
                  <a:lnTo>
                    <a:pt x="0" y="1392"/>
                  </a:lnTo>
                  <a:lnTo>
                    <a:pt x="96" y="1392"/>
                  </a:lnTo>
                </a:path>
              </a:pathLst>
            </a:custGeom>
            <a:noFill/>
            <a:ln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4188960" y="4343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57200" y="5029200"/>
            <a:ext cx="8229240" cy="990720"/>
            <a:chOff x="457200" y="5029200"/>
            <a:chExt cx="8229240" cy="990720"/>
          </a:xfrm>
        </p:grpSpPr>
        <p:grpSp>
          <p:nvGrpSpPr>
            <p:cNvPr id="396" name=""/>
            <p:cNvGrpSpPr/>
            <p:nvPr/>
          </p:nvGrpSpPr>
          <p:grpSpPr>
            <a:xfrm>
              <a:off x="457200" y="5029200"/>
              <a:ext cx="2133360" cy="990360"/>
              <a:chOff x="457200" y="5029200"/>
              <a:chExt cx="2133360" cy="990360"/>
            </a:xfrm>
          </p:grpSpPr>
          <p:sp>
            <p:nvSpPr>
              <p:cNvPr id="397" name=""/>
              <p:cNvSpPr/>
              <p:nvPr/>
            </p:nvSpPr>
            <p:spPr>
              <a:xfrm>
                <a:off x="45720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1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2590560" y="5029200"/>
              <a:ext cx="2133360" cy="990360"/>
              <a:chOff x="2590560" y="5029200"/>
              <a:chExt cx="2133360" cy="990360"/>
            </a:xfrm>
          </p:grpSpPr>
          <p:sp>
            <p:nvSpPr>
              <p:cNvPr id="401" name=""/>
              <p:cNvSpPr/>
              <p:nvPr/>
            </p:nvSpPr>
            <p:spPr>
              <a:xfrm>
                <a:off x="25905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1444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59056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6553080" y="5029200"/>
              <a:ext cx="2133360" cy="990360"/>
              <a:chOff x="6553080" y="5029200"/>
              <a:chExt cx="2133360" cy="990360"/>
            </a:xfrm>
          </p:grpSpPr>
          <p:sp>
            <p:nvSpPr>
              <p:cNvPr id="405" name=""/>
              <p:cNvSpPr/>
              <p:nvPr/>
            </p:nvSpPr>
            <p:spPr>
              <a:xfrm>
                <a:off x="655308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076960" y="502920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553080" y="502920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724280" y="5029200"/>
              <a:ext cx="1828800" cy="990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•  • 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572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686800" y="60958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6248520"/>
            <a:ext cx="822960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6095880"/>
            <a:ext cx="1447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*R*C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5791320" y="42670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04360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3657600" y="3733920"/>
            <a:ext cx="2133720" cy="1523520"/>
            <a:chOff x="3657600" y="3733920"/>
            <a:chExt cx="2133720" cy="1523520"/>
          </a:xfrm>
        </p:grpSpPr>
        <p:grpSp>
          <p:nvGrpSpPr>
            <p:cNvPr id="417" name=""/>
            <p:cNvGrpSpPr/>
            <p:nvPr/>
          </p:nvGrpSpPr>
          <p:grpSpPr>
            <a:xfrm>
              <a:off x="3657600" y="4267080"/>
              <a:ext cx="2133360" cy="990360"/>
              <a:chOff x="3657600" y="4267080"/>
              <a:chExt cx="2133360" cy="990360"/>
            </a:xfrm>
          </p:grpSpPr>
          <p:sp>
            <p:nvSpPr>
              <p:cNvPr id="418" name=""/>
              <p:cNvSpPr/>
              <p:nvPr/>
            </p:nvSpPr>
            <p:spPr>
              <a:xfrm>
                <a:off x="3657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18148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65760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760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913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396252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43400" y="373392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705720" y="3733920"/>
            <a:ext cx="2133360" cy="1523520"/>
            <a:chOff x="6705720" y="3733920"/>
            <a:chExt cx="2133360" cy="1523520"/>
          </a:xfrm>
        </p:grpSpPr>
        <p:grpSp>
          <p:nvGrpSpPr>
            <p:cNvPr id="427" name=""/>
            <p:cNvGrpSpPr/>
            <p:nvPr/>
          </p:nvGrpSpPr>
          <p:grpSpPr>
            <a:xfrm>
              <a:off x="6705720" y="4267080"/>
              <a:ext cx="2133360" cy="990360"/>
              <a:chOff x="6705720" y="4267080"/>
              <a:chExt cx="2133360" cy="990360"/>
            </a:xfrm>
          </p:grpSpPr>
          <p:sp>
            <p:nvSpPr>
              <p:cNvPr id="428" name=""/>
              <p:cNvSpPr/>
              <p:nvPr/>
            </p:nvSpPr>
            <p:spPr>
              <a:xfrm>
                <a:off x="67057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2296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057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67057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390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7339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666880" y="42670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54864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609480" y="52430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73392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533520" y="3733920"/>
            <a:ext cx="2133360" cy="1523520"/>
            <a:chOff x="533520" y="3733920"/>
            <a:chExt cx="2133360" cy="1523520"/>
          </a:xfrm>
        </p:grpSpPr>
        <p:grpSp>
          <p:nvGrpSpPr>
            <p:cNvPr id="440" name=""/>
            <p:cNvGrpSpPr/>
            <p:nvPr/>
          </p:nvGrpSpPr>
          <p:grpSpPr>
            <a:xfrm>
              <a:off x="533520" y="4267080"/>
              <a:ext cx="2133360" cy="990360"/>
              <a:chOff x="533520" y="4267080"/>
              <a:chExt cx="2133360" cy="990360"/>
            </a:xfrm>
          </p:grpSpPr>
          <p:sp>
            <p:nvSpPr>
              <p:cNvPr id="441" name=""/>
              <p:cNvSpPr/>
              <p:nvPr/>
            </p:nvSpPr>
            <p:spPr>
              <a:xfrm>
                <a:off x="53352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57400" y="42670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3520" y="42670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53352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3520" y="39625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19320" y="37339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66880" y="38862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531360" y="3200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553080" y="5562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781680" y="52574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64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Row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96520" y="2527200"/>
            <a:ext cx="7404120" cy="195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w Vec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rray of 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+20*inde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nd return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 + 4*(index+4*inde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62320" y="914400"/>
            <a:ext cx="411480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get_pgh_zip(int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5334120"/>
            <a:ext cx="67820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 *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pgh(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gh + (20 * 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 • •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52448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i][j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element of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 +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 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*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3809880"/>
            <a:ext cx="9903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9720" y="3809880"/>
            <a:ext cx="60948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5880" y="1295280"/>
            <a:ext cx="609840" cy="990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[j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809880"/>
            <a:ext cx="2133720" cy="9907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• • 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91320" y="342900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57600" y="3505320"/>
            <a:ext cx="213372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2767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705720" y="3276720"/>
            <a:ext cx="2133360" cy="1523520"/>
            <a:chOff x="6705720" y="3276720"/>
            <a:chExt cx="2133360" cy="1523520"/>
          </a:xfrm>
        </p:grpSpPr>
        <p:grpSp>
          <p:nvGrpSpPr>
            <p:cNvPr id="469" name=""/>
            <p:cNvGrpSpPr/>
            <p:nvPr/>
          </p:nvGrpSpPr>
          <p:grpSpPr>
            <a:xfrm>
              <a:off x="6705720" y="3809880"/>
              <a:ext cx="2133360" cy="990360"/>
              <a:chOff x="6705720" y="3809880"/>
              <a:chExt cx="2133360" cy="990360"/>
            </a:xfrm>
          </p:grpSpPr>
          <p:sp>
            <p:nvSpPr>
              <p:cNvPr id="470" name=""/>
              <p:cNvSpPr/>
              <p:nvPr/>
            </p:nvSpPr>
            <p:spPr>
              <a:xfrm>
                <a:off x="67057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2296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R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7057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67057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8390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7057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91160" y="3276720"/>
              <a:ext cx="837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R-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666880" y="3809880"/>
            <a:ext cx="9907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•  • 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5029200"/>
            <a:ext cx="3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9480" y="47858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73392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33520" y="3276720"/>
            <a:ext cx="2133360" cy="1523520"/>
            <a:chOff x="533520" y="3276720"/>
            <a:chExt cx="2133360" cy="1523520"/>
          </a:xfrm>
        </p:grpSpPr>
        <p:grpSp>
          <p:nvGrpSpPr>
            <p:cNvPr id="482" name=""/>
            <p:cNvGrpSpPr/>
            <p:nvPr/>
          </p:nvGrpSpPr>
          <p:grpSpPr>
            <a:xfrm>
              <a:off x="533520" y="3809880"/>
              <a:ext cx="2133360" cy="990360"/>
              <a:chOff x="533520" y="3809880"/>
              <a:chExt cx="2133360" cy="990360"/>
            </a:xfrm>
          </p:grpSpPr>
          <p:sp>
            <p:nvSpPr>
              <p:cNvPr id="483" name=""/>
              <p:cNvSpPr/>
              <p:nvPr/>
            </p:nvSpPr>
            <p:spPr>
              <a:xfrm>
                <a:off x="53352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057400" y="3809880"/>
                <a:ext cx="609480" cy="990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[C-1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520" y="3809880"/>
                <a:ext cx="2133360" cy="9903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• • 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3352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3520" y="3505320"/>
              <a:ext cx="21333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219320" y="3276720"/>
              <a:ext cx="8380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66880" y="342900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79080" y="26668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R][C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105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i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5105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R-1)*C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781680" y="480024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572000" y="4800240"/>
            <a:ext cx="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5486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(i*C+j)*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34680" y="228600"/>
            <a:ext cx="8280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sted Array Element Access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5751360" cy="24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Elements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index][dig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20*index + 4*di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gh + 4*dig + 4*(index+4*index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73120" indent="-189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erforms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82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76920" y="1828800"/>
            <a:ext cx="37335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572000"/>
            <a:ext cx="800100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5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pgh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(pgh + 4*dig + 20*inde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90520" y="2743200"/>
            <a:ext cx="8307360" cy="27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174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3]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3+4*3 = 1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5 = 13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2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2+4*-1 = 11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4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4+4*-1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19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19 = 15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gh[0]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76+20*0+4*-1 = 7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37040" indent="-173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97844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dering of elements within array guarante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61760" y="114300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gh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058480" y="1066680"/>
            <a:ext cx="6619680" cy="1282680"/>
            <a:chOff x="2058480" y="1066680"/>
            <a:chExt cx="6619680" cy="1282680"/>
          </a:xfrm>
        </p:grpSpPr>
        <p:sp>
          <p:nvSpPr>
            <p:cNvPr id="504" name=""/>
            <p:cNvSpPr/>
            <p:nvPr/>
          </p:nvSpPr>
          <p:spPr>
            <a:xfrm flipV="1">
              <a:off x="2286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5848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09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82360" y="1981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9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33412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3784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85800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6172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3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381880" y="18280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085960" y="1981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2209680" y="1066680"/>
              <a:ext cx="6096240" cy="761760"/>
              <a:chOff x="2209680" y="1066680"/>
              <a:chExt cx="6096240" cy="76176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209680" y="1066680"/>
                <a:ext cx="1524240" cy="761760"/>
                <a:chOff x="2209680" y="1066680"/>
                <a:chExt cx="1524240" cy="7617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2209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514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819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124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429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733920" y="1066680"/>
                <a:ext cx="1523520" cy="761760"/>
                <a:chOff x="3733920" y="1066680"/>
                <a:chExt cx="1523520" cy="761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7339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0384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34340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6479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95288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257800" y="1066680"/>
                <a:ext cx="1523520" cy="761760"/>
                <a:chOff x="5257800" y="1066680"/>
                <a:chExt cx="1523520" cy="7617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25780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623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867280" y="1066680"/>
                  <a:ext cx="30420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17184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47676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781680" y="1066680"/>
                <a:ext cx="1524240" cy="761760"/>
                <a:chOff x="6781680" y="1066680"/>
                <a:chExt cx="1524240" cy="7617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7816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866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391520" y="1066680"/>
                  <a:ext cx="30456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69608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01000" y="1066680"/>
                  <a:ext cx="304920" cy="7617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209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73392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57800" y="1066680"/>
                <a:ext cx="152388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81680" y="1066680"/>
                <a:ext cx="1524240" cy="7617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6858000" y="313704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858000" y="353232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58000" y="39276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32288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47181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913440" y="5113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12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-305280" y="1143000"/>
            <a:ext cx="35053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v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array of 3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element is a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pointer points to array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’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1482840"/>
            <a:ext cx="5257800" cy="9118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00400" y="2549520"/>
            <a:ext cx="525780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UCOUNT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univ[UCOUNT] = {mit, cmu, ucb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81600" y="3733920"/>
            <a:ext cx="8303760" cy="2591640"/>
            <a:chOff x="381600" y="3733920"/>
            <a:chExt cx="8303760" cy="2591640"/>
          </a:xfrm>
        </p:grpSpPr>
        <p:grpSp>
          <p:nvGrpSpPr>
            <p:cNvPr id="554" name=""/>
            <p:cNvGrpSpPr/>
            <p:nvPr/>
          </p:nvGrpSpPr>
          <p:grpSpPr>
            <a:xfrm>
              <a:off x="381600" y="4190760"/>
              <a:ext cx="1980360" cy="1523520"/>
              <a:chOff x="381600" y="4190760"/>
              <a:chExt cx="1980360" cy="1523520"/>
            </a:xfrm>
          </p:grpSpPr>
          <p:sp>
            <p:nvSpPr>
              <p:cNvPr id="555" name=""/>
              <p:cNvSpPr/>
              <p:nvPr/>
            </p:nvSpPr>
            <p:spPr>
              <a:xfrm>
                <a:off x="1447560" y="457164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90360" y="4723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7440" y="450972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47560" y="4952520"/>
                <a:ext cx="914400" cy="3805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47560" y="5333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0360" y="5104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990360" y="548604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48762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1600" y="53334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7920" y="41907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981080" y="472392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81080" y="5104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1080" y="5486040"/>
                <a:ext cx="152280" cy="15192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3124800" y="3733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3658320" y="4038480"/>
              <a:ext cx="5027040" cy="748800"/>
              <a:chOff x="3658320" y="4038480"/>
              <a:chExt cx="5027040" cy="748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3809880" y="4038480"/>
                <a:ext cx="4572000" cy="228240"/>
                <a:chOff x="3809880" y="4038480"/>
                <a:chExt cx="4572000" cy="22824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38098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7242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6386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5530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467480" y="403848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 flipV="1">
                <a:off x="3885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658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8002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5727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57146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871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66290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015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5434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159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8457840" y="426672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230320" y="4419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3200760" y="4572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3642480" y="4814640"/>
              <a:ext cx="5027040" cy="748800"/>
              <a:chOff x="3642480" y="4814640"/>
              <a:chExt cx="5027040" cy="74880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3794040" y="4814640"/>
                <a:ext cx="4572000" cy="228240"/>
                <a:chOff x="3794040" y="4814640"/>
                <a:chExt cx="4572000" cy="2282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7940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47084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6228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65372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7451640" y="481464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 flipV="1">
                <a:off x="3870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642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844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5568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6988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4712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66132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3856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75276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000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8442000" y="504288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214480" y="5195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124800" y="5271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642480" y="5576760"/>
              <a:ext cx="5027040" cy="748800"/>
              <a:chOff x="3642480" y="5576760"/>
              <a:chExt cx="5027040" cy="748800"/>
            </a:xfrm>
          </p:grpSpPr>
          <p:grpSp>
            <p:nvGrpSpPr>
              <p:cNvPr id="610" name=""/>
              <p:cNvGrpSpPr/>
              <p:nvPr/>
            </p:nvGrpSpPr>
            <p:grpSpPr>
              <a:xfrm>
                <a:off x="3794040" y="5576760"/>
                <a:ext cx="4572000" cy="228240"/>
                <a:chOff x="3794040" y="5576760"/>
                <a:chExt cx="4572000" cy="228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7940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7084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6228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5372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451640" y="5576760"/>
                  <a:ext cx="914400" cy="2282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"/>
              <p:cNvSpPr/>
              <p:nvPr/>
            </p:nvSpPr>
            <p:spPr>
              <a:xfrm flipV="1">
                <a:off x="3870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642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7844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568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6988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12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6132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3856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75276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000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8442000" y="5805000"/>
                <a:ext cx="0" cy="2282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214480" y="5957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28" name=""/>
            <p:cNvCxnSpPr>
              <a:stCxn id="566" idx="0"/>
              <a:endCxn id="571" idx="1"/>
            </p:cNvCxnSpPr>
            <p:nvPr/>
          </p:nvCxnSpPr>
          <p:spPr>
            <a:xfrm flipH="1" flipV="1" rot="5400000">
              <a:off x="2457000" y="3751920"/>
              <a:ext cx="93996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565" idx="6"/>
              <a:endCxn id="591" idx="1"/>
            </p:cNvCxnSpPr>
            <p:nvPr/>
          </p:nvCxnSpPr>
          <p:spPr>
            <a:xfrm>
              <a:off x="2145960" y="4800600"/>
              <a:ext cx="1635840" cy="128880"/>
            </a:xfrm>
            <a:prstGeom prst="curvedConnector5">
              <a:avLst>
                <a:gd name="adj1" fmla="val 49988"/>
                <a:gd name="adj2" fmla="val 49859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567" idx="0"/>
              <a:endCxn id="611" idx="1"/>
            </p:cNvCxnSpPr>
            <p:nvPr/>
          </p:nvCxnSpPr>
          <p:spPr>
            <a:xfrm flipH="1" rot="16200000">
              <a:off x="2810160" y="4719960"/>
              <a:ext cx="218160" cy="1724760"/>
            </a:xfrm>
            <a:prstGeom prst="curvedConnector5">
              <a:avLst>
                <a:gd name="adj1" fmla="val -99173"/>
                <a:gd name="adj2" fmla="val 26283"/>
                <a:gd name="adj3" fmla="val -99173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33280" y="228600"/>
            <a:ext cx="8910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lement Access in Multi-Level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90160" y="2220480"/>
            <a:ext cx="5272200" cy="32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ement acc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two 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get pointer to row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n access element within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495680"/>
            <a:ext cx="72392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nde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univ(%edx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univ+4*index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...+4*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62520" y="1066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lement Acces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214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C referen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Nested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pgh+20*index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343400" y="1220760"/>
            <a:ext cx="4572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 address compu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-Level Arra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ment a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em[Mem[univ+4*index]+4*dig]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2182680"/>
            <a:ext cx="37339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pgh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pgh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2182680"/>
            <a:ext cx="38862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univ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index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univ[index]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419720" y="4952880"/>
            <a:ext cx="4176720" cy="13068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762120" y="5334120"/>
            <a:ext cx="33447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20560"/>
            <a:ext cx="6167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asic Data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584360"/>
            <a:ext cx="8307360" cy="486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gr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general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ed vs. unsigned depends on instructions u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cha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sho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 wor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unsign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loating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&amp; operated on in floating point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A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lo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ub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400480"/>
                <a:tab algn="l" pos="3429000"/>
                <a:tab algn="l" pos="4521240"/>
                <a:tab algn="l" pos="657864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/1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ng dou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ange 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90520" y="3614760"/>
            <a:ext cx="8307360" cy="217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167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3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3  = 6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5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5  = 3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2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6+4*-1 = 5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3][-1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??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v[1][12]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+4*12 = 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 does not do any bounds check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20120" indent="-1666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4229280"/>
                <a:tab algn="l" pos="622944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rdering of elements in different arrays not guarante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29320" y="838080"/>
            <a:ext cx="8303760" cy="2592360"/>
            <a:chOff x="229320" y="838080"/>
            <a:chExt cx="8303760" cy="2592360"/>
          </a:xfrm>
        </p:grpSpPr>
        <p:grpSp>
          <p:nvGrpSpPr>
            <p:cNvPr id="645" name=""/>
            <p:cNvGrpSpPr/>
            <p:nvPr/>
          </p:nvGrpSpPr>
          <p:grpSpPr>
            <a:xfrm>
              <a:off x="229320" y="1295280"/>
              <a:ext cx="1980360" cy="1524240"/>
              <a:chOff x="229320" y="1295280"/>
              <a:chExt cx="1980360" cy="1524240"/>
            </a:xfrm>
          </p:grpSpPr>
          <p:sp>
            <p:nvSpPr>
              <p:cNvPr id="646" name=""/>
              <p:cNvSpPr/>
              <p:nvPr/>
            </p:nvSpPr>
            <p:spPr>
              <a:xfrm>
                <a:off x="1295280" y="167652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38080" y="182880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160" y="16146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295280" y="205740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295280" y="2438280"/>
                <a:ext cx="914400" cy="38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38080" y="220968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38080" y="2590920"/>
                <a:ext cx="4572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29320" y="19810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9320" y="243828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95640" y="12952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uni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828800" y="182880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828800" y="2209680"/>
                <a:ext cx="152280" cy="15264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28800" y="2590920"/>
                <a:ext cx="152280" cy="152280"/>
              </a:xfrm>
              <a:prstGeom prst="ellipse">
                <a:avLst/>
              </a:prstGeom>
              <a:solidFill>
                <a:srgbClr val="000066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2972520" y="838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m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3506040" y="1143000"/>
              <a:ext cx="5027040" cy="749160"/>
              <a:chOff x="3506040" y="1143000"/>
              <a:chExt cx="5027040" cy="7491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3657600" y="1143000"/>
                <a:ext cx="4572000" cy="228600"/>
                <a:chOff x="3657600" y="1143000"/>
                <a:chExt cx="4572000" cy="22860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36576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45720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4864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008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315200" y="114300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flipV="1">
                <a:off x="3733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506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46479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4204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5623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348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64767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492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73911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636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8305560" y="137124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078040" y="15238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3048480" y="1676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m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3490200" y="1919160"/>
              <a:ext cx="5027040" cy="749160"/>
              <a:chOff x="3490200" y="1919160"/>
              <a:chExt cx="5027040" cy="74916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3641760" y="1919160"/>
                <a:ext cx="4572000" cy="228600"/>
                <a:chOff x="3641760" y="1919160"/>
                <a:chExt cx="4572000" cy="2286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36417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5561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4705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3849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299360" y="191916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"/>
              <p:cNvSpPr/>
              <p:nvPr/>
            </p:nvSpPr>
            <p:spPr>
              <a:xfrm flipV="1">
                <a:off x="3717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490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46321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4046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55465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190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64609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334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753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1478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8289720" y="214740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062200" y="230004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972520" y="23763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c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490200" y="2681280"/>
              <a:ext cx="5027040" cy="749160"/>
              <a:chOff x="3490200" y="2681280"/>
              <a:chExt cx="5027040" cy="74916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3641760" y="2681280"/>
                <a:ext cx="4572000" cy="228600"/>
                <a:chOff x="3641760" y="2681280"/>
                <a:chExt cx="4572000" cy="228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36417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9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5561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54705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63849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299360" y="2681280"/>
                  <a:ext cx="9144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" name=""/>
              <p:cNvSpPr/>
              <p:nvPr/>
            </p:nvSpPr>
            <p:spPr>
              <a:xfrm flipV="1">
                <a:off x="3717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490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46321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4046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55465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3190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609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2334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6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73753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478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8289720" y="29095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062200" y="3062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7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719" name=""/>
            <p:cNvCxnSpPr>
              <a:stCxn id="657" idx="0"/>
              <a:endCxn id="662" idx="1"/>
            </p:cNvCxnSpPr>
            <p:nvPr/>
          </p:nvCxnSpPr>
          <p:spPr>
            <a:xfrm flipH="1" flipV="1" rot="5400000">
              <a:off x="2304360" y="856800"/>
              <a:ext cx="940320" cy="1740600"/>
            </a:xfrm>
            <a:prstGeom prst="curvedConnector2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0" name=""/>
            <p:cNvCxnSpPr>
              <a:stCxn id="656" idx="6"/>
              <a:endCxn id="682" idx="1"/>
            </p:cNvCxnSpPr>
            <p:nvPr/>
          </p:nvCxnSpPr>
          <p:spPr>
            <a:xfrm>
              <a:off x="1993680" y="1904760"/>
              <a:ext cx="1635840" cy="12924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1" name=""/>
            <p:cNvCxnSpPr>
              <a:stCxn id="658" idx="0"/>
              <a:endCxn id="702" idx="1"/>
            </p:cNvCxnSpPr>
            <p:nvPr/>
          </p:nvCxnSpPr>
          <p:spPr>
            <a:xfrm flipH="1" rot="16200000">
              <a:off x="2657520" y="1823760"/>
              <a:ext cx="218520" cy="1724760"/>
            </a:xfrm>
            <a:prstGeom prst="curvedConnector5">
              <a:avLst>
                <a:gd name="adj1" fmla="val -99174"/>
                <a:gd name="adj2" fmla="val 26283"/>
                <a:gd name="adj3" fmla="val -99174"/>
              </a:avLst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</p:cxnSp>
      </p:grpSp>
      <p:sp>
        <p:nvSpPr>
          <p:cNvPr id="722" name=""/>
          <p:cNvSpPr/>
          <p:nvPr/>
        </p:nvSpPr>
        <p:spPr>
          <a:xfrm>
            <a:off x="7045560" y="40384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95960" y="43848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086600" y="47242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77240" y="507060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067520" y="5410080"/>
            <a:ext cx="397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350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52280" y="1220760"/>
            <a:ext cx="4114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ompiler handles doubly subscripted array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very efficien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oids multiply in index compu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works if have fixed arra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19720" y="990720"/>
            <a:ext cx="4238640" cy="63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define N 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fix_matrix[N][N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1828800"/>
            <a:ext cx="4343400" cy="338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xed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fix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ix_matrix a, fix_matrix 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 a[i][j]*b[j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685800" y="4818240"/>
            <a:ext cx="3456360" cy="1658520"/>
            <a:chOff x="685800" y="4818240"/>
            <a:chExt cx="3456360" cy="1658520"/>
          </a:xfrm>
        </p:grpSpPr>
        <p:sp>
          <p:nvSpPr>
            <p:cNvPr id="732" name=""/>
            <p:cNvSpPr/>
            <p:nvPr/>
          </p:nvSpPr>
          <p:spPr>
            <a:xfrm>
              <a:off x="1925640" y="515160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57400" y="573264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932120" y="552636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12800" y="535176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6" name=""/>
            <p:cNvGrpSpPr/>
            <p:nvPr/>
          </p:nvGrpSpPr>
          <p:grpSpPr>
            <a:xfrm>
              <a:off x="3274920" y="4818240"/>
              <a:ext cx="867240" cy="1277640"/>
              <a:chOff x="3274920" y="4818240"/>
              <a:chExt cx="867240" cy="1277640"/>
            </a:xfrm>
          </p:grpSpPr>
          <p:sp>
            <p:nvSpPr>
              <p:cNvPr id="737" name=""/>
              <p:cNvSpPr/>
              <p:nvPr/>
            </p:nvSpPr>
            <p:spPr>
              <a:xfrm>
                <a:off x="3297240" y="515160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429000" y="573264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19360" y="515808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274920" y="481824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1602000" y="611352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200400" y="573228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85800" y="573264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1371600" y="550368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674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Nested Arr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421812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reate matrix of arbitrary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index computation explici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single element cos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do multipl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419720" y="990720"/>
            <a:ext cx="41907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 new_var_matrix(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int *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oc(sizeof(int), n*n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419720" y="2819520"/>
            <a:ext cx="41907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i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*n+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952880"/>
            <a:ext cx="655308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20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*i+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a+4*(i*n+j)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099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Array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90160" y="1220400"/>
            <a:ext cx="3987720" cy="26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out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for subscrip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4 for array index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loop inde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-2260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fo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86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1219320"/>
            <a:ext cx="4238640" cy="365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pute element i,k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ariable matrix produc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r_prod_e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*a, int *b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, int k, int 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10560" y="4572000"/>
            <a:ext cx="3455280" cy="1658520"/>
            <a:chOff x="610560" y="4572000"/>
            <a:chExt cx="3455280" cy="1658520"/>
          </a:xfrm>
        </p:grpSpPr>
        <p:sp>
          <p:nvSpPr>
            <p:cNvPr id="754" name=""/>
            <p:cNvSpPr/>
            <p:nvPr/>
          </p:nvSpPr>
          <p:spPr>
            <a:xfrm>
              <a:off x="1849320" y="49053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981080" y="5486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855800" y="5280120"/>
              <a:ext cx="5839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436480" y="510552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Courier New"/>
                </a:rPr>
                <a:t>(i,*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3198600" y="4572000"/>
              <a:ext cx="867240" cy="1277640"/>
              <a:chOff x="3198600" y="4572000"/>
              <a:chExt cx="867240" cy="1277640"/>
            </a:xfrm>
          </p:grpSpPr>
          <p:sp>
            <p:nvSpPr>
              <p:cNvPr id="759" name=""/>
              <p:cNvSpPr/>
              <p:nvPr/>
            </p:nvSpPr>
            <p:spPr>
              <a:xfrm>
                <a:off x="3220920" y="4905360"/>
                <a:ext cx="596880" cy="520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352680" y="5486400"/>
                <a:ext cx="333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443040" y="4911840"/>
                <a:ext cx="0" cy="5079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8600" y="457200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Courier New"/>
                  </a:rPr>
                  <a:t>(*,k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1525680" y="5867280"/>
              <a:ext cx="1498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3124080" y="5486040"/>
              <a:ext cx="304920" cy="6094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0560" y="54864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1295280" y="5257440"/>
              <a:ext cx="39852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4120" y="228600"/>
            <a:ext cx="891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ing Dynamic Array Mult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20760"/>
            <a:ext cx="43434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when set optimization leve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O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Mo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io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*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computed outside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ength Red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has effect of increment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*n+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can optimize regular access patter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946080"/>
            <a:ext cx="423864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*n+j] * b[j*n+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3232080"/>
            <a:ext cx="4238640" cy="33807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esult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Tn = i*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TnPk = 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sult +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[iTn+j] * b[jTnP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TnPk += 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685800" y="263988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4648320"/>
            <a:ext cx="336528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962520" y="5181480"/>
            <a:ext cx="487656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em[r] = v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85800" y="465120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i(struct rec *r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i = 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244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3120" y="914040"/>
            <a:ext cx="7515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-allocated reg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members within structure by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bers may be of different typ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cessing Structure Memb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648320" y="2666880"/>
            <a:ext cx="3365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Layo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952520" y="3276720"/>
            <a:ext cx="2741400" cy="779040"/>
            <a:chOff x="4952520" y="3276720"/>
            <a:chExt cx="2741400" cy="779040"/>
          </a:xfrm>
        </p:grpSpPr>
        <p:sp>
          <p:nvSpPr>
            <p:cNvPr id="779" name=""/>
            <p:cNvSpPr/>
            <p:nvPr/>
          </p:nvSpPr>
          <p:spPr>
            <a:xfrm>
              <a:off x="5132520" y="3276720"/>
              <a:ext cx="431640" cy="4316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589720" y="32767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61320" y="32767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525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09720" y="36925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80960" y="36925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8160" y="367524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609480" y="1066680"/>
            <a:ext cx="3133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47920" y="5029200"/>
            <a:ext cx="5089320" cy="118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ax,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*idx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2895480"/>
            <a:ext cx="380988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ind_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struct rec *r, 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&amp;r-&gt;a[idx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ting Pointer to Struct. Memb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90160" y="2889000"/>
            <a:ext cx="3924360" cy="355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ing Pointer to Array El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ach structure member determined at compil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562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13400" y="1447920"/>
            <a:ext cx="1346040" cy="43164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85000" y="1447920"/>
            <a:ext cx="431640" cy="43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8765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333760" y="18637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705000" y="1863720"/>
            <a:ext cx="455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43600" y="1905120"/>
            <a:ext cx="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788800" y="2286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+ 4 + 4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106668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8000" y="685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867280" y="1447920"/>
            <a:ext cx="432000" cy="4316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486400" y="1447920"/>
            <a:ext cx="1346040" cy="43164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04920" y="1755720"/>
            <a:ext cx="29718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rec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4114800"/>
            <a:ext cx="5410440" cy="146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-&gt;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0(,%ecx,4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+4+4*(r-&gt;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263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16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Update r-&gt;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4920" y="3432240"/>
            <a:ext cx="29685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_p(struct rec *r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-&gt;p 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&amp;r-&gt;a[r-&gt;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ructure Referencing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571640" y="2057400"/>
            <a:ext cx="2440440" cy="1447920"/>
            <a:chOff x="4571640" y="2057400"/>
            <a:chExt cx="2440440" cy="1447920"/>
          </a:xfrm>
        </p:grpSpPr>
        <p:grpSp>
          <p:nvGrpSpPr>
            <p:cNvPr id="809" name=""/>
            <p:cNvGrpSpPr/>
            <p:nvPr/>
          </p:nvGrpSpPr>
          <p:grpSpPr>
            <a:xfrm>
              <a:off x="4571640" y="2286000"/>
              <a:ext cx="2440440" cy="779040"/>
              <a:chOff x="4571640" y="2286000"/>
              <a:chExt cx="2440440" cy="779040"/>
            </a:xfrm>
          </p:grpSpPr>
          <p:sp>
            <p:nvSpPr>
              <p:cNvPr id="810" name=""/>
              <p:cNvSpPr/>
              <p:nvPr/>
            </p:nvSpPr>
            <p:spPr>
              <a:xfrm>
                <a:off x="47516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208840" y="2286000"/>
                <a:ext cx="13460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80440" y="2286000"/>
                <a:ext cx="431640" cy="431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5716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028840" y="2701800"/>
                <a:ext cx="318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00080" y="2701800"/>
                <a:ext cx="45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6705720" y="2438280"/>
              <a:ext cx="152280" cy="152640"/>
            </a:xfrm>
            <a:prstGeom prst="ellipse">
              <a:avLst/>
            </a:prstGeom>
            <a:solidFill>
              <a:srgbClr val="000066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791320" y="2057400"/>
              <a:ext cx="990360" cy="457200"/>
            </a:xfrm>
            <a:custGeom>
              <a:avLst/>
              <a:gdLst/>
              <a:ahLst/>
              <a:rect l="l" t="t" r="r" b="b"/>
              <a:pathLst>
                <a:path w="624" h="288">
                  <a:moveTo>
                    <a:pt x="624" y="288"/>
                  </a:moveTo>
                  <a:lnTo>
                    <a:pt x="576" y="0"/>
                  </a:lnTo>
                  <a:lnTo>
                    <a:pt x="96" y="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867280" y="27432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124080"/>
              <a:ext cx="15238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Element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571640" y="1219320"/>
            <a:ext cx="2440440" cy="779040"/>
            <a:chOff x="4571640" y="1219320"/>
            <a:chExt cx="2440440" cy="779040"/>
          </a:xfrm>
        </p:grpSpPr>
        <p:sp>
          <p:nvSpPr>
            <p:cNvPr id="821" name=""/>
            <p:cNvSpPr/>
            <p:nvPr/>
          </p:nvSpPr>
          <p:spPr>
            <a:xfrm>
              <a:off x="47516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08840" y="1219320"/>
              <a:ext cx="13460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580440" y="1219320"/>
              <a:ext cx="431640" cy="431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716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28840" y="1635120"/>
              <a:ext cx="31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400080" y="1635120"/>
              <a:ext cx="455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17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igned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itive data type requires K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 must be multiple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d on some machines; advised o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eated differently by Linux and Window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tivation for Align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accessed by (aligned) double or quad-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efficient to load or store datum that spans quad word boundar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rtual memory very tricky when datum spans 2 p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s gaps in structure to ensure correct alignment of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300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fic Cases of Align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192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 of Primitive Data Typ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restrictions on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or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1 bit of address must be 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4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har 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8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e.g.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ndows (and most other OS’s &amp; instruction sets)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3 bits of address must be 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49000" indent="-2178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12 byt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ong 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52200" indent="-29088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ux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west 2 bits of address must be 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27240" indent="-16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.e., treated the same as a 4-byte primitive data typ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5943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837720"/>
            <a:ext cx="8307360" cy="16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ly allocated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*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izeof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2560" y="2590920"/>
            <a:ext cx="6099120" cy="839520"/>
            <a:chOff x="682560" y="2590920"/>
            <a:chExt cx="6099120" cy="839520"/>
          </a:xfrm>
        </p:grpSpPr>
        <p:sp>
          <p:nvSpPr>
            <p:cNvPr id="86" name=""/>
            <p:cNvSpPr/>
            <p:nvPr/>
          </p:nvSpPr>
          <p:spPr>
            <a:xfrm>
              <a:off x="682560" y="259092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har string[12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8120" y="2666880"/>
              <a:ext cx="3733560" cy="763560"/>
              <a:chOff x="3048120" y="2666880"/>
              <a:chExt cx="3733560" cy="76356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3200400" y="2666880"/>
                <a:ext cx="2743200" cy="228600"/>
                <a:chOff x="3200400" y="2666880"/>
                <a:chExt cx="2743200" cy="228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200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29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57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886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14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343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572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8006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0292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2578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4864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715000" y="2666880"/>
                  <a:ext cx="2286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3048120" y="3062160"/>
                <a:ext cx="39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3062160"/>
                <a:ext cx="99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32767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6019920" y="28951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1369800" y="3352680"/>
            <a:ext cx="7240680" cy="839520"/>
            <a:chOff x="1369800" y="3352680"/>
            <a:chExt cx="7240680" cy="839520"/>
          </a:xfrm>
        </p:grpSpPr>
        <p:grpSp>
          <p:nvGrpSpPr>
            <p:cNvPr id="106" name=""/>
            <p:cNvGrpSpPr/>
            <p:nvPr/>
          </p:nvGrpSpPr>
          <p:grpSpPr>
            <a:xfrm>
              <a:off x="3200400" y="3428640"/>
              <a:ext cx="4572000" cy="228600"/>
              <a:chOff x="3200400" y="3428640"/>
              <a:chExt cx="4572000" cy="228600"/>
            </a:xfrm>
          </p:grpSpPr>
          <p:sp>
            <p:nvSpPr>
              <p:cNvPr id="107" name=""/>
              <p:cNvSpPr/>
              <p:nvPr/>
            </p:nvSpPr>
            <p:spPr>
              <a:xfrm>
                <a:off x="32004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148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36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58000" y="342864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1369800" y="33526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380988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25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276720" y="36428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1911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69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913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0199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057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9343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20120" y="38239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848720" y="365688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76000" y="4038480"/>
            <a:ext cx="8377560" cy="1220760"/>
            <a:chOff x="576000" y="4038480"/>
            <a:chExt cx="8377560" cy="1220760"/>
          </a:xfrm>
        </p:grpSpPr>
        <p:sp>
          <p:nvSpPr>
            <p:cNvPr id="126" name=""/>
            <p:cNvSpPr/>
            <p:nvPr/>
          </p:nvSpPr>
          <p:spPr>
            <a:xfrm>
              <a:off x="576000" y="403848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double a[4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609480" y="4495680"/>
              <a:ext cx="8344080" cy="763560"/>
              <a:chOff x="609480" y="4495680"/>
              <a:chExt cx="8344080" cy="76356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762120" y="4495680"/>
                <a:ext cx="7315200" cy="228600"/>
                <a:chOff x="762120" y="4495680"/>
                <a:chExt cx="7315200" cy="2286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621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5909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197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248520" y="4495680"/>
                  <a:ext cx="1828800" cy="228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V="1">
                <a:off x="636264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62840" y="489096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3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8191440" y="472392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220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2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09480" y="4862520"/>
                <a:ext cx="39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838080" y="46954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26668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67080" y="487692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66"/>
                    </a:solidFill>
                    <a:latin typeface="Arial"/>
                  </a:rPr>
                  <a:t>x </a:t>
                </a: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+ 1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495680" y="4709880"/>
                <a:ext cx="0" cy="22860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>
            <a:off x="760320" y="55627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*p[3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666880" y="5638680"/>
            <a:ext cx="2895480" cy="763560"/>
            <a:chOff x="2666880" y="5638680"/>
            <a:chExt cx="2895480" cy="763560"/>
          </a:xfrm>
        </p:grpSpPr>
        <p:grpSp>
          <p:nvGrpSpPr>
            <p:cNvPr id="145" name=""/>
            <p:cNvGrpSpPr/>
            <p:nvPr/>
          </p:nvGrpSpPr>
          <p:grpSpPr>
            <a:xfrm>
              <a:off x="2819160" y="5638680"/>
              <a:ext cx="2743200" cy="228600"/>
              <a:chOff x="2819160" y="5638680"/>
              <a:chExt cx="2743200" cy="228600"/>
            </a:xfrm>
          </p:grpSpPr>
          <p:sp>
            <p:nvSpPr>
              <p:cNvPr id="146" name=""/>
              <p:cNvSpPr/>
              <p:nvPr/>
            </p:nvSpPr>
            <p:spPr>
              <a:xfrm>
                <a:off x="28191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7335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47960" y="563868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2666880" y="601956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812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95480" y="58525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8098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95680" y="6033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724280" y="586692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/>
          <p:nvPr/>
        </p:nvSpPr>
        <p:spPr>
          <a:xfrm>
            <a:off x="6781680" y="15238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75840" y="228600"/>
            <a:ext cx="8767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290160" y="914040"/>
            <a:ext cx="64911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ffsets Within Stru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atisfy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verall Structure Place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structure has alignment requirement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rgest alignment of any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 address &amp; structure length must be multiples of 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 (under Windows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833400" y="4572000"/>
            <a:ext cx="2793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052720" y="45720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1680" y="4572000"/>
            <a:ext cx="11941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10320" y="457200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138320" y="4572000"/>
            <a:ext cx="88884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491000" y="4572000"/>
            <a:ext cx="119376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03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77048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989800" y="4863960"/>
            <a:ext cx="59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44356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882200" y="486396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0718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928800" y="56386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10080" y="56386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729400" y="5181120"/>
            <a:ext cx="0" cy="3812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8580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9144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867280" y="60958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 algn="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ultiple of 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229600" y="5257800"/>
            <a:ext cx="0" cy="838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6093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ux vs. Window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ndows (including Cygwin)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8,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ux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K = 4;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reated like a 4-byte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019920" y="8380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685800" y="2666880"/>
            <a:ext cx="7983360" cy="1460520"/>
            <a:chOff x="685800" y="2666880"/>
            <a:chExt cx="7983360" cy="1460520"/>
          </a:xfrm>
        </p:grpSpPr>
        <p:sp>
          <p:nvSpPr>
            <p:cNvPr id="857" name=""/>
            <p:cNvSpPr/>
            <p:nvPr/>
          </p:nvSpPr>
          <p:spPr>
            <a:xfrm>
              <a:off x="985680" y="2666880"/>
              <a:ext cx="279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0500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424320" y="2666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62600" y="26668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90600" y="2666880"/>
              <a:ext cx="8892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43280" y="2666880"/>
              <a:ext cx="11941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164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0404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23000" y="29718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0080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939080" y="29718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22096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9320" y="3505320"/>
              <a:ext cx="2057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72000" y="35053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5867280" y="327636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5800" y="374652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1066680" y="32893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67280" y="36576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8305920" y="327672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838080" y="5105520"/>
            <a:ext cx="6869160" cy="1447560"/>
            <a:chOff x="838080" y="5105520"/>
            <a:chExt cx="6869160" cy="1447560"/>
          </a:xfrm>
        </p:grpSpPr>
        <p:sp>
          <p:nvSpPr>
            <p:cNvPr id="877" name=""/>
            <p:cNvSpPr/>
            <p:nvPr/>
          </p:nvSpPr>
          <p:spPr>
            <a:xfrm>
              <a:off x="1290600" y="5105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09920" y="5105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28880" y="51055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595520" y="51055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964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20860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27920" y="53974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51460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23880" y="5867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9000" y="58672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38080" y="6172200"/>
              <a:ext cx="2590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129528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900680" y="5105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53888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77160" y="53974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4905360" y="5638320"/>
              <a:ext cx="1440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05360" y="6095880"/>
              <a:ext cx="25909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23920" indent="-223920" algn="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Arial"/>
                </a:rPr>
                <a:t>Multiple of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7343640" y="5715000"/>
              <a:ext cx="0" cy="3808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9247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all Alignment Requirem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914400" y="106668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2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733920"/>
            <a:ext cx="221472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3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x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08400" y="2819520"/>
            <a:ext cx="7901640" cy="1018440"/>
            <a:chOff x="608400" y="2819520"/>
            <a:chExt cx="7901640" cy="1018440"/>
          </a:xfrm>
        </p:grpSpPr>
        <p:sp>
          <p:nvSpPr>
            <p:cNvPr id="899" name=""/>
            <p:cNvSpPr/>
            <p:nvPr/>
          </p:nvSpPr>
          <p:spPr>
            <a:xfrm>
              <a:off x="60840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14828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70720" y="320040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43560" y="32004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99800" y="3200400"/>
              <a:ext cx="2010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Windows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inux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: 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1500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7672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495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3808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19920" y="2819520"/>
              <a:ext cx="21333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608400" y="5410080"/>
            <a:ext cx="6749640" cy="744480"/>
            <a:chOff x="608400" y="5410080"/>
            <a:chExt cx="6749640" cy="744480"/>
          </a:xfrm>
        </p:grpSpPr>
        <p:sp>
          <p:nvSpPr>
            <p:cNvPr id="910" name=""/>
            <p:cNvSpPr/>
            <p:nvPr/>
          </p:nvSpPr>
          <p:spPr>
            <a:xfrm>
              <a:off x="5715000" y="541008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7672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4956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019920" y="541008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08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82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70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4435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62796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808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057400" y="5410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75140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3160" y="1271520"/>
            <a:ext cx="288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or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for Linu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0280" y="4395960"/>
            <a:ext cx="46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must be multiple of 4 (in either O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61880" y="228600"/>
            <a:ext cx="8221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rdering Elements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62120" y="914400"/>
            <a:ext cx="22143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4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38080" y="3581280"/>
            <a:ext cx="221472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5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32440" y="2819520"/>
            <a:ext cx="7816320" cy="667800"/>
            <a:chOff x="532440" y="2819520"/>
            <a:chExt cx="7816320" cy="667800"/>
          </a:xfrm>
        </p:grpSpPr>
        <p:sp>
          <p:nvSpPr>
            <p:cNvPr id="928" name=""/>
            <p:cNvSpPr/>
            <p:nvPr/>
          </p:nvSpPr>
          <p:spPr>
            <a:xfrm>
              <a:off x="7621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781680" y="28195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00400" y="28195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6680" y="2819520"/>
              <a:ext cx="21337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3244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75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894400" y="312408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36760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618680" y="31240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272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867280" y="2819520"/>
              <a:ext cx="91440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720" y="5486400"/>
            <a:ext cx="5565240" cy="668160"/>
            <a:chOff x="684720" y="5486400"/>
            <a:chExt cx="5565240" cy="668160"/>
          </a:xfrm>
        </p:grpSpPr>
        <p:sp>
          <p:nvSpPr>
            <p:cNvPr id="940" name=""/>
            <p:cNvSpPr/>
            <p:nvPr/>
          </p:nvSpPr>
          <p:spPr>
            <a:xfrm>
              <a:off x="3886200" y="5486400"/>
              <a:ext cx="60948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5268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495680" y="54864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914400" y="54864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8472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1896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047040" y="5791320"/>
              <a:ext cx="592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519880" y="579132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57600" y="548640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3734640" y="1422360"/>
            <a:ext cx="44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 bytes wasted space in Window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70920" y="4394160"/>
            <a:ext cx="27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bytes wasted spa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539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s of Struc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5303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d by repeating allocation for array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general, may nest arrays &amp; structures to arbitrary dep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295640" y="5257800"/>
            <a:ext cx="6614640" cy="659160"/>
            <a:chOff x="1295640" y="5257800"/>
            <a:chExt cx="6614640" cy="659160"/>
          </a:xfrm>
        </p:grpSpPr>
        <p:sp>
          <p:nvSpPr>
            <p:cNvPr id="954" name=""/>
            <p:cNvSpPr/>
            <p:nvPr/>
          </p:nvSpPr>
          <p:spPr>
            <a:xfrm>
              <a:off x="15969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295640" y="558468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425760" y="5292720"/>
              <a:ext cx="1803600" cy="27936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54560" y="5292720"/>
              <a:ext cx="18036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0783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9071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2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735960" y="5584680"/>
              <a:ext cx="669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3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358400" y="5257800"/>
              <a:ext cx="55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• • 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143000" y="4114800"/>
            <a:ext cx="22096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257800" y="4114800"/>
            <a:ext cx="3124080" cy="114300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29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3724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27528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999560" y="41911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791320" y="17524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066680" y="3809880"/>
            <a:ext cx="7315200" cy="279360"/>
            <a:chOff x="1066680" y="3809880"/>
            <a:chExt cx="7315200" cy="279360"/>
          </a:xfrm>
        </p:grpSpPr>
        <p:sp>
          <p:nvSpPr>
            <p:cNvPr id="970" name=""/>
            <p:cNvSpPr/>
            <p:nvPr/>
          </p:nvSpPr>
          <p:spPr>
            <a:xfrm>
              <a:off x="106668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943600" y="38098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505320" y="38098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1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286000" y="380988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162920" y="3809880"/>
              <a:ext cx="12189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4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Element within Arra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5442120" cy="218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offset to start of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12*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s 4*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+2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 element according to its offset within stru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ffset by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0" indent="-23976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r gives displacement as a + 8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5244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must set actual val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219320" y="5105520"/>
            <a:ext cx="358128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6553080" y="5105160"/>
            <a:ext cx="1981440" cy="60948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79" name=""/>
          <p:cNvGrpSpPr/>
          <p:nvPr/>
        </p:nvGrpSpPr>
        <p:grpSpPr>
          <a:xfrm>
            <a:off x="1066680" y="4800600"/>
            <a:ext cx="7162920" cy="684720"/>
            <a:chOff x="1066680" y="4800600"/>
            <a:chExt cx="7162920" cy="684720"/>
          </a:xfrm>
        </p:grpSpPr>
        <p:sp>
          <p:nvSpPr>
            <p:cNvPr id="980" name=""/>
            <p:cNvSpPr/>
            <p:nvPr/>
          </p:nvSpPr>
          <p:spPr>
            <a:xfrm>
              <a:off x="1371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066680" y="5153040"/>
              <a:ext cx="547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800600" y="4800600"/>
              <a:ext cx="18032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[i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496040" y="51307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00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29400" y="4800600"/>
              <a:ext cx="1600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• • 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457200" y="3276720"/>
            <a:ext cx="327672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get_j(int i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[idx].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86200" y="3276720"/>
            <a:ext cx="464832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ax,%eax,2),%eax # 3*i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swl a+8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64880" y="6095880"/>
            <a:ext cx="8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560200" y="6095880"/>
            <a:ext cx="1141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+12i+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019920" y="144792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1219320" y="5715000"/>
            <a:ext cx="7315200" cy="279360"/>
            <a:chOff x="1219320" y="5715000"/>
            <a:chExt cx="7315200" cy="279360"/>
          </a:xfrm>
        </p:grpSpPr>
        <p:sp>
          <p:nvSpPr>
            <p:cNvPr id="992" name=""/>
            <p:cNvSpPr/>
            <p:nvPr/>
          </p:nvSpPr>
          <p:spPr>
            <a:xfrm>
              <a:off x="1219320" y="571500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095880" y="5715000"/>
              <a:ext cx="1193760" cy="27936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657600" y="5715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[i].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3828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315200" y="5715000"/>
              <a:ext cx="121932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76040" y="228600"/>
            <a:ext cx="8815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tisfying Alignment within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hieving Alignme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address of structure array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must be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fset of element within structure must be multiple of element’s alignment requi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s offset of 4 is a multiple of 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size of structure must be multiple of worst-case alignment for any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ucture padded with unused space to be 12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477120" y="205740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6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a[10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327680" y="4665600"/>
            <a:ext cx="7511400" cy="1658520"/>
            <a:chOff x="1327680" y="4665600"/>
            <a:chExt cx="7511400" cy="1658520"/>
          </a:xfrm>
        </p:grpSpPr>
        <p:sp>
          <p:nvSpPr>
            <p:cNvPr id="1001" name=""/>
            <p:cNvSpPr/>
            <p:nvPr/>
          </p:nvSpPr>
          <p:spPr>
            <a:xfrm flipH="1">
              <a:off x="1523880" y="4970160"/>
              <a:ext cx="35812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6857640" y="4970160"/>
              <a:ext cx="1981080" cy="6098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1327680" y="4665600"/>
              <a:ext cx="7206480" cy="715680"/>
              <a:chOff x="1327680" y="4665600"/>
              <a:chExt cx="7206480" cy="715680"/>
            </a:xfrm>
          </p:grpSpPr>
          <p:sp>
            <p:nvSpPr>
              <p:cNvPr id="1004" name=""/>
              <p:cNvSpPr/>
              <p:nvPr/>
            </p:nvSpPr>
            <p:spPr>
              <a:xfrm>
                <a:off x="1676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0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327680" y="5018040"/>
                <a:ext cx="5929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105160" y="4665600"/>
                <a:ext cx="18036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i]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727160" y="4995720"/>
                <a:ext cx="86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+12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504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3960" y="4665600"/>
                <a:ext cx="160020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• • •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>
              <a:off x="1369800" y="59608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731400" y="596088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+12i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1523880" y="5580000"/>
              <a:ext cx="7315200" cy="279360"/>
              <a:chOff x="1523880" y="5580000"/>
              <a:chExt cx="7315200" cy="279360"/>
            </a:xfrm>
          </p:grpSpPr>
          <p:sp>
            <p:nvSpPr>
              <p:cNvPr id="1013" name=""/>
              <p:cNvSpPr/>
              <p:nvPr/>
            </p:nvSpPr>
            <p:spPr>
              <a:xfrm>
                <a:off x="152388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i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400800" y="558000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j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962160" y="55800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a[1].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43200" y="5580000"/>
                <a:ext cx="121896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19760" y="5580000"/>
                <a:ext cx="1219320" cy="279360"/>
              </a:xfrm>
              <a:prstGeom prst="rect">
                <a:avLst/>
              </a:prstGeom>
              <a:solidFill>
                <a:srgbClr val="b2b2b2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8" name=""/>
          <p:cNvSpPr/>
          <p:nvPr/>
        </p:nvSpPr>
        <p:spPr>
          <a:xfrm flipH="1" flipV="1">
            <a:off x="4343040" y="6476760"/>
            <a:ext cx="76212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08040" y="649116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1066680" y="5334120"/>
            <a:ext cx="457200" cy="457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520" y="579132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of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rot="16200000">
            <a:off x="4191120" y="579096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71"/>
                </a:lnTo>
                <a:cubicBezTo>
                  <a:pt x="10800" y="9871"/>
                  <a:pt x="5400" y="10771"/>
                  <a:pt x="0" y="10771"/>
                </a:cubicBezTo>
                <a:cubicBezTo>
                  <a:pt x="5400" y="10771"/>
                  <a:pt x="10800" y="11671"/>
                  <a:pt x="10800" y="125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5837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on Allo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nci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union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according to large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use one field at a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967120" y="2639880"/>
            <a:ext cx="220968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U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u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5408640" y="2819520"/>
            <a:ext cx="3168720" cy="1242720"/>
            <a:chOff x="5408640" y="2819520"/>
            <a:chExt cx="3168720" cy="1242720"/>
          </a:xfrm>
        </p:grpSpPr>
        <p:sp>
          <p:nvSpPr>
            <p:cNvPr id="1027" name=""/>
            <p:cNvSpPr/>
            <p:nvPr/>
          </p:nvSpPr>
          <p:spPr>
            <a:xfrm>
              <a:off x="5967360" y="28195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6736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86680" y="312408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967360" y="34290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40864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62796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47280" y="369900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u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4" name=""/>
          <p:cNvSpPr/>
          <p:nvPr/>
        </p:nvSpPr>
        <p:spPr>
          <a:xfrm>
            <a:off x="533520" y="3809880"/>
            <a:ext cx="22143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 S1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v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*s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608040" y="5562720"/>
            <a:ext cx="8121960" cy="655200"/>
            <a:chOff x="608040" y="5562720"/>
            <a:chExt cx="8121960" cy="655200"/>
          </a:xfrm>
        </p:grpSpPr>
        <p:sp>
          <p:nvSpPr>
            <p:cNvPr id="1036" name=""/>
            <p:cNvSpPr/>
            <p:nvPr/>
          </p:nvSpPr>
          <p:spPr>
            <a:xfrm>
              <a:off x="1166760" y="5562720"/>
              <a:ext cx="279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86080" y="556272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605040" y="5562720"/>
              <a:ext cx="11941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43680" y="556272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71680" y="5562720"/>
              <a:ext cx="88884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824360" y="5562720"/>
              <a:ext cx="1193760" cy="27936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804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736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046680" y="5854680"/>
              <a:ext cx="73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42412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62760" y="5854680"/>
              <a:ext cx="86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p+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4056840" y="50706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(Windows alignmen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"/>
          <p:cNvSpPr/>
          <p:nvPr/>
        </p:nvSpPr>
        <p:spPr>
          <a:xfrm>
            <a:off x="528480" y="985680"/>
            <a:ext cx="251964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bit_float_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800600" y="99072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bit2float(unsigned u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u = 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31920" y="252720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231920" y="2832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08396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302920" y="3102120"/>
            <a:ext cx="31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2971800"/>
            <a:ext cx="388296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float2bit(float f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it_float_t arg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g.f = f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arg.u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6600" y="228600"/>
            <a:ext cx="8308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Union to Access Bit Patter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88952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direct access to bit representation of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it2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float with given bit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float) u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2bi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generates bit pattern from 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the same a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unsigned)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520560"/>
            <a:ext cx="572292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90520" y="1655640"/>
            <a:ext cx="8307360" cy="47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/long/quad words stored in memory as 2/4/8 consecutiv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ich is most (least) significant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cause problems when exchanging binary data between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werPC, Spa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ast significant byte has lowes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x86, Alph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64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Princi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[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of data typ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length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-5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fi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used as a pointer to array element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spcBef>
                <a:spcPts val="624"/>
              </a:spcBef>
              <a:buNone/>
              <a:tabLst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6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4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+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&amp;val[2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(val+1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34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943280"/>
                <a:tab algn="l" pos="3660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al +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+ 4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88920" y="2666880"/>
            <a:ext cx="7240680" cy="839880"/>
            <a:chOff x="988920" y="2666880"/>
            <a:chExt cx="7240680" cy="839880"/>
          </a:xfrm>
        </p:grpSpPr>
        <p:grpSp>
          <p:nvGrpSpPr>
            <p:cNvPr id="158" name=""/>
            <p:cNvGrpSpPr/>
            <p:nvPr/>
          </p:nvGrpSpPr>
          <p:grpSpPr>
            <a:xfrm>
              <a:off x="2819520" y="2743200"/>
              <a:ext cx="4572000" cy="228600"/>
              <a:chOff x="2819520" y="2743200"/>
              <a:chExt cx="4572000" cy="228600"/>
            </a:xfrm>
          </p:grpSpPr>
          <p:sp>
            <p:nvSpPr>
              <p:cNvPr id="159" name=""/>
              <p:cNvSpPr/>
              <p:nvPr/>
            </p:nvSpPr>
            <p:spPr>
              <a:xfrm>
                <a:off x="28195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7339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83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627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77120" y="2743200"/>
                <a:ext cx="914400" cy="228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88920" y="26668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int val[5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12408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812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895480" y="29570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8098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956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7242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6386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244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1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5530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31384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 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467480" y="2971440"/>
              <a:ext cx="0" cy="228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520560"/>
            <a:ext cx="6649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8480" y="1379520"/>
            <a:ext cx="4035600" cy="173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on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char c[8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short s[4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int i[2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signed long l[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dw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6702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06072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841400" y="4280040"/>
            <a:ext cx="24130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0607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512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8414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8414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1088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7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49900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3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280040" y="4280040"/>
            <a:ext cx="24127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[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49900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6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889520" y="3670200"/>
            <a:ext cx="5842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5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80040" y="3975120"/>
            <a:ext cx="119376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[2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280040" y="3670200"/>
            <a:ext cx="58392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4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841400" y="4584600"/>
            <a:ext cx="2425680" cy="27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[0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267080" y="4572000"/>
            <a:ext cx="2425680" cy="27936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31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Example (Cont).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19320" y="990720"/>
            <a:ext cx="6384960" cy="5301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 = 0; j &lt; 8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j] = 0xf0 + j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Characters 0-7 ==  [0x%x,0x%x,0x%x,0x%x,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0], dw.c[1], dw.c[2], dw.c[3]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c[4], dw.c[5], dw.c[6], dw.c[7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Shorts 0-3 == [0x%x,0x%x,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s[0], dw.s[1], dw.s[2], dw.s[3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Ints 0-1 == [0x%x,0x%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i[0], dw.i[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("Long 0 == [0x%lx]\n",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.l[0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2737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x86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1444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Pentium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1752480" y="1676520"/>
            <a:ext cx="4851360" cy="2892960"/>
            <a:chOff x="1752480" y="1676520"/>
            <a:chExt cx="4851360" cy="2892960"/>
          </a:xfrm>
        </p:grpSpPr>
        <p:grpSp>
          <p:nvGrpSpPr>
            <p:cNvPr id="1084" name=""/>
            <p:cNvGrpSpPr/>
            <p:nvPr/>
          </p:nvGrpSpPr>
          <p:grpSpPr>
            <a:xfrm>
              <a:off x="1804680" y="1676520"/>
              <a:ext cx="4746600" cy="332280"/>
              <a:chOff x="1804680" y="1676520"/>
              <a:chExt cx="4746600" cy="33228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46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4141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0240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6334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2429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5280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46228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71760" y="1676520"/>
                <a:ext cx="479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f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752480" y="1982880"/>
              <a:ext cx="4851360" cy="2586600"/>
              <a:chOff x="1752480" y="1982880"/>
              <a:chExt cx="4851360" cy="2586600"/>
            </a:xfrm>
          </p:grpSpPr>
          <p:sp>
            <p:nvSpPr>
              <p:cNvPr id="1094" name=""/>
              <p:cNvSpPr/>
              <p:nvPr/>
            </p:nvSpPr>
            <p:spPr>
              <a:xfrm>
                <a:off x="35812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7144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752480" y="320220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7794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3493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714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3619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524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7524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77948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56832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9844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56832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0195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7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41008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190760" y="3202200"/>
                <a:ext cx="24130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[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1776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78764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410080" y="1982880"/>
                <a:ext cx="5839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6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0024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5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190760" y="2592360"/>
                <a:ext cx="119376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s[2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190760" y="1982880"/>
                <a:ext cx="58428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[4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217760" y="289584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006960" y="289584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437080" y="228600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06960" y="228600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H="1">
                <a:off x="3187080" y="4256280"/>
                <a:ext cx="213372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921480" y="4267440"/>
                <a:ext cx="5882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Prin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752480" y="3811680"/>
                <a:ext cx="2412720" cy="2793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[0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779480" y="3505320"/>
                <a:ext cx="5364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L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644640" y="3505320"/>
                <a:ext cx="5760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MS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62229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Su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57200" y="1143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g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480" y="502920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0f1,0xf2f3,0xf4f5,0x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0f1f2f3,0xf4f5f6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0f1f2f3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57200" y="4495680"/>
            <a:ext cx="3657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Su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778040" y="1676520"/>
            <a:ext cx="4919760" cy="2892960"/>
            <a:chOff x="1778040" y="1676520"/>
            <a:chExt cx="4919760" cy="2892960"/>
          </a:xfrm>
        </p:grpSpPr>
        <p:sp>
          <p:nvSpPr>
            <p:cNvPr id="1130" name=""/>
            <p:cNvSpPr/>
            <p:nvPr/>
          </p:nvSpPr>
          <p:spPr>
            <a:xfrm>
              <a:off x="36198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00996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791000" y="320220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1614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7780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0099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004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7910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7910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7804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64680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2748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9736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0580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44860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29280" y="320220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4680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1668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448600" y="198288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83876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29280" y="259236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29280" y="198288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16680" y="289584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85080" y="289584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65760" y="2286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35640" y="2286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8432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26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625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6720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814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9132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0080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110280" y="1676520"/>
              <a:ext cx="479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225600" y="425628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960000" y="426744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791000" y="38116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78040" y="35053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22760" y="35053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64767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te Ordering on Alph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57200" y="106668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ttle Endi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2160" y="5105520"/>
            <a:ext cx="827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acters 0-7 == [0xf0,0xf1,0xf2,0xf3,0xf4,0xf5,0xf6,0xf7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horts     0-3 == [0xf1f0,0xf3f2,0xf5f4,0xf7f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s       0-1 == [0xf3f2f1f0,0xf7f6f5f4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ng       0   == [0xf7f6f5f4f3f2f1f0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57200" y="4640400"/>
            <a:ext cx="3657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tput on Alpha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1752480" y="1600200"/>
            <a:ext cx="4851360" cy="2892960"/>
            <a:chOff x="1752480" y="1600200"/>
            <a:chExt cx="4851360" cy="2892960"/>
          </a:xfrm>
        </p:grpSpPr>
        <p:sp>
          <p:nvSpPr>
            <p:cNvPr id="1174" name=""/>
            <p:cNvSpPr/>
            <p:nvPr/>
          </p:nvSpPr>
          <p:spPr>
            <a:xfrm>
              <a:off x="35812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7144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752480" y="3113280"/>
              <a:ext cx="24127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7665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364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9714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3619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524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7524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76652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55572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98584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5572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0195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7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1008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3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90760" y="3113280"/>
              <a:ext cx="24130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[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0516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77504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410080" y="1893960"/>
              <a:ext cx="58392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6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0024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5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90760" y="2503440"/>
              <a:ext cx="11937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s[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90760" y="1893960"/>
              <a:ext cx="58428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[4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05160" y="281952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994000" y="281952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424120" y="220968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994000" y="220968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8172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271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366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6460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559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86540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474880" y="1600200"/>
              <a:ext cx="454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084720" y="1600200"/>
              <a:ext cx="45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f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187080" y="4167360"/>
              <a:ext cx="213372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34080" y="4191120"/>
              <a:ext cx="588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rin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752480" y="3722760"/>
              <a:ext cx="4851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[0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6520" y="3429000"/>
              <a:ext cx="536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94000" y="3429000"/>
              <a:ext cx="57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S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143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90160" y="837720"/>
            <a:ext cx="8853480" cy="560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s in 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guous allocation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to first el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bounds check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iler 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often turns array code into pointer code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d2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s addressing modes to scale array indi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ricks to improve array indexing in loo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u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cate bytes in order decla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d in middle and at end to satisfy align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lay decla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ay to circumvent type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5473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4994280"/>
            <a:ext cx="8381880" cy="13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laration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p_dig cmu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 equivalent to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 cmu[5]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 arrays were allocated in successive 20 byt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9880" indent="-2120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guaranteed to happen in gener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838080"/>
            <a:ext cx="492444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ypedef int zip_dig[5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cmu = { 1, 5, 2, 1, 3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mit = { 0, 2, 1, 3, 9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p_dig ucb = { 9, 4, 7, 2, 0 }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69800" y="2666880"/>
            <a:ext cx="6858720" cy="2363760"/>
            <a:chOff x="1369800" y="2666880"/>
            <a:chExt cx="6858720" cy="2363760"/>
          </a:xfrm>
        </p:grpSpPr>
        <p:grpSp>
          <p:nvGrpSpPr>
            <p:cNvPr id="181" name=""/>
            <p:cNvGrpSpPr/>
            <p:nvPr/>
          </p:nvGrpSpPr>
          <p:grpSpPr>
            <a:xfrm>
              <a:off x="1385640" y="2666880"/>
              <a:ext cx="6842880" cy="825480"/>
              <a:chOff x="1385640" y="2666880"/>
              <a:chExt cx="6842880" cy="825480"/>
            </a:xfrm>
          </p:grpSpPr>
          <p:sp>
            <p:nvSpPr>
              <p:cNvPr id="182" name=""/>
              <p:cNvSpPr/>
              <p:nvPr/>
            </p:nvSpPr>
            <p:spPr>
              <a:xfrm>
                <a:off x="1385640" y="26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201480" y="2743200"/>
                <a:ext cx="5027040" cy="749160"/>
                <a:chOff x="3201480" y="2743200"/>
                <a:chExt cx="5027040" cy="74916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3353040" y="2743200"/>
                  <a:ext cx="4572000" cy="228600"/>
                  <a:chOff x="3353040" y="2743200"/>
                  <a:chExt cx="4572000" cy="2286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3530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42674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1818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0962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010640" y="274320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 flipV="1">
                  <a:off x="3429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1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43434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158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52578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0302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V="1">
                  <a:off x="61722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9446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70866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90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8001000" y="297144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773480" y="31240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"/>
            <p:cNvGrpSpPr/>
            <p:nvPr/>
          </p:nvGrpSpPr>
          <p:grpSpPr>
            <a:xfrm>
              <a:off x="1369800" y="3443400"/>
              <a:ext cx="6842880" cy="824760"/>
              <a:chOff x="1369800" y="3443400"/>
              <a:chExt cx="6842880" cy="824760"/>
            </a:xfrm>
          </p:grpSpPr>
          <p:sp>
            <p:nvSpPr>
              <p:cNvPr id="203" name=""/>
              <p:cNvSpPr/>
              <p:nvPr/>
            </p:nvSpPr>
            <p:spPr>
              <a:xfrm>
                <a:off x="1369800" y="344340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3185640" y="3519360"/>
                <a:ext cx="5027040" cy="748800"/>
                <a:chOff x="3185640" y="3519360"/>
                <a:chExt cx="5027040" cy="748800"/>
              </a:xfrm>
            </p:grpSpPr>
            <p:grpSp>
              <p:nvGrpSpPr>
                <p:cNvPr id="205" name=""/>
                <p:cNvGrpSpPr/>
                <p:nvPr/>
              </p:nvGrpSpPr>
              <p:grpSpPr>
                <a:xfrm>
                  <a:off x="3337200" y="3519360"/>
                  <a:ext cx="4572000" cy="228240"/>
                  <a:chOff x="3337200" y="3519360"/>
                  <a:chExt cx="4572000" cy="2282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33372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2516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60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0804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94800" y="351936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 flipV="1">
                  <a:off x="3413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85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43275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000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V="1">
                  <a:off x="52419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0144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V="1">
                  <a:off x="61563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9288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70707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8432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7985160" y="374760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57640" y="389988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1369800" y="4205160"/>
              <a:ext cx="6842880" cy="825480"/>
              <a:chOff x="1369800" y="4205160"/>
              <a:chExt cx="6842880" cy="825480"/>
            </a:xfrm>
          </p:grpSpPr>
          <p:sp>
            <p:nvSpPr>
              <p:cNvPr id="224" name=""/>
              <p:cNvSpPr/>
              <p:nvPr/>
            </p:nvSpPr>
            <p:spPr>
              <a:xfrm>
                <a:off x="1369800" y="420516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185640" y="4281480"/>
                <a:ext cx="5027040" cy="749160"/>
                <a:chOff x="3185640" y="4281480"/>
                <a:chExt cx="5027040" cy="74916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3337200" y="4281480"/>
                  <a:ext cx="4572000" cy="228600"/>
                  <a:chOff x="3337200" y="4281480"/>
                  <a:chExt cx="4572000" cy="2286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3372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2516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1660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0804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994800" y="4281480"/>
                    <a:ext cx="914400" cy="2286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2" name=""/>
                <p:cNvSpPr/>
                <p:nvPr/>
              </p:nvSpPr>
              <p:spPr>
                <a:xfrm flipV="1">
                  <a:off x="3413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85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>
                  <a:off x="43275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000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52419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0144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61563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9288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70707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8432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V="1">
                  <a:off x="7985160" y="450972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757640" y="466236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Access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14600" y="4122720"/>
            <a:ext cx="4524480" cy="58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5520" y="1523880"/>
            <a:ext cx="342900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get_dig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zip_dig z, int dig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[dig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4876920"/>
            <a:ext cx="4924440" cy="911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d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ax = di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,%eax,4),%eax # z[dig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52280" y="1066680"/>
            <a:ext cx="4876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starting address of arr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ontains array inde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ired digit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4*%eax + %ed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emory referenc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(%edx,%eax,4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ferencing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90520" y="3429000"/>
            <a:ext cx="8307360" cy="301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Does Not Do Any Bounds Checking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08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feren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uarante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3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3 = 48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 5 = 5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it[-1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6 + 4*-1 = 32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u[15]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6 + 4*15 = 76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??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21280" indent="-206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 of range behavior implementation-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80840" indent="-1533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35240"/>
                <a:tab algn="l" pos="4686480"/>
                <a:tab algn="l" pos="59436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guaranteed relative allocation of different arrays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7520" y="990720"/>
            <a:ext cx="6858720" cy="2362680"/>
            <a:chOff x="1217520" y="990720"/>
            <a:chExt cx="6858720" cy="2362680"/>
          </a:xfrm>
        </p:grpSpPr>
        <p:grpSp>
          <p:nvGrpSpPr>
            <p:cNvPr id="252" name=""/>
            <p:cNvGrpSpPr/>
            <p:nvPr/>
          </p:nvGrpSpPr>
          <p:grpSpPr>
            <a:xfrm>
              <a:off x="1233360" y="990720"/>
              <a:ext cx="6842880" cy="824760"/>
              <a:chOff x="1233360" y="990720"/>
              <a:chExt cx="6842880" cy="824760"/>
            </a:xfrm>
          </p:grpSpPr>
          <p:sp>
            <p:nvSpPr>
              <p:cNvPr id="253" name=""/>
              <p:cNvSpPr/>
              <p:nvPr/>
            </p:nvSpPr>
            <p:spPr>
              <a:xfrm>
                <a:off x="1233360" y="990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cmu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3049200" y="1066680"/>
                <a:ext cx="5027040" cy="748800"/>
                <a:chOff x="3049200" y="1066680"/>
                <a:chExt cx="5027040" cy="748800"/>
              </a:xfrm>
            </p:grpSpPr>
            <p:grpSp>
              <p:nvGrpSpPr>
                <p:cNvPr id="255" name=""/>
                <p:cNvGrpSpPr/>
                <p:nvPr/>
              </p:nvGrpSpPr>
              <p:grpSpPr>
                <a:xfrm>
                  <a:off x="3200760" y="1066680"/>
                  <a:ext cx="4572000" cy="228240"/>
                  <a:chOff x="3200760" y="1066680"/>
                  <a:chExt cx="4572000" cy="22824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2007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1151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5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0295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439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858360" y="106668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 flipV="1">
                  <a:off x="3276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049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1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V="1">
                  <a:off x="41911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636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51055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780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60199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7924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2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9343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7068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V="1">
                  <a:off x="7848720" y="129492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21200" y="14472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3" name=""/>
            <p:cNvGrpSpPr/>
            <p:nvPr/>
          </p:nvGrpSpPr>
          <p:grpSpPr>
            <a:xfrm>
              <a:off x="1217520" y="1766880"/>
              <a:ext cx="6842880" cy="824400"/>
              <a:chOff x="1217520" y="1766880"/>
              <a:chExt cx="6842880" cy="82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1217520" y="176688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mit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3033360" y="1842840"/>
                <a:ext cx="5027040" cy="748440"/>
                <a:chOff x="3033360" y="1842840"/>
                <a:chExt cx="5027040" cy="748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3184920" y="1842840"/>
                  <a:ext cx="4572000" cy="228240"/>
                  <a:chOff x="3184920" y="1842840"/>
                  <a:chExt cx="4572000" cy="2282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31849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0993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50137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1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59281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3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842520" y="184284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2" name=""/>
                <p:cNvSpPr/>
                <p:nvPr/>
              </p:nvSpPr>
              <p:spPr>
                <a:xfrm flipV="1">
                  <a:off x="3260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33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1752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9477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50896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8621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60040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765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9184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909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7832880" y="207108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605360" y="222300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217520" y="2528640"/>
              <a:ext cx="6842880" cy="824760"/>
              <a:chOff x="1217520" y="2528640"/>
              <a:chExt cx="6842880" cy="824760"/>
            </a:xfrm>
          </p:grpSpPr>
          <p:sp>
            <p:nvSpPr>
              <p:cNvPr id="295" name=""/>
              <p:cNvSpPr/>
              <p:nvPr/>
            </p:nvSpPr>
            <p:spPr>
              <a:xfrm>
                <a:off x="1217520" y="252864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zip_dig ucb;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3033360" y="2604600"/>
                <a:ext cx="5027040" cy="748800"/>
                <a:chOff x="3033360" y="2604600"/>
                <a:chExt cx="5027040" cy="74880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3184920" y="2604600"/>
                  <a:ext cx="4572000" cy="228240"/>
                  <a:chOff x="3184920" y="2604600"/>
                  <a:chExt cx="4572000" cy="22824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31849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9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40993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4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50137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7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9281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2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6842520" y="2604600"/>
                    <a:ext cx="914400" cy="228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66"/>
                        </a:solidFill>
                        <a:latin typeface="Courier New"/>
                      </a:rPr>
                      <a:t>0</a:t>
                    </a:r>
                    <a:endParaRPr b="0" lang="en-US" sz="18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 flipV="1">
                  <a:off x="3260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033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41752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9477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50896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8621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60040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7765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6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69184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6909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2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7832880" y="2832840"/>
                  <a:ext cx="0" cy="228240"/>
                </a:xfrm>
                <a:prstGeom prst="line">
                  <a:avLst/>
                </a:prstGeom>
                <a:ln w="25560">
                  <a:solidFill>
                    <a:srgbClr val="000066"/>
                  </a:solidFill>
                  <a:miter/>
                  <a:tailEnd len="sm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05360" y="2985120"/>
                  <a:ext cx="455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76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5" name=""/>
          <p:cNvSpPr/>
          <p:nvPr/>
        </p:nvSpPr>
        <p:spPr>
          <a:xfrm>
            <a:off x="6477120" y="43434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5308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3080" y="5119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54864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648320" y="762120"/>
            <a:ext cx="4038480" cy="2557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5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z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91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Sour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342900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3200400"/>
            <a:ext cx="4114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ormed Ver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generated by GC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loop variab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 array code to pointer co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in do-while for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need to test at entran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81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ray Loop Implem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4419720" cy="21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0">
              <a:lnSpc>
                <a:spcPct val="100000"/>
              </a:lnSpc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656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1472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*zi + *z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implemented as    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z + 2*(zi+4*zi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4720" indent="-164520"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z++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crements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int zi =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end = z + 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i = 10 * zi + *z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3809880"/>
            <a:ext cx="6705720" cy="283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%ecx = 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i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16(%ec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nd  = z+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59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ax,4),%ed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5*z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z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l (%eax,%edx,2),%eax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# zi = *z + 2*(5*zi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cmpl %eb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 : z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jle .L5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=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961920"/>
            <a:ext cx="4038480" cy="28321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d2int(zip_dig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zi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zend = z + 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i = 10 * zi + *z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while(z &lt;= zend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z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8:18Z</dcterms:modified>
  <cp:revision>87</cp:revision>
  <dc:subject/>
  <dc:title>Machine Level Programming IV</dc:title>
</cp:coreProperties>
</file>