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BB6A01D-41BF-4C55-98A2-CF1E7E0369E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340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34120" cy="33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84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896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240" cy="990720"/>
            <a:chOff x="457200" y="5029200"/>
            <a:chExt cx="822924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360" cy="990360"/>
              <a:chOff x="457200" y="5029200"/>
              <a:chExt cx="2133360" cy="99036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560" y="5029200"/>
              <a:ext cx="2133360" cy="990360"/>
              <a:chOff x="2590560" y="5029200"/>
              <a:chExt cx="2133360" cy="99036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5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44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56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360" cy="990360"/>
              <a:chOff x="6553080" y="5029200"/>
              <a:chExt cx="2133360" cy="99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69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04360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3720" cy="1523520"/>
            <a:chOff x="3657600" y="3733920"/>
            <a:chExt cx="2133720" cy="152352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360" cy="990360"/>
              <a:chOff x="3657600" y="4267080"/>
              <a:chExt cx="213336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3360" cy="1523520"/>
            <a:chOff x="6705720" y="3733920"/>
            <a:chExt cx="2133360" cy="152352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360"/>
              <a:chOff x="6705720" y="4267080"/>
              <a:chExt cx="2133360" cy="99036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7339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30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3360" cy="1523520"/>
            <a:chOff x="533520" y="3733920"/>
            <a:chExt cx="2133360" cy="152352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360"/>
              <a:chOff x="533520" y="4267080"/>
              <a:chExt cx="2133360" cy="99036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3136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19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24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20*index + 4*di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4*dig + 4*(index+4*index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174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3]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3+4*3 = 1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5 = 13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-1 = 11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4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4+4*-1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19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19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-1 = 7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176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8480" y="1066680"/>
            <a:ext cx="6619680" cy="1282680"/>
            <a:chOff x="205848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4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236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84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172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59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1760"/>
              <a:chOff x="2209680" y="1066680"/>
              <a:chExt cx="6096240" cy="7617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1760"/>
                <a:chOff x="2209680" y="1066680"/>
                <a:chExt cx="1524240" cy="761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520" cy="761760"/>
                <a:chOff x="3733920" y="1066680"/>
                <a:chExt cx="1523520" cy="761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79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520" cy="761760"/>
                <a:chOff x="5257800" y="1066680"/>
                <a:chExt cx="1523520" cy="761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3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184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67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1760"/>
                <a:chOff x="6781680" y="1066680"/>
                <a:chExt cx="1524240" cy="761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34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54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sho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 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760"/>
            <a:ext cx="8307360" cy="21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167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64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56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5800" y="4818240"/>
            <a:ext cx="3456360" cy="1658520"/>
            <a:chOff x="685800" y="4818240"/>
            <a:chExt cx="345636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36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2800" y="53517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4920" y="4818240"/>
              <a:ext cx="867240" cy="1277640"/>
              <a:chOff x="327492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808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492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200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228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368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39877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5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37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00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821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86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126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704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220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4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404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30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9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67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964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86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92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88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8400" y="2819520"/>
            <a:ext cx="7901640" cy="1018440"/>
            <a:chOff x="608400" y="2819520"/>
            <a:chExt cx="7901640" cy="1018440"/>
          </a:xfrm>
        </p:grpSpPr>
        <p:sp>
          <p:nvSpPr>
            <p:cNvPr id="899" name=""/>
            <p:cNvSpPr/>
            <p:nvPr/>
          </p:nvSpPr>
          <p:spPr>
            <a:xfrm>
              <a:off x="6084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72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9980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8400" y="5410080"/>
            <a:ext cx="6749640" cy="744480"/>
            <a:chOff x="608400" y="5410080"/>
            <a:chExt cx="674964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1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316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028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2440" y="2819520"/>
            <a:ext cx="7816320" cy="667800"/>
            <a:chOff x="532440" y="2819520"/>
            <a:chExt cx="781632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440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60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464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092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5640" y="5257800"/>
            <a:ext cx="6614640" cy="659160"/>
            <a:chOff x="129564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564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244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7680" y="4665600"/>
            <a:ext cx="7511400" cy="1658520"/>
            <a:chOff x="1327680" y="4665600"/>
            <a:chExt cx="7511400" cy="1658520"/>
          </a:xfrm>
        </p:grpSpPr>
        <p:sp>
          <p:nvSpPr>
            <p:cNvPr id="1001" name=""/>
            <p:cNvSpPr/>
            <p:nvPr/>
          </p:nvSpPr>
          <p:spPr>
            <a:xfrm flipH="1">
              <a:off x="1523880" y="4970160"/>
              <a:ext cx="35812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7640" y="4970160"/>
              <a:ext cx="19810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7680" y="4665600"/>
              <a:ext cx="7206480" cy="715680"/>
              <a:chOff x="1327680" y="4665600"/>
              <a:chExt cx="720648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768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716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4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3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69800" y="59608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1400" y="596088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55800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1976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3040" y="6476760"/>
            <a:ext cx="7621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4120"/>
            <a:ext cx="4572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2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911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720" cy="1242720"/>
            <a:chOff x="5408640" y="2819520"/>
            <a:chExt cx="316872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7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1960" cy="655200"/>
            <a:chOff x="608040" y="5562720"/>
            <a:chExt cx="812196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68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41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276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396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29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64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4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val[2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(val+1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 4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2666880"/>
            <a:ext cx="7240680" cy="839880"/>
            <a:chOff x="988920" y="2666880"/>
            <a:chExt cx="724068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892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70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84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130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9800" y="2666880"/>
            <a:ext cx="6858720" cy="2363760"/>
            <a:chOff x="1369800" y="2666880"/>
            <a:chExt cx="685872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5640" y="2666880"/>
              <a:ext cx="6842880" cy="825480"/>
              <a:chOff x="1385640" y="2666880"/>
              <a:chExt cx="684288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564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1480" y="2743200"/>
                <a:ext cx="5027040" cy="749160"/>
                <a:chOff x="3201480" y="2743200"/>
                <a:chExt cx="502704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3040" y="2743200"/>
                  <a:ext cx="4572000" cy="228600"/>
                  <a:chOff x="33530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3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7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1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6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10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9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1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34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8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78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302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22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46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66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90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001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3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9800" y="3443400"/>
              <a:ext cx="6842880" cy="824760"/>
              <a:chOff x="1369800" y="3443400"/>
              <a:chExt cx="6842880" cy="824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980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5640" y="3519360"/>
                <a:ext cx="5027040" cy="748800"/>
                <a:chOff x="3185640" y="3519360"/>
                <a:chExt cx="5027040" cy="7488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7200" y="3519360"/>
                  <a:ext cx="4572000" cy="228240"/>
                  <a:chOff x="3337200" y="3519360"/>
                  <a:chExt cx="4572000" cy="228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72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516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60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804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48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0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44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88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2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7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9800" y="4205160"/>
              <a:ext cx="6842880" cy="825480"/>
              <a:chOff x="1369800" y="4205160"/>
              <a:chExt cx="68428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980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5640" y="4281480"/>
                <a:ext cx="5027040" cy="749160"/>
                <a:chOff x="318564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7200" y="4281480"/>
                  <a:ext cx="4572000" cy="228600"/>
                  <a:chOff x="3337200" y="4281480"/>
                  <a:chExt cx="45720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7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51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6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804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4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5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0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44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88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2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7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49244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red digit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emory referenc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9000"/>
            <a:ext cx="8307360" cy="30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3 = 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5 = 5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-1 = 3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u[1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6 + 4*15 = 7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80840" indent="-153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52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loop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-164520"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8Z</dcterms:modified>
  <cp:revision>87</cp:revision>
  <dc:subject/>
  <dc:title>Machine Level Programming IV</dc:title>
</cp:coreProperties>
</file>