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57DA3A8-20B4-45D0-AD2A-0C6A2A706C5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0800" y="1836720"/>
            <a:ext cx="714852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Level Programming 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p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30480" y="3719160"/>
            <a:ext cx="438480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y Programmer’s Execution Mod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ing Inform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231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21800" indent="-23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05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58680" y="259092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8680" y="380988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87692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943600"/>
            <a:ext cx="100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89520" y="3054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95880" y="3171960"/>
            <a:ext cx="25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0040" y="4314960"/>
            <a:ext cx="3047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embl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410080"/>
            <a:ext cx="263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nker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57280" y="2579760"/>
            <a:ext cx="326412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c p2.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43160" y="3657600"/>
            <a:ext cx="3492360" cy="3632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m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s p2.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28680" y="4800600"/>
            <a:ext cx="3721320" cy="3632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ject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1.o p2.o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5943600"/>
            <a:ext cx="3747960" cy="363240"/>
          </a:xfrm>
          <a:prstGeom prst="rect">
            <a:avLst/>
          </a:prstGeom>
          <a:solidFill>
            <a:srgbClr val="cc99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able program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89520" y="4197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89520" y="5340240"/>
            <a:ext cx="0" cy="584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800600"/>
            <a:ext cx="2044440" cy="6375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tic librarie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57800" y="5029200"/>
            <a:ext cx="99072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urning C into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14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de in file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1.c p2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with comman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O p1.c p2.c -o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optimizations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286000"/>
                <a:tab algn="l" pos="354348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ut resulting binary in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68450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iling Into 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143000"/>
            <a:ext cx="162252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04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3882960" cy="1460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111320"/>
            <a:ext cx="3594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ted 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592280"/>
            <a:ext cx="4195800" cy="228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_su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038480"/>
            <a:ext cx="350208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tain with comm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 -S code.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s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ode.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6972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haracterist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5485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nimal 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” data of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val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es (untyped pointers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loating point data of 4, 8, or 10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aggregate types such as arrays or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Just contiguously allocated bytes 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imitive 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 arithmetic function on register or memory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data between memory and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 data from memory into regis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gister data into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fer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conditional jumps to/from procedur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ditional branch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3080" y="914400"/>
            <a:ext cx="251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for </a:t>
            </a: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520" y="1447920"/>
            <a:ext cx="251136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5524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05320" y="838080"/>
            <a:ext cx="5486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ate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nary encoding of each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arly-complete image of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sing linkages between code in different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k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olves references between fi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s with static run-time lib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code f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rint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libraries ar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ynamically link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nking occurs when program begins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905120"/>
            <a:ext cx="2361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of 1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instruction 1, 2, or 3 byt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90000"/>
              </a:lnSpc>
              <a:spcBef>
                <a:spcPts val="675"/>
              </a:spcBef>
              <a:buClr>
                <a:srgbClr val="000066"/>
              </a:buClr>
              <a:buFont typeface="Helvetica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rts at address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0" y="8380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two signed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2 4-byte integ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ng” words in GCC parla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instruction whether signed or unsign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[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+8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064520" indent="-1580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urn function value in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124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-byt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2440" indent="-211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300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d at addres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0x40104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143000"/>
            <a:ext cx="388296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2860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54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5486400"/>
            <a:ext cx="3886200" cy="3632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2819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ilar to expression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x +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40080" y="10350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1447920"/>
            <a:ext cx="6781680" cy="2557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401040 &lt;_sum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5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45 0c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3 45 08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9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d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3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d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8d 76 00   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820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sassembling Object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114440"/>
            <a:ext cx="8140680" cy="224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bjdump -d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tool for examining object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alyzes bit pattern of series of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duces approximate rendition of assembl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 run on eith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.ou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complete executable) 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.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191120" y="914400"/>
            <a:ext cx="2603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assembl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447920"/>
            <a:ext cx="6019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 &lt;sum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1 &lt;sum+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3 &lt;sum+3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6 &lt;sum+6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    0x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9 &lt;sum+9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b &lt;sum+11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c &lt;sum+12&gt;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 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40104d &lt;sum+13&gt;: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lea    0x0(%esi)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6248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ternate Disassemb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97160" y="4195800"/>
            <a:ext cx="6300720" cy="224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ithin gdb Debugg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db 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isassemble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 proced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/13b 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-233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the 13 bytes starting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0704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066680"/>
            <a:ext cx="1308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23920" indent="-2239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23920" indent="-223920"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1523880"/>
            <a:ext cx="152424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01040: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5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c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952880" y="3733920"/>
            <a:ext cx="1447920" cy="1295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1828800" y="5028840"/>
            <a:ext cx="838080" cy="6094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50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Can be Disassembled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0520" y="5138280"/>
            <a:ext cx="8307360" cy="130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thing that can be interpreted as executable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assembler examines bytes and reconstructs assembly sour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1219320"/>
            <a:ext cx="8153280" cy="36550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 objdump -d WINWORD.EX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INWORD.EXE:     file format pei-i3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 symbols in "WINWORD.EXE"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isassembly of section .text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 &lt;.text&gt;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55  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1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b ec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a ff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fffffff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0 10 00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0010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3000100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68 91 dc 4c 30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   $0x304cdc9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53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ing Dat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77868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ving Da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ourc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4-byte (“long”)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ts of these in typical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: Constant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C constant, but prefixed with ‘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’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40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-5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coded with 1, 2, or 4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: One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served for special u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s have special uses for particular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4 consecutive byte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ous “address modes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400800" y="380880"/>
            <a:ext cx="2514600" cy="3581280"/>
            <a:chOff x="6400800" y="380880"/>
            <a:chExt cx="2514600" cy="3581280"/>
          </a:xfrm>
        </p:grpSpPr>
        <p:sp>
          <p:nvSpPr>
            <p:cNvPr id="166" name=""/>
            <p:cNvSpPr/>
            <p:nvPr/>
          </p:nvSpPr>
          <p:spPr>
            <a:xfrm>
              <a:off x="6400800" y="380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0800" y="8380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00800" y="12952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00800" y="17524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00800" y="22096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2666880"/>
              <a:ext cx="25146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31240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800" y="3581280"/>
              <a:ext cx="25146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166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mov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Operand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3240" y="5284440"/>
            <a:ext cx="7604280" cy="116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do memory-memory transfers with single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9680" y="3276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mov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1280" y="2209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Im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2720" y="327672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56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22040" y="1981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880" y="2438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22040" y="31240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880" y="3581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M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22040" y="43434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e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50440" y="12193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20600" y="12193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stin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1400" y="1981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0x4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0320" y="24382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47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736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6640" y="35812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6640" y="43434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ax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13372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2057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14600" y="3200400"/>
            <a:ext cx="304920" cy="762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9800" y="121932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Analo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9900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0x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99360" y="2438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-14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4600" y="312408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2 = temp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75680" y="358128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p = te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75680" y="434340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mp = *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59691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A32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tally Dominate Computer Mark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volutionary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ing in 1978 with 80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more features as time goes 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ill support old features, although obsole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lex Instruction Set Computer (CISC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different instructions with many different forma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, only small subset encountered with Linux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match performance of Reduced Instruction Set Computers (RISC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Intel has done just tha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0358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rm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memory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isplaceme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R specifies start of memory reg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displacement D specifies off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41148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57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Simple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05740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066680"/>
            <a:ext cx="33526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a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b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96080" y="2514600"/>
            <a:ext cx="228600" cy="1600200"/>
          </a:xfrm>
          <a:custGeom>
            <a:avLst/>
            <a:gdLst>
              <a:gd name="textAreaLeft" fmla="*/ 0 w 228600"/>
              <a:gd name="textAreaRight" fmla="*/ 8244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002440" y="31240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447920"/>
            <a:ext cx="228600" cy="685800"/>
          </a:xfrm>
          <a:custGeom>
            <a:avLst/>
            <a:gdLst>
              <a:gd name="textAreaLeft" fmla="*/ 0 w 228600"/>
              <a:gd name="textAreaRight" fmla="*/ 8244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44197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01720" y="4724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1295280"/>
            <a:ext cx="3962160" cy="20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swap(int *xp, int *yp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0 = *x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*y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xp = 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yp = t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5280" y="13716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114800"/>
            <a:ext cx="2438280" cy="1676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120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640480" y="914400"/>
            <a:ext cx="3303000" cy="3352320"/>
            <a:chOff x="5640480" y="914400"/>
            <a:chExt cx="3303000" cy="3352320"/>
          </a:xfrm>
        </p:grpSpPr>
        <p:sp>
          <p:nvSpPr>
            <p:cNvPr id="218" name=""/>
            <p:cNvSpPr/>
            <p:nvPr/>
          </p:nvSpPr>
          <p:spPr>
            <a:xfrm>
              <a:off x="6553080" y="2361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3080" y="2742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3080" y="312408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3080" y="3504960"/>
              <a:ext cx="1067040" cy="38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620120" y="365724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14120" y="348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20640" y="3504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20640" y="31240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0640" y="2742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20640" y="2361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19047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3080" y="914400"/>
              <a:ext cx="10670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53080" y="388584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20640" y="38858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-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266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275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17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26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368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377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19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28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470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479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yp = eb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21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30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375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Swa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4419720"/>
            <a:ext cx="5943600" cy="20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c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*yp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bx = *xp (t0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(%edx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xp = 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148608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movl %ebx,(%ecx)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# *yp = eb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553080" y="2362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53080" y="2743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553080" y="3124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tn ad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53080" y="3505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15000" y="3733920"/>
            <a:ext cx="45720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953240" y="3581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020640" y="3505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20640" y="3124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20640" y="2743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2064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2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40480" y="1905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f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886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020640" y="3886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-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53080" y="457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45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3080" y="838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1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553080" y="121932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530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553080" y="1981080"/>
            <a:ext cx="106704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19400" y="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96080" y="457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96080" y="8524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2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96080" y="1247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c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96080" y="16430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2038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96080" y="2433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1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2828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224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8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96080" y="36194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4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96080" y="4014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029200" y="236232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2743200"/>
            <a:ext cx="654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533520" y="1523880"/>
            <a:ext cx="685800" cy="3581280"/>
            <a:chOff x="533520" y="1523880"/>
            <a:chExt cx="685800" cy="3581280"/>
          </a:xfrm>
        </p:grpSpPr>
        <p:sp>
          <p:nvSpPr>
            <p:cNvPr id="572" name=""/>
            <p:cNvSpPr/>
            <p:nvPr/>
          </p:nvSpPr>
          <p:spPr>
            <a:xfrm>
              <a:off x="533520" y="1523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520" y="19810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520" y="24382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520" y="28954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3520" y="33526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3520" y="3809880"/>
              <a:ext cx="68580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42670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3520" y="4724280"/>
              <a:ext cx="68580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1219320" y="1523880"/>
            <a:ext cx="1066680" cy="3581280"/>
            <a:chOff x="1219320" y="1523880"/>
            <a:chExt cx="1066680" cy="3581280"/>
          </a:xfrm>
        </p:grpSpPr>
        <p:sp>
          <p:nvSpPr>
            <p:cNvPr id="581" name=""/>
            <p:cNvSpPr/>
            <p:nvPr/>
          </p:nvSpPr>
          <p:spPr>
            <a:xfrm>
              <a:off x="1219320" y="1523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5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19320" y="19810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19320" y="24382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219320" y="28954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19320" y="33526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19320" y="3809880"/>
              <a:ext cx="106668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19320" y="42670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219320" y="4724280"/>
              <a:ext cx="1066680" cy="380880"/>
            </a:xfrm>
            <a:prstGeom prst="rect">
              <a:avLst/>
            </a:prstGeom>
            <a:solidFill>
              <a:srgbClr val="00ff99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x10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2551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78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6-bit processor.  Basis for IBM PC &amp; D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ed to 1MB address space.  DOS only gives you 640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02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34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elaborate, but not very useful, addressing sche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IBM PC-AT and Wind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75K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ed to 32 bits.  Added “flat addressing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pable of running Un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120760"/>
                <a:tab algn="l" pos="360684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ux/gcc uses no instructions introduced in later mode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997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dexed Addressing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90520" y="914040"/>
            <a:ext cx="8307360" cy="5530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General For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+ 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“displacement” 1, 2, or 4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 register: Any of 8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ex register: Any, except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ly you’d us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b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ei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: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cale: 1, 2, 4, or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(Rb,Ri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Reg[Ri]+D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206360"/>
                <a:tab algn="l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(Rb,Ri,S)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[Reg[Rb]+S*Reg[Ri]]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09880" y="16002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2057400"/>
            <a:ext cx="68580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495680" y="16002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f0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495680" y="2057400"/>
            <a:ext cx="1067040" cy="380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1066680" y="3124080"/>
          <a:ext cx="6934320" cy="2540160"/>
        </p:xfrm>
        <a:graphic>
          <a:graphicData uri="http://schemas.openxmlformats.org/drawingml/2006/table">
            <a:tbl>
              <a:tblPr/>
              <a:tblGrid>
                <a:gridCol w="2671920"/>
                <a:gridCol w="2741400"/>
                <a:gridCol w="1521000"/>
              </a:tblGrid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putation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83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(%ed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(%edx,%ecx,4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000 + 4*0x1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f40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80(,%edx,2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2*0xf000 + 0x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Courier New"/>
                        </a:rPr>
                        <a:t>0x1e08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6240" y="304920"/>
            <a:ext cx="7886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 Computation Instru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leal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rc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De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ddress mode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to address denoted by expres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ddress without doing memory refer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translation of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p = &amp;x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arithmetic expressions of the form x + k*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 = 1, 2, 4, or 8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264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wo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ub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mul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*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l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lt;&l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alle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a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ithmet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h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gt;&gt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xor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^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n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rl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|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Sr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1881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ome Arithmetic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560520" indent="0">
              <a:spcBef>
                <a:spcPts val="876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at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Operand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+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ec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-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eg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-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2857680"/>
                <a:tab algn="l" pos="56008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not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= ~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75760" y="304920"/>
            <a:ext cx="886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s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leal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for Arithmetic Express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2280" y="17524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57600" y="1143000"/>
            <a:ext cx="41148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rith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236232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8002800" y="15238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620120" y="480060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925400" y="4952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06668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38080" y="4267080"/>
            <a:ext cx="67820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5411880" y="1066680"/>
            <a:ext cx="3356280" cy="2971800"/>
            <a:chOff x="5411880" y="1066680"/>
            <a:chExt cx="3356280" cy="2971800"/>
          </a:xfrm>
        </p:grpSpPr>
        <p:sp>
          <p:nvSpPr>
            <p:cNvPr id="616" name=""/>
            <p:cNvSpPr/>
            <p:nvPr/>
          </p:nvSpPr>
          <p:spPr>
            <a:xfrm>
              <a:off x="6324480" y="2514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24480" y="2895480"/>
              <a:ext cx="1067040" cy="38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24480" y="3276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tn ad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24480" y="365760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ld %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7391520" y="3809880"/>
              <a:ext cx="4572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98552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92040" y="365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92040" y="3276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92040" y="2895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8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792040" y="2514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2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411880" y="167652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775280" y="137160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24480" y="1066680"/>
              <a:ext cx="1067040" cy="1067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24480" y="2133720"/>
              <a:ext cx="1067040" cy="380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z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792040" y="21337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1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6008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arit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1600200"/>
            <a:ext cx="3429000" cy="3106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ar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int x, int y, int z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+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z+t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3 = x+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4 = y * 48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5 = t3 + t4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* t5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990720"/>
            <a:ext cx="441936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x+y  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3*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(%edx,%edx,2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dx = 48*y (t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l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cx = z+t1 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16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4+t4+x (t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4(%edx,%ea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ax = t5*t2 (rva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666880" y="2514600"/>
            <a:ext cx="1752840" cy="76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895480" y="3123720"/>
            <a:ext cx="1752840" cy="457560"/>
            <a:chOff x="2895480" y="3123720"/>
            <a:chExt cx="1752840" cy="457560"/>
          </a:xfrm>
        </p:grpSpPr>
        <p:sp>
          <p:nvSpPr>
            <p:cNvPr id="636" name=""/>
            <p:cNvSpPr/>
            <p:nvPr/>
          </p:nvSpPr>
          <p:spPr>
            <a:xfrm flipV="1">
              <a:off x="2895480" y="3123720"/>
              <a:ext cx="1676520" cy="2286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895480" y="3429000"/>
              <a:ext cx="1752840" cy="1522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819520" y="2895480"/>
            <a:ext cx="175248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2514600" y="3124080"/>
            <a:ext cx="1981080" cy="1600200"/>
            <a:chOff x="2514600" y="3124080"/>
            <a:chExt cx="1981080" cy="1600200"/>
          </a:xfrm>
        </p:grpSpPr>
        <p:sp>
          <p:nvSpPr>
            <p:cNvPr id="640" name=""/>
            <p:cNvSpPr/>
            <p:nvPr/>
          </p:nvSpPr>
          <p:spPr>
            <a:xfrm>
              <a:off x="2971800" y="3733920"/>
              <a:ext cx="1523880" cy="9903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514600" y="3124080"/>
              <a:ext cx="1981080" cy="1600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3276720" y="4038480"/>
            <a:ext cx="1218960" cy="1219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5905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80880" y="1447920"/>
            <a:ext cx="3733920" cy="22834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ogical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1 = x^y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t2 = t1 &gt;&gt; 1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(1&lt;&lt;13) - 7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rval = t2 &amp; mask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rval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43400" y="1143000"/>
            <a:ext cx="41148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gical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20120" y="2362320"/>
            <a:ext cx="304560" cy="1066680"/>
          </a:xfrm>
          <a:custGeom>
            <a:avLst/>
            <a:gdLst>
              <a:gd name="textAreaLeft" fmla="*/ 0 w 304560"/>
              <a:gd name="textAreaRight" fmla="*/ 10980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8002440" y="3276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96080" y="14479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02800" y="1371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20120" y="37339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078040" y="396252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s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43000" y="4952880"/>
            <a:ext cx="6477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x^y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arl $17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1&gt;&gt;17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t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3149640"/>
                <a:tab algn="l" pos="4978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$8185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 = t2 &amp;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8840" y="4267080"/>
            <a:ext cx="2771280" cy="3682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= 8192, 2</a:t>
            </a:r>
            <a:r>
              <a:rPr b="1" lang="en-US" sz="1800" spc="-1" strike="noStrike" baseline="30000">
                <a:solidFill>
                  <a:srgbClr val="000066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– 7 = 818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5994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Proper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can reference different operand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mediate, register,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operations can read/write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reference can involve complex 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b + S*Ri +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ful for arithmetic expressions, to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can have varying leng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instructions can range from 1 to 15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86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8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.9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3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.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/MMX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7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special collection of instructions for operating on 64-bit vectors of 1, 2, or 4 byte integer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Pro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6.5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conditional mov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change in underlying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2392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Abstract Machi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555240" y="2187720"/>
            <a:ext cx="17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lo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conditiona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i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Proc.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roc. retur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89640" y="1600200"/>
            <a:ext cx="2536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92560" y="1623960"/>
            <a:ext cx="926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800" y="1623960"/>
            <a:ext cx="1350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o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16600" y="2197080"/>
            <a:ext cx="195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ha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396440" y="2673360"/>
            <a:ext cx="1913400" cy="368280"/>
            <a:chOff x="1396440" y="2673360"/>
            <a:chExt cx="1913400" cy="368280"/>
          </a:xfrm>
        </p:grpSpPr>
        <p:sp>
          <p:nvSpPr>
            <p:cNvPr id="663" name=""/>
            <p:cNvSpPr/>
            <p:nvPr/>
          </p:nvSpPr>
          <p:spPr>
            <a:xfrm>
              <a:off x="1396440" y="2673360"/>
              <a:ext cx="71244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33760" y="2673360"/>
              <a:ext cx="676080" cy="368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9840" y="2895480"/>
              <a:ext cx="444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2183400" y="2125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4960" y="4267080"/>
            <a:ext cx="162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emb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5880" y="4549680"/>
            <a:ext cx="334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)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) 2-byte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4-byte long 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contiguous byte al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address of initial by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55600" y="4573440"/>
            <a:ext cx="182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) branch/jum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)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09480" y="4876920"/>
            <a:ext cx="3338640" cy="1365120"/>
            <a:chOff x="609480" y="4876920"/>
            <a:chExt cx="3338640" cy="1365120"/>
          </a:xfrm>
        </p:grpSpPr>
        <p:sp>
          <p:nvSpPr>
            <p:cNvPr id="671" name=""/>
            <p:cNvSpPr/>
            <p:nvPr/>
          </p:nvSpPr>
          <p:spPr>
            <a:xfrm>
              <a:off x="609480" y="5029200"/>
              <a:ext cx="746280" cy="11368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0880" y="5029200"/>
              <a:ext cx="76176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g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69800" y="5251680"/>
              <a:ext cx="298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039840" y="5029200"/>
              <a:ext cx="652680" cy="39528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l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4720" y="4876920"/>
              <a:ext cx="2273400" cy="13651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83000" y="5632560"/>
              <a:ext cx="1284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77880" y="5480280"/>
              <a:ext cx="60948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20880" y="5480280"/>
              <a:ext cx="761760" cy="6858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de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680" y="520560"/>
            <a:ext cx="5430960" cy="555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Pro (P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st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nounced in Feb. ‘9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is for Pentium II, Pentium III, and Celeron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4 similar idea, but different detai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translates instructions to more regular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ery wide, but simple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s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p to 5 at o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deep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2–18 cycle lat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29936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02480" y="443700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2438280" y="1117440"/>
            <a:ext cx="4089600" cy="535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74064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066680"/>
            <a:ext cx="8307360" cy="537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4720" indent="-2358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sequen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direct relationship between IA32 code &amp; what actually gets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920" indent="-243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icky to predict / optimize performance at assembly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070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ose Assembler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90520" y="2971800"/>
            <a:ext cx="8701200" cy="347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tel/Microsoft Differs from GA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 listed in opposite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est, Sr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rc, D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s not preceded by ‘$’, Denote hex with ‘h’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100h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 size indicated by operands rather than operator suffi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b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ing format shows effective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372096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eax*4+100h]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$0x100(,%eax,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76520"/>
            <a:ext cx="45720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[ecx+ecx*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sp,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word ptr [ebp-8],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440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ax,dword ptr [eax*4+100h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81480" y="1676520"/>
            <a:ext cx="3657600" cy="11862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%ecx,%ecx,2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b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8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$0x100(,%eax,4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760" y="11430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l/Microsof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181480" y="114300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AS/Gnu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III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999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8.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“streaming SIMD” instructions for operating on 128-bit vectors of 1, 2, or 4 byte integer or floating poin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r fish machin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tium 4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42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8-byte formats and 144 new instructions for streaming SIM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667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Micro Devices (AMD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stor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MD has followed just behind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little bit slower, a lot cheap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ruited top circuit designers from Digital Equipment Corp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oited fact that Intel distracted by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w are close competitors to Int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eloping own extension to 64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514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X86 Evolution: Clon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met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cent start-u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loyer of Linus Torval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different approach to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es x86 code into “Very Long Instruction Word” (VLIW)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igh degree of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oting for low-power mark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60454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New Species: IA6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ist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1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0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tends to IA64, a 64-bi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cally new instruction set designed for high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be able to run existing IA32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-board “x86 engine”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oint project with Hewlett-Packa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tanium 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002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21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 performance boo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34936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226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Programmer’s 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760920"/>
            <a:ext cx="4357800" cy="268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grammer-Visible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I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ddress of next instruc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eavily used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32440" indent="-21132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tore status information about most recent arithmetic oper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797760" indent="-156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371600"/>
                <a:tab algn="l" pos="45720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Used for conditional branch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600200"/>
            <a:ext cx="380880" cy="14479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447920"/>
            <a:ext cx="1371600" cy="76176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990720"/>
            <a:ext cx="3200400" cy="22096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990720"/>
            <a:ext cx="2286000" cy="3809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1676520"/>
            <a:ext cx="22860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bject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gram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S 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175248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67080" y="228600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2819520"/>
            <a:ext cx="175284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4604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243828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297180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2362320"/>
            <a:ext cx="1371600" cy="68580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3400" y="4876920"/>
            <a:ext cx="4076640" cy="156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7160" indent="-22356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yte addressable arr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user data, (some) OS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42920" indent="-2167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cludes stack used to support procedur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29:54Z</dcterms:modified>
  <cp:revision>67</cp:revision>
  <dc:subject/>
  <dc:title>Machine Level Programming I</dc:title>
</cp:coreProperties>
</file>