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2F1C0C86-B790-4A7A-A134-143C52E9772B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0800" y="1836720"/>
            <a:ext cx="714852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Level Programming I: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roduction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pt. 10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0480" y="3719160"/>
            <a:ext cx="438480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embly Programmer’s Execution Mod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ing Inform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s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ithmetic op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05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58680" y="2590920"/>
            <a:ext cx="7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58680" y="3809880"/>
            <a:ext cx="7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4876920"/>
            <a:ext cx="100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5943600"/>
            <a:ext cx="100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89520" y="3054240"/>
            <a:ext cx="0" cy="5842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95880" y="3171960"/>
            <a:ext cx="250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iler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 -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80040" y="4314960"/>
            <a:ext cx="3047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sembler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5410080"/>
            <a:ext cx="263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ker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o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d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57280" y="2579760"/>
            <a:ext cx="3264120" cy="3632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 program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.c p2.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43160" y="3657600"/>
            <a:ext cx="3492360" cy="3632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m program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.s p2.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28680" y="4800600"/>
            <a:ext cx="3721320" cy="36324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bject program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.o p2.o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5943600"/>
            <a:ext cx="3747960" cy="363240"/>
          </a:xfrm>
          <a:prstGeom prst="rect">
            <a:avLst/>
          </a:prstGeom>
          <a:solidFill>
            <a:srgbClr val="cc99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ecutable program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89520" y="4197240"/>
            <a:ext cx="0" cy="5842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89520" y="5340240"/>
            <a:ext cx="0" cy="5842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4800600"/>
            <a:ext cx="2044440" cy="63756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tic libraries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a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57800" y="5029200"/>
            <a:ext cx="990720" cy="9144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6997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urning C into Object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146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8600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de in files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1.c p2.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8600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 with command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cc -O p1.c p2.c -o 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8600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optimizations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O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8600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ut resulting binary in fil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68450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iling Into Assembl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143000"/>
            <a:ext cx="162252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304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4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600200"/>
            <a:ext cx="38829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um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 = x+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1111320"/>
            <a:ext cx="35942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enerated Assembl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1592280"/>
            <a:ext cx="4195800" cy="2283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_sum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4038480"/>
            <a:ext cx="3502080" cy="11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btain with comma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 -O -S code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duces fil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ode.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6972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sembly Characteristic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5485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inimal Data Typ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” data of 1, 2, or 4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ata valu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dresses (untyped pointers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loating point data of 4, 8, or 10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aggregate types such as arrays or structur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Just contiguously allocated bytes in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imitive Oper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 arithmetic function on register or memory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ansfer data between memory and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ad data from memory into regist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ore register data into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ansfer contro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conditional jumps to/from procedur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ditional branch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43080" y="914400"/>
            <a:ext cx="2514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for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u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4520" y="1447920"/>
            <a:ext cx="251136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0 &lt;sum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5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e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e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5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c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5524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bject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05320" y="838080"/>
            <a:ext cx="5486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embl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anslate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.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.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nary encoding of each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arly-complete image of executable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ssing linkages between code in different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nk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olves references between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es with static run-time libra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code f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llo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me libraries ar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ynamically link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nking occurs when program begins execu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1905120"/>
            <a:ext cx="236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tal of 13 byt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instruction 1, 2, or 3 byt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rts at addres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264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 Instruc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0" y="8380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12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3244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two signed integ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12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emb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3244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2 4-byte integ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97760" indent="-156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ng” words in GCC parla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97760" indent="-156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ame instruction whether signed or unsign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3244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nd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977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ster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977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[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+8]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977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ster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064520" indent="-15804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turn function value in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12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ject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3244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-byte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3244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d at 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401046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143000"/>
            <a:ext cx="3882960" cy="3632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 = x+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2286000"/>
            <a:ext cx="3886200" cy="3632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54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5486400"/>
            <a:ext cx="3886200" cy="3632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6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3 45 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281952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milar to expression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x +=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340080" y="10350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assembl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1447920"/>
            <a:ext cx="6781680" cy="255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401040 &lt;_sum&gt;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5  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  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9 e5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b 45 0c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0xc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3 45 08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    0x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9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9 ec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d  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   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3  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: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8d 76 00     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    0x0(%esi),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6820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isassembling Object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4114440"/>
            <a:ext cx="8140680" cy="224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assembl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bjdump -d 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ful tool for examining object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alyzes bit pattern of series of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duces approximate rendition of assembly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be run on eith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.ou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complete executable) 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.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i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191120" y="9144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assembl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1447920"/>
            <a:ext cx="6019920" cy="22834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0 &lt;sum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  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1 &lt;sum+1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3 &lt;sum+3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0xc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6 &lt;sum+6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    0x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9 &lt;sum+9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b &lt;sum+11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   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c &lt;sum+12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x40104d &lt;sum+13&gt;: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    0x0(%esi),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6248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lternate Disassembl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97160" y="4195800"/>
            <a:ext cx="6300720" cy="224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ithin gdb Debugg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db 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isassemble s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sassemble proced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/13b s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ine the 13 bytes starting a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066680"/>
            <a:ext cx="1308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1523880"/>
            <a:ext cx="152424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0: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5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e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e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5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c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952880" y="3733920"/>
            <a:ext cx="1447920" cy="12952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1828800" y="5028840"/>
            <a:ext cx="838080" cy="609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150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at Can be Disassembled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90520" y="5138280"/>
            <a:ext cx="8307360" cy="130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ything that can be interpreted as executable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sassembler examines bytes and reconstructs assembly sour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219320"/>
            <a:ext cx="8153280" cy="36550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 objdump -d WINWORD.EX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INWORD.EXE:     file format pei-i38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 symbols in "WINWORD.EXE"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isassembly of section .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0001000 &lt;.text&gt;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000100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5  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  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0001001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b ec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000100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a ff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   $0xfffffff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000100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8 90 10 00 3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   $0x3000109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000100a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8 91 dc 4c 3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   $0x304cdc9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5537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ving Dat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77868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ving Dat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ov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ourc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ve 4-byte (“long”) wor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ts of these in typical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nd Typ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mediate: Constant integer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ke C constant, but prefixed with ‘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$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’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$0x4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$-533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coded with 1, 2, or 4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: One of 8 integer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sp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reserved for special us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thers have special uses for particular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: 4 consecutive bytes of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rious “address modes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400800" y="380880"/>
            <a:ext cx="2514600" cy="3581280"/>
            <a:chOff x="6400800" y="380880"/>
            <a:chExt cx="2514600" cy="3581280"/>
          </a:xfrm>
        </p:grpSpPr>
        <p:sp>
          <p:nvSpPr>
            <p:cNvPr id="166" name=""/>
            <p:cNvSpPr/>
            <p:nvPr/>
          </p:nvSpPr>
          <p:spPr>
            <a:xfrm>
              <a:off x="6400800" y="380880"/>
              <a:ext cx="25146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0800" y="838080"/>
              <a:ext cx="25146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00800" y="1295280"/>
              <a:ext cx="25146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00800" y="1752480"/>
              <a:ext cx="25146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00800" y="2209680"/>
              <a:ext cx="25146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00800" y="2666880"/>
              <a:ext cx="25146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0800" y="3124080"/>
              <a:ext cx="25146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00800" y="3581280"/>
              <a:ext cx="25146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166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movl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Operand Combin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3240" y="5284440"/>
            <a:ext cx="7604280" cy="116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not do memory-memory transfers with single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9680" y="3276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1280" y="22096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Im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2720" y="32767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Re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560" y="43434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22040" y="19810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Re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19880" y="2438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22040" y="31240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Re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880" y="3581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22040" y="43434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Re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50440" y="12193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20600" y="121932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stin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31400" y="19810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0x4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0320" y="243828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-147,(%ea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7360" y="31240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6640" y="35812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6640" y="43434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ax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2133720"/>
            <a:ext cx="304920" cy="2743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14600" y="2057400"/>
            <a:ext cx="304920" cy="7621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14600" y="3200400"/>
            <a:ext cx="304920" cy="7621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9800" y="121932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 Analo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99000" y="19810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emp = 0x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99360" y="2438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p = -147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74600" y="31240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emp2 = temp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75680" y="3581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p = tem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75680" y="43434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emp =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596916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A32 Processo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tally Dominate Computer Marke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volutionary Desig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ing in 1978 with 8086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more features as time goes 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ill support old features, although obsole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lex Instruction Set Computer (CISC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ny different instructions with many different forma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, only small subset encountered with Linux program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to match performance of Reduced Instruction Set Computers (RIS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, Intel has done just that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035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mple Addressing Mod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rma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(R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[Reg[R]]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R specifies memory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placemen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(R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[Reg[R]+D]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R specifies start of memory reg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stant displacement D specifies offse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57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Simple Addressing Mod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2057400"/>
            <a:ext cx="3962160" cy="2009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swap(int *xp, int *yp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0 = *x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*y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xp = t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yp = t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066680"/>
            <a:ext cx="335268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a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96080" y="251460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002440" y="31240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96080" y="1447920"/>
            <a:ext cx="228600" cy="685800"/>
          </a:xfrm>
          <a:custGeom>
            <a:avLst/>
            <a:gdLst>
              <a:gd name="textAreaLeft" fmla="*/ 0 w 228600"/>
              <a:gd name="textAreaRight" fmla="*/ 8244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02800" y="15238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96080" y="4419720"/>
            <a:ext cx="228600" cy="99036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001720" y="472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1295280"/>
            <a:ext cx="3962160" cy="2009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swap(int *xp, int *yp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0 = *x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*y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xp = t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yp = t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0040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775280" y="137160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4114800"/>
            <a:ext cx="2438280" cy="167652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640480" y="914400"/>
            <a:ext cx="3303000" cy="3352320"/>
            <a:chOff x="5640480" y="914400"/>
            <a:chExt cx="3303000" cy="3352320"/>
          </a:xfrm>
        </p:grpSpPr>
        <p:sp>
          <p:nvSpPr>
            <p:cNvPr id="218" name=""/>
            <p:cNvSpPr/>
            <p:nvPr/>
          </p:nvSpPr>
          <p:spPr>
            <a:xfrm>
              <a:off x="6553080" y="2361960"/>
              <a:ext cx="1067040" cy="38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y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53080" y="274284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3080" y="3124080"/>
              <a:ext cx="1067040" cy="38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53080" y="3504960"/>
              <a:ext cx="1067040" cy="38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%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7620120" y="365724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214120" y="34858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20640" y="35049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20640" y="3124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20640" y="27428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8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20640" y="23619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2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40480" y="190476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ffse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53080" y="914400"/>
              <a:ext cx="1067040" cy="1447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53080" y="388584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%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20640" y="38858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-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15000" y="3733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5324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2064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2064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2064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206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4048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2064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1940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3520" y="1523880"/>
            <a:ext cx="685800" cy="3581280"/>
            <a:chOff x="533520" y="1523880"/>
            <a:chExt cx="685800" cy="3581280"/>
          </a:xfrm>
        </p:grpSpPr>
        <p:sp>
          <p:nvSpPr>
            <p:cNvPr id="266" name=""/>
            <p:cNvSpPr/>
            <p:nvPr/>
          </p:nvSpPr>
          <p:spPr>
            <a:xfrm>
              <a:off x="533520" y="1523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3520" y="19810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3520" y="24382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3520" y="28954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3520" y="33526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3520" y="3809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3520" y="42670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33520" y="47242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219320" y="1523880"/>
            <a:ext cx="1066680" cy="3581280"/>
            <a:chOff x="1219320" y="1523880"/>
            <a:chExt cx="1066680" cy="3581280"/>
          </a:xfrm>
        </p:grpSpPr>
        <p:sp>
          <p:nvSpPr>
            <p:cNvPr id="275" name=""/>
            <p:cNvSpPr/>
            <p:nvPr/>
          </p:nvSpPr>
          <p:spPr>
            <a:xfrm>
              <a:off x="1219320" y="1523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19320" y="19810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19320" y="24382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9320" y="28954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9320" y="33526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19320" y="3809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219320" y="42670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47242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15000" y="3733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95324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2064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2064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2064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206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4048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2064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1940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33520" y="1523880"/>
            <a:ext cx="685800" cy="3581280"/>
            <a:chOff x="533520" y="1523880"/>
            <a:chExt cx="685800" cy="3581280"/>
          </a:xfrm>
        </p:grpSpPr>
        <p:sp>
          <p:nvSpPr>
            <p:cNvPr id="317" name=""/>
            <p:cNvSpPr/>
            <p:nvPr/>
          </p:nvSpPr>
          <p:spPr>
            <a:xfrm>
              <a:off x="533520" y="1523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520" y="19810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33520" y="24382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520" y="28954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3520" y="33526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3520" y="3809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3520" y="42670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3520" y="47242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219320" y="1523880"/>
            <a:ext cx="1066680" cy="3581280"/>
            <a:chOff x="1219320" y="1523880"/>
            <a:chExt cx="1066680" cy="3581280"/>
          </a:xfrm>
        </p:grpSpPr>
        <p:sp>
          <p:nvSpPr>
            <p:cNvPr id="326" name=""/>
            <p:cNvSpPr/>
            <p:nvPr/>
          </p:nvSpPr>
          <p:spPr>
            <a:xfrm>
              <a:off x="1219320" y="1523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19320" y="19810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19320" y="24382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Courier New"/>
                </a:rPr>
                <a:t>0x1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19320" y="28954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19320" y="33526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19320" y="3809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19320" y="42670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19320" y="47242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15000" y="3733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324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2064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2064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2064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0206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4048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2064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1940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33520" y="1523880"/>
            <a:ext cx="685800" cy="3581280"/>
            <a:chOff x="533520" y="1523880"/>
            <a:chExt cx="685800" cy="3581280"/>
          </a:xfrm>
        </p:grpSpPr>
        <p:sp>
          <p:nvSpPr>
            <p:cNvPr id="368" name=""/>
            <p:cNvSpPr/>
            <p:nvPr/>
          </p:nvSpPr>
          <p:spPr>
            <a:xfrm>
              <a:off x="533520" y="1523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3520" y="19810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24382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3520" y="28954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3520" y="33526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3520" y="3809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3520" y="42670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33520" y="47242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1219320" y="1523880"/>
            <a:ext cx="1066680" cy="3581280"/>
            <a:chOff x="1219320" y="1523880"/>
            <a:chExt cx="1066680" cy="3581280"/>
          </a:xfrm>
        </p:grpSpPr>
        <p:sp>
          <p:nvSpPr>
            <p:cNvPr id="377" name=""/>
            <p:cNvSpPr/>
            <p:nvPr/>
          </p:nvSpPr>
          <p:spPr>
            <a:xfrm>
              <a:off x="1219320" y="1523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19320" y="19810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Courier New"/>
                </a:rPr>
                <a:t>0x1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19320" y="24382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19320" y="28954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19320" y="33526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19320" y="3809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19320" y="42670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219320" y="47242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15000" y="3733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95324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2064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2064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2064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206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4048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2064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1940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533520" y="1523880"/>
            <a:ext cx="685800" cy="3581280"/>
            <a:chOff x="533520" y="1523880"/>
            <a:chExt cx="685800" cy="3581280"/>
          </a:xfrm>
        </p:grpSpPr>
        <p:sp>
          <p:nvSpPr>
            <p:cNvPr id="419" name=""/>
            <p:cNvSpPr/>
            <p:nvPr/>
          </p:nvSpPr>
          <p:spPr>
            <a:xfrm>
              <a:off x="533520" y="1523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33520" y="19810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3520" y="24382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3520" y="28954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33520" y="33526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3520" y="3809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3520" y="42670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3520" y="47242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1219320" y="1523880"/>
            <a:ext cx="1066680" cy="3581280"/>
            <a:chOff x="1219320" y="1523880"/>
            <a:chExt cx="1066680" cy="3581280"/>
          </a:xfrm>
        </p:grpSpPr>
        <p:sp>
          <p:nvSpPr>
            <p:cNvPr id="428" name=""/>
            <p:cNvSpPr/>
            <p:nvPr/>
          </p:nvSpPr>
          <p:spPr>
            <a:xfrm>
              <a:off x="1219320" y="1523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Courier New"/>
                </a:rPr>
                <a:t>45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19320" y="19810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19320" y="24382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9320" y="28954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19320" y="33526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19320" y="3809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19320" y="42670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19320" y="47242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715000" y="3733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5324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2064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2064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2064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206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64048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2064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1940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533520" y="1523880"/>
            <a:ext cx="685800" cy="3581280"/>
            <a:chOff x="533520" y="1523880"/>
            <a:chExt cx="685800" cy="3581280"/>
          </a:xfrm>
        </p:grpSpPr>
        <p:sp>
          <p:nvSpPr>
            <p:cNvPr id="470" name=""/>
            <p:cNvSpPr/>
            <p:nvPr/>
          </p:nvSpPr>
          <p:spPr>
            <a:xfrm>
              <a:off x="533520" y="1523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33520" y="19810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33520" y="24382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33520" y="28954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33520" y="33526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33520" y="3809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33520" y="42670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33520" y="47242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1219320" y="1523880"/>
            <a:ext cx="1066680" cy="3581280"/>
            <a:chOff x="1219320" y="1523880"/>
            <a:chExt cx="1066680" cy="3581280"/>
          </a:xfrm>
        </p:grpSpPr>
        <p:sp>
          <p:nvSpPr>
            <p:cNvPr id="479" name=""/>
            <p:cNvSpPr/>
            <p:nvPr/>
          </p:nvSpPr>
          <p:spPr>
            <a:xfrm>
              <a:off x="1219320" y="1523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5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219320" y="19810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19320" y="24382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219320" y="28954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Courier New"/>
                </a:rPr>
                <a:t>12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219320" y="33526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219320" y="3809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219320" y="42670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19320" y="47242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5000" y="3733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95324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2064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2064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2064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206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64048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02064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61940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33520" y="1523880"/>
            <a:ext cx="685800" cy="3581280"/>
            <a:chOff x="533520" y="1523880"/>
            <a:chExt cx="685800" cy="3581280"/>
          </a:xfrm>
        </p:grpSpPr>
        <p:sp>
          <p:nvSpPr>
            <p:cNvPr id="521" name=""/>
            <p:cNvSpPr/>
            <p:nvPr/>
          </p:nvSpPr>
          <p:spPr>
            <a:xfrm>
              <a:off x="533520" y="1523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19810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3520" y="24382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3520" y="28954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33520" y="33526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3520" y="3809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33520" y="42670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3520" y="47242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1219320" y="1523880"/>
            <a:ext cx="1066680" cy="3581280"/>
            <a:chOff x="1219320" y="1523880"/>
            <a:chExt cx="1066680" cy="3581280"/>
          </a:xfrm>
        </p:grpSpPr>
        <p:sp>
          <p:nvSpPr>
            <p:cNvPr id="530" name=""/>
            <p:cNvSpPr/>
            <p:nvPr/>
          </p:nvSpPr>
          <p:spPr>
            <a:xfrm>
              <a:off x="1219320" y="1523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5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19320" y="19810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19320" y="24382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19320" y="28954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2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19320" y="33526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19320" y="3809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19320" y="42670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19320" y="47242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# *yp = 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15000" y="3733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95324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02064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2064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02064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206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64048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02064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61940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533520" y="1523880"/>
            <a:ext cx="685800" cy="3581280"/>
            <a:chOff x="533520" y="1523880"/>
            <a:chExt cx="685800" cy="3581280"/>
          </a:xfrm>
        </p:grpSpPr>
        <p:sp>
          <p:nvSpPr>
            <p:cNvPr id="572" name=""/>
            <p:cNvSpPr/>
            <p:nvPr/>
          </p:nvSpPr>
          <p:spPr>
            <a:xfrm>
              <a:off x="533520" y="1523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33520" y="19810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33520" y="24382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33520" y="28954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33520" y="33526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33520" y="3809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42670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33520" y="47242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1219320" y="1523880"/>
            <a:ext cx="1066680" cy="3581280"/>
            <a:chOff x="1219320" y="1523880"/>
            <a:chExt cx="1066680" cy="3581280"/>
          </a:xfrm>
        </p:grpSpPr>
        <p:sp>
          <p:nvSpPr>
            <p:cNvPr id="581" name=""/>
            <p:cNvSpPr/>
            <p:nvPr/>
          </p:nvSpPr>
          <p:spPr>
            <a:xfrm>
              <a:off x="1219320" y="1523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5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219320" y="19810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219320" y="24382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219320" y="28954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2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219320" y="33526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219320" y="3809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219320" y="42670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219320" y="47242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X86 Evolution: Programmer’s Vie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am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is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8086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78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9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6-bit processor.  Basis for IBM PC &amp; DO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mited to 1MB address space.  DOS only gives you 640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80286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82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34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elaborate, but not very useful, addressing sche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sis for IBM PC-AT and Window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86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85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75K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tended to 32 bits.  Added “flat addressing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pable of running Uni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ux/gcc uses no instructions introduced in later mode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6997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dexed Addressing Mod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st General For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(Rb,Ri,S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[Reg[Rb]+S*Reg[Ri]+ D]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stant “displacement” 1, 2, or 4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b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se register: Any of 8 integer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i: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dex register: Any, except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likely you’d us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b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eith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cale: 1, 2, 4, or 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pecial Ca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(Rb,Ri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[Reg[Rb]+Reg[Ri]]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(Rb,Ri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[Reg[Rb]+Reg[Ri]+D]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(Rb,Ri,S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[Reg[Rb]+S*Reg[Ri]]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Computation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809880" y="16002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09880" y="20574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4956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f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495680" y="20574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1066680" y="3124080"/>
          <a:ext cx="6934320" cy="2540160"/>
        </p:xfrm>
        <a:graphic>
          <a:graphicData uri="http://schemas.openxmlformats.org/drawingml/2006/table">
            <a:tbl>
              <a:tblPr/>
              <a:tblGrid>
                <a:gridCol w="2671920"/>
                <a:gridCol w="2741400"/>
                <a:gridCol w="1521000"/>
              </a:tblGrid>
              <a:tr h="50796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xpression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omputation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Addres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83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8(%edx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f000 + 0x8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f008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(%edx,%ecx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f000 + 0x10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f10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(%edx,%ecx,4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f000 + 4*0x10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f40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80(,%edx,2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2*0xf000 + 0x8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1e08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76240" y="304920"/>
            <a:ext cx="7886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Computation Instru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lea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r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address mode expres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address denoted by expres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ing address without doing memory refere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translation of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 = &amp;x[i]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ing arithmetic expressions of the form x + k*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 = 1, 2, 4, or 8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264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me Arithmetic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0">
              <a:spcBef>
                <a:spcPts val="876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rmat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putation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wo Operand Instru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dd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+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ub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-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mul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*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al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&lt;&lt;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so calle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hl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ar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&gt;&gt;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ithmet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hr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&gt;&gt;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gic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or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^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nd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&amp;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rl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|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188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me Arithmetic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0">
              <a:spcBef>
                <a:spcPts val="876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rmat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putation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ne Operand Instru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c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+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ec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-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eg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-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ot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~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75760" y="304920"/>
            <a:ext cx="8867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leal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for Arithmetic Express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52280" y="1752480"/>
            <a:ext cx="3429000" cy="3106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rit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, int y, int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x+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2 = z+t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3 = x+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4 = y * 48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5 = t3 + t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val = t2 * t5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657600" y="1143000"/>
            <a:ext cx="411480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rith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dx,%eax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dx,%edx,2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all $4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16(%ebp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4(%edx,%eax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%ecx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620120" y="2362320"/>
            <a:ext cx="304560" cy="2133360"/>
          </a:xfrm>
          <a:custGeom>
            <a:avLst/>
            <a:gdLst>
              <a:gd name="textAreaLeft" fmla="*/ 0 w 304560"/>
              <a:gd name="textAreaRight" fmla="*/ 109800 w 30456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002440" y="3276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96080" y="14479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002800" y="15238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620120" y="480060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925400" y="49528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6008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arit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600200" y="1066680"/>
            <a:ext cx="3429000" cy="3106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rit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, int y, int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x+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2 = z+t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3 = x+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4 = y * 48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5 = t3 + t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val = t2 * t5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38080" y="4267080"/>
            <a:ext cx="67820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dx,%eax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x+y 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dx,%edx,2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3*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all $4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48*y (t4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16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z+t1 (t2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4(%edx,%ea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4+t4+x (t5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%ec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t5*t2 (rval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5411880" y="1066680"/>
            <a:ext cx="3356280" cy="2971800"/>
            <a:chOff x="5411880" y="1066680"/>
            <a:chExt cx="3356280" cy="2971800"/>
          </a:xfrm>
        </p:grpSpPr>
        <p:sp>
          <p:nvSpPr>
            <p:cNvPr id="616" name=""/>
            <p:cNvSpPr/>
            <p:nvPr/>
          </p:nvSpPr>
          <p:spPr>
            <a:xfrm>
              <a:off x="6324480" y="251460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324480" y="2895480"/>
              <a:ext cx="106704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324480" y="327672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324480" y="365760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%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7391520" y="380988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985520" y="36385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792040" y="36576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92040" y="32767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92040" y="2895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8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792040" y="25146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2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411880" y="167652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ffse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775280" y="1371600"/>
              <a:ext cx="99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324480" y="1066680"/>
              <a:ext cx="1067040" cy="1067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324480" y="213372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z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792040" y="21337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6008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arit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04920" y="1600200"/>
            <a:ext cx="3429000" cy="3106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rit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, int y, int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x+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2 = z+t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3 = x+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4 = y * 48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5 = t3 + t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val = t2 * t5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419720" y="990720"/>
            <a:ext cx="441936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x+y 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dx,%eax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3*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dx,%edx,2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48*y (t4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all $4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z+t1 (t2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16(%ebp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4+t4+x (t5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4(%edx,%eax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t5*t2 (rval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%ecx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2666880" y="2514600"/>
            <a:ext cx="1752840" cy="763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2895480" y="3123720"/>
            <a:ext cx="1752840" cy="457560"/>
            <a:chOff x="2895480" y="3123720"/>
            <a:chExt cx="1752840" cy="457560"/>
          </a:xfrm>
        </p:grpSpPr>
        <p:sp>
          <p:nvSpPr>
            <p:cNvPr id="636" name=""/>
            <p:cNvSpPr/>
            <p:nvPr/>
          </p:nvSpPr>
          <p:spPr>
            <a:xfrm flipV="1">
              <a:off x="2895480" y="3123720"/>
              <a:ext cx="1676520" cy="2286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895480" y="3429000"/>
              <a:ext cx="1752840" cy="1522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2819520" y="2895480"/>
            <a:ext cx="1752480" cy="12193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2514600" y="3124080"/>
            <a:ext cx="1981080" cy="1600200"/>
            <a:chOff x="2514600" y="3124080"/>
            <a:chExt cx="1981080" cy="1600200"/>
          </a:xfrm>
        </p:grpSpPr>
        <p:sp>
          <p:nvSpPr>
            <p:cNvPr id="640" name=""/>
            <p:cNvSpPr/>
            <p:nvPr/>
          </p:nvSpPr>
          <p:spPr>
            <a:xfrm>
              <a:off x="2971800" y="3733920"/>
              <a:ext cx="1523880" cy="9903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514600" y="3124080"/>
              <a:ext cx="1981080" cy="16002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3276720" y="4038480"/>
            <a:ext cx="1218960" cy="12193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5905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nother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80880" y="1447920"/>
            <a:ext cx="3733920" cy="22834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ogical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x^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2 = t1 &gt;&gt; 17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sk = (1&lt;&lt;13) - 7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val = t2 &amp; mask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343400" y="1143000"/>
            <a:ext cx="41148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gical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12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arl $17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ndl $8185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20120" y="2362320"/>
            <a:ext cx="304560" cy="1066680"/>
          </a:xfrm>
          <a:custGeom>
            <a:avLst/>
            <a:gdLst>
              <a:gd name="textAreaLeft" fmla="*/ 0 w 304560"/>
              <a:gd name="textAreaRight" fmla="*/ 109800 w 3045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002440" y="3276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696080" y="14479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002800" y="13716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620120" y="373392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078040" y="39625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143000" y="4952880"/>
            <a:ext cx="64771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14964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a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14964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12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ax = x^y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14964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arl $17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ax = t1&gt;&gt;1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t2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14964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ndl $8185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ax = t2 &amp; 818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98840" y="4267080"/>
            <a:ext cx="2771280" cy="3682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13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= 8192, 2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13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– 7 = 818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5994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ISC Propert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struction can reference different operand typ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mediate, register,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ithmetic operations can read/write mem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reference can involve complex compu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b + S*Ri + 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ful for arithmetic expressions, to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structions can have varying length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A32 instructions can range from 1 to 15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X86 Evolution: Programmer’s Vie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am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is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486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89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.9M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tium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93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.1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tium/MMX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97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4.5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special collection of instructions for operating on 64-bit vectors of 1, 2, or 4 byte integer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tiumPro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95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6.5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conditional move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g change in underlying microarchite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2392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: Abstract Machin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555240" y="2187720"/>
            <a:ext cx="179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) loop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) conditional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it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) Proc. ca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) Proc. retur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89640" y="1600200"/>
            <a:ext cx="2536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chine Model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192560" y="1623960"/>
            <a:ext cx="926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ata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553800" y="1623960"/>
            <a:ext cx="135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trol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116600" y="2197080"/>
            <a:ext cx="195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arra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) poi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1396440" y="2673360"/>
            <a:ext cx="1913400" cy="368280"/>
            <a:chOff x="1396440" y="2673360"/>
            <a:chExt cx="1913400" cy="368280"/>
          </a:xfrm>
        </p:grpSpPr>
        <p:sp>
          <p:nvSpPr>
            <p:cNvPr id="663" name=""/>
            <p:cNvSpPr/>
            <p:nvPr/>
          </p:nvSpPr>
          <p:spPr>
            <a:xfrm>
              <a:off x="1396440" y="2673360"/>
              <a:ext cx="712440" cy="3682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me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633760" y="2673360"/>
              <a:ext cx="676080" cy="3682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139840" y="2895480"/>
              <a:ext cx="4446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2183400" y="2125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524960" y="4267080"/>
            <a:ext cx="1620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115880" y="4549680"/>
            <a:ext cx="334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) by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) 2-byte wor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) 4-byte long wor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) contiguous byte alloc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) address of initial by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555600" y="4573440"/>
            <a:ext cx="182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) branch/jum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609480" y="4876920"/>
            <a:ext cx="3338640" cy="1365120"/>
            <a:chOff x="609480" y="4876920"/>
            <a:chExt cx="3338640" cy="1365120"/>
          </a:xfrm>
        </p:grpSpPr>
        <p:sp>
          <p:nvSpPr>
            <p:cNvPr id="671" name=""/>
            <p:cNvSpPr/>
            <p:nvPr/>
          </p:nvSpPr>
          <p:spPr>
            <a:xfrm>
              <a:off x="609480" y="5029200"/>
              <a:ext cx="746280" cy="11368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me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820880" y="5029200"/>
              <a:ext cx="761760" cy="3952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g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369800" y="5251680"/>
              <a:ext cx="2984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039840" y="5029200"/>
              <a:ext cx="652680" cy="3952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l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674720" y="4876920"/>
              <a:ext cx="2273400" cy="136512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583000" y="5632560"/>
              <a:ext cx="1284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ocesso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77880" y="5480280"/>
              <a:ext cx="609480" cy="533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820880" y="5480280"/>
              <a:ext cx="761760" cy="68580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ond.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ode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66680" y="520560"/>
            <a:ext cx="5430960" cy="555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 Pro (P6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ist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nounced in Feb. ‘95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sis for Pentium II, Pentium III, and Celeron processo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ntium 4 similar idea, but different detai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eatur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ynamically translates instructions to more regular form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ery wide, but simple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ecutes operations in parall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p to 5 at o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deep pipel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2–18 cycle laten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29936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Pro Block Diagra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702480" y="4437000"/>
            <a:ext cx="21412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icroprocessor Repor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2/16/9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2438280" y="1117440"/>
            <a:ext cx="4089600" cy="535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7406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Pro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90520" y="1066680"/>
            <a:ext cx="8307360" cy="537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lates instructions dynamically into “Uops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8 bits wi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lds operation, two sources, and destin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ecutes Uops with “Out of Order” eng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op executed whe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perands availa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unctional unit availa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ecution controlled by “Reservation Stations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eeps track of data dependencies between uop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ocates resourc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sequenc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direct relationship between IA32 code &amp; what actually gets execu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icky to predict / optimize performance at assembly lev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070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ose Assembler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90520" y="2971800"/>
            <a:ext cx="8701200" cy="347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l/Microsoft Differs from GA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nds listed in opposite ord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mo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Dest, Sr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mov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Src, De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stants not preceded by ‘$’, Denote hex with ‘h’ at e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100h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$0x10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nd size indicated by operands rather than operator suffi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ub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ub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ing format shows effective address compu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[eax*4+100h]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$0x100(,%eax,4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57200" y="1676520"/>
            <a:ext cx="4572000" cy="11862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40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ax,[ecx+ecx*2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40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b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sp,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40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ord ptr [ebp-8],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40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ax,dword ptr [eax*4+100h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181480" y="1676520"/>
            <a:ext cx="3657600" cy="11862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%ecx,%ecx,2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b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$8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$0,-8(%eb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$0x100(,%eax,4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55760" y="1143000"/>
            <a:ext cx="33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el/Microsof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181480" y="114300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AS/Gnu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X86 Evolution: Programmer’s Vie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am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is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tium III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99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8.2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“streaming SIMD” instructions for operating on 128-bit vectors of 1, 2, or 4 byte integer or floating point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r fish mach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tium 4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001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42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8-byte formats and 144 new instructions for streaming SIMD m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6667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X86 Evolution: Clon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vanced Micro Devices (AMD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storical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MD has followed just behind Int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little bit slower, a lot cheap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cent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cruited top circuit designers from Digital Equipment Corp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ploited fact that Intel distracted by IA6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w are close competitors to Int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veloping own extension to 64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514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X86 Evolution: Clon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met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cent start-u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mployer of Linus Torvald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dically different approach to implem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anslates x86 code into “Very Long Instruction Word” (VLIW) 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igh degree of parallelis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oting for low-power mark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045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w Species: IA6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am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is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tanium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001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0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tends to IA64, a 64-bit archite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dically new instruction set designed for high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ll be able to run existing IA32 progra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-board “x86 engine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oint project with Hewlett-Packar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tanium 2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002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21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g performance boo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226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sembly Programmer’s Vie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0160" y="3760920"/>
            <a:ext cx="4357800" cy="268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ogrammer-Visible Sta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532440" indent="-211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I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gram Cou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797760" indent="-156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ddress of next instruction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32440" indent="-211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797760" indent="-156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Heavily used program dat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32440" indent="-211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dition Cod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797760" indent="-156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tore status information about most recent arithmetic operation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797760" indent="-156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sed for conditional branching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1600200"/>
            <a:ext cx="380880" cy="144792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1447920"/>
            <a:ext cx="1371600" cy="76176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990720"/>
            <a:ext cx="3200400" cy="220968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9920" y="990720"/>
            <a:ext cx="2286000" cy="3809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9920" y="1676520"/>
            <a:ext cx="22860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bject 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gram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S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1752480"/>
            <a:ext cx="175284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67080" y="2286000"/>
            <a:ext cx="175284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2819520"/>
            <a:ext cx="175284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1346040"/>
            <a:ext cx="175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1905120"/>
            <a:ext cx="175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2438280"/>
            <a:ext cx="1676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2971800"/>
            <a:ext cx="990360" cy="137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2362320"/>
            <a:ext cx="1371600" cy="68580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di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43400" y="4876920"/>
            <a:ext cx="4076640" cy="156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677160" indent="-22356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42920" indent="-2167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yte addressable array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42920" indent="-2167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de, user data, (some) OS dat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42920" indent="-2167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ncludes stack used to support procedure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29:54Z</dcterms:modified>
  <cp:revision>67</cp:revision>
  <dc:subject/>
  <dc:title>Machine Level Programming I</dc:title>
</cp:coreProperties>
</file>