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A34A9DF4-6949-4FAB-A8B7-5925BA6519E7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0800" y="1836720"/>
            <a:ext cx="714852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0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embly Programmer’s Execution Mod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ing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5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58680" y="259092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8680" y="380988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87692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94360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89520" y="3054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95880" y="3171960"/>
            <a:ext cx="25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0040" y="4314960"/>
            <a:ext cx="304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embl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410080"/>
            <a:ext cx="263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57280" y="2579760"/>
            <a:ext cx="3264120" cy="3632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c p2.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43160" y="3657600"/>
            <a:ext cx="3492360" cy="3632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m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s p2.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28680" y="4800600"/>
            <a:ext cx="3721320" cy="3632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ject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o p2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5943600"/>
            <a:ext cx="3747960" cy="36324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able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89520" y="4197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89520" y="5340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800600"/>
            <a:ext cx="2044440" cy="63756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ic libraries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57800" y="5029200"/>
            <a:ext cx="990720" cy="914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urning C into 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14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in file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1.c p2.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 with comman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 -O p1.c p2.c -o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optimizations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O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ut resulting binary in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68450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iling Into Assemb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143000"/>
            <a:ext cx="162252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30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38829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1111320"/>
            <a:ext cx="35942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ted 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1592280"/>
            <a:ext cx="419580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u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4038480"/>
            <a:ext cx="350208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tain with comm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 -S code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s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ode.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972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haracterist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5485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nimal 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” data of 1, 2, or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val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es (untyped pointer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data of 4, 8, or 10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aggregate types such as arrays or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ust contiguously allocated bytes in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mitive 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 arithmetic function on register or memory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fer data between memory and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ad data from memory into regis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register data into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fer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conditional jumps to/from proced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ditional branch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43080" y="914400"/>
            <a:ext cx="2514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for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1447920"/>
            <a:ext cx="251136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52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05320" y="83808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lat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encoding of each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arly-complete image of executab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sing linkages between code in different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k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lves references between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s with static run-time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code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libraries ar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ynamically link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king occurs when program begins execu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1905120"/>
            <a:ext cx="236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of 13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instruction 1, 2, or 3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rts at addres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stru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0" y="8380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two signed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2 4-byte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” words in GCC parla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me instruction whether signed or unsig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[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+8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064520" indent="-15804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function value i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ject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-byte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at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40104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143000"/>
            <a:ext cx="388296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2286000"/>
            <a:ext cx="388620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54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5486400"/>
            <a:ext cx="388620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3 45 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281952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ilar to expressio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x +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40080" y="1035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447920"/>
            <a:ext cx="6781680" cy="255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401040 &lt;_sum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45 0c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3 45 08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c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d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3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d 76 00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820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assembling 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4114440"/>
            <a:ext cx="8140680" cy="224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bjdump -d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ful tool for examining objec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alyzes bit pattern of series of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s approximate rendition of assembl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 run on eith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.ou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complete executable)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91120" y="9144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447920"/>
            <a:ext cx="601992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1 &lt;sum+1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3 &lt;sum+3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6 &lt;sum+6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9 &lt;sum+9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b &lt;sum+11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c &lt;sum+12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40104d &lt;sum+13&gt;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24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nate Disassemb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97160" y="4195800"/>
            <a:ext cx="6300720" cy="22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thin gdb Debugg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db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isassemble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assemble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/13b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e the 13 bytes starting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066680"/>
            <a:ext cx="1308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523880"/>
            <a:ext cx="152424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952880" y="3733920"/>
            <a:ext cx="144792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828800" y="5028840"/>
            <a:ext cx="83808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15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Can be Disassembled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90520" y="5138280"/>
            <a:ext cx="83073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ything that can be interpreted as executab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assembler examines bytes and reconstructs assembly sour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219320"/>
            <a:ext cx="8153280" cy="365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 objdump -d WINWORD.EX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INWORD.EXE:     file format pei-i38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 symbols in "WINWORD.EXE"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isassembly of section .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0 &lt;.text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ec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a ff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fffffff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8 90 10 00 3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300010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8 91 dc 4c 3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304cdc9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53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ing 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77868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ving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our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4-byte (“long”)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ts of these in typical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mediate: Constant integer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C constant, but prefixed with ‘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4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-53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d with 1, 2, or 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: One of 8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served for special us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s have special uses for particular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: 4 consecutive bytes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“address modes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400800" y="380880"/>
            <a:ext cx="2514600" cy="3581280"/>
            <a:chOff x="6400800" y="380880"/>
            <a:chExt cx="2514600" cy="3581280"/>
          </a:xfrm>
        </p:grpSpPr>
        <p:sp>
          <p:nvSpPr>
            <p:cNvPr id="166" name=""/>
            <p:cNvSpPr/>
            <p:nvPr/>
          </p:nvSpPr>
          <p:spPr>
            <a:xfrm>
              <a:off x="6400800" y="3808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0800" y="8380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00800" y="12952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00800" y="17524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00800" y="22096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00800" y="26668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3124080"/>
              <a:ext cx="25146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00800" y="3581280"/>
              <a:ext cx="25146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166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ov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Operand Combin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3240" y="5284440"/>
            <a:ext cx="760428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do memory-memory transfers with single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9680" y="327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1280" y="2209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Im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2720" y="32767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560" y="4343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22040" y="1981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880" y="2438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22040" y="3124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880" y="3581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22040" y="4343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50440" y="12193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20600" y="12193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1400" y="1981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0x4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0320" y="24382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-147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736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6640" y="35812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6640" y="43434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ax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2133720"/>
            <a:ext cx="304920" cy="2743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2057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3200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9800" y="12193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 Analo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9900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 = 0x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99360" y="2438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p = -14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7460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2 = temp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5680" y="3581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p = tem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5680" y="4343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 =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9691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Process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tally Dominate Computer Mark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olutionary Desig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in 1978 with 808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more features as time goes 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ill support old features, although obsole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lex Instruction Set Computer (CISC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different instructions with many different forma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, only small subset encountered with Linux progra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match performance of Reduced Instruction Set Computers (RIS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, Intel has done just that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035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R specifies memory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placeme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]+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R specifies start of memory reg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displacement D specifies off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57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Simple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057400"/>
            <a:ext cx="396216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066680"/>
            <a:ext cx="33526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9608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002440" y="3124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96080" y="14479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0172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295280"/>
            <a:ext cx="396216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5280" y="13716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114800"/>
            <a:ext cx="2438280" cy="16765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640480" y="914400"/>
            <a:ext cx="3303000" cy="3352320"/>
            <a:chOff x="5640480" y="914400"/>
            <a:chExt cx="3303000" cy="3352320"/>
          </a:xfrm>
        </p:grpSpPr>
        <p:sp>
          <p:nvSpPr>
            <p:cNvPr id="218" name=""/>
            <p:cNvSpPr/>
            <p:nvPr/>
          </p:nvSpPr>
          <p:spPr>
            <a:xfrm>
              <a:off x="6553080" y="2361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3080" y="2742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3080" y="312408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53080" y="3504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620120" y="365724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14120" y="3485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20640" y="3504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20640" y="3124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20640" y="2742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20640" y="2361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40480" y="19047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3080" y="914400"/>
              <a:ext cx="1067040" cy="1447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3080" y="3885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20640" y="3885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-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266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275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317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326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368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377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419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428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470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479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521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530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*yp = 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572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581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0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78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9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-bit processor.  Basis for IBM PC &amp; D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ed to 1MB address space.  DOS only gives you 640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02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34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elaborate, but not very useful, addressing sche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s for IBM PC-AT and Window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75K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ed to 32 bits.  Added “flat address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pable of running Uni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/gcc uses no instructions introduced in later mode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dexed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General 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b,Ri,S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S*Reg[Ri]+ 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“displacement” 1, 2, or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b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e register: Any of 8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ex register: Any, except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likely you’d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ei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ale: 1, 2, 4, or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ecial 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b,Ri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Reg[Ri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b,Ri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Reg[Ri]+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b,Ri,S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S*Reg[Ri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Computa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8098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098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4956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f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95680" y="2057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066680" y="3124080"/>
          <a:ext cx="6934320" cy="2540160"/>
        </p:xfrm>
        <a:graphic>
          <a:graphicData uri="http://schemas.openxmlformats.org/drawingml/2006/table">
            <a:tbl>
              <a:tblPr/>
              <a:tblGrid>
                <a:gridCol w="2671920"/>
                <a:gridCol w="2741400"/>
                <a:gridCol w="1521000"/>
              </a:tblGrid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putat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8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8(%ed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0x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(%edx,%ec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0x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(%edx,%ecx,4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4*0x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4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80(,%edx,2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2*0xf000 + 0x8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1e08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76240" y="304920"/>
            <a:ext cx="7886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Computation Instru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e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ddress mode expre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address denoted by expre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address without doing memory refer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translation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 = &amp;x[i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arithmetic expressions of the form x + k*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 = 1, 2, 4, or 8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Arithmetic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0">
              <a:spcBef>
                <a:spcPts val="876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ma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Operand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b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-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mul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al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lt;&l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call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a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gt;&g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gt;&g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o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^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n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amp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rl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|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188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Arithmetic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0">
              <a:spcBef>
                <a:spcPts val="876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ma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e Operand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c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ec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-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eg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-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ot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~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75760" y="304920"/>
            <a:ext cx="8867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lea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or Arithmetic Express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52280" y="175248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1143000"/>
            <a:ext cx="41148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ith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620120" y="2362320"/>
            <a:ext cx="304560" cy="2133360"/>
          </a:xfrm>
          <a:custGeom>
            <a:avLst/>
            <a:gdLst>
              <a:gd name="textAreaLeft" fmla="*/ 0 w 304560"/>
              <a:gd name="textAreaRight" fmla="*/ 109800 w 3045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0120" y="480060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925400" y="4952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6008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ri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106668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38080" y="4267080"/>
            <a:ext cx="6782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x+y 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3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48*y (t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z+t1 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4+t4+x (t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t5*t2 (r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5411880" y="1066680"/>
            <a:ext cx="3356280" cy="2971800"/>
            <a:chOff x="5411880" y="1066680"/>
            <a:chExt cx="3356280" cy="2971800"/>
          </a:xfrm>
        </p:grpSpPr>
        <p:sp>
          <p:nvSpPr>
            <p:cNvPr id="616" name=""/>
            <p:cNvSpPr/>
            <p:nvPr/>
          </p:nvSpPr>
          <p:spPr>
            <a:xfrm>
              <a:off x="6324480" y="2514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24480" y="2895480"/>
              <a:ext cx="1067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24480" y="3276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24480" y="3657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7391520" y="3809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8552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92040" y="3657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92040" y="3276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92040" y="2895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92040" y="2514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1880" y="16765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775280" y="137160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24480" y="1066680"/>
              <a:ext cx="1067040" cy="1067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324480" y="2133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z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92040" y="2133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6008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ri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04920" y="160020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19720" y="990720"/>
            <a:ext cx="441936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x+y 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3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48*y (t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z+t1 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4+t4+x (t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t5*t2 (r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666880" y="2514600"/>
            <a:ext cx="1752840" cy="76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895480" y="3123720"/>
            <a:ext cx="1752840" cy="457560"/>
            <a:chOff x="2895480" y="3123720"/>
            <a:chExt cx="1752840" cy="457560"/>
          </a:xfrm>
        </p:grpSpPr>
        <p:sp>
          <p:nvSpPr>
            <p:cNvPr id="636" name=""/>
            <p:cNvSpPr/>
            <p:nvPr/>
          </p:nvSpPr>
          <p:spPr>
            <a:xfrm flipV="1">
              <a:off x="2895480" y="3123720"/>
              <a:ext cx="1676520" cy="228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95480" y="3429000"/>
              <a:ext cx="1752840" cy="152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819520" y="2895480"/>
            <a:ext cx="1752480" cy="1219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2514600" y="3124080"/>
            <a:ext cx="1981080" cy="1600200"/>
            <a:chOff x="2514600" y="3124080"/>
            <a:chExt cx="1981080" cy="1600200"/>
          </a:xfrm>
        </p:grpSpPr>
        <p:sp>
          <p:nvSpPr>
            <p:cNvPr id="640" name=""/>
            <p:cNvSpPr/>
            <p:nvPr/>
          </p:nvSpPr>
          <p:spPr>
            <a:xfrm>
              <a:off x="2971800" y="3733920"/>
              <a:ext cx="1523880" cy="99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14600" y="3124080"/>
              <a:ext cx="1981080" cy="16002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3276720" y="4038480"/>
            <a:ext cx="1218960" cy="1219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590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other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80880" y="1447920"/>
            <a:ext cx="373392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ogical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^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t1 &gt;&gt; 1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(1&lt;&lt;13) - 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&amp; mask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43400" y="1143000"/>
            <a:ext cx="41148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ical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rl $17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$8185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20120" y="2362320"/>
            <a:ext cx="304560" cy="1066680"/>
          </a:xfrm>
          <a:custGeom>
            <a:avLst/>
            <a:gdLst>
              <a:gd name="textAreaLeft" fmla="*/ 0 w 304560"/>
              <a:gd name="textAreaRight" fmla="*/ 10980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002800" y="13716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20120" y="37339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078040" y="3962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43000" y="4952880"/>
            <a:ext cx="6477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x^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rl $17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t1&gt;&gt;1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$8185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t2 &amp; 818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8840" y="4267080"/>
            <a:ext cx="277128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8192, 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– 7 = 818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994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ISC Propert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 can reference different operand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mediate, register,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ithmetic operations can read/write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 can involve complex 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b + S*Ri + 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ful for arithmetic expressions, to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s can have varying leng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A32 instructions can range from 1 to 15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9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9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1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/MM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7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.5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special collection of instructions for operating on 64-bit vectors of 1, 2, or 4 byte integer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Pr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.5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conditional move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change in underlying micro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239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: Abstract Machi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555240" y="2187720"/>
            <a:ext cx="17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loop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conditional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Proc.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Proc. retur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89640" y="1600200"/>
            <a:ext cx="253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Mode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92560" y="162396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53800" y="1623960"/>
            <a:ext cx="135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tro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16600" y="219708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arra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396440" y="2673360"/>
            <a:ext cx="1913400" cy="368280"/>
            <a:chOff x="1396440" y="2673360"/>
            <a:chExt cx="1913400" cy="368280"/>
          </a:xfrm>
        </p:grpSpPr>
        <p:sp>
          <p:nvSpPr>
            <p:cNvPr id="663" name=""/>
            <p:cNvSpPr/>
            <p:nvPr/>
          </p:nvSpPr>
          <p:spPr>
            <a:xfrm>
              <a:off x="1396440" y="2673360"/>
              <a:ext cx="712440" cy="368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33760" y="2673360"/>
              <a:ext cx="676080" cy="368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39840" y="2895480"/>
              <a:ext cx="444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2183400" y="212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4960" y="4267080"/>
            <a:ext cx="162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15880" y="4549680"/>
            <a:ext cx="33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by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2-byte 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4-byte long 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contiguous byte al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address of initial by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55600" y="4573440"/>
            <a:ext cx="1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branch/ju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09480" y="4876920"/>
            <a:ext cx="3338640" cy="1365120"/>
            <a:chOff x="609480" y="4876920"/>
            <a:chExt cx="3338640" cy="1365120"/>
          </a:xfrm>
        </p:grpSpPr>
        <p:sp>
          <p:nvSpPr>
            <p:cNvPr id="671" name=""/>
            <p:cNvSpPr/>
            <p:nvPr/>
          </p:nvSpPr>
          <p:spPr>
            <a:xfrm>
              <a:off x="609480" y="5029200"/>
              <a:ext cx="746280" cy="11368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20880" y="5029200"/>
              <a:ext cx="761760" cy="395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g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69800" y="5251680"/>
              <a:ext cx="298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39840" y="5029200"/>
              <a:ext cx="652680" cy="395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74720" y="4876920"/>
              <a:ext cx="2273400" cy="136512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83000" y="5632560"/>
              <a:ext cx="1284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7880" y="5480280"/>
              <a:ext cx="60948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820880" y="5480280"/>
              <a:ext cx="761760" cy="68580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nd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d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680" y="520560"/>
            <a:ext cx="543096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Pro (P6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nounced in Feb. ‘9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s for Pentium II, Pentium III, and Celeron process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4 similar idea, but different detai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a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ally translates instructions to more regular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ery wide, but simple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es operations in parall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p to 5 at o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deep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2–18 cycle lat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2993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Block Dia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702480" y="4437000"/>
            <a:ext cx="2141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icroprocessor Repor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/16/9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2438280" y="1117440"/>
            <a:ext cx="4089600" cy="53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7406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es instructions dynamically into “Uop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8 bits w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s operation, two sources, and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s Uops with “Out of Order” eng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op executed wh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nds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al unit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ion controlled by “Reservation Station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s track of data dependencies between u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s resourc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equenc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rect relationship between IA32 code &amp; what actually gets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icky to predict / optimize performance at assembly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070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ose Assembler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90520" y="2971800"/>
            <a:ext cx="8701200" cy="347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l/Microsoft Differs from GA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 listed in opposite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est, Sr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rc, D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s not preceded by ‘$’, Denote hex with ‘h’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00h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10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 size indicated by operands rather than operator suffi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b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ing format shows effective address 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[eax*4+100h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100(,%eax,4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57200" y="1676520"/>
            <a:ext cx="457200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,[ecx+ecx*2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sp,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ord ptr [ebp-8],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,dword ptr [eax*4+100h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81480" y="1676520"/>
            <a:ext cx="365760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%ecx,%ecx,2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8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0,-8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0x100(,%ea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5760" y="11430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l/Microsof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181480" y="11430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AS/Gnu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III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9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.2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“streaming SIMD” instructions for operating on 128-bit vectors of 1, 2, or 4 byte integer or floating point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r fish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2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8-byte formats and 144 new instructions for streaming SIMD m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667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Cl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vanced Micro Devices (AMD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storical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MD has followed just behind Int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little bit slower, a lot cheap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n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cruited top circuit designers from Digital Equipment Corp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loited fact that Intel distracted by IA6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w are close competitors to Int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eloping own extension to 64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514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Cl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me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nt start-u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ployer of Linus Torval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cally different approach to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lates x86 code into “Very Long Instruction Word” (VLIW)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gh degree of parallelis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oting for low-power mark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045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w Species: IA6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aniu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0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s to IA64, a 64-bit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cally new instruction set designed for high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be able to run existing IA32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-board “x86 engin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oint project with Hewlett-Packa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anium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21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performance bo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226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60" y="3760920"/>
            <a:ext cx="4357800" cy="268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grammer-Visible St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ddress of next instruc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eavily used program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tore status information about most recent arithmetic opera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sed for conditional branchin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600200"/>
            <a:ext cx="380880" cy="14479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447920"/>
            <a:ext cx="1371600" cy="76176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990720"/>
            <a:ext cx="3200400" cy="22096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990720"/>
            <a:ext cx="2286000" cy="3809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1676520"/>
            <a:ext cx="2286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bject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gra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S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75248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228600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281952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34604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90512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43828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2971800"/>
            <a:ext cx="99036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2362320"/>
            <a:ext cx="1371600" cy="68580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43400" y="4876920"/>
            <a:ext cx="4076640" cy="156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7160" indent="-2235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yte addressable arra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de, user data, (some) OS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cludes stack used to support procedur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9:54Z</dcterms:modified>
  <cp:revision>67</cp:revision>
  <dc:subject/>
  <dc:title>Machine Level Programming I</dc:title>
</cp:coreProperties>
</file>