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C4AF8C92-C249-4CBA-A42D-535730131836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22200" y="1904760"/>
            <a:ext cx="3343320" cy="1562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 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720" y="3833640"/>
            <a:ext cx="5227560" cy="206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EEE Floating Point Standa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thematical proper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09280" y="641196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660033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365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rmalized Encod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5516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1000"/>
          </a:bodyPr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 = 15213.0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-910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5213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1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= 1.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X 2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ignificand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1101101101101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01101101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000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ponen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27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40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011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229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918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40048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4495680"/>
            <a:ext cx="6781680" cy="21686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loating Point Representation (Class 02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x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4    6    6    D    B    4    0    0  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 0110 0110 1101 1011 0100 0000 0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4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100 0110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521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 1101 1011 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477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normalized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valu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–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ificand valu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x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x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ts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value 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e that have distinct values +0 and –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s very close to 0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se precision as get smal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adual underflow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5842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al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value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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infin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tion that overflow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th positive and nega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3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1.0/0.0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0/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0 = +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0/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0 =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-a-Number (Na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presents case when no numeric value can be determi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sqrt(–1),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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99768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 of Floating Point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l Number Encoding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2828880"/>
            <a:ext cx="73152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53280" y="32860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53280" y="3438360"/>
            <a:ext cx="5335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55440" y="31431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86800" y="32860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33526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505320"/>
            <a:ext cx="53316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6720" y="320976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a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3352680"/>
            <a:ext cx="0" cy="228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69160" y="231948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6560" y="229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88800" y="3273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39400" y="244800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9120" y="244800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50640" y="24620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6880" y="2448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-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56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2676600"/>
            <a:ext cx="0" cy="30456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267080" y="2819520"/>
            <a:ext cx="228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495320" y="2819520"/>
            <a:ext cx="228600" cy="380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3440" y="3276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+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213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iny Floating Point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-bit Floating Point 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sign bit is in the most significant bi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xt four bits are the exponent, with a bias of 7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last three bits are th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ame General Form as IEE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rmalized, denormal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ation of 0, NaN, infin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32000" y="4572000"/>
            <a:ext cx="304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36920" y="4572000"/>
            <a:ext cx="17524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89400" y="4572000"/>
            <a:ext cx="18288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67360" y="426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908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6224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55760" y="4267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416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alues Related to the Expone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32280" y="1143000"/>
            <a:ext cx="504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6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enorm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6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3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9160"/>
                <a:tab algn="l" pos="1714680"/>
                <a:tab algn="l" pos="257796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f, NaN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5740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ynamic Ran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3280" y="892080"/>
            <a:ext cx="5118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 exp  frac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/8*1/64 = 1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8*1/64 = 2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/8*1/64 = 6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/8*1/64 = 7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/8*1/64 = 8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001 001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/8*1/64 = 9/51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0 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/8*1/2 = 14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/8*1/2 = 15/1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/8*1    =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/8*1    = 9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0111 0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/8*1   = 10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4/8*128 = 2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0 1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5/8*128 = 24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1111 0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/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77520" y="16765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zer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39080" y="2757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st de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38720" y="304812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mallest 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38720" y="411480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1 below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38360" y="46623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osest to 1 abo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781680" y="1828800"/>
            <a:ext cx="269640" cy="4092480"/>
            <a:chOff x="6781680" y="1828800"/>
            <a:chExt cx="269640" cy="4092480"/>
          </a:xfrm>
        </p:grpSpPr>
        <p:sp>
          <p:nvSpPr>
            <p:cNvPr id="197" name=""/>
            <p:cNvSpPr/>
            <p:nvPr/>
          </p:nvSpPr>
          <p:spPr>
            <a:xfrm flipH="1">
              <a:off x="6781680" y="18288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792120" y="294948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6792120" y="32400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792120" y="430704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792120" y="485460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792120" y="5921280"/>
              <a:ext cx="259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038360" y="57294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st nor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00" y="19810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6800" y="434340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iz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3095640"/>
            <a:ext cx="83059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6153120"/>
            <a:ext cx="830592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tribution of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0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 = 3 exponent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 = 2 fractio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as is 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ice how the distribution gets denser toward zero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80880" y="4038480"/>
          <a:ext cx="8326440" cy="10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38480"/>
                    <a:ext cx="8326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7960" y="228240"/>
            <a:ext cx="8331120" cy="109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tribution of Valu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(close-up view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90520" y="1728720"/>
            <a:ext cx="830736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-bit IEEE-like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 = 3 exponent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 = 2 fractio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as is 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04640" y="3772080"/>
          <a:ext cx="8336160" cy="110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3772080"/>
                    <a:ext cx="83361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553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resting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Description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exp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frac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Numeric Value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Zero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.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mallest Pos. Denorm.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23,52}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4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4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4.9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2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Largest De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1.0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18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.2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–30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mallest Pos. 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.0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6,1022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Just larger than largest denormal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One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00…0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.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2214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Largest Normalized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0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11…11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2.0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) X 2</a:t>
            </a:r>
            <a:r>
              <a:rPr b="0" lang="en-US" sz="1800" spc="-1" strike="noStrike" baseline="30000">
                <a:solidFill>
                  <a:srgbClr val="003300"/>
                </a:solidFill>
                <a:latin typeface="Arial"/>
              </a:rPr>
              <a:t>{127,1023}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3.4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54760" indent="-219960">
              <a:spcBef>
                <a:spcPts val="249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743200"/>
                <a:tab algn="l" pos="3657600"/>
                <a:tab algn="l" pos="532116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1.8 X 10</a:t>
            </a:r>
            <a:r>
              <a:rPr b="0" lang="en-US" sz="2000" spc="-1" strike="noStrike" baseline="30000">
                <a:solidFill>
                  <a:srgbClr val="000066"/>
                </a:solidFill>
                <a:latin typeface="Arial"/>
              </a:rPr>
              <a:t>30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375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3073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 each of the following C expressions, either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0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rgue that it is true for all argument valu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0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ain why not tru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3080" y="2135160"/>
            <a:ext cx="525456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360" y="2655720"/>
            <a:ext cx="2612880" cy="1197720"/>
          </a:xfrm>
          <a:prstGeom prst="rect">
            <a:avLst/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8880" y="432108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493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al Properties of Enco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P Zero Same as Integer Zer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bits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 (Almost) Use Unsigned Integer Comparis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first compare sign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onsider -0 =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aNs problema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be greater than any other val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at should comparison yield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wise O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norm vs. normaliz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rmalized vs. infin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102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eptual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compute exact resul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it fit into desired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y overflow if exponent too lar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y round to fit in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ounding Modes (illustrate with $ rounding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4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6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1.5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$2.50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–$1.50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down 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up 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arest Even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default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$2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–$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1720" y="5562720"/>
            <a:ext cx="820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.  Round down: rounded result is close to but no greater than true resul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.  Round up: rounded result is close to but no less than true result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683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er Look at Round-To-Eve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fault Rounding M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get any other kind without dropping into assemb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others are statistically bia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m of set of positive numbers will consistently be over- or under- estima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pplying to Other Decimal Places / Bit Posi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xactly halfway between two possible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ound so that least significant digit is ev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round to nearest hundred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49999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Less than half wa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5000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Greater than half wa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350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Half way—round up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2171880"/>
                <a:tab algn="l" pos="314964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500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.24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Half way—round dow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15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unding Binary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nary Fractional Numb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” when least significant bit i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lf way when bits to right of rounding position =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to nearest 1/4 (2 bits right of binary poi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e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ed Val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3/3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0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&lt;1/2—down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3/1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1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0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&gt;1/2—up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1/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7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1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.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/2—up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5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0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.10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1/2—down)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1/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1486080"/>
                <a:tab algn="l" pos="2971800"/>
                <a:tab algn="l" pos="4292640"/>
                <a:tab algn="l" pos="628668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607068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1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1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1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660033"/>
                </a:solidFill>
                <a:latin typeface="Courier New"/>
              </a:rPr>
              <a:t>*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2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2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^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ifica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*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+ 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, in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range, overflow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f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gest chore is multiplying significa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511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P Ad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1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1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2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2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ct Resul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(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)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significa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ult of signed align &amp; ad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51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2,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ight, in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&lt; 1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i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ef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ositions, decrement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 i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ut of ran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7160" indent="-223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und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fi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203720" y="1395360"/>
            <a:ext cx="4089240" cy="1944720"/>
            <a:chOff x="4203720" y="1395360"/>
            <a:chExt cx="4089240" cy="1944720"/>
          </a:xfrm>
        </p:grpSpPr>
        <p:sp>
          <p:nvSpPr>
            <p:cNvPr id="232" name=""/>
            <p:cNvSpPr/>
            <p:nvPr/>
          </p:nvSpPr>
          <p:spPr>
            <a:xfrm>
              <a:off x="4432320" y="1765440"/>
              <a:ext cx="203184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1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1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84800" y="2298600"/>
              <a:ext cx="203220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2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77120" y="1460520"/>
              <a:ext cx="0" cy="2030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29600" y="1460520"/>
              <a:ext cx="0" cy="2030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89720" y="1523880"/>
              <a:ext cx="172728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95520" y="1395360"/>
              <a:ext cx="7160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66"/>
                  </a:solidFill>
                  <a:latin typeface="Arial"/>
                </a:rPr>
                <a:t>E1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–</a:t>
              </a:r>
              <a:r>
                <a:rPr b="0" i="1" lang="en-US" sz="1400" spc="-1" strike="noStrike">
                  <a:solidFill>
                    <a:srgbClr val="000066"/>
                  </a:solidFill>
                  <a:latin typeface="Arial"/>
                </a:rPr>
                <a:t>E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2320" y="234000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03720" y="2895480"/>
              <a:ext cx="40892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08640" y="3060720"/>
              <a:ext cx="3708360" cy="279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lvl="1" marL="45720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33"/>
                  </a:solidFill>
                  <a:latin typeface="Times New Roman"/>
                </a:rPr>
                <a:t>(–</a:t>
              </a:r>
              <a:r>
                <a:rPr b="0" lang="en-US" sz="1800" spc="-1" strike="noStrike">
                  <a:solidFill>
                    <a:srgbClr val="660033"/>
                  </a:solidFill>
                  <a:latin typeface="Arial"/>
                </a:rPr>
                <a:t>1)</a:t>
              </a:r>
              <a:r>
                <a:rPr b="0" i="1" lang="en-US" sz="1800" spc="-1" strike="noStrike" baseline="30000">
                  <a:solidFill>
                    <a:srgbClr val="660033"/>
                  </a:solidFill>
                  <a:latin typeface="Arial"/>
                </a:rPr>
                <a:t>s</a:t>
              </a:r>
              <a:r>
                <a:rPr b="0" i="1" lang="en-US" sz="1800" spc="-1" strike="noStrike">
                  <a:solidFill>
                    <a:srgbClr val="660033"/>
                  </a:solidFill>
                  <a:latin typeface="Arial"/>
                </a:rPr>
                <a:t> M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153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ematical Properties of FP Ad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e to those of Abelian 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addi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may generate infinity or Na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t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oci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verflow and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is additive identity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 element has additive inver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+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943280"/>
                <a:tab algn="l" pos="50292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7696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h. Properties of FP Mul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are to Commutative R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sed under multiplica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may generate infinity or Na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Commut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is Associative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ility of overflow,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is multiplicative identity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cation distributes over addition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ility of overflow, inexactness of roun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notonic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&amp;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0 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≥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M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554976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pt for infinities &amp; Na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274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in 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Guarantees Two Level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 prec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ver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ting betwee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hanges numeric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uncates fractional par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rounding toward zer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defined when out of ran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04080" indent="-21456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rally saturates to TMin or TMa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act conversion, as long as int h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≤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53 bit word siz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9480" indent="-231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7120" indent="-223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round according to rounding m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swers to Floating Point Puzz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2209680"/>
            <a:ext cx="7924680" cy="41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 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752480" y="838080"/>
            <a:ext cx="2613240" cy="1197720"/>
          </a:xfrm>
          <a:prstGeom prst="rect">
            <a:avLst/>
          </a:prstGeom>
          <a:solidFill>
            <a:srgbClr val="ffff99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t x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loat f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3716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ouble d = …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880" y="914400"/>
            <a:ext cx="189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ume neith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n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N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2209680"/>
            <a:ext cx="79246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float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24 bit signific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== (int)(double) 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53 bit signific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(float)(double)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increases preci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== (float) 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loses preci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 == -(-f)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: Just change sign 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2/3 == 2/3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2/3 =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lt; 0.0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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(d*2) &lt; 0.0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&gt; f  </a:t>
            </a:r>
            <a:r>
              <a:rPr b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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f &gt; -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 * d &gt;= 0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Helvetica"/>
              <a:buChar char="•"/>
              <a:tabLst>
                <a:tab algn="l" pos="1828800"/>
                <a:tab algn="l" pos="2463840"/>
                <a:tab algn="l" pos="30862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d+f)-d == f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: Not associati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63248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EEE Floating Poin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EEE Standard 75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stablished in 1985 as uniform standard for floating point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fore that, many idiosyncratic forma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rted by all major CPU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riven by Numerical Concer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ice standards for rounding, overflow, underf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make go fa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erical analysts predominated over hardware types in defining standa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iane 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28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oded 37 seconds after liftof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rgo worth $500 mill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d horizontal velocity as floating point numb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verted to 16-bit integ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ed OK for Ariane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flowed for Ariane 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d same softwa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4" name="ariane5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608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219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EEE Floating Point Has Clear Mathematical  Propert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s numbers of form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2</a:t>
            </a:r>
            <a:r>
              <a:rPr b="1" i="1" lang="en-US" sz="2000" spc="-1" strike="noStrike" baseline="30000">
                <a:solidFill>
                  <a:srgbClr val="000066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reason about operations independent of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 if computed with perfect precision and then round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the same as real 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olates associativity/distributiv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kes life difficult for compilers &amp; serious numerical applications programm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actional Binary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160" y="4703400"/>
            <a:ext cx="8472600" cy="10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43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to right of “binary point” represent fractional powers of 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2400" indent="-218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s rational numb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39720" y="2565360"/>
            <a:ext cx="5029200" cy="533520"/>
            <a:chOff x="1539720" y="2565360"/>
            <a:chExt cx="5029200" cy="533520"/>
          </a:xfrm>
        </p:grpSpPr>
        <p:sp>
          <p:nvSpPr>
            <p:cNvPr id="91" name=""/>
            <p:cNvSpPr/>
            <p:nvPr/>
          </p:nvSpPr>
          <p:spPr>
            <a:xfrm>
              <a:off x="15397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209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639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448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257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82920" y="2565360"/>
              <a:ext cx="3812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416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450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88040" y="2565360"/>
              <a:ext cx="38088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–</a:t>
              </a:r>
              <a:r>
                <a:rPr b="0" i="1" lang="en-US" sz="1800" spc="-1" strike="noStrike" baseline="-25000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25920" y="256536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• •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01840" y="2565360"/>
              <a:ext cx="7621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Times New Roman"/>
                </a:rPr>
                <a:t>• • 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06960" y="2565360"/>
              <a:ext cx="759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19256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2560" y="198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2560" y="167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04800" y="1092240"/>
            <a:ext cx="46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i</a:t>
            </a:r>
            <a:r>
              <a:rPr b="0" lang="en-US" sz="1800" spc="-1" strike="noStrike" baseline="30000">
                <a:solidFill>
                  <a:srgbClr val="800000"/>
                </a:solidFill>
                <a:latin typeface="Times New Roman"/>
              </a:rPr>
              <a:t>–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5800" y="762120"/>
            <a:ext cx="3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2489040"/>
            <a:ext cx="244440" cy="1778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2209680"/>
            <a:ext cx="609840" cy="4572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1930320"/>
            <a:ext cx="974880" cy="7365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1295280"/>
            <a:ext cx="2210040" cy="13716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990720"/>
            <a:ext cx="2514600" cy="16761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01840" y="1828800"/>
            <a:ext cx="762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0800000">
            <a:off x="4188960" y="3046320"/>
            <a:ext cx="244440" cy="1778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205160" y="3046320"/>
            <a:ext cx="609840" cy="4572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4221000" y="3046320"/>
            <a:ext cx="974880" cy="73656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4204800" y="3046320"/>
            <a:ext cx="2210040" cy="13716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25560">
            <a:solidFill>
              <a:srgbClr val="9403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5331960" y="3351240"/>
            <a:ext cx="762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• • 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9800" y="30481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16280" y="33526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16280" y="3672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1/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1960" y="4267080"/>
            <a:ext cx="3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en-US" sz="1800" spc="-1" strike="noStrike" baseline="30000">
                <a:solidFill>
                  <a:srgbClr val="800000"/>
                </a:solidFill>
                <a:latin typeface="Times New Roman"/>
              </a:rPr>
              <a:t>–</a:t>
            </a:r>
            <a:r>
              <a:rPr b="0" i="1" lang="en-US" sz="1800" spc="-1" strike="noStrike" baseline="30000">
                <a:solidFill>
                  <a:srgbClr val="8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863960" y="5651640"/>
                <a:ext cx="92736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=-</m:t>
                        </m:r>
                        <m:r>
                          <m:t xml:space="preserve">j</m:t>
                        </m:r>
                      </m:sub>
                      <m:sup>
                        <m:r>
                          <m:t xml:space="preserve">i</m:t>
                        </m:r>
                      </m:sup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rac. Binary Number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-3/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01.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-7/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10.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3/6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 0.111111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vide by 2 by shifting righ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y by 2 by shifting le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s of form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111111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st below 1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/2 + 1/4 + 1/8 + … + 1/2</a:t>
            </a:r>
            <a:r>
              <a:rPr b="1" i="1" lang="en-US" sz="1800" spc="-1" strike="noStrike" baseline="30000">
                <a:solidFill>
                  <a:srgbClr val="000099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+ …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1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notation 1.0 –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84280" y="228600"/>
            <a:ext cx="7975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presentable Numb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exactly represent numbers of the form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/2</a:t>
            </a:r>
            <a:r>
              <a:rPr b="0" i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 numbers have repeating bit represent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res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101010101[0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/1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.0001100110011[0011]…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2400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umerical 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 M 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n bit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determines whether number is negative or positiv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gnificand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M 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ly a fractional value in range [1.0,2.0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ponent </a:t>
            </a:r>
            <a:r>
              <a:rPr b="1" i="1" lang="en-US" sz="1800" spc="-1" strike="noStrike">
                <a:solidFill>
                  <a:srgbClr val="660033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weights value by power of tw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SB is sign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32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Represen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3378240"/>
            <a:ext cx="355680" cy="35568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3378240"/>
            <a:ext cx="2108160" cy="355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3378240"/>
            <a:ext cx="4470480" cy="3556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ra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cod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SB is sign b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eld encodes </a:t>
            </a: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z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ngle precision: 8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23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2 bits tot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 precision: 11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52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4 bits tot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ed precision: 15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, 63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a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found in Intel-compatible machin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d in 80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bit waste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04920" y="304920"/>
            <a:ext cx="7632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loating Point Precis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295280" y="1676520"/>
            <a:ext cx="6985080" cy="355320"/>
            <a:chOff x="1295280" y="1676520"/>
            <a:chExt cx="6985080" cy="355320"/>
          </a:xfrm>
        </p:grpSpPr>
        <p:sp>
          <p:nvSpPr>
            <p:cNvPr id="136" name=""/>
            <p:cNvSpPr/>
            <p:nvPr/>
          </p:nvSpPr>
          <p:spPr>
            <a:xfrm>
              <a:off x="1295280" y="1676520"/>
              <a:ext cx="355680" cy="35532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520" y="1676520"/>
              <a:ext cx="2108160" cy="35532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9880" y="1676520"/>
              <a:ext cx="4470480" cy="35532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365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rmalized” Numeric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ex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1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onent coded as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biase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val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E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 Exp – Bia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xp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unsigned value denoted by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exp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Bi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as 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ngle precision: 127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…254,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-126…127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 precision: 1023 (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…2046,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-1022…1023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120680" indent="-1666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 general: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i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e-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- 1, where e is number of exponent bit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gnificand coded with implied leading 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M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1.x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xxx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 bits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fr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nimum when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1.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ximum when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111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= 2.0 – 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t extra leading bit for “fre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3-01-17T22:40:49Z</dcterms:modified>
  <cp:revision>62</cp:revision>
  <dc:subject/>
  <dc:title>Floating Point</dc:title>
</cp:coreProperties>
</file>