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BF460EBB-6B64-4DE8-8CE3-49FB4706D32D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3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480" y="1523880"/>
            <a:ext cx="3478320" cy="1562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ts and Byt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ug. 29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86040" y="2862000"/>
            <a:ext cx="5140080" cy="256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73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8480" indent="-174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y bit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8480" indent="-174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ing information as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inary/Hexadecim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 represent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135800" indent="-1620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35800" indent="-1620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haracters and string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35800" indent="-1620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28480" indent="-17424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-level manipul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olean algebr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13600" indent="-16920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ressing in 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65400" y="6586560"/>
            <a:ext cx="944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5-213 F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76040" y="6510240"/>
            <a:ext cx="135504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2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533520"/>
            <a:ext cx="632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The Class That Gives CMU Its Zip!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ast significant byte has high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ast significant byte has low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as 4-byte representat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123456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given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1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752480" y="4648320"/>
            <a:ext cx="5486400" cy="609480"/>
            <a:chOff x="1752480" y="4648320"/>
            <a:chExt cx="5486400" cy="609480"/>
          </a:xfrm>
        </p:grpSpPr>
        <p:sp>
          <p:nvSpPr>
            <p:cNvPr id="232" name=""/>
            <p:cNvSpPr/>
            <p:nvPr/>
          </p:nvSpPr>
          <p:spPr>
            <a:xfrm>
              <a:off x="31240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098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956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4648320"/>
              <a:ext cx="6858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524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382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240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98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956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4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814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6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672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53080" y="4952880"/>
              <a:ext cx="6858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752480" y="5486400"/>
            <a:ext cx="5486400" cy="609480"/>
            <a:chOff x="1752480" y="5486400"/>
            <a:chExt cx="5486400" cy="609480"/>
          </a:xfrm>
        </p:grpSpPr>
        <p:sp>
          <p:nvSpPr>
            <p:cNvPr id="245" name=""/>
            <p:cNvSpPr/>
            <p:nvPr/>
          </p:nvSpPr>
          <p:spPr>
            <a:xfrm>
              <a:off x="31240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098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56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81480" y="5486400"/>
              <a:ext cx="685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x10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524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382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240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6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098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4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956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14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672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53080" y="5791320"/>
              <a:ext cx="68580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33520" y="4572000"/>
            <a:ext cx="177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5410080"/>
            <a:ext cx="17794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56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81480" y="4952880"/>
            <a:ext cx="685800" cy="30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181480" y="5791320"/>
            <a:ext cx="685800" cy="3045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Byte-Reversed Listin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0160" y="1220400"/>
            <a:ext cx="8319960" cy="51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xt representation of binary machin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d by program that reads the machin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 Frag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5360" y="3048120"/>
            <a:ext cx="8153280" cy="11912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ddress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Instruction Code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ssembly Rendi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36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b      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   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36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1 c3 ab 12 00 00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    $0x12ab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5888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36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3 bb 28 00 00 00 0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$0x0,0x28(%eb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867280" y="3886200"/>
            <a:ext cx="609840" cy="914400"/>
          </a:xfrm>
          <a:prstGeom prst="line">
            <a:avLst/>
          </a:prstGeom>
          <a:ln w="38160">
            <a:solidFill>
              <a:srgbClr val="ff5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971800" y="3886200"/>
            <a:ext cx="1600200" cy="2133360"/>
            <a:chOff x="2971800" y="3886200"/>
            <a:chExt cx="1600200" cy="2133360"/>
          </a:xfrm>
        </p:grpSpPr>
        <p:sp>
          <p:nvSpPr>
            <p:cNvPr id="272" name=""/>
            <p:cNvSpPr/>
            <p:nvPr/>
          </p:nvSpPr>
          <p:spPr>
            <a:xfrm rot="16200000">
              <a:off x="3733560" y="3124080"/>
              <a:ext cx="76320" cy="16002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3809880" y="3962160"/>
              <a:ext cx="533520" cy="205740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303120" y="4343400"/>
            <a:ext cx="830736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4000"/>
          </a:bodyPr>
          <a:p>
            <a:pPr marL="246960" indent="-246960">
              <a:lnSpc>
                <a:spcPct val="95000"/>
              </a:lnSpc>
              <a:spcBef>
                <a:spcPts val="1500"/>
              </a:spcBef>
              <a:tabLst>
                <a:tab algn="l" pos="0"/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iphering Numb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12a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d to 4 bytes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000012a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lit into bytes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 00 12 a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76280" indent="-1573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565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verse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b 12 00 0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ining Data Represent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to Print Byte Representation of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sting pointer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signed char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reates byte arra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2209680"/>
            <a:ext cx="5943600" cy="28371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unsigned char *pointer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how_bytes(pointer start, int le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0x%p\t0x%.2x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rt+i, start[i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0840" y="5332320"/>
            <a:ext cx="35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f directives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x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nt Hexadecim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show_bytes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Execu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00200" y="1981080"/>
            <a:ext cx="5943600" cy="1069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 =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int a = 15213;\n"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w_bytes((pointer) &amp;a, sizeof(int)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3584520"/>
            <a:ext cx="23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ult (Linux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4191120"/>
            <a:ext cx="5181480" cy="17708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 = 1521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6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3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ffffcbb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Integ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A = 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B = -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long int C = 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1066680"/>
            <a:ext cx="3962520" cy="120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imal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2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11 1011 0110 1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3    B    6    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82560" y="2436840"/>
            <a:ext cx="1692360" cy="1677600"/>
            <a:chOff x="682560" y="2436840"/>
            <a:chExt cx="1692360" cy="1677600"/>
          </a:xfrm>
        </p:grpSpPr>
        <p:grpSp>
          <p:nvGrpSpPr>
            <p:cNvPr id="287" name=""/>
            <p:cNvGrpSpPr/>
            <p:nvPr/>
          </p:nvGrpSpPr>
          <p:grpSpPr>
            <a:xfrm>
              <a:off x="914400" y="2895840"/>
              <a:ext cx="609480" cy="1218600"/>
              <a:chOff x="914400" y="2895840"/>
              <a:chExt cx="609480" cy="1218600"/>
            </a:xfrm>
          </p:grpSpPr>
          <p:sp>
            <p:nvSpPr>
              <p:cNvPr id="288" name=""/>
              <p:cNvSpPr/>
              <p:nvPr/>
            </p:nvSpPr>
            <p:spPr>
              <a:xfrm>
                <a:off x="914400" y="28958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14400" y="320040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914400" y="35049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14400" y="38098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82560" y="243684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/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502360" y="2436840"/>
            <a:ext cx="814680" cy="1677960"/>
            <a:chOff x="2502360" y="2436840"/>
            <a:chExt cx="814680" cy="1677960"/>
          </a:xfrm>
        </p:grpSpPr>
        <p:grpSp>
          <p:nvGrpSpPr>
            <p:cNvPr id="294" name=""/>
            <p:cNvGrpSpPr/>
            <p:nvPr/>
          </p:nvGrpSpPr>
          <p:grpSpPr>
            <a:xfrm>
              <a:off x="2590920" y="2895840"/>
              <a:ext cx="609480" cy="1218960"/>
              <a:chOff x="2590920" y="2895840"/>
              <a:chExt cx="609480" cy="1218960"/>
            </a:xfrm>
          </p:grpSpPr>
          <p:sp>
            <p:nvSpPr>
              <p:cNvPr id="295" name=""/>
              <p:cNvSpPr/>
              <p:nvPr/>
            </p:nvSpPr>
            <p:spPr>
              <a:xfrm>
                <a:off x="2590920" y="35053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590920" y="3810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590920" y="28958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590920" y="32004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2502360" y="243684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1523880" y="3048120"/>
            <a:ext cx="1067040" cy="914400"/>
            <a:chOff x="1523880" y="3048120"/>
            <a:chExt cx="1067040" cy="914400"/>
          </a:xfrm>
        </p:grpSpPr>
        <p:sp>
          <p:nvSpPr>
            <p:cNvPr id="301" name=""/>
            <p:cNvSpPr/>
            <p:nvPr/>
          </p:nvSpPr>
          <p:spPr>
            <a:xfrm>
              <a:off x="1523880" y="30481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23880" y="335268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523880" y="335232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1523880" y="30481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82560" y="4494240"/>
            <a:ext cx="1692360" cy="1677600"/>
            <a:chOff x="682560" y="4494240"/>
            <a:chExt cx="1692360" cy="1677600"/>
          </a:xfrm>
        </p:grpSpPr>
        <p:grpSp>
          <p:nvGrpSpPr>
            <p:cNvPr id="306" name=""/>
            <p:cNvGrpSpPr/>
            <p:nvPr/>
          </p:nvGrpSpPr>
          <p:grpSpPr>
            <a:xfrm>
              <a:off x="914400" y="4953240"/>
              <a:ext cx="609480" cy="1218600"/>
              <a:chOff x="914400" y="4953240"/>
              <a:chExt cx="609480" cy="1218600"/>
            </a:xfrm>
          </p:grpSpPr>
          <p:sp>
            <p:nvSpPr>
              <p:cNvPr id="307" name=""/>
              <p:cNvSpPr/>
              <p:nvPr/>
            </p:nvSpPr>
            <p:spPr>
              <a:xfrm>
                <a:off x="914400" y="4953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914400" y="525780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914400" y="55623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914400" y="5867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82560" y="449424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/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502360" y="4494240"/>
            <a:ext cx="814680" cy="1677960"/>
            <a:chOff x="2502360" y="4494240"/>
            <a:chExt cx="814680" cy="1677960"/>
          </a:xfrm>
        </p:grpSpPr>
        <p:grpSp>
          <p:nvGrpSpPr>
            <p:cNvPr id="313" name=""/>
            <p:cNvGrpSpPr/>
            <p:nvPr/>
          </p:nvGrpSpPr>
          <p:grpSpPr>
            <a:xfrm>
              <a:off x="2590920" y="4953240"/>
              <a:ext cx="609480" cy="1218960"/>
              <a:chOff x="2590920" y="4953240"/>
              <a:chExt cx="609480" cy="1218960"/>
            </a:xfrm>
          </p:grpSpPr>
          <p:sp>
            <p:nvSpPr>
              <p:cNvPr id="314" name=""/>
              <p:cNvSpPr/>
              <p:nvPr/>
            </p:nvSpPr>
            <p:spPr>
              <a:xfrm>
                <a:off x="2590920" y="55627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590920" y="58676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590920" y="4953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590920" y="52578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502360" y="449424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1523880" y="5105520"/>
            <a:ext cx="1067040" cy="914400"/>
            <a:chOff x="1523880" y="5105520"/>
            <a:chExt cx="1067040" cy="914400"/>
          </a:xfrm>
        </p:grpSpPr>
        <p:sp>
          <p:nvSpPr>
            <p:cNvPr id="320" name=""/>
            <p:cNvSpPr/>
            <p:nvPr/>
          </p:nvSpPr>
          <p:spPr>
            <a:xfrm>
              <a:off x="1523880" y="51055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23880" y="541008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23880" y="5409720"/>
              <a:ext cx="106704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1523880" y="5105520"/>
              <a:ext cx="106704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4347000" y="5865840"/>
            <a:ext cx="38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wo’s complement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Covered next lectur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3352680" y="5638320"/>
            <a:ext cx="91440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324480" y="4191120"/>
            <a:ext cx="609840" cy="1218600"/>
            <a:chOff x="6324480" y="4191120"/>
            <a:chExt cx="609840" cy="1218600"/>
          </a:xfrm>
        </p:grpSpPr>
        <p:sp>
          <p:nvSpPr>
            <p:cNvPr id="327" name=""/>
            <p:cNvSpPr/>
            <p:nvPr/>
          </p:nvSpPr>
          <p:spPr>
            <a:xfrm>
              <a:off x="6324480" y="4191120"/>
              <a:ext cx="6098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24480" y="4495680"/>
              <a:ext cx="6098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24480" y="4800600"/>
              <a:ext cx="609840" cy="304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24480" y="5105160"/>
              <a:ext cx="60984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6093720" y="2513160"/>
            <a:ext cx="1017360" cy="1677600"/>
            <a:chOff x="6093720" y="2513160"/>
            <a:chExt cx="1017360" cy="1677600"/>
          </a:xfrm>
        </p:grpSpPr>
        <p:grpSp>
          <p:nvGrpSpPr>
            <p:cNvPr id="332" name=""/>
            <p:cNvGrpSpPr/>
            <p:nvPr/>
          </p:nvGrpSpPr>
          <p:grpSpPr>
            <a:xfrm>
              <a:off x="6324480" y="2972160"/>
              <a:ext cx="609480" cy="1218600"/>
              <a:chOff x="6324480" y="2972160"/>
              <a:chExt cx="609480" cy="1218600"/>
            </a:xfrm>
          </p:grpSpPr>
          <p:sp>
            <p:nvSpPr>
              <p:cNvPr id="333" name=""/>
              <p:cNvSpPr/>
              <p:nvPr/>
            </p:nvSpPr>
            <p:spPr>
              <a:xfrm>
                <a:off x="632448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24480" y="327672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24480" y="3581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24480" y="38862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6093720" y="25131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7912440" y="2513160"/>
            <a:ext cx="814680" cy="1677960"/>
            <a:chOff x="7912440" y="2513160"/>
            <a:chExt cx="814680" cy="1677960"/>
          </a:xfrm>
        </p:grpSpPr>
        <p:grpSp>
          <p:nvGrpSpPr>
            <p:cNvPr id="339" name=""/>
            <p:cNvGrpSpPr/>
            <p:nvPr/>
          </p:nvGrpSpPr>
          <p:grpSpPr>
            <a:xfrm>
              <a:off x="8001000" y="2972160"/>
              <a:ext cx="609480" cy="1218960"/>
              <a:chOff x="8001000" y="2972160"/>
              <a:chExt cx="609480" cy="1218960"/>
            </a:xfrm>
          </p:grpSpPr>
          <p:sp>
            <p:nvSpPr>
              <p:cNvPr id="340" name=""/>
              <p:cNvSpPr/>
              <p:nvPr/>
            </p:nvSpPr>
            <p:spPr>
              <a:xfrm>
                <a:off x="8001000" y="358164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001000" y="38865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00100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001000" y="327672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7912440" y="251316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934320" y="3124080"/>
            <a:ext cx="1066680" cy="914400"/>
            <a:chOff x="6934320" y="3124080"/>
            <a:chExt cx="1066680" cy="914400"/>
          </a:xfrm>
        </p:grpSpPr>
        <p:sp>
          <p:nvSpPr>
            <p:cNvPr id="346" name=""/>
            <p:cNvSpPr/>
            <p:nvPr/>
          </p:nvSpPr>
          <p:spPr>
            <a:xfrm>
              <a:off x="6934320" y="312408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34320" y="3429000"/>
              <a:ext cx="106668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934320" y="3428640"/>
              <a:ext cx="1066680" cy="3049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934320" y="312408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420080" y="2513160"/>
            <a:ext cx="992880" cy="1677600"/>
            <a:chOff x="4420080" y="2513160"/>
            <a:chExt cx="992880" cy="1677600"/>
          </a:xfrm>
        </p:grpSpPr>
        <p:grpSp>
          <p:nvGrpSpPr>
            <p:cNvPr id="351" name=""/>
            <p:cNvGrpSpPr/>
            <p:nvPr/>
          </p:nvGrpSpPr>
          <p:grpSpPr>
            <a:xfrm>
              <a:off x="4648320" y="2972160"/>
              <a:ext cx="609480" cy="1218600"/>
              <a:chOff x="4648320" y="2972160"/>
              <a:chExt cx="609480" cy="1218600"/>
            </a:xfrm>
          </p:grpSpPr>
          <p:sp>
            <p:nvSpPr>
              <p:cNvPr id="352" name=""/>
              <p:cNvSpPr/>
              <p:nvPr/>
            </p:nvSpPr>
            <p:spPr>
              <a:xfrm>
                <a:off x="4648320" y="2972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648320" y="327672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648320" y="358128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648320" y="38862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420080" y="251316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257800" y="3124080"/>
            <a:ext cx="1066680" cy="914400"/>
            <a:chOff x="5257800" y="3124080"/>
            <a:chExt cx="1066680" cy="914400"/>
          </a:xfrm>
        </p:grpSpPr>
        <p:sp>
          <p:nvSpPr>
            <p:cNvPr id="358" name=""/>
            <p:cNvSpPr/>
            <p:nvPr/>
          </p:nvSpPr>
          <p:spPr>
            <a:xfrm>
              <a:off x="5257800" y="403848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57800" y="342900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57800" y="373392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57800" y="3124080"/>
              <a:ext cx="1066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Poin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B = -15213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*P = &amp;B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1828800"/>
            <a:ext cx="7467480" cy="120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pha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1    F    F    F    F    F    C    A   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 1111 1111 1111 1111 1111 1100 101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8077320" y="1905120"/>
            <a:ext cx="609480" cy="1218600"/>
            <a:chOff x="8077320" y="1905120"/>
            <a:chExt cx="609480" cy="1218600"/>
          </a:xfrm>
        </p:grpSpPr>
        <p:sp>
          <p:nvSpPr>
            <p:cNvPr id="366" name=""/>
            <p:cNvSpPr/>
            <p:nvPr/>
          </p:nvSpPr>
          <p:spPr>
            <a:xfrm>
              <a:off x="8077320" y="190512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77320" y="220968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077320" y="2514600"/>
              <a:ext cx="609480" cy="3042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077320" y="281916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8077320" y="685800"/>
            <a:ext cx="609480" cy="1219320"/>
            <a:chOff x="8077320" y="685800"/>
            <a:chExt cx="609480" cy="1219320"/>
          </a:xfrm>
        </p:grpSpPr>
        <p:sp>
          <p:nvSpPr>
            <p:cNvPr id="371" name=""/>
            <p:cNvSpPr/>
            <p:nvPr/>
          </p:nvSpPr>
          <p:spPr>
            <a:xfrm>
              <a:off x="8077320" y="685800"/>
              <a:ext cx="609480" cy="304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77320" y="990720"/>
              <a:ext cx="609480" cy="30456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77320" y="1295280"/>
              <a:ext cx="609480" cy="304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77320" y="1600200"/>
              <a:ext cx="609480" cy="3049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7846560" y="2286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ph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181160" y="3276720"/>
            <a:ext cx="6781680" cy="133416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n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E    F    F    F    F    B    2    C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10 1111 1111 1111 1111 1011 0010 1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2480" y="5791320"/>
            <a:ext cx="75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Different compilers &amp; machines assign different locations to objec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7520" y="3581280"/>
            <a:ext cx="609480" cy="1218960"/>
            <a:chOff x="317520" y="3581280"/>
            <a:chExt cx="609480" cy="1218960"/>
          </a:xfrm>
        </p:grpSpPr>
        <p:sp>
          <p:nvSpPr>
            <p:cNvPr id="379" name=""/>
            <p:cNvSpPr/>
            <p:nvPr/>
          </p:nvSpPr>
          <p:spPr>
            <a:xfrm>
              <a:off x="317520" y="4190760"/>
              <a:ext cx="609480" cy="3049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7520" y="4495680"/>
              <a:ext cx="609480" cy="3045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2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7520" y="3581280"/>
              <a:ext cx="609480" cy="30456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7520" y="3885840"/>
              <a:ext cx="609480" cy="3049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229320" y="31240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8251920" y="4495680"/>
            <a:ext cx="609480" cy="1218960"/>
            <a:chOff x="8251920" y="4495680"/>
            <a:chExt cx="609480" cy="1218960"/>
          </a:xfrm>
        </p:grpSpPr>
        <p:sp>
          <p:nvSpPr>
            <p:cNvPr id="385" name=""/>
            <p:cNvSpPr/>
            <p:nvPr/>
          </p:nvSpPr>
          <p:spPr>
            <a:xfrm>
              <a:off x="8251920" y="5105160"/>
              <a:ext cx="609480" cy="3049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251920" y="5410080"/>
              <a:ext cx="609480" cy="30456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51920" y="4495680"/>
              <a:ext cx="609480" cy="30456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D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51920" y="4800240"/>
              <a:ext cx="609480" cy="30492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8074440" y="40384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ux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81160" y="4495680"/>
            <a:ext cx="6781680" cy="13341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ux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B    F    F    F    F    8    D    4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1 1111 1111 1111 1111 1000 1101 0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Floa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Float F = 15213.0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62120" y="3733920"/>
            <a:ext cx="6781680" cy="1751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EEE Single Precision Floating Point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1110 1101 1011 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4640" y="5715000"/>
            <a:ext cx="76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ot same as integer representation, but consistent across machin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645080" y="1446120"/>
            <a:ext cx="1692360" cy="1677600"/>
            <a:chOff x="4645080" y="1446120"/>
            <a:chExt cx="1692360" cy="1677600"/>
          </a:xfrm>
        </p:grpSpPr>
        <p:grpSp>
          <p:nvGrpSpPr>
            <p:cNvPr id="396" name=""/>
            <p:cNvGrpSpPr/>
            <p:nvPr/>
          </p:nvGrpSpPr>
          <p:grpSpPr>
            <a:xfrm>
              <a:off x="4876920" y="1905120"/>
              <a:ext cx="609480" cy="1218600"/>
              <a:chOff x="4876920" y="1905120"/>
              <a:chExt cx="609480" cy="1218600"/>
            </a:xfrm>
          </p:grpSpPr>
          <p:sp>
            <p:nvSpPr>
              <p:cNvPr id="397" name=""/>
              <p:cNvSpPr/>
              <p:nvPr/>
            </p:nvSpPr>
            <p:spPr>
              <a:xfrm>
                <a:off x="487692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876920" y="220968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B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76920" y="2514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76920" y="2819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4645080" y="1446120"/>
              <a:ext cx="16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/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6464520" y="1446120"/>
            <a:ext cx="814680" cy="1677960"/>
            <a:chOff x="6464520" y="1446120"/>
            <a:chExt cx="814680" cy="1677960"/>
          </a:xfrm>
        </p:grpSpPr>
        <p:grpSp>
          <p:nvGrpSpPr>
            <p:cNvPr id="403" name=""/>
            <p:cNvGrpSpPr/>
            <p:nvPr/>
          </p:nvGrpSpPr>
          <p:grpSpPr>
            <a:xfrm>
              <a:off x="6553080" y="1905120"/>
              <a:ext cx="609480" cy="1218960"/>
              <a:chOff x="6553080" y="1905120"/>
              <a:chExt cx="609480" cy="1218960"/>
            </a:xfrm>
          </p:grpSpPr>
          <p:sp>
            <p:nvSpPr>
              <p:cNvPr id="404" name=""/>
              <p:cNvSpPr/>
              <p:nvPr/>
            </p:nvSpPr>
            <p:spPr>
              <a:xfrm>
                <a:off x="655308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B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55308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55308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55308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6464520" y="14461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486400" y="2057400"/>
            <a:ext cx="1066680" cy="914400"/>
            <a:chOff x="5486400" y="2057400"/>
            <a:chExt cx="1066680" cy="914400"/>
          </a:xfrm>
        </p:grpSpPr>
        <p:sp>
          <p:nvSpPr>
            <p:cNvPr id="410" name=""/>
            <p:cNvSpPr/>
            <p:nvPr/>
          </p:nvSpPr>
          <p:spPr>
            <a:xfrm>
              <a:off x="5486400" y="205740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86400" y="2362320"/>
              <a:ext cx="106668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5486400" y="2362320"/>
              <a:ext cx="1066680" cy="304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5486400" y="2057400"/>
              <a:ext cx="1066680" cy="9144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761040" y="6095880"/>
            <a:ext cx="72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Can see some relation to integer representation, but not obviou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3733920"/>
            <a:ext cx="6781680" cy="17514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EEE Single Precision Floating Point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1110 1101 1011 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762120" y="3733920"/>
            <a:ext cx="6781680" cy="1828800"/>
            <a:chOff x="762120" y="3733920"/>
            <a:chExt cx="6781680" cy="1828800"/>
          </a:xfrm>
        </p:grpSpPr>
        <p:sp>
          <p:nvSpPr>
            <p:cNvPr id="417" name=""/>
            <p:cNvSpPr/>
            <p:nvPr/>
          </p:nvSpPr>
          <p:spPr>
            <a:xfrm>
              <a:off x="3429000" y="53341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38680" y="53341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29000" y="5410080"/>
              <a:ext cx="2209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2120" y="3733920"/>
              <a:ext cx="6781680" cy="175140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84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EEE Single Precision Floating Point Represent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84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Hex: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4    6    6    D    B    4    0    0   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inary: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100 0110 0</a:t>
              </a: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110 1101 1011 01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 0000 00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10843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213: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	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        1110 1101 1011 0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5486400" y="1066680"/>
            <a:ext cx="3429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char S[6] = "15213"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Strin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4726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ings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ed by array of charac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character encoded in ASCII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ndard 7-bit encoding of character s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encodings exist, but uncomm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acter “0” has cod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x3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git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has cod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3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ing should be null-termina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nal character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tibil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te ordering not an iss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are single byte quantit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xt files generally platform indepen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different conventions of line termination character(s)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80200" y="190332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ux/Alpha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871400" y="190332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8035920" y="2362320"/>
            <a:ext cx="609480" cy="1828800"/>
            <a:chOff x="8035920" y="2362320"/>
            <a:chExt cx="609480" cy="1828800"/>
          </a:xfrm>
        </p:grpSpPr>
        <p:sp>
          <p:nvSpPr>
            <p:cNvPr id="427" name=""/>
            <p:cNvSpPr/>
            <p:nvPr/>
          </p:nvSpPr>
          <p:spPr>
            <a:xfrm>
              <a:off x="8035920" y="29721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35920" y="32767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35920" y="23623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35920" y="26672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035920" y="35816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35920" y="38865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512040" y="2362320"/>
            <a:ext cx="609480" cy="1828800"/>
            <a:chOff x="6512040" y="2362320"/>
            <a:chExt cx="609480" cy="1828800"/>
          </a:xfrm>
        </p:grpSpPr>
        <p:sp>
          <p:nvSpPr>
            <p:cNvPr id="434" name=""/>
            <p:cNvSpPr/>
            <p:nvPr/>
          </p:nvSpPr>
          <p:spPr>
            <a:xfrm>
              <a:off x="6512040" y="29721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12040" y="32767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12040" y="236232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12040" y="26672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2040" y="3581640"/>
              <a:ext cx="60948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12040" y="388656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7121520" y="2514600"/>
            <a:ext cx="914400" cy="1523880"/>
            <a:chOff x="7121520" y="2514600"/>
            <a:chExt cx="914400" cy="1523880"/>
          </a:xfrm>
        </p:grpSpPr>
        <p:sp>
          <p:nvSpPr>
            <p:cNvPr id="441" name=""/>
            <p:cNvSpPr/>
            <p:nvPr/>
          </p:nvSpPr>
          <p:spPr>
            <a:xfrm>
              <a:off x="7121520" y="251460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1520" y="281952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21520" y="312408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21520" y="342900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21520" y="373392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21520" y="4038480"/>
              <a:ext cx="9144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Code Repres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code Program as Sequence of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simple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ithmetic oper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or write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ditional branc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s encoded as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pha’s, Sun’s, Mac’s use 4 byte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duced Instruction Set Computer (RIS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C’s use variable length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lex Instruction Set Computer (CIS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ent instruction types and encodings for different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st code not binary compati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s are Byte Sequences Too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3672000" cy="25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int sum(int x, int y)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return x+y;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66320" y="6019920"/>
            <a:ext cx="74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Different machines use totally different instructions and encoding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645440" y="1446120"/>
            <a:ext cx="1291680" cy="2897280"/>
            <a:chOff x="4645440" y="1446120"/>
            <a:chExt cx="1291680" cy="2897280"/>
          </a:xfrm>
        </p:grpSpPr>
        <p:grpSp>
          <p:nvGrpSpPr>
            <p:cNvPr id="453" name=""/>
            <p:cNvGrpSpPr/>
            <p:nvPr/>
          </p:nvGrpSpPr>
          <p:grpSpPr>
            <a:xfrm>
              <a:off x="4876920" y="1905120"/>
              <a:ext cx="609480" cy="1218600"/>
              <a:chOff x="4876920" y="1905120"/>
              <a:chExt cx="609480" cy="1218600"/>
            </a:xfrm>
          </p:grpSpPr>
          <p:sp>
            <p:nvSpPr>
              <p:cNvPr id="454" name=""/>
              <p:cNvSpPr/>
              <p:nvPr/>
            </p:nvSpPr>
            <p:spPr>
              <a:xfrm>
                <a:off x="487692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876920" y="2209680"/>
                <a:ext cx="609480" cy="30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876920" y="251424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876920" y="281916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4645440" y="1446120"/>
              <a:ext cx="12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lph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4876920" y="3124080"/>
              <a:ext cx="609480" cy="1219320"/>
              <a:chOff x="4876920" y="3124080"/>
              <a:chExt cx="609480" cy="1219320"/>
            </a:xfrm>
          </p:grpSpPr>
          <p:sp>
            <p:nvSpPr>
              <p:cNvPr id="460" name=""/>
              <p:cNvSpPr/>
              <p:nvPr/>
            </p:nvSpPr>
            <p:spPr>
              <a:xfrm>
                <a:off x="487692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87692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87692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87692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6327720" y="1446120"/>
            <a:ext cx="1089000" cy="2897280"/>
            <a:chOff x="6327720" y="1446120"/>
            <a:chExt cx="1089000" cy="2897280"/>
          </a:xfrm>
        </p:grpSpPr>
        <p:grpSp>
          <p:nvGrpSpPr>
            <p:cNvPr id="465" name=""/>
            <p:cNvGrpSpPr/>
            <p:nvPr/>
          </p:nvGrpSpPr>
          <p:grpSpPr>
            <a:xfrm>
              <a:off x="6553080" y="1905120"/>
              <a:ext cx="609480" cy="1218960"/>
              <a:chOff x="6553080" y="1905120"/>
              <a:chExt cx="609480" cy="1218960"/>
            </a:xfrm>
          </p:grpSpPr>
          <p:sp>
            <p:nvSpPr>
              <p:cNvPr id="466" name=""/>
              <p:cNvSpPr/>
              <p:nvPr/>
            </p:nvSpPr>
            <p:spPr>
              <a:xfrm>
                <a:off x="655308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5308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55308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5308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6327720" y="1446120"/>
              <a:ext cx="108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un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553080" y="3124080"/>
              <a:ext cx="609480" cy="1219320"/>
              <a:chOff x="6553080" y="3124080"/>
              <a:chExt cx="609480" cy="1219320"/>
            </a:xfrm>
          </p:grpSpPr>
          <p:sp>
            <p:nvSpPr>
              <p:cNvPr id="472" name=""/>
              <p:cNvSpPr/>
              <p:nvPr/>
            </p:nvSpPr>
            <p:spPr>
              <a:xfrm>
                <a:off x="655308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55308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55308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55308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6" name=""/>
          <p:cNvSpPr/>
          <p:nvPr/>
        </p:nvSpPr>
        <p:spPr>
          <a:xfrm>
            <a:off x="0" y="2590920"/>
            <a:ext cx="4572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lvl="1" marL="595440" indent="-1965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this example, Alpha &amp; Sun use two 4-byte instruction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differing numbers of instructions in other ca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95440" indent="-1965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C uses 7 instructions with lengths 1, 2, and 3 byt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me for NT and for Linu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6920" indent="-190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T / Linux not fully binary compati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7817400" y="1447920"/>
            <a:ext cx="973080" cy="4419360"/>
            <a:chOff x="7817400" y="1447920"/>
            <a:chExt cx="973080" cy="4419360"/>
          </a:xfrm>
        </p:grpSpPr>
        <p:grpSp>
          <p:nvGrpSpPr>
            <p:cNvPr id="478" name=""/>
            <p:cNvGrpSpPr/>
            <p:nvPr/>
          </p:nvGrpSpPr>
          <p:grpSpPr>
            <a:xfrm>
              <a:off x="7985160" y="1905120"/>
              <a:ext cx="609480" cy="1218960"/>
              <a:chOff x="7985160" y="1905120"/>
              <a:chExt cx="609480" cy="1218960"/>
            </a:xfrm>
          </p:grpSpPr>
          <p:sp>
            <p:nvSpPr>
              <p:cNvPr id="479" name=""/>
              <p:cNvSpPr/>
              <p:nvPr/>
            </p:nvSpPr>
            <p:spPr>
              <a:xfrm>
                <a:off x="7985160" y="25146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985160" y="28195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985160" y="19051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985160" y="22096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7817400" y="1447920"/>
              <a:ext cx="97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u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7985160" y="3124080"/>
              <a:ext cx="609480" cy="1219320"/>
              <a:chOff x="7985160" y="3124080"/>
              <a:chExt cx="609480" cy="1219320"/>
            </a:xfrm>
          </p:grpSpPr>
          <p:sp>
            <p:nvSpPr>
              <p:cNvPr id="485" name=""/>
              <p:cNvSpPr/>
              <p:nvPr/>
            </p:nvSpPr>
            <p:spPr>
              <a:xfrm>
                <a:off x="7985160" y="31240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985160" y="342900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C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985160" y="373356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985160" y="40384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8001000" y="4343400"/>
              <a:ext cx="609480" cy="1219320"/>
              <a:chOff x="8001000" y="4343400"/>
              <a:chExt cx="609480" cy="1219320"/>
            </a:xfrm>
          </p:grpSpPr>
          <p:sp>
            <p:nvSpPr>
              <p:cNvPr id="490" name=""/>
              <p:cNvSpPr/>
              <p:nvPr/>
            </p:nvSpPr>
            <p:spPr>
              <a:xfrm>
                <a:off x="8001000" y="43434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001000" y="4648320"/>
                <a:ext cx="609480" cy="3045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001000" y="495288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C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001000" y="5257800"/>
                <a:ext cx="609480" cy="304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4" name=""/>
            <p:cNvSpPr/>
            <p:nvPr/>
          </p:nvSpPr>
          <p:spPr>
            <a:xfrm>
              <a:off x="8001000" y="5562720"/>
              <a:ext cx="6094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Don’t Computers Use Base 10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 10 Number 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at’s why fingers are known as “digit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atural representation for financial transa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ing point number cannot exactly represent $1.2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carries through in scientific no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5213 X 10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ing Electronical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sto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IAC (First electronic computer) used 10 vacuum tubes / dig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transm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 high precision to encode 10 signal levels on single wi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ssy to implement digital logic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ition, multiplication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oolean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7600" y="99072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veloped by George Boole in 19th Centu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gebraic representation of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ode “True” as 1 and “False” as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228600" y="2133720"/>
            <a:ext cx="4432320" cy="2214360"/>
            <a:chOff x="228600" y="2133720"/>
            <a:chExt cx="4432320" cy="2214360"/>
          </a:xfrm>
        </p:grpSpPr>
        <p:sp>
          <p:nvSpPr>
            <p:cNvPr id="498" name=""/>
            <p:cNvSpPr/>
            <p:nvPr/>
          </p:nvSpPr>
          <p:spPr>
            <a:xfrm>
              <a:off x="228600" y="2133720"/>
              <a:ext cx="4432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5000"/>
            </a:bodyPr>
            <a:p>
              <a:pPr marL="327960" indent="-32796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An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632520" indent="-20880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&amp;B = 1 when both A=1 and B=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499" name=""/>
            <p:cNvGraphicFramePr/>
            <p:nvPr/>
          </p:nvGraphicFramePr>
          <p:xfrm>
            <a:off x="1752480" y="2971800"/>
            <a:ext cx="1397160" cy="13762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971800"/>
                      <a:ext cx="1397160" cy="13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1" name=""/>
          <p:cNvGrpSpPr/>
          <p:nvPr/>
        </p:nvGrpSpPr>
        <p:grpSpPr>
          <a:xfrm>
            <a:off x="228600" y="4038480"/>
            <a:ext cx="4432320" cy="2291040"/>
            <a:chOff x="228600" y="4038480"/>
            <a:chExt cx="4432320" cy="2291040"/>
          </a:xfrm>
        </p:grpSpPr>
        <p:graphicFrame>
          <p:nvGraphicFramePr>
            <p:cNvPr id="502" name=""/>
            <p:cNvGraphicFramePr/>
            <p:nvPr/>
          </p:nvGraphicFramePr>
          <p:xfrm>
            <a:off x="1752480" y="4952880"/>
            <a:ext cx="1397160" cy="137664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5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2480" y="4952880"/>
                      <a:ext cx="1397160" cy="13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4" name=""/>
            <p:cNvSpPr/>
            <p:nvPr/>
          </p:nvSpPr>
          <p:spPr>
            <a:xfrm>
              <a:off x="228600" y="4038480"/>
              <a:ext cx="44323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85920" indent="-38592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No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744480" indent="-24588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~A = 1 when A=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419720" y="2133720"/>
            <a:ext cx="4432320" cy="2209680"/>
            <a:chOff x="4419720" y="2133720"/>
            <a:chExt cx="4432320" cy="2209680"/>
          </a:xfrm>
        </p:grpSpPr>
        <p:sp>
          <p:nvSpPr>
            <p:cNvPr id="506" name=""/>
            <p:cNvSpPr/>
            <p:nvPr/>
          </p:nvSpPr>
          <p:spPr>
            <a:xfrm>
              <a:off x="4419720" y="2133720"/>
              <a:ext cx="4432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93000"/>
            </a:bodyPr>
            <a:p>
              <a:pPr marL="358560" indent="-35856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Or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692280" indent="-22860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|B = 1 when either A=1 or B=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507" name=""/>
            <p:cNvGraphicFramePr/>
            <p:nvPr/>
          </p:nvGraphicFramePr>
          <p:xfrm>
            <a:off x="5918040" y="2967120"/>
            <a:ext cx="1397160" cy="137628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50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18040" y="2967120"/>
                      <a:ext cx="1397160" cy="13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9" name=""/>
          <p:cNvGrpSpPr/>
          <p:nvPr/>
        </p:nvGrpSpPr>
        <p:grpSpPr>
          <a:xfrm>
            <a:off x="4419720" y="4191120"/>
            <a:ext cx="4432320" cy="2514600"/>
            <a:chOff x="4419720" y="4191120"/>
            <a:chExt cx="4432320" cy="2514600"/>
          </a:xfrm>
        </p:grpSpPr>
        <p:graphicFrame>
          <p:nvGraphicFramePr>
            <p:cNvPr id="510" name=""/>
            <p:cNvGraphicFramePr/>
            <p:nvPr/>
          </p:nvGraphicFramePr>
          <p:xfrm>
            <a:off x="5638680" y="5329080"/>
            <a:ext cx="1397160" cy="137664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5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38680" y="5329080"/>
                      <a:ext cx="1397160" cy="13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2" name=""/>
            <p:cNvSpPr/>
            <p:nvPr/>
          </p:nvSpPr>
          <p:spPr>
            <a:xfrm>
              <a:off x="4419720" y="4191120"/>
              <a:ext cx="44323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72000"/>
            </a:bodyPr>
            <a:p>
              <a:pPr marL="277560" indent="-27756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Exclusive-Or (Xor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1" marL="535680" indent="-176760">
                <a:lnSpc>
                  <a:spcPct val="100000"/>
                </a:lnSpc>
                <a:spcBef>
                  <a:spcPts val="624"/>
                </a:spcBef>
                <a:buClr>
                  <a:srgbClr val="660033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^B = 1 when either A=1 or B=1, but not both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1539720" y="3228480"/>
            <a:ext cx="3048120" cy="1143360"/>
            <a:chOff x="1539720" y="3228480"/>
            <a:chExt cx="3048120" cy="1143360"/>
          </a:xfrm>
        </p:grpSpPr>
        <p:sp>
          <p:nvSpPr>
            <p:cNvPr id="514" name=""/>
            <p:cNvSpPr/>
            <p:nvPr/>
          </p:nvSpPr>
          <p:spPr>
            <a:xfrm flipV="1">
              <a:off x="1996920" y="3228480"/>
              <a:ext cx="106668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96920" y="3838320"/>
              <a:ext cx="1066680" cy="5335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63600" y="3228840"/>
              <a:ext cx="1067040" cy="533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3063600" y="3762000"/>
              <a:ext cx="1067040" cy="6098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38280" y="327636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54120" y="39906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~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16240" y="327636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~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32080" y="39906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130640" y="3762000"/>
              <a:ext cx="304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92000" y="3838320"/>
              <a:ext cx="304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39720" y="3762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35200" y="36860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4956480" y="2895480"/>
            <a:ext cx="271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nnection wh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&amp;~B | ~A&amp;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pplication of Boolean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ied to Digital Systems by Claude Shann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937 MIT Master’s Thes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son about networks of relay swit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ode closed switch as 1, open switch as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676520" y="2743200"/>
            <a:ext cx="2819160" cy="838080"/>
            <a:chOff x="1676520" y="2743200"/>
            <a:chExt cx="2819160" cy="838080"/>
          </a:xfrm>
        </p:grpSpPr>
        <p:sp>
          <p:nvSpPr>
            <p:cNvPr id="530" name=""/>
            <p:cNvSpPr/>
            <p:nvPr/>
          </p:nvSpPr>
          <p:spPr>
            <a:xfrm>
              <a:off x="1676520" y="3124080"/>
              <a:ext cx="2819160" cy="457200"/>
            </a:xfrm>
            <a:custGeom>
              <a:avLst/>
              <a:gdLst/>
              <a:ahLst/>
              <a:rect l="l" t="t" r="r" b="b"/>
              <a:pathLst>
                <a:path w="1776" h="288">
                  <a:moveTo>
                    <a:pt x="0" y="288"/>
                  </a:moveTo>
                  <a:lnTo>
                    <a:pt x="288" y="288"/>
                  </a:lnTo>
                  <a:cubicBezTo>
                    <a:pt x="440" y="240"/>
                    <a:pt x="731" y="0"/>
                    <a:pt x="912" y="0"/>
                  </a:cubicBezTo>
                  <a:cubicBezTo>
                    <a:pt x="1093" y="0"/>
                    <a:pt x="1392" y="200"/>
                    <a:pt x="1536" y="240"/>
                  </a:cubicBezTo>
                  <a:lnTo>
                    <a:pt x="1776" y="240"/>
                  </a:lnTo>
                </a:path>
              </a:pathLst>
            </a:custGeom>
            <a:noFill/>
            <a:ln w="2844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16640" y="2743200"/>
              <a:ext cx="720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A&amp;~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600200" y="4038480"/>
            <a:ext cx="2819520" cy="874080"/>
            <a:chOff x="1600200" y="4038480"/>
            <a:chExt cx="2819520" cy="874080"/>
          </a:xfrm>
        </p:grpSpPr>
        <p:sp>
          <p:nvSpPr>
            <p:cNvPr id="533" name=""/>
            <p:cNvSpPr/>
            <p:nvPr/>
          </p:nvSpPr>
          <p:spPr>
            <a:xfrm flipV="1">
              <a:off x="1600200" y="4038480"/>
              <a:ext cx="2819520" cy="457200"/>
            </a:xfrm>
            <a:custGeom>
              <a:avLst/>
              <a:gdLst/>
              <a:ahLst/>
              <a:rect l="l" t="t" r="r" b="b"/>
              <a:pathLst>
                <a:path w="1776" h="288">
                  <a:moveTo>
                    <a:pt x="0" y="288"/>
                  </a:moveTo>
                  <a:lnTo>
                    <a:pt x="288" y="288"/>
                  </a:lnTo>
                  <a:cubicBezTo>
                    <a:pt x="440" y="240"/>
                    <a:pt x="731" y="0"/>
                    <a:pt x="912" y="0"/>
                  </a:cubicBezTo>
                  <a:cubicBezTo>
                    <a:pt x="1093" y="0"/>
                    <a:pt x="1392" y="200"/>
                    <a:pt x="1536" y="240"/>
                  </a:cubicBezTo>
                  <a:lnTo>
                    <a:pt x="1776" y="240"/>
                  </a:lnTo>
                </a:path>
              </a:pathLst>
            </a:custGeom>
            <a:noFill/>
            <a:ln w="2844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16640" y="4572000"/>
              <a:ext cx="720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~A&amp;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5105520" y="44956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= A^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7821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ger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ger Arithmet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28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Z, +, *, –, 0, 1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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ms a “ring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on is “sum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is “product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identity for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identity fo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77821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oolean Algebr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31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69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Algebr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2890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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0,1}, |, &amp;, ~, 0, 1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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s a “Boolean algebra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 is “sum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is “product”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 is “complement” operation (not additive invers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identity for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28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identity fo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0">
              <a:spcBef>
                <a:spcPts val="624"/>
              </a:spcBef>
              <a:buNone/>
              <a:tabLst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69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06640"/>
                <a:tab algn="l" pos="5321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960" y="871560"/>
            <a:ext cx="88390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ommutativ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B    =  B |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B  =  B +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B    =  B &amp;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B  =  B *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ssociativ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|  B)  | C    =  A | (B |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+ B) + C  =  A + (B +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&amp; B) &amp; C    =  A &amp; (B &amp;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* B) * C  =  A * (B *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roduct distributes over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(B | C)  =  (A &amp; B) | (A &amp;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(B + C)  =  A * B + B *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um and product identi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0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0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1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1  = A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Zero is product annihila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0  = 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0  = 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-28008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ancellation of neg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5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 (~ A)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– (– A)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38080" y="228600"/>
            <a:ext cx="6782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35942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Boolean Algebra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Symbol"/>
                <a:ea typeface="Symbol"/>
              </a:rPr>
              <a:t>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teger R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952280" y="323640"/>
            <a:ext cx="528012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5960" y="837720"/>
            <a:ext cx="8762760" cy="522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um distributes ov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(B &amp; C)  =  (A | B) &amp; (A | C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(B * C)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(A + B) * (B +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Idempot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A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+ 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1160" indent="-158400">
              <a:lnSpc>
                <a:spcPct val="97000"/>
              </a:lnSpc>
              <a:spcBef>
                <a:spcPts val="224"/>
              </a:spcBef>
              <a:buClr>
                <a:srgbClr val="003300"/>
              </a:buClr>
              <a:buSzPct val="90000"/>
              <a:buFont typeface="Wingdings" charset="2"/>
              <a:buChar char="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is true” or “A is true” = “A is tru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A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* 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bsor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(A &amp; B)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(A * B)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1160" indent="-158400">
              <a:lnSpc>
                <a:spcPct val="97000"/>
              </a:lnSpc>
              <a:spcBef>
                <a:spcPts val="224"/>
              </a:spcBef>
              <a:buClr>
                <a:srgbClr val="003300"/>
              </a:buClr>
              <a:buSzPct val="90000"/>
              <a:buFont typeface="Wingdings" charset="2"/>
              <a:buChar char="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is true” or “A is true and B is true” = “A is tru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(A | B)  =  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* (A + B)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olean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Laws of Comp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~A  =  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 + –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1160" indent="-158400">
              <a:lnSpc>
                <a:spcPct val="97000"/>
              </a:lnSpc>
              <a:spcBef>
                <a:spcPts val="224"/>
              </a:spcBef>
              <a:buClr>
                <a:srgbClr val="003300"/>
              </a:buClr>
              <a:buSzPct val="90000"/>
              <a:buFont typeface="Wingdings" charset="2"/>
              <a:buChar char="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is true” or “A is fals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50080" indent="-277200">
              <a:lnSpc>
                <a:spcPct val="90000"/>
              </a:lnSpc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ing: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very element has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0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143000"/>
                <a:tab algn="l" pos="4921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| ~A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+ –A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066680" y="228600"/>
            <a:ext cx="6782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359424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Boolean Algebra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teger R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9520" y="457200"/>
            <a:ext cx="6658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perties of &amp; and ^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920" y="4572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149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4000" indent="-2541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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{0,1}, ^, &amp;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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0, 1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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dentical to integers mod 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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identity operation: </a:t>
            </a:r>
            <a:r>
              <a:rPr b="1" i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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) =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52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A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149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perty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 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^ B  =  B ^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 produ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B  =  B &amp;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 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^ B) ^ C  =  A ^ (B ^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 produ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A &amp; B) &amp; C  =  A &amp; (B &amp;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. over s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(B ^ C)  =  (A &amp; B) ^ (B &amp; 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sum ident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^ 0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prod. ident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1  =  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product annihilat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&amp; 0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4000" indent="-254160">
              <a:spcBef>
                <a:spcPts val="624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3657600"/>
                <a:tab algn="l" pos="5537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ve inver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^ A  = 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lations Between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Morgan’s Law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 &amp; in terms of |, and vice-vers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&amp; B  =  ~(~A | ~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and B are true if and only if neither A nor B is fal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| B  =  ~(~A &amp; ~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or B are true if and only if A and B are not both fal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clusive-Or using Inclusive 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B  =  (~A &amp; B) | (A &amp; ~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ctly one of A and B is tru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B  =  (A | B) &amp; ~(A &amp; B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ither A is true, or B is true, but not bot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70563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Boolean Algebra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167680" cy="49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e on Bit Vec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ons applied bitwi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of the Properties of Boolean Algebra App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6356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01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1000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3298680"/>
            <a:ext cx="15242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9236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01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|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1111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6880" y="3298680"/>
            <a:ext cx="152424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2116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01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^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0011110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298680"/>
            <a:ext cx="1523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325920" y="2666880"/>
            <a:ext cx="17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 01010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101010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400800" y="3298680"/>
            <a:ext cx="1600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3560" y="335268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10000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897280" y="3352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111110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26080" y="3352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011110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630840" y="3352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1010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80010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ing &amp; Manipulating S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167680" cy="492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dt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 vector represents subsets of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0, …,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1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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01101001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{ 0, 3, 5, 6 }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49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5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21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49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01010101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{ 0, 2, 4, 6 }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49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&amp;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se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00000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0, 6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|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111110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0, 2, 3, 4, 5, 6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^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mmetric differen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111100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2, 3, 4, 5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~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leme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101010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{ 1, 3, 5, 7 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1255680"/>
                <a:tab algn="l" pos="1774800"/>
                <a:tab algn="l" pos="4113360"/>
                <a:tab algn="l" pos="5484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nary Represent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e 2 Number 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 15213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s 1110110110110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 1.2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s 1.0011001100110011[001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 1.5213 X 10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as 1.110110110110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lectronic 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store with bistable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iably transmitted on noisy and inaccurate wire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80680" indent="-191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ightforward implementation of arithmetic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63920" y="4114800"/>
            <a:ext cx="6856200" cy="2197080"/>
            <a:chOff x="763920" y="4114800"/>
            <a:chExt cx="6856200" cy="2197080"/>
          </a:xfrm>
        </p:grpSpPr>
        <p:sp>
          <p:nvSpPr>
            <p:cNvPr id="87" name=""/>
            <p:cNvSpPr/>
            <p:nvPr/>
          </p:nvSpPr>
          <p:spPr>
            <a:xfrm>
              <a:off x="1676520" y="5715000"/>
              <a:ext cx="5943600" cy="38124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76520" y="4724640"/>
              <a:ext cx="5943600" cy="38088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4883400"/>
              <a:ext cx="5924520" cy="1136520"/>
            </a:xfrm>
            <a:custGeom>
              <a:avLst/>
              <a:gdLst/>
              <a:ahLst/>
              <a:rect l="l" t="t" r="r" b="b"/>
              <a:pathLst>
                <a:path w="3578" h="716">
                  <a:moveTo>
                    <a:pt x="0" y="706"/>
                  </a:moveTo>
                  <a:cubicBezTo>
                    <a:pt x="54" y="694"/>
                    <a:pt x="101" y="657"/>
                    <a:pt x="157" y="653"/>
                  </a:cubicBezTo>
                  <a:cubicBezTo>
                    <a:pt x="202" y="649"/>
                    <a:pt x="248" y="646"/>
                    <a:pt x="294" y="643"/>
                  </a:cubicBezTo>
                  <a:cubicBezTo>
                    <a:pt x="377" y="658"/>
                    <a:pt x="462" y="670"/>
                    <a:pt x="547" y="685"/>
                  </a:cubicBezTo>
                  <a:cubicBezTo>
                    <a:pt x="628" y="655"/>
                    <a:pt x="660" y="660"/>
                    <a:pt x="768" y="653"/>
                  </a:cubicBezTo>
                  <a:cubicBezTo>
                    <a:pt x="792" y="648"/>
                    <a:pt x="875" y="632"/>
                    <a:pt x="894" y="632"/>
                  </a:cubicBezTo>
                  <a:cubicBezTo>
                    <a:pt x="938" y="632"/>
                    <a:pt x="977" y="659"/>
                    <a:pt x="1021" y="664"/>
                  </a:cubicBezTo>
                  <a:cubicBezTo>
                    <a:pt x="1073" y="669"/>
                    <a:pt x="1125" y="670"/>
                    <a:pt x="1178" y="674"/>
                  </a:cubicBezTo>
                  <a:cubicBezTo>
                    <a:pt x="1209" y="670"/>
                    <a:pt x="1241" y="669"/>
                    <a:pt x="1273" y="664"/>
                  </a:cubicBezTo>
                  <a:cubicBezTo>
                    <a:pt x="1284" y="662"/>
                    <a:pt x="1298" y="661"/>
                    <a:pt x="1305" y="653"/>
                  </a:cubicBezTo>
                  <a:cubicBezTo>
                    <a:pt x="1324" y="628"/>
                    <a:pt x="1329" y="595"/>
                    <a:pt x="1347" y="569"/>
                  </a:cubicBezTo>
                  <a:cubicBezTo>
                    <a:pt x="1416" y="462"/>
                    <a:pt x="1419" y="362"/>
                    <a:pt x="1463" y="253"/>
                  </a:cubicBezTo>
                  <a:cubicBezTo>
                    <a:pt x="1480" y="209"/>
                    <a:pt x="1520" y="153"/>
                    <a:pt x="1547" y="116"/>
                  </a:cubicBezTo>
                  <a:cubicBezTo>
                    <a:pt x="1568" y="86"/>
                    <a:pt x="1605" y="60"/>
                    <a:pt x="1642" y="53"/>
                  </a:cubicBezTo>
                  <a:cubicBezTo>
                    <a:pt x="1704" y="40"/>
                    <a:pt x="1831" y="21"/>
                    <a:pt x="1831" y="21"/>
                  </a:cubicBezTo>
                  <a:cubicBezTo>
                    <a:pt x="1897" y="24"/>
                    <a:pt x="1964" y="26"/>
                    <a:pt x="2031" y="32"/>
                  </a:cubicBezTo>
                  <a:cubicBezTo>
                    <a:pt x="2045" y="33"/>
                    <a:pt x="2058" y="42"/>
                    <a:pt x="2073" y="42"/>
                  </a:cubicBezTo>
                  <a:cubicBezTo>
                    <a:pt x="2130" y="42"/>
                    <a:pt x="2194" y="20"/>
                    <a:pt x="2252" y="11"/>
                  </a:cubicBezTo>
                  <a:cubicBezTo>
                    <a:pt x="2274" y="17"/>
                    <a:pt x="2292" y="35"/>
                    <a:pt x="2315" y="42"/>
                  </a:cubicBezTo>
                  <a:cubicBezTo>
                    <a:pt x="2338" y="49"/>
                    <a:pt x="2364" y="49"/>
                    <a:pt x="2389" y="53"/>
                  </a:cubicBezTo>
                  <a:cubicBezTo>
                    <a:pt x="2450" y="36"/>
                    <a:pt x="2493" y="31"/>
                    <a:pt x="2557" y="42"/>
                  </a:cubicBezTo>
                  <a:cubicBezTo>
                    <a:pt x="2578" y="49"/>
                    <a:pt x="2598" y="71"/>
                    <a:pt x="2620" y="64"/>
                  </a:cubicBezTo>
                  <a:cubicBezTo>
                    <a:pt x="2654" y="52"/>
                    <a:pt x="2679" y="18"/>
                    <a:pt x="2715" y="11"/>
                  </a:cubicBezTo>
                  <a:cubicBezTo>
                    <a:pt x="2732" y="7"/>
                    <a:pt x="2750" y="3"/>
                    <a:pt x="2768" y="0"/>
                  </a:cubicBezTo>
                  <a:cubicBezTo>
                    <a:pt x="2929" y="161"/>
                    <a:pt x="2957" y="167"/>
                    <a:pt x="3041" y="411"/>
                  </a:cubicBezTo>
                  <a:cubicBezTo>
                    <a:pt x="3071" y="498"/>
                    <a:pt x="3069" y="597"/>
                    <a:pt x="3157" y="643"/>
                  </a:cubicBezTo>
                  <a:cubicBezTo>
                    <a:pt x="3289" y="619"/>
                    <a:pt x="3221" y="590"/>
                    <a:pt x="3347" y="716"/>
                  </a:cubicBezTo>
                  <a:cubicBezTo>
                    <a:pt x="3378" y="712"/>
                    <a:pt x="3411" y="716"/>
                    <a:pt x="3441" y="706"/>
                  </a:cubicBezTo>
                  <a:cubicBezTo>
                    <a:pt x="3452" y="701"/>
                    <a:pt x="3452" y="681"/>
                    <a:pt x="3462" y="674"/>
                  </a:cubicBezTo>
                  <a:cubicBezTo>
                    <a:pt x="3489" y="652"/>
                    <a:pt x="3545" y="653"/>
                    <a:pt x="3578" y="653"/>
                  </a:cubicBez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1447560" y="609624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447560" y="472464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3920" y="59436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0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3920" y="55627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.5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3920" y="4953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2.8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3920" y="45720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3.3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6520" y="4267440"/>
              <a:ext cx="22096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91120" y="4267440"/>
              <a:ext cx="22860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81680" y="4267440"/>
              <a:ext cx="7621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86200" y="4191120"/>
              <a:ext cx="0" cy="1600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91120" y="4191120"/>
              <a:ext cx="0" cy="914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7120" y="4191120"/>
              <a:ext cx="0" cy="914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81680" y="4191120"/>
              <a:ext cx="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14600" y="41148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4114800"/>
              <a:ext cx="47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10280" y="4114800"/>
              <a:ext cx="304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447560" y="57150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447560" y="51055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323640"/>
            <a:ext cx="67770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t-Level Operations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 &amp;,  |,  ~,  ^ Available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y to any “integral”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ng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hor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ha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ew arguments as bit vec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s applied bit-wi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(Char data typ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0x41 --&gt;  0xB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~01000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011111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~0x00 --&gt;  0xF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~0000000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--&gt;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111111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&amp; 0x55  --&gt;  0x4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1101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&amp; 010101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--&gt; 01000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| 0x55  --&gt;  0x7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11010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| 010101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--&gt; 01111101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577960"/>
                <a:tab algn="l" pos="320040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323640"/>
            <a:ext cx="765324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ast: Logic Operations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8942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ast to Logical Opera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&amp;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||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ew 0 as “Fals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ything nonzero as “Tru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ways return 0 or 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65960" indent="-2214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rly termin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8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(char data typ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0x41  --&gt;  0x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0x00 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!!0x41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&amp;&amp; 0x55 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69 || 0x55  --&gt;  0x0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-2286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 &amp;&amp; *p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s null pointer acces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2280" indent="0">
              <a:spcBef>
                <a:spcPts val="624"/>
              </a:spcBef>
              <a:buNone/>
              <a:tabLst>
                <a:tab algn="l" pos="1998720"/>
                <a:tab algn="l" pos="2573280"/>
                <a:tab algn="l" pos="4521240"/>
                <a:tab algn="l" pos="5943600"/>
                <a:tab algn="l" pos="645156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520" y="323640"/>
            <a:ext cx="605340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ift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9672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eft Shift: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x &lt;&lt; 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bit-vect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ef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ow away extra bits on lef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ll with 0’s on righ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ight Shift: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x &gt;&gt; 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bit-vect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igh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ow away extra bits on righ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 shi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ll with 0’s on lef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9360" indent="-240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 shi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licate most significant bit on righ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-233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ful with two’s complement integer represen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2320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2065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781680" y="13716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410080" y="13716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umen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7816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100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&lt;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816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4100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g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7816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4100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ith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81680" y="35812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10080" y="35812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gumen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4100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lt;&lt;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816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4100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g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816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100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rith.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gt;&g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816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81680" y="18288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816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81680" y="22860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816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781680" y="274320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816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816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0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781680" y="44956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81680" y="4952880"/>
            <a:ext cx="137160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323640"/>
            <a:ext cx="58755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ol Stuff with X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343400" y="1447920"/>
            <a:ext cx="4267080" cy="21333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void funny(int *x, int *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*x = *x ^ *y;    /* #1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*y = *x ^ *y;    /* #2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*x = *x ^ *y;    /* #3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365280" cy="19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wise Xor is form of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th extra property that every value is its own additive inve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^ A =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952880" y="4343400"/>
            <a:ext cx="221004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743200" y="4343400"/>
            <a:ext cx="220968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828800" y="4343400"/>
            <a:ext cx="914400" cy="38088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743200" y="4724280"/>
            <a:ext cx="4419720" cy="381240"/>
            <a:chOff x="2743200" y="4724280"/>
            <a:chExt cx="4419720" cy="381240"/>
          </a:xfrm>
        </p:grpSpPr>
        <p:sp>
          <p:nvSpPr>
            <p:cNvPr id="607" name=""/>
            <p:cNvSpPr/>
            <p:nvPr/>
          </p:nvSpPr>
          <p:spPr>
            <a:xfrm>
              <a:off x="4952880" y="4724280"/>
              <a:ext cx="221004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43200" y="4724280"/>
              <a:ext cx="2209680" cy="38124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^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828800" y="4724280"/>
            <a:ext cx="914400" cy="38124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2743200" y="5105520"/>
            <a:ext cx="4419720" cy="380880"/>
            <a:chOff x="2743200" y="5105520"/>
            <a:chExt cx="4419720" cy="380880"/>
          </a:xfrm>
        </p:grpSpPr>
        <p:sp>
          <p:nvSpPr>
            <p:cNvPr id="611" name=""/>
            <p:cNvSpPr/>
            <p:nvPr/>
          </p:nvSpPr>
          <p:spPr>
            <a:xfrm>
              <a:off x="4952880" y="5105520"/>
              <a:ext cx="2210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(A^B)^B = 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743200" y="5105520"/>
              <a:ext cx="2209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^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1828800" y="5105520"/>
            <a:ext cx="914400" cy="38088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743200" y="5486400"/>
            <a:ext cx="4419720" cy="380880"/>
            <a:chOff x="2743200" y="5486400"/>
            <a:chExt cx="4419720" cy="380880"/>
          </a:xfrm>
        </p:grpSpPr>
        <p:sp>
          <p:nvSpPr>
            <p:cNvPr id="615" name=""/>
            <p:cNvSpPr/>
            <p:nvPr/>
          </p:nvSpPr>
          <p:spPr>
            <a:xfrm>
              <a:off x="4952880" y="5486400"/>
              <a:ext cx="221004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43200" y="5486400"/>
              <a:ext cx="2209680" cy="3808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(A^B)^A = 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828800" y="5486400"/>
            <a:ext cx="914400" cy="38088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743200" y="5867280"/>
            <a:ext cx="4419720" cy="381240"/>
            <a:chOff x="2743200" y="5867280"/>
            <a:chExt cx="4419720" cy="381240"/>
          </a:xfrm>
        </p:grpSpPr>
        <p:sp>
          <p:nvSpPr>
            <p:cNvPr id="619" name=""/>
            <p:cNvSpPr/>
            <p:nvPr/>
          </p:nvSpPr>
          <p:spPr>
            <a:xfrm>
              <a:off x="4952880" y="5867280"/>
              <a:ext cx="2210040" cy="3812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743200" y="5867280"/>
              <a:ext cx="2209680" cy="38124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1828800" y="5867280"/>
            <a:ext cx="914400" cy="381240"/>
          </a:xfrm>
          <a:prstGeom prst="rect">
            <a:avLst/>
          </a:prstGeom>
          <a:solidFill>
            <a:srgbClr val="ff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52880" y="3962520"/>
            <a:ext cx="221004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3962520"/>
            <a:ext cx="2209680" cy="3808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in Poi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’s All About Bits &amp; By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fferent Machines Follow Different Conven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d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te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Algebra is Mathematical Ba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c form encodes “false” as 0, “true” as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l form like bit-level operations in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od for representing &amp; manipulating se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-Oriented Memory Organiz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s Refer to Virtual Addre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eptually very large array of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ually implemented with hierarchy of different memory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RAM, DRAM, dis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allocate for regions actually used by progra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Unix and Windows NT, address space private to particular “proces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gram being execu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gram can clobber its own data, but not that of oth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iler + Run-Time System Control Allo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re different program objects should be sto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mechanisms: static, stack, and hea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any case, all allocation within single virtual address spa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ncoding Byte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yte = 8 bi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00000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1111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imal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55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xadecima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F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ase 16 number represen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characters ‘0’ to ‘9’ and ‘A’ to ‘F’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FA1D37B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16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n C a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0xFA1D37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fa1d37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705720" y="1064880"/>
            <a:ext cx="1866600" cy="4551840"/>
            <a:chOff x="6705720" y="1064880"/>
            <a:chExt cx="1866600" cy="4551840"/>
          </a:xfrm>
        </p:grpSpPr>
        <p:grpSp>
          <p:nvGrpSpPr>
            <p:cNvPr id="113" name=""/>
            <p:cNvGrpSpPr/>
            <p:nvPr/>
          </p:nvGrpSpPr>
          <p:grpSpPr>
            <a:xfrm>
              <a:off x="6705720" y="1959120"/>
              <a:ext cx="1752480" cy="3657600"/>
              <a:chOff x="6705720" y="1959120"/>
              <a:chExt cx="1752480" cy="3657600"/>
            </a:xfrm>
          </p:grpSpPr>
          <p:sp>
            <p:nvSpPr>
              <p:cNvPr id="114" name=""/>
              <p:cNvSpPr/>
              <p:nvPr/>
            </p:nvSpPr>
            <p:spPr>
              <a:xfrm>
                <a:off x="6705720" y="1959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62920" y="1959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20120" y="1959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05720" y="2187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62920" y="2187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20120" y="2187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705720" y="2416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162920" y="2416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620120" y="2416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705720" y="2644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162920" y="2644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0120" y="2644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705720" y="2873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162920" y="2873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20120" y="2873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05720" y="3102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62920" y="3102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20120" y="3102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05720" y="3330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62920" y="3330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620120" y="3330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705720" y="3559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162920" y="3559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20120" y="3559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1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705720" y="3787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162920" y="3787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20120" y="3787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705720" y="4016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162920" y="4016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20120" y="4016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05720" y="424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162920" y="4245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620120" y="4245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705720" y="4473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162920" y="44737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20120" y="44737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0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5720" y="4702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C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62920" y="47023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20120" y="47023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705720" y="4930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162920" y="49309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20120" y="49309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0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05720" y="5159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E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162920" y="51595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20120" y="51595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705720" y="5388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162920" y="5388120"/>
                <a:ext cx="4572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20120" y="5388120"/>
                <a:ext cx="83808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rot="19282200">
              <a:off x="6781320" y="1496520"/>
              <a:ext cx="59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He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9282200">
              <a:off x="7189560" y="135360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cim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9282200">
              <a:off x="7663680" y="14058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ina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Wor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chine Has “Word Size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minal size of integer-valued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cluding addres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current machines are 32 bits (4 byt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mits addresses to 4G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coming too small for memory-intensive appli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-end systems are 64 bits (8 byt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tentially address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1.8 X 10</a:t>
            </a:r>
            <a:r>
              <a:rPr b="1" lang="en-US" sz="1800" spc="-1" strike="noStrike" baseline="30000">
                <a:solidFill>
                  <a:srgbClr val="000099"/>
                </a:solidFill>
                <a:latin typeface="Arial"/>
              </a:rPr>
              <a:t>19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hines support multiple data forma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s or multiples of word siz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ways integral number of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28480" y="323640"/>
            <a:ext cx="812808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ord-Oriented Memory Organiz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343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66840"/>
                <a:tab algn="l" pos="3436920"/>
                <a:tab algn="l" pos="399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es Specify Byte Loc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66840"/>
                <a:tab algn="l" pos="3436920"/>
                <a:tab algn="l" pos="399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of first byte in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66840"/>
                <a:tab algn="l" pos="3436920"/>
                <a:tab algn="l" pos="3995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es of successive words differ by 4 (32-bit) or 8 (64-bi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1523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37400" y="18288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37400" y="21337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24382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37400" y="27432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7400" y="30481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37400" y="33526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37400" y="36576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37400" y="39625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7400" y="42670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37400" y="45720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37400" y="48769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99880" y="1523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99880" y="1828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99880" y="2133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99880" y="2438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99880" y="2743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99880" y="3048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99880" y="335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99880" y="365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99880" y="3962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99880" y="4267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0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99880" y="457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99880" y="4876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791320" y="1523880"/>
            <a:ext cx="609120" cy="4876560"/>
            <a:chOff x="5791320" y="1523880"/>
            <a:chExt cx="609120" cy="4876560"/>
          </a:xfrm>
        </p:grpSpPr>
        <p:sp>
          <p:nvSpPr>
            <p:cNvPr id="194" name=""/>
            <p:cNvSpPr/>
            <p:nvPr/>
          </p:nvSpPr>
          <p:spPr>
            <a:xfrm>
              <a:off x="5791320" y="3962160"/>
              <a:ext cx="609120" cy="243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1523880"/>
              <a:ext cx="609120" cy="2438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876920" y="1523880"/>
            <a:ext cx="609120" cy="4876560"/>
            <a:chOff x="4876920" y="1523880"/>
            <a:chExt cx="609120" cy="4876560"/>
          </a:xfrm>
        </p:grpSpPr>
        <p:sp>
          <p:nvSpPr>
            <p:cNvPr id="197" name=""/>
            <p:cNvSpPr/>
            <p:nvPr/>
          </p:nvSpPr>
          <p:spPr>
            <a:xfrm>
              <a:off x="4876920" y="1523880"/>
              <a:ext cx="60912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6920" y="2742840"/>
              <a:ext cx="609120" cy="121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76920" y="3962160"/>
              <a:ext cx="609120" cy="1219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6920" y="5181480"/>
              <a:ext cx="609120" cy="1218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725720" y="91440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2-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31920" y="9907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49840" y="990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37400" y="51814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99880" y="518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37400" y="548640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499880" y="5486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37400" y="5791320"/>
            <a:ext cx="6094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499880" y="5791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7400" y="6095880"/>
            <a:ext cx="609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99880" y="6095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001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40120" y="8827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4-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236232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91320" y="47242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17524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297180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419112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541008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=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?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220968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342900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64832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586728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281952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7280" y="5181480"/>
            <a:ext cx="457200" cy="22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00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Represent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zes of C Objects (in Bytes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Data Typ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aq Alph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32-b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l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ng 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or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loa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ub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ng doub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/1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31400" indent="-2142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r *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40000" indent="-205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r" pos="4113360"/>
                <a:tab algn="r" pos="6176880"/>
                <a:tab algn="r" pos="777888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 any other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should bytes within multi-byte word be ordered in memory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ven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n’s, Mac’s are “Big Endian”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ast significant byte has highest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phas, PC’s are “Little Endian”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east significant byte has lowest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13:19:16Z</dcterms:created>
  <dc:creator>Randal E. Bryant and David R. O'Hallaron</dc:creator>
  <dc:description/>
  <dc:language>en-US</dc:language>
  <cp:lastModifiedBy>droh</cp:lastModifiedBy>
  <cp:lastPrinted>1998-08-27T18:17:18Z</cp:lastPrinted>
  <dcterms:modified xsi:type="dcterms:W3CDTF">2002-10-28T20:23:39Z</dcterms:modified>
  <cp:revision>57</cp:revision>
  <dc:subject/>
  <dc:title>Bits and Bytes</dc:title>
</cp:coreProperties>
</file>