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DEC378A9-7D80-467E-A8AC-7C7953ABBCC4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1523880"/>
            <a:ext cx="3478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s and Byt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ug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86040" y="2862000"/>
            <a:ext cx="5140080" cy="25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y bit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ing information as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nary/Hexadecim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 represen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racters and strin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-level manipul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olean algeb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ressing in 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5400" y="6586560"/>
            <a:ext cx="944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-213 F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604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33520"/>
            <a:ext cx="632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high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4-byte represent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123456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52480" y="4648320"/>
            <a:ext cx="5486400" cy="609480"/>
            <a:chOff x="1752480" y="4648320"/>
            <a:chExt cx="5486400" cy="609480"/>
          </a:xfrm>
        </p:grpSpPr>
        <p:sp>
          <p:nvSpPr>
            <p:cNvPr id="232" name=""/>
            <p:cNvSpPr/>
            <p:nvPr/>
          </p:nvSpPr>
          <p:spPr>
            <a:xfrm>
              <a:off x="31240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52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38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1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67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53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52480" y="5486400"/>
            <a:ext cx="5486400" cy="609480"/>
            <a:chOff x="1752480" y="5486400"/>
            <a:chExt cx="5486400" cy="609480"/>
          </a:xfrm>
        </p:grpSpPr>
        <p:sp>
          <p:nvSpPr>
            <p:cNvPr id="245" name=""/>
            <p:cNvSpPr/>
            <p:nvPr/>
          </p:nvSpPr>
          <p:spPr>
            <a:xfrm>
              <a:off x="31240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98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38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24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56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67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3520" y="457200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41008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Byte-Reversed List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83199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representation of binary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by program that reads the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Frag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5360" y="3048120"/>
            <a:ext cx="8153280" cy="11912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ddres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nstruction Code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ssembly Re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1 c3 ab 12 00 00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$0x12ab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3 bb 28 00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$0x0,0x28(%eb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867280" y="3886200"/>
            <a:ext cx="609840" cy="914400"/>
          </a:xfrm>
          <a:prstGeom prst="line">
            <a:avLst/>
          </a:prstGeom>
          <a:ln w="38160">
            <a:solidFill>
              <a:srgbClr val="ff5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971800" y="3886200"/>
            <a:ext cx="1600200" cy="2133360"/>
            <a:chOff x="2971800" y="3886200"/>
            <a:chExt cx="1600200" cy="2133360"/>
          </a:xfrm>
        </p:grpSpPr>
        <p:sp>
          <p:nvSpPr>
            <p:cNvPr id="272" name=""/>
            <p:cNvSpPr/>
            <p:nvPr/>
          </p:nvSpPr>
          <p:spPr>
            <a:xfrm rot="16200000">
              <a:off x="3733560" y="312408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809880" y="3962160"/>
              <a:ext cx="533520" cy="20574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03120" y="4343400"/>
            <a:ext cx="83073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marL="246960" indent="-246960">
              <a:lnSpc>
                <a:spcPct val="95000"/>
              </a:lnSpc>
              <a:spcBef>
                <a:spcPts val="1500"/>
              </a:spcBef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iphering Numb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to 4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000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 00 12 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vers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b 12 00 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ining 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to Print Byte Representation of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reates byte arra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209680"/>
            <a:ext cx="5943600" cy="2837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signed char *pointe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how_bytes(pointer start, int le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0x%p\t0x%.2x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+i, start[i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0840" y="533232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f directive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x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Hexadeci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how_bytes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ecu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1981080"/>
            <a:ext cx="5943600" cy="1069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 a = 15213;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w_bytes((pointer) &amp;a, sizeof(int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358452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 (Linux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191120"/>
            <a:ext cx="5181480" cy="1770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6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teg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A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ong int C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1066680"/>
            <a:ext cx="396252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imal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 1011 0110 1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3    B    6   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82560" y="2436840"/>
            <a:ext cx="1692360" cy="1677600"/>
            <a:chOff x="682560" y="2436840"/>
            <a:chExt cx="1692360" cy="1677600"/>
          </a:xfrm>
        </p:grpSpPr>
        <p:grpSp>
          <p:nvGrpSpPr>
            <p:cNvPr id="287" name=""/>
            <p:cNvGrpSpPr/>
            <p:nvPr/>
          </p:nvGrpSpPr>
          <p:grpSpPr>
            <a:xfrm>
              <a:off x="914400" y="2895840"/>
              <a:ext cx="609480" cy="1218600"/>
              <a:chOff x="914400" y="2895840"/>
              <a:chExt cx="609480" cy="1218600"/>
            </a:xfrm>
          </p:grpSpPr>
          <p:sp>
            <p:nvSpPr>
              <p:cNvPr id="288" name=""/>
              <p:cNvSpPr/>
              <p:nvPr/>
            </p:nvSpPr>
            <p:spPr>
              <a:xfrm>
                <a:off x="91440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4400" y="32004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400" y="35049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4400" y="38098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82560" y="24368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02360" y="2436840"/>
            <a:ext cx="814680" cy="1677960"/>
            <a:chOff x="2502360" y="2436840"/>
            <a:chExt cx="814680" cy="1677960"/>
          </a:xfrm>
        </p:grpSpPr>
        <p:grpSp>
          <p:nvGrpSpPr>
            <p:cNvPr id="294" name=""/>
            <p:cNvGrpSpPr/>
            <p:nvPr/>
          </p:nvGrpSpPr>
          <p:grpSpPr>
            <a:xfrm>
              <a:off x="2590920" y="2895840"/>
              <a:ext cx="609480" cy="1218960"/>
              <a:chOff x="2590920" y="2895840"/>
              <a:chExt cx="609480" cy="1218960"/>
            </a:xfrm>
          </p:grpSpPr>
          <p:sp>
            <p:nvSpPr>
              <p:cNvPr id="295" name=""/>
              <p:cNvSpPr/>
              <p:nvPr/>
            </p:nvSpPr>
            <p:spPr>
              <a:xfrm>
                <a:off x="2590920" y="3505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590920" y="3810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90920" y="3200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502360" y="24368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523880" y="3048120"/>
            <a:ext cx="1067040" cy="914400"/>
            <a:chOff x="1523880" y="3048120"/>
            <a:chExt cx="1067040" cy="914400"/>
          </a:xfrm>
        </p:grpSpPr>
        <p:sp>
          <p:nvSpPr>
            <p:cNvPr id="301" name=""/>
            <p:cNvSpPr/>
            <p:nvPr/>
          </p:nvSpPr>
          <p:spPr>
            <a:xfrm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3880" y="33526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523880" y="33523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2560" y="4494240"/>
            <a:ext cx="1692360" cy="1677600"/>
            <a:chOff x="682560" y="4494240"/>
            <a:chExt cx="1692360" cy="1677600"/>
          </a:xfrm>
        </p:grpSpPr>
        <p:grpSp>
          <p:nvGrpSpPr>
            <p:cNvPr id="306" name=""/>
            <p:cNvGrpSpPr/>
            <p:nvPr/>
          </p:nvGrpSpPr>
          <p:grpSpPr>
            <a:xfrm>
              <a:off x="914400" y="4953240"/>
              <a:ext cx="609480" cy="1218600"/>
              <a:chOff x="914400" y="4953240"/>
              <a:chExt cx="609480" cy="1218600"/>
            </a:xfrm>
          </p:grpSpPr>
          <p:sp>
            <p:nvSpPr>
              <p:cNvPr id="307" name=""/>
              <p:cNvSpPr/>
              <p:nvPr/>
            </p:nvSpPr>
            <p:spPr>
              <a:xfrm>
                <a:off x="91440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4400" y="52578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14400" y="55623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14400" y="5867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2560" y="44942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502360" y="4494240"/>
            <a:ext cx="814680" cy="1677960"/>
            <a:chOff x="2502360" y="4494240"/>
            <a:chExt cx="814680" cy="1677960"/>
          </a:xfrm>
        </p:grpSpPr>
        <p:grpSp>
          <p:nvGrpSpPr>
            <p:cNvPr id="313" name=""/>
            <p:cNvGrpSpPr/>
            <p:nvPr/>
          </p:nvGrpSpPr>
          <p:grpSpPr>
            <a:xfrm>
              <a:off x="2590920" y="4953240"/>
              <a:ext cx="609480" cy="1218960"/>
              <a:chOff x="2590920" y="4953240"/>
              <a:chExt cx="609480" cy="1218960"/>
            </a:xfrm>
          </p:grpSpPr>
          <p:sp>
            <p:nvSpPr>
              <p:cNvPr id="314" name=""/>
              <p:cNvSpPr/>
              <p:nvPr/>
            </p:nvSpPr>
            <p:spPr>
              <a:xfrm>
                <a:off x="2590920" y="5562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90920" y="58676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9092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59092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502360" y="44942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23880" y="5105520"/>
            <a:ext cx="1067040" cy="914400"/>
            <a:chOff x="1523880" y="5105520"/>
            <a:chExt cx="1067040" cy="914400"/>
          </a:xfrm>
        </p:grpSpPr>
        <p:sp>
          <p:nvSpPr>
            <p:cNvPr id="320" name=""/>
            <p:cNvSpPr/>
            <p:nvPr/>
          </p:nvSpPr>
          <p:spPr>
            <a:xfrm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23880" y="54100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23880" y="54097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347000" y="586584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wo’s compleme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overed next lectur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352680" y="5638320"/>
            <a:ext cx="91440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324480" y="4191120"/>
            <a:ext cx="609840" cy="1218600"/>
            <a:chOff x="6324480" y="4191120"/>
            <a:chExt cx="609840" cy="1218600"/>
          </a:xfrm>
        </p:grpSpPr>
        <p:sp>
          <p:nvSpPr>
            <p:cNvPr id="327" name=""/>
            <p:cNvSpPr/>
            <p:nvPr/>
          </p:nvSpPr>
          <p:spPr>
            <a:xfrm>
              <a:off x="6324480" y="419112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24480" y="449568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24480" y="4800600"/>
              <a:ext cx="609840" cy="30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4480" y="510516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093720" y="2513160"/>
            <a:ext cx="1017360" cy="1677600"/>
            <a:chOff x="6093720" y="2513160"/>
            <a:chExt cx="1017360" cy="1677600"/>
          </a:xfrm>
        </p:grpSpPr>
        <p:grpSp>
          <p:nvGrpSpPr>
            <p:cNvPr id="332" name=""/>
            <p:cNvGrpSpPr/>
            <p:nvPr/>
          </p:nvGrpSpPr>
          <p:grpSpPr>
            <a:xfrm>
              <a:off x="6324480" y="2972160"/>
              <a:ext cx="609480" cy="1218600"/>
              <a:chOff x="6324480" y="2972160"/>
              <a:chExt cx="609480" cy="1218600"/>
            </a:xfrm>
          </p:grpSpPr>
          <p:sp>
            <p:nvSpPr>
              <p:cNvPr id="333" name=""/>
              <p:cNvSpPr/>
              <p:nvPr/>
            </p:nvSpPr>
            <p:spPr>
              <a:xfrm>
                <a:off x="632448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2448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2448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6093720" y="25131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912440" y="2513160"/>
            <a:ext cx="814680" cy="1677960"/>
            <a:chOff x="7912440" y="2513160"/>
            <a:chExt cx="814680" cy="1677960"/>
          </a:xfrm>
        </p:grpSpPr>
        <p:grpSp>
          <p:nvGrpSpPr>
            <p:cNvPr id="339" name=""/>
            <p:cNvGrpSpPr/>
            <p:nvPr/>
          </p:nvGrpSpPr>
          <p:grpSpPr>
            <a:xfrm>
              <a:off x="8001000" y="2972160"/>
              <a:ext cx="609480" cy="1218960"/>
              <a:chOff x="8001000" y="2972160"/>
              <a:chExt cx="609480" cy="1218960"/>
            </a:xfrm>
          </p:grpSpPr>
          <p:sp>
            <p:nvSpPr>
              <p:cNvPr id="340" name=""/>
              <p:cNvSpPr/>
              <p:nvPr/>
            </p:nvSpPr>
            <p:spPr>
              <a:xfrm>
                <a:off x="800100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00100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0100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0100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7912440" y="25131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934320" y="3124080"/>
            <a:ext cx="1066680" cy="914400"/>
            <a:chOff x="6934320" y="3124080"/>
            <a:chExt cx="1066680" cy="914400"/>
          </a:xfrm>
        </p:grpSpPr>
        <p:sp>
          <p:nvSpPr>
            <p:cNvPr id="346" name=""/>
            <p:cNvSpPr/>
            <p:nvPr/>
          </p:nvSpPr>
          <p:spPr>
            <a:xfrm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4320" y="342900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934320" y="342864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420080" y="2513160"/>
            <a:ext cx="992880" cy="1677600"/>
            <a:chOff x="4420080" y="2513160"/>
            <a:chExt cx="992880" cy="1677600"/>
          </a:xfrm>
        </p:grpSpPr>
        <p:grpSp>
          <p:nvGrpSpPr>
            <p:cNvPr id="351" name=""/>
            <p:cNvGrpSpPr/>
            <p:nvPr/>
          </p:nvGrpSpPr>
          <p:grpSpPr>
            <a:xfrm>
              <a:off x="4648320" y="2972160"/>
              <a:ext cx="609480" cy="1218600"/>
              <a:chOff x="4648320" y="2972160"/>
              <a:chExt cx="609480" cy="1218600"/>
            </a:xfrm>
          </p:grpSpPr>
          <p:sp>
            <p:nvSpPr>
              <p:cNvPr id="352" name=""/>
              <p:cNvSpPr/>
              <p:nvPr/>
            </p:nvSpPr>
            <p:spPr>
              <a:xfrm>
                <a:off x="464832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4832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4832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4832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420080" y="251316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57800" y="3124080"/>
            <a:ext cx="1066680" cy="914400"/>
            <a:chOff x="5257800" y="3124080"/>
            <a:chExt cx="1066680" cy="914400"/>
          </a:xfrm>
        </p:grpSpPr>
        <p:sp>
          <p:nvSpPr>
            <p:cNvPr id="358" name=""/>
            <p:cNvSpPr/>
            <p:nvPr/>
          </p:nvSpPr>
          <p:spPr>
            <a:xfrm>
              <a:off x="5257800" y="40384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57800" y="342900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57800" y="373392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31240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Poi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*P = &amp;B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828800"/>
            <a:ext cx="746748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1    F    F    F    F    F    C    A   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 1111 1111 1111 1111 1111 1100 101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8077320" y="1905120"/>
            <a:ext cx="609480" cy="1218600"/>
            <a:chOff x="8077320" y="1905120"/>
            <a:chExt cx="609480" cy="1218600"/>
          </a:xfrm>
        </p:grpSpPr>
        <p:sp>
          <p:nvSpPr>
            <p:cNvPr id="366" name=""/>
            <p:cNvSpPr/>
            <p:nvPr/>
          </p:nvSpPr>
          <p:spPr>
            <a:xfrm>
              <a:off x="8077320" y="19051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77320" y="220968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77320" y="2514600"/>
              <a:ext cx="609480" cy="3042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77320" y="281916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8077320" y="685800"/>
            <a:ext cx="609480" cy="1219320"/>
            <a:chOff x="8077320" y="685800"/>
            <a:chExt cx="609480" cy="1219320"/>
          </a:xfrm>
        </p:grpSpPr>
        <p:sp>
          <p:nvSpPr>
            <p:cNvPr id="371" name=""/>
            <p:cNvSpPr/>
            <p:nvPr/>
          </p:nvSpPr>
          <p:spPr>
            <a:xfrm>
              <a:off x="8077320" y="6858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77320" y="9907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7320" y="129528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7320" y="16002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846560" y="228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81160" y="3276720"/>
            <a:ext cx="6781680" cy="1334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E    F    F    F    F    B    2    C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 1111 1111 1111 1111 1011 0010 1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480" y="579132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compilers &amp; machines assign different locations to obje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7520" y="3581280"/>
            <a:ext cx="609480" cy="1218960"/>
            <a:chOff x="317520" y="3581280"/>
            <a:chExt cx="609480" cy="1218960"/>
          </a:xfrm>
        </p:grpSpPr>
        <p:sp>
          <p:nvSpPr>
            <p:cNvPr id="379" name=""/>
            <p:cNvSpPr/>
            <p:nvPr/>
          </p:nvSpPr>
          <p:spPr>
            <a:xfrm>
              <a:off x="317520" y="419076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7520" y="44956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7520" y="35812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7520" y="388584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29320" y="3124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8251920" y="4495680"/>
            <a:ext cx="609480" cy="1218960"/>
            <a:chOff x="8251920" y="4495680"/>
            <a:chExt cx="609480" cy="1218960"/>
          </a:xfrm>
        </p:grpSpPr>
        <p:sp>
          <p:nvSpPr>
            <p:cNvPr id="385" name=""/>
            <p:cNvSpPr/>
            <p:nvPr/>
          </p:nvSpPr>
          <p:spPr>
            <a:xfrm>
              <a:off x="8251920" y="510516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1920" y="54100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51920" y="44956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51920" y="480024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8074440" y="4038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81160" y="4495680"/>
            <a:ext cx="6781680" cy="13341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B    F    F    F    F    8    D    4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 1111 1111 1111 1111 1000 1101 0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Floa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Float F = 15213.0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4640" y="571500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 same as integer representation, but consistent across machin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645080" y="1446120"/>
            <a:ext cx="1692360" cy="1677600"/>
            <a:chOff x="4645080" y="1446120"/>
            <a:chExt cx="1692360" cy="1677600"/>
          </a:xfrm>
        </p:grpSpPr>
        <p:grpSp>
          <p:nvGrpSpPr>
            <p:cNvPr id="396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397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645080" y="144612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464520" y="1446120"/>
            <a:ext cx="814680" cy="1677960"/>
            <a:chOff x="6464520" y="1446120"/>
            <a:chExt cx="814680" cy="1677960"/>
          </a:xfrm>
        </p:grpSpPr>
        <p:grpSp>
          <p:nvGrpSpPr>
            <p:cNvPr id="403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04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464520" y="1446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486400" y="2057400"/>
            <a:ext cx="1066680" cy="914400"/>
            <a:chOff x="5486400" y="2057400"/>
            <a:chExt cx="1066680" cy="914400"/>
          </a:xfrm>
        </p:grpSpPr>
        <p:sp>
          <p:nvSpPr>
            <p:cNvPr id="410" name=""/>
            <p:cNvSpPr/>
            <p:nvPr/>
          </p:nvSpPr>
          <p:spPr>
            <a:xfrm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61040" y="6095880"/>
            <a:ext cx="72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an see some relation to integer representation, but not obvio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62120" y="3733920"/>
            <a:ext cx="6781680" cy="1828800"/>
            <a:chOff x="762120" y="3733920"/>
            <a:chExt cx="6781680" cy="1828800"/>
          </a:xfrm>
        </p:grpSpPr>
        <p:sp>
          <p:nvSpPr>
            <p:cNvPr id="417" name=""/>
            <p:cNvSpPr/>
            <p:nvPr/>
          </p:nvSpPr>
          <p:spPr>
            <a:xfrm>
              <a:off x="342900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3868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541008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2120" y="3733920"/>
              <a:ext cx="6781680" cy="175140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EEE Single Precision Floating Point Represent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4    6    6    D    B    4    0    0   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00 0110 0</a:t>
              </a: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10 1101 1011 01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 0000 0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213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    1110 1101 1011 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48640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har S[6] = "15213"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Str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ng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ed by array of charac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haracter encoded in ASCII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ndard 7-bit encoding of character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encodings exist, but uncomm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acter “0” has cod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3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has cod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ing should be null-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al character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tibil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 not an 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e single byte quantit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files generally platform in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different conventions of line termination character(s)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80200" y="19033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/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71400" y="19033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035920" y="2362320"/>
            <a:ext cx="609480" cy="1828800"/>
            <a:chOff x="8035920" y="2362320"/>
            <a:chExt cx="609480" cy="1828800"/>
          </a:xfrm>
        </p:grpSpPr>
        <p:sp>
          <p:nvSpPr>
            <p:cNvPr id="427" name=""/>
            <p:cNvSpPr/>
            <p:nvPr/>
          </p:nvSpPr>
          <p:spPr>
            <a:xfrm>
              <a:off x="803592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592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3592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592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3592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3592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512040" y="2362320"/>
            <a:ext cx="609480" cy="1828800"/>
            <a:chOff x="6512040" y="2362320"/>
            <a:chExt cx="609480" cy="1828800"/>
          </a:xfrm>
        </p:grpSpPr>
        <p:sp>
          <p:nvSpPr>
            <p:cNvPr id="434" name=""/>
            <p:cNvSpPr/>
            <p:nvPr/>
          </p:nvSpPr>
          <p:spPr>
            <a:xfrm>
              <a:off x="651204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1204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1204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204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204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1204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121520" y="2514600"/>
            <a:ext cx="914400" cy="1523880"/>
            <a:chOff x="7121520" y="2514600"/>
            <a:chExt cx="914400" cy="1523880"/>
          </a:xfrm>
        </p:grpSpPr>
        <p:sp>
          <p:nvSpPr>
            <p:cNvPr id="441" name=""/>
            <p:cNvSpPr/>
            <p:nvPr/>
          </p:nvSpPr>
          <p:spPr>
            <a:xfrm>
              <a:off x="7121520" y="25146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28195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21520" y="31240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21520" y="34290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21520" y="37339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21520" y="40384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Code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e Program as Sequence of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impl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ithmetic op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or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 encoded as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pha’s, Sun’s, Mac’s use 4 byt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duced Instruction Set Computer (R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C’s use variable length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x Instruction Set Computer (C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instruction types and encodings for different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code not binary compat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are Byte Sequences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3672000" cy="25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sum(int x, int 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return x+y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66320" y="6019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machines use totally different instructions and encodin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45440" y="1446120"/>
            <a:ext cx="1291680" cy="2897280"/>
            <a:chOff x="4645440" y="1446120"/>
            <a:chExt cx="1291680" cy="2897280"/>
          </a:xfrm>
        </p:grpSpPr>
        <p:grpSp>
          <p:nvGrpSpPr>
            <p:cNvPr id="453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454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4645440" y="144612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876920" y="3124080"/>
              <a:ext cx="609480" cy="1219320"/>
              <a:chOff x="4876920" y="3124080"/>
              <a:chExt cx="609480" cy="1219320"/>
            </a:xfrm>
          </p:grpSpPr>
          <p:sp>
            <p:nvSpPr>
              <p:cNvPr id="460" name=""/>
              <p:cNvSpPr/>
              <p:nvPr/>
            </p:nvSpPr>
            <p:spPr>
              <a:xfrm>
                <a:off x="487692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7692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7692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7692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6327720" y="1446120"/>
            <a:ext cx="1089000" cy="2897280"/>
            <a:chOff x="6327720" y="1446120"/>
            <a:chExt cx="1089000" cy="2897280"/>
          </a:xfrm>
        </p:grpSpPr>
        <p:grpSp>
          <p:nvGrpSpPr>
            <p:cNvPr id="465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66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327720" y="14461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553080" y="3124080"/>
              <a:ext cx="609480" cy="1219320"/>
              <a:chOff x="6553080" y="3124080"/>
              <a:chExt cx="609480" cy="12193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5308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308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0" y="259092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this example, Alpha &amp; Sun use two 4-byte instructi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differing numbers of instructions in other ca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 uses 7 instructions with lengths 1, 2, and 3 by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for NT and for Lin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T / Linux not fully binary compati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817400" y="1447920"/>
            <a:ext cx="973080" cy="4419360"/>
            <a:chOff x="7817400" y="1447920"/>
            <a:chExt cx="973080" cy="4419360"/>
          </a:xfrm>
        </p:grpSpPr>
        <p:grpSp>
          <p:nvGrpSpPr>
            <p:cNvPr id="478" name=""/>
            <p:cNvGrpSpPr/>
            <p:nvPr/>
          </p:nvGrpSpPr>
          <p:grpSpPr>
            <a:xfrm>
              <a:off x="7985160" y="1905120"/>
              <a:ext cx="609480" cy="1218960"/>
              <a:chOff x="7985160" y="1905120"/>
              <a:chExt cx="609480" cy="1218960"/>
            </a:xfrm>
          </p:grpSpPr>
          <p:sp>
            <p:nvSpPr>
              <p:cNvPr id="479" name=""/>
              <p:cNvSpPr/>
              <p:nvPr/>
            </p:nvSpPr>
            <p:spPr>
              <a:xfrm>
                <a:off x="798516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8516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8516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8516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817400" y="1447920"/>
              <a:ext cx="9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7985160" y="3124080"/>
              <a:ext cx="609480" cy="1219320"/>
              <a:chOff x="7985160" y="3124080"/>
              <a:chExt cx="609480" cy="1219320"/>
            </a:xfrm>
          </p:grpSpPr>
          <p:sp>
            <p:nvSpPr>
              <p:cNvPr id="485" name=""/>
              <p:cNvSpPr/>
              <p:nvPr/>
            </p:nvSpPr>
            <p:spPr>
              <a:xfrm>
                <a:off x="798516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98516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98516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98516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8001000" y="4343400"/>
              <a:ext cx="609480" cy="1219320"/>
              <a:chOff x="8001000" y="4343400"/>
              <a:chExt cx="609480" cy="1219320"/>
            </a:xfrm>
          </p:grpSpPr>
          <p:sp>
            <p:nvSpPr>
              <p:cNvPr id="490" name=""/>
              <p:cNvSpPr/>
              <p:nvPr/>
            </p:nvSpPr>
            <p:spPr>
              <a:xfrm>
                <a:off x="8001000" y="4343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01000" y="46483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01000" y="49528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0100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8001000" y="556272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Don’t Computers Use Base 10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10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why fingers are known as “digit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tural representation for financial transa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ing point number cannot exactly represent $1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carries through in scientific no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5213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ing Electronical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IAC (First electronic computer) used 10 vacuum tubes / dig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trans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high precision to encode 10 signal levels on single wi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ssy to implement digital log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ition, multiplication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760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veloped by George Boole in 19th Centu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gebraic representation of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“True” as 1 and “False”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8600" y="2133720"/>
            <a:ext cx="4432320" cy="2214360"/>
            <a:chOff x="228600" y="2133720"/>
            <a:chExt cx="4432320" cy="2214360"/>
          </a:xfrm>
        </p:grpSpPr>
        <p:sp>
          <p:nvSpPr>
            <p:cNvPr id="498" name=""/>
            <p:cNvSpPr/>
            <p:nvPr/>
          </p:nvSpPr>
          <p:spPr>
            <a:xfrm>
              <a:off x="22860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5000"/>
            </a:bodyPr>
            <a:p>
              <a:pPr marL="327960" indent="-3279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32520" indent="-2088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&amp;B = 1 when both A=1 and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499" name=""/>
            <p:cNvGraphicFramePr/>
            <p:nvPr/>
          </p:nvGraphicFramePr>
          <p:xfrm>
            <a:off x="1752480" y="2971800"/>
            <a:ext cx="1397160" cy="1376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97180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1" name=""/>
          <p:cNvGrpSpPr/>
          <p:nvPr/>
        </p:nvGrpSpPr>
        <p:grpSpPr>
          <a:xfrm>
            <a:off x="228600" y="4038480"/>
            <a:ext cx="4432320" cy="2291040"/>
            <a:chOff x="228600" y="4038480"/>
            <a:chExt cx="4432320" cy="2291040"/>
          </a:xfrm>
        </p:grpSpPr>
        <p:graphicFrame>
          <p:nvGraphicFramePr>
            <p:cNvPr id="502" name=""/>
            <p:cNvGraphicFramePr/>
            <p:nvPr/>
          </p:nvGraphicFramePr>
          <p:xfrm>
            <a:off x="1752480" y="4952880"/>
            <a:ext cx="1397160" cy="1376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49528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4" name=""/>
            <p:cNvSpPr/>
            <p:nvPr/>
          </p:nvSpPr>
          <p:spPr>
            <a:xfrm>
              <a:off x="228600" y="4038480"/>
              <a:ext cx="4432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85920" indent="-3859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No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744480" indent="-24588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~A = 1 when A=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419720" y="2133720"/>
            <a:ext cx="4432320" cy="2209680"/>
            <a:chOff x="4419720" y="2133720"/>
            <a:chExt cx="4432320" cy="2209680"/>
          </a:xfrm>
        </p:grpSpPr>
        <p:sp>
          <p:nvSpPr>
            <p:cNvPr id="506" name=""/>
            <p:cNvSpPr/>
            <p:nvPr/>
          </p:nvSpPr>
          <p:spPr>
            <a:xfrm>
              <a:off x="441972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3000"/>
            </a:bodyPr>
            <a:p>
              <a:pPr marL="358560" indent="-358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92280" indent="-2286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|B = 1 when either A=1 or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5918040" y="2967120"/>
            <a:ext cx="1397160" cy="137628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8040" y="296712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9" name=""/>
          <p:cNvGrpSpPr/>
          <p:nvPr/>
        </p:nvGrpSpPr>
        <p:grpSpPr>
          <a:xfrm>
            <a:off x="4419720" y="4191120"/>
            <a:ext cx="4432320" cy="2514600"/>
            <a:chOff x="4419720" y="4191120"/>
            <a:chExt cx="4432320" cy="2514600"/>
          </a:xfrm>
        </p:grpSpPr>
        <p:graphicFrame>
          <p:nvGraphicFramePr>
            <p:cNvPr id="510" name=""/>
            <p:cNvGraphicFramePr/>
            <p:nvPr/>
          </p:nvGraphicFramePr>
          <p:xfrm>
            <a:off x="5638680" y="5329080"/>
            <a:ext cx="1397160" cy="13766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53290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2" name=""/>
            <p:cNvSpPr/>
            <p:nvPr/>
          </p:nvSpPr>
          <p:spPr>
            <a:xfrm>
              <a:off x="4419720" y="41911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72000"/>
            </a:bodyPr>
            <a:p>
              <a:pPr marL="277560" indent="-277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Exclusive-Or (Xor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535680" indent="-17676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^B = 1 when either A=1 or B=1, but not bo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1539720" y="3228480"/>
            <a:ext cx="3048120" cy="1143360"/>
            <a:chOff x="1539720" y="3228480"/>
            <a:chExt cx="3048120" cy="1143360"/>
          </a:xfrm>
        </p:grpSpPr>
        <p:sp>
          <p:nvSpPr>
            <p:cNvPr id="514" name=""/>
            <p:cNvSpPr/>
            <p:nvPr/>
          </p:nvSpPr>
          <p:spPr>
            <a:xfrm flipV="1">
              <a:off x="1996920" y="3228480"/>
              <a:ext cx="106668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96920" y="383832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63600" y="3228840"/>
              <a:ext cx="1067040" cy="533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063600" y="3762000"/>
              <a:ext cx="1067040" cy="609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3828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5412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1624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3208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30640" y="376200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92000" y="383832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39720" y="3762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35200" y="3686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956480" y="2895480"/>
            <a:ext cx="271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nection w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&amp;~B | ~A&amp;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pplication of 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ed to Digital Systems by Claude Shann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37 MIT Master’s The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son about networks of relay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closed switch as 1, open switch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676520" y="2743200"/>
            <a:ext cx="2819160" cy="838080"/>
            <a:chOff x="1676520" y="2743200"/>
            <a:chExt cx="2819160" cy="838080"/>
          </a:xfrm>
        </p:grpSpPr>
        <p:sp>
          <p:nvSpPr>
            <p:cNvPr id="530" name=""/>
            <p:cNvSpPr/>
            <p:nvPr/>
          </p:nvSpPr>
          <p:spPr>
            <a:xfrm>
              <a:off x="1676520" y="3124080"/>
              <a:ext cx="281916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16640" y="27432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A&amp;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600200" y="4038480"/>
            <a:ext cx="2819520" cy="874080"/>
            <a:chOff x="1600200" y="4038480"/>
            <a:chExt cx="2819520" cy="874080"/>
          </a:xfrm>
        </p:grpSpPr>
        <p:sp>
          <p:nvSpPr>
            <p:cNvPr id="533" name=""/>
            <p:cNvSpPr/>
            <p:nvPr/>
          </p:nvSpPr>
          <p:spPr>
            <a:xfrm flipV="1">
              <a:off x="1600200" y="4038480"/>
              <a:ext cx="281952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16640" y="45720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~A&amp;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105520" y="4495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= A^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er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Z, +, *, –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ms a “r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1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1}, |, &amp;, ~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s a “Boolean algebra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is “complement” operation (not additive invers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spcBef>
                <a:spcPts val="624"/>
              </a:spcBef>
              <a:buNone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960" y="871560"/>
            <a:ext cx="88390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mmut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B    =  B |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B  =  B +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  =  B &amp;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B  =  B *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ssoci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|  B)  | C    =  A | (B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+ B) + C  =  A +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  =  A &amp; (B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* B) * C  =  A * (B *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oduct distributes ove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| C)  =  (A &amp; B) | (A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B + C)  =  A * B + B *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and product ident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0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1  = A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Zero is product annihi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 = 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0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ncellation of neg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(~ A)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(– A)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380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52280" y="323640"/>
            <a:ext cx="5280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5960" y="837720"/>
            <a:ext cx="87627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distributes ov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B &amp; C)  =  (A | B) &amp; (A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B * C)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A + B) *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dempo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*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A &amp;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A *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 and B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A |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A +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aws of Comp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 = 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–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ng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–A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9520" y="457200"/>
            <a:ext cx="66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&amp; and ^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{0,1}, ^, &amp;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0, 1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integers mod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dentity operation: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) =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2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pert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B  =  B ^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=  B &amp;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^ B) ^ C  =  A ^ (B ^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=  A &amp;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. over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^ C)  =  (A &amp; B) ^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sum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prod.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product annihilat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A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s Between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Morgan’s Law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&amp; in terms of |, and vice-vers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&amp; B  =  ~(~A |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and B are true if and only if neither A nor B is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| B  =  ~(~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or B are true if and only if A and B are not both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lusive-Or using Inclusive 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~A &amp; B) | (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ctly one of A and B is tr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A | B) &amp; ~(A &amp; 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her A is true, or B is true, but not bo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0563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Boolean Algebra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e on Bit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applied bit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of the Properties of Boolean Algebra App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35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923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68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11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^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298680"/>
            <a:ext cx="1523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2592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3298680"/>
            <a:ext cx="1600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3560" y="335268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972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60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3084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8001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&amp; Manipulating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d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 vector represents subsets of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 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3, 5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5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2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0101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2, 4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s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0000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|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111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2, 3, 4, 5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^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mmetric differen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11110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2, 3, 4, 5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me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0101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1, 3, 5, 7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nary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2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5213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2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.0011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5213 X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as 1.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ectronic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tore with bistabl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iably transmitted on noisy and inaccurate wir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ightforward implementation of arithmet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3920" y="4114800"/>
            <a:ext cx="6856200" cy="2197080"/>
            <a:chOff x="763920" y="4114800"/>
            <a:chExt cx="6856200" cy="2197080"/>
          </a:xfrm>
        </p:grpSpPr>
        <p:sp>
          <p:nvSpPr>
            <p:cNvPr id="87" name=""/>
            <p:cNvSpPr/>
            <p:nvPr/>
          </p:nvSpPr>
          <p:spPr>
            <a:xfrm>
              <a:off x="1676520" y="5715000"/>
              <a:ext cx="5943600" cy="3812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4724640"/>
              <a:ext cx="594360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4883400"/>
              <a:ext cx="5924520" cy="1136520"/>
            </a:xfrm>
            <a:custGeom>
              <a:avLst/>
              <a:gdLst/>
              <a:ahLst/>
              <a:rect l="l" t="t" r="r" b="b"/>
              <a:pathLst>
                <a:path w="3578" h="716">
                  <a:moveTo>
                    <a:pt x="0" y="706"/>
                  </a:moveTo>
                  <a:cubicBezTo>
                    <a:pt x="54" y="694"/>
                    <a:pt x="101" y="657"/>
                    <a:pt x="157" y="653"/>
                  </a:cubicBezTo>
                  <a:cubicBezTo>
                    <a:pt x="202" y="649"/>
                    <a:pt x="248" y="646"/>
                    <a:pt x="294" y="643"/>
                  </a:cubicBezTo>
                  <a:cubicBezTo>
                    <a:pt x="377" y="658"/>
                    <a:pt x="462" y="670"/>
                    <a:pt x="547" y="685"/>
                  </a:cubicBezTo>
                  <a:cubicBezTo>
                    <a:pt x="628" y="655"/>
                    <a:pt x="660" y="660"/>
                    <a:pt x="768" y="653"/>
                  </a:cubicBezTo>
                  <a:cubicBezTo>
                    <a:pt x="792" y="648"/>
                    <a:pt x="875" y="632"/>
                    <a:pt x="894" y="632"/>
                  </a:cubicBezTo>
                  <a:cubicBezTo>
                    <a:pt x="938" y="632"/>
                    <a:pt x="977" y="659"/>
                    <a:pt x="1021" y="664"/>
                  </a:cubicBezTo>
                  <a:cubicBezTo>
                    <a:pt x="1073" y="669"/>
                    <a:pt x="1125" y="670"/>
                    <a:pt x="1178" y="674"/>
                  </a:cubicBezTo>
                  <a:cubicBezTo>
                    <a:pt x="1209" y="670"/>
                    <a:pt x="1241" y="669"/>
                    <a:pt x="1273" y="664"/>
                  </a:cubicBezTo>
                  <a:cubicBezTo>
                    <a:pt x="1284" y="662"/>
                    <a:pt x="1298" y="661"/>
                    <a:pt x="1305" y="653"/>
                  </a:cubicBezTo>
                  <a:cubicBezTo>
                    <a:pt x="1324" y="628"/>
                    <a:pt x="1329" y="595"/>
                    <a:pt x="1347" y="569"/>
                  </a:cubicBezTo>
                  <a:cubicBezTo>
                    <a:pt x="1416" y="462"/>
                    <a:pt x="1419" y="362"/>
                    <a:pt x="1463" y="253"/>
                  </a:cubicBezTo>
                  <a:cubicBezTo>
                    <a:pt x="1480" y="209"/>
                    <a:pt x="1520" y="153"/>
                    <a:pt x="1547" y="116"/>
                  </a:cubicBezTo>
                  <a:cubicBezTo>
                    <a:pt x="1568" y="86"/>
                    <a:pt x="1605" y="60"/>
                    <a:pt x="1642" y="53"/>
                  </a:cubicBezTo>
                  <a:cubicBezTo>
                    <a:pt x="1704" y="40"/>
                    <a:pt x="1831" y="21"/>
                    <a:pt x="1831" y="21"/>
                  </a:cubicBezTo>
                  <a:cubicBezTo>
                    <a:pt x="1897" y="24"/>
                    <a:pt x="1964" y="26"/>
                    <a:pt x="2031" y="32"/>
                  </a:cubicBezTo>
                  <a:cubicBezTo>
                    <a:pt x="2045" y="33"/>
                    <a:pt x="2058" y="42"/>
                    <a:pt x="2073" y="42"/>
                  </a:cubicBezTo>
                  <a:cubicBezTo>
                    <a:pt x="2130" y="42"/>
                    <a:pt x="2194" y="20"/>
                    <a:pt x="2252" y="11"/>
                  </a:cubicBezTo>
                  <a:cubicBezTo>
                    <a:pt x="2274" y="17"/>
                    <a:pt x="2292" y="35"/>
                    <a:pt x="2315" y="42"/>
                  </a:cubicBezTo>
                  <a:cubicBezTo>
                    <a:pt x="2338" y="49"/>
                    <a:pt x="2364" y="49"/>
                    <a:pt x="2389" y="53"/>
                  </a:cubicBezTo>
                  <a:cubicBezTo>
                    <a:pt x="2450" y="36"/>
                    <a:pt x="2493" y="31"/>
                    <a:pt x="2557" y="42"/>
                  </a:cubicBezTo>
                  <a:cubicBezTo>
                    <a:pt x="2578" y="49"/>
                    <a:pt x="2598" y="71"/>
                    <a:pt x="2620" y="64"/>
                  </a:cubicBezTo>
                  <a:cubicBezTo>
                    <a:pt x="2654" y="52"/>
                    <a:pt x="2679" y="18"/>
                    <a:pt x="2715" y="11"/>
                  </a:cubicBezTo>
                  <a:cubicBezTo>
                    <a:pt x="2732" y="7"/>
                    <a:pt x="2750" y="3"/>
                    <a:pt x="2768" y="0"/>
                  </a:cubicBezTo>
                  <a:cubicBezTo>
                    <a:pt x="2929" y="161"/>
                    <a:pt x="2957" y="167"/>
                    <a:pt x="3041" y="411"/>
                  </a:cubicBezTo>
                  <a:cubicBezTo>
                    <a:pt x="3071" y="498"/>
                    <a:pt x="3069" y="597"/>
                    <a:pt x="3157" y="643"/>
                  </a:cubicBezTo>
                  <a:cubicBezTo>
                    <a:pt x="3289" y="619"/>
                    <a:pt x="3221" y="590"/>
                    <a:pt x="3347" y="716"/>
                  </a:cubicBezTo>
                  <a:cubicBezTo>
                    <a:pt x="3378" y="712"/>
                    <a:pt x="3411" y="716"/>
                    <a:pt x="3441" y="706"/>
                  </a:cubicBezTo>
                  <a:cubicBezTo>
                    <a:pt x="3452" y="701"/>
                    <a:pt x="3452" y="681"/>
                    <a:pt x="3462" y="674"/>
                  </a:cubicBezTo>
                  <a:cubicBezTo>
                    <a:pt x="3489" y="652"/>
                    <a:pt x="3545" y="653"/>
                    <a:pt x="3578" y="653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447560" y="60962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447560" y="47246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920" y="5943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0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3920" y="5562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5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3920" y="4953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.8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920" y="4572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26744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91120" y="4267440"/>
              <a:ext cx="2286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426744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86200" y="4191120"/>
              <a:ext cx="0" cy="1600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1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4191120"/>
              <a:ext cx="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0280" y="411480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447560" y="57150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447560" y="51055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323640"/>
            <a:ext cx="6777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-Level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 &amp;,  |,  ~,  ^ Available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to any “integral”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ew arguments as bit ve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applied bit-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41 --&gt;  0xB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11111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00 --&gt;  0x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00000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111111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 0x55  --&gt;  0x4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&amp;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 0x55  --&gt;  0x7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|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111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6532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Logic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894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ast to Logical Opera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&amp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|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0 as “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ything nonzero as “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return 0 or 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rly term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41  --&gt;  0x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00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!0x41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&amp;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|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 &amp;&amp; *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null pointer ac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0534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if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967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f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lt;&l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igh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gt;&g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licate most significant bit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with two’s complement integ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816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100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100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816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100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100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00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323640"/>
            <a:ext cx="58755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ol Stuff with 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1447920"/>
            <a:ext cx="4267080" cy="2133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unny(int *x, int *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1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y = *x ^ *y;    /* #2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3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3652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wise Xor is form of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extra property that every value is its own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434340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43200" y="434340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4343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743200" y="4724280"/>
            <a:ext cx="4419720" cy="381240"/>
            <a:chOff x="2743200" y="4724280"/>
            <a:chExt cx="4419720" cy="381240"/>
          </a:xfrm>
        </p:grpSpPr>
        <p:sp>
          <p:nvSpPr>
            <p:cNvPr id="607" name=""/>
            <p:cNvSpPr/>
            <p:nvPr/>
          </p:nvSpPr>
          <p:spPr>
            <a:xfrm>
              <a:off x="4952880" y="4724280"/>
              <a:ext cx="2210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43200" y="4724280"/>
              <a:ext cx="220968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828800" y="4724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743200" y="5105520"/>
            <a:ext cx="4419720" cy="380880"/>
            <a:chOff x="2743200" y="5105520"/>
            <a:chExt cx="4419720" cy="380880"/>
          </a:xfrm>
        </p:grpSpPr>
        <p:sp>
          <p:nvSpPr>
            <p:cNvPr id="611" name=""/>
            <p:cNvSpPr/>
            <p:nvPr/>
          </p:nvSpPr>
          <p:spPr>
            <a:xfrm>
              <a:off x="4952880" y="510552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B = 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43200" y="510552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828800" y="510552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743200" y="5486400"/>
            <a:ext cx="4419720" cy="380880"/>
            <a:chOff x="2743200" y="5486400"/>
            <a:chExt cx="4419720" cy="380880"/>
          </a:xfrm>
        </p:grpSpPr>
        <p:sp>
          <p:nvSpPr>
            <p:cNvPr id="615" name=""/>
            <p:cNvSpPr/>
            <p:nvPr/>
          </p:nvSpPr>
          <p:spPr>
            <a:xfrm>
              <a:off x="4952880" y="548640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43200" y="548640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A = 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828800" y="5486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743200" y="5867280"/>
            <a:ext cx="4419720" cy="381240"/>
            <a:chOff x="2743200" y="5867280"/>
            <a:chExt cx="4419720" cy="381240"/>
          </a:xfrm>
        </p:grpSpPr>
        <p:sp>
          <p:nvSpPr>
            <p:cNvPr id="619" name=""/>
            <p:cNvSpPr/>
            <p:nvPr/>
          </p:nvSpPr>
          <p:spPr>
            <a:xfrm>
              <a:off x="4952880" y="5867280"/>
              <a:ext cx="221004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43200" y="5867280"/>
              <a:ext cx="220968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828800" y="5867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396252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96252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Po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’s All About Bits &amp; By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fferent Machines Follow Different 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 is Mathematical Ba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form encodes “false” as 0, “true” as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 form like bit-level operations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d for representing &amp; manipulating se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Refer to Virtual Addr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 very large array of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ually implemented with hierarchy of different memory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RAM, DRAM,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allocate for regions actually used by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Unix and Windows NT, address space private to particular “proces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being execu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can clobber its own data, but not that of oth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+ Run-Time System Control 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re different program objects should be sto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mechanisms: static, stack, and hea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any case, all allocation within singl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Byte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yte = 8 b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0000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imal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5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xadecima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F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se 16 numb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characters ‘0’ to ‘9’ and ‘A’ to ‘F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FA1D37B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 C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705720" y="1064880"/>
            <a:ext cx="1866600" cy="4551840"/>
            <a:chOff x="6705720" y="1064880"/>
            <a:chExt cx="1866600" cy="4551840"/>
          </a:xfrm>
        </p:grpSpPr>
        <p:grpSp>
          <p:nvGrpSpPr>
            <p:cNvPr id="113" name=""/>
            <p:cNvGrpSpPr/>
            <p:nvPr/>
          </p:nvGrpSpPr>
          <p:grpSpPr>
            <a:xfrm>
              <a:off x="6705720" y="1959120"/>
              <a:ext cx="1752480" cy="3657600"/>
              <a:chOff x="6705720" y="1959120"/>
              <a:chExt cx="1752480" cy="3657600"/>
            </a:xfrm>
          </p:grpSpPr>
          <p:sp>
            <p:nvSpPr>
              <p:cNvPr id="114" name=""/>
              <p:cNvSpPr/>
              <p:nvPr/>
            </p:nvSpPr>
            <p:spPr>
              <a:xfrm>
                <a:off x="67057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29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1959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0120" y="2187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057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629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20120" y="2416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057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629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2644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057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629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0120" y="2873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057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629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20120" y="3102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057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629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0120" y="3330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057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629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20120" y="3559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057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629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20120" y="3787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057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629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20120" y="4016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7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629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20120" y="4245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1629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0120" y="4473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57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9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20120" y="4702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057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629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20120" y="4930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057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629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20120" y="5159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20120" y="5388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19282200">
              <a:off x="6781320" y="149652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282200">
              <a:off x="7189560" y="13536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282200">
              <a:off x="7663680" y="1405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Wor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hine Has “Word Siz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minal size of integer-valued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urrent machines are 32 bits (4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its addresses to 4G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ing too small for memory-intensive ap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-end systems are 64 bits (8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tentially address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8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s support multiple data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s or multiples of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integral number of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8480" y="323640"/>
            <a:ext cx="81280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es Specify Byte Loc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of first byte in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of successive words differ by 4 (32-bit) or 8 (64-bi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1523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7400" y="18288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7400" y="21337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24382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7400" y="27432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30481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33526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7400" y="36576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37400" y="39625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7400" y="42670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7400" y="45720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48769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9988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99880" y="18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99880" y="21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998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99880" y="274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998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9988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998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9988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99880" y="426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99880" y="45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99880" y="4876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1523880"/>
            <a:ext cx="609120" cy="4876560"/>
            <a:chOff x="5791320" y="1523880"/>
            <a:chExt cx="609120" cy="4876560"/>
          </a:xfrm>
        </p:grpSpPr>
        <p:sp>
          <p:nvSpPr>
            <p:cNvPr id="194" name=""/>
            <p:cNvSpPr/>
            <p:nvPr/>
          </p:nvSpPr>
          <p:spPr>
            <a:xfrm>
              <a:off x="5791320" y="396216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152388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76920" y="1523880"/>
            <a:ext cx="609120" cy="4876560"/>
            <a:chOff x="4876920" y="1523880"/>
            <a:chExt cx="609120" cy="4876560"/>
          </a:xfrm>
        </p:grpSpPr>
        <p:sp>
          <p:nvSpPr>
            <p:cNvPr id="197" name=""/>
            <p:cNvSpPr/>
            <p:nvPr/>
          </p:nvSpPr>
          <p:spPr>
            <a:xfrm>
              <a:off x="4876920" y="15238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6920" y="274284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396216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51814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725720" y="9144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2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1920" y="990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49840" y="990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7400" y="51814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99880" y="518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37400" y="54864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99880" y="54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37400" y="57913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99880" y="5791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7400" y="6095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9988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0120" y="882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4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23623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7524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971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1911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54100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2096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6483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8672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8195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51814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 of C Objects (in Byte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Data Typ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q Alph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32-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 *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40000" indent="-205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any other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bytes within multi-byte word be ordered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n’s, Mac’s are “Big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high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phas, PC’s are “Little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3:19:16Z</dcterms:created>
  <dc:creator>Randal E. Bryant and David R. O'Hallaron</dc:creator>
  <dc:description/>
  <dc:language>en-US</dc:language>
  <cp:lastModifiedBy>droh</cp:lastModifiedBy>
  <cp:lastPrinted>1998-08-27T18:17:18Z</cp:lastPrinted>
  <dcterms:modified xsi:type="dcterms:W3CDTF">2002-10-28T20:23:39Z</dcterms:modified>
  <cp:revision>57</cp:revision>
  <dc:subject/>
  <dc:title>Bits and Bytes</dc:title>
</cp:coreProperties>
</file>