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9CCDBE5E-27E5-4F8B-8B9D-38BEAEF26911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1752480"/>
            <a:ext cx="5562720" cy="1060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roduction to Computer Syste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720" y="4381560"/>
            <a:ext cx="5521320" cy="186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ff, text, and poli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cture topics and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ration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60000" y="6580080"/>
            <a:ext cx="10206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S 213 F ’0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21680" y="6504120"/>
            <a:ext cx="1461600" cy="2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Courier New"/>
              </a:rPr>
              <a:t>class01b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5-21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00"/>
                </a:solidFill>
                <a:latin typeface="Arial"/>
              </a:rPr>
              <a:t>The Class That Gives CMU Its Zip!”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200400"/>
            <a:ext cx="39258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vid O’Hallar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ugust 27, 200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s and Data (8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ts operations, arithmetic, assembly language programs, representation of C control and data structu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 of architecture and compiler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1: Manipulating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2: Defusing a binary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3: Hacking a buffer bom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processor models, code optimization (control and data), measuring time on a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, compilers,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Hierarchy (2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technology, memory hierarchy, caches, disks,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4: Optimizing Code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nking and Exceptional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low (3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ject files, static and dynamic linking, libraries, loa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exceptions, processes, process control, Unix signals, nonlocal jum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compilers, OS, and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5: Writing your own shell with job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rtual memory (4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irtual memory, address translation, dynamic storage allo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architecture and 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6: Writing your own malloc pack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/O, Networking, and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cy (6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level and low-level I/O, network programming, Internet services, Web serv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urrency, concurrent server design, threads, I/O multiplexing with selec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ludes aspects of networking, OS, and architectur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7: Writing your own Web prox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b Rationale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ach lab should have a well-defined goal such as solving a puzzle or winning a contest. 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using a binary bomb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nning a performance contes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oing a lab should result in new skills and concep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ata Lab: computer arithmetic, digital logic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omb Labs: assembly language, using a debugger, understanding the stack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 Lab: profiling, measurement, performance debugging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ell Lab: understanding Unix process control and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loc Lab: understanding pointers and nasty memory bug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xy Lab: network programming, server desig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e try to use competition in a fun and healthy way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a threshhold for full credi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st intermediate results (anonymized) on Web page for glory!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4880" y="2647800"/>
            <a:ext cx="2871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ood Luck!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aching staff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Randy Bryant (Wed 10:00-11:00, WeH 422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f. David O’Hallaron (Tue 10:30-11:30, WeH 812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jesh Balan (TBD, WeH 8205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imin Chen (TBD, WeH 8019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drew Faulring (TBD,  NSH 2504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ubhav Gupta (TBD, WeH 8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nie Luo (TBD, WeH 8402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urse Admi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semary Battenfelder (WeH 4218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2880" y="5991120"/>
            <a:ext cx="6801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are the nominal office hours. Come talk to us anytime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Or phone or send email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extboo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ndal E. Bryant and David R. O’Hallaron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r Systems: A Programmer’s Perspective”, Prentice Hall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app.cs.cmu.ed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ian Kernighan and Dennis Ritchie,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C Programming Language, Second Edition”, Prentice Hall, 198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Compon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ectur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evel concep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c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plied concepts, important tools and skills for labs, clarification of lectures, exam cove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heart of the cour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or 2 wee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vide in-depth understanding of an aspect of syste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ming and measurem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tting Help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	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ww.cs.cmu.edu/afs/cs/academic/class/15213-f02/ww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pies of lectures, assignments, exams, solu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sgrou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mu.cs.class.cs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rifications to assignments, general discussion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sonal help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fessors: door open means come on in (no appt necessar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: please mail or zephyr fir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Assignme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ork group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You must work alone on all labs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except for Lab 7: Web Proxy, with work groups of two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andi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 due at 11:59pm on specified due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ly 11:59pm Thursday evening (to avoid 212 conflicts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lectronic handins onl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keup exams and assignmen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, but must make PRIOR arrangements with either Prof.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ppealing grad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in 7 days of due date or exam dat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ssignments: Talk to the lead person on the assignment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s: Talk to either Prof.  Bryant or O’Hallaron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heat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ing code: either by copying, retyping, looking at, or supplying a copy of a fi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at is NOT cheat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use systems or tool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with high-level design issu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lping others debug their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nalty for cheat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moval from course with failing gr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licies: Gra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s (4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in class exams (10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al (20%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exams are open book/open no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bs (60%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abs (8-12% ea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rading Characterist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b scores tend to be hi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ous handicap if you don’t hand a lab i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offer generous redemption progra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s typically have a wider range of sc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acilit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ssignments will use Intel Computer Systems Cluster (aka “the fish machines”)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5 Pentium III Xeon servers donated by Intel for CS 2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50 MHz with 256 MB memor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k mounted in the 3rd floor Wean machine roo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be setting up your accounts this week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Getting help with the cluster machines: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course Web page for inf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lease direct questions to your TA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18Z</dcterms:created>
  <dc:creator>Randal E. Bryant and David R. O'Hallaron</dc:creator>
  <dc:description/>
  <dc:language>en-US</dc:language>
  <cp:lastModifiedBy>droh</cp:lastModifiedBy>
  <cp:lastPrinted>2001-08-27T05:38:07Z</cp:lastPrinted>
  <dcterms:modified xsi:type="dcterms:W3CDTF">2002-10-28T20:23:45Z</dcterms:modified>
  <cp:revision>160</cp:revision>
  <dc:subject/>
  <dc:title>Course Overview</dc:title>
</cp:coreProperties>
</file>