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6B025F0-7472-4206-8A73-872B21D5187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6720" y="4419720"/>
            <a:ext cx="601056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ve great realities of computer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his fits within CS curricul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32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a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Memory Mat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is not unbound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 must be allocated and manag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applications are memory do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ing bugs especially pernicio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s are distant in both time and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performance is not uni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and virtual memory effects can greatly affect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ng program to characteristics of memory system can lead to major speed improv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Bu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523880"/>
            <a:ext cx="7315200" cy="228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 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 a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3.1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2] = 1073741824; /* Out of bounds referenc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d = %.15g\n", 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062000" y="4114800"/>
            <a:ext cx="7018200" cy="1218960"/>
            <a:chOff x="1062000" y="4114800"/>
            <a:chExt cx="7018200" cy="1218960"/>
          </a:xfrm>
        </p:grpSpPr>
        <p:sp>
          <p:nvSpPr>
            <p:cNvPr id="106" name=""/>
            <p:cNvSpPr/>
            <p:nvPr/>
          </p:nvSpPr>
          <p:spPr>
            <a:xfrm>
              <a:off x="1062000" y="4114800"/>
              <a:ext cx="7018200" cy="121896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36360" y="42019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01240" y="4201920"/>
              <a:ext cx="34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p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4320" y="420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24440" y="42019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13080" y="420192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76800" y="4201920"/>
              <a:ext cx="30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7440" y="4201920"/>
              <a:ext cx="612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9280" y="4201920"/>
              <a:ext cx="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92400" y="457992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42120" y="4579920"/>
              <a:ext cx="288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5.30498947741318e-3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28400" y="4579920"/>
              <a:ext cx="205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3999986648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270200" y="45799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292400" y="4975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4104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2876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270200" y="49752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3.1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55627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inux version gives correct result, but implementing as separate function gives segmentation fault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ferencing Err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7600" y="10663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nd C++ do not provide any memory pro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bounds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pointer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uses of malloc/fre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lead to nasty bu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ther or not bug has any effect depends on system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at a dist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upted object logically unrelated to one being access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ffect of bug may be first observed long after it is gener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can I deal with thi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in Java, Lisp, or M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 what possible interactions may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or develop tools to detect referencing err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Performanc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s of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ways to nest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3276720"/>
            <a:ext cx="4114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833400" y="3132000"/>
            <a:ext cx="5788080" cy="1185840"/>
            <a:chOff x="833400" y="3132000"/>
            <a:chExt cx="5788080" cy="1185840"/>
          </a:xfrm>
        </p:grpSpPr>
        <p:sp>
          <p:nvSpPr>
            <p:cNvPr id="131" name=""/>
            <p:cNvSpPr/>
            <p:nvPr/>
          </p:nvSpPr>
          <p:spPr>
            <a:xfrm>
              <a:off x="49338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166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0048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8472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6716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5140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356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1988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0232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865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7044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532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7120" y="431640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2136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05600" y="431640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8804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7228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56520" y="431640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896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23200" y="431640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07080" y="431640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34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17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01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84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68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52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5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19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03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7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70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4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38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20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00484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89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71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55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0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24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06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90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4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57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41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25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008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2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76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60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3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7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11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94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78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62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6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29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132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971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9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4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480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308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147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990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832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56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499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338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166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048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8472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6716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5140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356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1988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0232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865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7044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532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37120" y="39258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2136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05600" y="39258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8804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7228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56520" y="39258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3896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23200" y="39258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07080" y="39258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34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7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01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84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8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2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35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19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03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7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0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4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38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0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0484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89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1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55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40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24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6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90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74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57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1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25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08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92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6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60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43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7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11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94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78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62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46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29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132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971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79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64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480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08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147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990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832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56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499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38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166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0048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8472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716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5140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356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1988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65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7044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532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37120" y="35352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2136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05600" y="35352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804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7228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56520" y="35352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3896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23200" y="35352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07080" y="35352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34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7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01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84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8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52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35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419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03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7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70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54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838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20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484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89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71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5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340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4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06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90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674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57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41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25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08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92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76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60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43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27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11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94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78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62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46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9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132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833400" y="1962000"/>
            <a:ext cx="5788080" cy="1171800"/>
            <a:chOff x="833400" y="1962000"/>
            <a:chExt cx="5788080" cy="1171800"/>
          </a:xfrm>
        </p:grpSpPr>
        <p:sp>
          <p:nvSpPr>
            <p:cNvPr id="332" name=""/>
            <p:cNvSpPr/>
            <p:nvPr/>
          </p:nvSpPr>
          <p:spPr>
            <a:xfrm>
              <a:off x="40971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179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64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480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308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147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990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32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656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499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338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166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0048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8472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6716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5140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356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51988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232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865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7044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532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37120" y="313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2136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05600" y="313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8804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7228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56520" y="313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3896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23200" y="313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07080" y="313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34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17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01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84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68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52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335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19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3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87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70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4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38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20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0484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89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171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255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40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24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6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90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74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57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41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25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08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92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176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60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3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27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1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594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78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62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46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29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132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971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79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64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3480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4308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147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90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832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56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8499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338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66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048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8472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6716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5140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356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1988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0232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865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7044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532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937120" y="27417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02136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05600" y="27417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8804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7228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56520" y="27417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3896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23200" y="27417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07080" y="27417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34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17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01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84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68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2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35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19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503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87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0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4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38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20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0484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89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71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55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40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24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6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90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4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757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41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25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08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92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76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60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43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7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11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94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678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62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46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29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132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971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79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64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80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308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147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990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832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656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499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9338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166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048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472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6716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5140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4356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1988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0232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865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77044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532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37120" y="2351160"/>
              <a:ext cx="288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2136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05600" y="2351160"/>
              <a:ext cx="27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8804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7228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56520" y="2351160"/>
              <a:ext cx="266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43896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523200" y="2351160"/>
              <a:ext cx="284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607080" y="2351160"/>
              <a:ext cx="14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334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17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01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084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68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252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35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19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03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587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0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754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38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20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0484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89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171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55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40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24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06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0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74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7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1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25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08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92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76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791640" y="1962000"/>
            <a:ext cx="5871240" cy="3176280"/>
            <a:chOff x="791640" y="1962000"/>
            <a:chExt cx="5871240" cy="3176280"/>
          </a:xfrm>
        </p:grpSpPr>
        <p:sp>
          <p:nvSpPr>
            <p:cNvPr id="533" name=""/>
            <p:cNvSpPr/>
            <p:nvPr/>
          </p:nvSpPr>
          <p:spPr>
            <a:xfrm>
              <a:off x="3260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343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27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11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594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78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62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46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29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132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0971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9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64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3480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308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147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990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832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656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99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338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166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048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472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6716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5140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356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1988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60232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65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7044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37120" y="1962000"/>
              <a:ext cx="288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2136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05600" y="1962000"/>
              <a:ext cx="27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8804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7228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56520" y="1962000"/>
              <a:ext cx="26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3896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3200" y="1962000"/>
              <a:ext cx="284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07080" y="1962000"/>
              <a:ext cx="14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33400" y="1962000"/>
              <a:ext cx="5788080" cy="313380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3400" y="1962000"/>
              <a:ext cx="1800" cy="3133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2000" y="509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2000" y="47070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2000" y="431640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2000" y="39258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2000" y="35352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2000" y="313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2000" y="27417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000" y="2351160"/>
              <a:ext cx="414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2000" y="1962000"/>
              <a:ext cx="414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33400" y="5095800"/>
              <a:ext cx="5788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8334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1139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14479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17542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204624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23544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6607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96712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273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5812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8736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17996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4877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7941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10048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40720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0060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313320" y="5054400"/>
              <a:ext cx="180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621480" y="5054400"/>
              <a:ext cx="1440" cy="8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33400" y="2324160"/>
              <a:ext cx="5788080" cy="2117520"/>
            </a:xfrm>
            <a:custGeom>
              <a:avLst/>
              <a:gdLst/>
              <a:ahLst/>
              <a:rect l="l" t="t" r="r" b="b"/>
              <a:pathLst>
                <a:path w="3646" h="133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70"/>
                  </a:lnTo>
                  <a:lnTo>
                    <a:pt x="958" y="1123"/>
                  </a:lnTo>
                  <a:lnTo>
                    <a:pt x="1151" y="1141"/>
                  </a:lnTo>
                  <a:lnTo>
                    <a:pt x="1344" y="1158"/>
                  </a:lnTo>
                  <a:lnTo>
                    <a:pt x="1537" y="1176"/>
                  </a:lnTo>
                  <a:lnTo>
                    <a:pt x="1731" y="1202"/>
                  </a:lnTo>
                  <a:lnTo>
                    <a:pt x="1915" y="1229"/>
                  </a:lnTo>
                  <a:lnTo>
                    <a:pt x="2108" y="1237"/>
                  </a:lnTo>
                  <a:lnTo>
                    <a:pt x="2302" y="1255"/>
                  </a:lnTo>
                  <a:lnTo>
                    <a:pt x="2495" y="1272"/>
                  </a:lnTo>
                  <a:lnTo>
                    <a:pt x="2688" y="1307"/>
                  </a:lnTo>
                  <a:lnTo>
                    <a:pt x="2881" y="1307"/>
                  </a:lnTo>
                  <a:lnTo>
                    <a:pt x="3066" y="1307"/>
                  </a:lnTo>
                  <a:lnTo>
                    <a:pt x="3259" y="1316"/>
                  </a:lnTo>
                  <a:lnTo>
                    <a:pt x="3452" y="1334"/>
                  </a:lnTo>
                  <a:lnTo>
                    <a:pt x="3646" y="1325"/>
                  </a:lnTo>
                </a:path>
              </a:pathLst>
            </a:cu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3400" y="2324160"/>
              <a:ext cx="5788080" cy="1560600"/>
            </a:xfrm>
            <a:custGeom>
              <a:avLst/>
              <a:gdLst/>
              <a:ahLst/>
              <a:rect l="l" t="t" r="r" b="b"/>
              <a:pathLst>
                <a:path w="3646" h="983">
                  <a:moveTo>
                    <a:pt x="0" y="0"/>
                  </a:moveTo>
                  <a:lnTo>
                    <a:pt x="193" y="202"/>
                  </a:lnTo>
                  <a:lnTo>
                    <a:pt x="387" y="219"/>
                  </a:lnTo>
                  <a:lnTo>
                    <a:pt x="580" y="167"/>
                  </a:lnTo>
                  <a:lnTo>
                    <a:pt x="764" y="333"/>
                  </a:lnTo>
                  <a:lnTo>
                    <a:pt x="958" y="430"/>
                  </a:lnTo>
                  <a:lnTo>
                    <a:pt x="1151" y="500"/>
                  </a:lnTo>
                  <a:lnTo>
                    <a:pt x="1344" y="553"/>
                  </a:lnTo>
                  <a:lnTo>
                    <a:pt x="1537" y="562"/>
                  </a:lnTo>
                  <a:lnTo>
                    <a:pt x="1731" y="676"/>
                  </a:lnTo>
                  <a:lnTo>
                    <a:pt x="1915" y="737"/>
                  </a:lnTo>
                  <a:lnTo>
                    <a:pt x="2108" y="772"/>
                  </a:lnTo>
                  <a:lnTo>
                    <a:pt x="2302" y="798"/>
                  </a:lnTo>
                  <a:lnTo>
                    <a:pt x="2495" y="834"/>
                  </a:lnTo>
                  <a:lnTo>
                    <a:pt x="2688" y="895"/>
                  </a:lnTo>
                  <a:lnTo>
                    <a:pt x="2881" y="930"/>
                  </a:lnTo>
                  <a:lnTo>
                    <a:pt x="3066" y="930"/>
                  </a:lnTo>
                  <a:lnTo>
                    <a:pt x="3259" y="956"/>
                  </a:lnTo>
                  <a:lnTo>
                    <a:pt x="3452" y="983"/>
                  </a:lnTo>
                  <a:lnTo>
                    <a:pt x="3646" y="983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3400" y="2476440"/>
              <a:ext cx="5788080" cy="1895400"/>
            </a:xfrm>
            <a:custGeom>
              <a:avLst/>
              <a:gdLst/>
              <a:ahLst/>
              <a:rect l="l" t="t" r="r" b="b"/>
              <a:pathLst>
                <a:path w="3646" h="1194">
                  <a:moveTo>
                    <a:pt x="0" y="0"/>
                  </a:moveTo>
                  <a:lnTo>
                    <a:pt x="193" y="106"/>
                  </a:lnTo>
                  <a:lnTo>
                    <a:pt x="387" y="316"/>
                  </a:lnTo>
                  <a:lnTo>
                    <a:pt x="580" y="246"/>
                  </a:lnTo>
                  <a:lnTo>
                    <a:pt x="764" y="387"/>
                  </a:lnTo>
                  <a:lnTo>
                    <a:pt x="958" y="1001"/>
                  </a:lnTo>
                  <a:lnTo>
                    <a:pt x="1151" y="1018"/>
                  </a:lnTo>
                  <a:lnTo>
                    <a:pt x="1344" y="1054"/>
                  </a:lnTo>
                  <a:lnTo>
                    <a:pt x="1537" y="1054"/>
                  </a:lnTo>
                  <a:lnTo>
                    <a:pt x="1731" y="1089"/>
                  </a:lnTo>
                  <a:lnTo>
                    <a:pt x="1915" y="1106"/>
                  </a:lnTo>
                  <a:lnTo>
                    <a:pt x="2108" y="1133"/>
                  </a:lnTo>
                  <a:lnTo>
                    <a:pt x="2302" y="1150"/>
                  </a:lnTo>
                  <a:lnTo>
                    <a:pt x="2495" y="1168"/>
                  </a:lnTo>
                  <a:lnTo>
                    <a:pt x="2688" y="1185"/>
                  </a:lnTo>
                  <a:lnTo>
                    <a:pt x="2881" y="1194"/>
                  </a:lnTo>
                  <a:lnTo>
                    <a:pt x="3066" y="1185"/>
                  </a:lnTo>
                  <a:lnTo>
                    <a:pt x="3259" y="1194"/>
                  </a:lnTo>
                  <a:lnTo>
                    <a:pt x="3452" y="1194"/>
                  </a:lnTo>
                  <a:lnTo>
                    <a:pt x="3646" y="1194"/>
                  </a:lnTo>
                </a:path>
              </a:pathLst>
            </a:custGeom>
            <a:noFill/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33400" y="2324160"/>
              <a:ext cx="5788080" cy="2298600"/>
            </a:xfrm>
            <a:custGeom>
              <a:avLst/>
              <a:gdLst/>
              <a:ahLst/>
              <a:rect l="l" t="t" r="r" b="b"/>
              <a:pathLst>
                <a:path w="3646" h="1448">
                  <a:moveTo>
                    <a:pt x="0" y="0"/>
                  </a:moveTo>
                  <a:lnTo>
                    <a:pt x="193" y="237"/>
                  </a:lnTo>
                  <a:lnTo>
                    <a:pt x="387" y="1281"/>
                  </a:lnTo>
                  <a:lnTo>
                    <a:pt x="580" y="1290"/>
                  </a:lnTo>
                  <a:lnTo>
                    <a:pt x="764" y="1307"/>
                  </a:lnTo>
                  <a:lnTo>
                    <a:pt x="958" y="1316"/>
                  </a:lnTo>
                  <a:lnTo>
                    <a:pt x="1151" y="1325"/>
                  </a:lnTo>
                  <a:lnTo>
                    <a:pt x="1344" y="1334"/>
                  </a:lnTo>
                  <a:lnTo>
                    <a:pt x="1537" y="1343"/>
                  </a:lnTo>
                  <a:lnTo>
                    <a:pt x="1731" y="1360"/>
                  </a:lnTo>
                  <a:lnTo>
                    <a:pt x="1915" y="1369"/>
                  </a:lnTo>
                  <a:lnTo>
                    <a:pt x="2108" y="1386"/>
                  </a:lnTo>
                  <a:lnTo>
                    <a:pt x="2302" y="1395"/>
                  </a:lnTo>
                  <a:lnTo>
                    <a:pt x="2495" y="1404"/>
                  </a:lnTo>
                  <a:lnTo>
                    <a:pt x="2688" y="1413"/>
                  </a:lnTo>
                  <a:lnTo>
                    <a:pt x="2881" y="1422"/>
                  </a:lnTo>
                  <a:lnTo>
                    <a:pt x="3066" y="1430"/>
                  </a:lnTo>
                  <a:lnTo>
                    <a:pt x="3259" y="1430"/>
                  </a:lnTo>
                  <a:lnTo>
                    <a:pt x="3452" y="1439"/>
                  </a:lnTo>
                  <a:lnTo>
                    <a:pt x="3646" y="1448"/>
                  </a:lnTo>
                </a:path>
              </a:pathLst>
            </a:custGeom>
            <a:noFill/>
            <a:ln w="144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33400" y="2324160"/>
              <a:ext cx="5788080" cy="1768320"/>
            </a:xfrm>
            <a:custGeom>
              <a:avLst/>
              <a:gdLst/>
              <a:ahLst/>
              <a:rect l="l" t="t" r="r" b="b"/>
              <a:pathLst>
                <a:path w="3646" h="1114">
                  <a:moveTo>
                    <a:pt x="0" y="0"/>
                  </a:moveTo>
                  <a:lnTo>
                    <a:pt x="193" y="123"/>
                  </a:lnTo>
                  <a:lnTo>
                    <a:pt x="387" y="219"/>
                  </a:lnTo>
                  <a:lnTo>
                    <a:pt x="580" y="263"/>
                  </a:lnTo>
                  <a:lnTo>
                    <a:pt x="764" y="509"/>
                  </a:lnTo>
                  <a:lnTo>
                    <a:pt x="958" y="623"/>
                  </a:lnTo>
                  <a:lnTo>
                    <a:pt x="1151" y="649"/>
                  </a:lnTo>
                  <a:lnTo>
                    <a:pt x="1344" y="737"/>
                  </a:lnTo>
                  <a:lnTo>
                    <a:pt x="1537" y="816"/>
                  </a:lnTo>
                  <a:lnTo>
                    <a:pt x="1731" y="939"/>
                  </a:lnTo>
                  <a:lnTo>
                    <a:pt x="1915" y="983"/>
                  </a:lnTo>
                  <a:lnTo>
                    <a:pt x="2108" y="1035"/>
                  </a:lnTo>
                  <a:lnTo>
                    <a:pt x="2302" y="1035"/>
                  </a:lnTo>
                  <a:lnTo>
                    <a:pt x="2495" y="1097"/>
                  </a:lnTo>
                  <a:lnTo>
                    <a:pt x="2688" y="1114"/>
                  </a:lnTo>
                  <a:lnTo>
                    <a:pt x="2881" y="1097"/>
                  </a:lnTo>
                  <a:lnTo>
                    <a:pt x="3066" y="1106"/>
                  </a:lnTo>
                  <a:lnTo>
                    <a:pt x="3259" y="1106"/>
                  </a:lnTo>
                  <a:lnTo>
                    <a:pt x="3452" y="1114"/>
                  </a:lnTo>
                  <a:lnTo>
                    <a:pt x="3646" y="1114"/>
                  </a:lnTo>
                </a:path>
              </a:pathLst>
            </a:custGeom>
            <a:noFill/>
            <a:ln w="144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3400" y="2324160"/>
              <a:ext cx="5788080" cy="2368440"/>
            </a:xfrm>
            <a:custGeom>
              <a:avLst/>
              <a:gdLst/>
              <a:ahLst/>
              <a:rect l="l" t="t" r="r" b="b"/>
              <a:pathLst>
                <a:path w="3646" h="1492">
                  <a:moveTo>
                    <a:pt x="0" y="0"/>
                  </a:moveTo>
                  <a:lnTo>
                    <a:pt x="193" y="167"/>
                  </a:lnTo>
                  <a:lnTo>
                    <a:pt x="387" y="1299"/>
                  </a:lnTo>
                  <a:lnTo>
                    <a:pt x="580" y="1307"/>
                  </a:lnTo>
                  <a:lnTo>
                    <a:pt x="764" y="1316"/>
                  </a:lnTo>
                  <a:lnTo>
                    <a:pt x="958" y="1334"/>
                  </a:lnTo>
                  <a:lnTo>
                    <a:pt x="1151" y="1351"/>
                  </a:lnTo>
                  <a:lnTo>
                    <a:pt x="1344" y="1369"/>
                  </a:lnTo>
                  <a:lnTo>
                    <a:pt x="1537" y="1386"/>
                  </a:lnTo>
                  <a:lnTo>
                    <a:pt x="1731" y="1413"/>
                  </a:lnTo>
                  <a:lnTo>
                    <a:pt x="1915" y="1422"/>
                  </a:lnTo>
                  <a:lnTo>
                    <a:pt x="2108" y="1439"/>
                  </a:lnTo>
                  <a:lnTo>
                    <a:pt x="2302" y="1448"/>
                  </a:lnTo>
                  <a:lnTo>
                    <a:pt x="2495" y="1465"/>
                  </a:lnTo>
                  <a:lnTo>
                    <a:pt x="2688" y="1474"/>
                  </a:lnTo>
                  <a:lnTo>
                    <a:pt x="2881" y="1474"/>
                  </a:lnTo>
                  <a:lnTo>
                    <a:pt x="3066" y="1474"/>
                  </a:lnTo>
                  <a:lnTo>
                    <a:pt x="3259" y="1483"/>
                  </a:lnTo>
                  <a:lnTo>
                    <a:pt x="3452" y="1483"/>
                  </a:lnTo>
                  <a:lnTo>
                    <a:pt x="3646" y="1492"/>
                  </a:lnTo>
                </a:path>
              </a:pathLst>
            </a:custGeom>
            <a:noFill/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92000" y="22813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98720" y="247644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405080" y="26305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12880" y="270036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04840" y="318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11560" y="40654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19360" y="40924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25720" y="412128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232080" y="414972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26"/>
                  </a:lnTo>
                  <a:lnTo>
                    <a:pt x="26" y="52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8440" y="4191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32200" y="423216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38560" y="42465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44920" y="4275000"/>
              <a:ext cx="8424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51280" y="430200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9440" y="435780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6580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57760" y="43578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26"/>
                  </a:lnTo>
                  <a:lnTo>
                    <a:pt x="27" y="53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965920" y="437184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72280" y="439884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7"/>
                  </a:lnTo>
                  <a:lnTo>
                    <a:pt x="26" y="53"/>
                  </a:lnTo>
                  <a:lnTo>
                    <a:pt x="0" y="2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78640" y="438624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26"/>
                  </a:lnTo>
                  <a:lnTo>
                    <a:pt x="27" y="52"/>
                  </a:lnTo>
                  <a:lnTo>
                    <a:pt x="0" y="2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92000" y="22813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098720" y="2602080"/>
              <a:ext cx="8388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5080" y="2630520"/>
              <a:ext cx="8388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12880" y="254628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04840" y="281160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11560" y="296532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19360" y="30765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25720" y="315900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232080" y="31734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38440" y="335448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32200" y="345276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38560" y="350820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44920" y="354960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51280" y="3605040"/>
              <a:ext cx="842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59440" y="3703680"/>
              <a:ext cx="82440" cy="824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36580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657760" y="3759120"/>
              <a:ext cx="8424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65920" y="3800520"/>
              <a:ext cx="82440" cy="8424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27228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78640" y="3841920"/>
              <a:ext cx="84240" cy="8388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92000" y="24354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98720" y="2602080"/>
              <a:ext cx="8388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405080" y="293688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712880" y="2825640"/>
              <a:ext cx="82440" cy="8280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04840" y="304812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11560" y="402444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619360" y="405144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25720" y="4106880"/>
              <a:ext cx="82440" cy="842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32080" y="410688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38440" y="416232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32200" y="4191120"/>
              <a:ext cx="82440" cy="8388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26" y="0"/>
                  </a:moveTo>
                  <a:lnTo>
                    <a:pt x="52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38560" y="4232160"/>
              <a:ext cx="8424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44920" y="426096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51280" y="428796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7" y="0"/>
                  </a:moveTo>
                  <a:lnTo>
                    <a:pt x="53" y="53"/>
                  </a:lnTo>
                  <a:lnTo>
                    <a:pt x="0" y="5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59440" y="43164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580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657760" y="43164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965920" y="4330800"/>
              <a:ext cx="82440" cy="8244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6" y="0"/>
                  </a:moveTo>
                  <a:lnTo>
                    <a:pt x="52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7228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78640" y="43308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7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flipV="1">
              <a:off x="1098720" y="265716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139760" y="2700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098720" y="2700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9760" y="2657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404720" y="431604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447920" y="4357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140472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447920" y="43160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1712520" y="4330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54280" y="437184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1712520" y="437184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1754280" y="433080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2004480" y="435780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46240" y="43988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2004480" y="439884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2046240" y="435780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2311200" y="43714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54400" y="441324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2311200" y="441324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354400" y="43714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2619000" y="43858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660760" y="442764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19000" y="442764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660760" y="43858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2925360" y="4398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67120" y="444168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2925360" y="44416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967120" y="439848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 flipV="1">
              <a:off x="3231720" y="44128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73480" y="4456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3231720" y="4456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3273480" y="44128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538080" y="44413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81280" y="448308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538080" y="448308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581280" y="44413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 flipV="1">
              <a:off x="3831840" y="4455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73600" y="449748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83184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3873600" y="445572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4138200" y="44827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79960" y="452448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138200" y="452448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179960" y="44827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4444560" y="4497480"/>
              <a:ext cx="428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87760" y="45385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4444560" y="45385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4487760" y="449748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4750920" y="45111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455292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4750920" y="455292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794120" y="45111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5059440" y="45241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100480" y="4567320"/>
              <a:ext cx="414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505944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5100480" y="45241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5365440" y="453816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247680" y="1884240"/>
            <a:ext cx="7251840" cy="3843720"/>
            <a:chOff x="247680" y="1884240"/>
            <a:chExt cx="7251840" cy="3843720"/>
          </a:xfrm>
        </p:grpSpPr>
        <p:sp>
          <p:nvSpPr>
            <p:cNvPr id="734" name=""/>
            <p:cNvSpPr/>
            <p:nvPr/>
          </p:nvSpPr>
          <p:spPr>
            <a:xfrm>
              <a:off x="5407200" y="45813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365440" y="45813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5407200" y="453816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5657400" y="45525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70060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5657400" y="4594320"/>
              <a:ext cx="428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70060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5965920" y="45525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06960" y="4594320"/>
              <a:ext cx="4140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5965920" y="4594320"/>
              <a:ext cx="41040" cy="428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6006960" y="45525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6272280" y="4567320"/>
              <a:ext cx="4104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13320" y="4608360"/>
              <a:ext cx="432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6272280" y="4608360"/>
              <a:ext cx="410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313320" y="4567320"/>
              <a:ext cx="43200" cy="4104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578280" y="458100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1480" y="462276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6578280" y="4622760"/>
              <a:ext cx="4284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6621480" y="4581000"/>
              <a:ext cx="41400" cy="41400"/>
            </a:xfrm>
            <a:prstGeom prst="line">
              <a:avLst/>
            </a:prstGeom>
            <a:ln w="144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791640" y="22809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33400" y="23241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91640" y="232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833400" y="228096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833400" y="228096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33400" y="23241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1098720" y="24760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39760" y="25192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098720" y="25192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1139760" y="24760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1139760" y="24760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39760" y="25192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1404720" y="2630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447920" y="267192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1404720" y="267192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1447920" y="263016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1447920" y="263016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47920" y="267192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1712520" y="2700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4280" y="2741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1712520" y="2741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1754280" y="27000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1754280" y="27000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54280" y="2741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2004480" y="30909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46240" y="313200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004480" y="31320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046240" y="309096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2046240" y="309096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046240" y="313200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 flipV="1">
              <a:off x="2311200" y="327132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354400" y="33130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311200" y="33130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2354400" y="32713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354400" y="32713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54400" y="33130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2619000" y="331272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60760" y="3354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619000" y="3354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2660760" y="331272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2660760" y="331272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60760" y="3354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925360" y="345240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967120" y="34941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2925360" y="34941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2967120" y="345240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2967120" y="345240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967120" y="34941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3231720" y="357840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73480" y="3619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231720" y="3619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3273480" y="357840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273480" y="357840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3480" y="3619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3538080" y="377316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581280" y="381492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38080" y="381492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581280" y="377316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581280" y="377316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81280" y="381492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3831840" y="384156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73600" y="388476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831840" y="388476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873600" y="384156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873600" y="384156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73600" y="388476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413820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799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413820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41799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V="1">
              <a:off x="4179960" y="392544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179960" y="396720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4444560" y="392544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7760" y="396720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444560" y="396720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487760" y="392544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487760" y="392544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487760" y="396720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475092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79412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75092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479412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4794120" y="4024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94120" y="40654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 flipV="1">
              <a:off x="505944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00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05944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5100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510048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048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5365440" y="4024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407200" y="40654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365440" y="40654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5407200" y="4024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5407200" y="4024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07200" y="4065480"/>
              <a:ext cx="14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5657400" y="40366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0060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657400" y="4079880"/>
              <a:ext cx="428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70060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570060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0060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5965920" y="40366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06960" y="4079880"/>
              <a:ext cx="414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5965920" y="4079880"/>
              <a:ext cx="4104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006960" y="40366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006960" y="40366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06960" y="4079880"/>
              <a:ext cx="1800" cy="4140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272280" y="4051440"/>
              <a:ext cx="410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313320" y="4092480"/>
              <a:ext cx="432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72280" y="4092480"/>
              <a:ext cx="410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6313320" y="4051440"/>
              <a:ext cx="432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313320" y="4051440"/>
              <a:ext cx="18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13320" y="4092480"/>
              <a:ext cx="18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6578280" y="4051440"/>
              <a:ext cx="428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621480" y="4092480"/>
              <a:ext cx="4140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578280" y="4092480"/>
              <a:ext cx="428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6621480" y="4051440"/>
              <a:ext cx="4140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621480" y="4051440"/>
              <a:ext cx="1440" cy="410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621480" y="4092480"/>
              <a:ext cx="1440" cy="42840"/>
            </a:xfrm>
            <a:prstGeom prst="line">
              <a:avLst/>
            </a:prstGeom>
            <a:ln w="14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92000" y="228132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98720" y="254628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05080" y="434340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712880" y="435780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004840" y="437184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11560" y="4398840"/>
              <a:ext cx="8388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19360" y="4427640"/>
              <a:ext cx="824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925720" y="445608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32080" y="448308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538440" y="4524480"/>
              <a:ext cx="84240" cy="8388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32200" y="453852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38560" y="456732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44920" y="4581360"/>
              <a:ext cx="84240" cy="8280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51280" y="46083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59440" y="4622760"/>
              <a:ext cx="824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6580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57760" y="4622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965920" y="4637160"/>
              <a:ext cx="824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72280" y="4637160"/>
              <a:ext cx="84240" cy="824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78640" y="4649760"/>
              <a:ext cx="84240" cy="84240"/>
            </a:xfrm>
            <a:prstGeom prst="ellipse">
              <a:avLst/>
            </a:prstGeom>
            <a:solidFill>
              <a:srgbClr val="ff00ff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2280" y="50180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3800" y="46292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3800" y="42386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800" y="3848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800" y="34574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8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37480" y="305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0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37480" y="26640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2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37480" y="227340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4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7480" y="1884240"/>
              <a:ext cx="21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16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02" name="" descr=""/>
            <p:cNvPicPr/>
            <p:nvPr/>
          </p:nvPicPr>
          <p:blipFill>
            <a:blip r:embed="rId1"/>
            <a:stretch/>
          </p:blipFill>
          <p:spPr>
            <a:xfrm>
              <a:off x="568440" y="5221440"/>
              <a:ext cx="2235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87624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182600" y="5221440"/>
              <a:ext cx="2224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14191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" descr=""/>
            <p:cNvPicPr/>
            <p:nvPr/>
          </p:nvPicPr>
          <p:blipFill>
            <a:blip r:embed="rId5"/>
            <a:stretch/>
          </p:blipFill>
          <p:spPr>
            <a:xfrm>
              <a:off x="17128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6"/>
            <a:stretch/>
          </p:blipFill>
          <p:spPr>
            <a:xfrm>
              <a:off x="201924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7"/>
            <a:stretch/>
          </p:blipFill>
          <p:spPr>
            <a:xfrm>
              <a:off x="232560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8"/>
            <a:stretch/>
          </p:blipFill>
          <p:spPr>
            <a:xfrm>
              <a:off x="26319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9"/>
            <a:stretch/>
          </p:blipFill>
          <p:spPr>
            <a:xfrm>
              <a:off x="29401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1" name="" descr=""/>
            <p:cNvPicPr/>
            <p:nvPr/>
          </p:nvPicPr>
          <p:blipFill>
            <a:blip r:embed="rId10"/>
            <a:stretch/>
          </p:blipFill>
          <p:spPr>
            <a:xfrm>
              <a:off x="32464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2" name="" descr=""/>
            <p:cNvPicPr/>
            <p:nvPr/>
          </p:nvPicPr>
          <p:blipFill>
            <a:blip r:embed="rId11"/>
            <a:stretch/>
          </p:blipFill>
          <p:spPr>
            <a:xfrm>
              <a:off x="353844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3" name="" descr=""/>
            <p:cNvPicPr/>
            <p:nvPr/>
          </p:nvPicPr>
          <p:blipFill>
            <a:blip r:embed="rId12"/>
            <a:stretch/>
          </p:blipFill>
          <p:spPr>
            <a:xfrm>
              <a:off x="38466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" descr=""/>
            <p:cNvPicPr/>
            <p:nvPr/>
          </p:nvPicPr>
          <p:blipFill>
            <a:blip r:embed="rId13"/>
            <a:stretch/>
          </p:blipFill>
          <p:spPr>
            <a:xfrm>
              <a:off x="415296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5" name="" descr=""/>
            <p:cNvPicPr/>
            <p:nvPr/>
          </p:nvPicPr>
          <p:blipFill>
            <a:blip r:embed="rId14"/>
            <a:stretch/>
          </p:blipFill>
          <p:spPr>
            <a:xfrm>
              <a:off x="445932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" descr=""/>
            <p:cNvPicPr/>
            <p:nvPr/>
          </p:nvPicPr>
          <p:blipFill>
            <a:blip r:embed="rId15"/>
            <a:stretch/>
          </p:blipFill>
          <p:spPr>
            <a:xfrm>
              <a:off x="476568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" descr=""/>
            <p:cNvPicPr/>
            <p:nvPr/>
          </p:nvPicPr>
          <p:blipFill>
            <a:blip r:embed="rId16"/>
            <a:stretch/>
          </p:blipFill>
          <p:spPr>
            <a:xfrm>
              <a:off x="5073480" y="5221440"/>
              <a:ext cx="29232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" descr=""/>
            <p:cNvPicPr/>
            <p:nvPr/>
          </p:nvPicPr>
          <p:blipFill>
            <a:blip r:embed="rId17"/>
            <a:stretch/>
          </p:blipFill>
          <p:spPr>
            <a:xfrm>
              <a:off x="536580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" descr=""/>
            <p:cNvPicPr/>
            <p:nvPr/>
          </p:nvPicPr>
          <p:blipFill>
            <a:blip r:embed="rId18"/>
            <a:stretch/>
          </p:blipFill>
          <p:spPr>
            <a:xfrm>
              <a:off x="567216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9"/>
            <a:stretch/>
          </p:blipFill>
          <p:spPr>
            <a:xfrm>
              <a:off x="5978520" y="5221440"/>
              <a:ext cx="293760" cy="29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" descr=""/>
            <p:cNvPicPr/>
            <p:nvPr/>
          </p:nvPicPr>
          <p:blipFill>
            <a:blip r:embed="rId20"/>
            <a:stretch/>
          </p:blipFill>
          <p:spPr>
            <a:xfrm>
              <a:off x="6286680" y="5221440"/>
              <a:ext cx="29196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331440" y="557532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eneva"/>
                </a:rPr>
                <a:t>matrix size (n)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23" name="" descr=""/>
            <p:cNvPicPr/>
            <p:nvPr/>
          </p:nvPicPr>
          <p:blipFill>
            <a:blip r:embed="rId21"/>
            <a:stretch/>
          </p:blipFill>
          <p:spPr>
            <a:xfrm>
              <a:off x="247680" y="3033720"/>
              <a:ext cx="1681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>
              <a:off x="6885000" y="2936880"/>
              <a:ext cx="614520" cy="11844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927840" y="3048120"/>
              <a:ext cx="320760" cy="1440"/>
            </a:xfrm>
            <a:prstGeom prst="line">
              <a:avLst/>
            </a:prstGeom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039080" y="300672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26" y="0"/>
                  </a:moveTo>
                  <a:lnTo>
                    <a:pt x="53" y="26"/>
                  </a:lnTo>
                  <a:lnTo>
                    <a:pt x="26" y="53"/>
                  </a:lnTo>
                  <a:lnTo>
                    <a:pt x="0" y="2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355520" y="29559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j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27840" y="3243240"/>
              <a:ext cx="320760" cy="1440"/>
            </a:xfrm>
            <a:prstGeom prst="line">
              <a:avLst/>
            </a:prstGeom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39080" y="3201840"/>
              <a:ext cx="83880" cy="82800"/>
            </a:xfrm>
            <a:prstGeom prst="rect">
              <a:avLst/>
            </a:prstGeom>
            <a:solidFill>
              <a:srgbClr val="ffff00"/>
            </a:solidFill>
            <a:ln w="144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355520" y="315108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927840" y="3438360"/>
              <a:ext cx="320760" cy="1800"/>
            </a:xfrm>
            <a:prstGeom prst="line">
              <a:avLst/>
            </a:prstGeom>
            <a:ln w="144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039080" y="3397320"/>
              <a:ext cx="8388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26" y="0"/>
                  </a:moveTo>
                  <a:lnTo>
                    <a:pt x="53" y="52"/>
                  </a:lnTo>
                  <a:lnTo>
                    <a:pt x="0" y="5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355520" y="3346560"/>
              <a:ext cx="13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Geneva"/>
                </a:rPr>
                <a:t>jik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6927840" y="3633840"/>
            <a:ext cx="320760" cy="14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7039080" y="3590640"/>
            <a:ext cx="410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080120" y="3633840"/>
            <a:ext cx="428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7039080" y="3633840"/>
            <a:ext cx="41040" cy="4140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7080120" y="3590640"/>
            <a:ext cx="42840" cy="4284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355520" y="35416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jk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927840" y="3828960"/>
            <a:ext cx="320760" cy="18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039080" y="3785760"/>
            <a:ext cx="410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080120" y="3828960"/>
            <a:ext cx="428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7039080" y="3828960"/>
            <a:ext cx="4104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7080120" y="3785760"/>
            <a:ext cx="4284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7080120" y="3785760"/>
            <a:ext cx="1800" cy="4284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80120" y="3828960"/>
            <a:ext cx="1800" cy="41400"/>
          </a:xfrm>
          <a:prstGeom prst="line">
            <a:avLst/>
          </a:prstGeom>
          <a:ln w="14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355520" y="373680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ij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927840" y="4024440"/>
            <a:ext cx="320760" cy="1440"/>
          </a:xfrm>
          <a:prstGeom prst="line">
            <a:avLst/>
          </a:prstGeom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039080" y="3981600"/>
            <a:ext cx="83880" cy="83880"/>
          </a:xfrm>
          <a:prstGeom prst="ellipse">
            <a:avLst/>
          </a:prstGeom>
          <a:solidFill>
            <a:srgbClr val="ff00ff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55520" y="3932280"/>
            <a:ext cx="1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neva"/>
              </a:rPr>
              <a:t>kj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95400" y="1738440"/>
            <a:ext cx="7459560" cy="4165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mult Performance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1523880" y="1460520"/>
            <a:ext cx="106704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35072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1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331800" y="1166760"/>
            <a:ext cx="184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Too big for L2 Cach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2514240" y="1460520"/>
            <a:ext cx="1066680" cy="23367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8328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mult perf (Alpha 2116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609480" y="1600200"/>
            <a:ext cx="8124840" cy="4545000"/>
            <a:chOff x="609480" y="1600200"/>
            <a:chExt cx="8124840" cy="4545000"/>
          </a:xfrm>
        </p:grpSpPr>
        <p:grpSp>
          <p:nvGrpSpPr>
            <p:cNvPr id="959" name=""/>
            <p:cNvGrpSpPr/>
            <p:nvPr/>
          </p:nvGrpSpPr>
          <p:grpSpPr>
            <a:xfrm>
              <a:off x="1415880" y="2739960"/>
              <a:ext cx="6222960" cy="1324080"/>
              <a:chOff x="1415880" y="2739960"/>
              <a:chExt cx="6222960" cy="132408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68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98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89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88152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971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06404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154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465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369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290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194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611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7019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794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8844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976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673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159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24988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41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3240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52456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1492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707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9744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8896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979960" y="40626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072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164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254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3468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4371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5293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196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7118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8022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89436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9850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07688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6760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25940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35012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442280" y="40626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32640" y="40626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624800" y="40626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415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06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98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6891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80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716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638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541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46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328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192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511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017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693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784240" y="362268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76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968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8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151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41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33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4243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16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6068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98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789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88152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971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06404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154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2465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3369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4290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194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611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7019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794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8844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976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0673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159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24988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41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43240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52456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61492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07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79744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896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979960" y="362268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072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164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254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468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4371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5293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6196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118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8022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9436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850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7688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6760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5940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5012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42280" y="362268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532640" y="362268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624800" y="362268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415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506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598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6891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80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716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9638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0541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146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2366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28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192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511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017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93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84240" y="318132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76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68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58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51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241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333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4243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516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6068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698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789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8152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971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06404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154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2465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3369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4290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5194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611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7019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94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48844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976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0673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59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24988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341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240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52456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1492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707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79744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896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979960" y="318132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072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164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254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3468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4371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5293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196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7118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8022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89436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9850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07688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16760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25940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35012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42280" y="318132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32640" y="318132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624800" y="318132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415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506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98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6891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780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8716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9638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541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146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2366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328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4192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511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6017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2693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2784240" y="2739960"/>
                <a:ext cx="32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876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1369800" y="1843200"/>
              <a:ext cx="6269040" cy="3559320"/>
              <a:chOff x="1369800" y="1843200"/>
              <a:chExt cx="6269040" cy="3559320"/>
            </a:xfrm>
          </p:grpSpPr>
          <p:sp>
            <p:nvSpPr>
              <p:cNvPr id="1161" name=""/>
              <p:cNvSpPr/>
              <p:nvPr/>
            </p:nvSpPr>
            <p:spPr>
              <a:xfrm>
                <a:off x="2968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058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151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241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333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4243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516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6068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698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789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8152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71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6404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154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2465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3369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290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5194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11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7019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794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8844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976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0673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159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24988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341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3240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2456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1492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07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9744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896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979960" y="2739960"/>
                <a:ext cx="316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72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164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54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3468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4371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5293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196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118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22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89436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9850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7688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16760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25940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5012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442280" y="2739960"/>
                <a:ext cx="2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32640" y="2739960"/>
                <a:ext cx="302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624800" y="2739960"/>
                <a:ext cx="140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415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506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598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891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80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8716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9638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0541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46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2366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328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4192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511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26017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693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784240" y="228456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876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968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058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151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241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33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4243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516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6068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698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89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8152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71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06404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154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2465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3369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4290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5194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611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019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94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8844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976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0673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159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24988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341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3240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52456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61492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707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79744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896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979960" y="228456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6072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6164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254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468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371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5293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6196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118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8022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89436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9850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07688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16760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25940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35012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42280" y="228456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532640" y="228456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624800" y="228456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415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506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598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16891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1780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8716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19638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0541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146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2366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328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4192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2511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26017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2693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2784240" y="1843200"/>
                <a:ext cx="32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2876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2968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058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151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3241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3333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34243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516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6068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3698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3789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388152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3971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06404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154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2465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3369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4290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5194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611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7019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794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8844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976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0673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159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24988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341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43240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52456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61492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707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79744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896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979960" y="1843200"/>
                <a:ext cx="316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072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64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254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3468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371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5293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196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118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8022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89436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9850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707688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716760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25940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35012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7442280" y="1843200"/>
                <a:ext cx="2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532640" y="1843200"/>
                <a:ext cx="302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624800" y="1843200"/>
                <a:ext cx="140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415880" y="1843200"/>
                <a:ext cx="6222960" cy="355752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415880" y="1843200"/>
                <a:ext cx="1800" cy="35575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369800" y="54007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369800" y="49593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1369800" y="45198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69800" y="40626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69800" y="362268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1369800" y="318132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369800" y="2739960"/>
                <a:ext cx="460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369800" y="228456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61" name=""/>
            <p:cNvGrpSpPr/>
            <p:nvPr/>
          </p:nvGrpSpPr>
          <p:grpSpPr>
            <a:xfrm>
              <a:off x="776160" y="1758960"/>
              <a:ext cx="7897680" cy="4195440"/>
              <a:chOff x="776160" y="1758960"/>
              <a:chExt cx="7897680" cy="4195440"/>
            </a:xfrm>
          </p:grpSpPr>
          <p:sp>
            <p:nvSpPr>
              <p:cNvPr id="1362" name=""/>
              <p:cNvSpPr/>
              <p:nvPr/>
            </p:nvSpPr>
            <p:spPr>
              <a:xfrm>
                <a:off x="1369800" y="1843200"/>
                <a:ext cx="460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415880" y="5400720"/>
                <a:ext cx="62229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V="1">
                <a:off x="1415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V="1">
                <a:off x="1765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V="1">
                <a:off x="21002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V="1">
                <a:off x="24508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28000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15108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484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383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V="1">
                <a:off x="418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4535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4870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5219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V="1">
                <a:off x="557028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9054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62546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6603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V="1">
                <a:off x="6954840" y="5354640"/>
                <a:ext cx="144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V="1">
                <a:off x="72896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7638840" y="5354640"/>
                <a:ext cx="1800" cy="92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1415880" y="2679840"/>
                <a:ext cx="6222960" cy="973080"/>
              </a:xfrm>
              <a:custGeom>
                <a:avLst/>
                <a:gdLst/>
                <a:ahLst/>
                <a:rect l="l" t="t" r="r" b="b"/>
                <a:pathLst>
                  <a:path w="3920" h="613">
                    <a:moveTo>
                      <a:pt x="0" y="517"/>
                    </a:moveTo>
                    <a:lnTo>
                      <a:pt x="220" y="613"/>
                    </a:lnTo>
                    <a:lnTo>
                      <a:pt x="431" y="565"/>
                    </a:lnTo>
                    <a:lnTo>
                      <a:pt x="652" y="153"/>
                    </a:lnTo>
                    <a:lnTo>
                      <a:pt x="872" y="287"/>
                    </a:lnTo>
                    <a:lnTo>
                      <a:pt x="1093" y="96"/>
                    </a:lnTo>
                    <a:lnTo>
                      <a:pt x="1303" y="0"/>
                    </a:lnTo>
                    <a:lnTo>
                      <a:pt x="1524" y="163"/>
                    </a:lnTo>
                    <a:lnTo>
                      <a:pt x="1744" y="38"/>
                    </a:lnTo>
                    <a:lnTo>
                      <a:pt x="1965" y="153"/>
                    </a:lnTo>
                    <a:lnTo>
                      <a:pt x="2176" y="144"/>
                    </a:lnTo>
                    <a:lnTo>
                      <a:pt x="2396" y="57"/>
                    </a:lnTo>
                    <a:lnTo>
                      <a:pt x="2617" y="163"/>
                    </a:lnTo>
                    <a:lnTo>
                      <a:pt x="2828" y="86"/>
                    </a:lnTo>
                    <a:lnTo>
                      <a:pt x="3048" y="86"/>
                    </a:lnTo>
                    <a:lnTo>
                      <a:pt x="3268" y="153"/>
                    </a:lnTo>
                    <a:lnTo>
                      <a:pt x="3489" y="124"/>
                    </a:lnTo>
                    <a:lnTo>
                      <a:pt x="3700" y="182"/>
                    </a:lnTo>
                    <a:lnTo>
                      <a:pt x="3920" y="163"/>
                    </a:lnTo>
                  </a:path>
                </a:pathLst>
              </a:custGeom>
              <a:noFill/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415880" y="2254320"/>
                <a:ext cx="6222960" cy="1778040"/>
              </a:xfrm>
              <a:custGeom>
                <a:avLst/>
                <a:gdLst/>
                <a:ahLst/>
                <a:rect l="l" t="t" r="r" b="b"/>
                <a:pathLst>
                  <a:path w="3920" h="1120">
                    <a:moveTo>
                      <a:pt x="0" y="785"/>
                    </a:moveTo>
                    <a:lnTo>
                      <a:pt x="220" y="1120"/>
                    </a:lnTo>
                    <a:lnTo>
                      <a:pt x="431" y="919"/>
                    </a:lnTo>
                    <a:lnTo>
                      <a:pt x="652" y="287"/>
                    </a:lnTo>
                    <a:lnTo>
                      <a:pt x="872" y="737"/>
                    </a:lnTo>
                    <a:lnTo>
                      <a:pt x="1093" y="287"/>
                    </a:lnTo>
                    <a:lnTo>
                      <a:pt x="1303" y="0"/>
                    </a:lnTo>
                    <a:lnTo>
                      <a:pt x="1524" y="373"/>
                    </a:lnTo>
                    <a:lnTo>
                      <a:pt x="1744" y="172"/>
                    </a:lnTo>
                    <a:lnTo>
                      <a:pt x="1965" y="479"/>
                    </a:lnTo>
                    <a:lnTo>
                      <a:pt x="2176" y="345"/>
                    </a:lnTo>
                    <a:lnTo>
                      <a:pt x="2396" y="134"/>
                    </a:lnTo>
                    <a:lnTo>
                      <a:pt x="2617" y="431"/>
                    </a:lnTo>
                    <a:lnTo>
                      <a:pt x="2828" y="239"/>
                    </a:lnTo>
                    <a:lnTo>
                      <a:pt x="3048" y="153"/>
                    </a:lnTo>
                    <a:lnTo>
                      <a:pt x="3268" y="325"/>
                    </a:lnTo>
                    <a:lnTo>
                      <a:pt x="3489" y="230"/>
                    </a:lnTo>
                    <a:lnTo>
                      <a:pt x="3700" y="412"/>
                    </a:lnTo>
                    <a:lnTo>
                      <a:pt x="3920" y="287"/>
                    </a:lnTo>
                  </a:path>
                </a:pathLst>
              </a:custGeom>
              <a:noFill/>
              <a:ln w="158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415880" y="2481480"/>
                <a:ext cx="6222960" cy="2174760"/>
              </a:xfrm>
              <a:custGeom>
                <a:avLst/>
                <a:gdLst/>
                <a:ahLst/>
                <a:rect l="l" t="t" r="r" b="b"/>
                <a:pathLst>
                  <a:path w="3920" h="1370">
                    <a:moveTo>
                      <a:pt x="0" y="0"/>
                    </a:moveTo>
                    <a:lnTo>
                      <a:pt x="220" y="106"/>
                    </a:lnTo>
                    <a:lnTo>
                      <a:pt x="431" y="154"/>
                    </a:lnTo>
                    <a:lnTo>
                      <a:pt x="652" y="508"/>
                    </a:lnTo>
                    <a:lnTo>
                      <a:pt x="872" y="1130"/>
                    </a:lnTo>
                    <a:lnTo>
                      <a:pt x="1093" y="1150"/>
                    </a:lnTo>
                    <a:lnTo>
                      <a:pt x="1303" y="1178"/>
                    </a:lnTo>
                    <a:lnTo>
                      <a:pt x="1524" y="1188"/>
                    </a:lnTo>
                    <a:lnTo>
                      <a:pt x="1744" y="1226"/>
                    </a:lnTo>
                    <a:lnTo>
                      <a:pt x="1965" y="1245"/>
                    </a:lnTo>
                    <a:lnTo>
                      <a:pt x="2176" y="1264"/>
                    </a:lnTo>
                    <a:lnTo>
                      <a:pt x="2396" y="1284"/>
                    </a:lnTo>
                    <a:lnTo>
                      <a:pt x="2617" y="1303"/>
                    </a:lnTo>
                    <a:lnTo>
                      <a:pt x="2828" y="1331"/>
                    </a:lnTo>
                    <a:lnTo>
                      <a:pt x="3048" y="1341"/>
                    </a:lnTo>
                    <a:lnTo>
                      <a:pt x="3268" y="1351"/>
                    </a:lnTo>
                    <a:lnTo>
                      <a:pt x="3489" y="1351"/>
                    </a:lnTo>
                    <a:lnTo>
                      <a:pt x="3700" y="1370"/>
                    </a:lnTo>
                    <a:lnTo>
                      <a:pt x="3920" y="1360"/>
                    </a:lnTo>
                  </a:path>
                </a:pathLst>
              </a:custGeom>
              <a:noFill/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1415880" y="2557440"/>
                <a:ext cx="6222960" cy="1474920"/>
              </a:xfrm>
              <a:custGeom>
                <a:avLst/>
                <a:gdLst/>
                <a:ahLst/>
                <a:rect l="l" t="t" r="r" b="b"/>
                <a:pathLst>
                  <a:path w="3920" h="929">
                    <a:moveTo>
                      <a:pt x="0" y="39"/>
                    </a:moveTo>
                    <a:lnTo>
                      <a:pt x="220" y="58"/>
                    </a:lnTo>
                    <a:lnTo>
                      <a:pt x="431" y="0"/>
                    </a:lnTo>
                    <a:lnTo>
                      <a:pt x="652" y="192"/>
                    </a:lnTo>
                    <a:lnTo>
                      <a:pt x="872" y="297"/>
                    </a:lnTo>
                    <a:lnTo>
                      <a:pt x="1093" y="383"/>
                    </a:lnTo>
                    <a:lnTo>
                      <a:pt x="1303" y="431"/>
                    </a:lnTo>
                    <a:lnTo>
                      <a:pt x="1524" y="441"/>
                    </a:lnTo>
                    <a:lnTo>
                      <a:pt x="1744" y="575"/>
                    </a:lnTo>
                    <a:lnTo>
                      <a:pt x="1965" y="642"/>
                    </a:lnTo>
                    <a:lnTo>
                      <a:pt x="2176" y="690"/>
                    </a:lnTo>
                    <a:lnTo>
                      <a:pt x="2396" y="709"/>
                    </a:lnTo>
                    <a:lnTo>
                      <a:pt x="2617" y="757"/>
                    </a:lnTo>
                    <a:lnTo>
                      <a:pt x="2828" y="824"/>
                    </a:lnTo>
                    <a:lnTo>
                      <a:pt x="3048" y="862"/>
                    </a:lnTo>
                    <a:lnTo>
                      <a:pt x="3268" y="862"/>
                    </a:lnTo>
                    <a:lnTo>
                      <a:pt x="3489" y="891"/>
                    </a:lnTo>
                    <a:lnTo>
                      <a:pt x="3700" y="929"/>
                    </a:lnTo>
                    <a:lnTo>
                      <a:pt x="3920" y="920"/>
                    </a:lnTo>
                  </a:path>
                </a:pathLst>
              </a:custGeom>
              <a:noFill/>
              <a:ln w="158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1369800" y="34545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1719000" y="360684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2054160" y="3530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404800" y="287676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754360" y="30895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105000" y="2786040"/>
                <a:ext cx="9072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440160" y="263376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3789360" y="289260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140000" y="269568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8"/>
                    </a:lnTo>
                    <a:lnTo>
                      <a:pt x="28" y="57"/>
                    </a:lnTo>
                    <a:lnTo>
                      <a:pt x="0" y="2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489200" y="28767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824360" y="28623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173560" y="27259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52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7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59360" y="277020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08560" y="277020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559560" y="2876760"/>
                <a:ext cx="9036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8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08760" y="28321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28"/>
                    </a:lnTo>
                    <a:lnTo>
                      <a:pt x="29" y="57"/>
                    </a:lnTo>
                    <a:lnTo>
                      <a:pt x="0" y="2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43560" y="29228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594560" y="289260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29"/>
                    </a:lnTo>
                    <a:lnTo>
                      <a:pt x="28" y="57"/>
                    </a:lnTo>
                    <a:lnTo>
                      <a:pt x="0" y="2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369800" y="345456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1719000" y="398628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054160" y="3667320"/>
                <a:ext cx="9216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4048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54360" y="3378240"/>
                <a:ext cx="9180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105000" y="2664000"/>
                <a:ext cx="9072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440160" y="220824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789360" y="28018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140000" y="248148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89200" y="296856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824360" y="275616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173560" y="242100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524560" y="289260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59360" y="258768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208560" y="2451240"/>
                <a:ext cx="921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559560" y="2725920"/>
                <a:ext cx="903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08760" y="2573280"/>
                <a:ext cx="92160" cy="9072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243560" y="2862360"/>
                <a:ext cx="92160" cy="903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594560" y="2664000"/>
                <a:ext cx="90360" cy="9216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369800" y="24368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719000" y="260352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2054160" y="267984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2404800" y="324180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754360" y="4230720"/>
                <a:ext cx="9180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105000" y="426096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440160" y="4307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3789360" y="43214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140000" y="4381560"/>
                <a:ext cx="9072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489200" y="441324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824360" y="444348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173560" y="4473720"/>
                <a:ext cx="92160" cy="9036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524560" y="450396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59360" y="4550040"/>
                <a:ext cx="9036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08560" y="456408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559560" y="457992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8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08760" y="4579920"/>
                <a:ext cx="92160" cy="90720"/>
              </a:xfrm>
              <a:custGeom>
                <a:avLst/>
                <a:gdLst/>
                <a:ahLst/>
                <a:rect l="l" t="t" r="r" b="b"/>
                <a:pathLst>
                  <a:path w="58" h="57">
                    <a:moveTo>
                      <a:pt x="29" y="0"/>
                    </a:moveTo>
                    <a:lnTo>
                      <a:pt x="58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243560" y="4610160"/>
                <a:ext cx="92160" cy="9216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29" y="0"/>
                    </a:moveTo>
                    <a:lnTo>
                      <a:pt x="58" y="58"/>
                    </a:lnTo>
                    <a:lnTo>
                      <a:pt x="0" y="58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594560" y="4594320"/>
                <a:ext cx="90360" cy="9216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8" y="0"/>
                    </a:moveTo>
                    <a:lnTo>
                      <a:pt x="57" y="58"/>
                    </a:lnTo>
                    <a:lnTo>
                      <a:pt x="0" y="58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 flipV="1">
                <a:off x="136980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41588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 flipH="1">
                <a:off x="1369800" y="26193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1415880" y="2573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 flipV="1">
                <a:off x="171900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76508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1719000" y="264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V="1">
                <a:off x="1765080" y="2603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H="1" flipV="1">
                <a:off x="205416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10024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2054160" y="25574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2100240" y="25128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2404800" y="281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450880" y="286236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2404800" y="286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450880" y="28162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754000" y="298296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00080" y="30290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2754000" y="302904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800080" y="29829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3105000" y="312084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51080" y="316548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3105000" y="31654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3151080" y="3120840"/>
                <a:ext cx="4464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 flipV="1">
                <a:off x="3439800" y="31971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484440" y="32418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3439800" y="32418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V="1">
                <a:off x="3484440" y="31971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 flipV="1">
                <a:off x="378936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83544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>
                <a:off x="3789360" y="32576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 flipV="1">
                <a:off x="3835440" y="32115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 flipV="1">
                <a:off x="4140000" y="34243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184640" y="34704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4140000" y="347040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V="1">
                <a:off x="4184640" y="34243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 flipV="1">
                <a:off x="448920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53528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4489200" y="3576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4535280" y="35305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4824360" y="360684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870440" y="365292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4824360" y="365292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V="1">
                <a:off x="4870440" y="360684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 flipV="1">
                <a:off x="517356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21964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5173560" y="36831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5219640" y="3637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 flipV="1">
                <a:off x="5524200" y="3713040"/>
                <a:ext cx="4572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570280" y="3759120"/>
                <a:ext cx="4464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5524200" y="3759120"/>
                <a:ext cx="4572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V="1">
                <a:off x="5570280" y="3713040"/>
                <a:ext cx="4464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5859360" y="381960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05440" y="38656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>
                <a:off x="5859360" y="38656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V="1">
                <a:off x="5905440" y="381960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 flipV="1">
                <a:off x="620856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2546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620856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V="1">
                <a:off x="62546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 flipH="1" flipV="1">
                <a:off x="6559200" y="38800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603840" y="392616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 flipH="1">
                <a:off x="6559200" y="3926160"/>
                <a:ext cx="442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V="1">
                <a:off x="6603840" y="38800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flipH="1" flipV="1">
                <a:off x="690876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54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690876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6954840" y="3925800"/>
                <a:ext cx="46080" cy="4572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H="1" flipV="1">
                <a:off x="724356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28964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7243560" y="403236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7289640" y="39862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 flipV="1">
                <a:off x="7594200" y="3971880"/>
                <a:ext cx="442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7638840" y="4017960"/>
                <a:ext cx="460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>
                <a:off x="7594200" y="4017960"/>
                <a:ext cx="44280" cy="4464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7638840" y="3971880"/>
                <a:ext cx="46080" cy="460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260000" y="5316480"/>
                <a:ext cx="8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172880" y="487548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172880" y="443412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172880" y="397836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172880" y="353700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8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88640" y="30974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88640" y="265608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088640" y="220032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4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088640" y="175896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6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3870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36280" y="5529240"/>
                <a:ext cx="16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0318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824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2731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30826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1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416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6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11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466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2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802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15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0188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370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3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186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6537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2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6886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5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72212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475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570440" y="5529240"/>
                <a:ext cx="243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50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091400" y="5786640"/>
                <a:ext cx="994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Geneva"/>
                  </a:rPr>
                  <a:t>matrix size (n)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76160" y="3089520"/>
                <a:ext cx="18252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0" name=""/>
              <p:cNvSpPr/>
              <p:nvPr/>
            </p:nvSpPr>
            <p:spPr>
              <a:xfrm>
                <a:off x="7927920" y="3197160"/>
                <a:ext cx="745920" cy="86544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7974000" y="3318120"/>
                <a:ext cx="350640" cy="1440"/>
              </a:xfrm>
              <a:prstGeom prst="line">
                <a:avLst/>
              </a:prstGeom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8096040" y="3272040"/>
                <a:ext cx="90720" cy="91800"/>
              </a:xfrm>
              <a:custGeom>
                <a:avLst/>
                <a:gdLst/>
                <a:ahLst/>
                <a:rect l="l" t="t" r="r" b="b"/>
                <a:pathLst>
                  <a:path w="57" h="58">
                    <a:moveTo>
                      <a:pt x="29" y="0"/>
                    </a:moveTo>
                    <a:lnTo>
                      <a:pt x="57" y="29"/>
                    </a:lnTo>
                    <a:lnTo>
                      <a:pt x="29" y="58"/>
                    </a:lnTo>
                    <a:lnTo>
                      <a:pt x="0" y="2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0000"/>
              </a:solidFill>
              <a:ln w="158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8434080" y="321804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974000" y="3530520"/>
                <a:ext cx="350640" cy="1800"/>
              </a:xfrm>
              <a:prstGeom prst="line">
                <a:avLst/>
              </a:prstGeom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96040" y="3484800"/>
                <a:ext cx="90720" cy="91800"/>
              </a:xfrm>
              <a:prstGeom prst="rect">
                <a:avLst/>
              </a:prstGeom>
              <a:solidFill>
                <a:srgbClr val="ffff00"/>
              </a:solidFill>
              <a:ln w="158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8434080" y="3430800"/>
                <a:ext cx="2354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bikj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7974000" y="3743280"/>
                <a:ext cx="350640" cy="1800"/>
              </a:xfrm>
              <a:prstGeom prst="line">
                <a:avLst/>
              </a:prstGeom>
              <a:ln w="158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8096040" y="3699000"/>
                <a:ext cx="90720" cy="9036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29" y="0"/>
                    </a:moveTo>
                    <a:lnTo>
                      <a:pt x="57" y="57"/>
                    </a:lnTo>
                    <a:lnTo>
                      <a:pt x="0" y="57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ff00"/>
              </a:solidFill>
              <a:ln w="1584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8439480" y="3643560"/>
                <a:ext cx="148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Geneva"/>
                  </a:rPr>
                  <a:t>ijk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7974000" y="3956040"/>
                <a:ext cx="350640" cy="180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H="1" flipV="1">
                <a:off x="8096040" y="3911400"/>
                <a:ext cx="46080" cy="44280"/>
              </a:xfrm>
              <a:prstGeom prst="line">
                <a:avLst/>
              </a:prstGeom>
              <a:ln w="158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62" name=""/>
            <p:cNvSpPr/>
            <p:nvPr/>
          </p:nvSpPr>
          <p:spPr>
            <a:xfrm>
              <a:off x="8142120" y="3956040"/>
              <a:ext cx="4464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8096040" y="3956040"/>
              <a:ext cx="46080" cy="460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8142120" y="3911400"/>
              <a:ext cx="44640" cy="44280"/>
            </a:xfrm>
            <a:prstGeom prst="line">
              <a:avLst/>
            </a:prstGeom>
            <a:ln w="158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39480" y="385596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Geneva"/>
                </a:rPr>
                <a:t>ikj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09480" y="1600200"/>
              <a:ext cx="8124840" cy="4545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algorithm, data representations, procedures, and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mputers do more than execute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need to get data in and ou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system critical to program reliability an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y communicate with each other over net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ystem-level issues arise in presence of net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current operations by autonomous proc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ng with unreliable medi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oss platform compati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performance iss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within Curricul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1640" y="4343400"/>
            <a:ext cx="4483080" cy="210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tion from Abstract to Concrete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om: high-level language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: underlying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60020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undament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2063880" y="3664080"/>
            <a:ext cx="1434960" cy="672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2063880" y="1828800"/>
            <a:ext cx="1434960" cy="679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05320" y="18288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08240" y="2527200"/>
            <a:ext cx="96516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819520" y="2514600"/>
            <a:ext cx="0" cy="111744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207880" y="2666880"/>
            <a:ext cx="1161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. Mgm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3276720" y="2527200"/>
            <a:ext cx="914400" cy="111780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65800" y="2690640"/>
            <a:ext cx="138708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chine C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timiza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V="1">
            <a:off x="2743200" y="434304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984680" y="4572000"/>
            <a:ext cx="1508760" cy="72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ata Structu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04920" y="3657600"/>
            <a:ext cx="1434960" cy="6732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2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5" name=""/>
          <p:cNvCxnSpPr>
            <a:stCxn id="1573" idx="0"/>
            <a:endCxn id="1584" idx="2"/>
          </p:cNvCxnSpPr>
          <p:nvPr/>
        </p:nvCxnSpPr>
        <p:spPr>
          <a:xfrm flipH="1" flipV="1">
            <a:off x="1022040" y="4330800"/>
            <a:ext cx="1296000" cy="12322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86" name=""/>
          <p:cNvSpPr/>
          <p:nvPr/>
        </p:nvSpPr>
        <p:spPr>
          <a:xfrm>
            <a:off x="609480" y="18288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44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88560" y="2666880"/>
            <a:ext cx="10029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ocol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029200" y="2514600"/>
            <a:ext cx="143496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rchitectur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74" idx="3"/>
            <a:endCxn id="1588" idx="2"/>
          </p:cNvCxnSpPr>
          <p:nvPr/>
        </p:nvCxnSpPr>
        <p:spPr>
          <a:xfrm flipV="1">
            <a:off x="3498840" y="3187440"/>
            <a:ext cx="224856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0" name=""/>
          <p:cNvSpPr/>
          <p:nvPr/>
        </p:nvSpPr>
        <p:spPr>
          <a:xfrm>
            <a:off x="6553080" y="2514600"/>
            <a:ext cx="1435320" cy="673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CE 34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mbedd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591" name=""/>
          <p:cNvCxnSpPr>
            <a:stCxn id="1574" idx="3"/>
            <a:endCxn id="1590" idx="2"/>
          </p:cNvCxnSpPr>
          <p:nvPr/>
        </p:nvCxnSpPr>
        <p:spPr>
          <a:xfrm flipV="1">
            <a:off x="3498840" y="3187440"/>
            <a:ext cx="3772800" cy="813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592" name=""/>
          <p:cNvSpPr/>
          <p:nvPr/>
        </p:nvSpPr>
        <p:spPr>
          <a:xfrm>
            <a:off x="3798360" y="3429000"/>
            <a:ext cx="1548360" cy="51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xec. Mode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Syste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137040" y="5562720"/>
            <a:ext cx="1434960" cy="672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S 11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 Programm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H="1" flipV="1">
            <a:off x="3352680" y="4343040"/>
            <a:ext cx="60984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Systems Courses are Build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sign pipelined processor in Verilo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ng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large portions of operating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compiler for simple langu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wor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mplement and simulate network protoco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T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is good, but don’t forget re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urses to date emphasize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 data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ymptotic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se abstractions have lim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in the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underlying implem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ful outcom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come more effective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find and eliminate bugs effici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ble to tune program perform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28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e for later “systems” classes in CS &amp; E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s, Operating Systems, Networks, Computer Architecture, Embedded Syste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Perspectiv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Course is Programmer-Centr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pose is to show how by knowing more about the underlying system, one can be more effective as a program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 you t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programs that are more reliable and effici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 features that require hooks into 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.g., concurrency, signal hand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just a course for dedicated ha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bring out the hidden hacker in every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ver material in this course that you won’t see elsew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Int’s are not Integers, Float’s are not Rea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x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≥ 0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’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40000 * 40000  --&gt; 160000000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0000 * 50000 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(x + y) + z  =  x + (y + z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signed &amp; Signed Int’s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’s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e20 + -1e20) + 3.14 --&gt; 3.14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e20 + (-1e20 + 3.14) --&gt; ?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r Arithmet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es not generate random valu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 have important 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not assume “usual”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e to finiteness of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operations satisfy “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utativity, associativity, 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 satisfy “ordering”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notonicity, values of sig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to understand which abstractions apply in which contex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 issues for compiler writers and serious application programm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You’ve got to know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nces are, you’ll never write program in 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are much better &amp; more patient than you 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standing assembly key to machine-level execution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of programs in presence of bu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-level language model breaks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 progra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ing sources of program in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ing system soft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has machine code as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ng systems must manage process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e Stamp Cou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64-bit register in Intel-compatible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ed every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ith rdtsc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 time required by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units of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2680" y="4343400"/>
            <a:ext cx="639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get_counter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 required %f clock cycles\n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, 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small amount of assembly code using GCC’s asm faci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assembly code into machine code generat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666880"/>
            <a:ext cx="7658280" cy="36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h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tic unsigned cyc_lo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Set *hi and *lo to the high and low order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f the cycle counter.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ccess_counter(unsigned *hi, unsigned *l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m(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"rdtsc; movl %%edx,%0; movl %%eax,%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"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=r" (*hi), "=r" (*lo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: "%edx", "%eax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to Read Count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440" y="990720"/>
            <a:ext cx="8763120" cy="5306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Record the current value of the cycle 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tar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cyc_hi, &amp;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Number of cycles since the last call to start_counter.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get_counter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ncyc_hi,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hi, lo,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Get cycle counter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ccess_counter(&amp;ncyc_hi, &amp;ncyc_lo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Do double precision subtraction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 = ncyc_lo - 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rrow = lo &gt; ncyc_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i = ncyc_hi - cyc_hi - borro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double) hi * (1 &lt;&lt; 30) * 4 + l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asuring Ti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ier than it Might Loo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sources of vari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m integers from 1 to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ycles/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9.6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6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2,87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29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19,907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425,18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4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r" pos="3086280"/>
                <a:tab algn="r" pos="5143680"/>
                <a:tab algn="r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,000,000,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,371,2305,59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.37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1999-01-11T23:34:46Z</cp:lastPrinted>
  <dcterms:modified xsi:type="dcterms:W3CDTF">2002-10-28T20:23:50Z</dcterms:modified>
  <cp:revision>42</cp:revision>
  <dc:subject/>
  <dc:title>Course Overview</dc:title>
</cp:coreProperties>
</file>