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73A55E67-85D1-4BE6-963C-DF2D87843A1E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1752480"/>
            <a:ext cx="556272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roduction to Computer Syste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66720" y="4419720"/>
            <a:ext cx="6010560" cy="186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ve great realities of computer syst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his fits within CS curricul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0000" y="6580080"/>
            <a:ext cx="1020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S 213 F 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21320" y="6504120"/>
            <a:ext cx="146160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1a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The Class That Gives CMU Its Zip!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200400"/>
            <a:ext cx="3925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ndal E. Brya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ust 27, 200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Memory Mat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is not unbound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 must be allocated and manag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applications are memory do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ing bugs especially pernicio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s are distant in both time and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performance is not uni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and virtual memory effects can greatly affect progra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apting program to characteristics of memory system can lead to major speed improv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Referencing Bu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523880"/>
            <a:ext cx="7315200" cy="228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 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int a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d = 3.1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2] = 1073741824; /* Out of bounds referenc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d = %.15g\n", 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62000" y="4114800"/>
            <a:ext cx="7018200" cy="1218960"/>
            <a:chOff x="1062000" y="4114800"/>
            <a:chExt cx="7018200" cy="1218960"/>
          </a:xfrm>
        </p:grpSpPr>
        <p:sp>
          <p:nvSpPr>
            <p:cNvPr id="106" name=""/>
            <p:cNvSpPr/>
            <p:nvPr/>
          </p:nvSpPr>
          <p:spPr>
            <a:xfrm>
              <a:off x="1062000" y="4114800"/>
              <a:ext cx="7018200" cy="121896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6360" y="42019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01240" y="4201920"/>
              <a:ext cx="34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p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4320" y="420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24440" y="42019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13080" y="4201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76800" y="420192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7440" y="4201920"/>
              <a:ext cx="61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u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59280" y="420192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92400" y="4579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42120" y="457992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.30498947741318e-3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28400" y="4579920"/>
              <a:ext cx="205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3999986648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70200" y="45799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92400" y="4975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41040" y="49752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28760" y="49752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70200" y="49752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952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Linux version gives correct result, but implementing as separate function gives segmentation fault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Referencing Err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7600" y="1066320"/>
            <a:ext cx="830736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and C++ do not provide any memory 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 of bounds array referen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alid pointer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uses of malloc/f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lead to nasty bug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ther or not bug has any effect depends on system and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ion at a dist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rrupted object logically unrelated to one being access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ffect of bug may be first observed long after it is genera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can I deal with thi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in Java, Lisp, or M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 what possible interactions may occu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or develop tools to detect referencing err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Performanc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s of Matrix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ways to nest loo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3276720"/>
            <a:ext cx="4114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j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k=0; k&lt;n; k++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i][j] =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3276720"/>
            <a:ext cx="4114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ji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k=0; k&lt;n; k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i][j] = su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833400" y="3132000"/>
            <a:ext cx="5788080" cy="1185840"/>
            <a:chOff x="833400" y="3132000"/>
            <a:chExt cx="5788080" cy="1185840"/>
          </a:xfrm>
        </p:grpSpPr>
        <p:sp>
          <p:nvSpPr>
            <p:cNvPr id="131" name=""/>
            <p:cNvSpPr/>
            <p:nvPr/>
          </p:nvSpPr>
          <p:spPr>
            <a:xfrm>
              <a:off x="493380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1660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0048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8472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6716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5140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3564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1988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0232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8656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7044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5324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3712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2136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0560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8804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7228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56520" y="4316400"/>
              <a:ext cx="26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3896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2320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07080" y="4316400"/>
              <a:ext cx="1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34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176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018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843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685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24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352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1912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033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876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700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42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381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209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0484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890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718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557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400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242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066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909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748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576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4148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2572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081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240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766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608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33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275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114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942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7812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623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466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290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132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971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799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642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80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308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147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990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832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656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499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338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166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0048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472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671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5140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356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198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23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865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704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532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3712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213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056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880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722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56520" y="39258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389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232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07080" y="39258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34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176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018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843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85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524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352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1912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033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876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700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42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381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209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0484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890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718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557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400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242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066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09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748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576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4148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2572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081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9240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766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608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433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275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114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942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7812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623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466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290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132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971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799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42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480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308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147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990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832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56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499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38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166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0048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8472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671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5140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356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198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65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704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532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3712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213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056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880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722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56520" y="35352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89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232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07080" y="35352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34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176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018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843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85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524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352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1912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033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876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700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542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381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209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0484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890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718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557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400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242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066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909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748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576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4148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2572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081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9240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766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608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433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275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114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942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7812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623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466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290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132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833400" y="1962000"/>
            <a:ext cx="5788080" cy="1171800"/>
            <a:chOff x="833400" y="1962000"/>
            <a:chExt cx="5788080" cy="1171800"/>
          </a:xfrm>
        </p:grpSpPr>
        <p:sp>
          <p:nvSpPr>
            <p:cNvPr id="332" name=""/>
            <p:cNvSpPr/>
            <p:nvPr/>
          </p:nvSpPr>
          <p:spPr>
            <a:xfrm>
              <a:off x="40971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799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642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80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308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147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990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832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656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499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338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166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0048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8472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671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5140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356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5198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023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865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704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532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3712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213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056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880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722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56520" y="31320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389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232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07080" y="31320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34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176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018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843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685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524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352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1912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033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876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700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42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381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209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0484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890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718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557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400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242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066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909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748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576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4148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2572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081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9240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766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608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433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275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114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942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7812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623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466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290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132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971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799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642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480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4308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147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90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832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656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499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338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166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048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8472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671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5140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356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198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023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865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704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532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3712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213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056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880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722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56520" y="2741760"/>
              <a:ext cx="26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389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232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607080" y="2741760"/>
              <a:ext cx="1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34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9176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018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843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1685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524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352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1912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033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876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700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542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381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209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0484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890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718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557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400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242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066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909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48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576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4148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2572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0081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9240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766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608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433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275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114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942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7812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623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466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290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132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971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799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642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80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308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147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990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832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656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499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338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166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0048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8472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671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5140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356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198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023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865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704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532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3712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213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056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880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722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56520" y="2351160"/>
              <a:ext cx="26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389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232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07080" y="2351160"/>
              <a:ext cx="1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334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176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0018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843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685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2524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352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1912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033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876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00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542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381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209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0484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890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718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557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400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242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066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09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748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576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148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572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081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9240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766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791640" y="1962000"/>
            <a:ext cx="5871240" cy="3176280"/>
            <a:chOff x="791640" y="1962000"/>
            <a:chExt cx="5871240" cy="3176280"/>
          </a:xfrm>
        </p:grpSpPr>
        <p:sp>
          <p:nvSpPr>
            <p:cNvPr id="533" name=""/>
            <p:cNvSpPr/>
            <p:nvPr/>
          </p:nvSpPr>
          <p:spPr>
            <a:xfrm>
              <a:off x="32608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433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275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114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942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7812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623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466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290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132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0971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99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642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480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308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147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5990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832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656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499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338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166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048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8472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671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5140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356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198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023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865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704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3712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213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056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880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722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356520" y="19620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389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232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07080" y="19620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33400" y="1962000"/>
              <a:ext cx="5788080" cy="3133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33400" y="1962000"/>
              <a:ext cx="1800" cy="313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92000" y="50958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2000" y="470700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2000" y="431640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2000" y="39258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2000" y="35352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2000" y="31320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2000" y="274176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000" y="235116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2000" y="19620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33400" y="5095800"/>
              <a:ext cx="5788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83340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113976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144792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175428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204624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235440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66076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296712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27348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58128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87360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17996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448776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479412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10048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40720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0060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0696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31332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62148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33400" y="2324160"/>
              <a:ext cx="5788080" cy="2117520"/>
            </a:xfrm>
            <a:custGeom>
              <a:avLst/>
              <a:gdLst/>
              <a:ahLst/>
              <a:rect l="l" t="t" r="r" b="b"/>
              <a:pathLst>
                <a:path w="3646" h="1334">
                  <a:moveTo>
                    <a:pt x="0" y="0"/>
                  </a:moveTo>
                  <a:lnTo>
                    <a:pt x="193" y="123"/>
                  </a:lnTo>
                  <a:lnTo>
                    <a:pt x="387" y="219"/>
                  </a:lnTo>
                  <a:lnTo>
                    <a:pt x="580" y="263"/>
                  </a:lnTo>
                  <a:lnTo>
                    <a:pt x="764" y="570"/>
                  </a:lnTo>
                  <a:lnTo>
                    <a:pt x="958" y="1123"/>
                  </a:lnTo>
                  <a:lnTo>
                    <a:pt x="1151" y="1141"/>
                  </a:lnTo>
                  <a:lnTo>
                    <a:pt x="1344" y="1158"/>
                  </a:lnTo>
                  <a:lnTo>
                    <a:pt x="1537" y="1176"/>
                  </a:lnTo>
                  <a:lnTo>
                    <a:pt x="1731" y="1202"/>
                  </a:lnTo>
                  <a:lnTo>
                    <a:pt x="1915" y="1229"/>
                  </a:lnTo>
                  <a:lnTo>
                    <a:pt x="2108" y="1237"/>
                  </a:lnTo>
                  <a:lnTo>
                    <a:pt x="2302" y="1255"/>
                  </a:lnTo>
                  <a:lnTo>
                    <a:pt x="2495" y="1272"/>
                  </a:lnTo>
                  <a:lnTo>
                    <a:pt x="2688" y="1307"/>
                  </a:lnTo>
                  <a:lnTo>
                    <a:pt x="2881" y="1307"/>
                  </a:lnTo>
                  <a:lnTo>
                    <a:pt x="3066" y="1307"/>
                  </a:lnTo>
                  <a:lnTo>
                    <a:pt x="3259" y="1316"/>
                  </a:lnTo>
                  <a:lnTo>
                    <a:pt x="3452" y="1334"/>
                  </a:lnTo>
                  <a:lnTo>
                    <a:pt x="3646" y="1325"/>
                  </a:lnTo>
                </a:path>
              </a:pathLst>
            </a:cu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33400" y="2324160"/>
              <a:ext cx="5788080" cy="1560600"/>
            </a:xfrm>
            <a:custGeom>
              <a:avLst/>
              <a:gdLst/>
              <a:ahLst/>
              <a:rect l="l" t="t" r="r" b="b"/>
              <a:pathLst>
                <a:path w="3646" h="983">
                  <a:moveTo>
                    <a:pt x="0" y="0"/>
                  </a:moveTo>
                  <a:lnTo>
                    <a:pt x="193" y="202"/>
                  </a:lnTo>
                  <a:lnTo>
                    <a:pt x="387" y="219"/>
                  </a:lnTo>
                  <a:lnTo>
                    <a:pt x="580" y="167"/>
                  </a:lnTo>
                  <a:lnTo>
                    <a:pt x="764" y="333"/>
                  </a:lnTo>
                  <a:lnTo>
                    <a:pt x="958" y="430"/>
                  </a:lnTo>
                  <a:lnTo>
                    <a:pt x="1151" y="500"/>
                  </a:lnTo>
                  <a:lnTo>
                    <a:pt x="1344" y="553"/>
                  </a:lnTo>
                  <a:lnTo>
                    <a:pt x="1537" y="562"/>
                  </a:lnTo>
                  <a:lnTo>
                    <a:pt x="1731" y="676"/>
                  </a:lnTo>
                  <a:lnTo>
                    <a:pt x="1915" y="737"/>
                  </a:lnTo>
                  <a:lnTo>
                    <a:pt x="2108" y="772"/>
                  </a:lnTo>
                  <a:lnTo>
                    <a:pt x="2302" y="798"/>
                  </a:lnTo>
                  <a:lnTo>
                    <a:pt x="2495" y="834"/>
                  </a:lnTo>
                  <a:lnTo>
                    <a:pt x="2688" y="895"/>
                  </a:lnTo>
                  <a:lnTo>
                    <a:pt x="2881" y="930"/>
                  </a:lnTo>
                  <a:lnTo>
                    <a:pt x="3066" y="930"/>
                  </a:lnTo>
                  <a:lnTo>
                    <a:pt x="3259" y="956"/>
                  </a:lnTo>
                  <a:lnTo>
                    <a:pt x="3452" y="983"/>
                  </a:lnTo>
                  <a:lnTo>
                    <a:pt x="3646" y="983"/>
                  </a:lnTo>
                </a:path>
              </a:pathLst>
            </a:custGeom>
            <a:noFill/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3400" y="2476440"/>
              <a:ext cx="5788080" cy="1895400"/>
            </a:xfrm>
            <a:custGeom>
              <a:avLst/>
              <a:gdLst/>
              <a:ahLst/>
              <a:rect l="l" t="t" r="r" b="b"/>
              <a:pathLst>
                <a:path w="3646" h="1194">
                  <a:moveTo>
                    <a:pt x="0" y="0"/>
                  </a:moveTo>
                  <a:lnTo>
                    <a:pt x="193" y="106"/>
                  </a:lnTo>
                  <a:lnTo>
                    <a:pt x="387" y="316"/>
                  </a:lnTo>
                  <a:lnTo>
                    <a:pt x="580" y="246"/>
                  </a:lnTo>
                  <a:lnTo>
                    <a:pt x="764" y="387"/>
                  </a:lnTo>
                  <a:lnTo>
                    <a:pt x="958" y="1001"/>
                  </a:lnTo>
                  <a:lnTo>
                    <a:pt x="1151" y="1018"/>
                  </a:lnTo>
                  <a:lnTo>
                    <a:pt x="1344" y="1054"/>
                  </a:lnTo>
                  <a:lnTo>
                    <a:pt x="1537" y="1054"/>
                  </a:lnTo>
                  <a:lnTo>
                    <a:pt x="1731" y="1089"/>
                  </a:lnTo>
                  <a:lnTo>
                    <a:pt x="1915" y="1106"/>
                  </a:lnTo>
                  <a:lnTo>
                    <a:pt x="2108" y="1133"/>
                  </a:lnTo>
                  <a:lnTo>
                    <a:pt x="2302" y="1150"/>
                  </a:lnTo>
                  <a:lnTo>
                    <a:pt x="2495" y="1168"/>
                  </a:lnTo>
                  <a:lnTo>
                    <a:pt x="2688" y="1185"/>
                  </a:lnTo>
                  <a:lnTo>
                    <a:pt x="2881" y="1194"/>
                  </a:lnTo>
                  <a:lnTo>
                    <a:pt x="3066" y="1185"/>
                  </a:lnTo>
                  <a:lnTo>
                    <a:pt x="3259" y="1194"/>
                  </a:lnTo>
                  <a:lnTo>
                    <a:pt x="3452" y="1194"/>
                  </a:lnTo>
                  <a:lnTo>
                    <a:pt x="3646" y="1194"/>
                  </a:lnTo>
                </a:path>
              </a:pathLst>
            </a:custGeom>
            <a:noFill/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3400" y="2324160"/>
              <a:ext cx="5788080" cy="2298600"/>
            </a:xfrm>
            <a:custGeom>
              <a:avLst/>
              <a:gdLst/>
              <a:ahLst/>
              <a:rect l="l" t="t" r="r" b="b"/>
              <a:pathLst>
                <a:path w="3646" h="1448">
                  <a:moveTo>
                    <a:pt x="0" y="0"/>
                  </a:moveTo>
                  <a:lnTo>
                    <a:pt x="193" y="237"/>
                  </a:lnTo>
                  <a:lnTo>
                    <a:pt x="387" y="1281"/>
                  </a:lnTo>
                  <a:lnTo>
                    <a:pt x="580" y="1290"/>
                  </a:lnTo>
                  <a:lnTo>
                    <a:pt x="764" y="1307"/>
                  </a:lnTo>
                  <a:lnTo>
                    <a:pt x="958" y="1316"/>
                  </a:lnTo>
                  <a:lnTo>
                    <a:pt x="1151" y="1325"/>
                  </a:lnTo>
                  <a:lnTo>
                    <a:pt x="1344" y="1334"/>
                  </a:lnTo>
                  <a:lnTo>
                    <a:pt x="1537" y="1343"/>
                  </a:lnTo>
                  <a:lnTo>
                    <a:pt x="1731" y="1360"/>
                  </a:lnTo>
                  <a:lnTo>
                    <a:pt x="1915" y="1369"/>
                  </a:lnTo>
                  <a:lnTo>
                    <a:pt x="2108" y="1386"/>
                  </a:lnTo>
                  <a:lnTo>
                    <a:pt x="2302" y="1395"/>
                  </a:lnTo>
                  <a:lnTo>
                    <a:pt x="2495" y="1404"/>
                  </a:lnTo>
                  <a:lnTo>
                    <a:pt x="2688" y="1413"/>
                  </a:lnTo>
                  <a:lnTo>
                    <a:pt x="2881" y="1422"/>
                  </a:lnTo>
                  <a:lnTo>
                    <a:pt x="3066" y="1430"/>
                  </a:lnTo>
                  <a:lnTo>
                    <a:pt x="3259" y="1430"/>
                  </a:lnTo>
                  <a:lnTo>
                    <a:pt x="3452" y="1439"/>
                  </a:lnTo>
                  <a:lnTo>
                    <a:pt x="3646" y="144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33400" y="2324160"/>
              <a:ext cx="5788080" cy="1768320"/>
            </a:xfrm>
            <a:custGeom>
              <a:avLst/>
              <a:gdLst/>
              <a:ahLst/>
              <a:rect l="l" t="t" r="r" b="b"/>
              <a:pathLst>
                <a:path w="3646" h="1114">
                  <a:moveTo>
                    <a:pt x="0" y="0"/>
                  </a:moveTo>
                  <a:lnTo>
                    <a:pt x="193" y="123"/>
                  </a:lnTo>
                  <a:lnTo>
                    <a:pt x="387" y="219"/>
                  </a:lnTo>
                  <a:lnTo>
                    <a:pt x="580" y="263"/>
                  </a:lnTo>
                  <a:lnTo>
                    <a:pt x="764" y="509"/>
                  </a:lnTo>
                  <a:lnTo>
                    <a:pt x="958" y="623"/>
                  </a:lnTo>
                  <a:lnTo>
                    <a:pt x="1151" y="649"/>
                  </a:lnTo>
                  <a:lnTo>
                    <a:pt x="1344" y="737"/>
                  </a:lnTo>
                  <a:lnTo>
                    <a:pt x="1537" y="816"/>
                  </a:lnTo>
                  <a:lnTo>
                    <a:pt x="1731" y="939"/>
                  </a:lnTo>
                  <a:lnTo>
                    <a:pt x="1915" y="983"/>
                  </a:lnTo>
                  <a:lnTo>
                    <a:pt x="2108" y="1035"/>
                  </a:lnTo>
                  <a:lnTo>
                    <a:pt x="2302" y="1035"/>
                  </a:lnTo>
                  <a:lnTo>
                    <a:pt x="2495" y="1097"/>
                  </a:lnTo>
                  <a:lnTo>
                    <a:pt x="2688" y="1114"/>
                  </a:lnTo>
                  <a:lnTo>
                    <a:pt x="2881" y="1097"/>
                  </a:lnTo>
                  <a:lnTo>
                    <a:pt x="3066" y="1106"/>
                  </a:lnTo>
                  <a:lnTo>
                    <a:pt x="3259" y="1106"/>
                  </a:lnTo>
                  <a:lnTo>
                    <a:pt x="3452" y="1114"/>
                  </a:lnTo>
                  <a:lnTo>
                    <a:pt x="3646" y="1114"/>
                  </a:lnTo>
                </a:path>
              </a:pathLst>
            </a:custGeom>
            <a:noFill/>
            <a:ln w="144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33400" y="2324160"/>
              <a:ext cx="5788080" cy="2368440"/>
            </a:xfrm>
            <a:custGeom>
              <a:avLst/>
              <a:gdLst/>
              <a:ahLst/>
              <a:rect l="l" t="t" r="r" b="b"/>
              <a:pathLst>
                <a:path w="3646" h="1492">
                  <a:moveTo>
                    <a:pt x="0" y="0"/>
                  </a:moveTo>
                  <a:lnTo>
                    <a:pt x="193" y="167"/>
                  </a:lnTo>
                  <a:lnTo>
                    <a:pt x="387" y="1299"/>
                  </a:lnTo>
                  <a:lnTo>
                    <a:pt x="580" y="1307"/>
                  </a:lnTo>
                  <a:lnTo>
                    <a:pt x="764" y="1316"/>
                  </a:lnTo>
                  <a:lnTo>
                    <a:pt x="958" y="1334"/>
                  </a:lnTo>
                  <a:lnTo>
                    <a:pt x="1151" y="1351"/>
                  </a:lnTo>
                  <a:lnTo>
                    <a:pt x="1344" y="1369"/>
                  </a:lnTo>
                  <a:lnTo>
                    <a:pt x="1537" y="1386"/>
                  </a:lnTo>
                  <a:lnTo>
                    <a:pt x="1731" y="1413"/>
                  </a:lnTo>
                  <a:lnTo>
                    <a:pt x="1915" y="1422"/>
                  </a:lnTo>
                  <a:lnTo>
                    <a:pt x="2108" y="1439"/>
                  </a:lnTo>
                  <a:lnTo>
                    <a:pt x="2302" y="1448"/>
                  </a:lnTo>
                  <a:lnTo>
                    <a:pt x="2495" y="1465"/>
                  </a:lnTo>
                  <a:lnTo>
                    <a:pt x="2688" y="1474"/>
                  </a:lnTo>
                  <a:lnTo>
                    <a:pt x="2881" y="1474"/>
                  </a:lnTo>
                  <a:lnTo>
                    <a:pt x="3066" y="1474"/>
                  </a:lnTo>
                  <a:lnTo>
                    <a:pt x="3259" y="1483"/>
                  </a:lnTo>
                  <a:lnTo>
                    <a:pt x="3452" y="1483"/>
                  </a:lnTo>
                  <a:lnTo>
                    <a:pt x="3646" y="1492"/>
                  </a:lnTo>
                </a:path>
              </a:pathLst>
            </a:custGeom>
            <a:noFill/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92000" y="22813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98720" y="247644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05080" y="263052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12880" y="270036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04840" y="31878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11560" y="406548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19360" y="409248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925720" y="412128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32080" y="414972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38440" y="41911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32200" y="423216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38560" y="424656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44920" y="4275000"/>
              <a:ext cx="84240" cy="828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26"/>
                  </a:lnTo>
                  <a:lnTo>
                    <a:pt x="27" y="52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51280" y="430200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59440" y="435780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65800" y="43578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657760" y="43578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65920" y="437184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72280" y="439884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78640" y="438624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26"/>
                  </a:lnTo>
                  <a:lnTo>
                    <a:pt x="27" y="52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92000" y="228132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098720" y="2602080"/>
              <a:ext cx="8388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5080" y="2630520"/>
              <a:ext cx="8388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12880" y="2546280"/>
              <a:ext cx="824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04840" y="281160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11560" y="2965320"/>
              <a:ext cx="8388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19360" y="3076560"/>
              <a:ext cx="82440" cy="824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925720" y="3159000"/>
              <a:ext cx="824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32080" y="3173400"/>
              <a:ext cx="842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38440" y="335448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32200" y="3452760"/>
              <a:ext cx="82440" cy="824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38560" y="3508200"/>
              <a:ext cx="8424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44920" y="3549600"/>
              <a:ext cx="842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51280" y="3605040"/>
              <a:ext cx="842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59440" y="3703680"/>
              <a:ext cx="82440" cy="824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65800" y="3759120"/>
              <a:ext cx="8424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57760" y="3759120"/>
              <a:ext cx="8424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65920" y="3800520"/>
              <a:ext cx="824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272280" y="384192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578640" y="384192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92000" y="24354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98720" y="2602080"/>
              <a:ext cx="8388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05080" y="293688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12880" y="282564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04840" y="30481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11560" y="402444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19360" y="405144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25720" y="410688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32080" y="410688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538440" y="416232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32200" y="419112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38560" y="423216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44920" y="426096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51280" y="428796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59440" y="43164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65800" y="43308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57760" y="43164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65920" y="43308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272280" y="43308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78640" y="43308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791640" y="228096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3400" y="232416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91640" y="232416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833400" y="228096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flipV="1">
              <a:off x="1098720" y="265716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139760" y="27003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1098720" y="270036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139760" y="265716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1404720" y="431604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47920" y="435780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1404720" y="435780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1447920" y="431604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1712520" y="433080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54280" y="437184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1712520" y="437184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1754280" y="433080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2004480" y="435780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046240" y="439884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2004480" y="439884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2046240" y="435780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flipV="1">
              <a:off x="2311200" y="437148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54400" y="441324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2311200" y="441324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354400" y="437148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2619000" y="43858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60760" y="442764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19000" y="442764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660760" y="438588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2925360" y="439848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967120" y="444168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2925360" y="44416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967120" y="439848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 flipV="1">
              <a:off x="3231720" y="441288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73480" y="445608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3231720" y="44560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3273480" y="441288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3538080" y="444132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81280" y="44830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3538080" y="448308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3581280" y="44413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3831840" y="44557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73600" y="449748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3831840" y="449748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3873600" y="445572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4138200" y="44827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79960" y="452448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138200" y="452448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179960" y="448272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4444560" y="449748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487760" y="45385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4444560" y="453852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4487760" y="449748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4750920" y="45111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94120" y="45529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4750920" y="455292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794120" y="45111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5059440" y="452412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00480" y="456732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5059440" y="456732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5100480" y="45241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5365440" y="453816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247680" y="1884240"/>
            <a:ext cx="7251840" cy="3843720"/>
            <a:chOff x="247680" y="1884240"/>
            <a:chExt cx="7251840" cy="3843720"/>
          </a:xfrm>
        </p:grpSpPr>
        <p:sp>
          <p:nvSpPr>
            <p:cNvPr id="734" name=""/>
            <p:cNvSpPr/>
            <p:nvPr/>
          </p:nvSpPr>
          <p:spPr>
            <a:xfrm>
              <a:off x="5407200" y="45813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5365440" y="45813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407200" y="453816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657400" y="45525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00600" y="45943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657400" y="459432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5700600" y="45525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5965920" y="455256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06960" y="45943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5965920" y="459432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6006960" y="45525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6272280" y="456732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13320" y="4608360"/>
              <a:ext cx="432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6272280" y="460836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6313320" y="4567320"/>
              <a:ext cx="432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6578280" y="458100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1480" y="46227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6578280" y="46227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6621480" y="458100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791640" y="228096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33400" y="232416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91640" y="23241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833400" y="228096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833400" y="228096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3400" y="232416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1098720" y="24760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39760" y="25192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1098720" y="251928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1139760" y="247608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1139760" y="24760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39760" y="25192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1404720" y="263016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47920" y="267192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1404720" y="267192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1447920" y="263016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1447920" y="263016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47920" y="267192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1712520" y="270000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54280" y="274176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712520" y="27417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1754280" y="270000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1754280" y="270000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54280" y="274176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2004480" y="30909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046240" y="313200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04480" y="313200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046240" y="309096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2046240" y="309096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046240" y="313200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2311200" y="327132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54400" y="331308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311200" y="33130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2354400" y="327132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354400" y="327132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54400" y="331308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 flipV="1">
              <a:off x="2619000" y="331272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60760" y="33544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619000" y="33544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660760" y="331272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660760" y="331272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60760" y="335448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 flipV="1">
              <a:off x="2925360" y="345240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967120" y="349416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2925360" y="34941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2967120" y="345240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2967120" y="345240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67120" y="349416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3231720" y="357840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73480" y="361944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231720" y="361944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3273480" y="357840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3273480" y="357840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3480" y="361944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3538080" y="377316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81280" y="381492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38080" y="381492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581280" y="377316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3581280" y="377316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581280" y="381492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3831840" y="384156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873600" y="388476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831840" y="38847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3873600" y="384156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3873600" y="384156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73600" y="388476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flipV="1">
              <a:off x="4138200" y="392544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79960" y="396720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4138200" y="396720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4179960" y="392544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4179960" y="392544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179960" y="396720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4444560" y="392544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87760" y="396720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4444560" y="396720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4487760" y="392544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487760" y="392544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87760" y="396720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4750920" y="402444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794120" y="40654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750920" y="40654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4794120" y="4024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4794120" y="402444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794120" y="40654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 flipV="1">
              <a:off x="5059440" y="405144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00480" y="40924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5059440" y="40924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5100480" y="4051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5100480" y="405144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00480" y="40924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5365440" y="4024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07200" y="40654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365440" y="40654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5407200" y="402444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5407200" y="402444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07200" y="406548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5657400" y="403668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00600" y="40798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5657400" y="40798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5700600" y="40366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5700600" y="40366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700600" y="40798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5965920" y="40366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06960" y="40798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5965920" y="407988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6006960" y="40366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006960" y="40366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06960" y="40798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272280" y="405144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313320" y="4092480"/>
              <a:ext cx="432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272280" y="40924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6313320" y="4051440"/>
              <a:ext cx="432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6313320" y="405144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13320" y="40924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6578280" y="405144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621480" y="40924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578280" y="409248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621480" y="4051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6621480" y="405144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621480" y="409248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92000" y="2281320"/>
              <a:ext cx="842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98720" y="2546280"/>
              <a:ext cx="8388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405080" y="4343400"/>
              <a:ext cx="8388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12880" y="4357800"/>
              <a:ext cx="824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4840" y="437184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11560" y="4398840"/>
              <a:ext cx="8388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19360" y="4427640"/>
              <a:ext cx="824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925720" y="4456080"/>
              <a:ext cx="824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32080" y="448308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538440" y="4524480"/>
              <a:ext cx="842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832200" y="4538520"/>
              <a:ext cx="824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138560" y="4567320"/>
              <a:ext cx="842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44920" y="4581360"/>
              <a:ext cx="84240" cy="8280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751280" y="46083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059440" y="4622760"/>
              <a:ext cx="824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65800" y="46227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657760" y="46227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965920" y="4637160"/>
              <a:ext cx="824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72280" y="4637160"/>
              <a:ext cx="842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78640" y="46497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2280" y="50180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3800" y="46292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3800" y="42386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800" y="3848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800" y="34574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37480" y="305424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37480" y="266400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2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37480" y="227340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4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7480" y="188424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6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02" name="" descr=""/>
            <p:cNvPicPr/>
            <p:nvPr/>
          </p:nvPicPr>
          <p:blipFill>
            <a:blip r:embed="rId1"/>
            <a:stretch/>
          </p:blipFill>
          <p:spPr>
            <a:xfrm>
              <a:off x="568440" y="5221440"/>
              <a:ext cx="2235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2"/>
            <a:stretch/>
          </p:blipFill>
          <p:spPr>
            <a:xfrm>
              <a:off x="876240" y="5221440"/>
              <a:ext cx="2224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182600" y="5221440"/>
              <a:ext cx="2224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141912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5"/>
            <a:stretch/>
          </p:blipFill>
          <p:spPr>
            <a:xfrm>
              <a:off x="171288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6"/>
            <a:stretch/>
          </p:blipFill>
          <p:spPr>
            <a:xfrm>
              <a:off x="2019240" y="5221440"/>
              <a:ext cx="29232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7"/>
            <a:stretch/>
          </p:blipFill>
          <p:spPr>
            <a:xfrm>
              <a:off x="232560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8"/>
            <a:stretch/>
          </p:blipFill>
          <p:spPr>
            <a:xfrm>
              <a:off x="263196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9"/>
            <a:stretch/>
          </p:blipFill>
          <p:spPr>
            <a:xfrm>
              <a:off x="294012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10"/>
            <a:stretch/>
          </p:blipFill>
          <p:spPr>
            <a:xfrm>
              <a:off x="324648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" descr=""/>
            <p:cNvPicPr/>
            <p:nvPr/>
          </p:nvPicPr>
          <p:blipFill>
            <a:blip r:embed="rId11"/>
            <a:stretch/>
          </p:blipFill>
          <p:spPr>
            <a:xfrm>
              <a:off x="353844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" descr=""/>
            <p:cNvPicPr/>
            <p:nvPr/>
          </p:nvPicPr>
          <p:blipFill>
            <a:blip r:embed="rId12"/>
            <a:stretch/>
          </p:blipFill>
          <p:spPr>
            <a:xfrm>
              <a:off x="384660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" descr=""/>
            <p:cNvPicPr/>
            <p:nvPr/>
          </p:nvPicPr>
          <p:blipFill>
            <a:blip r:embed="rId13"/>
            <a:stretch/>
          </p:blipFill>
          <p:spPr>
            <a:xfrm>
              <a:off x="415296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5" name="" descr=""/>
            <p:cNvPicPr/>
            <p:nvPr/>
          </p:nvPicPr>
          <p:blipFill>
            <a:blip r:embed="rId14"/>
            <a:stretch/>
          </p:blipFill>
          <p:spPr>
            <a:xfrm>
              <a:off x="445932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" descr=""/>
            <p:cNvPicPr/>
            <p:nvPr/>
          </p:nvPicPr>
          <p:blipFill>
            <a:blip r:embed="rId15"/>
            <a:stretch/>
          </p:blipFill>
          <p:spPr>
            <a:xfrm>
              <a:off x="476568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" descr=""/>
            <p:cNvPicPr/>
            <p:nvPr/>
          </p:nvPicPr>
          <p:blipFill>
            <a:blip r:embed="rId16"/>
            <a:stretch/>
          </p:blipFill>
          <p:spPr>
            <a:xfrm>
              <a:off x="5073480" y="5221440"/>
              <a:ext cx="29232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" descr=""/>
            <p:cNvPicPr/>
            <p:nvPr/>
          </p:nvPicPr>
          <p:blipFill>
            <a:blip r:embed="rId17"/>
            <a:stretch/>
          </p:blipFill>
          <p:spPr>
            <a:xfrm>
              <a:off x="536580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" descr=""/>
            <p:cNvPicPr/>
            <p:nvPr/>
          </p:nvPicPr>
          <p:blipFill>
            <a:blip r:embed="rId18"/>
            <a:stretch/>
          </p:blipFill>
          <p:spPr>
            <a:xfrm>
              <a:off x="567216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9"/>
            <a:stretch/>
          </p:blipFill>
          <p:spPr>
            <a:xfrm>
              <a:off x="597852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" descr=""/>
            <p:cNvPicPr/>
            <p:nvPr/>
          </p:nvPicPr>
          <p:blipFill>
            <a:blip r:embed="rId20"/>
            <a:stretch/>
          </p:blipFill>
          <p:spPr>
            <a:xfrm>
              <a:off x="628668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3331440" y="5575320"/>
              <a:ext cx="90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matrix size (n)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23" name="" descr=""/>
            <p:cNvPicPr/>
            <p:nvPr/>
          </p:nvPicPr>
          <p:blipFill>
            <a:blip r:embed="rId21"/>
            <a:stretch/>
          </p:blipFill>
          <p:spPr>
            <a:xfrm>
              <a:off x="247680" y="3033720"/>
              <a:ext cx="1681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>
              <a:off x="6885000" y="2936880"/>
              <a:ext cx="614520" cy="11844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927840" y="3048120"/>
              <a:ext cx="320760" cy="144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039080" y="300672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55520" y="2955960"/>
              <a:ext cx="13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ijk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27840" y="3243240"/>
              <a:ext cx="320760" cy="1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039080" y="3201840"/>
              <a:ext cx="8388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355520" y="3151080"/>
              <a:ext cx="13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ikj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927840" y="3438360"/>
              <a:ext cx="320760" cy="1800"/>
            </a:xfrm>
            <a:prstGeom prst="line">
              <a:avLst/>
            </a:prstGeom>
            <a:ln w="14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39080" y="33973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355520" y="3346560"/>
              <a:ext cx="13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jik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6927840" y="3633840"/>
            <a:ext cx="320760" cy="14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7039080" y="3590640"/>
            <a:ext cx="41040" cy="428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080120" y="3633840"/>
            <a:ext cx="42840" cy="4140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7039080" y="3633840"/>
            <a:ext cx="41040" cy="4140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7080120" y="3590640"/>
            <a:ext cx="42840" cy="428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355520" y="3541680"/>
            <a:ext cx="13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jk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927840" y="3828960"/>
            <a:ext cx="320760" cy="18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7039080" y="3785760"/>
            <a:ext cx="41040" cy="4284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080120" y="3828960"/>
            <a:ext cx="42840" cy="414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7039080" y="3828960"/>
            <a:ext cx="41040" cy="414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080120" y="3785760"/>
            <a:ext cx="42840" cy="4284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7080120" y="3785760"/>
            <a:ext cx="1800" cy="4284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080120" y="3828960"/>
            <a:ext cx="1800" cy="414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355520" y="3736800"/>
            <a:ext cx="13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kij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927840" y="4024440"/>
            <a:ext cx="320760" cy="1440"/>
          </a:xfrm>
          <a:prstGeom prst="line">
            <a:avLst/>
          </a:prstGeom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039080" y="3981600"/>
            <a:ext cx="83880" cy="83880"/>
          </a:xfrm>
          <a:prstGeom prst="ellipse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55520" y="3932280"/>
            <a:ext cx="13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kj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95400" y="1738440"/>
            <a:ext cx="7459560" cy="4165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mult Performance (Alpha 2116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1523880" y="1460520"/>
            <a:ext cx="1067040" cy="2336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50720" y="1166760"/>
            <a:ext cx="184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oo big for L1 Cach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331800" y="1166760"/>
            <a:ext cx="184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oo big for L2 Cach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2514240" y="1460520"/>
            <a:ext cx="1066680" cy="2336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328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locked matmult perf (Alpha 2116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609480" y="1600200"/>
            <a:ext cx="8124840" cy="4545000"/>
            <a:chOff x="609480" y="1600200"/>
            <a:chExt cx="8124840" cy="4545000"/>
          </a:xfrm>
        </p:grpSpPr>
        <p:grpSp>
          <p:nvGrpSpPr>
            <p:cNvPr id="959" name=""/>
            <p:cNvGrpSpPr/>
            <p:nvPr/>
          </p:nvGrpSpPr>
          <p:grpSpPr>
            <a:xfrm>
              <a:off x="1415880" y="2739960"/>
              <a:ext cx="6222960" cy="1324080"/>
              <a:chOff x="1415880" y="2739960"/>
              <a:chExt cx="6222960" cy="1324080"/>
            </a:xfrm>
          </p:grpSpPr>
          <p:sp>
            <p:nvSpPr>
              <p:cNvPr id="960" name=""/>
              <p:cNvSpPr/>
              <p:nvPr/>
            </p:nvSpPr>
            <p:spPr>
              <a:xfrm>
                <a:off x="360684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698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7893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88152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9718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06404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1544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2465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369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4290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5194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6116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7019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7941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8844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976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06736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1591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24988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3416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43240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52456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61492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7070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9744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8896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97996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0721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1642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254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3468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4371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293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196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7118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8022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8943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9850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0768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16760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2594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3501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4422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532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624800" y="4062600"/>
                <a:ext cx="14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415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50660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598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6891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7809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87164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96380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05416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1463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3288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41920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113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60172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693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784240" y="3622680"/>
                <a:ext cx="32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876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9685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89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1510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2414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336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4243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516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60684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698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7893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8815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971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06404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154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2465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3369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4290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194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6116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7019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794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8844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976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06736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1591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24988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416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43240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52456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61492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070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79744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8896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97996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072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1642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254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3468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4371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5293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6196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7118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8022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8943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9850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076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16760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259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350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4422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532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624800" y="3622680"/>
                <a:ext cx="14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415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50660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598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6891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7809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7164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96380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05416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1463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23668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3288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41920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5113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60172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693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84240" y="3181320"/>
                <a:ext cx="32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76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685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0589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1510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2414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3336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4243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516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60684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698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893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8815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971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06404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154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2465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3369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4290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5194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116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7019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794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8844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976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06736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1591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24988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3416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43240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52456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61492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7070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79744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8896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97996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072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1642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254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3468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4371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5293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6196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7118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8022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943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9850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076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16760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259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350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422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32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624800" y="3181320"/>
                <a:ext cx="14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415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50660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598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6891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7809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87164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96380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05416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1463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23668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3288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41920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5113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60172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693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784240" y="2739960"/>
                <a:ext cx="32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876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1369800" y="1843200"/>
              <a:ext cx="6269040" cy="3559320"/>
              <a:chOff x="1369800" y="1843200"/>
              <a:chExt cx="6269040" cy="3559320"/>
            </a:xfrm>
          </p:grpSpPr>
          <p:sp>
            <p:nvSpPr>
              <p:cNvPr id="1161" name=""/>
              <p:cNvSpPr/>
              <p:nvPr/>
            </p:nvSpPr>
            <p:spPr>
              <a:xfrm>
                <a:off x="29685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0589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1510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2414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3336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4243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516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60684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698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7893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8815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71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06404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154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2465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3369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4290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5194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6116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7019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794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8844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976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06736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1591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24988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3416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43240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52456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61492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7070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79744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8896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7996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072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1642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254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3468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4371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5293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6196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7118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8022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8943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9850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76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16760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259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350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4422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532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624800" y="2739960"/>
                <a:ext cx="14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415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50660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598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6891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7809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87164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96380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05416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1463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23668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3288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41920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5113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60172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693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784240" y="2284560"/>
                <a:ext cx="32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876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9685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0589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1510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2414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3336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4243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516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60684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698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7893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8815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971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06404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154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2465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3369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4290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5194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6116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7019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94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8844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976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06736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1591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24988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3416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43240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52456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61492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7070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79744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896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97996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072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1642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254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3468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4371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5293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6196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7118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8022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8943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9850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076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16760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259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350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4422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532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624800" y="2284560"/>
                <a:ext cx="14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415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50660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598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6891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7809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87164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96380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05416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1463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23668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3288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41920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25113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60172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693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784240" y="1843200"/>
                <a:ext cx="32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876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9685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0589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1510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2414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3336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4243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516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60684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698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7893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8815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971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06404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154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2465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3369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4290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5194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6116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7019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794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8844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976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06736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1591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24988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3416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43240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52456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61492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7070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79744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8896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97996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072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1642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254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3468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4371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5293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196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7118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8022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8943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9850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076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16760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259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350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4422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532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624800" y="1843200"/>
                <a:ext cx="14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415880" y="1843200"/>
                <a:ext cx="6222960" cy="355752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415880" y="1843200"/>
                <a:ext cx="1800" cy="355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369800" y="540072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369800" y="495936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1369800" y="451980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369800" y="406260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369800" y="362268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369800" y="318132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369800" y="273996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369800" y="228456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776160" y="1758960"/>
              <a:ext cx="7897680" cy="4195440"/>
              <a:chOff x="776160" y="1758960"/>
              <a:chExt cx="7897680" cy="4195440"/>
            </a:xfrm>
          </p:grpSpPr>
          <p:sp>
            <p:nvSpPr>
              <p:cNvPr id="1362" name=""/>
              <p:cNvSpPr/>
              <p:nvPr/>
            </p:nvSpPr>
            <p:spPr>
              <a:xfrm>
                <a:off x="1369800" y="184320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415880" y="5400720"/>
                <a:ext cx="62229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14158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17650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21002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24508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28000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315108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3484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3835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41846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45352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4870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52196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55702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5905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62546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>
                <a:off x="660384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69548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728964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763884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1415880" y="2679840"/>
                <a:ext cx="6222960" cy="973080"/>
              </a:xfrm>
              <a:custGeom>
                <a:avLst/>
                <a:gdLst/>
                <a:ahLst/>
                <a:rect l="l" t="t" r="r" b="b"/>
                <a:pathLst>
                  <a:path w="3920" h="613">
                    <a:moveTo>
                      <a:pt x="0" y="517"/>
                    </a:moveTo>
                    <a:lnTo>
                      <a:pt x="220" y="613"/>
                    </a:lnTo>
                    <a:lnTo>
                      <a:pt x="431" y="565"/>
                    </a:lnTo>
                    <a:lnTo>
                      <a:pt x="652" y="153"/>
                    </a:lnTo>
                    <a:lnTo>
                      <a:pt x="872" y="287"/>
                    </a:lnTo>
                    <a:lnTo>
                      <a:pt x="1093" y="96"/>
                    </a:lnTo>
                    <a:lnTo>
                      <a:pt x="1303" y="0"/>
                    </a:lnTo>
                    <a:lnTo>
                      <a:pt x="1524" y="163"/>
                    </a:lnTo>
                    <a:lnTo>
                      <a:pt x="1744" y="38"/>
                    </a:lnTo>
                    <a:lnTo>
                      <a:pt x="1965" y="153"/>
                    </a:lnTo>
                    <a:lnTo>
                      <a:pt x="2176" y="144"/>
                    </a:lnTo>
                    <a:lnTo>
                      <a:pt x="2396" y="57"/>
                    </a:lnTo>
                    <a:lnTo>
                      <a:pt x="2617" y="163"/>
                    </a:lnTo>
                    <a:lnTo>
                      <a:pt x="2828" y="86"/>
                    </a:lnTo>
                    <a:lnTo>
                      <a:pt x="3048" y="86"/>
                    </a:lnTo>
                    <a:lnTo>
                      <a:pt x="3268" y="153"/>
                    </a:lnTo>
                    <a:lnTo>
                      <a:pt x="3489" y="124"/>
                    </a:lnTo>
                    <a:lnTo>
                      <a:pt x="3700" y="182"/>
                    </a:lnTo>
                    <a:lnTo>
                      <a:pt x="3920" y="163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415880" y="2254320"/>
                <a:ext cx="6222960" cy="1778040"/>
              </a:xfrm>
              <a:custGeom>
                <a:avLst/>
                <a:gdLst/>
                <a:ahLst/>
                <a:rect l="l" t="t" r="r" b="b"/>
                <a:pathLst>
                  <a:path w="3920" h="1120">
                    <a:moveTo>
                      <a:pt x="0" y="785"/>
                    </a:moveTo>
                    <a:lnTo>
                      <a:pt x="220" y="1120"/>
                    </a:lnTo>
                    <a:lnTo>
                      <a:pt x="431" y="919"/>
                    </a:lnTo>
                    <a:lnTo>
                      <a:pt x="652" y="287"/>
                    </a:lnTo>
                    <a:lnTo>
                      <a:pt x="872" y="737"/>
                    </a:lnTo>
                    <a:lnTo>
                      <a:pt x="1093" y="287"/>
                    </a:lnTo>
                    <a:lnTo>
                      <a:pt x="1303" y="0"/>
                    </a:lnTo>
                    <a:lnTo>
                      <a:pt x="1524" y="373"/>
                    </a:lnTo>
                    <a:lnTo>
                      <a:pt x="1744" y="172"/>
                    </a:lnTo>
                    <a:lnTo>
                      <a:pt x="1965" y="479"/>
                    </a:lnTo>
                    <a:lnTo>
                      <a:pt x="2176" y="345"/>
                    </a:lnTo>
                    <a:lnTo>
                      <a:pt x="2396" y="134"/>
                    </a:lnTo>
                    <a:lnTo>
                      <a:pt x="2617" y="431"/>
                    </a:lnTo>
                    <a:lnTo>
                      <a:pt x="2828" y="239"/>
                    </a:lnTo>
                    <a:lnTo>
                      <a:pt x="3048" y="153"/>
                    </a:lnTo>
                    <a:lnTo>
                      <a:pt x="3268" y="325"/>
                    </a:lnTo>
                    <a:lnTo>
                      <a:pt x="3489" y="230"/>
                    </a:lnTo>
                    <a:lnTo>
                      <a:pt x="3700" y="412"/>
                    </a:lnTo>
                    <a:lnTo>
                      <a:pt x="3920" y="287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415880" y="2481480"/>
                <a:ext cx="6222960" cy="2174760"/>
              </a:xfrm>
              <a:custGeom>
                <a:avLst/>
                <a:gdLst/>
                <a:ahLst/>
                <a:rect l="l" t="t" r="r" b="b"/>
                <a:pathLst>
                  <a:path w="3920" h="1370">
                    <a:moveTo>
                      <a:pt x="0" y="0"/>
                    </a:moveTo>
                    <a:lnTo>
                      <a:pt x="220" y="106"/>
                    </a:lnTo>
                    <a:lnTo>
                      <a:pt x="431" y="154"/>
                    </a:lnTo>
                    <a:lnTo>
                      <a:pt x="652" y="508"/>
                    </a:lnTo>
                    <a:lnTo>
                      <a:pt x="872" y="1130"/>
                    </a:lnTo>
                    <a:lnTo>
                      <a:pt x="1093" y="1150"/>
                    </a:lnTo>
                    <a:lnTo>
                      <a:pt x="1303" y="1178"/>
                    </a:lnTo>
                    <a:lnTo>
                      <a:pt x="1524" y="1188"/>
                    </a:lnTo>
                    <a:lnTo>
                      <a:pt x="1744" y="1226"/>
                    </a:lnTo>
                    <a:lnTo>
                      <a:pt x="1965" y="1245"/>
                    </a:lnTo>
                    <a:lnTo>
                      <a:pt x="2176" y="1264"/>
                    </a:lnTo>
                    <a:lnTo>
                      <a:pt x="2396" y="1284"/>
                    </a:lnTo>
                    <a:lnTo>
                      <a:pt x="2617" y="1303"/>
                    </a:lnTo>
                    <a:lnTo>
                      <a:pt x="2828" y="1331"/>
                    </a:lnTo>
                    <a:lnTo>
                      <a:pt x="3048" y="1341"/>
                    </a:lnTo>
                    <a:lnTo>
                      <a:pt x="3268" y="1351"/>
                    </a:lnTo>
                    <a:lnTo>
                      <a:pt x="3489" y="1351"/>
                    </a:lnTo>
                    <a:lnTo>
                      <a:pt x="3700" y="1370"/>
                    </a:lnTo>
                    <a:lnTo>
                      <a:pt x="3920" y="136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415880" y="2557440"/>
                <a:ext cx="6222960" cy="1474920"/>
              </a:xfrm>
              <a:custGeom>
                <a:avLst/>
                <a:gdLst/>
                <a:ahLst/>
                <a:rect l="l" t="t" r="r" b="b"/>
                <a:pathLst>
                  <a:path w="3920" h="929">
                    <a:moveTo>
                      <a:pt x="0" y="39"/>
                    </a:moveTo>
                    <a:lnTo>
                      <a:pt x="220" y="58"/>
                    </a:lnTo>
                    <a:lnTo>
                      <a:pt x="431" y="0"/>
                    </a:lnTo>
                    <a:lnTo>
                      <a:pt x="652" y="192"/>
                    </a:lnTo>
                    <a:lnTo>
                      <a:pt x="872" y="297"/>
                    </a:lnTo>
                    <a:lnTo>
                      <a:pt x="1093" y="383"/>
                    </a:lnTo>
                    <a:lnTo>
                      <a:pt x="1303" y="431"/>
                    </a:lnTo>
                    <a:lnTo>
                      <a:pt x="1524" y="441"/>
                    </a:lnTo>
                    <a:lnTo>
                      <a:pt x="1744" y="575"/>
                    </a:lnTo>
                    <a:lnTo>
                      <a:pt x="1965" y="642"/>
                    </a:lnTo>
                    <a:lnTo>
                      <a:pt x="2176" y="690"/>
                    </a:lnTo>
                    <a:lnTo>
                      <a:pt x="2396" y="709"/>
                    </a:lnTo>
                    <a:lnTo>
                      <a:pt x="2617" y="757"/>
                    </a:lnTo>
                    <a:lnTo>
                      <a:pt x="2828" y="824"/>
                    </a:lnTo>
                    <a:lnTo>
                      <a:pt x="3048" y="862"/>
                    </a:lnTo>
                    <a:lnTo>
                      <a:pt x="3268" y="862"/>
                    </a:lnTo>
                    <a:lnTo>
                      <a:pt x="3489" y="891"/>
                    </a:lnTo>
                    <a:lnTo>
                      <a:pt x="3700" y="929"/>
                    </a:lnTo>
                    <a:lnTo>
                      <a:pt x="3920" y="920"/>
                    </a:lnTo>
                  </a:path>
                </a:pathLst>
              </a:custGeom>
              <a:noFill/>
              <a:ln w="158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369800" y="345456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1719000" y="360684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054160" y="35305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404800" y="2876760"/>
                <a:ext cx="90720" cy="918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754360" y="308952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105000" y="278604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440160" y="263376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789360" y="289260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140000" y="269568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489200" y="287676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824360" y="286236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173560" y="272592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524560" y="28926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859360" y="277020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208560" y="277020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559560" y="2876760"/>
                <a:ext cx="90360" cy="918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908760" y="283212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243560" y="292284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594560" y="28926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369800" y="345456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719000" y="398628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054160" y="3667320"/>
                <a:ext cx="92160" cy="9180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404800" y="2664000"/>
                <a:ext cx="9072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754360" y="3378240"/>
                <a:ext cx="9180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105000" y="2664000"/>
                <a:ext cx="9072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440160" y="2208240"/>
                <a:ext cx="903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789360" y="2801880"/>
                <a:ext cx="92160" cy="9072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140000" y="2481480"/>
                <a:ext cx="90720" cy="9180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489200" y="2968560"/>
                <a:ext cx="92160" cy="9072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824360" y="2756160"/>
                <a:ext cx="903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173560" y="242100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524560" y="2892600"/>
                <a:ext cx="903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859360" y="2587680"/>
                <a:ext cx="903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208560" y="245124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559560" y="2725920"/>
                <a:ext cx="903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908760" y="2573280"/>
                <a:ext cx="92160" cy="9072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243560" y="2862360"/>
                <a:ext cx="921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594560" y="2664000"/>
                <a:ext cx="903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369800" y="243684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719000" y="26035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054160" y="267984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404800" y="3241800"/>
                <a:ext cx="9072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754360" y="4230720"/>
                <a:ext cx="9180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105000" y="426096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440160" y="43070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789360" y="432144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140000" y="4381560"/>
                <a:ext cx="9072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58"/>
                    </a:lnTo>
                    <a:lnTo>
                      <a:pt x="0" y="5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489200" y="441324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824360" y="44434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173560" y="447372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524560" y="450396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859360" y="45500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208560" y="456408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559560" y="45799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908760" y="457992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243560" y="461016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594560" y="459432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58"/>
                    </a:lnTo>
                    <a:lnTo>
                      <a:pt x="0" y="5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 flipV="1">
                <a:off x="1369800" y="2573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415880" y="26193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H="1">
                <a:off x="1369800" y="26193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V="1">
                <a:off x="1415880" y="2573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 flipV="1">
                <a:off x="1719000" y="2603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765080" y="2649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>
                <a:off x="1719000" y="2649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V="1">
                <a:off x="1765080" y="2603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H="1" flipV="1">
                <a:off x="2054160" y="251280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100240" y="25574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2054160" y="25574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V="1">
                <a:off x="2100240" y="251280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H="1" flipV="1">
                <a:off x="2404800" y="2816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450880" y="286236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>
                <a:off x="2404800" y="28623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2450880" y="281628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 flipV="1">
                <a:off x="2754000" y="2982960"/>
                <a:ext cx="4572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800080" y="30290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2754000" y="3029040"/>
                <a:ext cx="4572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2800080" y="29829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 flipV="1">
                <a:off x="3105000" y="312084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51080" y="316548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3105000" y="31654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V="1">
                <a:off x="3151080" y="3120840"/>
                <a:ext cx="4464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 flipV="1">
                <a:off x="3439800" y="3197160"/>
                <a:ext cx="442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484440" y="32418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3439800" y="324180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V="1">
                <a:off x="3484440" y="31971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 flipV="1">
                <a:off x="3789360" y="32115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835440" y="32576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3789360" y="32576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V="1">
                <a:off x="3835440" y="32115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 flipV="1">
                <a:off x="4140000" y="342432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184640" y="34704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4140000" y="347040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V="1">
                <a:off x="4184640" y="34243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H="1" flipV="1">
                <a:off x="4489200" y="3530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535280" y="3576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4489200" y="3576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4535280" y="3530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 flipV="1">
                <a:off x="4824360" y="36068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870440" y="365292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H="1">
                <a:off x="4824360" y="36529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V="1">
                <a:off x="4870440" y="360684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 flipV="1">
                <a:off x="5173560" y="3637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219640" y="36831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5173560" y="36831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5219640" y="3637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H="1" flipV="1">
                <a:off x="5524200" y="3713040"/>
                <a:ext cx="4572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570280" y="375912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5524200" y="3759120"/>
                <a:ext cx="4572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5570280" y="3713040"/>
                <a:ext cx="4464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 flipV="1">
                <a:off x="5859360" y="3819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905440" y="386568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>
                <a:off x="5859360" y="38656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5905440" y="381960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 flipV="1">
                <a:off x="6208560" y="3880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254640" y="392616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6208560" y="392616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V="1">
                <a:off x="6254640" y="3880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 flipV="1">
                <a:off x="6559200" y="388008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603840" y="392616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6559200" y="3926160"/>
                <a:ext cx="442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V="1">
                <a:off x="6603840" y="3880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 flipV="1">
                <a:off x="6908760" y="392580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954840" y="39718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6908760" y="39718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6954840" y="392580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 flipV="1">
                <a:off x="7243560" y="3986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289640" y="40323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7243560" y="40323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7289640" y="3986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 flipV="1">
                <a:off x="7594200" y="397188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638840" y="40179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7594200" y="4017960"/>
                <a:ext cx="442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7638840" y="39718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260000" y="5316480"/>
                <a:ext cx="8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172880" y="487548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172880" y="443412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172880" y="397836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6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172880" y="353700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8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088640" y="30974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88640" y="265608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2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088640" y="220032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4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088640" y="175896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6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387080" y="552924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736280" y="552924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0318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824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7316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0826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416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67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116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4668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802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151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018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837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186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537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8864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221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5704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5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091400" y="5786640"/>
                <a:ext cx="994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Geneva"/>
                  </a:rPr>
                  <a:t>matrix size (n)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76160" y="3089520"/>
                <a:ext cx="18252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0" name=""/>
              <p:cNvSpPr/>
              <p:nvPr/>
            </p:nvSpPr>
            <p:spPr>
              <a:xfrm>
                <a:off x="7927920" y="3197160"/>
                <a:ext cx="745920" cy="8654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974000" y="3318120"/>
                <a:ext cx="3506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8096040" y="3272040"/>
                <a:ext cx="90720" cy="918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8434080" y="3218040"/>
                <a:ext cx="235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bijk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974000" y="3530520"/>
                <a:ext cx="350640" cy="180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096040" y="3484800"/>
                <a:ext cx="90720" cy="9180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8434080" y="3430800"/>
                <a:ext cx="235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bikj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974000" y="3743280"/>
                <a:ext cx="350640" cy="180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8096040" y="36990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8439480" y="3643560"/>
                <a:ext cx="148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ijk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974000" y="3956040"/>
                <a:ext cx="350640" cy="180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 flipV="1">
                <a:off x="8096040" y="391140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62" name=""/>
            <p:cNvSpPr/>
            <p:nvPr/>
          </p:nvSpPr>
          <p:spPr>
            <a:xfrm>
              <a:off x="8142120" y="3956040"/>
              <a:ext cx="44640" cy="460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8096040" y="3956040"/>
              <a:ext cx="46080" cy="460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8142120" y="3911400"/>
              <a:ext cx="44640" cy="442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439480" y="3855960"/>
              <a:ext cx="14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Geneva"/>
                </a:rPr>
                <a:t>ikj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09480" y="1600200"/>
              <a:ext cx="8124840" cy="4545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There’s more to performance than asymptotic complex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 factors matter too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ily see 10:1 performance range depending on how code writt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optimize at multiple levels: algorithm, data representations, procedures, and loo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understand system to optimize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programs compiled and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measure program performance and identify bottlene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improve performance without destroying code modularity and gener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Computers do more than execute progr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y need to get data in and ou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/O system critical to program reliability an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y communicate with each other over networ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system-level issues arise in presence of netw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current operations by autonomous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ping with unreliable medi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oss platform compatibil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lex performance iss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ole within Curriculu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1640" y="4343400"/>
            <a:ext cx="4483080" cy="21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tion from Abstract to Concrete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om: high-level language mod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: underlying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600200" y="5562720"/>
            <a:ext cx="1434960" cy="672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2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undament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063880" y="3664080"/>
            <a:ext cx="1434960" cy="672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21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063880" y="1828800"/>
            <a:ext cx="1434960" cy="679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4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erat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05320" y="1828800"/>
            <a:ext cx="14349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4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ompiler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08240" y="2527200"/>
            <a:ext cx="965160" cy="11178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819520" y="2514600"/>
            <a:ext cx="0" cy="11174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207880" y="2666880"/>
            <a:ext cx="11613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. Mgm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3276720" y="2527200"/>
            <a:ext cx="914400" cy="11178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565800" y="2690640"/>
            <a:ext cx="138708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achine C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timiza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V="1">
            <a:off x="2743200" y="4343040"/>
            <a:ext cx="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984680" y="4572000"/>
            <a:ext cx="1508760" cy="72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ata Structu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m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04920" y="3657600"/>
            <a:ext cx="1434960" cy="673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2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85" name=""/>
          <p:cNvCxnSpPr>
            <a:stCxn id="1573" idx="0"/>
            <a:endCxn id="1584" idx="2"/>
          </p:cNvCxnSpPr>
          <p:nvPr/>
        </p:nvCxnSpPr>
        <p:spPr>
          <a:xfrm flipH="1" flipV="1">
            <a:off x="1022040" y="4330800"/>
            <a:ext cx="1296000" cy="12322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86" name=""/>
          <p:cNvSpPr/>
          <p:nvPr/>
        </p:nvSpPr>
        <p:spPr>
          <a:xfrm>
            <a:off x="609480" y="1828800"/>
            <a:ext cx="143532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44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988560" y="2666880"/>
            <a:ext cx="10029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tocol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029200" y="2514600"/>
            <a:ext cx="14349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CE 34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74" idx="3"/>
            <a:endCxn id="1588" idx="2"/>
          </p:cNvCxnSpPr>
          <p:nvPr/>
        </p:nvCxnSpPr>
        <p:spPr>
          <a:xfrm flipV="1">
            <a:off x="3498840" y="3187440"/>
            <a:ext cx="2248560" cy="813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90" name=""/>
          <p:cNvSpPr/>
          <p:nvPr/>
        </p:nvSpPr>
        <p:spPr>
          <a:xfrm>
            <a:off x="6553080" y="2514600"/>
            <a:ext cx="143532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CE 34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mbedde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91" name=""/>
          <p:cNvCxnSpPr>
            <a:stCxn id="1574" idx="3"/>
            <a:endCxn id="1590" idx="2"/>
          </p:cNvCxnSpPr>
          <p:nvPr/>
        </p:nvCxnSpPr>
        <p:spPr>
          <a:xfrm flipV="1">
            <a:off x="3498840" y="3187440"/>
            <a:ext cx="3772800" cy="813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92" name=""/>
          <p:cNvSpPr/>
          <p:nvPr/>
        </p:nvSpPr>
        <p:spPr>
          <a:xfrm>
            <a:off x="3798360" y="3429000"/>
            <a:ext cx="15483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xec. Mode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Syste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137040" y="5562720"/>
            <a:ext cx="1434960" cy="672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11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 Programm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H="1" flipV="1">
            <a:off x="3352680" y="4343040"/>
            <a:ext cx="60984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Perspectiv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Systems Courses are Builder-Centr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r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ign pipelined processor in Verilo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ng Syst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mplement large portions of operating syst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compiler for simple langu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tw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mplement and simulate network protoco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The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traction is good, but don’t forget reality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urses to date emphasize abstr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tract data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ymptotic analy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se abstractions have limi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pecially in the presence of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to understand underlying implem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ful outcom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come more effective programm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le to find and eliminate bugs efficien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le to tune program performa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pare for later “systems” classes in CS &amp; E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s, Operating Systems, Networks, Computer Architecture, Embedded Syste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Perspectiv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r Course is Programmer-Centr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rpose is to show how by knowing more about the underlying system, one can be more effective as a programm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able you t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programs that are more reliable and effici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orporate features that require hooks into O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.g., concurrency, signal handler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just a course for dedicated hack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 bring out the hidden hacker in everyo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ver material in this course that you won’t see elsewhe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Int’s are not Integers, Float’s are not Rea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x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≥ 0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’s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e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’s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40000 * 40000  --&gt; 160000000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0000 * 50000  --&gt; ?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(x + y) + z  =  x + (y + z)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signed &amp; Signed Int’s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e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’s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1e20 + -1e20) + 3.14 --&gt; 3.1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e20 + (-1e20 + 3.14) --&gt; ?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er Arithmet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es not generate random valu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operations have important mathematical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not assume “usual” propert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ue to finiteness of repres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operations satisfy “ring”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utativity, associativity, distributiv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operations satisfy “ordering”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notonicity, values of sig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to understand which abstractions apply in which contex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 issues for compiler writers and serious application programm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You’ve got to know 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nces are, you’ll never write program in 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s are much better &amp; more patient than you 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derstanding assembly key to machine-level execution mod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havior of programs in presence of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gh-level language model breaks dow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ning progra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derstanding sources of program ineffici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ing system soft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 has machine code as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ting systems must manage process s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Cod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ime Stamp Count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ecial 64-bit register in Intel-compatible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ed every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with rdtsc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 time required by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units of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4343400"/>
            <a:ext cx="639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rt_counter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get_counter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required %f clock cycles\n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, t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to Read Cou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small amount of assembly code using GCC’s asm faci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s assembly code into machine code generated by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666880"/>
            <a:ext cx="7658280" cy="36601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tic unsigned cyc_h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tic unsigned cyc_lo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Set *hi and *lo to the high and low order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f the cycle counter.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access_counter(unsigned *hi, unsigned *l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m(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"rdtsc; movl %%edx,%0; movl %%eax,%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 "=r" (*hi), "=r" (*lo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 "%edx", "%eax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to Read Cou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440" y="990720"/>
            <a:ext cx="8763120" cy="5306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Record the current value of the cycle counter.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tart_counter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ess_counter(&amp;cyc_hi, &amp;cyc_lo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Number of cycles since the last call to start_counter.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get_counter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ncyc_hi, ncyc_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hi, lo, borrow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ess_counter(&amp;ncyc_hi, &amp;ncyc_lo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Do double precision subtraction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 = ncyc_lo - cyc_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orrow = lo &gt; ncyc_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i = ncyc_hi - cyc_hi - borrow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double) hi * (1 &lt;&lt; 30) * 4 + 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asuring Ti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ickier than it Might Loo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sources of vari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m integers from 1 to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ycles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ycles/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96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9.6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07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2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2,86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29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2,87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29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19,907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25,18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,00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371,2305,59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37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18Z</dcterms:created>
  <dc:creator>Randal E. Bryant and David R. O'Hallaron</dc:creator>
  <dc:description/>
  <dc:language>en-US</dc:language>
  <cp:lastModifiedBy>droh</cp:lastModifiedBy>
  <cp:lastPrinted>1999-01-11T23:34:46Z</cp:lastPrinted>
  <dcterms:modified xsi:type="dcterms:W3CDTF">2002-10-28T20:23:50Z</dcterms:modified>
  <cp:revision>42</cp:revision>
  <dc:subject/>
  <dc:title>Course Overview</dc:title>
</cp:coreProperties>
</file>