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jpeg" ContentType="image/jpeg"/>
  <Override PartName="/ppt/media/image45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B71-365C-480F-882E-7E4AD330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FDD-B755-49B5-8FAB-52ACCD37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662-56EE-4877-B1EA-5642941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D81-18BC-435F-9EEC-DD4CC19E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319-99F7-4F84-B58B-1A6C880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576-6FEA-4F86-976C-554FC1E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68E-0E0C-4743-9F6C-8E4E644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306-8531-4A75-98C4-C0CD4153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FE2-3AB2-46BC-B1A4-6241CABA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B56-6FB6-4ADD-B906-1174669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F40-E1FE-4E98-80DF-56D998D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201-8C4B-42EE-B497-F97FD5E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802B-BFE6-4F48-A159-CC98FD9286AF}" type="slidenum"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mage Interpretation Methods for Protein Location in Cell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Meel Vellist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rphy Lab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t. of Biomedical Engineering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2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NA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05280" y="68580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verage object distance from the COF of the DNA imag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ariance of object distances from the DNA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io of the largest to the smallest object to DNA COF distanc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tance between the protein COF and the DNA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io of the area occupied by protein to that occupied by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action of the protein fluorescence that co-localizes with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en Major Classes of Protein Loca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120" name="TenClassesWithNamesLT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69608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Numerical Features computed from each imag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581280"/>
            <a:ext cx="2971800" cy="1067040"/>
          </a:xfrm>
          <a:prstGeom prst="wedgeRoundRectCallout">
            <a:avLst>
              <a:gd name="adj1" fmla="val -78740"/>
              <a:gd name="adj2" fmla="val 54912"/>
              <a:gd name="adj3" fmla="val 16667"/>
            </a:avLst>
          </a:prstGeom>
          <a:solidFill>
            <a:srgbClr val="c0c0c0"/>
          </a:solidFill>
          <a:ln w="9360">
            <a:solidFill>
              <a:srgbClr val="ff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This is a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Microtubule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pattern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00400" y="4800600"/>
            <a:ext cx="5409720" cy="1841400"/>
            <a:chOff x="3200400" y="4800600"/>
            <a:chExt cx="5409720" cy="1841400"/>
          </a:xfrm>
        </p:grpSpPr>
        <p:sp>
          <p:nvSpPr>
            <p:cNvPr id="125" name=""/>
            <p:cNvSpPr/>
            <p:nvPr/>
          </p:nvSpPr>
          <p:spPr>
            <a:xfrm>
              <a:off x="3200400" y="5181480"/>
              <a:ext cx="5409720" cy="146052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dd4d"/>
                  </a:solidFill>
                  <a:latin typeface="Courier New"/>
                </a:rPr>
                <a:t>       </a:t>
              </a:r>
              <a:r>
                <a:rPr b="0" lang="en-US" sz="1800" spc="-1" strike="noStrike">
                  <a:solidFill>
                    <a:srgbClr val="ffdd4d"/>
                  </a:solidFill>
                  <a:latin typeface="Courier New"/>
                </a:rPr>
                <a:t>feature1 feature2 ... featureN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1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0.3489   0.1294   ... 1.9012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2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0.4985   0.4823   ... 1.8390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...   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                  ...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M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1.8245   0.8290   ... 0.9018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38360" y="4800600"/>
              <a:ext cx="2979360" cy="304920"/>
              <a:chOff x="5238360" y="4800600"/>
              <a:chExt cx="2979360" cy="30492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5238360" y="4800600"/>
                <a:ext cx="148932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571080" y="4800600"/>
                <a:ext cx="86220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590600" y="4800600"/>
                <a:ext cx="62712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80880" y="4495680"/>
            <a:ext cx="2667240" cy="1981440"/>
            <a:chOff x="380880" y="4495680"/>
            <a:chExt cx="2667240" cy="1981440"/>
          </a:xfrm>
        </p:grpSpPr>
        <p:grpSp>
          <p:nvGrpSpPr>
            <p:cNvPr id="131" name=""/>
            <p:cNvGrpSpPr/>
            <p:nvPr/>
          </p:nvGrpSpPr>
          <p:grpSpPr>
            <a:xfrm>
              <a:off x="2057400" y="4952520"/>
              <a:ext cx="990720" cy="1524600"/>
              <a:chOff x="2057400" y="4952520"/>
              <a:chExt cx="990720" cy="1524600"/>
            </a:xfrm>
          </p:grpSpPr>
          <p:sp>
            <p:nvSpPr>
              <p:cNvPr id="132" name=""/>
              <p:cNvSpPr/>
              <p:nvPr/>
            </p:nvSpPr>
            <p:spPr>
              <a:xfrm flipH="1" flipV="1">
                <a:off x="2209320" y="4952520"/>
                <a:ext cx="838440" cy="38124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666520" y="5714640"/>
                <a:ext cx="381240" cy="15228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2057400" y="6019920"/>
                <a:ext cx="990720" cy="45720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pic>
          <p:nvPicPr>
            <p:cNvPr id="135" name="JumpingComputer" descr=""/>
            <p:cNvPicPr/>
            <p:nvPr/>
          </p:nvPicPr>
          <p:blipFill>
            <a:blip r:embed="rId1"/>
            <a:stretch/>
          </p:blipFill>
          <p:spPr>
            <a:xfrm>
              <a:off x="380880" y="4495680"/>
              <a:ext cx="1943280" cy="13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tubulin2d" descr=""/>
          <p:cNvPicPr/>
          <p:nvPr/>
        </p:nvPicPr>
        <p:blipFill>
          <a:blip r:embed="rId2"/>
          <a:srcRect l="26249" t="22618" r="20624" b="10052"/>
          <a:stretch/>
        </p:blipFill>
        <p:spPr>
          <a:xfrm>
            <a:off x="6172200" y="2273400"/>
            <a:ext cx="2592360" cy="2450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8288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Artificial Neural Network classifies the imag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83% Accuracy achieve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Implement new 2D features and improve Haralick texture features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Test performance on mixtures of more than one cell type and more than one microscopy sourc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Extend features to 3D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Develop Object-level classification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keleton Features: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Length of skelet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Number of branch poin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Fraction of object area taken up by skelet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Fraction of fluorescence below threshold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41" name="tubulin2d" descr=""/>
          <p:cNvPicPr/>
          <p:nvPr/>
        </p:nvPicPr>
        <p:blipFill>
          <a:blip r:embed="rId1"/>
          <a:srcRect l="26249" t="22618" r="20624" b="10052"/>
          <a:stretch/>
        </p:blipFill>
        <p:spPr>
          <a:xfrm>
            <a:off x="379440" y="1066680"/>
            <a:ext cx="2592360" cy="2451240"/>
          </a:xfrm>
          <a:prstGeom prst="rect">
            <a:avLst/>
          </a:prstGeom>
          <a:ln w="0">
            <a:noFill/>
          </a:ln>
        </p:spPr>
      </p:pic>
      <p:pic>
        <p:nvPicPr>
          <p:cNvPr id="142" name="tubulin2dskel" descr=""/>
          <p:cNvPicPr/>
          <p:nvPr/>
        </p:nvPicPr>
        <p:blipFill>
          <a:blip r:embed="rId2"/>
          <a:srcRect l="26249" t="22618" r="20624" b="10052"/>
          <a:stretch/>
        </p:blipFill>
        <p:spPr>
          <a:xfrm>
            <a:off x="6324480" y="1066680"/>
            <a:ext cx="2590920" cy="2451240"/>
          </a:xfrm>
          <a:prstGeom prst="rect">
            <a:avLst/>
          </a:prstGeom>
          <a:ln w="0">
            <a:noFill/>
          </a:ln>
        </p:spPr>
      </p:pic>
      <p:pic>
        <p:nvPicPr>
          <p:cNvPr id="143" name="tubulin2dbin" descr=""/>
          <p:cNvPicPr/>
          <p:nvPr/>
        </p:nvPicPr>
        <p:blipFill>
          <a:blip r:embed="rId3"/>
          <a:srcRect l="26249" t="22618" r="20624" b="10052"/>
          <a:stretch/>
        </p:blipFill>
        <p:spPr>
          <a:xfrm>
            <a:off x="3352680" y="1066680"/>
            <a:ext cx="2590920" cy="2451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New Features (SLF7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Based on gray-level co-occurre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If image has </a:t>
            </a:r>
            <a:r>
              <a:rPr b="0" i="1" lang="en-US" sz="3200" spc="-1" strike="noStrike">
                <a:solidFill>
                  <a:srgbClr val="ffdd4d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 gray-levels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mpute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co-occurrence probability matrix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P( i, j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mpute features by summing and differencing the matrix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highly dependent on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Number of gray-level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Pixel resoluti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Haralick Textur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Percent Benefit of Textur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019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Baseline accuracy = 86.4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0" name="t" descr=""/>
          <p:cNvPicPr/>
          <p:nvPr/>
        </p:nvPicPr>
        <p:blipFill>
          <a:blip r:embed="rId1"/>
          <a:stretch/>
        </p:blipFill>
        <p:spPr>
          <a:xfrm>
            <a:off x="1295280" y="1542960"/>
            <a:ext cx="601992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Always down-sample and re-quantize to: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1.15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Resolution-independent robust classification possibl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riginal Image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, 0.23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5" name="tfr_256gray_023um" descr=""/>
          <p:cNvPicPr/>
          <p:nvPr/>
        </p:nvPicPr>
        <p:blipFill>
          <a:blip r:embed="rId1"/>
          <a:stretch/>
        </p:blipFill>
        <p:spPr>
          <a:xfrm>
            <a:off x="1736640" y="1187280"/>
            <a:ext cx="58230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own-sample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, 1.15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8" name="tfr_256gray_115um" descr=""/>
          <p:cNvPicPr/>
          <p:nvPr/>
        </p:nvPicPr>
        <p:blipFill>
          <a:blip r:embed="rId1"/>
          <a:stretch/>
        </p:blipFill>
        <p:spPr>
          <a:xfrm>
            <a:off x="1736640" y="1187280"/>
            <a:ext cx="58230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44" name="cellfrlife0407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03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91160"/>
            <a:ext cx="914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dd4d"/>
                </a:solidFill>
                <a:latin typeface="Times New Roman"/>
              </a:rPr>
              <a:t>Image source http://www.biologie.uni-hamburg.de/b-online/library/bio201/cellfrlife.html</a:t>
            </a:r>
            <a:endParaRPr b="0" lang="en-US" sz="19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Results with SLF8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3244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verall accuracy = 88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61" name="slf8dna_classif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of Images from Mixed Sourc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6019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verall accuracy = 92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1828800"/>
            <a:ext cx="6171480" cy="3962160"/>
            <a:chOff x="1371600" y="1828800"/>
            <a:chExt cx="6171480" cy="3962160"/>
          </a:xfrm>
        </p:grpSpPr>
        <p:grpSp>
          <p:nvGrpSpPr>
            <p:cNvPr id="165" name=""/>
            <p:cNvGrpSpPr/>
            <p:nvPr/>
          </p:nvGrpSpPr>
          <p:grpSpPr>
            <a:xfrm>
              <a:off x="2057400" y="2467080"/>
              <a:ext cx="5485680" cy="3323880"/>
              <a:chOff x="2057400" y="2467080"/>
              <a:chExt cx="5485680" cy="3323880"/>
            </a:xfrm>
          </p:grpSpPr>
          <p:sp>
            <p:nvSpPr>
              <p:cNvPr id="166" name=""/>
              <p:cNvSpPr/>
              <p:nvPr/>
            </p:nvSpPr>
            <p:spPr>
              <a:xfrm>
                <a:off x="6467760" y="5125320"/>
                <a:ext cx="107532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97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4880" y="5125320"/>
                <a:ext cx="108288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21080" y="5125320"/>
                <a:ext cx="10634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45040" y="5125320"/>
                <a:ext cx="10760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57400" y="5125320"/>
                <a:ext cx="11876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ubul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67760" y="4460040"/>
                <a:ext cx="107532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84880" y="4460040"/>
                <a:ext cx="108288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89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21080" y="4460040"/>
                <a:ext cx="10634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45040" y="4460040"/>
                <a:ext cx="10760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57400" y="4460040"/>
                <a:ext cx="11876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Lyso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67760" y="3794400"/>
                <a:ext cx="107532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84880" y="3794400"/>
                <a:ext cx="108288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21080" y="3794400"/>
                <a:ext cx="10634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95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3794400"/>
                <a:ext cx="10760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57400" y="3794400"/>
                <a:ext cx="11876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Golgi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67760" y="3132000"/>
                <a:ext cx="107532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84880" y="3132000"/>
                <a:ext cx="108288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21080" y="3132000"/>
                <a:ext cx="10634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45040" y="3132000"/>
                <a:ext cx="10760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88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57400" y="3132000"/>
                <a:ext cx="11876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DN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67760" y="2467080"/>
                <a:ext cx="107532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Tubul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84880" y="2467080"/>
                <a:ext cx="108288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Lyso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21080" y="2467080"/>
                <a:ext cx="10634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Golgi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45040" y="2467080"/>
                <a:ext cx="10760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N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57400" y="2467080"/>
                <a:ext cx="11876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16200000">
              <a:off x="590760" y="412380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rue Class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182880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dd4d"/>
                  </a:solidFill>
                  <a:latin typeface="Times New Roman"/>
                </a:rPr>
                <a:t>Predicted Class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23880" y="1828800"/>
            <a:ext cx="6019560" cy="3886200"/>
            <a:chOff x="1523880" y="1828800"/>
            <a:chExt cx="6019560" cy="3886200"/>
          </a:xfrm>
        </p:grpSpPr>
        <p:sp>
          <p:nvSpPr>
            <p:cNvPr id="194" name=""/>
            <p:cNvSpPr/>
            <p:nvPr/>
          </p:nvSpPr>
          <p:spPr>
            <a:xfrm>
              <a:off x="3321720" y="2971800"/>
              <a:ext cx="422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1828800"/>
              <a:ext cx="601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5715000"/>
              <a:ext cx="601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xtending to 3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Results for 2-D images can be dependent on the z-position of the sli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876920" y="2828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9092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TOM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xtending to 3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sensitive to 3D distribution will be needed for polarized cells (e.g. epithelial cells)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Proteins may distribute differently to the basolateral and apical surfac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Actin (Microfilament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06" name="gray_projpanel_Fac20010604ss09s12q2i029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07" name="color_projpanel_Fac20010604ss09s12q2i029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ubulin (Microtubule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09" name="gray_projpanel_Tub20010223ss09s08q1i014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0" name="color_projpanel_Tub20010223ss09s08q1i014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Mitochondrial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2" name="gray_projpanel_Mit20020107ss12s01q2i029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3" name="color_projpanel_Mit20020107ss12s01q2i029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5" name="gray_projpanel_ER_20020111ss12s07q1i03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6" name="color_projpanel_ER_20020111ss12s07q1i03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fR (Endosomal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8" name="gray_projpanel_TfR20010327ss09s07q1i044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9" name="color_projpanel_TfR20010327ss09s07q1i044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LAMP2 (Lysosomal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1" name="gray_projpanel_LAM20020117ss12s06q1i026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2" name="color_projpanel_LAM20020117ss12s06q1i026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equence databases allow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search by similarity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52680" y="4724280"/>
            <a:ext cx="2971800" cy="520560"/>
            <a:chOff x="3352680" y="4724280"/>
            <a:chExt cx="2971800" cy="520560"/>
          </a:xfrm>
        </p:grpSpPr>
        <p:sp>
          <p:nvSpPr>
            <p:cNvPr id="49" name=""/>
            <p:cNvSpPr/>
            <p:nvPr/>
          </p:nvSpPr>
          <p:spPr>
            <a:xfrm>
              <a:off x="4191120" y="4724280"/>
              <a:ext cx="213336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Database</a:t>
              </a:r>
              <a:endParaRPr b="0" lang="en-US" sz="28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95288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477120" y="4343040"/>
            <a:ext cx="685800" cy="1219680"/>
            <a:chOff x="6477120" y="4343040"/>
            <a:chExt cx="685800" cy="1219680"/>
          </a:xfrm>
        </p:grpSpPr>
        <p:sp>
          <p:nvSpPr>
            <p:cNvPr id="52" name=""/>
            <p:cNvSpPr/>
            <p:nvPr/>
          </p:nvSpPr>
          <p:spPr>
            <a:xfrm>
              <a:off x="6477120" y="495324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77120" y="434304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7120" y="53341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28600" y="464832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GSNWLAMQLT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315200" y="3886200"/>
            <a:ext cx="1600200" cy="2064240"/>
            <a:chOff x="7315200" y="3886200"/>
            <a:chExt cx="1600200" cy="2064240"/>
          </a:xfrm>
        </p:grpSpPr>
        <p:sp>
          <p:nvSpPr>
            <p:cNvPr id="57" name=""/>
            <p:cNvSpPr/>
            <p:nvPr/>
          </p:nvSpPr>
          <p:spPr>
            <a:xfrm>
              <a:off x="7315200" y="3886200"/>
              <a:ext cx="121932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yfbI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15200" y="4606920"/>
              <a:ext cx="1600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Rv2560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5200" y="5369040"/>
              <a:ext cx="121932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fliR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" y="2514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The same is true for protein structure database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iantin (Golgi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4" name="gray_projpanel_Gia20011205ss12s04q1i02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5" name="color_projpanel_Gia20011205ss12s04q1i02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pp130 (Golgi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7" name="gray_projpanel_Gpp20001208ss07s04q1i022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8" name="color_projpanel_Gpp20001208ss07s04q1i022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Nucleolin (Nucleola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0" name="gray_projpanel_Nuc20011102ss10s02q3i065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1" name="color_projpanel_Nuc20011102ss10s02q3i065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NA (Nuclea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3" name="gray_projpanel_Tub20010316ss09s08q1i02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4" name="color_projpanel_Tub20010316ss09s08q1i02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otal-Protein (Cytoplasmic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6" name="gray_projpanel_Tub20010316ss09s08q1i022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7" name="color_projpanel_Tub20010316ss09s08q1i022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Features for 3-D Imag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Used a subset of the sam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Morphological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 features as used with 2-D patterns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Objec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ler Numbe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Object Siz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Deviation of Object siz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 of the Largest to the Smallest Object Siz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Distance of Objects from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Deviation of Object Distances from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 of the Largest to Smallest Object Distanc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eparating Components of Distanc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95120" y="388584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an separate out Horizontal and Vertical components of dista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2D euclidean for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Signed 1D distance for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42" name="Gia072500s1q1c002_proj" descr=""/>
          <p:cNvPicPr/>
          <p:nvPr/>
        </p:nvPicPr>
        <p:blipFill>
          <a:blip r:embed="rId1"/>
          <a:stretch/>
        </p:blipFill>
        <p:spPr>
          <a:xfrm>
            <a:off x="401760" y="3619440"/>
            <a:ext cx="2417760" cy="293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489480" y="432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524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ome morphological features involve measures of dista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e.g., Average distance of objects from the COF of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0 classes, Overall accuracy = 91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"/>
          <a:stretch/>
        </p:blipFill>
        <p:spPr>
          <a:xfrm>
            <a:off x="380880" y="91440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48" name="bpnn_3dslf9_10cl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91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1" name="bpnn_3dslf9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94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with 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 Selected 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4" name="bpnn_3dslf9_best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equence databases allow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search by similarity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63" name="CroppedNucleER" descr=""/>
          <p:cNvPicPr/>
          <p:nvPr/>
        </p:nvPicPr>
        <p:blipFill>
          <a:blip r:embed="rId1"/>
          <a:stretch/>
        </p:blipFill>
        <p:spPr>
          <a:xfrm>
            <a:off x="993600" y="448632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1120" y="5105520"/>
            <a:ext cx="2133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tabas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334120"/>
            <a:ext cx="68580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77120" y="4723920"/>
            <a:ext cx="685800" cy="1219680"/>
            <a:chOff x="6477120" y="4723920"/>
            <a:chExt cx="685800" cy="1219680"/>
          </a:xfrm>
        </p:grpSpPr>
        <p:sp>
          <p:nvSpPr>
            <p:cNvPr id="67" name=""/>
            <p:cNvSpPr/>
            <p:nvPr/>
          </p:nvSpPr>
          <p:spPr>
            <a:xfrm>
              <a:off x="6477120" y="533412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477120" y="47239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571500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15200" y="4267080"/>
            <a:ext cx="457200" cy="2064240"/>
            <a:chOff x="7315200" y="4267080"/>
            <a:chExt cx="457200" cy="2064240"/>
          </a:xfrm>
        </p:grpSpPr>
        <p:sp>
          <p:nvSpPr>
            <p:cNvPr id="71" name=""/>
            <p:cNvSpPr/>
            <p:nvPr/>
          </p:nvSpPr>
          <p:spPr>
            <a:xfrm>
              <a:off x="7315200" y="426708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200" y="498780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5200" y="574992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85800" y="2514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The same is true for protein structure database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733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How about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protein location</a:t>
            </a: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2D 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14 SLF2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88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7" name="bpnn_slice_ls_11class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t size 9, Overall accuracy = 99.7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of 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Sets 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f 3D Imag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60" name="bpnn_3dslf9_10cl_sets9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or accurate determination of subcellular location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High resolution microscopy is essential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3D images have an advantage over 2D imag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SDA can achieve severely sub-optimal resul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Protein Subcellular Location Patterns can be represented as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Numerical Vector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an be computed from either 2D or 3D imag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are robust to different microscopy methods or cell typ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666880"/>
            <a:ext cx="236232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ature Extracto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867280" y="3124080"/>
            <a:ext cx="457200" cy="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124080"/>
            <a:ext cx="457200" cy="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5105520"/>
            <a:ext cx="60984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4800600"/>
            <a:ext cx="129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38.1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272" name="CroppedNucleER" descr=""/>
          <p:cNvPicPr/>
          <p:nvPr/>
        </p:nvPicPr>
        <p:blipFill>
          <a:blip r:embed="rId2"/>
          <a:stretch/>
        </p:blipFill>
        <p:spPr>
          <a:xfrm>
            <a:off x="6404040" y="197172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Quantitative comparison of location is possibl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495680"/>
            <a:ext cx="5638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7.84 -0.097 24 1 2.3 -31.03 -2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257800"/>
            <a:ext cx="5638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2.19 +0.271 98 8 0.9 -11.21  0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95120" y="3657600"/>
            <a:ext cx="1295640" cy="152388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3657600"/>
            <a:ext cx="304920" cy="76212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6019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ques and Murphy (2002)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Protein databases can be searched by similarity of location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80" name="CroppedNucleER" descr=""/>
          <p:cNvPicPr/>
          <p:nvPr/>
        </p:nvPicPr>
        <p:blipFill>
          <a:blip r:embed="rId1"/>
          <a:stretch/>
        </p:blipFill>
        <p:spPr>
          <a:xfrm>
            <a:off x="838080" y="296244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35600" y="3581280"/>
            <a:ext cx="2133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tabas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7160" y="3809880"/>
            <a:ext cx="68580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321600" y="3200040"/>
            <a:ext cx="685800" cy="1219680"/>
            <a:chOff x="6321600" y="3200040"/>
            <a:chExt cx="685800" cy="1219680"/>
          </a:xfrm>
        </p:grpSpPr>
        <p:sp>
          <p:nvSpPr>
            <p:cNvPr id="284" name=""/>
            <p:cNvSpPr/>
            <p:nvPr/>
          </p:nvSpPr>
          <p:spPr>
            <a:xfrm>
              <a:off x="6321600" y="381024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321600" y="320004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21600" y="41911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159680" y="2743200"/>
            <a:ext cx="1446840" cy="2064240"/>
            <a:chOff x="7159680" y="2743200"/>
            <a:chExt cx="1446840" cy="2064240"/>
          </a:xfrm>
        </p:grpSpPr>
        <p:sp>
          <p:nvSpPr>
            <p:cNvPr id="288" name=""/>
            <p:cNvSpPr/>
            <p:nvPr/>
          </p:nvSpPr>
          <p:spPr>
            <a:xfrm>
              <a:off x="7159680" y="274320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crp21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9680" y="346392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froX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9680" y="422604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CAP-9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utomated interpretation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f location patterns is possible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Automated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lassification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location pattern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land and Murphy, 2001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rphy et al. 2001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elliste and Murphy, 2002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Automated choice of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epresentative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image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y et al. 1999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Rigorous statistical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mparison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imaging experiment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ques and Murphy, 2002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Building a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“family tree”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protein locati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bert F. Murphy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for being a great thesis adviso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ichael V. Boland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- founding work on 2D Subcellular Location Featur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imon Watkins and the staff at the Center for Biologic Imaging at UPitt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providing the facilities for and assisting with microscopy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aron C. Rising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help with collecting 3D imag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regory Porreca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improving Haralick features and classifying mixed image se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Basic Idea in Sequence Comparis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5486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M A T N W G S L L Q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016080"/>
            <a:ext cx="5486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M D T N P V S L L R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257800"/>
            <a:ext cx="624852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urier New"/>
              </a:rPr>
              <a:t>5 -1 3 2 -9 4 2 1 1 -3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886200"/>
            <a:ext cx="236232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imilarity Matrix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81280" y="3733920"/>
            <a:ext cx="1371600" cy="45720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19520"/>
            <a:ext cx="152280" cy="99036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876920"/>
            <a:ext cx="0" cy="30456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5562720"/>
            <a:ext cx="60948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5257800"/>
            <a:ext cx="129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25.7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Location Info in Databas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Unstructured text - most databas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tandardized keywords - YP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luorescence microscope images - TRIPLES, YPL.db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Numerical descriptors neede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88" name="CroppedNucleER" descr=""/>
          <p:cNvPicPr/>
          <p:nvPr/>
        </p:nvPicPr>
        <p:blipFill>
          <a:blip r:embed="rId1"/>
          <a:stretch/>
        </p:blipFill>
        <p:spPr>
          <a:xfrm>
            <a:off x="380880" y="4486320"/>
            <a:ext cx="21304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514600" y="5172120"/>
            <a:ext cx="6324480" cy="459720"/>
            <a:chOff x="2514600" y="5172120"/>
            <a:chExt cx="6324480" cy="459720"/>
          </a:xfrm>
        </p:grpSpPr>
        <p:sp>
          <p:nvSpPr>
            <p:cNvPr id="90" name=""/>
            <p:cNvSpPr/>
            <p:nvPr/>
          </p:nvSpPr>
          <p:spPr>
            <a:xfrm>
              <a:off x="3200400" y="5172120"/>
              <a:ext cx="5638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Courier New"/>
                </a:rPr>
                <a:t>7.84 -0.097 24 1 2.3 -31.03 -2</a:t>
              </a:r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5410080"/>
              <a:ext cx="60948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ubcellular </a:t>
            </a: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cation </a:t>
            </a: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atures (SLF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49 Zernike Moment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3 Haralick Texture Featur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22 Morphological Features - derived from morphological image processing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Object finding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Edge finding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nvex Hull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Morphological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95" name="CroppedNucleER" descr=""/>
          <p:cNvPicPr/>
          <p:nvPr/>
        </p:nvPicPr>
        <p:blipFill>
          <a:blip r:embed="rId1"/>
          <a:stretch/>
        </p:blipFill>
        <p:spPr>
          <a:xfrm>
            <a:off x="187200" y="981000"/>
            <a:ext cx="2130480" cy="2143080"/>
          </a:xfrm>
          <a:prstGeom prst="rect">
            <a:avLst/>
          </a:prstGeom>
          <a:ln w="0">
            <a:noFill/>
          </a:ln>
        </p:spPr>
      </p:pic>
      <p:pic>
        <p:nvPicPr>
          <p:cNvPr id="96" name="BinaryNucleER" descr=""/>
          <p:cNvPicPr/>
          <p:nvPr/>
        </p:nvPicPr>
        <p:blipFill>
          <a:blip r:embed="rId2"/>
          <a:stretch/>
        </p:blipFill>
        <p:spPr>
          <a:xfrm>
            <a:off x="2400480" y="981000"/>
            <a:ext cx="213012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MajFiltNucleER" descr=""/>
          <p:cNvPicPr/>
          <p:nvPr/>
        </p:nvPicPr>
        <p:blipFill>
          <a:blip r:embed="rId3"/>
          <a:stretch/>
        </p:blipFill>
        <p:spPr>
          <a:xfrm>
            <a:off x="4606920" y="981000"/>
            <a:ext cx="213048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LabeledNucleER" descr=""/>
          <p:cNvPicPr/>
          <p:nvPr/>
        </p:nvPicPr>
        <p:blipFill>
          <a:blip r:embed="rId4"/>
          <a:stretch/>
        </p:blipFill>
        <p:spPr>
          <a:xfrm>
            <a:off x="6816600" y="98100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NucleObj1" descr=""/>
          <p:cNvPicPr/>
          <p:nvPr/>
        </p:nvPicPr>
        <p:blipFill>
          <a:blip r:embed="rId5"/>
          <a:stretch/>
        </p:blipFill>
        <p:spPr>
          <a:xfrm>
            <a:off x="5011560" y="3432240"/>
            <a:ext cx="1295640" cy="1216080"/>
          </a:xfrm>
          <a:prstGeom prst="rect">
            <a:avLst/>
          </a:prstGeom>
          <a:ln w="0">
            <a:noFill/>
          </a:ln>
        </p:spPr>
      </p:pic>
      <p:pic>
        <p:nvPicPr>
          <p:cNvPr id="100" name="ERObj1" descr=""/>
          <p:cNvPicPr/>
          <p:nvPr/>
        </p:nvPicPr>
        <p:blipFill>
          <a:blip r:embed="rId6"/>
          <a:stretch/>
        </p:blipFill>
        <p:spPr>
          <a:xfrm>
            <a:off x="6653160" y="3430440"/>
            <a:ext cx="1298520" cy="1217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80880" y="3352680"/>
            <a:ext cx="7620120" cy="2971800"/>
            <a:chOff x="380880" y="3352680"/>
            <a:chExt cx="7620120" cy="2971800"/>
          </a:xfrm>
        </p:grpSpPr>
        <p:grpSp>
          <p:nvGrpSpPr>
            <p:cNvPr id="102" name=""/>
            <p:cNvGrpSpPr/>
            <p:nvPr/>
          </p:nvGrpSpPr>
          <p:grpSpPr>
            <a:xfrm>
              <a:off x="380880" y="4724280"/>
              <a:ext cx="7239240" cy="1600200"/>
              <a:chOff x="380880" y="4724280"/>
              <a:chExt cx="7239240" cy="160020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880" y="4724280"/>
                <a:ext cx="4496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Are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880" y="5257800"/>
                <a:ext cx="4496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istance from COF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0880" y="5791320"/>
                <a:ext cx="44960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istance from DNA COF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05520" y="472428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894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05520" y="525780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89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05520" y="5791320"/>
                <a:ext cx="9903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10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29400" y="4724280"/>
                <a:ext cx="9907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25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29400" y="5257800"/>
                <a:ext cx="9907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2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9400" y="5791320"/>
                <a:ext cx="990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57200" y="472428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632448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335268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ome Exampl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mber of Objects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ler Number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verage Object Siz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Deviation of Object sizes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tio of the Largest to the Smallest Object Siz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verage Distance of Objects from COF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Deviation of Object Distances from COF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tio of the Largest to Smallest Object Distanc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6:43:30Z</dcterms:created>
  <dc:creator>Meel Velliste</dc:creator>
  <dc:description/>
  <dc:language>en-US</dc:language>
  <cp:lastModifiedBy>En-Jung Lee</cp:lastModifiedBy>
  <dcterms:modified xsi:type="dcterms:W3CDTF">2002-11-10T05:00:35Z</dcterms:modified>
  <cp:revision>558</cp:revision>
  <dc:subject/>
  <dc:title>Classification of Protein Localization Patterns in 3-D</dc:title>
</cp:coreProperties>
</file>