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110413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832200"/>
            <a:ext cx="7391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64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8322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5640" y="38322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7560" y="152352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36680" y="152352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83220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7560" y="383220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36680" y="3832200"/>
            <a:ext cx="2379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5640" y="15235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5640" y="15235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8322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60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564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5640" y="383220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1523520"/>
            <a:ext cx="360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832200"/>
            <a:ext cx="7391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086600" y="6324480"/>
            <a:ext cx="1893960" cy="374760"/>
            <a:chOff x="7086600" y="6324480"/>
            <a:chExt cx="1893960" cy="374760"/>
          </a:xfrm>
        </p:grpSpPr>
        <p:sp>
          <p:nvSpPr>
            <p:cNvPr id="3" name=""/>
            <p:cNvSpPr/>
            <p:nvPr/>
          </p:nvSpPr>
          <p:spPr>
            <a:xfrm>
              <a:off x="7086600" y="6699240"/>
              <a:ext cx="189396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086600" y="6324480"/>
              <a:ext cx="1406520" cy="244440"/>
              <a:chOff x="7086600" y="6324480"/>
              <a:chExt cx="1406520" cy="244440"/>
            </a:xfrm>
          </p:grpSpPr>
          <p:sp>
            <p:nvSpPr>
              <p:cNvPr id="5" name=""/>
              <p:cNvSpPr/>
              <p:nvPr/>
            </p:nvSpPr>
            <p:spPr>
              <a:xfrm>
                <a:off x="7808760" y="6324480"/>
                <a:ext cx="684360" cy="244440"/>
              </a:xfrm>
              <a:custGeom>
                <a:avLst/>
                <a:gdLst/>
                <a:ahLst/>
                <a:rect l="l" t="t" r="r" b="b"/>
                <a:pathLst>
                  <a:path w="431" h="154">
                    <a:moveTo>
                      <a:pt x="0" y="153"/>
                    </a:moveTo>
                    <a:lnTo>
                      <a:pt x="0" y="0"/>
                    </a:lnTo>
                    <a:lnTo>
                      <a:pt x="129" y="0"/>
                    </a:lnTo>
                    <a:lnTo>
                      <a:pt x="140" y="0"/>
                    </a:lnTo>
                    <a:lnTo>
                      <a:pt x="151" y="1"/>
                    </a:lnTo>
                    <a:lnTo>
                      <a:pt x="158" y="2"/>
                    </a:lnTo>
                    <a:lnTo>
                      <a:pt x="165" y="4"/>
                    </a:lnTo>
                    <a:lnTo>
                      <a:pt x="170" y="6"/>
                    </a:lnTo>
                    <a:lnTo>
                      <a:pt x="177" y="10"/>
                    </a:lnTo>
                    <a:lnTo>
                      <a:pt x="182" y="13"/>
                    </a:lnTo>
                    <a:lnTo>
                      <a:pt x="187" y="18"/>
                    </a:lnTo>
                    <a:lnTo>
                      <a:pt x="191" y="23"/>
                    </a:lnTo>
                    <a:lnTo>
                      <a:pt x="195" y="29"/>
                    </a:lnTo>
                    <a:lnTo>
                      <a:pt x="198" y="37"/>
                    </a:lnTo>
                    <a:lnTo>
                      <a:pt x="199" y="45"/>
                    </a:lnTo>
                    <a:lnTo>
                      <a:pt x="199" y="51"/>
                    </a:lnTo>
                    <a:lnTo>
                      <a:pt x="197" y="59"/>
                    </a:lnTo>
                    <a:lnTo>
                      <a:pt x="195" y="64"/>
                    </a:lnTo>
                    <a:lnTo>
                      <a:pt x="192" y="69"/>
                    </a:lnTo>
                    <a:lnTo>
                      <a:pt x="189" y="73"/>
                    </a:lnTo>
                    <a:lnTo>
                      <a:pt x="185" y="77"/>
                    </a:lnTo>
                    <a:lnTo>
                      <a:pt x="181" y="80"/>
                    </a:lnTo>
                    <a:lnTo>
                      <a:pt x="176" y="82"/>
                    </a:lnTo>
                    <a:lnTo>
                      <a:pt x="168" y="86"/>
                    </a:lnTo>
                    <a:lnTo>
                      <a:pt x="160" y="88"/>
                    </a:lnTo>
                    <a:lnTo>
                      <a:pt x="154" y="89"/>
                    </a:lnTo>
                    <a:lnTo>
                      <a:pt x="197" y="138"/>
                    </a:lnTo>
                    <a:lnTo>
                      <a:pt x="284" y="0"/>
                    </a:lnTo>
                    <a:lnTo>
                      <a:pt x="333" y="0"/>
                    </a:lnTo>
                    <a:lnTo>
                      <a:pt x="430" y="153"/>
                    </a:lnTo>
                    <a:lnTo>
                      <a:pt x="377" y="153"/>
                    </a:lnTo>
                    <a:lnTo>
                      <a:pt x="354" y="115"/>
                    </a:lnTo>
                    <a:lnTo>
                      <a:pt x="260" y="115"/>
                    </a:lnTo>
                    <a:lnTo>
                      <a:pt x="240" y="153"/>
                    </a:lnTo>
                    <a:lnTo>
                      <a:pt x="155" y="153"/>
                    </a:lnTo>
                    <a:lnTo>
                      <a:pt x="104" y="92"/>
                    </a:lnTo>
                    <a:lnTo>
                      <a:pt x="50" y="92"/>
                    </a:lnTo>
                    <a:lnTo>
                      <a:pt x="50" y="153"/>
                    </a:lnTo>
                    <a:lnTo>
                      <a:pt x="0" y="153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888320" y="6369120"/>
                <a:ext cx="163440" cy="5724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0" y="0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2"/>
                    </a:lnTo>
                    <a:lnTo>
                      <a:pt x="93" y="4"/>
                    </a:lnTo>
                    <a:lnTo>
                      <a:pt x="98" y="8"/>
                    </a:lnTo>
                    <a:lnTo>
                      <a:pt x="100" y="12"/>
                    </a:lnTo>
                    <a:lnTo>
                      <a:pt x="102" y="18"/>
                    </a:lnTo>
                    <a:lnTo>
                      <a:pt x="100" y="23"/>
                    </a:lnTo>
                    <a:lnTo>
                      <a:pt x="97" y="28"/>
                    </a:lnTo>
                    <a:lnTo>
                      <a:pt x="91" y="32"/>
                    </a:lnTo>
                    <a:lnTo>
                      <a:pt x="86" y="34"/>
                    </a:lnTo>
                    <a:lnTo>
                      <a:pt x="80" y="34"/>
                    </a:lnTo>
                    <a:lnTo>
                      <a:pt x="74" y="35"/>
                    </a:lnTo>
                    <a:lnTo>
                      <a:pt x="68" y="35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464600" y="6324480"/>
                <a:ext cx="295200" cy="243000"/>
              </a:xfrm>
              <a:custGeom>
                <a:avLst/>
                <a:gdLst/>
                <a:ahLst/>
                <a:rect l="l" t="t" r="r" b="b"/>
                <a:pathLst>
                  <a:path w="186" h="153">
                    <a:moveTo>
                      <a:pt x="185" y="0"/>
                    </a:moveTo>
                    <a:lnTo>
                      <a:pt x="85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56" y="3"/>
                    </a:lnTo>
                    <a:lnTo>
                      <a:pt x="48" y="5"/>
                    </a:lnTo>
                    <a:lnTo>
                      <a:pt x="42" y="8"/>
                    </a:lnTo>
                    <a:lnTo>
                      <a:pt x="34" y="12"/>
                    </a:lnTo>
                    <a:lnTo>
                      <a:pt x="27" y="17"/>
                    </a:lnTo>
                    <a:lnTo>
                      <a:pt x="19" y="23"/>
                    </a:lnTo>
                    <a:lnTo>
                      <a:pt x="13" y="31"/>
                    </a:lnTo>
                    <a:lnTo>
                      <a:pt x="8" y="40"/>
                    </a:lnTo>
                    <a:lnTo>
                      <a:pt x="4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3" y="101"/>
                    </a:lnTo>
                    <a:lnTo>
                      <a:pt x="7" y="110"/>
                    </a:lnTo>
                    <a:lnTo>
                      <a:pt x="12" y="120"/>
                    </a:lnTo>
                    <a:lnTo>
                      <a:pt x="18" y="127"/>
                    </a:lnTo>
                    <a:lnTo>
                      <a:pt x="25" y="135"/>
                    </a:lnTo>
                    <a:lnTo>
                      <a:pt x="32" y="140"/>
                    </a:lnTo>
                    <a:lnTo>
                      <a:pt x="40" y="143"/>
                    </a:lnTo>
                    <a:lnTo>
                      <a:pt x="55" y="148"/>
                    </a:lnTo>
                    <a:lnTo>
                      <a:pt x="68" y="151"/>
                    </a:lnTo>
                    <a:lnTo>
                      <a:pt x="80" y="152"/>
                    </a:lnTo>
                    <a:lnTo>
                      <a:pt x="185" y="152"/>
                    </a:lnTo>
                    <a:lnTo>
                      <a:pt x="185" y="125"/>
                    </a:lnTo>
                    <a:lnTo>
                      <a:pt x="91" y="125"/>
                    </a:lnTo>
                    <a:lnTo>
                      <a:pt x="84" y="124"/>
                    </a:lnTo>
                    <a:lnTo>
                      <a:pt x="78" y="122"/>
                    </a:lnTo>
                    <a:lnTo>
                      <a:pt x="69" y="118"/>
                    </a:lnTo>
                    <a:lnTo>
                      <a:pt x="62" y="112"/>
                    </a:lnTo>
                    <a:lnTo>
                      <a:pt x="58" y="104"/>
                    </a:lnTo>
                    <a:lnTo>
                      <a:pt x="55" y="97"/>
                    </a:lnTo>
                    <a:lnTo>
                      <a:pt x="54" y="88"/>
                    </a:lnTo>
                    <a:lnTo>
                      <a:pt x="185" y="88"/>
                    </a:lnTo>
                    <a:lnTo>
                      <a:pt x="185" y="60"/>
                    </a:lnTo>
                    <a:lnTo>
                      <a:pt x="52" y="60"/>
                    </a:lnTo>
                    <a:lnTo>
                      <a:pt x="56" y="50"/>
                    </a:lnTo>
                    <a:lnTo>
                      <a:pt x="60" y="43"/>
                    </a:lnTo>
                    <a:lnTo>
                      <a:pt x="66" y="37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7" y="27"/>
                    </a:lnTo>
                    <a:lnTo>
                      <a:pt x="185" y="27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248680" y="6377040"/>
                <a:ext cx="100080" cy="85680"/>
              </a:xfrm>
              <a:custGeom>
                <a:avLst/>
                <a:gdLst/>
                <a:ahLst/>
                <a:rect l="l" t="t" r="r" b="b"/>
                <a:pathLst>
                  <a:path w="63" h="54">
                    <a:moveTo>
                      <a:pt x="0" y="53"/>
                    </a:moveTo>
                    <a:lnTo>
                      <a:pt x="30" y="0"/>
                    </a:lnTo>
                    <a:lnTo>
                      <a:pt x="62" y="53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86600" y="6327720"/>
                <a:ext cx="333360" cy="241200"/>
              </a:xfrm>
              <a:custGeom>
                <a:avLst/>
                <a:gdLst/>
                <a:ahLst/>
                <a:rect l="l" t="t" r="r" b="b"/>
                <a:pathLst>
                  <a:path w="210" h="152">
                    <a:moveTo>
                      <a:pt x="0" y="0"/>
                    </a:moveTo>
                    <a:lnTo>
                      <a:pt x="110" y="0"/>
                    </a:lnTo>
                    <a:lnTo>
                      <a:pt x="124" y="0"/>
                    </a:lnTo>
                    <a:lnTo>
                      <a:pt x="140" y="2"/>
                    </a:lnTo>
                    <a:lnTo>
                      <a:pt x="150" y="5"/>
                    </a:lnTo>
                    <a:lnTo>
                      <a:pt x="160" y="8"/>
                    </a:lnTo>
                    <a:lnTo>
                      <a:pt x="169" y="12"/>
                    </a:lnTo>
                    <a:lnTo>
                      <a:pt x="178" y="17"/>
                    </a:lnTo>
                    <a:lnTo>
                      <a:pt x="185" y="23"/>
                    </a:lnTo>
                    <a:lnTo>
                      <a:pt x="193" y="30"/>
                    </a:lnTo>
                    <a:lnTo>
                      <a:pt x="198" y="38"/>
                    </a:lnTo>
                    <a:lnTo>
                      <a:pt x="204" y="48"/>
                    </a:lnTo>
                    <a:lnTo>
                      <a:pt x="208" y="60"/>
                    </a:lnTo>
                    <a:lnTo>
                      <a:pt x="209" y="74"/>
                    </a:lnTo>
                    <a:lnTo>
                      <a:pt x="208" y="87"/>
                    </a:lnTo>
                    <a:lnTo>
                      <a:pt x="204" y="99"/>
                    </a:lnTo>
                    <a:lnTo>
                      <a:pt x="200" y="111"/>
                    </a:lnTo>
                    <a:lnTo>
                      <a:pt x="195" y="120"/>
                    </a:lnTo>
                    <a:lnTo>
                      <a:pt x="186" y="128"/>
                    </a:lnTo>
                    <a:lnTo>
                      <a:pt x="179" y="134"/>
                    </a:lnTo>
                    <a:lnTo>
                      <a:pt x="169" y="139"/>
                    </a:lnTo>
                    <a:lnTo>
                      <a:pt x="162" y="142"/>
                    </a:lnTo>
                    <a:lnTo>
                      <a:pt x="154" y="145"/>
                    </a:lnTo>
                    <a:lnTo>
                      <a:pt x="144" y="147"/>
                    </a:lnTo>
                    <a:lnTo>
                      <a:pt x="129" y="150"/>
                    </a:lnTo>
                    <a:lnTo>
                      <a:pt x="118" y="151"/>
                    </a:lnTo>
                    <a:lnTo>
                      <a:pt x="115" y="151"/>
                    </a:lnTo>
                    <a:lnTo>
                      <a:pt x="0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161120" y="6365880"/>
                <a:ext cx="176400" cy="158760"/>
              </a:xfrm>
              <a:custGeom>
                <a:avLst/>
                <a:gdLst/>
                <a:ahLst/>
                <a:rect l="l" t="t" r="r" b="b"/>
                <a:pathLst>
                  <a:path w="111" h="100">
                    <a:moveTo>
                      <a:pt x="0" y="0"/>
                    </a:moveTo>
                    <a:lnTo>
                      <a:pt x="72" y="0"/>
                    </a:lnTo>
                    <a:lnTo>
                      <a:pt x="85" y="2"/>
                    </a:lnTo>
                    <a:lnTo>
                      <a:pt x="91" y="7"/>
                    </a:lnTo>
                    <a:lnTo>
                      <a:pt x="98" y="11"/>
                    </a:lnTo>
                    <a:lnTo>
                      <a:pt x="101" y="16"/>
                    </a:lnTo>
                    <a:lnTo>
                      <a:pt x="106" y="24"/>
                    </a:lnTo>
                    <a:lnTo>
                      <a:pt x="109" y="35"/>
                    </a:lnTo>
                    <a:lnTo>
                      <a:pt x="110" y="50"/>
                    </a:lnTo>
                    <a:lnTo>
                      <a:pt x="109" y="62"/>
                    </a:lnTo>
                    <a:lnTo>
                      <a:pt x="106" y="72"/>
                    </a:lnTo>
                    <a:lnTo>
                      <a:pt x="103" y="81"/>
                    </a:lnTo>
                    <a:lnTo>
                      <a:pt x="98" y="88"/>
                    </a:lnTo>
                    <a:lnTo>
                      <a:pt x="91" y="93"/>
                    </a:lnTo>
                    <a:lnTo>
                      <a:pt x="86" y="95"/>
                    </a:lnTo>
                    <a:lnTo>
                      <a:pt x="75" y="98"/>
                    </a:lnTo>
                    <a:lnTo>
                      <a:pt x="63" y="99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62920" y="6373800"/>
                <a:ext cx="161640" cy="74520"/>
              </a:xfrm>
              <a:custGeom>
                <a:avLst/>
                <a:gdLst/>
                <a:ahLst/>
                <a:rect l="l" t="t" r="r" b="b"/>
                <a:pathLst>
                  <a:path w="102" h="47">
                    <a:moveTo>
                      <a:pt x="0" y="0"/>
                    </a:moveTo>
                    <a:lnTo>
                      <a:pt x="0" y="46"/>
                    </a:lnTo>
                    <a:lnTo>
                      <a:pt x="62" y="46"/>
                    </a:lnTo>
                    <a:lnTo>
                      <a:pt x="66" y="46"/>
                    </a:lnTo>
                    <a:lnTo>
                      <a:pt x="79" y="44"/>
                    </a:lnTo>
                    <a:lnTo>
                      <a:pt x="92" y="39"/>
                    </a:lnTo>
                    <a:lnTo>
                      <a:pt x="99" y="32"/>
                    </a:lnTo>
                    <a:lnTo>
                      <a:pt x="101" y="25"/>
                    </a:lnTo>
                    <a:lnTo>
                      <a:pt x="99" y="15"/>
                    </a:lnTo>
                    <a:lnTo>
                      <a:pt x="95" y="9"/>
                    </a:lnTo>
                    <a:lnTo>
                      <a:pt x="89" y="4"/>
                    </a:lnTo>
                    <a:lnTo>
                      <a:pt x="80" y="1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inforcement Learning Methods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or Military Application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colm Stren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for Robotics and Machine 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Systems Technology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nce Evaluation &amp; Research Agenc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K.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 February 2001</a:t>
            </a:r>
            <a:br>
              <a:rPr sz="1400"/>
            </a:br>
            <a:br>
              <a:rPr sz="1400"/>
            </a:b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British Crown Copyright, 2001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with discrete states and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5320" y="25146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relative position &amp; motion of ev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: turn left / turn right / conti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: based on distance between pursuer and ev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 Decisi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62120" y="1066680"/>
            <a:ext cx="7487640" cy="2076840"/>
            <a:chOff x="762120" y="1066680"/>
            <a:chExt cx="7487640" cy="2076840"/>
          </a:xfrm>
        </p:grpSpPr>
        <p:sp>
          <p:nvSpPr>
            <p:cNvPr id="88" name=""/>
            <p:cNvSpPr/>
            <p:nvPr/>
          </p:nvSpPr>
          <p:spPr>
            <a:xfrm>
              <a:off x="1230120" y="1515960"/>
              <a:ext cx="489960" cy="452160"/>
            </a:xfrm>
            <a:custGeom>
              <a:avLst/>
              <a:gdLst/>
              <a:ahLst/>
              <a:rect l="l" t="t" r="r" b="b"/>
              <a:pathLst>
                <a:path w="309" h="285">
                  <a:moveTo>
                    <a:pt x="0" y="142"/>
                  </a:moveTo>
                  <a:lnTo>
                    <a:pt x="4" y="110"/>
                  </a:lnTo>
                  <a:lnTo>
                    <a:pt x="15" y="80"/>
                  </a:lnTo>
                  <a:lnTo>
                    <a:pt x="35" y="54"/>
                  </a:lnTo>
                  <a:lnTo>
                    <a:pt x="59" y="32"/>
                  </a:lnTo>
                  <a:lnTo>
                    <a:pt x="87" y="14"/>
                  </a:lnTo>
                  <a:lnTo>
                    <a:pt x="119" y="4"/>
                  </a:lnTo>
                  <a:lnTo>
                    <a:pt x="154" y="0"/>
                  </a:lnTo>
                  <a:lnTo>
                    <a:pt x="189" y="4"/>
                  </a:lnTo>
                  <a:lnTo>
                    <a:pt x="221" y="14"/>
                  </a:lnTo>
                  <a:lnTo>
                    <a:pt x="249" y="32"/>
                  </a:lnTo>
                  <a:lnTo>
                    <a:pt x="273" y="54"/>
                  </a:lnTo>
                  <a:lnTo>
                    <a:pt x="293" y="80"/>
                  </a:lnTo>
                  <a:lnTo>
                    <a:pt x="304" y="110"/>
                  </a:lnTo>
                  <a:lnTo>
                    <a:pt x="308" y="142"/>
                  </a:lnTo>
                  <a:lnTo>
                    <a:pt x="304" y="174"/>
                  </a:lnTo>
                  <a:lnTo>
                    <a:pt x="293" y="204"/>
                  </a:lnTo>
                  <a:lnTo>
                    <a:pt x="273" y="230"/>
                  </a:lnTo>
                  <a:lnTo>
                    <a:pt x="249" y="252"/>
                  </a:lnTo>
                  <a:lnTo>
                    <a:pt x="221" y="270"/>
                  </a:lnTo>
                  <a:lnTo>
                    <a:pt x="189" y="280"/>
                  </a:lnTo>
                  <a:lnTo>
                    <a:pt x="154" y="284"/>
                  </a:lnTo>
                  <a:lnTo>
                    <a:pt x="119" y="280"/>
                  </a:lnTo>
                  <a:lnTo>
                    <a:pt x="87" y="270"/>
                  </a:lnTo>
                  <a:lnTo>
                    <a:pt x="59" y="252"/>
                  </a:lnTo>
                  <a:lnTo>
                    <a:pt x="35" y="230"/>
                  </a:lnTo>
                  <a:lnTo>
                    <a:pt x="15" y="204"/>
                  </a:lnTo>
                  <a:lnTo>
                    <a:pt x="4" y="174"/>
                  </a:lnTo>
                  <a:lnTo>
                    <a:pt x="0" y="14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35960" y="1560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90640" y="1515960"/>
              <a:ext cx="489960" cy="452160"/>
            </a:xfrm>
            <a:custGeom>
              <a:avLst/>
              <a:gdLst/>
              <a:ahLst/>
              <a:rect l="l" t="t" r="r" b="b"/>
              <a:pathLst>
                <a:path w="309" h="285">
                  <a:moveTo>
                    <a:pt x="0" y="142"/>
                  </a:moveTo>
                  <a:lnTo>
                    <a:pt x="4" y="110"/>
                  </a:lnTo>
                  <a:lnTo>
                    <a:pt x="15" y="80"/>
                  </a:lnTo>
                  <a:lnTo>
                    <a:pt x="35" y="54"/>
                  </a:lnTo>
                  <a:lnTo>
                    <a:pt x="59" y="32"/>
                  </a:lnTo>
                  <a:lnTo>
                    <a:pt x="87" y="14"/>
                  </a:lnTo>
                  <a:lnTo>
                    <a:pt x="119" y="4"/>
                  </a:lnTo>
                  <a:lnTo>
                    <a:pt x="154" y="0"/>
                  </a:lnTo>
                  <a:lnTo>
                    <a:pt x="189" y="4"/>
                  </a:lnTo>
                  <a:lnTo>
                    <a:pt x="221" y="14"/>
                  </a:lnTo>
                  <a:lnTo>
                    <a:pt x="249" y="32"/>
                  </a:lnTo>
                  <a:lnTo>
                    <a:pt x="275" y="54"/>
                  </a:lnTo>
                  <a:lnTo>
                    <a:pt x="293" y="80"/>
                  </a:lnTo>
                  <a:lnTo>
                    <a:pt x="304" y="110"/>
                  </a:lnTo>
                  <a:lnTo>
                    <a:pt x="308" y="142"/>
                  </a:lnTo>
                  <a:lnTo>
                    <a:pt x="304" y="174"/>
                  </a:lnTo>
                  <a:lnTo>
                    <a:pt x="293" y="204"/>
                  </a:lnTo>
                  <a:lnTo>
                    <a:pt x="275" y="230"/>
                  </a:lnTo>
                  <a:lnTo>
                    <a:pt x="249" y="252"/>
                  </a:lnTo>
                  <a:lnTo>
                    <a:pt x="221" y="270"/>
                  </a:lnTo>
                  <a:lnTo>
                    <a:pt x="189" y="280"/>
                  </a:lnTo>
                  <a:lnTo>
                    <a:pt x="154" y="284"/>
                  </a:lnTo>
                  <a:lnTo>
                    <a:pt x="119" y="280"/>
                  </a:lnTo>
                  <a:lnTo>
                    <a:pt x="87" y="270"/>
                  </a:lnTo>
                  <a:lnTo>
                    <a:pt x="59" y="252"/>
                  </a:lnTo>
                  <a:lnTo>
                    <a:pt x="35" y="230"/>
                  </a:lnTo>
                  <a:lnTo>
                    <a:pt x="15" y="204"/>
                  </a:lnTo>
                  <a:lnTo>
                    <a:pt x="4" y="174"/>
                  </a:lnTo>
                  <a:lnTo>
                    <a:pt x="0" y="14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96480" y="1560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55840" y="1515960"/>
              <a:ext cx="485280" cy="452160"/>
            </a:xfrm>
            <a:custGeom>
              <a:avLst/>
              <a:gdLst/>
              <a:ahLst/>
              <a:rect l="l" t="t" r="r" b="b"/>
              <a:pathLst>
                <a:path w="306" h="285">
                  <a:moveTo>
                    <a:pt x="0" y="142"/>
                  </a:moveTo>
                  <a:lnTo>
                    <a:pt x="2" y="110"/>
                  </a:lnTo>
                  <a:lnTo>
                    <a:pt x="15" y="80"/>
                  </a:lnTo>
                  <a:lnTo>
                    <a:pt x="33" y="54"/>
                  </a:lnTo>
                  <a:lnTo>
                    <a:pt x="56" y="32"/>
                  </a:lnTo>
                  <a:lnTo>
                    <a:pt x="87" y="14"/>
                  </a:lnTo>
                  <a:lnTo>
                    <a:pt x="119" y="4"/>
                  </a:lnTo>
                  <a:lnTo>
                    <a:pt x="151" y="0"/>
                  </a:lnTo>
                  <a:lnTo>
                    <a:pt x="186" y="4"/>
                  </a:lnTo>
                  <a:lnTo>
                    <a:pt x="218" y="14"/>
                  </a:lnTo>
                  <a:lnTo>
                    <a:pt x="249" y="32"/>
                  </a:lnTo>
                  <a:lnTo>
                    <a:pt x="272" y="54"/>
                  </a:lnTo>
                  <a:lnTo>
                    <a:pt x="290" y="80"/>
                  </a:lnTo>
                  <a:lnTo>
                    <a:pt x="301" y="110"/>
                  </a:lnTo>
                  <a:lnTo>
                    <a:pt x="305" y="142"/>
                  </a:lnTo>
                  <a:lnTo>
                    <a:pt x="301" y="174"/>
                  </a:lnTo>
                  <a:lnTo>
                    <a:pt x="290" y="204"/>
                  </a:lnTo>
                  <a:lnTo>
                    <a:pt x="272" y="230"/>
                  </a:lnTo>
                  <a:lnTo>
                    <a:pt x="249" y="252"/>
                  </a:lnTo>
                  <a:lnTo>
                    <a:pt x="218" y="270"/>
                  </a:lnTo>
                  <a:lnTo>
                    <a:pt x="186" y="280"/>
                  </a:lnTo>
                  <a:lnTo>
                    <a:pt x="151" y="284"/>
                  </a:lnTo>
                  <a:lnTo>
                    <a:pt x="119" y="280"/>
                  </a:lnTo>
                  <a:lnTo>
                    <a:pt x="87" y="270"/>
                  </a:lnTo>
                  <a:lnTo>
                    <a:pt x="56" y="252"/>
                  </a:lnTo>
                  <a:lnTo>
                    <a:pt x="33" y="230"/>
                  </a:lnTo>
                  <a:lnTo>
                    <a:pt x="15" y="204"/>
                  </a:lnTo>
                  <a:lnTo>
                    <a:pt x="2" y="174"/>
                  </a:lnTo>
                  <a:lnTo>
                    <a:pt x="0" y="14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57000" y="1560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360" y="1515960"/>
              <a:ext cx="485280" cy="452160"/>
            </a:xfrm>
            <a:custGeom>
              <a:avLst/>
              <a:gdLst/>
              <a:ahLst/>
              <a:rect l="l" t="t" r="r" b="b"/>
              <a:pathLst>
                <a:path w="306" h="285">
                  <a:moveTo>
                    <a:pt x="0" y="142"/>
                  </a:moveTo>
                  <a:lnTo>
                    <a:pt x="4" y="110"/>
                  </a:lnTo>
                  <a:lnTo>
                    <a:pt x="15" y="80"/>
                  </a:lnTo>
                  <a:lnTo>
                    <a:pt x="32" y="54"/>
                  </a:lnTo>
                  <a:lnTo>
                    <a:pt x="56" y="32"/>
                  </a:lnTo>
                  <a:lnTo>
                    <a:pt x="87" y="14"/>
                  </a:lnTo>
                  <a:lnTo>
                    <a:pt x="119" y="4"/>
                  </a:lnTo>
                  <a:lnTo>
                    <a:pt x="154" y="0"/>
                  </a:lnTo>
                  <a:lnTo>
                    <a:pt x="186" y="4"/>
                  </a:lnTo>
                  <a:lnTo>
                    <a:pt x="218" y="14"/>
                  </a:lnTo>
                  <a:lnTo>
                    <a:pt x="249" y="32"/>
                  </a:lnTo>
                  <a:lnTo>
                    <a:pt x="273" y="54"/>
                  </a:lnTo>
                  <a:lnTo>
                    <a:pt x="290" y="80"/>
                  </a:lnTo>
                  <a:lnTo>
                    <a:pt x="303" y="110"/>
                  </a:lnTo>
                  <a:lnTo>
                    <a:pt x="305" y="142"/>
                  </a:lnTo>
                  <a:lnTo>
                    <a:pt x="303" y="174"/>
                  </a:lnTo>
                  <a:lnTo>
                    <a:pt x="290" y="204"/>
                  </a:lnTo>
                  <a:lnTo>
                    <a:pt x="273" y="230"/>
                  </a:lnTo>
                  <a:lnTo>
                    <a:pt x="249" y="252"/>
                  </a:lnTo>
                  <a:lnTo>
                    <a:pt x="218" y="270"/>
                  </a:lnTo>
                  <a:lnTo>
                    <a:pt x="186" y="280"/>
                  </a:lnTo>
                  <a:lnTo>
                    <a:pt x="154" y="284"/>
                  </a:lnTo>
                  <a:lnTo>
                    <a:pt x="119" y="280"/>
                  </a:lnTo>
                  <a:lnTo>
                    <a:pt x="87" y="270"/>
                  </a:lnTo>
                  <a:lnTo>
                    <a:pt x="56" y="252"/>
                  </a:lnTo>
                  <a:lnTo>
                    <a:pt x="32" y="230"/>
                  </a:lnTo>
                  <a:lnTo>
                    <a:pt x="15" y="204"/>
                  </a:lnTo>
                  <a:lnTo>
                    <a:pt x="4" y="174"/>
                  </a:lnTo>
                  <a:lnTo>
                    <a:pt x="0" y="142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0760" y="1560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76880" y="1515960"/>
              <a:ext cx="488520" cy="452160"/>
            </a:xfrm>
            <a:custGeom>
              <a:avLst/>
              <a:gdLst/>
              <a:ahLst/>
              <a:rect l="l" t="t" r="r" b="b"/>
              <a:pathLst>
                <a:path w="308" h="285">
                  <a:moveTo>
                    <a:pt x="0" y="142"/>
                  </a:moveTo>
                  <a:lnTo>
                    <a:pt x="4" y="110"/>
                  </a:lnTo>
                  <a:lnTo>
                    <a:pt x="15" y="80"/>
                  </a:lnTo>
                  <a:lnTo>
                    <a:pt x="32" y="54"/>
                  </a:lnTo>
                  <a:lnTo>
                    <a:pt x="58" y="32"/>
                  </a:lnTo>
                  <a:lnTo>
                    <a:pt x="86" y="14"/>
                  </a:lnTo>
                  <a:lnTo>
                    <a:pt x="119" y="4"/>
                  </a:lnTo>
                  <a:lnTo>
                    <a:pt x="154" y="0"/>
                  </a:lnTo>
                  <a:lnTo>
                    <a:pt x="188" y="4"/>
                  </a:lnTo>
                  <a:lnTo>
                    <a:pt x="221" y="14"/>
                  </a:lnTo>
                  <a:lnTo>
                    <a:pt x="249" y="32"/>
                  </a:lnTo>
                  <a:lnTo>
                    <a:pt x="272" y="54"/>
                  </a:lnTo>
                  <a:lnTo>
                    <a:pt x="292" y="80"/>
                  </a:lnTo>
                  <a:lnTo>
                    <a:pt x="303" y="110"/>
                  </a:lnTo>
                  <a:lnTo>
                    <a:pt x="307" y="142"/>
                  </a:lnTo>
                  <a:lnTo>
                    <a:pt x="303" y="174"/>
                  </a:lnTo>
                  <a:lnTo>
                    <a:pt x="292" y="204"/>
                  </a:lnTo>
                  <a:lnTo>
                    <a:pt x="272" y="230"/>
                  </a:lnTo>
                  <a:lnTo>
                    <a:pt x="249" y="252"/>
                  </a:lnTo>
                  <a:lnTo>
                    <a:pt x="221" y="270"/>
                  </a:lnTo>
                  <a:lnTo>
                    <a:pt x="188" y="280"/>
                  </a:lnTo>
                  <a:lnTo>
                    <a:pt x="154" y="284"/>
                  </a:lnTo>
                  <a:lnTo>
                    <a:pt x="119" y="280"/>
                  </a:lnTo>
                  <a:lnTo>
                    <a:pt x="86" y="270"/>
                  </a:lnTo>
                  <a:lnTo>
                    <a:pt x="58" y="252"/>
                  </a:lnTo>
                  <a:lnTo>
                    <a:pt x="32" y="230"/>
                  </a:lnTo>
                  <a:lnTo>
                    <a:pt x="15" y="204"/>
                  </a:lnTo>
                  <a:lnTo>
                    <a:pt x="4" y="174"/>
                  </a:lnTo>
                  <a:lnTo>
                    <a:pt x="0" y="142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81280" y="15602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600" y="1741320"/>
              <a:ext cx="83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3560" y="1680840"/>
              <a:ext cx="113760" cy="10944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0" y="0"/>
                  </a:moveTo>
                  <a:lnTo>
                    <a:pt x="71" y="34"/>
                  </a:lnTo>
                  <a:lnTo>
                    <a:pt x="0" y="6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5120" y="146484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2120" y="1741320"/>
              <a:ext cx="83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25520" y="1680840"/>
              <a:ext cx="117360" cy="10944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0" y="0"/>
                  </a:moveTo>
                  <a:lnTo>
                    <a:pt x="73" y="34"/>
                  </a:lnTo>
                  <a:lnTo>
                    <a:pt x="0" y="6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145548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2640" y="1741320"/>
              <a:ext cx="83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9280" y="1680840"/>
              <a:ext cx="114120" cy="10944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0" y="0"/>
                  </a:moveTo>
                  <a:lnTo>
                    <a:pt x="71" y="34"/>
                  </a:lnTo>
                  <a:lnTo>
                    <a:pt x="0" y="6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5640" y="145548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3160" y="1741320"/>
              <a:ext cx="83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8360" y="1680840"/>
              <a:ext cx="11520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0"/>
                  </a:moveTo>
                  <a:lnTo>
                    <a:pt x="72" y="34"/>
                  </a:lnTo>
                  <a:lnTo>
                    <a:pt x="0" y="6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57600" y="145548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2800" y="1368000"/>
              <a:ext cx="402840" cy="285840"/>
            </a:xfrm>
            <a:custGeom>
              <a:avLst/>
              <a:gdLst/>
              <a:ahLst/>
              <a:rect l="l" t="t" r="r" b="b"/>
              <a:pathLst>
                <a:path w="254" h="180">
                  <a:moveTo>
                    <a:pt x="253" y="93"/>
                  </a:moveTo>
                  <a:lnTo>
                    <a:pt x="251" y="93"/>
                  </a:lnTo>
                  <a:lnTo>
                    <a:pt x="249" y="91"/>
                  </a:lnTo>
                  <a:lnTo>
                    <a:pt x="242" y="87"/>
                  </a:lnTo>
                  <a:lnTo>
                    <a:pt x="236" y="83"/>
                  </a:lnTo>
                  <a:lnTo>
                    <a:pt x="227" y="79"/>
                  </a:lnTo>
                  <a:lnTo>
                    <a:pt x="218" y="72"/>
                  </a:lnTo>
                  <a:lnTo>
                    <a:pt x="205" y="66"/>
                  </a:lnTo>
                  <a:lnTo>
                    <a:pt x="195" y="60"/>
                  </a:lnTo>
                  <a:lnTo>
                    <a:pt x="179" y="54"/>
                  </a:lnTo>
                  <a:lnTo>
                    <a:pt x="167" y="46"/>
                  </a:lnTo>
                  <a:lnTo>
                    <a:pt x="151" y="40"/>
                  </a:lnTo>
                  <a:lnTo>
                    <a:pt x="138" y="34"/>
                  </a:lnTo>
                  <a:lnTo>
                    <a:pt x="123" y="26"/>
                  </a:lnTo>
                  <a:lnTo>
                    <a:pt x="108" y="20"/>
                  </a:lnTo>
                  <a:lnTo>
                    <a:pt x="93" y="16"/>
                  </a:lnTo>
                  <a:lnTo>
                    <a:pt x="80" y="10"/>
                  </a:lnTo>
                  <a:lnTo>
                    <a:pt x="65" y="6"/>
                  </a:lnTo>
                  <a:lnTo>
                    <a:pt x="52" y="4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8"/>
                  </a:lnTo>
                  <a:lnTo>
                    <a:pt x="9" y="66"/>
                  </a:lnTo>
                  <a:lnTo>
                    <a:pt x="13" y="75"/>
                  </a:lnTo>
                  <a:lnTo>
                    <a:pt x="15" y="85"/>
                  </a:lnTo>
                  <a:lnTo>
                    <a:pt x="19" y="93"/>
                  </a:lnTo>
                  <a:lnTo>
                    <a:pt x="24" y="101"/>
                  </a:lnTo>
                  <a:lnTo>
                    <a:pt x="28" y="111"/>
                  </a:lnTo>
                  <a:lnTo>
                    <a:pt x="32" y="119"/>
                  </a:lnTo>
                  <a:lnTo>
                    <a:pt x="37" y="129"/>
                  </a:lnTo>
                  <a:lnTo>
                    <a:pt x="41" y="137"/>
                  </a:lnTo>
                  <a:lnTo>
                    <a:pt x="45" y="145"/>
                  </a:lnTo>
                  <a:lnTo>
                    <a:pt x="50" y="155"/>
                  </a:lnTo>
                  <a:lnTo>
                    <a:pt x="54" y="163"/>
                  </a:lnTo>
                  <a:lnTo>
                    <a:pt x="61" y="171"/>
                  </a:lnTo>
                  <a:lnTo>
                    <a:pt x="65" y="17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0960" y="1611000"/>
              <a:ext cx="10764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2"/>
                  </a:moveTo>
                  <a:lnTo>
                    <a:pt x="67" y="74"/>
                  </a:lnTo>
                  <a:lnTo>
                    <a:pt x="61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106668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60400" y="1937880"/>
              <a:ext cx="1175760" cy="257400"/>
            </a:xfrm>
            <a:custGeom>
              <a:avLst/>
              <a:gdLst/>
              <a:ahLst/>
              <a:rect l="l" t="t" r="r" b="b"/>
              <a:pathLst>
                <a:path w="741" h="162">
                  <a:moveTo>
                    <a:pt x="740" y="18"/>
                  </a:moveTo>
                  <a:lnTo>
                    <a:pt x="738" y="18"/>
                  </a:lnTo>
                  <a:lnTo>
                    <a:pt x="733" y="22"/>
                  </a:lnTo>
                  <a:lnTo>
                    <a:pt x="727" y="26"/>
                  </a:lnTo>
                  <a:lnTo>
                    <a:pt x="716" y="32"/>
                  </a:lnTo>
                  <a:lnTo>
                    <a:pt x="703" y="38"/>
                  </a:lnTo>
                  <a:lnTo>
                    <a:pt x="688" y="46"/>
                  </a:lnTo>
                  <a:lnTo>
                    <a:pt x="671" y="56"/>
                  </a:lnTo>
                  <a:lnTo>
                    <a:pt x="651" y="64"/>
                  </a:lnTo>
                  <a:lnTo>
                    <a:pt x="629" y="74"/>
                  </a:lnTo>
                  <a:lnTo>
                    <a:pt x="608" y="84"/>
                  </a:lnTo>
                  <a:lnTo>
                    <a:pt x="584" y="96"/>
                  </a:lnTo>
                  <a:lnTo>
                    <a:pt x="558" y="106"/>
                  </a:lnTo>
                  <a:lnTo>
                    <a:pt x="532" y="116"/>
                  </a:lnTo>
                  <a:lnTo>
                    <a:pt x="504" y="125"/>
                  </a:lnTo>
                  <a:lnTo>
                    <a:pt x="476" y="135"/>
                  </a:lnTo>
                  <a:lnTo>
                    <a:pt x="447" y="143"/>
                  </a:lnTo>
                  <a:lnTo>
                    <a:pt x="419" y="149"/>
                  </a:lnTo>
                  <a:lnTo>
                    <a:pt x="391" y="155"/>
                  </a:lnTo>
                  <a:lnTo>
                    <a:pt x="363" y="159"/>
                  </a:lnTo>
                  <a:lnTo>
                    <a:pt x="335" y="161"/>
                  </a:lnTo>
                  <a:lnTo>
                    <a:pt x="307" y="161"/>
                  </a:lnTo>
                  <a:lnTo>
                    <a:pt x="281" y="161"/>
                  </a:lnTo>
                  <a:lnTo>
                    <a:pt x="263" y="159"/>
                  </a:lnTo>
                  <a:lnTo>
                    <a:pt x="246" y="155"/>
                  </a:lnTo>
                  <a:lnTo>
                    <a:pt x="229" y="151"/>
                  </a:lnTo>
                  <a:lnTo>
                    <a:pt x="211" y="147"/>
                  </a:lnTo>
                  <a:lnTo>
                    <a:pt x="196" y="141"/>
                  </a:lnTo>
                  <a:lnTo>
                    <a:pt x="181" y="135"/>
                  </a:lnTo>
                  <a:lnTo>
                    <a:pt x="166" y="129"/>
                  </a:lnTo>
                  <a:lnTo>
                    <a:pt x="151" y="123"/>
                  </a:lnTo>
                  <a:lnTo>
                    <a:pt x="138" y="114"/>
                  </a:lnTo>
                  <a:lnTo>
                    <a:pt x="125" y="106"/>
                  </a:lnTo>
                  <a:lnTo>
                    <a:pt x="112" y="98"/>
                  </a:lnTo>
                  <a:lnTo>
                    <a:pt x="99" y="88"/>
                  </a:lnTo>
                  <a:lnTo>
                    <a:pt x="86" y="80"/>
                  </a:lnTo>
                  <a:lnTo>
                    <a:pt x="75" y="70"/>
                  </a:lnTo>
                  <a:lnTo>
                    <a:pt x="62" y="62"/>
                  </a:lnTo>
                  <a:lnTo>
                    <a:pt x="52" y="52"/>
                  </a:lnTo>
                  <a:lnTo>
                    <a:pt x="43" y="44"/>
                  </a:lnTo>
                  <a:lnTo>
                    <a:pt x="33" y="34"/>
                  </a:lnTo>
                  <a:lnTo>
                    <a:pt x="24" y="24"/>
                  </a:lnTo>
                  <a:lnTo>
                    <a:pt x="15" y="16"/>
                  </a:ln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5240" y="1852200"/>
              <a:ext cx="11376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13" y="74"/>
                  </a:moveTo>
                  <a:lnTo>
                    <a:pt x="0" y="0"/>
                  </a:lnTo>
                  <a:lnTo>
                    <a:pt x="71" y="34"/>
                  </a:lnTo>
                  <a:lnTo>
                    <a:pt x="13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95120" y="195552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77520" y="1966680"/>
              <a:ext cx="2819160" cy="453960"/>
            </a:xfrm>
            <a:custGeom>
              <a:avLst/>
              <a:gdLst/>
              <a:ahLst/>
              <a:rect l="l" t="t" r="r" b="b"/>
              <a:pathLst>
                <a:path w="1776" h="286">
                  <a:moveTo>
                    <a:pt x="1775" y="0"/>
                  </a:moveTo>
                  <a:lnTo>
                    <a:pt x="1773" y="0"/>
                  </a:lnTo>
                  <a:lnTo>
                    <a:pt x="1767" y="2"/>
                  </a:lnTo>
                  <a:lnTo>
                    <a:pt x="1757" y="6"/>
                  </a:lnTo>
                  <a:lnTo>
                    <a:pt x="1741" y="10"/>
                  </a:lnTo>
                  <a:lnTo>
                    <a:pt x="1724" y="16"/>
                  </a:lnTo>
                  <a:lnTo>
                    <a:pt x="1700" y="22"/>
                  </a:lnTo>
                  <a:lnTo>
                    <a:pt x="1674" y="30"/>
                  </a:lnTo>
                  <a:lnTo>
                    <a:pt x="1646" y="38"/>
                  </a:lnTo>
                  <a:lnTo>
                    <a:pt x="1614" y="46"/>
                  </a:lnTo>
                  <a:lnTo>
                    <a:pt x="1579" y="56"/>
                  </a:lnTo>
                  <a:lnTo>
                    <a:pt x="1542" y="66"/>
                  </a:lnTo>
                  <a:lnTo>
                    <a:pt x="1503" y="78"/>
                  </a:lnTo>
                  <a:lnTo>
                    <a:pt x="1462" y="88"/>
                  </a:lnTo>
                  <a:lnTo>
                    <a:pt x="1418" y="101"/>
                  </a:lnTo>
                  <a:lnTo>
                    <a:pt x="1373" y="113"/>
                  </a:lnTo>
                  <a:lnTo>
                    <a:pt x="1325" y="125"/>
                  </a:lnTo>
                  <a:lnTo>
                    <a:pt x="1278" y="137"/>
                  </a:lnTo>
                  <a:lnTo>
                    <a:pt x="1228" y="149"/>
                  </a:lnTo>
                  <a:lnTo>
                    <a:pt x="1176" y="163"/>
                  </a:lnTo>
                  <a:lnTo>
                    <a:pt x="1124" y="175"/>
                  </a:lnTo>
                  <a:lnTo>
                    <a:pt x="1072" y="185"/>
                  </a:lnTo>
                  <a:lnTo>
                    <a:pt x="1020" y="197"/>
                  </a:lnTo>
                  <a:lnTo>
                    <a:pt x="968" y="209"/>
                  </a:lnTo>
                  <a:lnTo>
                    <a:pt x="916" y="219"/>
                  </a:lnTo>
                  <a:lnTo>
                    <a:pt x="864" y="229"/>
                  </a:lnTo>
                  <a:lnTo>
                    <a:pt x="812" y="239"/>
                  </a:lnTo>
                  <a:lnTo>
                    <a:pt x="760" y="249"/>
                  </a:lnTo>
                  <a:lnTo>
                    <a:pt x="710" y="257"/>
                  </a:lnTo>
                  <a:lnTo>
                    <a:pt x="660" y="263"/>
                  </a:lnTo>
                  <a:lnTo>
                    <a:pt x="610" y="269"/>
                  </a:lnTo>
                  <a:lnTo>
                    <a:pt x="565" y="275"/>
                  </a:lnTo>
                  <a:lnTo>
                    <a:pt x="519" y="279"/>
                  </a:lnTo>
                  <a:lnTo>
                    <a:pt x="476" y="283"/>
                  </a:lnTo>
                  <a:lnTo>
                    <a:pt x="435" y="283"/>
                  </a:lnTo>
                  <a:lnTo>
                    <a:pt x="396" y="285"/>
                  </a:lnTo>
                  <a:lnTo>
                    <a:pt x="370" y="283"/>
                  </a:lnTo>
                  <a:lnTo>
                    <a:pt x="344" y="283"/>
                  </a:lnTo>
                  <a:lnTo>
                    <a:pt x="320" y="281"/>
                  </a:lnTo>
                  <a:lnTo>
                    <a:pt x="298" y="279"/>
                  </a:lnTo>
                  <a:lnTo>
                    <a:pt x="276" y="275"/>
                  </a:lnTo>
                  <a:lnTo>
                    <a:pt x="255" y="271"/>
                  </a:lnTo>
                  <a:lnTo>
                    <a:pt x="235" y="267"/>
                  </a:lnTo>
                  <a:lnTo>
                    <a:pt x="218" y="263"/>
                  </a:lnTo>
                  <a:lnTo>
                    <a:pt x="200" y="257"/>
                  </a:lnTo>
                  <a:lnTo>
                    <a:pt x="183" y="253"/>
                  </a:lnTo>
                  <a:lnTo>
                    <a:pt x="169" y="247"/>
                  </a:lnTo>
                  <a:lnTo>
                    <a:pt x="154" y="239"/>
                  </a:lnTo>
                  <a:lnTo>
                    <a:pt x="141" y="233"/>
                  </a:lnTo>
                  <a:lnTo>
                    <a:pt x="128" y="227"/>
                  </a:lnTo>
                  <a:lnTo>
                    <a:pt x="115" y="219"/>
                  </a:lnTo>
                  <a:lnTo>
                    <a:pt x="104" y="211"/>
                  </a:lnTo>
                  <a:lnTo>
                    <a:pt x="93" y="203"/>
                  </a:lnTo>
                  <a:lnTo>
                    <a:pt x="82" y="195"/>
                  </a:lnTo>
                  <a:lnTo>
                    <a:pt x="74" y="187"/>
                  </a:lnTo>
                  <a:lnTo>
                    <a:pt x="65" y="179"/>
                  </a:lnTo>
                  <a:lnTo>
                    <a:pt x="56" y="171"/>
                  </a:lnTo>
                  <a:lnTo>
                    <a:pt x="50" y="161"/>
                  </a:lnTo>
                  <a:lnTo>
                    <a:pt x="43" y="153"/>
                  </a:lnTo>
                  <a:lnTo>
                    <a:pt x="37" y="145"/>
                  </a:lnTo>
                  <a:lnTo>
                    <a:pt x="30" y="135"/>
                  </a:lnTo>
                  <a:lnTo>
                    <a:pt x="26" y="127"/>
                  </a:lnTo>
                  <a:lnTo>
                    <a:pt x="22" y="117"/>
                  </a:lnTo>
                  <a:lnTo>
                    <a:pt x="17" y="109"/>
                  </a:lnTo>
                  <a:lnTo>
                    <a:pt x="13" y="101"/>
                  </a:lnTo>
                  <a:lnTo>
                    <a:pt x="11" y="90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2" y="58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5600" y="1944360"/>
              <a:ext cx="11556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68"/>
                  </a:moveTo>
                  <a:lnTo>
                    <a:pt x="31" y="0"/>
                  </a:lnTo>
                  <a:lnTo>
                    <a:pt x="72" y="64"/>
                  </a:lnTo>
                  <a:lnTo>
                    <a:pt x="0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5120" y="223812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65120" y="1966680"/>
              <a:ext cx="4496760" cy="676080"/>
            </a:xfrm>
            <a:custGeom>
              <a:avLst/>
              <a:gdLst/>
              <a:ahLst/>
              <a:rect l="l" t="t" r="r" b="b"/>
              <a:pathLst>
                <a:path w="2833" h="426">
                  <a:moveTo>
                    <a:pt x="2832" y="0"/>
                  </a:moveTo>
                  <a:lnTo>
                    <a:pt x="2828" y="0"/>
                  </a:lnTo>
                  <a:lnTo>
                    <a:pt x="2821" y="2"/>
                  </a:lnTo>
                  <a:lnTo>
                    <a:pt x="2810" y="4"/>
                  </a:lnTo>
                  <a:lnTo>
                    <a:pt x="2795" y="8"/>
                  </a:lnTo>
                  <a:lnTo>
                    <a:pt x="2778" y="14"/>
                  </a:lnTo>
                  <a:lnTo>
                    <a:pt x="2754" y="20"/>
                  </a:lnTo>
                  <a:lnTo>
                    <a:pt x="2728" y="26"/>
                  </a:lnTo>
                  <a:lnTo>
                    <a:pt x="2698" y="34"/>
                  </a:lnTo>
                  <a:lnTo>
                    <a:pt x="2665" y="42"/>
                  </a:lnTo>
                  <a:lnTo>
                    <a:pt x="2628" y="52"/>
                  </a:lnTo>
                  <a:lnTo>
                    <a:pt x="2589" y="62"/>
                  </a:lnTo>
                  <a:lnTo>
                    <a:pt x="2548" y="72"/>
                  </a:lnTo>
                  <a:lnTo>
                    <a:pt x="2503" y="82"/>
                  </a:lnTo>
                  <a:lnTo>
                    <a:pt x="2455" y="94"/>
                  </a:lnTo>
                  <a:lnTo>
                    <a:pt x="2405" y="107"/>
                  </a:lnTo>
                  <a:lnTo>
                    <a:pt x="2353" y="119"/>
                  </a:lnTo>
                  <a:lnTo>
                    <a:pt x="2299" y="133"/>
                  </a:lnTo>
                  <a:lnTo>
                    <a:pt x="2245" y="145"/>
                  </a:lnTo>
                  <a:lnTo>
                    <a:pt x="2186" y="159"/>
                  </a:lnTo>
                  <a:lnTo>
                    <a:pt x="2128" y="171"/>
                  </a:lnTo>
                  <a:lnTo>
                    <a:pt x="2067" y="185"/>
                  </a:lnTo>
                  <a:lnTo>
                    <a:pt x="2004" y="199"/>
                  </a:lnTo>
                  <a:lnTo>
                    <a:pt x="1941" y="213"/>
                  </a:lnTo>
                  <a:lnTo>
                    <a:pt x="1878" y="227"/>
                  </a:lnTo>
                  <a:lnTo>
                    <a:pt x="1813" y="241"/>
                  </a:lnTo>
                  <a:lnTo>
                    <a:pt x="1748" y="255"/>
                  </a:lnTo>
                  <a:lnTo>
                    <a:pt x="1683" y="269"/>
                  </a:lnTo>
                  <a:lnTo>
                    <a:pt x="1615" y="281"/>
                  </a:lnTo>
                  <a:lnTo>
                    <a:pt x="1548" y="295"/>
                  </a:lnTo>
                  <a:lnTo>
                    <a:pt x="1481" y="307"/>
                  </a:lnTo>
                  <a:lnTo>
                    <a:pt x="1414" y="319"/>
                  </a:lnTo>
                  <a:lnTo>
                    <a:pt x="1349" y="331"/>
                  </a:lnTo>
                  <a:lnTo>
                    <a:pt x="1282" y="343"/>
                  </a:lnTo>
                  <a:lnTo>
                    <a:pt x="1217" y="355"/>
                  </a:lnTo>
                  <a:lnTo>
                    <a:pt x="1152" y="365"/>
                  </a:lnTo>
                  <a:lnTo>
                    <a:pt x="1089" y="375"/>
                  </a:lnTo>
                  <a:lnTo>
                    <a:pt x="1026" y="383"/>
                  </a:lnTo>
                  <a:lnTo>
                    <a:pt x="963" y="391"/>
                  </a:lnTo>
                  <a:lnTo>
                    <a:pt x="902" y="399"/>
                  </a:lnTo>
                  <a:lnTo>
                    <a:pt x="844" y="407"/>
                  </a:lnTo>
                  <a:lnTo>
                    <a:pt x="785" y="411"/>
                  </a:lnTo>
                  <a:lnTo>
                    <a:pt x="731" y="417"/>
                  </a:lnTo>
                  <a:lnTo>
                    <a:pt x="677" y="421"/>
                  </a:lnTo>
                  <a:lnTo>
                    <a:pt x="625" y="423"/>
                  </a:lnTo>
                  <a:lnTo>
                    <a:pt x="575" y="425"/>
                  </a:lnTo>
                  <a:lnTo>
                    <a:pt x="530" y="425"/>
                  </a:lnTo>
                  <a:lnTo>
                    <a:pt x="495" y="425"/>
                  </a:lnTo>
                  <a:lnTo>
                    <a:pt x="463" y="425"/>
                  </a:lnTo>
                  <a:lnTo>
                    <a:pt x="432" y="423"/>
                  </a:lnTo>
                  <a:lnTo>
                    <a:pt x="402" y="421"/>
                  </a:lnTo>
                  <a:lnTo>
                    <a:pt x="374" y="417"/>
                  </a:lnTo>
                  <a:lnTo>
                    <a:pt x="346" y="415"/>
                  </a:lnTo>
                  <a:lnTo>
                    <a:pt x="322" y="411"/>
                  </a:lnTo>
                  <a:lnTo>
                    <a:pt x="297" y="405"/>
                  </a:lnTo>
                  <a:lnTo>
                    <a:pt x="273" y="401"/>
                  </a:lnTo>
                  <a:lnTo>
                    <a:pt x="251" y="395"/>
                  </a:lnTo>
                  <a:lnTo>
                    <a:pt x="232" y="389"/>
                  </a:lnTo>
                  <a:lnTo>
                    <a:pt x="210" y="383"/>
                  </a:lnTo>
                  <a:lnTo>
                    <a:pt x="193" y="375"/>
                  </a:lnTo>
                  <a:lnTo>
                    <a:pt x="176" y="369"/>
                  </a:lnTo>
                  <a:lnTo>
                    <a:pt x="158" y="361"/>
                  </a:lnTo>
                  <a:lnTo>
                    <a:pt x="143" y="353"/>
                  </a:lnTo>
                  <a:lnTo>
                    <a:pt x="128" y="345"/>
                  </a:lnTo>
                  <a:lnTo>
                    <a:pt x="115" y="337"/>
                  </a:lnTo>
                  <a:lnTo>
                    <a:pt x="102" y="327"/>
                  </a:lnTo>
                  <a:lnTo>
                    <a:pt x="91" y="319"/>
                  </a:lnTo>
                  <a:lnTo>
                    <a:pt x="80" y="309"/>
                  </a:lnTo>
                  <a:lnTo>
                    <a:pt x="69" y="299"/>
                  </a:lnTo>
                  <a:lnTo>
                    <a:pt x="61" y="289"/>
                  </a:lnTo>
                  <a:lnTo>
                    <a:pt x="52" y="279"/>
                  </a:lnTo>
                  <a:lnTo>
                    <a:pt x="43" y="269"/>
                  </a:lnTo>
                  <a:lnTo>
                    <a:pt x="37" y="259"/>
                  </a:lnTo>
                  <a:lnTo>
                    <a:pt x="30" y="249"/>
                  </a:lnTo>
                  <a:lnTo>
                    <a:pt x="26" y="239"/>
                  </a:lnTo>
                  <a:lnTo>
                    <a:pt x="22" y="227"/>
                  </a:lnTo>
                  <a:lnTo>
                    <a:pt x="17" y="217"/>
                  </a:lnTo>
                  <a:lnTo>
                    <a:pt x="13" y="207"/>
                  </a:lnTo>
                  <a:lnTo>
                    <a:pt x="9" y="197"/>
                  </a:lnTo>
                  <a:lnTo>
                    <a:pt x="7" y="185"/>
                  </a:lnTo>
                  <a:lnTo>
                    <a:pt x="4" y="175"/>
                  </a:lnTo>
                  <a:lnTo>
                    <a:pt x="2" y="165"/>
                  </a:lnTo>
                  <a:lnTo>
                    <a:pt x="2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8"/>
                  </a:lnTo>
                  <a:lnTo>
                    <a:pt x="4" y="70"/>
                  </a:lnTo>
                  <a:lnTo>
                    <a:pt x="7" y="6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06080" y="1966680"/>
              <a:ext cx="11088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69" y="74"/>
                  </a:moveTo>
                  <a:lnTo>
                    <a:pt x="54" y="0"/>
                  </a:lnTo>
                  <a:lnTo>
                    <a:pt x="0" y="56"/>
                  </a:lnTo>
                  <a:lnTo>
                    <a:pt x="69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95120" y="251748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2880" y="1966680"/>
              <a:ext cx="6148080" cy="903240"/>
            </a:xfrm>
            <a:custGeom>
              <a:avLst/>
              <a:gdLst/>
              <a:ahLst/>
              <a:rect l="l" t="t" r="r" b="b"/>
              <a:pathLst>
                <a:path w="3873" h="569">
                  <a:moveTo>
                    <a:pt x="3872" y="0"/>
                  </a:moveTo>
                  <a:lnTo>
                    <a:pt x="3870" y="0"/>
                  </a:lnTo>
                  <a:lnTo>
                    <a:pt x="3863" y="2"/>
                  </a:lnTo>
                  <a:lnTo>
                    <a:pt x="3850" y="4"/>
                  </a:lnTo>
                  <a:lnTo>
                    <a:pt x="3835" y="8"/>
                  </a:lnTo>
                  <a:lnTo>
                    <a:pt x="3818" y="14"/>
                  </a:lnTo>
                  <a:lnTo>
                    <a:pt x="3794" y="18"/>
                  </a:lnTo>
                  <a:lnTo>
                    <a:pt x="3768" y="26"/>
                  </a:lnTo>
                  <a:lnTo>
                    <a:pt x="3738" y="32"/>
                  </a:lnTo>
                  <a:lnTo>
                    <a:pt x="3703" y="42"/>
                  </a:lnTo>
                  <a:lnTo>
                    <a:pt x="3666" y="50"/>
                  </a:lnTo>
                  <a:lnTo>
                    <a:pt x="3625" y="60"/>
                  </a:lnTo>
                  <a:lnTo>
                    <a:pt x="3583" y="70"/>
                  </a:lnTo>
                  <a:lnTo>
                    <a:pt x="3537" y="82"/>
                  </a:lnTo>
                  <a:lnTo>
                    <a:pt x="3488" y="94"/>
                  </a:lnTo>
                  <a:lnTo>
                    <a:pt x="3436" y="107"/>
                  </a:lnTo>
                  <a:lnTo>
                    <a:pt x="3381" y="119"/>
                  </a:lnTo>
                  <a:lnTo>
                    <a:pt x="3325" y="133"/>
                  </a:lnTo>
                  <a:lnTo>
                    <a:pt x="3267" y="147"/>
                  </a:lnTo>
                  <a:lnTo>
                    <a:pt x="3206" y="161"/>
                  </a:lnTo>
                  <a:lnTo>
                    <a:pt x="3141" y="175"/>
                  </a:lnTo>
                  <a:lnTo>
                    <a:pt x="3076" y="189"/>
                  </a:lnTo>
                  <a:lnTo>
                    <a:pt x="3009" y="205"/>
                  </a:lnTo>
                  <a:lnTo>
                    <a:pt x="2942" y="219"/>
                  </a:lnTo>
                  <a:lnTo>
                    <a:pt x="2870" y="235"/>
                  </a:lnTo>
                  <a:lnTo>
                    <a:pt x="2799" y="251"/>
                  </a:lnTo>
                  <a:lnTo>
                    <a:pt x="2727" y="267"/>
                  </a:lnTo>
                  <a:lnTo>
                    <a:pt x="2654" y="281"/>
                  </a:lnTo>
                  <a:lnTo>
                    <a:pt x="2578" y="297"/>
                  </a:lnTo>
                  <a:lnTo>
                    <a:pt x="2502" y="313"/>
                  </a:lnTo>
                  <a:lnTo>
                    <a:pt x="2426" y="329"/>
                  </a:lnTo>
                  <a:lnTo>
                    <a:pt x="2348" y="343"/>
                  </a:lnTo>
                  <a:lnTo>
                    <a:pt x="2270" y="359"/>
                  </a:lnTo>
                  <a:lnTo>
                    <a:pt x="2192" y="375"/>
                  </a:lnTo>
                  <a:lnTo>
                    <a:pt x="2114" y="389"/>
                  </a:lnTo>
                  <a:lnTo>
                    <a:pt x="2036" y="403"/>
                  </a:lnTo>
                  <a:lnTo>
                    <a:pt x="1959" y="417"/>
                  </a:lnTo>
                  <a:lnTo>
                    <a:pt x="1881" y="431"/>
                  </a:lnTo>
                  <a:lnTo>
                    <a:pt x="1803" y="445"/>
                  </a:lnTo>
                  <a:lnTo>
                    <a:pt x="1725" y="457"/>
                  </a:lnTo>
                  <a:lnTo>
                    <a:pt x="1650" y="471"/>
                  </a:lnTo>
                  <a:lnTo>
                    <a:pt x="1574" y="483"/>
                  </a:lnTo>
                  <a:lnTo>
                    <a:pt x="1498" y="493"/>
                  </a:lnTo>
                  <a:lnTo>
                    <a:pt x="1422" y="506"/>
                  </a:lnTo>
                  <a:lnTo>
                    <a:pt x="1351" y="516"/>
                  </a:lnTo>
                  <a:lnTo>
                    <a:pt x="1277" y="524"/>
                  </a:lnTo>
                  <a:lnTo>
                    <a:pt x="1208" y="532"/>
                  </a:lnTo>
                  <a:lnTo>
                    <a:pt x="1138" y="540"/>
                  </a:lnTo>
                  <a:lnTo>
                    <a:pt x="1069" y="548"/>
                  </a:lnTo>
                  <a:lnTo>
                    <a:pt x="1004" y="554"/>
                  </a:lnTo>
                  <a:lnTo>
                    <a:pt x="939" y="558"/>
                  </a:lnTo>
                  <a:lnTo>
                    <a:pt x="876" y="562"/>
                  </a:lnTo>
                  <a:lnTo>
                    <a:pt x="818" y="566"/>
                  </a:lnTo>
                  <a:lnTo>
                    <a:pt x="759" y="568"/>
                  </a:lnTo>
                  <a:lnTo>
                    <a:pt x="703" y="568"/>
                  </a:lnTo>
                  <a:lnTo>
                    <a:pt x="651" y="568"/>
                  </a:lnTo>
                  <a:lnTo>
                    <a:pt x="610" y="568"/>
                  </a:lnTo>
                  <a:lnTo>
                    <a:pt x="571" y="566"/>
                  </a:lnTo>
                  <a:lnTo>
                    <a:pt x="532" y="564"/>
                  </a:lnTo>
                  <a:lnTo>
                    <a:pt x="497" y="560"/>
                  </a:lnTo>
                  <a:lnTo>
                    <a:pt x="462" y="556"/>
                  </a:lnTo>
                  <a:lnTo>
                    <a:pt x="431" y="552"/>
                  </a:lnTo>
                  <a:lnTo>
                    <a:pt x="399" y="546"/>
                  </a:lnTo>
                  <a:lnTo>
                    <a:pt x="368" y="542"/>
                  </a:lnTo>
                  <a:lnTo>
                    <a:pt x="340" y="534"/>
                  </a:lnTo>
                  <a:lnTo>
                    <a:pt x="314" y="528"/>
                  </a:lnTo>
                  <a:lnTo>
                    <a:pt x="288" y="520"/>
                  </a:lnTo>
                  <a:lnTo>
                    <a:pt x="264" y="512"/>
                  </a:lnTo>
                  <a:lnTo>
                    <a:pt x="240" y="504"/>
                  </a:lnTo>
                  <a:lnTo>
                    <a:pt x="219" y="495"/>
                  </a:lnTo>
                  <a:lnTo>
                    <a:pt x="197" y="485"/>
                  </a:lnTo>
                  <a:lnTo>
                    <a:pt x="180" y="475"/>
                  </a:lnTo>
                  <a:lnTo>
                    <a:pt x="160" y="465"/>
                  </a:lnTo>
                  <a:lnTo>
                    <a:pt x="143" y="455"/>
                  </a:lnTo>
                  <a:lnTo>
                    <a:pt x="128" y="443"/>
                  </a:lnTo>
                  <a:lnTo>
                    <a:pt x="113" y="433"/>
                  </a:lnTo>
                  <a:lnTo>
                    <a:pt x="100" y="421"/>
                  </a:lnTo>
                  <a:lnTo>
                    <a:pt x="87" y="409"/>
                  </a:lnTo>
                  <a:lnTo>
                    <a:pt x="76" y="397"/>
                  </a:lnTo>
                  <a:lnTo>
                    <a:pt x="65" y="385"/>
                  </a:lnTo>
                  <a:lnTo>
                    <a:pt x="56" y="371"/>
                  </a:lnTo>
                  <a:lnTo>
                    <a:pt x="48" y="359"/>
                  </a:lnTo>
                  <a:lnTo>
                    <a:pt x="39" y="345"/>
                  </a:lnTo>
                  <a:lnTo>
                    <a:pt x="32" y="333"/>
                  </a:lnTo>
                  <a:lnTo>
                    <a:pt x="26" y="319"/>
                  </a:lnTo>
                  <a:lnTo>
                    <a:pt x="19" y="307"/>
                  </a:lnTo>
                  <a:lnTo>
                    <a:pt x="15" y="293"/>
                  </a:lnTo>
                  <a:lnTo>
                    <a:pt x="11" y="279"/>
                  </a:lnTo>
                  <a:lnTo>
                    <a:pt x="9" y="265"/>
                  </a:lnTo>
                  <a:lnTo>
                    <a:pt x="4" y="253"/>
                  </a:lnTo>
                  <a:lnTo>
                    <a:pt x="2" y="239"/>
                  </a:lnTo>
                  <a:lnTo>
                    <a:pt x="2" y="225"/>
                  </a:lnTo>
                  <a:lnTo>
                    <a:pt x="0" y="211"/>
                  </a:lnTo>
                  <a:lnTo>
                    <a:pt x="0" y="199"/>
                  </a:lnTo>
                  <a:lnTo>
                    <a:pt x="0" y="185"/>
                  </a:lnTo>
                  <a:lnTo>
                    <a:pt x="0" y="171"/>
                  </a:lnTo>
                  <a:lnTo>
                    <a:pt x="2" y="159"/>
                  </a:lnTo>
                  <a:lnTo>
                    <a:pt x="2" y="145"/>
                  </a:lnTo>
                  <a:lnTo>
                    <a:pt x="4" y="133"/>
                  </a:lnTo>
                  <a:lnTo>
                    <a:pt x="6" y="121"/>
                  </a:lnTo>
                  <a:lnTo>
                    <a:pt x="9" y="109"/>
                  </a:lnTo>
                  <a:lnTo>
                    <a:pt x="11" y="96"/>
                  </a:lnTo>
                  <a:lnTo>
                    <a:pt x="13" y="84"/>
                  </a:lnTo>
                  <a:lnTo>
                    <a:pt x="17" y="72"/>
                  </a:lnTo>
                  <a:lnTo>
                    <a:pt x="19" y="62"/>
                  </a:lnTo>
                  <a:lnTo>
                    <a:pt x="24" y="50"/>
                  </a:lnTo>
                  <a:lnTo>
                    <a:pt x="26" y="40"/>
                  </a:lnTo>
                  <a:lnTo>
                    <a:pt x="30" y="30"/>
                  </a:lnTo>
                  <a:lnTo>
                    <a:pt x="32" y="20"/>
                  </a:lnTo>
                  <a:lnTo>
                    <a:pt x="37" y="12"/>
                  </a:lnTo>
                  <a:lnTo>
                    <a:pt x="41" y="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880" y="1877760"/>
              <a:ext cx="104400" cy="11916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0" y="47"/>
                  </a:moveTo>
                  <a:lnTo>
                    <a:pt x="59" y="0"/>
                  </a:lnTo>
                  <a:lnTo>
                    <a:pt x="65" y="7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3960" y="281124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16360" y="1390320"/>
              <a:ext cx="28404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93" y="221"/>
                  </a:moveTo>
                  <a:lnTo>
                    <a:pt x="93" y="221"/>
                  </a:lnTo>
                  <a:lnTo>
                    <a:pt x="96" y="217"/>
                  </a:lnTo>
                  <a:lnTo>
                    <a:pt x="98" y="213"/>
                  </a:lnTo>
                  <a:lnTo>
                    <a:pt x="102" y="207"/>
                  </a:lnTo>
                  <a:lnTo>
                    <a:pt x="106" y="199"/>
                  </a:lnTo>
                  <a:lnTo>
                    <a:pt x="111" y="191"/>
                  </a:lnTo>
                  <a:lnTo>
                    <a:pt x="117" y="181"/>
                  </a:lnTo>
                  <a:lnTo>
                    <a:pt x="124" y="171"/>
                  </a:lnTo>
                  <a:lnTo>
                    <a:pt x="130" y="159"/>
                  </a:lnTo>
                  <a:lnTo>
                    <a:pt x="137" y="147"/>
                  </a:lnTo>
                  <a:lnTo>
                    <a:pt x="143" y="135"/>
                  </a:lnTo>
                  <a:lnTo>
                    <a:pt x="148" y="121"/>
                  </a:lnTo>
                  <a:lnTo>
                    <a:pt x="154" y="109"/>
                  </a:lnTo>
                  <a:lnTo>
                    <a:pt x="161" y="95"/>
                  </a:lnTo>
                  <a:lnTo>
                    <a:pt x="165" y="83"/>
                  </a:lnTo>
                  <a:lnTo>
                    <a:pt x="169" y="71"/>
                  </a:lnTo>
                  <a:lnTo>
                    <a:pt x="174" y="58"/>
                  </a:lnTo>
                  <a:lnTo>
                    <a:pt x="176" y="48"/>
                  </a:lnTo>
                  <a:lnTo>
                    <a:pt x="178" y="38"/>
                  </a:lnTo>
                  <a:lnTo>
                    <a:pt x="178" y="28"/>
                  </a:lnTo>
                  <a:lnTo>
                    <a:pt x="176" y="20"/>
                  </a:lnTo>
                  <a:lnTo>
                    <a:pt x="174" y="12"/>
                  </a:lnTo>
                  <a:lnTo>
                    <a:pt x="169" y="8"/>
                  </a:lnTo>
                  <a:lnTo>
                    <a:pt x="165" y="4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26" y="2"/>
                  </a:lnTo>
                  <a:lnTo>
                    <a:pt x="119" y="4"/>
                  </a:lnTo>
                  <a:lnTo>
                    <a:pt x="111" y="6"/>
                  </a:lnTo>
                  <a:lnTo>
                    <a:pt x="102" y="8"/>
                  </a:lnTo>
                  <a:lnTo>
                    <a:pt x="93" y="10"/>
                  </a:lnTo>
                  <a:lnTo>
                    <a:pt x="87" y="12"/>
                  </a:lnTo>
                  <a:lnTo>
                    <a:pt x="78" y="16"/>
                  </a:lnTo>
                  <a:lnTo>
                    <a:pt x="69" y="18"/>
                  </a:lnTo>
                  <a:lnTo>
                    <a:pt x="61" y="22"/>
                  </a:lnTo>
                  <a:lnTo>
                    <a:pt x="52" y="26"/>
                  </a:lnTo>
                  <a:lnTo>
                    <a:pt x="43" y="28"/>
                  </a:lnTo>
                  <a:lnTo>
                    <a:pt x="35" y="32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9" y="44"/>
                  </a:lnTo>
                  <a:lnTo>
                    <a:pt x="0" y="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9520" y="1406160"/>
              <a:ext cx="129960" cy="98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81" y="59"/>
                  </a:moveTo>
                  <a:lnTo>
                    <a:pt x="0" y="61"/>
                  </a:lnTo>
                  <a:lnTo>
                    <a:pt x="47" y="0"/>
                  </a:lnTo>
                  <a:lnTo>
                    <a:pt x="81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73760" y="1260360"/>
              <a:ext cx="57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,A,T,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t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ansition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,a,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ward Distribu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5053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ected discounted reward for taking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ollowing an optimal policy thereaf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1320" y="1600200"/>
            <a:ext cx="2743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ursuers - identical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410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by policy iteration / fictitious 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84520" y="1725480"/>
            <a:ext cx="58165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3880" y="4976640"/>
            <a:ext cx="5834160" cy="32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3880" y="4619520"/>
            <a:ext cx="583416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93880" y="4259160"/>
            <a:ext cx="5834160" cy="32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3880" y="3902040"/>
            <a:ext cx="583416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3880" y="3541680"/>
            <a:ext cx="583416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3880" y="3171960"/>
            <a:ext cx="583416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2811600"/>
            <a:ext cx="583416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3880" y="2454120"/>
            <a:ext cx="583416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3880" y="2093760"/>
            <a:ext cx="583416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3880" y="1733400"/>
            <a:ext cx="5834160" cy="32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2160" y="1733400"/>
            <a:ext cx="14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2520" y="1733400"/>
            <a:ext cx="14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0800" y="1733400"/>
            <a:ext cx="180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8000" y="1733400"/>
            <a:ext cx="32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9800" y="1733400"/>
            <a:ext cx="180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8080" y="1733400"/>
            <a:ext cx="180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3480" y="1733400"/>
            <a:ext cx="32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45000" y="1733400"/>
            <a:ext cx="32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03920" y="1733400"/>
            <a:ext cx="14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31120" y="1733400"/>
            <a:ext cx="288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0840" y="1733400"/>
            <a:ext cx="32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59760" y="1733400"/>
            <a:ext cx="1440" cy="3603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9720" y="1733400"/>
            <a:ext cx="1440" cy="36036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18160" y="1733400"/>
            <a:ext cx="1440" cy="36036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5440" y="1733400"/>
            <a:ext cx="1440" cy="36036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8040" y="1733400"/>
            <a:ext cx="3240" cy="36036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4520" y="1725480"/>
            <a:ext cx="5816520" cy="35877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3880" y="1733400"/>
            <a:ext cx="1440" cy="360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49600" y="533700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49600" y="4976640"/>
            <a:ext cx="4428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9600" y="461952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9600" y="4259160"/>
            <a:ext cx="4428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49600" y="390204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9600" y="354168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9600" y="317196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49600" y="2811600"/>
            <a:ext cx="44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49600" y="245412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49600" y="2093760"/>
            <a:ext cx="44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49600" y="1733400"/>
            <a:ext cx="4428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3880" y="5337000"/>
            <a:ext cx="58341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793880" y="533700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249720" y="533700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18160" y="533700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175440" y="5337000"/>
            <a:ext cx="14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28040" y="5337000"/>
            <a:ext cx="3240" cy="4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81360" y="3822840"/>
            <a:ext cx="5746680" cy="1390680"/>
          </a:xfrm>
          <a:custGeom>
            <a:avLst/>
            <a:gdLst/>
            <a:ahLst/>
            <a:rect l="l" t="t" r="r" b="b"/>
            <a:pathLst>
              <a:path w="3620" h="876">
                <a:moveTo>
                  <a:pt x="0" y="876"/>
                </a:moveTo>
                <a:lnTo>
                  <a:pt x="58" y="876"/>
                </a:lnTo>
                <a:lnTo>
                  <a:pt x="113" y="868"/>
                </a:lnTo>
                <a:lnTo>
                  <a:pt x="178" y="855"/>
                </a:lnTo>
                <a:lnTo>
                  <a:pt x="234" y="855"/>
                </a:lnTo>
                <a:lnTo>
                  <a:pt x="291" y="855"/>
                </a:lnTo>
                <a:lnTo>
                  <a:pt x="347" y="855"/>
                </a:lnTo>
                <a:lnTo>
                  <a:pt x="403" y="855"/>
                </a:lnTo>
                <a:lnTo>
                  <a:pt x="460" y="868"/>
                </a:lnTo>
                <a:lnTo>
                  <a:pt x="516" y="827"/>
                </a:lnTo>
                <a:lnTo>
                  <a:pt x="581" y="840"/>
                </a:lnTo>
                <a:lnTo>
                  <a:pt x="636" y="848"/>
                </a:lnTo>
                <a:lnTo>
                  <a:pt x="694" y="848"/>
                </a:lnTo>
                <a:lnTo>
                  <a:pt x="749" y="840"/>
                </a:lnTo>
                <a:lnTo>
                  <a:pt x="805" y="833"/>
                </a:lnTo>
                <a:lnTo>
                  <a:pt x="862" y="855"/>
                </a:lnTo>
                <a:lnTo>
                  <a:pt x="918" y="833"/>
                </a:lnTo>
                <a:lnTo>
                  <a:pt x="983" y="833"/>
                </a:lnTo>
                <a:lnTo>
                  <a:pt x="1038" y="820"/>
                </a:lnTo>
                <a:lnTo>
                  <a:pt x="1096" y="833"/>
                </a:lnTo>
                <a:lnTo>
                  <a:pt x="1151" y="827"/>
                </a:lnTo>
                <a:lnTo>
                  <a:pt x="1207" y="848"/>
                </a:lnTo>
                <a:lnTo>
                  <a:pt x="1264" y="805"/>
                </a:lnTo>
                <a:lnTo>
                  <a:pt x="1320" y="840"/>
                </a:lnTo>
                <a:lnTo>
                  <a:pt x="1385" y="827"/>
                </a:lnTo>
                <a:lnTo>
                  <a:pt x="1441" y="812"/>
                </a:lnTo>
                <a:lnTo>
                  <a:pt x="1498" y="840"/>
                </a:lnTo>
                <a:lnTo>
                  <a:pt x="1554" y="820"/>
                </a:lnTo>
                <a:lnTo>
                  <a:pt x="1609" y="827"/>
                </a:lnTo>
                <a:lnTo>
                  <a:pt x="1667" y="812"/>
                </a:lnTo>
                <a:lnTo>
                  <a:pt x="1722" y="827"/>
                </a:lnTo>
                <a:lnTo>
                  <a:pt x="1787" y="812"/>
                </a:lnTo>
                <a:lnTo>
                  <a:pt x="1843" y="827"/>
                </a:lnTo>
                <a:lnTo>
                  <a:pt x="1900" y="820"/>
                </a:lnTo>
                <a:lnTo>
                  <a:pt x="1956" y="848"/>
                </a:lnTo>
                <a:lnTo>
                  <a:pt x="2011" y="812"/>
                </a:lnTo>
                <a:lnTo>
                  <a:pt x="2069" y="820"/>
                </a:lnTo>
                <a:lnTo>
                  <a:pt x="2124" y="827"/>
                </a:lnTo>
                <a:lnTo>
                  <a:pt x="2182" y="833"/>
                </a:lnTo>
                <a:lnTo>
                  <a:pt x="2245" y="812"/>
                </a:lnTo>
                <a:lnTo>
                  <a:pt x="2302" y="833"/>
                </a:lnTo>
                <a:lnTo>
                  <a:pt x="2358" y="827"/>
                </a:lnTo>
                <a:lnTo>
                  <a:pt x="2414" y="820"/>
                </a:lnTo>
                <a:lnTo>
                  <a:pt x="2471" y="820"/>
                </a:lnTo>
                <a:lnTo>
                  <a:pt x="2527" y="812"/>
                </a:lnTo>
                <a:lnTo>
                  <a:pt x="2584" y="827"/>
                </a:lnTo>
                <a:lnTo>
                  <a:pt x="2647" y="833"/>
                </a:lnTo>
                <a:lnTo>
                  <a:pt x="2705" y="812"/>
                </a:lnTo>
                <a:lnTo>
                  <a:pt x="2760" y="63"/>
                </a:lnTo>
                <a:lnTo>
                  <a:pt x="2816" y="63"/>
                </a:lnTo>
                <a:lnTo>
                  <a:pt x="2873" y="27"/>
                </a:lnTo>
                <a:lnTo>
                  <a:pt x="2929" y="27"/>
                </a:lnTo>
                <a:lnTo>
                  <a:pt x="2986" y="55"/>
                </a:lnTo>
                <a:lnTo>
                  <a:pt x="3049" y="27"/>
                </a:lnTo>
                <a:lnTo>
                  <a:pt x="3107" y="55"/>
                </a:lnTo>
                <a:lnTo>
                  <a:pt x="3162" y="20"/>
                </a:lnTo>
                <a:lnTo>
                  <a:pt x="3218" y="20"/>
                </a:lnTo>
                <a:lnTo>
                  <a:pt x="3275" y="50"/>
                </a:lnTo>
                <a:lnTo>
                  <a:pt x="3331" y="55"/>
                </a:lnTo>
                <a:lnTo>
                  <a:pt x="3388" y="42"/>
                </a:lnTo>
                <a:lnTo>
                  <a:pt x="3451" y="0"/>
                </a:lnTo>
                <a:lnTo>
                  <a:pt x="3509" y="42"/>
                </a:lnTo>
                <a:lnTo>
                  <a:pt x="3565" y="70"/>
                </a:lnTo>
                <a:lnTo>
                  <a:pt x="3620" y="27"/>
                </a:lnTo>
              </a:path>
            </a:pathLst>
          </a:custGeom>
          <a:noFill/>
          <a:ln w="205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1360" y="3236760"/>
            <a:ext cx="5746680" cy="2043360"/>
          </a:xfrm>
          <a:custGeom>
            <a:avLst/>
            <a:gdLst/>
            <a:ahLst/>
            <a:rect l="l" t="t" r="r" b="b"/>
            <a:pathLst>
              <a:path w="3620" h="1287">
                <a:moveTo>
                  <a:pt x="0" y="1260"/>
                </a:moveTo>
                <a:lnTo>
                  <a:pt x="58" y="1265"/>
                </a:lnTo>
                <a:lnTo>
                  <a:pt x="113" y="1280"/>
                </a:lnTo>
                <a:lnTo>
                  <a:pt x="178" y="1265"/>
                </a:lnTo>
                <a:lnTo>
                  <a:pt x="234" y="1287"/>
                </a:lnTo>
                <a:lnTo>
                  <a:pt x="291" y="1273"/>
                </a:lnTo>
                <a:lnTo>
                  <a:pt x="347" y="1252"/>
                </a:lnTo>
                <a:lnTo>
                  <a:pt x="403" y="1260"/>
                </a:lnTo>
                <a:lnTo>
                  <a:pt x="460" y="1280"/>
                </a:lnTo>
                <a:lnTo>
                  <a:pt x="516" y="1265"/>
                </a:lnTo>
                <a:lnTo>
                  <a:pt x="581" y="1273"/>
                </a:lnTo>
                <a:lnTo>
                  <a:pt x="636" y="1265"/>
                </a:lnTo>
                <a:lnTo>
                  <a:pt x="694" y="1265"/>
                </a:lnTo>
                <a:lnTo>
                  <a:pt x="749" y="1280"/>
                </a:lnTo>
                <a:lnTo>
                  <a:pt x="805" y="1260"/>
                </a:lnTo>
                <a:lnTo>
                  <a:pt x="862" y="1265"/>
                </a:lnTo>
                <a:lnTo>
                  <a:pt x="918" y="863"/>
                </a:lnTo>
                <a:lnTo>
                  <a:pt x="983" y="659"/>
                </a:lnTo>
                <a:lnTo>
                  <a:pt x="1038" y="651"/>
                </a:lnTo>
                <a:lnTo>
                  <a:pt x="1096" y="651"/>
                </a:lnTo>
                <a:lnTo>
                  <a:pt x="1151" y="596"/>
                </a:lnTo>
                <a:lnTo>
                  <a:pt x="1207" y="623"/>
                </a:lnTo>
                <a:lnTo>
                  <a:pt x="1264" y="581"/>
                </a:lnTo>
                <a:lnTo>
                  <a:pt x="1320" y="566"/>
                </a:lnTo>
                <a:lnTo>
                  <a:pt x="1385" y="609"/>
                </a:lnTo>
                <a:lnTo>
                  <a:pt x="1441" y="588"/>
                </a:lnTo>
                <a:lnTo>
                  <a:pt x="1498" y="601"/>
                </a:lnTo>
                <a:lnTo>
                  <a:pt x="1554" y="573"/>
                </a:lnTo>
                <a:lnTo>
                  <a:pt x="1609" y="616"/>
                </a:lnTo>
                <a:lnTo>
                  <a:pt x="1667" y="573"/>
                </a:lnTo>
                <a:lnTo>
                  <a:pt x="1722" y="588"/>
                </a:lnTo>
                <a:lnTo>
                  <a:pt x="1787" y="566"/>
                </a:lnTo>
                <a:lnTo>
                  <a:pt x="1843" y="573"/>
                </a:lnTo>
                <a:lnTo>
                  <a:pt x="1900" y="305"/>
                </a:lnTo>
                <a:lnTo>
                  <a:pt x="1956" y="242"/>
                </a:lnTo>
                <a:lnTo>
                  <a:pt x="2011" y="212"/>
                </a:lnTo>
                <a:lnTo>
                  <a:pt x="2069" y="212"/>
                </a:lnTo>
                <a:lnTo>
                  <a:pt x="2124" y="207"/>
                </a:lnTo>
                <a:lnTo>
                  <a:pt x="2182" y="171"/>
                </a:lnTo>
                <a:lnTo>
                  <a:pt x="2245" y="177"/>
                </a:lnTo>
                <a:lnTo>
                  <a:pt x="2302" y="184"/>
                </a:lnTo>
                <a:lnTo>
                  <a:pt x="2358" y="199"/>
                </a:lnTo>
                <a:lnTo>
                  <a:pt x="2414" y="136"/>
                </a:lnTo>
                <a:lnTo>
                  <a:pt x="2471" y="142"/>
                </a:lnTo>
                <a:lnTo>
                  <a:pt x="2527" y="121"/>
                </a:lnTo>
                <a:lnTo>
                  <a:pt x="2584" y="157"/>
                </a:lnTo>
                <a:lnTo>
                  <a:pt x="2647" y="129"/>
                </a:lnTo>
                <a:lnTo>
                  <a:pt x="2705" y="129"/>
                </a:lnTo>
                <a:lnTo>
                  <a:pt x="2760" y="23"/>
                </a:lnTo>
                <a:lnTo>
                  <a:pt x="2816" y="15"/>
                </a:lnTo>
                <a:lnTo>
                  <a:pt x="2873" y="58"/>
                </a:lnTo>
                <a:lnTo>
                  <a:pt x="2929" y="23"/>
                </a:lnTo>
                <a:lnTo>
                  <a:pt x="2986" y="43"/>
                </a:lnTo>
                <a:lnTo>
                  <a:pt x="3049" y="30"/>
                </a:lnTo>
                <a:lnTo>
                  <a:pt x="3107" y="30"/>
                </a:lnTo>
                <a:lnTo>
                  <a:pt x="3162" y="43"/>
                </a:lnTo>
                <a:lnTo>
                  <a:pt x="3218" y="30"/>
                </a:lnTo>
                <a:lnTo>
                  <a:pt x="3275" y="30"/>
                </a:lnTo>
                <a:lnTo>
                  <a:pt x="3331" y="30"/>
                </a:lnTo>
                <a:lnTo>
                  <a:pt x="3388" y="23"/>
                </a:lnTo>
                <a:lnTo>
                  <a:pt x="3451" y="43"/>
                </a:lnTo>
                <a:lnTo>
                  <a:pt x="3509" y="0"/>
                </a:lnTo>
                <a:lnTo>
                  <a:pt x="3565" y="0"/>
                </a:lnTo>
                <a:lnTo>
                  <a:pt x="3620" y="50"/>
                </a:lnTo>
              </a:path>
            </a:pathLst>
          </a:custGeom>
          <a:noFill/>
          <a:ln w="20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96960" y="523872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38000" y="527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9880" y="4878360"/>
            <a:ext cx="252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15240" y="49150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9880" y="4519440"/>
            <a:ext cx="252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5240" y="4554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4160880"/>
            <a:ext cx="2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5240" y="41972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69880" y="3801960"/>
            <a:ext cx="252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15240" y="38368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69880" y="3443400"/>
            <a:ext cx="252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15240" y="3479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9880" y="3071880"/>
            <a:ext cx="2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15240" y="31068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69880" y="2714760"/>
            <a:ext cx="252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5240" y="2749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69880" y="2354400"/>
            <a:ext cx="2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5240" y="23893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69880" y="1996920"/>
            <a:ext cx="25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15240" y="2031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6960" y="1636560"/>
            <a:ext cx="1256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38000" y="1671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54514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3520" y="54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4480" y="5451480"/>
            <a:ext cx="36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9480" y="54878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8000" y="5451480"/>
            <a:ext cx="44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2280" y="54878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75280" y="5451480"/>
            <a:ext cx="44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7760" y="54878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1120" y="5451480"/>
            <a:ext cx="44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75400" y="54878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7760" y="5691240"/>
            <a:ext cx="2778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3240" y="574668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umber of tri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09480" y="3491640"/>
            <a:ext cx="1353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 r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1905120"/>
            <a:ext cx="3124440" cy="10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480" y="2228760"/>
            <a:ext cx="268200" cy="1800"/>
          </a:xfrm>
          <a:prstGeom prst="line">
            <a:avLst/>
          </a:prstGeom>
          <a:ln w="20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8920" y="2001960"/>
            <a:ext cx="1060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9720" y="2057400"/>
            <a:ext cx="8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76480" y="2610000"/>
            <a:ext cx="304920" cy="0"/>
          </a:xfrm>
          <a:prstGeom prst="line">
            <a:avLst/>
          </a:prstGeom>
          <a:ln w="20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8920" y="2376360"/>
            <a:ext cx="1154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2432160"/>
            <a:ext cx="254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ursuers learn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9120" y="4738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purs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4360" y="3962520"/>
            <a:ext cx="14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ursu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depen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358128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su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9548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su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66688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su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57200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su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strategies learnt by policy iteration (no communic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-based vs model-free for MD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00240" y="129528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6800" y="1295280"/>
            <a:ext cx="230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aximum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59480" y="1752480"/>
            <a:ext cx="107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as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54600" y="114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4600" y="114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3960" y="1143000"/>
            <a:ext cx="4334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98000" y="11430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98000" y="11430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4600" y="1150920"/>
            <a:ext cx="9360" cy="10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98000" y="1150920"/>
            <a:ext cx="7920" cy="10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2680" y="2362320"/>
            <a:ext cx="66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6200" y="236232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7440" y="23623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4600" y="21970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3960" y="2197080"/>
            <a:ext cx="1438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02160" y="2197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2197080"/>
            <a:ext cx="1438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8640" y="21970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2197080"/>
            <a:ext cx="14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98000" y="2197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4600" y="2205000"/>
            <a:ext cx="9360" cy="6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02160" y="2205000"/>
            <a:ext cx="7920" cy="6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8640" y="2205000"/>
            <a:ext cx="9360" cy="6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98000" y="2205000"/>
            <a:ext cx="7920" cy="6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1440" y="3011400"/>
            <a:ext cx="221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learning (Type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4520" y="30114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0640" y="30114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70000" y="30114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838600"/>
            <a:ext cx="1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4960" y="283860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4680" y="2838600"/>
            <a:ext cx="3409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4600" y="28386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3960" y="2838600"/>
            <a:ext cx="1438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02160" y="28386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2838600"/>
            <a:ext cx="1438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48640" y="28386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2838600"/>
            <a:ext cx="14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98000" y="28386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4960" y="2846520"/>
            <a:ext cx="97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4600" y="284652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02160" y="284652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8640" y="284652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98000" y="284652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160" y="3651120"/>
            <a:ext cx="174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QL+ (Type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4520" y="36511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0640" y="36511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70000" y="36511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4960" y="347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4680" y="3478320"/>
            <a:ext cx="3409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4600" y="3478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3960" y="3478320"/>
            <a:ext cx="14382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02160" y="3478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3478320"/>
            <a:ext cx="1438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8640" y="3478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3478320"/>
            <a:ext cx="14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98000" y="3478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4960" y="3487680"/>
            <a:ext cx="97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54600" y="348768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348768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48640" y="348768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0" y="348768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1800" y="4292640"/>
            <a:ext cx="2948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yes VPI + MIX (Typ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4520" y="42926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20640" y="42926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70000" y="42926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4960" y="41194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4680" y="4119480"/>
            <a:ext cx="3409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4600" y="41194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3960" y="4119480"/>
            <a:ext cx="1438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02160" y="41194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4119480"/>
            <a:ext cx="1438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8640" y="41194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119480"/>
            <a:ext cx="14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98000" y="41194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960" y="4127400"/>
            <a:ext cx="97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4600" y="412740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02160" y="412740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8640" y="412740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98000" y="412740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1800" y="4930920"/>
            <a:ext cx="269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Bayesian (Typ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4520" y="49309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20640" y="49309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70000" y="49309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4960" y="47592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680" y="4759200"/>
            <a:ext cx="3409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4600" y="475920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3960" y="4759200"/>
            <a:ext cx="1438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2160" y="47592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4759200"/>
            <a:ext cx="14385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8640" y="475920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4759200"/>
            <a:ext cx="1440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98000" y="47592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4960" y="4768920"/>
            <a:ext cx="97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4960" y="54007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4960" y="54007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4680" y="5400720"/>
            <a:ext cx="3409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54600" y="476892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54600" y="54007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3960" y="5400720"/>
            <a:ext cx="1438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02160" y="476892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02160" y="5400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5400720"/>
            <a:ext cx="1438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48640" y="4768920"/>
            <a:ext cx="93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48640" y="54007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5400720"/>
            <a:ext cx="14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98000" y="4768920"/>
            <a:ext cx="792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98000" y="5400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98000" y="5400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1440" y="5559120"/>
            <a:ext cx="3794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arden, Friedman &amp; Russell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* Stren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7720" y="358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77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07360" y="487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19000" y="19980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policy search for pursuer ev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57160" y="10472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state: measurements of evader position an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ction: accelerati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is a parameterized non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optimal pursuer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232080" y="4767120"/>
            <a:ext cx="1271520" cy="29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212640" y="4270320"/>
            <a:ext cx="1366920" cy="633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22720" y="5234040"/>
            <a:ext cx="1280880" cy="28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3222720" y="3742920"/>
            <a:ext cx="1503360" cy="1042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193560" y="5456160"/>
            <a:ext cx="1484280" cy="69696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03600" y="4754520"/>
            <a:ext cx="768240" cy="762120"/>
            <a:chOff x="4503600" y="4754520"/>
            <a:chExt cx="768240" cy="762120"/>
          </a:xfrm>
        </p:grpSpPr>
        <p:sp>
          <p:nvSpPr>
            <p:cNvPr id="352" name=""/>
            <p:cNvSpPr/>
            <p:nvPr/>
          </p:nvSpPr>
          <p:spPr>
            <a:xfrm>
              <a:off x="4503600" y="4754520"/>
              <a:ext cx="768240" cy="762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30680" y="5008680"/>
              <a:ext cx="512640" cy="25416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cubicBezTo>
                    <a:pt x="76" y="276"/>
                    <a:pt x="152" y="264"/>
                    <a:pt x="192" y="240"/>
                  </a:cubicBezTo>
                  <a:cubicBezTo>
                    <a:pt x="232" y="216"/>
                    <a:pt x="224" y="176"/>
                    <a:pt x="240" y="144"/>
                  </a:cubicBezTo>
                  <a:cubicBezTo>
                    <a:pt x="256" y="112"/>
                    <a:pt x="256" y="72"/>
                    <a:pt x="288" y="48"/>
                  </a:cubicBezTo>
                  <a:cubicBezTo>
                    <a:pt x="320" y="24"/>
                    <a:pt x="408" y="8"/>
                    <a:pt x="43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272200" y="5154480"/>
            <a:ext cx="76824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138720" y="4979880"/>
                <a:ext cx="3286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621240" y="3720960"/>
                <a:ext cx="2966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411360" y="4083120"/>
                <a:ext cx="320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354480" y="4486320"/>
                <a:ext cx="320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344760" y="4897440"/>
                <a:ext cx="320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82920" y="5257800"/>
                <a:ext cx="320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276640" y="3994200"/>
                <a:ext cx="338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286000" y="3505320"/>
                <a:ext cx="338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76640" y="4519440"/>
                <a:ext cx="3380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76640" y="4998960"/>
                <a:ext cx="338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892600" y="5538960"/>
                <a:ext cx="30636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2836800" y="3525840"/>
            <a:ext cx="387360" cy="361800"/>
            <a:chOff x="2836800" y="3525840"/>
            <a:chExt cx="387360" cy="361800"/>
          </a:xfrm>
        </p:grpSpPr>
        <p:sp>
          <p:nvSpPr>
            <p:cNvPr id="367" name=""/>
            <p:cNvSpPr/>
            <p:nvPr/>
          </p:nvSpPr>
          <p:spPr>
            <a:xfrm>
              <a:off x="2836800" y="3525840"/>
              <a:ext cx="387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00880" y="3646440"/>
              <a:ext cx="258480" cy="1206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cubicBezTo>
                    <a:pt x="76" y="276"/>
                    <a:pt x="152" y="264"/>
                    <a:pt x="192" y="240"/>
                  </a:cubicBezTo>
                  <a:cubicBezTo>
                    <a:pt x="232" y="216"/>
                    <a:pt x="224" y="176"/>
                    <a:pt x="240" y="144"/>
                  </a:cubicBezTo>
                  <a:cubicBezTo>
                    <a:pt x="256" y="112"/>
                    <a:pt x="256" y="72"/>
                    <a:pt x="288" y="48"/>
                  </a:cubicBezTo>
                  <a:cubicBezTo>
                    <a:pt x="320" y="24"/>
                    <a:pt x="408" y="8"/>
                    <a:pt x="43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836800" y="4030560"/>
            <a:ext cx="387360" cy="362160"/>
            <a:chOff x="2836800" y="4030560"/>
            <a:chExt cx="387360" cy="362160"/>
          </a:xfrm>
        </p:grpSpPr>
        <p:sp>
          <p:nvSpPr>
            <p:cNvPr id="370" name=""/>
            <p:cNvSpPr/>
            <p:nvPr/>
          </p:nvSpPr>
          <p:spPr>
            <a:xfrm>
              <a:off x="2836800" y="4030560"/>
              <a:ext cx="387360" cy="362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00880" y="4151160"/>
              <a:ext cx="258480" cy="1206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cubicBezTo>
                    <a:pt x="76" y="276"/>
                    <a:pt x="152" y="264"/>
                    <a:pt x="192" y="240"/>
                  </a:cubicBezTo>
                  <a:cubicBezTo>
                    <a:pt x="232" y="216"/>
                    <a:pt x="224" y="176"/>
                    <a:pt x="240" y="144"/>
                  </a:cubicBezTo>
                  <a:cubicBezTo>
                    <a:pt x="256" y="112"/>
                    <a:pt x="256" y="72"/>
                    <a:pt x="288" y="48"/>
                  </a:cubicBezTo>
                  <a:cubicBezTo>
                    <a:pt x="320" y="24"/>
                    <a:pt x="408" y="8"/>
                    <a:pt x="43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36800" y="4545000"/>
            <a:ext cx="387360" cy="361800"/>
            <a:chOff x="2836800" y="4545000"/>
            <a:chExt cx="387360" cy="361800"/>
          </a:xfrm>
        </p:grpSpPr>
        <p:sp>
          <p:nvSpPr>
            <p:cNvPr id="373" name=""/>
            <p:cNvSpPr/>
            <p:nvPr/>
          </p:nvSpPr>
          <p:spPr>
            <a:xfrm>
              <a:off x="2836800" y="4545000"/>
              <a:ext cx="387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00880" y="4665600"/>
              <a:ext cx="258480" cy="1206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cubicBezTo>
                    <a:pt x="76" y="276"/>
                    <a:pt x="152" y="264"/>
                    <a:pt x="192" y="240"/>
                  </a:cubicBezTo>
                  <a:cubicBezTo>
                    <a:pt x="232" y="216"/>
                    <a:pt x="224" y="176"/>
                    <a:pt x="240" y="144"/>
                  </a:cubicBezTo>
                  <a:cubicBezTo>
                    <a:pt x="256" y="112"/>
                    <a:pt x="256" y="72"/>
                    <a:pt x="288" y="48"/>
                  </a:cubicBezTo>
                  <a:cubicBezTo>
                    <a:pt x="320" y="24"/>
                    <a:pt x="408" y="8"/>
                    <a:pt x="43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27440" y="5059440"/>
            <a:ext cx="387360" cy="361800"/>
            <a:chOff x="2827440" y="5059440"/>
            <a:chExt cx="387360" cy="361800"/>
          </a:xfrm>
        </p:grpSpPr>
        <p:sp>
          <p:nvSpPr>
            <p:cNvPr id="376" name=""/>
            <p:cNvSpPr/>
            <p:nvPr/>
          </p:nvSpPr>
          <p:spPr>
            <a:xfrm>
              <a:off x="2827440" y="5059440"/>
              <a:ext cx="387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91520" y="5180040"/>
              <a:ext cx="258480" cy="1206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cubicBezTo>
                    <a:pt x="76" y="276"/>
                    <a:pt x="152" y="264"/>
                    <a:pt x="192" y="240"/>
                  </a:cubicBezTo>
                  <a:cubicBezTo>
                    <a:pt x="232" y="216"/>
                    <a:pt x="224" y="176"/>
                    <a:pt x="240" y="144"/>
                  </a:cubicBezTo>
                  <a:cubicBezTo>
                    <a:pt x="256" y="112"/>
                    <a:pt x="256" y="72"/>
                    <a:pt x="288" y="48"/>
                  </a:cubicBezTo>
                  <a:cubicBezTo>
                    <a:pt x="320" y="24"/>
                    <a:pt x="408" y="8"/>
                    <a:pt x="43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H="1">
            <a:off x="3213000" y="5367240"/>
            <a:ext cx="1376640" cy="343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212920" y="5987880"/>
                <a:ext cx="911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471840" y="5661000"/>
                <a:ext cx="3430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 flipH="1">
            <a:off x="2647440" y="3676680"/>
            <a:ext cx="181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638440" y="4229280"/>
            <a:ext cx="200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638080" y="4743360"/>
            <a:ext cx="1904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638080" y="5267160"/>
            <a:ext cx="181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3520" y="290520"/>
            <a:ext cx="8153280" cy="5850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23880" y="1827360"/>
            <a:ext cx="1981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ursu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al 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D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00600" y="1827360"/>
            <a:ext cx="2438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ursu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 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2D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733920" y="2209680"/>
            <a:ext cx="1295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2209680"/>
            <a:ext cx="129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371240" y="2209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2209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search: single pursu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71840" y="129528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3606480" y="55900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200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ware pursuers, symmetrical poli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603800" y="5485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40120" y="54853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200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 &amp;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-and-error in a real system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with a cheap model (e.g. CMU autonomous helicop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with a very cheap model (a high fidelity sim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ous to human learning in a fligh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RL now viable for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theory developed in last 1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have got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ha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ware pursuers, asymmetric poli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2971800" y="57139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further 400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01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perform direct policy sear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Procedures for Polic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 Simplex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statistical tests for comparing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earch = stochastic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ric &amp; non-parametric paire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Pega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paire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paired tests speed-up learn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424080" y="-117720"/>
            <a:ext cx="8078400" cy="7467840"/>
            <a:chOff x="424080" y="-117720"/>
            <a:chExt cx="8078400" cy="7467840"/>
          </a:xfrm>
        </p:grpSpPr>
        <p:sp>
          <p:nvSpPr>
            <p:cNvPr id="406" name=""/>
            <p:cNvSpPr/>
            <p:nvPr/>
          </p:nvSpPr>
          <p:spPr>
            <a:xfrm rot="19440000">
              <a:off x="2057400" y="2437920"/>
              <a:ext cx="4952880" cy="2133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9440000">
              <a:off x="2971440" y="3048120"/>
              <a:ext cx="3124080" cy="838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9440000">
              <a:off x="3809880" y="3276360"/>
              <a:ext cx="1344600" cy="37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9440000">
              <a:off x="990360" y="1523880"/>
              <a:ext cx="6945120" cy="4184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hill Simplex Method (Amoeb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428640" y="3124080"/>
            <a:ext cx="152640" cy="152280"/>
            <a:chOff x="3428640" y="3124080"/>
            <a:chExt cx="152640" cy="152280"/>
          </a:xfrm>
        </p:grpSpPr>
        <p:sp>
          <p:nvSpPr>
            <p:cNvPr id="412" name=""/>
            <p:cNvSpPr/>
            <p:nvPr/>
          </p:nvSpPr>
          <p:spPr>
            <a:xfrm>
              <a:off x="3429000" y="31240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8640" y="31240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419360" y="2895480"/>
            <a:ext cx="152640" cy="152280"/>
            <a:chOff x="4419360" y="2895480"/>
            <a:chExt cx="152640" cy="152280"/>
          </a:xfrm>
        </p:grpSpPr>
        <p:sp>
          <p:nvSpPr>
            <p:cNvPr id="415" name=""/>
            <p:cNvSpPr/>
            <p:nvPr/>
          </p:nvSpPr>
          <p:spPr>
            <a:xfrm>
              <a:off x="4419720" y="28954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419360" y="28954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360" y="3657600"/>
            <a:ext cx="152640" cy="152280"/>
            <a:chOff x="4419360" y="3657600"/>
            <a:chExt cx="152640" cy="152280"/>
          </a:xfrm>
        </p:grpSpPr>
        <p:sp>
          <p:nvSpPr>
            <p:cNvPr id="418" name=""/>
            <p:cNvSpPr/>
            <p:nvPr/>
          </p:nvSpPr>
          <p:spPr>
            <a:xfrm>
              <a:off x="4419720" y="36576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419360" y="36576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800240" y="3276720"/>
            <a:ext cx="152640" cy="152280"/>
            <a:chOff x="4800240" y="3276720"/>
            <a:chExt cx="152640" cy="152280"/>
          </a:xfrm>
        </p:grpSpPr>
        <p:sp>
          <p:nvSpPr>
            <p:cNvPr id="421" name=""/>
            <p:cNvSpPr/>
            <p:nvPr/>
          </p:nvSpPr>
          <p:spPr>
            <a:xfrm>
              <a:off x="4800600" y="32767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800240" y="32767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495320" y="3276720"/>
            <a:ext cx="152640" cy="152280"/>
            <a:chOff x="4495320" y="3276720"/>
            <a:chExt cx="152640" cy="152280"/>
          </a:xfrm>
        </p:grpSpPr>
        <p:sp>
          <p:nvSpPr>
            <p:cNvPr id="424" name=""/>
            <p:cNvSpPr/>
            <p:nvPr/>
          </p:nvSpPr>
          <p:spPr>
            <a:xfrm>
              <a:off x="4495680" y="32767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495320" y="32767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124080" y="2209680"/>
            <a:ext cx="381240" cy="990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2819520"/>
            <a:ext cx="1676160" cy="15228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2590920"/>
            <a:ext cx="761760" cy="1143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200400"/>
            <a:ext cx="1371600" cy="15228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2971800"/>
            <a:ext cx="76320" cy="380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2840" y="2133720"/>
            <a:ext cx="1067040" cy="761760"/>
            <a:chOff x="2742840" y="2133720"/>
            <a:chExt cx="1067040" cy="761760"/>
          </a:xfrm>
        </p:grpSpPr>
        <p:grpSp>
          <p:nvGrpSpPr>
            <p:cNvPr id="432" name=""/>
            <p:cNvGrpSpPr/>
            <p:nvPr/>
          </p:nvGrpSpPr>
          <p:grpSpPr>
            <a:xfrm>
              <a:off x="3047760" y="2133720"/>
              <a:ext cx="152640" cy="152280"/>
              <a:chOff x="3047760" y="2133720"/>
              <a:chExt cx="152640" cy="152280"/>
            </a:xfrm>
          </p:grpSpPr>
          <p:sp>
            <p:nvSpPr>
              <p:cNvPr id="433" name=""/>
              <p:cNvSpPr/>
              <p:nvPr/>
            </p:nvSpPr>
            <p:spPr>
              <a:xfrm>
                <a:off x="3048120" y="2133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047760" y="2133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742840" y="2743200"/>
              <a:ext cx="152640" cy="152280"/>
              <a:chOff x="2742840" y="2743200"/>
              <a:chExt cx="152640" cy="152280"/>
            </a:xfrm>
          </p:grpSpPr>
          <p:sp>
            <p:nvSpPr>
              <p:cNvPr id="436" name=""/>
              <p:cNvSpPr/>
              <p:nvPr/>
            </p:nvSpPr>
            <p:spPr>
              <a:xfrm>
                <a:off x="274320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274284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657240" y="2514600"/>
              <a:ext cx="152640" cy="152280"/>
              <a:chOff x="3657240" y="2514600"/>
              <a:chExt cx="152640" cy="152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3657240" y="25146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 flipH="1">
              <a:off x="2819520" y="2590920"/>
              <a:ext cx="9144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819520" y="2209680"/>
              <a:ext cx="304560" cy="609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24080" y="2209680"/>
              <a:ext cx="60984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00040" y="-193680"/>
            <a:ext cx="8078400" cy="7467840"/>
            <a:chOff x="500040" y="-193680"/>
            <a:chExt cx="8078400" cy="7467840"/>
          </a:xfrm>
        </p:grpSpPr>
        <p:sp>
          <p:nvSpPr>
            <p:cNvPr id="446" name=""/>
            <p:cNvSpPr/>
            <p:nvPr/>
          </p:nvSpPr>
          <p:spPr>
            <a:xfrm rot="19440000">
              <a:off x="2133360" y="2361960"/>
              <a:ext cx="4952880" cy="2133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9440000">
              <a:off x="3047400" y="2972160"/>
              <a:ext cx="3124080" cy="838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9440000">
              <a:off x="3885840" y="3200400"/>
              <a:ext cx="1344600" cy="37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9440000">
              <a:off x="1066320" y="1447920"/>
              <a:ext cx="6945120" cy="4184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580760" y="1305000"/>
            <a:ext cx="5791680" cy="4419000"/>
            <a:chOff x="1580760" y="1305000"/>
            <a:chExt cx="5791680" cy="4419000"/>
          </a:xfrm>
        </p:grpSpPr>
        <p:grpSp>
          <p:nvGrpSpPr>
            <p:cNvPr id="451" name=""/>
            <p:cNvGrpSpPr/>
            <p:nvPr/>
          </p:nvGrpSpPr>
          <p:grpSpPr>
            <a:xfrm>
              <a:off x="1657080" y="5495760"/>
              <a:ext cx="152640" cy="151920"/>
              <a:chOff x="1657080" y="5495760"/>
              <a:chExt cx="152640" cy="151920"/>
            </a:xfrm>
          </p:grpSpPr>
          <p:sp>
            <p:nvSpPr>
              <p:cNvPr id="452" name=""/>
              <p:cNvSpPr/>
              <p:nvPr/>
            </p:nvSpPr>
            <p:spPr>
              <a:xfrm>
                <a:off x="1657440" y="54957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657080" y="54957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162400" y="2219040"/>
              <a:ext cx="152640" cy="152280"/>
              <a:chOff x="5162400" y="2219040"/>
              <a:chExt cx="152640" cy="152280"/>
            </a:xfrm>
          </p:grpSpPr>
          <p:sp>
            <p:nvSpPr>
              <p:cNvPr id="455" name=""/>
              <p:cNvSpPr/>
              <p:nvPr/>
            </p:nvSpPr>
            <p:spPr>
              <a:xfrm>
                <a:off x="5162760" y="22190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162400" y="22190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009760" y="3971880"/>
              <a:ext cx="152640" cy="151920"/>
              <a:chOff x="5009760" y="3971880"/>
              <a:chExt cx="152640" cy="151920"/>
            </a:xfrm>
          </p:grpSpPr>
          <p:sp>
            <p:nvSpPr>
              <p:cNvPr id="458" name=""/>
              <p:cNvSpPr/>
              <p:nvPr/>
            </p:nvSpPr>
            <p:spPr>
              <a:xfrm>
                <a:off x="5010120" y="39718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009760" y="39718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571480" y="1533240"/>
              <a:ext cx="152640" cy="152280"/>
              <a:chOff x="2571480" y="1533240"/>
              <a:chExt cx="1526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2571840" y="15332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571480" y="15332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219800" y="3286080"/>
              <a:ext cx="152640" cy="151920"/>
              <a:chOff x="7219800" y="3286080"/>
              <a:chExt cx="152640" cy="151920"/>
            </a:xfrm>
          </p:grpSpPr>
          <p:sp>
            <p:nvSpPr>
              <p:cNvPr id="464" name=""/>
              <p:cNvSpPr/>
              <p:nvPr/>
            </p:nvSpPr>
            <p:spPr>
              <a:xfrm>
                <a:off x="7220160" y="32860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219800" y="32860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152760" y="1305000"/>
              <a:ext cx="152640" cy="152280"/>
              <a:chOff x="6152760" y="1305000"/>
              <a:chExt cx="152640" cy="152280"/>
            </a:xfrm>
          </p:grpSpPr>
          <p:sp>
            <p:nvSpPr>
              <p:cNvPr id="467" name=""/>
              <p:cNvSpPr/>
              <p:nvPr/>
            </p:nvSpPr>
            <p:spPr>
              <a:xfrm>
                <a:off x="6153120" y="1305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152760" y="1305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580760" y="2447640"/>
              <a:ext cx="152640" cy="152280"/>
              <a:chOff x="1580760" y="2447640"/>
              <a:chExt cx="152640" cy="152280"/>
            </a:xfrm>
          </p:grpSpPr>
          <p:sp>
            <p:nvSpPr>
              <p:cNvPr id="470" name=""/>
              <p:cNvSpPr/>
              <p:nvPr/>
            </p:nvSpPr>
            <p:spPr>
              <a:xfrm>
                <a:off x="1581120" y="24476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580760" y="24476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6838560" y="5572080"/>
              <a:ext cx="152640" cy="151920"/>
              <a:chOff x="6838560" y="5572080"/>
              <a:chExt cx="152640" cy="151920"/>
            </a:xfrm>
          </p:grpSpPr>
          <p:sp>
            <p:nvSpPr>
              <p:cNvPr id="473" name=""/>
              <p:cNvSpPr/>
              <p:nvPr/>
            </p:nvSpPr>
            <p:spPr>
              <a:xfrm>
                <a:off x="6838920" y="55720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838560" y="55720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152760" y="3133440"/>
              <a:ext cx="152640" cy="152280"/>
              <a:chOff x="6152760" y="3133440"/>
              <a:chExt cx="152640" cy="152280"/>
            </a:xfrm>
          </p:grpSpPr>
          <p:sp>
            <p:nvSpPr>
              <p:cNvPr id="476" name=""/>
              <p:cNvSpPr/>
              <p:nvPr/>
            </p:nvSpPr>
            <p:spPr>
              <a:xfrm>
                <a:off x="6153120" y="31334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152760" y="313344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076800" y="5038560"/>
              <a:ext cx="152640" cy="151920"/>
              <a:chOff x="6076800" y="5038560"/>
              <a:chExt cx="152640" cy="151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077160" y="50385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076800" y="50385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105000" y="1457280"/>
              <a:ext cx="152640" cy="151920"/>
              <a:chOff x="3105000" y="1457280"/>
              <a:chExt cx="152640" cy="151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105360" y="14572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105000" y="145728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485880" y="3438360"/>
              <a:ext cx="152640" cy="151920"/>
              <a:chOff x="3485880" y="3438360"/>
              <a:chExt cx="152640" cy="151920"/>
            </a:xfrm>
          </p:grpSpPr>
          <p:sp>
            <p:nvSpPr>
              <p:cNvPr id="485" name=""/>
              <p:cNvSpPr/>
              <p:nvPr/>
            </p:nvSpPr>
            <p:spPr>
              <a:xfrm>
                <a:off x="3486240" y="34383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3485880" y="34383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3562200" y="5038560"/>
              <a:ext cx="152640" cy="151920"/>
              <a:chOff x="3562200" y="5038560"/>
              <a:chExt cx="152640" cy="151920"/>
            </a:xfrm>
          </p:grpSpPr>
          <p:sp>
            <p:nvSpPr>
              <p:cNvPr id="488" name=""/>
              <p:cNvSpPr/>
              <p:nvPr/>
            </p:nvSpPr>
            <p:spPr>
              <a:xfrm>
                <a:off x="3562560" y="50385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562200" y="5038560"/>
                <a:ext cx="152280" cy="151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876320" y="1581120"/>
            <a:ext cx="4496040" cy="4267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285640" y="1905120"/>
            <a:ext cx="4038840" cy="3504960"/>
            <a:chOff x="2285640" y="1905120"/>
            <a:chExt cx="4038840" cy="3504960"/>
          </a:xfrm>
        </p:grpSpPr>
        <p:grpSp>
          <p:nvGrpSpPr>
            <p:cNvPr id="492" name=""/>
            <p:cNvGrpSpPr/>
            <p:nvPr/>
          </p:nvGrpSpPr>
          <p:grpSpPr>
            <a:xfrm>
              <a:off x="4419360" y="3657600"/>
              <a:ext cx="152640" cy="152280"/>
              <a:chOff x="4419360" y="3657600"/>
              <a:chExt cx="152640" cy="152280"/>
            </a:xfrm>
          </p:grpSpPr>
          <p:sp>
            <p:nvSpPr>
              <p:cNvPr id="493" name=""/>
              <p:cNvSpPr/>
              <p:nvPr/>
            </p:nvSpPr>
            <p:spPr>
              <a:xfrm>
                <a:off x="4419720" y="36576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4419360" y="36576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52320" y="2362320"/>
              <a:ext cx="152640" cy="152280"/>
              <a:chOff x="3352320" y="2362320"/>
              <a:chExt cx="152640" cy="152280"/>
            </a:xfrm>
          </p:grpSpPr>
          <p:sp>
            <p:nvSpPr>
              <p:cNvPr id="496" name=""/>
              <p:cNvSpPr/>
              <p:nvPr/>
            </p:nvSpPr>
            <p:spPr>
              <a:xfrm>
                <a:off x="3352680" y="23623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3352320" y="23623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638320" y="2286000"/>
              <a:ext cx="152640" cy="152280"/>
              <a:chOff x="5638320" y="2286000"/>
              <a:chExt cx="152640" cy="152280"/>
            </a:xfrm>
          </p:grpSpPr>
          <p:sp>
            <p:nvSpPr>
              <p:cNvPr id="499" name=""/>
              <p:cNvSpPr/>
              <p:nvPr/>
            </p:nvSpPr>
            <p:spPr>
              <a:xfrm>
                <a:off x="5638680" y="2286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38320" y="2286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495320" y="5257800"/>
              <a:ext cx="152640" cy="152280"/>
              <a:chOff x="4495320" y="5257800"/>
              <a:chExt cx="152640" cy="152280"/>
            </a:xfrm>
          </p:grpSpPr>
          <p:sp>
            <p:nvSpPr>
              <p:cNvPr id="502" name=""/>
              <p:cNvSpPr/>
              <p:nvPr/>
            </p:nvSpPr>
            <p:spPr>
              <a:xfrm>
                <a:off x="4495680" y="52578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4495320" y="52578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095520" y="3962520"/>
              <a:ext cx="152640" cy="152280"/>
              <a:chOff x="6095520" y="3962520"/>
              <a:chExt cx="152640" cy="152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09588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09552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361960" y="3733920"/>
              <a:ext cx="152640" cy="152280"/>
              <a:chOff x="2361960" y="3733920"/>
              <a:chExt cx="152640" cy="152280"/>
            </a:xfrm>
          </p:grpSpPr>
          <p:sp>
            <p:nvSpPr>
              <p:cNvPr id="508" name=""/>
              <p:cNvSpPr/>
              <p:nvPr/>
            </p:nvSpPr>
            <p:spPr>
              <a:xfrm>
                <a:off x="2362320" y="37339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61960" y="37339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266720" y="1905120"/>
              <a:ext cx="152640" cy="152280"/>
              <a:chOff x="4266720" y="1905120"/>
              <a:chExt cx="152640" cy="152280"/>
            </a:xfrm>
          </p:grpSpPr>
          <p:sp>
            <p:nvSpPr>
              <p:cNvPr id="511" name=""/>
              <p:cNvSpPr/>
              <p:nvPr/>
            </p:nvSpPr>
            <p:spPr>
              <a:xfrm>
                <a:off x="4267080" y="19051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4266720" y="19051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971440" y="4419720"/>
              <a:ext cx="152640" cy="152280"/>
              <a:chOff x="2971440" y="4419720"/>
              <a:chExt cx="152640" cy="152280"/>
            </a:xfrm>
          </p:grpSpPr>
          <p:sp>
            <p:nvSpPr>
              <p:cNvPr id="514" name=""/>
              <p:cNvSpPr/>
              <p:nvPr/>
            </p:nvSpPr>
            <p:spPr>
              <a:xfrm>
                <a:off x="2971800" y="4419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2971440" y="4419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343040" y="2743200"/>
              <a:ext cx="152640" cy="152280"/>
              <a:chOff x="4343040" y="2743200"/>
              <a:chExt cx="152640" cy="152280"/>
            </a:xfrm>
          </p:grpSpPr>
          <p:sp>
            <p:nvSpPr>
              <p:cNvPr id="517" name=""/>
              <p:cNvSpPr/>
              <p:nvPr/>
            </p:nvSpPr>
            <p:spPr>
              <a:xfrm>
                <a:off x="434340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34304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647960" y="3276720"/>
              <a:ext cx="152640" cy="152280"/>
              <a:chOff x="4647960" y="3276720"/>
              <a:chExt cx="152640" cy="152280"/>
            </a:xfrm>
          </p:grpSpPr>
          <p:sp>
            <p:nvSpPr>
              <p:cNvPr id="520" name=""/>
              <p:cNvSpPr/>
              <p:nvPr/>
            </p:nvSpPr>
            <p:spPr>
              <a:xfrm>
                <a:off x="4648320" y="3276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4647960" y="3276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733560" y="3962520"/>
              <a:ext cx="152640" cy="152280"/>
              <a:chOff x="3733560" y="3962520"/>
              <a:chExt cx="152640" cy="152280"/>
            </a:xfrm>
          </p:grpSpPr>
          <p:sp>
            <p:nvSpPr>
              <p:cNvPr id="523" name=""/>
              <p:cNvSpPr/>
              <p:nvPr/>
            </p:nvSpPr>
            <p:spPr>
              <a:xfrm>
                <a:off x="373392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373356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181120" y="2895480"/>
              <a:ext cx="152640" cy="152280"/>
              <a:chOff x="5181120" y="2895480"/>
              <a:chExt cx="152640" cy="152280"/>
            </a:xfrm>
          </p:grpSpPr>
          <p:sp>
            <p:nvSpPr>
              <p:cNvPr id="526" name=""/>
              <p:cNvSpPr/>
              <p:nvPr/>
            </p:nvSpPr>
            <p:spPr>
              <a:xfrm>
                <a:off x="5181480" y="2895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181120" y="2895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285640" y="2209680"/>
              <a:ext cx="152640" cy="152280"/>
              <a:chOff x="2285640" y="2209680"/>
              <a:chExt cx="152640" cy="152280"/>
            </a:xfrm>
          </p:grpSpPr>
          <p:sp>
            <p:nvSpPr>
              <p:cNvPr id="529" name=""/>
              <p:cNvSpPr/>
              <p:nvPr/>
            </p:nvSpPr>
            <p:spPr>
              <a:xfrm>
                <a:off x="2286000" y="22096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285640" y="22096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171840" y="4572000"/>
              <a:ext cx="152640" cy="152280"/>
              <a:chOff x="6171840" y="4572000"/>
              <a:chExt cx="152640" cy="152280"/>
            </a:xfrm>
          </p:grpSpPr>
          <p:sp>
            <p:nvSpPr>
              <p:cNvPr id="532" name=""/>
              <p:cNvSpPr/>
              <p:nvPr/>
            </p:nvSpPr>
            <p:spPr>
              <a:xfrm>
                <a:off x="6172200" y="4572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171840" y="4572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590560" y="5181480"/>
              <a:ext cx="152640" cy="152280"/>
              <a:chOff x="2590560" y="5181480"/>
              <a:chExt cx="152640" cy="152280"/>
            </a:xfrm>
          </p:grpSpPr>
          <p:sp>
            <p:nvSpPr>
              <p:cNvPr id="535" name=""/>
              <p:cNvSpPr/>
              <p:nvPr/>
            </p:nvSpPr>
            <p:spPr>
              <a:xfrm>
                <a:off x="2590920" y="5181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590560" y="5181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3352680" y="2133720"/>
            <a:ext cx="2819520" cy="25905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86200" y="2590920"/>
            <a:ext cx="1752480" cy="15238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114440" y="2286000"/>
            <a:ext cx="1905120" cy="2286000"/>
            <a:chOff x="4114440" y="2286000"/>
            <a:chExt cx="1905120" cy="2286000"/>
          </a:xfrm>
        </p:grpSpPr>
        <p:grpSp>
          <p:nvGrpSpPr>
            <p:cNvPr id="540" name=""/>
            <p:cNvGrpSpPr/>
            <p:nvPr/>
          </p:nvGrpSpPr>
          <p:grpSpPr>
            <a:xfrm>
              <a:off x="4114440" y="2286000"/>
              <a:ext cx="152640" cy="152280"/>
              <a:chOff x="4114440" y="2286000"/>
              <a:chExt cx="152640" cy="15228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4800" y="2286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4114440" y="2286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266720" y="4267080"/>
              <a:ext cx="152640" cy="152280"/>
              <a:chOff x="4266720" y="4267080"/>
              <a:chExt cx="152640" cy="152280"/>
            </a:xfrm>
          </p:grpSpPr>
          <p:sp>
            <p:nvSpPr>
              <p:cNvPr id="544" name=""/>
              <p:cNvSpPr/>
              <p:nvPr/>
            </p:nvSpPr>
            <p:spPr>
              <a:xfrm>
                <a:off x="4267080" y="42670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266720" y="42670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05160" y="3352680"/>
              <a:ext cx="152640" cy="152280"/>
              <a:chOff x="5105160" y="3352680"/>
              <a:chExt cx="152640" cy="152280"/>
            </a:xfrm>
          </p:grpSpPr>
          <p:sp>
            <p:nvSpPr>
              <p:cNvPr id="547" name=""/>
              <p:cNvSpPr/>
              <p:nvPr/>
            </p:nvSpPr>
            <p:spPr>
              <a:xfrm>
                <a:off x="5105520" y="33526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105160" y="33526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866920" y="2743200"/>
              <a:ext cx="152640" cy="152280"/>
              <a:chOff x="5866920" y="2743200"/>
              <a:chExt cx="152640" cy="152280"/>
            </a:xfrm>
          </p:grpSpPr>
          <p:sp>
            <p:nvSpPr>
              <p:cNvPr id="550" name=""/>
              <p:cNvSpPr/>
              <p:nvPr/>
            </p:nvSpPr>
            <p:spPr>
              <a:xfrm>
                <a:off x="586728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86692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638320" y="3581280"/>
              <a:ext cx="152640" cy="152280"/>
              <a:chOff x="5638320" y="3581280"/>
              <a:chExt cx="152640" cy="1522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38680" y="35812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638320" y="35812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790960" y="4419720"/>
              <a:ext cx="152640" cy="152280"/>
              <a:chOff x="5790960" y="4419720"/>
              <a:chExt cx="152640" cy="152280"/>
            </a:xfrm>
          </p:grpSpPr>
          <p:sp>
            <p:nvSpPr>
              <p:cNvPr id="556" name=""/>
              <p:cNvSpPr/>
              <p:nvPr/>
            </p:nvSpPr>
            <p:spPr>
              <a:xfrm>
                <a:off x="5791320" y="4419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790960" y="44197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876560" y="2743200"/>
              <a:ext cx="152640" cy="152280"/>
              <a:chOff x="4876560" y="2743200"/>
              <a:chExt cx="152640" cy="152280"/>
            </a:xfrm>
          </p:grpSpPr>
          <p:sp>
            <p:nvSpPr>
              <p:cNvPr id="559" name=""/>
              <p:cNvSpPr/>
              <p:nvPr/>
            </p:nvSpPr>
            <p:spPr>
              <a:xfrm>
                <a:off x="487692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4876560" y="27432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028840" y="3733920"/>
              <a:ext cx="152640" cy="152280"/>
              <a:chOff x="5028840" y="3733920"/>
              <a:chExt cx="152640" cy="152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028840" y="37339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3809520" y="2666880"/>
            <a:ext cx="1752840" cy="1295280"/>
            <a:chOff x="3809520" y="2666880"/>
            <a:chExt cx="1752840" cy="1295280"/>
          </a:xfrm>
        </p:grpSpPr>
        <p:grpSp>
          <p:nvGrpSpPr>
            <p:cNvPr id="565" name=""/>
            <p:cNvGrpSpPr/>
            <p:nvPr/>
          </p:nvGrpSpPr>
          <p:grpSpPr>
            <a:xfrm>
              <a:off x="4419360" y="3200400"/>
              <a:ext cx="152640" cy="152280"/>
              <a:chOff x="4419360" y="320040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4419720" y="32004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419360" y="32004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09520" y="2895480"/>
              <a:ext cx="152640" cy="152280"/>
              <a:chOff x="3809520" y="2895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3809880" y="2895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809520" y="28954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114440" y="3429000"/>
              <a:ext cx="152640" cy="152280"/>
              <a:chOff x="4114440" y="3429000"/>
              <a:chExt cx="15264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411480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411444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419360" y="3429000"/>
              <a:ext cx="152640" cy="152280"/>
              <a:chOff x="4419360" y="3429000"/>
              <a:chExt cx="152640" cy="152280"/>
            </a:xfrm>
          </p:grpSpPr>
          <p:sp>
            <p:nvSpPr>
              <p:cNvPr id="575" name=""/>
              <p:cNvSpPr/>
              <p:nvPr/>
            </p:nvSpPr>
            <p:spPr>
              <a:xfrm>
                <a:off x="441972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41936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800240" y="3429000"/>
              <a:ext cx="152640" cy="152280"/>
              <a:chOff x="4800240" y="3429000"/>
              <a:chExt cx="152640" cy="152280"/>
            </a:xfrm>
          </p:grpSpPr>
          <p:sp>
            <p:nvSpPr>
              <p:cNvPr id="578" name=""/>
              <p:cNvSpPr/>
              <p:nvPr/>
            </p:nvSpPr>
            <p:spPr>
              <a:xfrm>
                <a:off x="480060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4800240" y="342900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4723920" y="3581280"/>
              <a:ext cx="152640" cy="152280"/>
              <a:chOff x="4723920" y="3581280"/>
              <a:chExt cx="152640" cy="152280"/>
            </a:xfrm>
          </p:grpSpPr>
          <p:sp>
            <p:nvSpPr>
              <p:cNvPr id="581" name=""/>
              <p:cNvSpPr/>
              <p:nvPr/>
            </p:nvSpPr>
            <p:spPr>
              <a:xfrm>
                <a:off x="4724280" y="35812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4723920" y="35812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800240" y="3048120"/>
              <a:ext cx="152640" cy="152280"/>
              <a:chOff x="4800240" y="3048120"/>
              <a:chExt cx="152640" cy="152280"/>
            </a:xfrm>
          </p:grpSpPr>
          <p:sp>
            <p:nvSpPr>
              <p:cNvPr id="584" name=""/>
              <p:cNvSpPr/>
              <p:nvPr/>
            </p:nvSpPr>
            <p:spPr>
              <a:xfrm>
                <a:off x="4800600" y="30481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800240" y="304812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114440" y="2666880"/>
              <a:ext cx="152640" cy="152280"/>
              <a:chOff x="4114440" y="26668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4114800" y="2666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14440" y="2666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114440" y="3809880"/>
              <a:ext cx="152640" cy="152280"/>
              <a:chOff x="4114440" y="38098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4114800" y="3809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114440" y="3809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257440" y="3809880"/>
              <a:ext cx="152640" cy="152280"/>
              <a:chOff x="5257440" y="38098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5257800" y="3809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257440" y="38098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409720" y="3124080"/>
              <a:ext cx="152640" cy="152280"/>
              <a:chOff x="5409720" y="3124080"/>
              <a:chExt cx="152640" cy="152280"/>
            </a:xfrm>
          </p:grpSpPr>
          <p:sp>
            <p:nvSpPr>
              <p:cNvPr id="596" name=""/>
              <p:cNvSpPr/>
              <p:nvPr/>
            </p:nvSpPr>
            <p:spPr>
              <a:xfrm>
                <a:off x="5410080" y="31240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409720" y="3124080"/>
                <a:ext cx="15228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914400" y="838080"/>
            <a:ext cx="7238880" cy="54104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8001000" y="4038480"/>
            <a:ext cx="15228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l Ev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pulation of search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candidate for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vector differences between 2 more pairs of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he weighted differences to a random parent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rossover between this and the cand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whether the proposal is better than the cand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29040" y="3048120"/>
            <a:ext cx="152640" cy="152280"/>
            <a:chOff x="6629040" y="3048120"/>
            <a:chExt cx="152640" cy="152280"/>
          </a:xfrm>
        </p:grpSpPr>
        <p:sp>
          <p:nvSpPr>
            <p:cNvPr id="603" name=""/>
            <p:cNvSpPr/>
            <p:nvPr/>
          </p:nvSpPr>
          <p:spPr>
            <a:xfrm>
              <a:off x="6629400" y="30481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629040" y="30481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162560" y="3200400"/>
            <a:ext cx="152640" cy="152280"/>
            <a:chOff x="7162560" y="320040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7162920" y="32004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162560" y="32004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7162560" y="4191120"/>
            <a:ext cx="152640" cy="152280"/>
            <a:chOff x="7162560" y="4191120"/>
            <a:chExt cx="152640" cy="152280"/>
          </a:xfrm>
        </p:grpSpPr>
        <p:sp>
          <p:nvSpPr>
            <p:cNvPr id="609" name=""/>
            <p:cNvSpPr/>
            <p:nvPr/>
          </p:nvSpPr>
          <p:spPr>
            <a:xfrm>
              <a:off x="7162920" y="41911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162560" y="41911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467120" y="2514600"/>
            <a:ext cx="152640" cy="152280"/>
            <a:chOff x="7467120" y="251460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7467480" y="25146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467120" y="25146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095520" y="3581280"/>
            <a:ext cx="152640" cy="152280"/>
            <a:chOff x="6095520" y="3581280"/>
            <a:chExt cx="152640" cy="152280"/>
          </a:xfrm>
        </p:grpSpPr>
        <p:sp>
          <p:nvSpPr>
            <p:cNvPr id="615" name=""/>
            <p:cNvSpPr/>
            <p:nvPr/>
          </p:nvSpPr>
          <p:spPr>
            <a:xfrm>
              <a:off x="609588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09552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933960" y="3581280"/>
            <a:ext cx="152640" cy="152280"/>
            <a:chOff x="6933960" y="3581280"/>
            <a:chExt cx="152640" cy="152280"/>
          </a:xfrm>
        </p:grpSpPr>
        <p:sp>
          <p:nvSpPr>
            <p:cNvPr id="618" name=""/>
            <p:cNvSpPr/>
            <p:nvPr/>
          </p:nvSpPr>
          <p:spPr>
            <a:xfrm>
              <a:off x="693432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93396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924320" y="3962520"/>
            <a:ext cx="152640" cy="152280"/>
            <a:chOff x="7924320" y="3962520"/>
            <a:chExt cx="152640" cy="152280"/>
          </a:xfrm>
        </p:grpSpPr>
        <p:sp>
          <p:nvSpPr>
            <p:cNvPr id="621" name=""/>
            <p:cNvSpPr/>
            <p:nvPr/>
          </p:nvSpPr>
          <p:spPr>
            <a:xfrm>
              <a:off x="7924680" y="39625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924320" y="396252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772040" y="2971800"/>
            <a:ext cx="152640" cy="152280"/>
            <a:chOff x="7772040" y="297180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772400" y="29718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72040" y="297180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467120" y="3581280"/>
            <a:ext cx="152640" cy="152280"/>
            <a:chOff x="7467120" y="3581280"/>
            <a:chExt cx="152640" cy="152280"/>
          </a:xfrm>
        </p:grpSpPr>
        <p:sp>
          <p:nvSpPr>
            <p:cNvPr id="627" name=""/>
            <p:cNvSpPr/>
            <p:nvPr/>
          </p:nvSpPr>
          <p:spPr>
            <a:xfrm>
              <a:off x="746748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467120" y="3581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933960" y="2438280"/>
            <a:ext cx="152640" cy="152280"/>
            <a:chOff x="6933960" y="2438280"/>
            <a:chExt cx="152640" cy="152280"/>
          </a:xfrm>
        </p:grpSpPr>
        <p:sp>
          <p:nvSpPr>
            <p:cNvPr id="630" name=""/>
            <p:cNvSpPr/>
            <p:nvPr/>
          </p:nvSpPr>
          <p:spPr>
            <a:xfrm>
              <a:off x="6934320" y="2438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933960" y="2438280"/>
              <a:ext cx="1522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 flipH="1">
            <a:off x="7238880" y="3048120"/>
            <a:ext cx="60984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5720" y="3124080"/>
            <a:ext cx="304560" cy="533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7720" y="3885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8600" y="3656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848720" y="4343400"/>
            <a:ext cx="304560" cy="152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162560" y="4419720"/>
            <a:ext cx="152640" cy="152280"/>
            <a:chOff x="7162560" y="4419720"/>
            <a:chExt cx="152640" cy="152280"/>
          </a:xfrm>
        </p:grpSpPr>
        <p:sp>
          <p:nvSpPr>
            <p:cNvPr id="638" name=""/>
            <p:cNvSpPr/>
            <p:nvPr/>
          </p:nvSpPr>
          <p:spPr>
            <a:xfrm>
              <a:off x="7162920" y="4419720"/>
              <a:ext cx="152280" cy="152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162560" y="4419720"/>
              <a:ext cx="152280" cy="152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772040" y="4419720"/>
            <a:ext cx="152640" cy="152280"/>
            <a:chOff x="7772040" y="441972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772400" y="4419720"/>
              <a:ext cx="15228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772040" y="4419720"/>
              <a:ext cx="15228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H="1">
            <a:off x="7238880" y="4495680"/>
            <a:ext cx="609840" cy="0"/>
          </a:xfrm>
          <a:prstGeom prst="line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7238880" y="4266720"/>
            <a:ext cx="0" cy="228600"/>
          </a:xfrm>
          <a:prstGeom prst="line">
            <a:avLst/>
          </a:prstGeom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4040" y="4494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7619760" y="457200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7720" y="4952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rom a simulation t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hidden) starting stat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number seque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objectiv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y objec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GASUS 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search = stochastic optim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978440" y="3314880"/>
            <a:ext cx="3505320" cy="8143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462240" cy="434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4952880" y="2209680"/>
            <a:ext cx="642960" cy="4748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4952880" y="2590920"/>
            <a:ext cx="752760" cy="476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4927680" y="5041800"/>
            <a:ext cx="3886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610080" y="1467000"/>
            <a:ext cx="9360" cy="42670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67400" y="1467000"/>
            <a:ext cx="9360" cy="42670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comparis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ials per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828800" y="1371240"/>
            <a:ext cx="0" cy="4267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6040" y="2513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505320" y="57913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500720" y="579132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828800" y="563868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1280" y="4419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581280" y="3276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81280" y="2133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81280" y="37339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4572000"/>
            <a:ext cx="7632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39625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1280" y="35053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1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34290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3048120"/>
            <a:ext cx="7596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48320" y="38862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8320" y="3505320"/>
            <a:ext cx="7596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43434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48320" y="36576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48320" y="3276720"/>
            <a:ext cx="7596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403848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35812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43400" y="365760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31720" y="342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17120" y="33519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38800" y="49521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9920" y="571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6760" y="571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28120" y="5456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 flipV="1">
            <a:off x="3619440" y="1952640"/>
            <a:ext cx="1047960" cy="2095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10080" y="1467000"/>
            <a:ext cx="9360" cy="42670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67400" y="1467000"/>
            <a:ext cx="9360" cy="426708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comparison: paired scena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828800" y="1371240"/>
            <a:ext cx="0" cy="4267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6040" y="2513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28800" y="563868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4419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3276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21337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37339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4572000"/>
            <a:ext cx="7632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39625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3505320"/>
            <a:ext cx="7632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48320" y="34290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48320" y="3048120"/>
            <a:ext cx="7596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48320" y="38862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48320" y="43434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48320" y="365760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8320" y="3276720"/>
            <a:ext cx="75960" cy="75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648320" y="403848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35812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24320" y="339084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50800" y="3180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7120" y="33519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38800" y="49521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9920" y="571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46760" y="571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29240" y="1914480"/>
            <a:ext cx="75960" cy="7632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610080" y="3086280"/>
            <a:ext cx="1047600" cy="2095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610080" y="3324240"/>
            <a:ext cx="1085760" cy="44784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619440" y="3476520"/>
            <a:ext cx="1067040" cy="52416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10080" y="3524400"/>
            <a:ext cx="1085760" cy="17136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619440" y="3914280"/>
            <a:ext cx="1057320" cy="3906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638520" y="4381200"/>
            <a:ext cx="1047960" cy="666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610080" y="4076640"/>
            <a:ext cx="1057320" cy="5335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28120" y="5456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3505320" y="57913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4500720" y="5778360"/>
                <a:ext cx="353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ing with polic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aris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M, random search, DE, 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not quadratic approximation, simulated annealing, gradien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statist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changes in individuals (e.g. before and after trea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the difference between 2 policies evaluated with same start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calculation of a significance or automatic sele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t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expected difference non-zer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atural statistic; assumes Norm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coxon signed rank sum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arametric: “is the median non-zer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sed, but works with arbitrary symmetrical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7617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comparison: Paired statistical 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2577960" y="2959200"/>
            <a:ext cx="28195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ownhill Simplex Method &amp; Random Searc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rcRect l="0" t="0" r="40750" b="18117"/>
          <a:stretch/>
        </p:blipFill>
        <p:spPr>
          <a:xfrm>
            <a:off x="762120" y="1600200"/>
            <a:ext cx="7848360" cy="292752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ing accelerate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us overfits (to the particular random see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coxon test reduces over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e start states need to be pa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 Generic Problem Descri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or observable, discrete or continu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(contr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or continuous, often arranged in hier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s/penalties (cost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numerical value for goal achie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= discounted reward or average reward per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(strategy/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observed/estimated states to action prob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 problem:  “find the policy that maximizes the expected retur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andom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t test: 99% significance (accept); 90% (re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iv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d on average 24 trials for each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rcRect l="0" t="5394" r="0" b="0"/>
          <a:stretch/>
        </p:blipFill>
        <p:spPr>
          <a:xfrm>
            <a:off x="1219320" y="2362320"/>
            <a:ext cx="57909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t test: 95%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limit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from 16 to 128 dur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151920" y="3805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Downhill Simplex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197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l Evolutio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population has an averaging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only have to be &gt;50%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npaired comparisons: 27%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aired comparisons: 47%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Pegasus scenarios for eve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: find a stochastic optimization procedur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s this population averaging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s more efficient than 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pursuer evader: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ce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trivial cooperative strategies can be learnt very rapi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performance gain against maneuvering targets compared with ‘selfish’ pursu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eness of position of other pursuer improves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is fast with direct polic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 on 12D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ed statistical tests are a powerful tool for accelerating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was faster if policies were initially symmetr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iteration / fictitious play was also highly eff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to 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pace much larger (perhaps 24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ment learning is a practical problem formulation for training autonomous systems to complete complex military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oad range of potential applications has been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pproaches are available; 4 types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olicy search methods are appropriate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licy can be expressed compa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planning / temporal reasoning is not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-based methods are more appropriat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state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requiring extended planning (e.g. navig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ustness guaran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ing applications of 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e-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ammon, ches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from scratch by simulation (win = rew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routing and channe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or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ize average wai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ize average journe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balance and coordination in walking, juggling ro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linear flight controllers for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probl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nable to RL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/automatic control &amp;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(outputs affect subsequent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h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consequences each time an action is t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non-deterministic behavior of an op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-making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quence of actions over a period of time leads to re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 use standard optimization meth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genetic algorithms, gradient descent, heuristic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the cost function is stoch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there is hidden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temporal reasoning is essenti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67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military applications of RL: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 decision-making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ance against reacting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mission/route planning and obstacle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jectory optimization in chang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 control  &amp; dynamic resource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pid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ic warf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leve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ight control for UAVs (especially micro-UAV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for legged rob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current approaches to the RL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-function approxim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the discounted return for every (state,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-critic methods (e.g. TD-Gamm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 work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a model that explains the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for optimal behavior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Bayesian treatment (intractable) would provide convergence and robustness gua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ainty-equivalence methods tractable but un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ventual winner in 20 dimensions+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olic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stochastic optimization in a parameterized space of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up to at least 12 dimensions (see pursuer-evader resul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cc99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gradient a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earch using a gradient 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42840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with a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2828880"/>
            <a:ext cx="2219400" cy="1581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33640" y="2181240"/>
            <a:ext cx="2428560" cy="33526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2"/>
            <a:endCxn id="63" idx="6"/>
          </p:cNvCxnSpPr>
          <p:nvPr/>
        </p:nvCxnSpPr>
        <p:spPr>
          <a:xfrm flipV="1" rot="10800000">
            <a:off x="3571200" y="3619080"/>
            <a:ext cx="2134440" cy="239040"/>
          </a:xfrm>
          <a:prstGeom prst="curvedConnector5">
            <a:avLst>
              <a:gd name="adj1" fmla="val 50000"/>
              <a:gd name="adj2" fmla="val 49924"/>
              <a:gd name="adj3" fmla="val 5000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 flipH="1" flipV="1" rot="5400000">
            <a:off x="4697640" y="2936520"/>
            <a:ext cx="634320" cy="3618360"/>
          </a:xfrm>
          <a:prstGeom prst="curvedConnector5">
            <a:avLst>
              <a:gd name="adj1" fmla="val -110505"/>
              <a:gd name="adj2" fmla="val 50000"/>
              <a:gd name="adj3" fmla="val -11050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601520" y="5815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7640" y="3672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01440" y="137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58160" y="40442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1"/>
            <a:endCxn id="63" idx="7"/>
          </p:cNvCxnSpPr>
          <p:nvPr/>
        </p:nvCxnSpPr>
        <p:spPr>
          <a:xfrm flipV="1" rot="16200000">
            <a:off x="4428720" y="1439280"/>
            <a:ext cx="389520" cy="2834280"/>
          </a:xfrm>
          <a:prstGeom prst="curvedConnector5">
            <a:avLst>
              <a:gd name="adj1" fmla="val 282423"/>
              <a:gd name="adj2" fmla="val 50000"/>
              <a:gd name="adj3" fmla="val 282423"/>
            </a:avLst>
          </a:prstGeom>
          <a:ln w="38160">
            <a:solidFill>
              <a:srgbClr val="ff3300"/>
            </a:solidFill>
            <a:miter/>
            <a:headEnd len="med" type="triangle" w="med"/>
          </a:ln>
        </p:spPr>
      </p:cxnSp>
      <p:cxnSp>
        <p:nvCxnSpPr>
          <p:cNvPr id="71" name=""/>
          <p:cNvCxnSpPr>
            <a:stCxn id="63" idx="0"/>
            <a:endCxn id="62" idx="0"/>
          </p:cNvCxnSpPr>
          <p:nvPr/>
        </p:nvCxnSpPr>
        <p:spPr>
          <a:xfrm flipH="1" rot="16200000">
            <a:off x="4262040" y="256320"/>
            <a:ext cx="648360" cy="4477320"/>
          </a:xfrm>
          <a:prstGeom prst="curvedConnector5">
            <a:avLst>
              <a:gd name="adj1" fmla="val -129611"/>
              <a:gd name="adj2" fmla="val 50000"/>
              <a:gd name="adj3" fmla="val -129611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795480" y="20631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57440" y="2738520"/>
            <a:ext cx="2381400" cy="509400"/>
          </a:xfrm>
          <a:custGeom>
            <a:avLst/>
            <a:gdLst/>
            <a:ahLst/>
            <a:rect l="l" t="t" r="r" b="b"/>
            <a:pathLst>
              <a:path w="1500" h="321">
                <a:moveTo>
                  <a:pt x="1500" y="321"/>
                </a:moveTo>
                <a:cubicBezTo>
                  <a:pt x="1331" y="205"/>
                  <a:pt x="1163" y="90"/>
                  <a:pt x="978" y="45"/>
                </a:cubicBezTo>
                <a:cubicBezTo>
                  <a:pt x="793" y="0"/>
                  <a:pt x="553" y="18"/>
                  <a:pt x="390" y="51"/>
                </a:cubicBezTo>
                <a:cubicBezTo>
                  <a:pt x="227" y="84"/>
                  <a:pt x="66" y="211"/>
                  <a:pt x="0" y="24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67160" y="4219560"/>
            <a:ext cx="2609640" cy="650880"/>
          </a:xfrm>
          <a:custGeom>
            <a:avLst/>
            <a:gdLst/>
            <a:ahLst/>
            <a:rect l="l" t="t" r="r" b="b"/>
            <a:pathLst>
              <a:path w="1644" h="410">
                <a:moveTo>
                  <a:pt x="1644" y="0"/>
                </a:moveTo>
                <a:cubicBezTo>
                  <a:pt x="1532" y="135"/>
                  <a:pt x="1420" y="271"/>
                  <a:pt x="1212" y="336"/>
                </a:cubicBezTo>
                <a:cubicBezTo>
                  <a:pt x="1004" y="401"/>
                  <a:pt x="598" y="410"/>
                  <a:pt x="396" y="390"/>
                </a:cubicBezTo>
                <a:cubicBezTo>
                  <a:pt x="194" y="370"/>
                  <a:pt x="97" y="293"/>
                  <a:pt x="0" y="2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0920" y="28346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7320" y="484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4720" y="2571840"/>
            <a:ext cx="492120" cy="617400"/>
          </a:xfrm>
          <a:custGeom>
            <a:avLst/>
            <a:gdLst/>
            <a:ahLst/>
            <a:rect l="l" t="t" r="r" b="b"/>
            <a:pathLst>
              <a:path w="1551" h="1946">
                <a:moveTo>
                  <a:pt x="591" y="255"/>
                </a:moveTo>
                <a:lnTo>
                  <a:pt x="612" y="259"/>
                </a:lnTo>
                <a:lnTo>
                  <a:pt x="640" y="263"/>
                </a:lnTo>
                <a:lnTo>
                  <a:pt x="669" y="270"/>
                </a:lnTo>
                <a:lnTo>
                  <a:pt x="689" y="275"/>
                </a:lnTo>
                <a:lnTo>
                  <a:pt x="712" y="281"/>
                </a:lnTo>
                <a:lnTo>
                  <a:pt x="735" y="288"/>
                </a:lnTo>
                <a:lnTo>
                  <a:pt x="758" y="295"/>
                </a:lnTo>
                <a:lnTo>
                  <a:pt x="779" y="301"/>
                </a:lnTo>
                <a:lnTo>
                  <a:pt x="804" y="310"/>
                </a:lnTo>
                <a:lnTo>
                  <a:pt x="833" y="322"/>
                </a:lnTo>
                <a:lnTo>
                  <a:pt x="857" y="332"/>
                </a:lnTo>
                <a:lnTo>
                  <a:pt x="881" y="342"/>
                </a:lnTo>
                <a:lnTo>
                  <a:pt x="908" y="354"/>
                </a:lnTo>
                <a:lnTo>
                  <a:pt x="934" y="367"/>
                </a:lnTo>
                <a:lnTo>
                  <a:pt x="958" y="379"/>
                </a:lnTo>
                <a:lnTo>
                  <a:pt x="980" y="393"/>
                </a:lnTo>
                <a:lnTo>
                  <a:pt x="1000" y="405"/>
                </a:lnTo>
                <a:lnTo>
                  <a:pt x="1020" y="419"/>
                </a:lnTo>
                <a:lnTo>
                  <a:pt x="1042" y="432"/>
                </a:lnTo>
                <a:lnTo>
                  <a:pt x="1067" y="449"/>
                </a:lnTo>
                <a:lnTo>
                  <a:pt x="1090" y="466"/>
                </a:lnTo>
                <a:lnTo>
                  <a:pt x="1111" y="482"/>
                </a:lnTo>
                <a:lnTo>
                  <a:pt x="1131" y="497"/>
                </a:lnTo>
                <a:lnTo>
                  <a:pt x="1163" y="524"/>
                </a:lnTo>
                <a:lnTo>
                  <a:pt x="1196" y="554"/>
                </a:lnTo>
                <a:lnTo>
                  <a:pt x="1222" y="578"/>
                </a:lnTo>
                <a:lnTo>
                  <a:pt x="1252" y="612"/>
                </a:lnTo>
                <a:lnTo>
                  <a:pt x="1274" y="637"/>
                </a:lnTo>
                <a:lnTo>
                  <a:pt x="1297" y="665"/>
                </a:lnTo>
                <a:lnTo>
                  <a:pt x="1323" y="697"/>
                </a:lnTo>
                <a:lnTo>
                  <a:pt x="1344" y="727"/>
                </a:lnTo>
                <a:lnTo>
                  <a:pt x="1365" y="761"/>
                </a:lnTo>
                <a:lnTo>
                  <a:pt x="1388" y="794"/>
                </a:lnTo>
                <a:lnTo>
                  <a:pt x="1407" y="830"/>
                </a:lnTo>
                <a:lnTo>
                  <a:pt x="1426" y="860"/>
                </a:lnTo>
                <a:lnTo>
                  <a:pt x="1443" y="898"/>
                </a:lnTo>
                <a:lnTo>
                  <a:pt x="1460" y="935"/>
                </a:lnTo>
                <a:lnTo>
                  <a:pt x="1474" y="972"/>
                </a:lnTo>
                <a:lnTo>
                  <a:pt x="1488" y="1013"/>
                </a:lnTo>
                <a:lnTo>
                  <a:pt x="1506" y="1064"/>
                </a:lnTo>
                <a:lnTo>
                  <a:pt x="1518" y="1111"/>
                </a:lnTo>
                <a:lnTo>
                  <a:pt x="1529" y="1159"/>
                </a:lnTo>
                <a:lnTo>
                  <a:pt x="1535" y="1207"/>
                </a:lnTo>
                <a:lnTo>
                  <a:pt x="1544" y="1262"/>
                </a:lnTo>
                <a:lnTo>
                  <a:pt x="1549" y="1331"/>
                </a:lnTo>
                <a:lnTo>
                  <a:pt x="1551" y="1384"/>
                </a:lnTo>
                <a:lnTo>
                  <a:pt x="1549" y="1437"/>
                </a:lnTo>
                <a:lnTo>
                  <a:pt x="1545" y="1487"/>
                </a:lnTo>
                <a:lnTo>
                  <a:pt x="1539" y="1534"/>
                </a:lnTo>
                <a:lnTo>
                  <a:pt x="1533" y="1583"/>
                </a:lnTo>
                <a:lnTo>
                  <a:pt x="1522" y="1634"/>
                </a:lnTo>
                <a:lnTo>
                  <a:pt x="1508" y="1688"/>
                </a:lnTo>
                <a:lnTo>
                  <a:pt x="1490" y="1745"/>
                </a:lnTo>
                <a:lnTo>
                  <a:pt x="1473" y="1796"/>
                </a:lnTo>
                <a:lnTo>
                  <a:pt x="1453" y="1847"/>
                </a:lnTo>
                <a:lnTo>
                  <a:pt x="1423" y="1896"/>
                </a:lnTo>
                <a:lnTo>
                  <a:pt x="1394" y="1946"/>
                </a:lnTo>
                <a:lnTo>
                  <a:pt x="937" y="1682"/>
                </a:lnTo>
                <a:lnTo>
                  <a:pt x="962" y="1633"/>
                </a:lnTo>
                <a:lnTo>
                  <a:pt x="979" y="1595"/>
                </a:lnTo>
                <a:lnTo>
                  <a:pt x="991" y="1554"/>
                </a:lnTo>
                <a:lnTo>
                  <a:pt x="1001" y="1514"/>
                </a:lnTo>
                <a:lnTo>
                  <a:pt x="1008" y="1477"/>
                </a:lnTo>
                <a:lnTo>
                  <a:pt x="1011" y="1441"/>
                </a:lnTo>
                <a:lnTo>
                  <a:pt x="1014" y="1406"/>
                </a:lnTo>
                <a:lnTo>
                  <a:pt x="1014" y="1368"/>
                </a:lnTo>
                <a:lnTo>
                  <a:pt x="1012" y="1324"/>
                </a:lnTo>
                <a:lnTo>
                  <a:pt x="1006" y="1282"/>
                </a:lnTo>
                <a:lnTo>
                  <a:pt x="998" y="1235"/>
                </a:lnTo>
                <a:lnTo>
                  <a:pt x="987" y="1197"/>
                </a:lnTo>
                <a:lnTo>
                  <a:pt x="970" y="1155"/>
                </a:lnTo>
                <a:lnTo>
                  <a:pt x="955" y="1118"/>
                </a:lnTo>
                <a:lnTo>
                  <a:pt x="936" y="1083"/>
                </a:lnTo>
                <a:lnTo>
                  <a:pt x="920" y="1056"/>
                </a:lnTo>
                <a:lnTo>
                  <a:pt x="903" y="1033"/>
                </a:lnTo>
                <a:lnTo>
                  <a:pt x="887" y="1011"/>
                </a:lnTo>
                <a:lnTo>
                  <a:pt x="868" y="989"/>
                </a:lnTo>
                <a:lnTo>
                  <a:pt x="847" y="965"/>
                </a:lnTo>
                <a:lnTo>
                  <a:pt x="829" y="949"/>
                </a:lnTo>
                <a:lnTo>
                  <a:pt x="809" y="929"/>
                </a:lnTo>
                <a:lnTo>
                  <a:pt x="789" y="911"/>
                </a:lnTo>
                <a:lnTo>
                  <a:pt x="765" y="893"/>
                </a:lnTo>
                <a:lnTo>
                  <a:pt x="737" y="876"/>
                </a:lnTo>
                <a:lnTo>
                  <a:pt x="713" y="859"/>
                </a:lnTo>
                <a:lnTo>
                  <a:pt x="693" y="849"/>
                </a:lnTo>
                <a:lnTo>
                  <a:pt x="664" y="831"/>
                </a:lnTo>
                <a:lnTo>
                  <a:pt x="638" y="821"/>
                </a:lnTo>
                <a:lnTo>
                  <a:pt x="616" y="813"/>
                </a:lnTo>
                <a:lnTo>
                  <a:pt x="592" y="805"/>
                </a:lnTo>
                <a:lnTo>
                  <a:pt x="557" y="797"/>
                </a:lnTo>
                <a:lnTo>
                  <a:pt x="524" y="791"/>
                </a:lnTo>
                <a:lnTo>
                  <a:pt x="489" y="787"/>
                </a:lnTo>
                <a:lnTo>
                  <a:pt x="455" y="785"/>
                </a:lnTo>
                <a:lnTo>
                  <a:pt x="436" y="784"/>
                </a:lnTo>
                <a:lnTo>
                  <a:pt x="436" y="1068"/>
                </a:lnTo>
                <a:lnTo>
                  <a:pt x="0" y="541"/>
                </a:lnTo>
                <a:lnTo>
                  <a:pt x="435" y="0"/>
                </a:lnTo>
                <a:lnTo>
                  <a:pt x="435" y="243"/>
                </a:lnTo>
                <a:lnTo>
                  <a:pt x="459" y="245"/>
                </a:lnTo>
                <a:lnTo>
                  <a:pt x="493" y="246"/>
                </a:lnTo>
                <a:lnTo>
                  <a:pt x="528" y="248"/>
                </a:lnTo>
                <a:lnTo>
                  <a:pt x="563" y="252"/>
                </a:lnTo>
                <a:lnTo>
                  <a:pt x="591" y="2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1800" y="3025800"/>
            <a:ext cx="652320" cy="342720"/>
          </a:xfrm>
          <a:custGeom>
            <a:avLst/>
            <a:gdLst/>
            <a:ahLst/>
            <a:rect l="l" t="t" r="r" b="b"/>
            <a:pathLst>
              <a:path w="2057" h="1081">
                <a:moveTo>
                  <a:pt x="1034" y="1068"/>
                </a:moveTo>
                <a:lnTo>
                  <a:pt x="1055" y="1065"/>
                </a:lnTo>
                <a:lnTo>
                  <a:pt x="1083" y="1060"/>
                </a:lnTo>
                <a:lnTo>
                  <a:pt x="1112" y="1054"/>
                </a:lnTo>
                <a:lnTo>
                  <a:pt x="1132" y="1049"/>
                </a:lnTo>
                <a:lnTo>
                  <a:pt x="1155" y="1044"/>
                </a:lnTo>
                <a:lnTo>
                  <a:pt x="1179" y="1037"/>
                </a:lnTo>
                <a:lnTo>
                  <a:pt x="1202" y="1031"/>
                </a:lnTo>
                <a:lnTo>
                  <a:pt x="1224" y="1024"/>
                </a:lnTo>
                <a:lnTo>
                  <a:pt x="1247" y="1014"/>
                </a:lnTo>
                <a:lnTo>
                  <a:pt x="1277" y="1004"/>
                </a:lnTo>
                <a:lnTo>
                  <a:pt x="1301" y="993"/>
                </a:lnTo>
                <a:lnTo>
                  <a:pt x="1325" y="982"/>
                </a:lnTo>
                <a:lnTo>
                  <a:pt x="1352" y="971"/>
                </a:lnTo>
                <a:lnTo>
                  <a:pt x="1378" y="958"/>
                </a:lnTo>
                <a:lnTo>
                  <a:pt x="1402" y="946"/>
                </a:lnTo>
                <a:lnTo>
                  <a:pt x="1423" y="932"/>
                </a:lnTo>
                <a:lnTo>
                  <a:pt x="1443" y="920"/>
                </a:lnTo>
                <a:lnTo>
                  <a:pt x="1463" y="906"/>
                </a:lnTo>
                <a:lnTo>
                  <a:pt x="1485" y="893"/>
                </a:lnTo>
                <a:lnTo>
                  <a:pt x="1510" y="876"/>
                </a:lnTo>
                <a:lnTo>
                  <a:pt x="1532" y="860"/>
                </a:lnTo>
                <a:lnTo>
                  <a:pt x="1554" y="843"/>
                </a:lnTo>
                <a:lnTo>
                  <a:pt x="1573" y="829"/>
                </a:lnTo>
                <a:lnTo>
                  <a:pt x="1606" y="803"/>
                </a:lnTo>
                <a:lnTo>
                  <a:pt x="1635" y="778"/>
                </a:lnTo>
                <a:lnTo>
                  <a:pt x="1665" y="748"/>
                </a:lnTo>
                <a:lnTo>
                  <a:pt x="1695" y="714"/>
                </a:lnTo>
                <a:lnTo>
                  <a:pt x="1716" y="689"/>
                </a:lnTo>
                <a:lnTo>
                  <a:pt x="1740" y="661"/>
                </a:lnTo>
                <a:lnTo>
                  <a:pt x="1766" y="630"/>
                </a:lnTo>
                <a:lnTo>
                  <a:pt x="1788" y="600"/>
                </a:lnTo>
                <a:lnTo>
                  <a:pt x="1810" y="567"/>
                </a:lnTo>
                <a:lnTo>
                  <a:pt x="1836" y="529"/>
                </a:lnTo>
                <a:lnTo>
                  <a:pt x="2057" y="659"/>
                </a:lnTo>
                <a:lnTo>
                  <a:pt x="1840" y="0"/>
                </a:lnTo>
                <a:lnTo>
                  <a:pt x="1136" y="125"/>
                </a:lnTo>
                <a:lnTo>
                  <a:pt x="1373" y="259"/>
                </a:lnTo>
                <a:lnTo>
                  <a:pt x="1353" y="288"/>
                </a:lnTo>
                <a:lnTo>
                  <a:pt x="1332" y="312"/>
                </a:lnTo>
                <a:lnTo>
                  <a:pt x="1311" y="337"/>
                </a:lnTo>
                <a:lnTo>
                  <a:pt x="1290" y="361"/>
                </a:lnTo>
                <a:lnTo>
                  <a:pt x="1272" y="378"/>
                </a:lnTo>
                <a:lnTo>
                  <a:pt x="1253" y="398"/>
                </a:lnTo>
                <a:lnTo>
                  <a:pt x="1232" y="415"/>
                </a:lnTo>
                <a:lnTo>
                  <a:pt x="1208" y="433"/>
                </a:lnTo>
                <a:lnTo>
                  <a:pt x="1180" y="451"/>
                </a:lnTo>
                <a:lnTo>
                  <a:pt x="1156" y="467"/>
                </a:lnTo>
                <a:lnTo>
                  <a:pt x="1136" y="478"/>
                </a:lnTo>
                <a:lnTo>
                  <a:pt x="1107" y="495"/>
                </a:lnTo>
                <a:lnTo>
                  <a:pt x="1081" y="506"/>
                </a:lnTo>
                <a:lnTo>
                  <a:pt x="1059" y="513"/>
                </a:lnTo>
                <a:lnTo>
                  <a:pt x="1035" y="521"/>
                </a:lnTo>
                <a:lnTo>
                  <a:pt x="1001" y="530"/>
                </a:lnTo>
                <a:lnTo>
                  <a:pt x="967" y="535"/>
                </a:lnTo>
                <a:lnTo>
                  <a:pt x="932" y="538"/>
                </a:lnTo>
                <a:lnTo>
                  <a:pt x="882" y="541"/>
                </a:lnTo>
                <a:lnTo>
                  <a:pt x="816" y="542"/>
                </a:lnTo>
                <a:lnTo>
                  <a:pt x="765" y="535"/>
                </a:lnTo>
                <a:lnTo>
                  <a:pt x="719" y="524"/>
                </a:lnTo>
                <a:lnTo>
                  <a:pt x="666" y="509"/>
                </a:lnTo>
                <a:lnTo>
                  <a:pt x="619" y="489"/>
                </a:lnTo>
                <a:lnTo>
                  <a:pt x="572" y="465"/>
                </a:lnTo>
                <a:lnTo>
                  <a:pt x="529" y="438"/>
                </a:lnTo>
                <a:lnTo>
                  <a:pt x="488" y="402"/>
                </a:lnTo>
                <a:lnTo>
                  <a:pt x="0" y="683"/>
                </a:lnTo>
                <a:lnTo>
                  <a:pt x="20" y="707"/>
                </a:lnTo>
                <a:lnTo>
                  <a:pt x="48" y="734"/>
                </a:lnTo>
                <a:lnTo>
                  <a:pt x="72" y="757"/>
                </a:lnTo>
                <a:lnTo>
                  <a:pt x="95" y="780"/>
                </a:lnTo>
                <a:lnTo>
                  <a:pt x="119" y="802"/>
                </a:lnTo>
                <a:lnTo>
                  <a:pt x="147" y="826"/>
                </a:lnTo>
                <a:lnTo>
                  <a:pt x="173" y="846"/>
                </a:lnTo>
                <a:lnTo>
                  <a:pt x="199" y="865"/>
                </a:lnTo>
                <a:lnTo>
                  <a:pt x="228" y="883"/>
                </a:lnTo>
                <a:lnTo>
                  <a:pt x="257" y="903"/>
                </a:lnTo>
                <a:lnTo>
                  <a:pt x="286" y="922"/>
                </a:lnTo>
                <a:lnTo>
                  <a:pt x="313" y="938"/>
                </a:lnTo>
                <a:lnTo>
                  <a:pt x="340" y="953"/>
                </a:lnTo>
                <a:lnTo>
                  <a:pt x="366" y="966"/>
                </a:lnTo>
                <a:lnTo>
                  <a:pt x="402" y="982"/>
                </a:lnTo>
                <a:lnTo>
                  <a:pt x="435" y="997"/>
                </a:lnTo>
                <a:lnTo>
                  <a:pt x="473" y="1011"/>
                </a:lnTo>
                <a:lnTo>
                  <a:pt x="501" y="1021"/>
                </a:lnTo>
                <a:lnTo>
                  <a:pt x="528" y="1032"/>
                </a:lnTo>
                <a:lnTo>
                  <a:pt x="560" y="1041"/>
                </a:lnTo>
                <a:lnTo>
                  <a:pt x="590" y="1049"/>
                </a:lnTo>
                <a:lnTo>
                  <a:pt x="621" y="1057"/>
                </a:lnTo>
                <a:lnTo>
                  <a:pt x="656" y="1064"/>
                </a:lnTo>
                <a:lnTo>
                  <a:pt x="692" y="1070"/>
                </a:lnTo>
                <a:lnTo>
                  <a:pt x="728" y="1074"/>
                </a:lnTo>
                <a:lnTo>
                  <a:pt x="766" y="1078"/>
                </a:lnTo>
                <a:lnTo>
                  <a:pt x="794" y="1079"/>
                </a:lnTo>
                <a:lnTo>
                  <a:pt x="833" y="1081"/>
                </a:lnTo>
                <a:lnTo>
                  <a:pt x="872" y="1081"/>
                </a:lnTo>
                <a:lnTo>
                  <a:pt x="903" y="1080"/>
                </a:lnTo>
                <a:lnTo>
                  <a:pt x="936" y="1079"/>
                </a:lnTo>
                <a:lnTo>
                  <a:pt x="972" y="1077"/>
                </a:lnTo>
                <a:lnTo>
                  <a:pt x="1005" y="1072"/>
                </a:lnTo>
                <a:lnTo>
                  <a:pt x="1034" y="10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9120" y="2654280"/>
            <a:ext cx="330120" cy="611280"/>
          </a:xfrm>
          <a:custGeom>
            <a:avLst/>
            <a:gdLst/>
            <a:ahLst/>
            <a:rect l="l" t="t" r="r" b="b"/>
            <a:pathLst>
              <a:path w="1043" h="1927">
                <a:moveTo>
                  <a:pt x="1043" y="0"/>
                </a:moveTo>
                <a:lnTo>
                  <a:pt x="1021" y="4"/>
                </a:lnTo>
                <a:lnTo>
                  <a:pt x="998" y="7"/>
                </a:lnTo>
                <a:lnTo>
                  <a:pt x="968" y="14"/>
                </a:lnTo>
                <a:lnTo>
                  <a:pt x="945" y="19"/>
                </a:lnTo>
                <a:lnTo>
                  <a:pt x="922" y="26"/>
                </a:lnTo>
                <a:lnTo>
                  <a:pt x="899" y="33"/>
                </a:lnTo>
                <a:lnTo>
                  <a:pt x="876" y="39"/>
                </a:lnTo>
                <a:lnTo>
                  <a:pt x="853" y="46"/>
                </a:lnTo>
                <a:lnTo>
                  <a:pt x="830" y="55"/>
                </a:lnTo>
                <a:lnTo>
                  <a:pt x="802" y="66"/>
                </a:lnTo>
                <a:lnTo>
                  <a:pt x="778" y="77"/>
                </a:lnTo>
                <a:lnTo>
                  <a:pt x="753" y="87"/>
                </a:lnTo>
                <a:lnTo>
                  <a:pt x="727" y="99"/>
                </a:lnTo>
                <a:lnTo>
                  <a:pt x="701" y="112"/>
                </a:lnTo>
                <a:lnTo>
                  <a:pt x="678" y="124"/>
                </a:lnTo>
                <a:lnTo>
                  <a:pt x="655" y="138"/>
                </a:lnTo>
                <a:lnTo>
                  <a:pt x="635" y="150"/>
                </a:lnTo>
                <a:lnTo>
                  <a:pt x="615" y="164"/>
                </a:lnTo>
                <a:lnTo>
                  <a:pt x="593" y="177"/>
                </a:lnTo>
                <a:lnTo>
                  <a:pt x="568" y="193"/>
                </a:lnTo>
                <a:lnTo>
                  <a:pt x="546" y="211"/>
                </a:lnTo>
                <a:lnTo>
                  <a:pt x="525" y="227"/>
                </a:lnTo>
                <a:lnTo>
                  <a:pt x="504" y="241"/>
                </a:lnTo>
                <a:lnTo>
                  <a:pt x="471" y="268"/>
                </a:lnTo>
                <a:lnTo>
                  <a:pt x="438" y="300"/>
                </a:lnTo>
                <a:lnTo>
                  <a:pt x="412" y="324"/>
                </a:lnTo>
                <a:lnTo>
                  <a:pt x="382" y="358"/>
                </a:lnTo>
                <a:lnTo>
                  <a:pt x="361" y="383"/>
                </a:lnTo>
                <a:lnTo>
                  <a:pt x="337" y="411"/>
                </a:lnTo>
                <a:lnTo>
                  <a:pt x="311" y="443"/>
                </a:lnTo>
                <a:lnTo>
                  <a:pt x="290" y="472"/>
                </a:lnTo>
                <a:lnTo>
                  <a:pt x="269" y="506"/>
                </a:lnTo>
                <a:lnTo>
                  <a:pt x="247" y="539"/>
                </a:lnTo>
                <a:lnTo>
                  <a:pt x="226" y="575"/>
                </a:lnTo>
                <a:lnTo>
                  <a:pt x="209" y="605"/>
                </a:lnTo>
                <a:lnTo>
                  <a:pt x="192" y="643"/>
                </a:lnTo>
                <a:lnTo>
                  <a:pt x="176" y="679"/>
                </a:lnTo>
                <a:lnTo>
                  <a:pt x="161" y="717"/>
                </a:lnTo>
                <a:lnTo>
                  <a:pt x="147" y="758"/>
                </a:lnTo>
                <a:lnTo>
                  <a:pt x="130" y="809"/>
                </a:lnTo>
                <a:lnTo>
                  <a:pt x="118" y="856"/>
                </a:lnTo>
                <a:lnTo>
                  <a:pt x="106" y="904"/>
                </a:lnTo>
                <a:lnTo>
                  <a:pt x="100" y="951"/>
                </a:lnTo>
                <a:lnTo>
                  <a:pt x="92" y="1007"/>
                </a:lnTo>
                <a:lnTo>
                  <a:pt x="86" y="1075"/>
                </a:lnTo>
                <a:lnTo>
                  <a:pt x="85" y="1129"/>
                </a:lnTo>
                <a:lnTo>
                  <a:pt x="86" y="1182"/>
                </a:lnTo>
                <a:lnTo>
                  <a:pt x="91" y="1233"/>
                </a:lnTo>
                <a:lnTo>
                  <a:pt x="97" y="1280"/>
                </a:lnTo>
                <a:lnTo>
                  <a:pt x="102" y="1329"/>
                </a:lnTo>
                <a:lnTo>
                  <a:pt x="113" y="1380"/>
                </a:lnTo>
                <a:lnTo>
                  <a:pt x="127" y="1434"/>
                </a:lnTo>
                <a:lnTo>
                  <a:pt x="145" y="1489"/>
                </a:lnTo>
                <a:lnTo>
                  <a:pt x="163" y="1541"/>
                </a:lnTo>
                <a:lnTo>
                  <a:pt x="183" y="1592"/>
                </a:lnTo>
                <a:lnTo>
                  <a:pt x="206" y="1641"/>
                </a:lnTo>
                <a:lnTo>
                  <a:pt x="234" y="1688"/>
                </a:lnTo>
                <a:lnTo>
                  <a:pt x="0" y="1822"/>
                </a:lnTo>
                <a:lnTo>
                  <a:pt x="716" y="1927"/>
                </a:lnTo>
                <a:lnTo>
                  <a:pt x="978" y="1270"/>
                </a:lnTo>
                <a:lnTo>
                  <a:pt x="704" y="1418"/>
                </a:lnTo>
                <a:lnTo>
                  <a:pt x="677" y="1375"/>
                </a:lnTo>
                <a:lnTo>
                  <a:pt x="660" y="1338"/>
                </a:lnTo>
                <a:lnTo>
                  <a:pt x="645" y="1299"/>
                </a:lnTo>
                <a:lnTo>
                  <a:pt x="634" y="1260"/>
                </a:lnTo>
                <a:lnTo>
                  <a:pt x="627" y="1222"/>
                </a:lnTo>
                <a:lnTo>
                  <a:pt x="625" y="1186"/>
                </a:lnTo>
                <a:lnTo>
                  <a:pt x="621" y="1149"/>
                </a:lnTo>
                <a:lnTo>
                  <a:pt x="621" y="1113"/>
                </a:lnTo>
                <a:lnTo>
                  <a:pt x="624" y="1069"/>
                </a:lnTo>
                <a:lnTo>
                  <a:pt x="628" y="1027"/>
                </a:lnTo>
                <a:lnTo>
                  <a:pt x="638" y="980"/>
                </a:lnTo>
                <a:lnTo>
                  <a:pt x="648" y="942"/>
                </a:lnTo>
                <a:lnTo>
                  <a:pt x="665" y="900"/>
                </a:lnTo>
                <a:lnTo>
                  <a:pt x="679" y="863"/>
                </a:lnTo>
                <a:lnTo>
                  <a:pt x="699" y="828"/>
                </a:lnTo>
                <a:lnTo>
                  <a:pt x="716" y="801"/>
                </a:lnTo>
                <a:lnTo>
                  <a:pt x="732" y="778"/>
                </a:lnTo>
                <a:lnTo>
                  <a:pt x="749" y="756"/>
                </a:lnTo>
                <a:lnTo>
                  <a:pt x="767" y="734"/>
                </a:lnTo>
                <a:lnTo>
                  <a:pt x="787" y="710"/>
                </a:lnTo>
                <a:lnTo>
                  <a:pt x="805" y="694"/>
                </a:lnTo>
                <a:lnTo>
                  <a:pt x="825" y="672"/>
                </a:lnTo>
                <a:lnTo>
                  <a:pt x="845" y="656"/>
                </a:lnTo>
                <a:lnTo>
                  <a:pt x="869" y="638"/>
                </a:lnTo>
                <a:lnTo>
                  <a:pt x="897" y="619"/>
                </a:lnTo>
                <a:lnTo>
                  <a:pt x="921" y="604"/>
                </a:lnTo>
                <a:lnTo>
                  <a:pt x="941" y="592"/>
                </a:lnTo>
                <a:lnTo>
                  <a:pt x="970" y="576"/>
                </a:lnTo>
                <a:lnTo>
                  <a:pt x="998" y="564"/>
                </a:lnTo>
                <a:lnTo>
                  <a:pt x="1043" y="551"/>
                </a:lnTo>
                <a:lnTo>
                  <a:pt x="1043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14720" y="2571840"/>
            <a:ext cx="492120" cy="554040"/>
          </a:xfrm>
          <a:custGeom>
            <a:avLst/>
            <a:gdLst/>
            <a:ahLst/>
            <a:rect l="l" t="t" r="r" b="b"/>
            <a:pathLst>
              <a:path w="1551" h="1745">
                <a:moveTo>
                  <a:pt x="591" y="255"/>
                </a:moveTo>
                <a:lnTo>
                  <a:pt x="612" y="259"/>
                </a:lnTo>
                <a:lnTo>
                  <a:pt x="640" y="263"/>
                </a:lnTo>
                <a:lnTo>
                  <a:pt x="669" y="270"/>
                </a:lnTo>
                <a:lnTo>
                  <a:pt x="689" y="275"/>
                </a:lnTo>
                <a:lnTo>
                  <a:pt x="712" y="281"/>
                </a:lnTo>
                <a:lnTo>
                  <a:pt x="735" y="288"/>
                </a:lnTo>
                <a:lnTo>
                  <a:pt x="758" y="295"/>
                </a:lnTo>
                <a:lnTo>
                  <a:pt x="779" y="301"/>
                </a:lnTo>
                <a:lnTo>
                  <a:pt x="804" y="310"/>
                </a:lnTo>
                <a:lnTo>
                  <a:pt x="833" y="322"/>
                </a:lnTo>
                <a:lnTo>
                  <a:pt x="857" y="332"/>
                </a:lnTo>
                <a:lnTo>
                  <a:pt x="881" y="342"/>
                </a:lnTo>
                <a:lnTo>
                  <a:pt x="908" y="354"/>
                </a:lnTo>
                <a:lnTo>
                  <a:pt x="934" y="367"/>
                </a:lnTo>
                <a:lnTo>
                  <a:pt x="958" y="379"/>
                </a:lnTo>
                <a:lnTo>
                  <a:pt x="980" y="393"/>
                </a:lnTo>
                <a:lnTo>
                  <a:pt x="1000" y="405"/>
                </a:lnTo>
                <a:lnTo>
                  <a:pt x="1020" y="419"/>
                </a:lnTo>
                <a:lnTo>
                  <a:pt x="1042" y="432"/>
                </a:lnTo>
                <a:lnTo>
                  <a:pt x="1067" y="448"/>
                </a:lnTo>
                <a:lnTo>
                  <a:pt x="1090" y="465"/>
                </a:lnTo>
                <a:lnTo>
                  <a:pt x="1111" y="481"/>
                </a:lnTo>
                <a:lnTo>
                  <a:pt x="1131" y="497"/>
                </a:lnTo>
                <a:lnTo>
                  <a:pt x="1163" y="524"/>
                </a:lnTo>
                <a:lnTo>
                  <a:pt x="1196" y="554"/>
                </a:lnTo>
                <a:lnTo>
                  <a:pt x="1222" y="578"/>
                </a:lnTo>
                <a:lnTo>
                  <a:pt x="1252" y="612"/>
                </a:lnTo>
                <a:lnTo>
                  <a:pt x="1274" y="637"/>
                </a:lnTo>
                <a:lnTo>
                  <a:pt x="1297" y="665"/>
                </a:lnTo>
                <a:lnTo>
                  <a:pt x="1323" y="697"/>
                </a:lnTo>
                <a:lnTo>
                  <a:pt x="1344" y="727"/>
                </a:lnTo>
                <a:lnTo>
                  <a:pt x="1365" y="761"/>
                </a:lnTo>
                <a:lnTo>
                  <a:pt x="1388" y="794"/>
                </a:lnTo>
                <a:lnTo>
                  <a:pt x="1407" y="830"/>
                </a:lnTo>
                <a:lnTo>
                  <a:pt x="1426" y="860"/>
                </a:lnTo>
                <a:lnTo>
                  <a:pt x="1443" y="898"/>
                </a:lnTo>
                <a:lnTo>
                  <a:pt x="1460" y="935"/>
                </a:lnTo>
                <a:lnTo>
                  <a:pt x="1474" y="972"/>
                </a:lnTo>
                <a:lnTo>
                  <a:pt x="1488" y="1013"/>
                </a:lnTo>
                <a:lnTo>
                  <a:pt x="1506" y="1064"/>
                </a:lnTo>
                <a:lnTo>
                  <a:pt x="1518" y="1111"/>
                </a:lnTo>
                <a:lnTo>
                  <a:pt x="1529" y="1159"/>
                </a:lnTo>
                <a:lnTo>
                  <a:pt x="1535" y="1207"/>
                </a:lnTo>
                <a:lnTo>
                  <a:pt x="1544" y="1262"/>
                </a:lnTo>
                <a:lnTo>
                  <a:pt x="1549" y="1330"/>
                </a:lnTo>
                <a:lnTo>
                  <a:pt x="1551" y="1383"/>
                </a:lnTo>
                <a:lnTo>
                  <a:pt x="1549" y="1436"/>
                </a:lnTo>
                <a:lnTo>
                  <a:pt x="1545" y="1487"/>
                </a:lnTo>
                <a:lnTo>
                  <a:pt x="1539" y="1534"/>
                </a:lnTo>
                <a:lnTo>
                  <a:pt x="1533" y="1583"/>
                </a:lnTo>
                <a:lnTo>
                  <a:pt x="1522" y="1634"/>
                </a:lnTo>
                <a:lnTo>
                  <a:pt x="1508" y="1688"/>
                </a:lnTo>
                <a:lnTo>
                  <a:pt x="1490" y="1745"/>
                </a:lnTo>
                <a:lnTo>
                  <a:pt x="1389" y="1429"/>
                </a:lnTo>
                <a:lnTo>
                  <a:pt x="1002" y="1495"/>
                </a:lnTo>
                <a:lnTo>
                  <a:pt x="1011" y="1440"/>
                </a:lnTo>
                <a:lnTo>
                  <a:pt x="1014" y="1404"/>
                </a:lnTo>
                <a:lnTo>
                  <a:pt x="1014" y="1367"/>
                </a:lnTo>
                <a:lnTo>
                  <a:pt x="1012" y="1323"/>
                </a:lnTo>
                <a:lnTo>
                  <a:pt x="1006" y="1282"/>
                </a:lnTo>
                <a:lnTo>
                  <a:pt x="998" y="1235"/>
                </a:lnTo>
                <a:lnTo>
                  <a:pt x="987" y="1197"/>
                </a:lnTo>
                <a:lnTo>
                  <a:pt x="970" y="1155"/>
                </a:lnTo>
                <a:lnTo>
                  <a:pt x="955" y="1118"/>
                </a:lnTo>
                <a:lnTo>
                  <a:pt x="936" y="1083"/>
                </a:lnTo>
                <a:lnTo>
                  <a:pt x="920" y="1056"/>
                </a:lnTo>
                <a:lnTo>
                  <a:pt x="903" y="1033"/>
                </a:lnTo>
                <a:lnTo>
                  <a:pt x="887" y="1011"/>
                </a:lnTo>
                <a:lnTo>
                  <a:pt x="868" y="989"/>
                </a:lnTo>
                <a:lnTo>
                  <a:pt x="847" y="965"/>
                </a:lnTo>
                <a:lnTo>
                  <a:pt x="829" y="949"/>
                </a:lnTo>
                <a:lnTo>
                  <a:pt x="809" y="929"/>
                </a:lnTo>
                <a:lnTo>
                  <a:pt x="789" y="911"/>
                </a:lnTo>
                <a:lnTo>
                  <a:pt x="765" y="893"/>
                </a:lnTo>
                <a:lnTo>
                  <a:pt x="737" y="876"/>
                </a:lnTo>
                <a:lnTo>
                  <a:pt x="713" y="859"/>
                </a:lnTo>
                <a:lnTo>
                  <a:pt x="693" y="849"/>
                </a:lnTo>
                <a:lnTo>
                  <a:pt x="664" y="831"/>
                </a:lnTo>
                <a:lnTo>
                  <a:pt x="638" y="821"/>
                </a:lnTo>
                <a:lnTo>
                  <a:pt x="616" y="813"/>
                </a:lnTo>
                <a:lnTo>
                  <a:pt x="592" y="805"/>
                </a:lnTo>
                <a:lnTo>
                  <a:pt x="557" y="797"/>
                </a:lnTo>
                <a:lnTo>
                  <a:pt x="524" y="791"/>
                </a:lnTo>
                <a:lnTo>
                  <a:pt x="489" y="787"/>
                </a:lnTo>
                <a:lnTo>
                  <a:pt x="455" y="785"/>
                </a:lnTo>
                <a:lnTo>
                  <a:pt x="436" y="784"/>
                </a:lnTo>
                <a:lnTo>
                  <a:pt x="436" y="1068"/>
                </a:lnTo>
                <a:lnTo>
                  <a:pt x="0" y="541"/>
                </a:lnTo>
                <a:lnTo>
                  <a:pt x="435" y="0"/>
                </a:lnTo>
                <a:lnTo>
                  <a:pt x="435" y="243"/>
                </a:lnTo>
                <a:lnTo>
                  <a:pt x="459" y="245"/>
                </a:lnTo>
                <a:lnTo>
                  <a:pt x="493" y="246"/>
                </a:lnTo>
                <a:lnTo>
                  <a:pt x="528" y="248"/>
                </a:lnTo>
                <a:lnTo>
                  <a:pt x="563" y="252"/>
                </a:lnTo>
                <a:lnTo>
                  <a:pt x="591" y="2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pursuer evader examp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57360" y="16956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37:25Z</dcterms:created>
  <dc:creator>LDRANDELL</dc:creator>
  <dc:description/>
  <dc:language>en-US</dc:language>
  <cp:lastModifiedBy>Strens</cp:lastModifiedBy>
  <cp:lastPrinted>2001-02-16T18:40:10Z</cp:lastPrinted>
  <dcterms:modified xsi:type="dcterms:W3CDTF">2001-03-13T18:15:19Z</dcterms:modified>
  <cp:revision>52</cp:revision>
  <dc:subject/>
  <dc:title>This Title is Arial 36pt Bold</dc:title>
</cp:coreProperties>
</file>