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2.png" ContentType="image/png"/>
  <Override PartName="/ppt/media/image9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10.wmf" ContentType="image/x-wmf"/>
  <Override PartName="/ppt/media/image2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94AF3-3103-4150-A5D4-5F2B77897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1FAE7-8CDB-4A05-ADF3-C6DFA9EEE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1E072-1360-4B5E-8B86-708996D8A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BE903-9157-4DDC-A61A-1B756241C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51DAC-69EC-436E-BD1A-FA11BE412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72A64-7C37-4BD2-876F-8C6449C80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7F3DD-EEBA-4772-9E0D-13864862F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0D953-944D-4A7E-9555-2C23ACE73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07DF5-A9E3-4413-804C-3F75DDD77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24668-9F9D-41E6-AEEB-533B2FDB5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D9A55-FB37-4D57-BD55-199F44E7E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641C9-E1D1-4CCA-8D1F-8F5BB0789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701F4-C14B-472D-9FEF-B5F8BF70CE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1371600"/>
            <a:ext cx="7848720" cy="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120" y="1447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arning Structure in Unstructured Document Bas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85440" y="25146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vid Coh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rning Glass Technologies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U Robotics Instit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cs.cmu.edu/~co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oint work with: Adam Berger, Rich Caruana, Huan Chang, Dayne Frietag, Thomas Hofmann, Andrew McCallum, Vibhu Mittal and Greg Scho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2666880"/>
            <a:ext cx="7848720" cy="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imitations of the VS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rd frequencies aren’t the whole st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lysem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 sharp increase in rates on bank notes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he pilot notes a sharp increase in bank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nonym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ob/Robert/Bobby spilled pop/soda/Coke/Pepsi on the couch/sofa/loveseat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ceptual lin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lan Greenspan”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“Federal Reserve”, “interest rates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 else is going on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6" name=""/>
          <p:cNvGrpSpPr/>
          <p:nvPr/>
        </p:nvGrpSpPr>
        <p:grpSpPr>
          <a:xfrm>
            <a:off x="1536480" y="2670120"/>
            <a:ext cx="5765760" cy="3998160"/>
            <a:chOff x="1536480" y="2670120"/>
            <a:chExt cx="5765760" cy="3998160"/>
          </a:xfrm>
        </p:grpSpPr>
        <p:grpSp>
          <p:nvGrpSpPr>
            <p:cNvPr id="237" name=""/>
            <p:cNvGrpSpPr/>
            <p:nvPr/>
          </p:nvGrpSpPr>
          <p:grpSpPr>
            <a:xfrm>
              <a:off x="1904760" y="2670120"/>
              <a:ext cx="5105520" cy="3177360"/>
              <a:chOff x="1904760" y="2670120"/>
              <a:chExt cx="5105520" cy="3177360"/>
            </a:xfrm>
          </p:grpSpPr>
          <p:grpSp>
            <p:nvGrpSpPr>
              <p:cNvPr id="238" name=""/>
              <p:cNvGrpSpPr/>
              <p:nvPr/>
            </p:nvGrpSpPr>
            <p:grpSpPr>
              <a:xfrm>
                <a:off x="2133000" y="2975040"/>
                <a:ext cx="4572360" cy="2743200"/>
                <a:chOff x="2133000" y="2975040"/>
                <a:chExt cx="4572360" cy="2743200"/>
              </a:xfrm>
            </p:grpSpPr>
            <p:sp>
              <p:nvSpPr>
                <p:cNvPr id="239" name=""/>
                <p:cNvSpPr/>
                <p:nvPr/>
              </p:nvSpPr>
              <p:spPr>
                <a:xfrm>
                  <a:off x="2209680" y="2975040"/>
                  <a:ext cx="4495680" cy="609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2209680" y="3355920"/>
                  <a:ext cx="449568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2209680" y="3660840"/>
                  <a:ext cx="4495680" cy="609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2209680" y="4041720"/>
                  <a:ext cx="449568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2209680" y="4498920"/>
                  <a:ext cx="449568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 flipH="1">
                  <a:off x="2133000" y="3584520"/>
                  <a:ext cx="449604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>
                  <a:off x="2133000" y="3965760"/>
                  <a:ext cx="4496040" cy="609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>
                  <a:off x="2133000" y="4270320"/>
                  <a:ext cx="449604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 flipH="1">
                  <a:off x="2133000" y="4651560"/>
                  <a:ext cx="4496040" cy="609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 flipH="1">
                  <a:off x="2133000" y="5108760"/>
                  <a:ext cx="4496040" cy="609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2209680" y="2975040"/>
                  <a:ext cx="4419720" cy="990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2209680" y="3279960"/>
                  <a:ext cx="4419720" cy="990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2209680" y="3660840"/>
                  <a:ext cx="4419720" cy="990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2286000" y="4118040"/>
                  <a:ext cx="4419360" cy="990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 flipH="1">
                  <a:off x="2286000" y="3584520"/>
                  <a:ext cx="4419360" cy="990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2209320" y="3965760"/>
                  <a:ext cx="4419720" cy="990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2286000" y="4270320"/>
                  <a:ext cx="4419360" cy="990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 flipH="1">
                  <a:off x="2209320" y="4651560"/>
                  <a:ext cx="4419720" cy="990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2209680" y="3355920"/>
                  <a:ext cx="441972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2209680" y="3660840"/>
                  <a:ext cx="441972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2286000" y="4041720"/>
                  <a:ext cx="441936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2209680" y="4422960"/>
                  <a:ext cx="441972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2286000" y="4880160"/>
                  <a:ext cx="441936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>
                  <a:off x="2286000" y="3584520"/>
                  <a:ext cx="4419360" cy="7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 flipH="1">
                  <a:off x="2209320" y="3965760"/>
                  <a:ext cx="4419720" cy="7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>
                  <a:off x="2209320" y="4270320"/>
                  <a:ext cx="4419720" cy="7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>
                  <a:off x="2209320" y="4651560"/>
                  <a:ext cx="4419720" cy="7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 flipH="1">
                  <a:off x="2286000" y="5108760"/>
                  <a:ext cx="4419360" cy="7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2286000" y="2975040"/>
                  <a:ext cx="4267080" cy="1295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2361960" y="3355920"/>
                  <a:ext cx="4267440" cy="1295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2361960" y="3813120"/>
                  <a:ext cx="4267440" cy="1295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 flipH="1">
                  <a:off x="2209320" y="4346640"/>
                  <a:ext cx="4267080" cy="1295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>
                  <a:off x="2285640" y="3965760"/>
                  <a:ext cx="4267080" cy="1295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 flipH="1">
                  <a:off x="2285640" y="3584520"/>
                  <a:ext cx="4267080" cy="1295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 flipV="1">
                  <a:off x="2209680" y="3889440"/>
                  <a:ext cx="4419720" cy="1752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 flipV="1">
                  <a:off x="2209680" y="3584160"/>
                  <a:ext cx="4495680" cy="2057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 flipV="1">
                  <a:off x="2209680" y="3660480"/>
                  <a:ext cx="4419720" cy="1600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>
                  <a:off x="2209680" y="2975040"/>
                  <a:ext cx="4419720" cy="1676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2209680" y="2975040"/>
                  <a:ext cx="4495680" cy="2133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2209680" y="3355920"/>
                  <a:ext cx="4343400" cy="1752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9" name=""/>
              <p:cNvGrpSpPr/>
              <p:nvPr/>
            </p:nvGrpSpPr>
            <p:grpSpPr>
              <a:xfrm>
                <a:off x="1904760" y="2670120"/>
                <a:ext cx="457200" cy="3177360"/>
                <a:chOff x="1904760" y="2670120"/>
                <a:chExt cx="457200" cy="3177360"/>
              </a:xfrm>
            </p:grpSpPr>
            <p:grpSp>
              <p:nvGrpSpPr>
                <p:cNvPr id="280" name=""/>
                <p:cNvGrpSpPr/>
                <p:nvPr/>
              </p:nvGrpSpPr>
              <p:grpSpPr>
                <a:xfrm>
                  <a:off x="1904760" y="2670120"/>
                  <a:ext cx="457200" cy="510120"/>
                  <a:chOff x="1904760" y="2670120"/>
                  <a:chExt cx="457200" cy="510120"/>
                </a:xfrm>
              </p:grpSpPr>
              <p:sp>
                <p:nvSpPr>
                  <p:cNvPr id="281" name=""/>
                  <p:cNvSpPr/>
                  <p:nvPr/>
                </p:nvSpPr>
                <p:spPr>
                  <a:xfrm>
                    <a:off x="1904760" y="2746440"/>
                    <a:ext cx="380880" cy="380880"/>
                  </a:xfrm>
                  <a:prstGeom prst="rect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2" name=""/>
                  <p:cNvSpPr/>
                  <p:nvPr/>
                </p:nvSpPr>
                <p:spPr>
                  <a:xfrm>
                    <a:off x="1904760" y="2670120"/>
                    <a:ext cx="457200" cy="510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t</a:t>
                    </a:r>
                    <a:r>
                      <a:rPr b="0" i="1" lang="en-US" sz="2400" spc="-1" strike="noStrike" baseline="-25000">
                        <a:solidFill>
                          <a:srgbClr val="000000"/>
                        </a:solidFill>
                        <a:latin typeface="Times New Roman"/>
                      </a:rPr>
                      <a:t>1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83" name=""/>
                <p:cNvGrpSpPr/>
                <p:nvPr/>
              </p:nvGrpSpPr>
              <p:grpSpPr>
                <a:xfrm>
                  <a:off x="1904760" y="3051360"/>
                  <a:ext cx="457200" cy="510120"/>
                  <a:chOff x="1904760" y="3051360"/>
                  <a:chExt cx="457200" cy="51012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1904760" y="3127680"/>
                    <a:ext cx="380880" cy="380880"/>
                  </a:xfrm>
                  <a:prstGeom prst="rect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>
                    <a:off x="1904760" y="3051360"/>
                    <a:ext cx="457200" cy="510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t</a:t>
                    </a:r>
                    <a:r>
                      <a:rPr b="0" i="1" lang="en-US" sz="2400" spc="-1" strike="noStrike" baseline="-25000">
                        <a:solidFill>
                          <a:srgbClr val="000000"/>
                        </a:solidFill>
                        <a:latin typeface="Times New Roman"/>
                      </a:rPr>
                      <a:t>2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86" name=""/>
                <p:cNvGrpSpPr/>
                <p:nvPr/>
              </p:nvGrpSpPr>
              <p:grpSpPr>
                <a:xfrm>
                  <a:off x="1904760" y="3432240"/>
                  <a:ext cx="457200" cy="510120"/>
                  <a:chOff x="1904760" y="3432240"/>
                  <a:chExt cx="457200" cy="510120"/>
                </a:xfrm>
              </p:grpSpPr>
              <p:sp>
                <p:nvSpPr>
                  <p:cNvPr id="287" name=""/>
                  <p:cNvSpPr/>
                  <p:nvPr/>
                </p:nvSpPr>
                <p:spPr>
                  <a:xfrm>
                    <a:off x="1904760" y="3508560"/>
                    <a:ext cx="380880" cy="380880"/>
                  </a:xfrm>
                  <a:prstGeom prst="rect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1904760" y="3432240"/>
                    <a:ext cx="457200" cy="510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t</a:t>
                    </a:r>
                    <a:r>
                      <a:rPr b="0" i="1" lang="en-US" sz="2400" spc="-1" strike="noStrike" baseline="-25000">
                        <a:solidFill>
                          <a:srgbClr val="000000"/>
                        </a:solidFill>
                        <a:latin typeface="Times New Roman"/>
                      </a:rPr>
                      <a:t>3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89" name=""/>
                <p:cNvGrpSpPr/>
                <p:nvPr/>
              </p:nvGrpSpPr>
              <p:grpSpPr>
                <a:xfrm>
                  <a:off x="1904760" y="3813120"/>
                  <a:ext cx="457200" cy="510120"/>
                  <a:chOff x="1904760" y="3813120"/>
                  <a:chExt cx="457200" cy="510120"/>
                </a:xfrm>
              </p:grpSpPr>
              <p:sp>
                <p:nvSpPr>
                  <p:cNvPr id="290" name=""/>
                  <p:cNvSpPr/>
                  <p:nvPr/>
                </p:nvSpPr>
                <p:spPr>
                  <a:xfrm>
                    <a:off x="1904760" y="3889440"/>
                    <a:ext cx="380880" cy="380880"/>
                  </a:xfrm>
                  <a:prstGeom prst="rect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1904760" y="3813120"/>
                    <a:ext cx="457200" cy="510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t</a:t>
                    </a:r>
                    <a:r>
                      <a:rPr b="0" i="1" lang="en-US" sz="2400" spc="-1" strike="noStrike" baseline="-25000">
                        <a:solidFill>
                          <a:srgbClr val="000000"/>
                        </a:solidFill>
                        <a:latin typeface="Times New Roman"/>
                      </a:rPr>
                      <a:t>4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92" name=""/>
                <p:cNvGrpSpPr/>
                <p:nvPr/>
              </p:nvGrpSpPr>
              <p:grpSpPr>
                <a:xfrm>
                  <a:off x="1904760" y="4194360"/>
                  <a:ext cx="457200" cy="510120"/>
                  <a:chOff x="1904760" y="4194360"/>
                  <a:chExt cx="457200" cy="510120"/>
                </a:xfrm>
              </p:grpSpPr>
              <p:sp>
                <p:nvSpPr>
                  <p:cNvPr id="293" name=""/>
                  <p:cNvSpPr/>
                  <p:nvPr/>
                </p:nvSpPr>
                <p:spPr>
                  <a:xfrm>
                    <a:off x="1904760" y="4270680"/>
                    <a:ext cx="380880" cy="380880"/>
                  </a:xfrm>
                  <a:prstGeom prst="rect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>
                    <a:off x="1904760" y="4194360"/>
                    <a:ext cx="457200" cy="510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t</a:t>
                    </a:r>
                    <a:r>
                      <a:rPr b="0" i="1" lang="en-US" sz="2400" spc="-1" strike="noStrike" baseline="-25000">
                        <a:solidFill>
                          <a:srgbClr val="000000"/>
                        </a:solidFill>
                        <a:latin typeface="Times New Roman"/>
                      </a:rPr>
                      <a:t>5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95" name=""/>
                <p:cNvGrpSpPr/>
                <p:nvPr/>
              </p:nvGrpSpPr>
              <p:grpSpPr>
                <a:xfrm>
                  <a:off x="1904760" y="4575240"/>
                  <a:ext cx="457200" cy="510120"/>
                  <a:chOff x="1904760" y="4575240"/>
                  <a:chExt cx="457200" cy="510120"/>
                </a:xfrm>
              </p:grpSpPr>
              <p:sp>
                <p:nvSpPr>
                  <p:cNvPr id="296" name=""/>
                  <p:cNvSpPr/>
                  <p:nvPr/>
                </p:nvSpPr>
                <p:spPr>
                  <a:xfrm>
                    <a:off x="1904760" y="4651560"/>
                    <a:ext cx="380880" cy="380880"/>
                  </a:xfrm>
                  <a:prstGeom prst="rect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7" name=""/>
                  <p:cNvSpPr/>
                  <p:nvPr/>
                </p:nvSpPr>
                <p:spPr>
                  <a:xfrm>
                    <a:off x="1904760" y="4575240"/>
                    <a:ext cx="457200" cy="510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t</a:t>
                    </a:r>
                    <a:r>
                      <a:rPr b="0" i="1" lang="en-US" sz="2400" spc="-1" strike="noStrike" baseline="-25000">
                        <a:solidFill>
                          <a:srgbClr val="000000"/>
                        </a:solidFill>
                        <a:latin typeface="Times New Roman"/>
                      </a:rPr>
                      <a:t>6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98" name=""/>
                <p:cNvGrpSpPr/>
                <p:nvPr/>
              </p:nvGrpSpPr>
              <p:grpSpPr>
                <a:xfrm>
                  <a:off x="1904760" y="4956120"/>
                  <a:ext cx="457200" cy="459720"/>
                  <a:chOff x="1904760" y="4956120"/>
                  <a:chExt cx="457200" cy="459720"/>
                </a:xfrm>
              </p:grpSpPr>
              <p:sp>
                <p:nvSpPr>
                  <p:cNvPr id="299" name=""/>
                  <p:cNvSpPr/>
                  <p:nvPr/>
                </p:nvSpPr>
                <p:spPr>
                  <a:xfrm>
                    <a:off x="1904760" y="5032440"/>
                    <a:ext cx="380880" cy="380880"/>
                  </a:xfrm>
                  <a:prstGeom prst="rect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0" name=""/>
                  <p:cNvSpPr/>
                  <p:nvPr/>
                </p:nvSpPr>
                <p:spPr>
                  <a:xfrm>
                    <a:off x="1904760" y="4956120"/>
                    <a:ext cx="4572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...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01" name=""/>
                <p:cNvGrpSpPr/>
                <p:nvPr/>
              </p:nvGrpSpPr>
              <p:grpSpPr>
                <a:xfrm>
                  <a:off x="1904760" y="5337360"/>
                  <a:ext cx="457200" cy="510120"/>
                  <a:chOff x="1904760" y="5337360"/>
                  <a:chExt cx="457200" cy="510120"/>
                </a:xfrm>
              </p:grpSpPr>
              <p:sp>
                <p:nvSpPr>
                  <p:cNvPr id="302" name=""/>
                  <p:cNvSpPr/>
                  <p:nvPr/>
                </p:nvSpPr>
                <p:spPr>
                  <a:xfrm>
                    <a:off x="1904760" y="5413680"/>
                    <a:ext cx="380880" cy="380880"/>
                  </a:xfrm>
                  <a:prstGeom prst="rect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3" name=""/>
                  <p:cNvSpPr/>
                  <p:nvPr/>
                </p:nvSpPr>
                <p:spPr>
                  <a:xfrm>
                    <a:off x="1904760" y="5337360"/>
                    <a:ext cx="457200" cy="510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t</a:t>
                    </a:r>
                    <a:r>
                      <a:rPr b="0" i="1" lang="en-US" sz="2400" spc="-1" strike="noStrike" baseline="-25000">
                        <a:solidFill>
                          <a:srgbClr val="000000"/>
                        </a:solidFill>
                        <a:latin typeface="Times New Roman"/>
                      </a:rPr>
                      <a:t>V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04" name=""/>
              <p:cNvGrpSpPr/>
              <p:nvPr/>
            </p:nvGrpSpPr>
            <p:grpSpPr>
              <a:xfrm>
                <a:off x="6553080" y="3279960"/>
                <a:ext cx="457200" cy="1996560"/>
                <a:chOff x="6553080" y="3279960"/>
                <a:chExt cx="457200" cy="1996560"/>
              </a:xfrm>
            </p:grpSpPr>
            <p:grpSp>
              <p:nvGrpSpPr>
                <p:cNvPr id="305" name=""/>
                <p:cNvGrpSpPr/>
                <p:nvPr/>
              </p:nvGrpSpPr>
              <p:grpSpPr>
                <a:xfrm>
                  <a:off x="6553080" y="3279960"/>
                  <a:ext cx="457200" cy="510120"/>
                  <a:chOff x="6553080" y="3279960"/>
                  <a:chExt cx="457200" cy="510120"/>
                </a:xfrm>
              </p:grpSpPr>
              <p:sp>
                <p:nvSpPr>
                  <p:cNvPr id="306" name=""/>
                  <p:cNvSpPr/>
                  <p:nvPr/>
                </p:nvSpPr>
                <p:spPr>
                  <a:xfrm>
                    <a:off x="6553080" y="3356280"/>
                    <a:ext cx="380880" cy="380880"/>
                  </a:xfrm>
                  <a:prstGeom prst="rect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7" name=""/>
                  <p:cNvSpPr/>
                  <p:nvPr/>
                </p:nvSpPr>
                <p:spPr>
                  <a:xfrm>
                    <a:off x="6553080" y="3279960"/>
                    <a:ext cx="457200" cy="510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d</a:t>
                    </a:r>
                    <a:r>
                      <a:rPr b="0" i="1" lang="en-US" sz="2400" spc="-1" strike="noStrike" baseline="-25000">
                        <a:solidFill>
                          <a:srgbClr val="000000"/>
                        </a:solidFill>
                        <a:latin typeface="Times New Roman"/>
                      </a:rPr>
                      <a:t>1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08" name=""/>
                <p:cNvGrpSpPr/>
                <p:nvPr/>
              </p:nvGrpSpPr>
              <p:grpSpPr>
                <a:xfrm>
                  <a:off x="6553080" y="3660840"/>
                  <a:ext cx="457200" cy="510120"/>
                  <a:chOff x="6553080" y="3660840"/>
                  <a:chExt cx="457200" cy="510120"/>
                </a:xfrm>
              </p:grpSpPr>
              <p:sp>
                <p:nvSpPr>
                  <p:cNvPr id="309" name=""/>
                  <p:cNvSpPr/>
                  <p:nvPr/>
                </p:nvSpPr>
                <p:spPr>
                  <a:xfrm>
                    <a:off x="6553080" y="3737160"/>
                    <a:ext cx="380880" cy="380880"/>
                  </a:xfrm>
                  <a:prstGeom prst="rect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0" name=""/>
                  <p:cNvSpPr/>
                  <p:nvPr/>
                </p:nvSpPr>
                <p:spPr>
                  <a:xfrm>
                    <a:off x="6553080" y="3660840"/>
                    <a:ext cx="457200" cy="510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d</a:t>
                    </a:r>
                    <a:r>
                      <a:rPr b="0" i="1" lang="en-US" sz="2400" spc="-1" strike="noStrike" baseline="-25000">
                        <a:solidFill>
                          <a:srgbClr val="000000"/>
                        </a:solidFill>
                        <a:latin typeface="Times New Roman"/>
                      </a:rPr>
                      <a:t>2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11" name=""/>
                <p:cNvGrpSpPr/>
                <p:nvPr/>
              </p:nvGrpSpPr>
              <p:grpSpPr>
                <a:xfrm>
                  <a:off x="6553080" y="4041720"/>
                  <a:ext cx="457200" cy="510120"/>
                  <a:chOff x="6553080" y="4041720"/>
                  <a:chExt cx="457200" cy="510120"/>
                </a:xfrm>
              </p:grpSpPr>
              <p:sp>
                <p:nvSpPr>
                  <p:cNvPr id="312" name=""/>
                  <p:cNvSpPr/>
                  <p:nvPr/>
                </p:nvSpPr>
                <p:spPr>
                  <a:xfrm>
                    <a:off x="6553080" y="4118040"/>
                    <a:ext cx="380880" cy="380880"/>
                  </a:xfrm>
                  <a:prstGeom prst="rect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3" name=""/>
                  <p:cNvSpPr/>
                  <p:nvPr/>
                </p:nvSpPr>
                <p:spPr>
                  <a:xfrm>
                    <a:off x="6553080" y="4041720"/>
                    <a:ext cx="457200" cy="510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d</a:t>
                    </a:r>
                    <a:r>
                      <a:rPr b="0" i="1" lang="en-US" sz="2400" spc="-1" strike="noStrike" baseline="-25000">
                        <a:solidFill>
                          <a:srgbClr val="000000"/>
                        </a:solidFill>
                        <a:latin typeface="Times New Roman"/>
                      </a:rPr>
                      <a:t>3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14" name=""/>
                <p:cNvGrpSpPr/>
                <p:nvPr/>
              </p:nvGrpSpPr>
              <p:grpSpPr>
                <a:xfrm>
                  <a:off x="6553080" y="4422960"/>
                  <a:ext cx="457200" cy="459720"/>
                  <a:chOff x="6553080" y="4422960"/>
                  <a:chExt cx="457200" cy="45972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6553080" y="4499280"/>
                    <a:ext cx="380880" cy="380880"/>
                  </a:xfrm>
                  <a:prstGeom prst="rect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6553080" y="4422960"/>
                    <a:ext cx="4572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...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17" name=""/>
                <p:cNvGrpSpPr/>
                <p:nvPr/>
              </p:nvGrpSpPr>
              <p:grpSpPr>
                <a:xfrm>
                  <a:off x="6553080" y="4803840"/>
                  <a:ext cx="457200" cy="472680"/>
                  <a:chOff x="6553080" y="4803840"/>
                  <a:chExt cx="457200" cy="472680"/>
                </a:xfrm>
              </p:grpSpPr>
              <p:sp>
                <p:nvSpPr>
                  <p:cNvPr id="318" name=""/>
                  <p:cNvSpPr/>
                  <p:nvPr/>
                </p:nvSpPr>
                <p:spPr>
                  <a:xfrm>
                    <a:off x="6553080" y="4880160"/>
                    <a:ext cx="380880" cy="380880"/>
                  </a:xfrm>
                  <a:prstGeom prst="rect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9" name=""/>
                  <p:cNvSpPr/>
                  <p:nvPr/>
                </p:nvSpPr>
                <p:spPr>
                  <a:xfrm>
                    <a:off x="6553080" y="4803840"/>
                    <a:ext cx="457200" cy="472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d</a:t>
                    </a:r>
                    <a:r>
                      <a:rPr b="0" i="1" lang="en-US" sz="1600" spc="-1" strike="noStrike" baseline="-25000">
                        <a:solidFill>
                          <a:srgbClr val="000000"/>
                        </a:solidFill>
                        <a:latin typeface="Times New Roman"/>
                      </a:rPr>
                      <a:t>M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320" name=""/>
            <p:cNvSpPr/>
            <p:nvPr/>
          </p:nvSpPr>
          <p:spPr>
            <a:xfrm>
              <a:off x="1536480" y="5950080"/>
              <a:ext cx="131580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p(t</a:t>
              </a:r>
              <a:r>
                <a:rPr b="1" i="1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|d</a:t>
              </a:r>
              <a:r>
                <a:rPr b="1" i="1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j</a:t>
              </a: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986440" y="5946840"/>
              <a:ext cx="131580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p(d</a:t>
              </a:r>
              <a:r>
                <a:rPr b="1" i="1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j</a:t>
              </a: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|t</a:t>
              </a:r>
              <a:r>
                <a:rPr b="1" i="1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692280" y="2514600"/>
            <a:ext cx="7772400" cy="4150800"/>
            <a:chOff x="692280" y="2514600"/>
            <a:chExt cx="7772400" cy="4150800"/>
          </a:xfrm>
        </p:grpSpPr>
        <p:sp>
          <p:nvSpPr>
            <p:cNvPr id="323" name=""/>
            <p:cNvSpPr/>
            <p:nvPr/>
          </p:nvSpPr>
          <p:spPr>
            <a:xfrm>
              <a:off x="692280" y="2514600"/>
              <a:ext cx="7772400" cy="4114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4" name=""/>
            <p:cNvGrpSpPr/>
            <p:nvPr/>
          </p:nvGrpSpPr>
          <p:grpSpPr>
            <a:xfrm>
              <a:off x="1547280" y="2667240"/>
              <a:ext cx="5876280" cy="3998160"/>
              <a:chOff x="1547280" y="2667240"/>
              <a:chExt cx="5876280" cy="3998160"/>
            </a:xfrm>
          </p:grpSpPr>
          <p:grpSp>
            <p:nvGrpSpPr>
              <p:cNvPr id="325" name=""/>
              <p:cNvGrpSpPr/>
              <p:nvPr/>
            </p:nvGrpSpPr>
            <p:grpSpPr>
              <a:xfrm>
                <a:off x="4425840" y="3505320"/>
                <a:ext cx="2286000" cy="1600560"/>
                <a:chOff x="4425840" y="3505320"/>
                <a:chExt cx="2286000" cy="1600560"/>
              </a:xfrm>
            </p:grpSpPr>
            <p:sp>
              <p:nvSpPr>
                <p:cNvPr id="326" name=""/>
                <p:cNvSpPr/>
                <p:nvPr/>
              </p:nvSpPr>
              <p:spPr>
                <a:xfrm flipV="1">
                  <a:off x="4425840" y="3505680"/>
                  <a:ext cx="221004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4425840" y="3962880"/>
                  <a:ext cx="22860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>
                  <a:off x="4425840" y="3962880"/>
                  <a:ext cx="2286000" cy="380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>
                  <a:off x="4425840" y="3962880"/>
                  <a:ext cx="2210040" cy="761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4425840" y="3962880"/>
                  <a:ext cx="2210040" cy="1143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31" name=""/>
                <p:cNvGrpSpPr/>
                <p:nvPr/>
              </p:nvGrpSpPr>
              <p:grpSpPr>
                <a:xfrm>
                  <a:off x="4425840" y="3505320"/>
                  <a:ext cx="2286000" cy="1600200"/>
                  <a:chOff x="4425840" y="3505320"/>
                  <a:chExt cx="2286000" cy="1600200"/>
                </a:xfrm>
              </p:grpSpPr>
              <p:sp>
                <p:nvSpPr>
                  <p:cNvPr id="332" name=""/>
                  <p:cNvSpPr/>
                  <p:nvPr/>
                </p:nvSpPr>
                <p:spPr>
                  <a:xfrm>
                    <a:off x="4425840" y="4648320"/>
                    <a:ext cx="2210040" cy="4572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3" name=""/>
                  <p:cNvSpPr/>
                  <p:nvPr/>
                </p:nvSpPr>
                <p:spPr>
                  <a:xfrm>
                    <a:off x="4425840" y="4648320"/>
                    <a:ext cx="22860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4" name=""/>
                  <p:cNvSpPr/>
                  <p:nvPr/>
                </p:nvSpPr>
                <p:spPr>
                  <a:xfrm flipV="1">
                    <a:off x="4425840" y="4267440"/>
                    <a:ext cx="2286000" cy="3808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5" name=""/>
                  <p:cNvSpPr/>
                  <p:nvPr/>
                </p:nvSpPr>
                <p:spPr>
                  <a:xfrm flipV="1">
                    <a:off x="4425840" y="3886560"/>
                    <a:ext cx="2210040" cy="7617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6" name=""/>
                  <p:cNvSpPr/>
                  <p:nvPr/>
                </p:nvSpPr>
                <p:spPr>
                  <a:xfrm flipV="1">
                    <a:off x="4425840" y="3505320"/>
                    <a:ext cx="2210040" cy="11430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37" name=""/>
                <p:cNvSpPr/>
                <p:nvPr/>
              </p:nvSpPr>
              <p:spPr>
                <a:xfrm>
                  <a:off x="4425840" y="4343760"/>
                  <a:ext cx="2210040" cy="380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>
                  <a:off x="4425840" y="4343760"/>
                  <a:ext cx="22860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 flipV="1">
                  <a:off x="4425840" y="3962880"/>
                  <a:ext cx="2286000" cy="380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 flipV="1">
                  <a:off x="4425840" y="3581280"/>
                  <a:ext cx="2210040" cy="762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4425840" y="4343760"/>
                  <a:ext cx="2210040" cy="762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2" name=""/>
              <p:cNvGrpSpPr/>
              <p:nvPr/>
            </p:nvGrpSpPr>
            <p:grpSpPr>
              <a:xfrm>
                <a:off x="2139840" y="2972160"/>
                <a:ext cx="2057400" cy="2743200"/>
                <a:chOff x="2139840" y="2972160"/>
                <a:chExt cx="2057400" cy="2743200"/>
              </a:xfrm>
            </p:grpSpPr>
            <p:sp>
              <p:nvSpPr>
                <p:cNvPr id="343" name=""/>
                <p:cNvSpPr/>
                <p:nvPr/>
              </p:nvSpPr>
              <p:spPr>
                <a:xfrm flipV="1">
                  <a:off x="2216160" y="4724640"/>
                  <a:ext cx="1981080" cy="914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 flipV="1">
                  <a:off x="2216160" y="4724640"/>
                  <a:ext cx="1981080" cy="533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 flipV="1">
                  <a:off x="2216160" y="4724640"/>
                  <a:ext cx="1981080" cy="7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2216160" y="4496040"/>
                  <a:ext cx="198108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>
                  <a:off x="2139840" y="4115160"/>
                  <a:ext cx="2057400" cy="609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>
                  <a:off x="2216160" y="3734280"/>
                  <a:ext cx="1981080" cy="990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>
                  <a:off x="2139840" y="3353040"/>
                  <a:ext cx="2057400" cy="1371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2139840" y="2972160"/>
                  <a:ext cx="2057400" cy="1752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 flipV="1">
                  <a:off x="2216160" y="4343760"/>
                  <a:ext cx="1981080" cy="914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 flipV="1">
                  <a:off x="2216160" y="4343760"/>
                  <a:ext cx="1981080" cy="533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 flipV="1">
                  <a:off x="2216160" y="4343760"/>
                  <a:ext cx="1981080" cy="7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2216160" y="4115160"/>
                  <a:ext cx="198108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2139840" y="3734280"/>
                  <a:ext cx="2057400" cy="609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>
                  <a:off x="2216160" y="3353040"/>
                  <a:ext cx="1981080" cy="990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>
                  <a:off x="2139840" y="2972160"/>
                  <a:ext cx="2057400" cy="1371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 flipV="1">
                  <a:off x="2216160" y="3962880"/>
                  <a:ext cx="1981080" cy="914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 flipV="1">
                  <a:off x="2216160" y="3962520"/>
                  <a:ext cx="1981080" cy="533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 flipV="1">
                  <a:off x="2216160" y="3962520"/>
                  <a:ext cx="1981080" cy="7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2216160" y="3734280"/>
                  <a:ext cx="198108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2139840" y="3353040"/>
                  <a:ext cx="205740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>
                  <a:off x="2216160" y="2972160"/>
                  <a:ext cx="1981080" cy="990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 flipV="1">
                  <a:off x="2216160" y="4343760"/>
                  <a:ext cx="1981080" cy="1295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 flipV="1">
                  <a:off x="2216160" y="3962880"/>
                  <a:ext cx="1981080" cy="1752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 flipV="1">
                  <a:off x="2216160" y="3962880"/>
                  <a:ext cx="1981080" cy="1295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7" name=""/>
              <p:cNvGrpSpPr/>
              <p:nvPr/>
            </p:nvGrpSpPr>
            <p:grpSpPr>
              <a:xfrm>
                <a:off x="1911240" y="2667240"/>
                <a:ext cx="457200" cy="3177360"/>
                <a:chOff x="1911240" y="2667240"/>
                <a:chExt cx="457200" cy="3177360"/>
              </a:xfrm>
            </p:grpSpPr>
            <p:grpSp>
              <p:nvGrpSpPr>
                <p:cNvPr id="368" name=""/>
                <p:cNvGrpSpPr/>
                <p:nvPr/>
              </p:nvGrpSpPr>
              <p:grpSpPr>
                <a:xfrm>
                  <a:off x="1911240" y="2667240"/>
                  <a:ext cx="457200" cy="510120"/>
                  <a:chOff x="1911240" y="2667240"/>
                  <a:chExt cx="457200" cy="510120"/>
                </a:xfrm>
              </p:grpSpPr>
              <p:sp>
                <p:nvSpPr>
                  <p:cNvPr id="369" name=""/>
                  <p:cNvSpPr/>
                  <p:nvPr/>
                </p:nvSpPr>
                <p:spPr>
                  <a:xfrm>
                    <a:off x="1911240" y="2743560"/>
                    <a:ext cx="380880" cy="380880"/>
                  </a:xfrm>
                  <a:prstGeom prst="rect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0" name=""/>
                  <p:cNvSpPr/>
                  <p:nvPr/>
                </p:nvSpPr>
                <p:spPr>
                  <a:xfrm>
                    <a:off x="1911240" y="2667240"/>
                    <a:ext cx="457200" cy="510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t</a:t>
                    </a:r>
                    <a:r>
                      <a:rPr b="0" i="1" lang="en-US" sz="2400" spc="-1" strike="noStrike" baseline="-25000">
                        <a:solidFill>
                          <a:srgbClr val="000000"/>
                        </a:solidFill>
                        <a:latin typeface="Times New Roman"/>
                      </a:rPr>
                      <a:t>1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1" name=""/>
                <p:cNvGrpSpPr/>
                <p:nvPr/>
              </p:nvGrpSpPr>
              <p:grpSpPr>
                <a:xfrm>
                  <a:off x="1911240" y="3048480"/>
                  <a:ext cx="457200" cy="510120"/>
                  <a:chOff x="1911240" y="3048480"/>
                  <a:chExt cx="457200" cy="510120"/>
                </a:xfrm>
              </p:grpSpPr>
              <p:sp>
                <p:nvSpPr>
                  <p:cNvPr id="372" name=""/>
                  <p:cNvSpPr/>
                  <p:nvPr/>
                </p:nvSpPr>
                <p:spPr>
                  <a:xfrm>
                    <a:off x="1911240" y="3124800"/>
                    <a:ext cx="380880" cy="380880"/>
                  </a:xfrm>
                  <a:prstGeom prst="rect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3" name=""/>
                  <p:cNvSpPr/>
                  <p:nvPr/>
                </p:nvSpPr>
                <p:spPr>
                  <a:xfrm>
                    <a:off x="1911240" y="3048480"/>
                    <a:ext cx="457200" cy="510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t</a:t>
                    </a:r>
                    <a:r>
                      <a:rPr b="0" i="1" lang="en-US" sz="2400" spc="-1" strike="noStrike" baseline="-25000">
                        <a:solidFill>
                          <a:srgbClr val="000000"/>
                        </a:solidFill>
                        <a:latin typeface="Times New Roman"/>
                      </a:rPr>
                      <a:t>2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4" name=""/>
                <p:cNvGrpSpPr/>
                <p:nvPr/>
              </p:nvGrpSpPr>
              <p:grpSpPr>
                <a:xfrm>
                  <a:off x="1911240" y="3429360"/>
                  <a:ext cx="457200" cy="510120"/>
                  <a:chOff x="1911240" y="3429360"/>
                  <a:chExt cx="457200" cy="510120"/>
                </a:xfrm>
              </p:grpSpPr>
              <p:sp>
                <p:nvSpPr>
                  <p:cNvPr id="375" name=""/>
                  <p:cNvSpPr/>
                  <p:nvPr/>
                </p:nvSpPr>
                <p:spPr>
                  <a:xfrm>
                    <a:off x="1911240" y="3505680"/>
                    <a:ext cx="380880" cy="380880"/>
                  </a:xfrm>
                  <a:prstGeom prst="rect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6" name=""/>
                  <p:cNvSpPr/>
                  <p:nvPr/>
                </p:nvSpPr>
                <p:spPr>
                  <a:xfrm>
                    <a:off x="1911240" y="3429360"/>
                    <a:ext cx="457200" cy="510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t</a:t>
                    </a:r>
                    <a:r>
                      <a:rPr b="0" i="1" lang="en-US" sz="2400" spc="-1" strike="noStrike" baseline="-25000">
                        <a:solidFill>
                          <a:srgbClr val="000000"/>
                        </a:solidFill>
                        <a:latin typeface="Times New Roman"/>
                      </a:rPr>
                      <a:t>3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7" name=""/>
                <p:cNvGrpSpPr/>
                <p:nvPr/>
              </p:nvGrpSpPr>
              <p:grpSpPr>
                <a:xfrm>
                  <a:off x="1911240" y="3810240"/>
                  <a:ext cx="457200" cy="510120"/>
                  <a:chOff x="1911240" y="3810240"/>
                  <a:chExt cx="457200" cy="510120"/>
                </a:xfrm>
              </p:grpSpPr>
              <p:sp>
                <p:nvSpPr>
                  <p:cNvPr id="378" name=""/>
                  <p:cNvSpPr/>
                  <p:nvPr/>
                </p:nvSpPr>
                <p:spPr>
                  <a:xfrm>
                    <a:off x="1911240" y="3886560"/>
                    <a:ext cx="380880" cy="380880"/>
                  </a:xfrm>
                  <a:prstGeom prst="rect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9" name=""/>
                  <p:cNvSpPr/>
                  <p:nvPr/>
                </p:nvSpPr>
                <p:spPr>
                  <a:xfrm>
                    <a:off x="1911240" y="3810240"/>
                    <a:ext cx="457200" cy="510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t</a:t>
                    </a:r>
                    <a:r>
                      <a:rPr b="0" i="1" lang="en-US" sz="2400" spc="-1" strike="noStrike" baseline="-25000">
                        <a:solidFill>
                          <a:srgbClr val="000000"/>
                        </a:solidFill>
                        <a:latin typeface="Times New Roman"/>
                      </a:rPr>
                      <a:t>4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80" name=""/>
                <p:cNvGrpSpPr/>
                <p:nvPr/>
              </p:nvGrpSpPr>
              <p:grpSpPr>
                <a:xfrm>
                  <a:off x="1911240" y="4191480"/>
                  <a:ext cx="457200" cy="510120"/>
                  <a:chOff x="1911240" y="4191480"/>
                  <a:chExt cx="457200" cy="510120"/>
                </a:xfrm>
              </p:grpSpPr>
              <p:sp>
                <p:nvSpPr>
                  <p:cNvPr id="381" name=""/>
                  <p:cNvSpPr/>
                  <p:nvPr/>
                </p:nvSpPr>
                <p:spPr>
                  <a:xfrm>
                    <a:off x="1911240" y="4267800"/>
                    <a:ext cx="380880" cy="380880"/>
                  </a:xfrm>
                  <a:prstGeom prst="rect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2" name=""/>
                  <p:cNvSpPr/>
                  <p:nvPr/>
                </p:nvSpPr>
                <p:spPr>
                  <a:xfrm>
                    <a:off x="1911240" y="4191480"/>
                    <a:ext cx="457200" cy="510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t</a:t>
                    </a:r>
                    <a:r>
                      <a:rPr b="0" i="1" lang="en-US" sz="2400" spc="-1" strike="noStrike" baseline="-25000">
                        <a:solidFill>
                          <a:srgbClr val="000000"/>
                        </a:solidFill>
                        <a:latin typeface="Times New Roman"/>
                      </a:rPr>
                      <a:t>5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83" name=""/>
                <p:cNvGrpSpPr/>
                <p:nvPr/>
              </p:nvGrpSpPr>
              <p:grpSpPr>
                <a:xfrm>
                  <a:off x="1911240" y="4572360"/>
                  <a:ext cx="457200" cy="510120"/>
                  <a:chOff x="1911240" y="4572360"/>
                  <a:chExt cx="457200" cy="510120"/>
                </a:xfrm>
              </p:grpSpPr>
              <p:sp>
                <p:nvSpPr>
                  <p:cNvPr id="384" name=""/>
                  <p:cNvSpPr/>
                  <p:nvPr/>
                </p:nvSpPr>
                <p:spPr>
                  <a:xfrm>
                    <a:off x="1911240" y="4648680"/>
                    <a:ext cx="380880" cy="380880"/>
                  </a:xfrm>
                  <a:prstGeom prst="rect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5" name=""/>
                  <p:cNvSpPr/>
                  <p:nvPr/>
                </p:nvSpPr>
                <p:spPr>
                  <a:xfrm>
                    <a:off x="1911240" y="4572360"/>
                    <a:ext cx="457200" cy="510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t</a:t>
                    </a:r>
                    <a:r>
                      <a:rPr b="0" i="1" lang="en-US" sz="2400" spc="-1" strike="noStrike" baseline="-25000">
                        <a:solidFill>
                          <a:srgbClr val="000000"/>
                        </a:solidFill>
                        <a:latin typeface="Times New Roman"/>
                      </a:rPr>
                      <a:t>6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86" name=""/>
                <p:cNvGrpSpPr/>
                <p:nvPr/>
              </p:nvGrpSpPr>
              <p:grpSpPr>
                <a:xfrm>
                  <a:off x="1911240" y="4953240"/>
                  <a:ext cx="457200" cy="459720"/>
                  <a:chOff x="1911240" y="4953240"/>
                  <a:chExt cx="457200" cy="459720"/>
                </a:xfrm>
              </p:grpSpPr>
              <p:sp>
                <p:nvSpPr>
                  <p:cNvPr id="387" name=""/>
                  <p:cNvSpPr/>
                  <p:nvPr/>
                </p:nvSpPr>
                <p:spPr>
                  <a:xfrm>
                    <a:off x="1911240" y="5029560"/>
                    <a:ext cx="380880" cy="380880"/>
                  </a:xfrm>
                  <a:prstGeom prst="rect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8" name=""/>
                  <p:cNvSpPr/>
                  <p:nvPr/>
                </p:nvSpPr>
                <p:spPr>
                  <a:xfrm>
                    <a:off x="1911240" y="4953240"/>
                    <a:ext cx="4572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...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89" name=""/>
                <p:cNvGrpSpPr/>
                <p:nvPr/>
              </p:nvGrpSpPr>
              <p:grpSpPr>
                <a:xfrm>
                  <a:off x="1911240" y="5334480"/>
                  <a:ext cx="457200" cy="510120"/>
                  <a:chOff x="1911240" y="5334480"/>
                  <a:chExt cx="457200" cy="510120"/>
                </a:xfrm>
              </p:grpSpPr>
              <p:sp>
                <p:nvSpPr>
                  <p:cNvPr id="390" name=""/>
                  <p:cNvSpPr/>
                  <p:nvPr/>
                </p:nvSpPr>
                <p:spPr>
                  <a:xfrm>
                    <a:off x="1911240" y="5410800"/>
                    <a:ext cx="380880" cy="380880"/>
                  </a:xfrm>
                  <a:prstGeom prst="rect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1" name=""/>
                  <p:cNvSpPr/>
                  <p:nvPr/>
                </p:nvSpPr>
                <p:spPr>
                  <a:xfrm>
                    <a:off x="1911240" y="5334480"/>
                    <a:ext cx="457200" cy="510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t</a:t>
                    </a:r>
                    <a:r>
                      <a:rPr b="0" i="1" lang="en-US" sz="2400" spc="-1" strike="noStrike" baseline="-25000">
                        <a:solidFill>
                          <a:srgbClr val="000000"/>
                        </a:solidFill>
                        <a:latin typeface="Times New Roman"/>
                      </a:rPr>
                      <a:t>V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92" name=""/>
              <p:cNvGrpSpPr/>
              <p:nvPr/>
            </p:nvGrpSpPr>
            <p:grpSpPr>
              <a:xfrm>
                <a:off x="6559560" y="3277080"/>
                <a:ext cx="457200" cy="1996560"/>
                <a:chOff x="6559560" y="3277080"/>
                <a:chExt cx="457200" cy="1996560"/>
              </a:xfrm>
            </p:grpSpPr>
            <p:grpSp>
              <p:nvGrpSpPr>
                <p:cNvPr id="393" name=""/>
                <p:cNvGrpSpPr/>
                <p:nvPr/>
              </p:nvGrpSpPr>
              <p:grpSpPr>
                <a:xfrm>
                  <a:off x="6559560" y="3277080"/>
                  <a:ext cx="457200" cy="510120"/>
                  <a:chOff x="6559560" y="3277080"/>
                  <a:chExt cx="457200" cy="510120"/>
                </a:xfrm>
              </p:grpSpPr>
              <p:sp>
                <p:nvSpPr>
                  <p:cNvPr id="394" name=""/>
                  <p:cNvSpPr/>
                  <p:nvPr/>
                </p:nvSpPr>
                <p:spPr>
                  <a:xfrm>
                    <a:off x="6559560" y="3353400"/>
                    <a:ext cx="380880" cy="380880"/>
                  </a:xfrm>
                  <a:prstGeom prst="rect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5" name=""/>
                  <p:cNvSpPr/>
                  <p:nvPr/>
                </p:nvSpPr>
                <p:spPr>
                  <a:xfrm>
                    <a:off x="6559560" y="3277080"/>
                    <a:ext cx="457200" cy="510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d</a:t>
                    </a:r>
                    <a:r>
                      <a:rPr b="0" i="1" lang="en-US" sz="2400" spc="-1" strike="noStrike" baseline="-25000">
                        <a:solidFill>
                          <a:srgbClr val="000000"/>
                        </a:solidFill>
                        <a:latin typeface="Times New Roman"/>
                      </a:rPr>
                      <a:t>1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96" name=""/>
                <p:cNvGrpSpPr/>
                <p:nvPr/>
              </p:nvGrpSpPr>
              <p:grpSpPr>
                <a:xfrm>
                  <a:off x="6559560" y="3657960"/>
                  <a:ext cx="457200" cy="510120"/>
                  <a:chOff x="6559560" y="3657960"/>
                  <a:chExt cx="457200" cy="510120"/>
                </a:xfrm>
              </p:grpSpPr>
              <p:sp>
                <p:nvSpPr>
                  <p:cNvPr id="397" name=""/>
                  <p:cNvSpPr/>
                  <p:nvPr/>
                </p:nvSpPr>
                <p:spPr>
                  <a:xfrm>
                    <a:off x="6559560" y="3734280"/>
                    <a:ext cx="380880" cy="380880"/>
                  </a:xfrm>
                  <a:prstGeom prst="rect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8" name=""/>
                  <p:cNvSpPr/>
                  <p:nvPr/>
                </p:nvSpPr>
                <p:spPr>
                  <a:xfrm>
                    <a:off x="6559560" y="3657960"/>
                    <a:ext cx="457200" cy="510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d</a:t>
                    </a:r>
                    <a:r>
                      <a:rPr b="0" i="1" lang="en-US" sz="2400" spc="-1" strike="noStrike" baseline="-25000">
                        <a:solidFill>
                          <a:srgbClr val="000000"/>
                        </a:solidFill>
                        <a:latin typeface="Times New Roman"/>
                      </a:rPr>
                      <a:t>2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99" name=""/>
                <p:cNvGrpSpPr/>
                <p:nvPr/>
              </p:nvGrpSpPr>
              <p:grpSpPr>
                <a:xfrm>
                  <a:off x="6559560" y="4038840"/>
                  <a:ext cx="457200" cy="510120"/>
                  <a:chOff x="6559560" y="4038840"/>
                  <a:chExt cx="457200" cy="510120"/>
                </a:xfrm>
              </p:grpSpPr>
              <p:sp>
                <p:nvSpPr>
                  <p:cNvPr id="400" name=""/>
                  <p:cNvSpPr/>
                  <p:nvPr/>
                </p:nvSpPr>
                <p:spPr>
                  <a:xfrm>
                    <a:off x="6559560" y="4115160"/>
                    <a:ext cx="380880" cy="380880"/>
                  </a:xfrm>
                  <a:prstGeom prst="rect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1" name=""/>
                  <p:cNvSpPr/>
                  <p:nvPr/>
                </p:nvSpPr>
                <p:spPr>
                  <a:xfrm>
                    <a:off x="6559560" y="4038840"/>
                    <a:ext cx="457200" cy="510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d</a:t>
                    </a:r>
                    <a:r>
                      <a:rPr b="0" i="1" lang="en-US" sz="2400" spc="-1" strike="noStrike" baseline="-25000">
                        <a:solidFill>
                          <a:srgbClr val="000000"/>
                        </a:solidFill>
                        <a:latin typeface="Times New Roman"/>
                      </a:rPr>
                      <a:t>3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02" name=""/>
                <p:cNvGrpSpPr/>
                <p:nvPr/>
              </p:nvGrpSpPr>
              <p:grpSpPr>
                <a:xfrm>
                  <a:off x="6559560" y="4420080"/>
                  <a:ext cx="457200" cy="459720"/>
                  <a:chOff x="6559560" y="4420080"/>
                  <a:chExt cx="457200" cy="459720"/>
                </a:xfrm>
              </p:grpSpPr>
              <p:sp>
                <p:nvSpPr>
                  <p:cNvPr id="403" name=""/>
                  <p:cNvSpPr/>
                  <p:nvPr/>
                </p:nvSpPr>
                <p:spPr>
                  <a:xfrm>
                    <a:off x="6559560" y="4496400"/>
                    <a:ext cx="380880" cy="380880"/>
                  </a:xfrm>
                  <a:prstGeom prst="rect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4" name=""/>
                  <p:cNvSpPr/>
                  <p:nvPr/>
                </p:nvSpPr>
                <p:spPr>
                  <a:xfrm>
                    <a:off x="6559560" y="4420080"/>
                    <a:ext cx="4572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...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05" name=""/>
                <p:cNvGrpSpPr/>
                <p:nvPr/>
              </p:nvGrpSpPr>
              <p:grpSpPr>
                <a:xfrm>
                  <a:off x="6559560" y="4800960"/>
                  <a:ext cx="457200" cy="472680"/>
                  <a:chOff x="6559560" y="4800960"/>
                  <a:chExt cx="457200" cy="472680"/>
                </a:xfrm>
              </p:grpSpPr>
              <p:sp>
                <p:nvSpPr>
                  <p:cNvPr id="406" name=""/>
                  <p:cNvSpPr/>
                  <p:nvPr/>
                </p:nvSpPr>
                <p:spPr>
                  <a:xfrm>
                    <a:off x="6559560" y="4877280"/>
                    <a:ext cx="380880" cy="380880"/>
                  </a:xfrm>
                  <a:prstGeom prst="rect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7" name=""/>
                  <p:cNvSpPr/>
                  <p:nvPr/>
                </p:nvSpPr>
                <p:spPr>
                  <a:xfrm>
                    <a:off x="6559560" y="4800960"/>
                    <a:ext cx="457200" cy="472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d</a:t>
                    </a:r>
                    <a:r>
                      <a:rPr b="0" i="1" lang="en-US" sz="1600" spc="-1" strike="noStrike" baseline="-25000">
                        <a:solidFill>
                          <a:srgbClr val="000000"/>
                        </a:solidFill>
                        <a:latin typeface="Times New Roman"/>
                      </a:rPr>
                      <a:t>M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408" name=""/>
              <p:cNvSpPr/>
              <p:nvPr/>
            </p:nvSpPr>
            <p:spPr>
              <a:xfrm>
                <a:off x="1547280" y="5947200"/>
                <a:ext cx="1325160" cy="71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600" spc="-1" strike="noStrike">
                    <a:solidFill>
                      <a:srgbClr val="000000"/>
                    </a:solidFill>
                    <a:latin typeface="Times New Roman"/>
                  </a:rPr>
                  <a:t>p(t</a:t>
                </a:r>
                <a:r>
                  <a:rPr b="1" i="1" lang="en-US" sz="3600" spc="-1" strike="noStrike" baseline="-25000">
                    <a:solidFill>
                      <a:srgbClr val="000000"/>
                    </a:solidFill>
                    <a:latin typeface="Times New Roman"/>
                  </a:rPr>
                  <a:t>i</a:t>
                </a:r>
                <a:r>
                  <a:rPr b="1" i="1" lang="en-US" sz="3600" spc="-1" strike="noStrike">
                    <a:solidFill>
                      <a:srgbClr val="000000"/>
                    </a:solidFill>
                    <a:latin typeface="Times New Roman"/>
                  </a:rPr>
                  <a:t>|z</a:t>
                </a:r>
                <a:r>
                  <a:rPr b="1" i="1" lang="en-US" sz="3600" spc="-1" strike="noStrike" baseline="-25000">
                    <a:solidFill>
                      <a:srgbClr val="000000"/>
                    </a:solidFill>
                    <a:latin typeface="Times New Roman"/>
                  </a:rPr>
                  <a:t>k</a:t>
                </a:r>
                <a:r>
                  <a:rPr b="1" i="1" lang="en-US" sz="36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5996520" y="5943960"/>
                <a:ext cx="1427040" cy="71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600" spc="-1" strike="noStrike">
                    <a:solidFill>
                      <a:srgbClr val="000000"/>
                    </a:solidFill>
                    <a:latin typeface="Times New Roman"/>
                  </a:rPr>
                  <a:t>p(d</a:t>
                </a:r>
                <a:r>
                  <a:rPr b="1" i="1" lang="en-US" sz="3600" spc="-1" strike="noStrike" baseline="-25000">
                    <a:solidFill>
                      <a:srgbClr val="000000"/>
                    </a:solidFill>
                    <a:latin typeface="Times New Roman"/>
                  </a:rPr>
                  <a:t>j</a:t>
                </a:r>
                <a:r>
                  <a:rPr b="1" i="1" lang="en-US" sz="3600" spc="-1" strike="noStrike">
                    <a:solidFill>
                      <a:srgbClr val="000000"/>
                    </a:solidFill>
                    <a:latin typeface="Times New Roman"/>
                  </a:rPr>
                  <a:t>|z</a:t>
                </a:r>
                <a:r>
                  <a:rPr b="1" i="1" lang="en-US" sz="3600" spc="-1" strike="noStrike" baseline="-25000">
                    <a:solidFill>
                      <a:srgbClr val="000000"/>
                    </a:solidFill>
                    <a:latin typeface="Times New Roman"/>
                  </a:rPr>
                  <a:t>k</a:t>
                </a:r>
                <a:r>
                  <a:rPr b="1" i="1" lang="en-US" sz="36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3924360" y="5943960"/>
                <a:ext cx="1024920" cy="71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600" spc="-1" strike="noStrike">
                    <a:solidFill>
                      <a:srgbClr val="000000"/>
                    </a:solidFill>
                    <a:latin typeface="Times New Roman"/>
                  </a:rPr>
                  <a:t>p(z</a:t>
                </a:r>
                <a:r>
                  <a:rPr b="1" i="1" lang="en-US" sz="3600" spc="-1" strike="noStrike" baseline="-25000">
                    <a:solidFill>
                      <a:srgbClr val="000000"/>
                    </a:solidFill>
                    <a:latin typeface="Times New Roman"/>
                  </a:rPr>
                  <a:t>k</a:t>
                </a:r>
                <a:r>
                  <a:rPr b="1" i="1" lang="en-US" sz="36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11" name=""/>
              <p:cNvGrpSpPr/>
              <p:nvPr/>
            </p:nvGrpSpPr>
            <p:grpSpPr>
              <a:xfrm>
                <a:off x="4121280" y="3657960"/>
                <a:ext cx="457200" cy="1272240"/>
                <a:chOff x="4121280" y="3657960"/>
                <a:chExt cx="457200" cy="1272240"/>
              </a:xfrm>
            </p:grpSpPr>
            <p:grpSp>
              <p:nvGrpSpPr>
                <p:cNvPr id="412" name=""/>
                <p:cNvGrpSpPr/>
                <p:nvPr/>
              </p:nvGrpSpPr>
              <p:grpSpPr>
                <a:xfrm>
                  <a:off x="4121280" y="3657960"/>
                  <a:ext cx="457200" cy="510120"/>
                  <a:chOff x="4121280" y="3657960"/>
                  <a:chExt cx="457200" cy="510120"/>
                </a:xfrm>
              </p:grpSpPr>
              <p:sp>
                <p:nvSpPr>
                  <p:cNvPr id="413" name=""/>
                  <p:cNvSpPr/>
                  <p:nvPr/>
                </p:nvSpPr>
                <p:spPr>
                  <a:xfrm>
                    <a:off x="4121280" y="3734280"/>
                    <a:ext cx="380880" cy="380880"/>
                  </a:xfrm>
                  <a:prstGeom prst="rect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4" name=""/>
                  <p:cNvSpPr/>
                  <p:nvPr/>
                </p:nvSpPr>
                <p:spPr>
                  <a:xfrm>
                    <a:off x="4121280" y="3657960"/>
                    <a:ext cx="457200" cy="510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z</a:t>
                    </a:r>
                    <a:r>
                      <a:rPr b="0" i="1" lang="en-US" sz="2400" spc="-1" strike="noStrike" baseline="-25000">
                        <a:solidFill>
                          <a:srgbClr val="000000"/>
                        </a:solidFill>
                        <a:latin typeface="Times New Roman"/>
                      </a:rPr>
                      <a:t>1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15" name=""/>
                <p:cNvGrpSpPr/>
                <p:nvPr/>
              </p:nvGrpSpPr>
              <p:grpSpPr>
                <a:xfrm>
                  <a:off x="4121280" y="4038840"/>
                  <a:ext cx="457200" cy="510120"/>
                  <a:chOff x="4121280" y="4038840"/>
                  <a:chExt cx="457200" cy="510120"/>
                </a:xfrm>
              </p:grpSpPr>
              <p:sp>
                <p:nvSpPr>
                  <p:cNvPr id="416" name=""/>
                  <p:cNvSpPr/>
                  <p:nvPr/>
                </p:nvSpPr>
                <p:spPr>
                  <a:xfrm>
                    <a:off x="4121280" y="4115160"/>
                    <a:ext cx="380880" cy="380880"/>
                  </a:xfrm>
                  <a:prstGeom prst="rect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7" name=""/>
                  <p:cNvSpPr/>
                  <p:nvPr/>
                </p:nvSpPr>
                <p:spPr>
                  <a:xfrm>
                    <a:off x="4121280" y="4038840"/>
                    <a:ext cx="457200" cy="510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z</a:t>
                    </a:r>
                    <a:r>
                      <a:rPr b="0" i="1" lang="en-US" sz="2400" spc="-1" strike="noStrike" baseline="-25000">
                        <a:solidFill>
                          <a:srgbClr val="000000"/>
                        </a:solidFill>
                        <a:latin typeface="Times New Roman"/>
                      </a:rPr>
                      <a:t>2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18" name=""/>
                <p:cNvGrpSpPr/>
                <p:nvPr/>
              </p:nvGrpSpPr>
              <p:grpSpPr>
                <a:xfrm>
                  <a:off x="4121280" y="4420080"/>
                  <a:ext cx="457200" cy="510120"/>
                  <a:chOff x="4121280" y="4420080"/>
                  <a:chExt cx="457200" cy="510120"/>
                </a:xfrm>
              </p:grpSpPr>
              <p:sp>
                <p:nvSpPr>
                  <p:cNvPr id="419" name=""/>
                  <p:cNvSpPr/>
                  <p:nvPr/>
                </p:nvSpPr>
                <p:spPr>
                  <a:xfrm>
                    <a:off x="4121280" y="4496400"/>
                    <a:ext cx="380880" cy="380880"/>
                  </a:xfrm>
                  <a:prstGeom prst="rect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0" name=""/>
                  <p:cNvSpPr/>
                  <p:nvPr/>
                </p:nvSpPr>
                <p:spPr>
                  <a:xfrm>
                    <a:off x="4121280" y="4420080"/>
                    <a:ext cx="457200" cy="510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z</a:t>
                    </a:r>
                    <a:r>
                      <a:rPr b="0" i="1" lang="en-US" sz="2400" spc="-1" strike="noStrike" baseline="-25000">
                        <a:solidFill>
                          <a:srgbClr val="000000"/>
                        </a:solidFill>
                        <a:latin typeface="Times New Roman"/>
                      </a:rPr>
                      <a:t>3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tistical text model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85440" y="1406520"/>
            <a:ext cx="74674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ypothesis: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here’s structure out t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documents can be “explained” in terms of a (relatively) small number of underlying “concept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atent semantic analys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form singular value decomposition on term-by-document matri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[Deerwester et al., 199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uncated eigenvalue matrix gives reduced subspace repres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imum distortion reconstructio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-by-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atri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imizes distortion by exploiting term co-occuren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mpirically, produces big improvement in retrieval, clust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5" name=""/>
          <p:cNvGrpSpPr/>
          <p:nvPr/>
        </p:nvGrpSpPr>
        <p:grpSpPr>
          <a:xfrm>
            <a:off x="2057400" y="4267080"/>
            <a:ext cx="5790960" cy="1473120"/>
            <a:chOff x="2057400" y="4267080"/>
            <a:chExt cx="5790960" cy="1473120"/>
          </a:xfrm>
        </p:grpSpPr>
        <p:sp>
          <p:nvSpPr>
            <p:cNvPr id="426" name=""/>
            <p:cNvSpPr/>
            <p:nvPr/>
          </p:nvSpPr>
          <p:spPr>
            <a:xfrm>
              <a:off x="2057400" y="4275000"/>
              <a:ext cx="865080" cy="1465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521520" y="4275000"/>
              <a:ext cx="865440" cy="1465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 rot="16200000">
              <a:off x="6616440" y="3775320"/>
              <a:ext cx="732600" cy="173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4786200" y="4275000"/>
              <a:ext cx="865440" cy="732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123640" y="4519440"/>
              <a:ext cx="746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t-by-d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489840" y="4380840"/>
              <a:ext cx="743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t-by-z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583680" y="4380840"/>
              <a:ext cx="74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z-by-d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25080" y="4552200"/>
              <a:ext cx="362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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4456080" y="45558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719680" y="45558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4773240" y="4267080"/>
              <a:ext cx="2844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i="1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4914360" y="4403160"/>
              <a:ext cx="2844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i="1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397120" y="483408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278680" y="4704840"/>
              <a:ext cx="218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20440" y="438336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5090760" y="4510080"/>
              <a:ext cx="218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5187960" y="4600440"/>
              <a:ext cx="218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4858920" y="476352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4790520" y="4271760"/>
              <a:ext cx="524160" cy="473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6117480" y="4271760"/>
              <a:ext cx="1730880" cy="450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521520" y="4271760"/>
              <a:ext cx="599040" cy="1464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tistical interpretation of LS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SA is performing linear factor analysi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term and document maps to a point in z-space (via t-by-z’ and z’-by-d matric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ed as a Bayes net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 docu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be created according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(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mixture of factor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..z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ccording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(z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..z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|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terms f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ccording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(t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|z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..z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ngular value decomposition finds factor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..z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t “best explain” observed term-document matr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4724280" y="3352680"/>
            <a:ext cx="2590920" cy="550800"/>
            <a:chOff x="4724280" y="3352680"/>
            <a:chExt cx="2590920" cy="550800"/>
          </a:xfrm>
        </p:grpSpPr>
        <p:grpSp>
          <p:nvGrpSpPr>
            <p:cNvPr id="450" name=""/>
            <p:cNvGrpSpPr/>
            <p:nvPr/>
          </p:nvGrpSpPr>
          <p:grpSpPr>
            <a:xfrm>
              <a:off x="4724280" y="3352680"/>
              <a:ext cx="533520" cy="533520"/>
              <a:chOff x="4724280" y="3352680"/>
              <a:chExt cx="533520" cy="533520"/>
            </a:xfrm>
          </p:grpSpPr>
          <p:sp>
            <p:nvSpPr>
              <p:cNvPr id="451" name=""/>
              <p:cNvSpPr/>
              <p:nvPr/>
            </p:nvSpPr>
            <p:spPr>
              <a:xfrm>
                <a:off x="4724280" y="3352680"/>
                <a:ext cx="533520" cy="5335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4824720" y="339084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3" name=""/>
            <p:cNvGrpSpPr/>
            <p:nvPr/>
          </p:nvGrpSpPr>
          <p:grpSpPr>
            <a:xfrm>
              <a:off x="5753160" y="3370320"/>
              <a:ext cx="533520" cy="533160"/>
              <a:chOff x="5753160" y="3370320"/>
              <a:chExt cx="533520" cy="533160"/>
            </a:xfrm>
          </p:grpSpPr>
          <p:sp>
            <p:nvSpPr>
              <p:cNvPr id="454" name=""/>
              <p:cNvSpPr/>
              <p:nvPr/>
            </p:nvSpPr>
            <p:spPr>
              <a:xfrm>
                <a:off x="5753160" y="3370320"/>
                <a:ext cx="533520" cy="5331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5853600" y="3408120"/>
                <a:ext cx="299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z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6" name=""/>
            <p:cNvGrpSpPr/>
            <p:nvPr/>
          </p:nvGrpSpPr>
          <p:grpSpPr>
            <a:xfrm>
              <a:off x="6781680" y="3370320"/>
              <a:ext cx="533520" cy="533160"/>
              <a:chOff x="6781680" y="3370320"/>
              <a:chExt cx="533520" cy="533160"/>
            </a:xfrm>
          </p:grpSpPr>
          <p:sp>
            <p:nvSpPr>
              <p:cNvPr id="457" name=""/>
              <p:cNvSpPr/>
              <p:nvPr/>
            </p:nvSpPr>
            <p:spPr>
              <a:xfrm>
                <a:off x="6781680" y="3370320"/>
                <a:ext cx="533520" cy="5331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6881400" y="3408120"/>
                <a:ext cx="266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9" name=""/>
            <p:cNvSpPr/>
            <p:nvPr/>
          </p:nvSpPr>
          <p:spPr>
            <a:xfrm>
              <a:off x="5257800" y="3619440"/>
              <a:ext cx="49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6283440" y="3639960"/>
              <a:ext cx="498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SA - what’s wrong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SA minimizes “distortion” of t-by-d matri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responds to maximizing data likelihood assum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aussia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variation in term frequenc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ed term frequencies may be less than zero or greater than 1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3" name=""/>
          <p:cNvGrpSpPr/>
          <p:nvPr/>
        </p:nvGrpSpPr>
        <p:grpSpPr>
          <a:xfrm>
            <a:off x="3733920" y="3809880"/>
            <a:ext cx="3885840" cy="1654920"/>
            <a:chOff x="3733920" y="3809880"/>
            <a:chExt cx="3885840" cy="1654920"/>
          </a:xfrm>
        </p:grpSpPr>
        <p:sp>
          <p:nvSpPr>
            <p:cNvPr id="464" name=""/>
            <p:cNvSpPr/>
            <p:nvPr/>
          </p:nvSpPr>
          <p:spPr>
            <a:xfrm>
              <a:off x="3814920" y="4078800"/>
              <a:ext cx="3501720" cy="905760"/>
            </a:xfrm>
            <a:custGeom>
              <a:avLst/>
              <a:gdLst/>
              <a:ahLst/>
              <a:rect l="l" t="t" r="r" b="b"/>
              <a:pathLst>
                <a:path w="1644" h="380">
                  <a:moveTo>
                    <a:pt x="0" y="380"/>
                  </a:moveTo>
                  <a:cubicBezTo>
                    <a:pt x="108" y="378"/>
                    <a:pt x="215" y="375"/>
                    <a:pt x="304" y="351"/>
                  </a:cubicBezTo>
                  <a:cubicBezTo>
                    <a:pt x="393" y="327"/>
                    <a:pt x="475" y="273"/>
                    <a:pt x="532" y="234"/>
                  </a:cubicBezTo>
                  <a:cubicBezTo>
                    <a:pt x="589" y="195"/>
                    <a:pt x="612" y="153"/>
                    <a:pt x="646" y="118"/>
                  </a:cubicBezTo>
                  <a:cubicBezTo>
                    <a:pt x="680" y="83"/>
                    <a:pt x="703" y="44"/>
                    <a:pt x="735" y="24"/>
                  </a:cubicBezTo>
                  <a:cubicBezTo>
                    <a:pt x="767" y="4"/>
                    <a:pt x="800" y="0"/>
                    <a:pt x="836" y="1"/>
                  </a:cubicBezTo>
                  <a:cubicBezTo>
                    <a:pt x="872" y="2"/>
                    <a:pt x="912" y="1"/>
                    <a:pt x="950" y="30"/>
                  </a:cubicBezTo>
                  <a:cubicBezTo>
                    <a:pt x="988" y="59"/>
                    <a:pt x="1022" y="136"/>
                    <a:pt x="1064" y="176"/>
                  </a:cubicBezTo>
                  <a:cubicBezTo>
                    <a:pt x="1106" y="216"/>
                    <a:pt x="1137" y="240"/>
                    <a:pt x="1200" y="269"/>
                  </a:cubicBezTo>
                  <a:cubicBezTo>
                    <a:pt x="1263" y="298"/>
                    <a:pt x="1370" y="333"/>
                    <a:pt x="1444" y="351"/>
                  </a:cubicBezTo>
                  <a:cubicBezTo>
                    <a:pt x="1518" y="369"/>
                    <a:pt x="1602" y="373"/>
                    <a:pt x="1644" y="379"/>
                  </a:cubicBezTo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3733920" y="4984920"/>
              <a:ext cx="3885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739400" y="3809880"/>
              <a:ext cx="0" cy="117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4528800" y="494424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126400" y="4944240"/>
              <a:ext cx="932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p(t|z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595480" y="3809880"/>
              <a:ext cx="0" cy="117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6927480" y="3809880"/>
              <a:ext cx="0" cy="117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6719760" y="494424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/>
          </p:nvPr>
        </p:nvSpPr>
        <p:spPr>
          <a:xfrm>
            <a:off x="609480" y="1447560"/>
            <a:ext cx="78487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abilistic Latent Semantic Analysi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Hofmann, ‘99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s multinomial to model observed variations in term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responds to generating documents by sampling from a “bag of word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title"/>
          </p:nvPr>
        </p:nvSpPr>
        <p:spPr>
          <a:xfrm>
            <a:off x="685440" y="4568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actoring methods - PLS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4" name=""/>
          <p:cNvGrpSpPr/>
          <p:nvPr/>
        </p:nvGrpSpPr>
        <p:grpSpPr>
          <a:xfrm>
            <a:off x="3352680" y="3581280"/>
            <a:ext cx="4419360" cy="1951920"/>
            <a:chOff x="3352680" y="3581280"/>
            <a:chExt cx="4419360" cy="1951920"/>
          </a:xfrm>
        </p:grpSpPr>
        <p:sp>
          <p:nvSpPr>
            <p:cNvPr id="475" name=""/>
            <p:cNvSpPr/>
            <p:nvPr/>
          </p:nvSpPr>
          <p:spPr>
            <a:xfrm>
              <a:off x="4505760" y="3911400"/>
              <a:ext cx="2451240" cy="1126800"/>
            </a:xfrm>
            <a:custGeom>
              <a:avLst/>
              <a:gdLst/>
              <a:ahLst/>
              <a:rect l="l" t="t" r="r" b="b"/>
              <a:pathLst>
                <a:path w="1065" h="396">
                  <a:moveTo>
                    <a:pt x="0" y="396"/>
                  </a:moveTo>
                  <a:cubicBezTo>
                    <a:pt x="18" y="387"/>
                    <a:pt x="76" y="366"/>
                    <a:pt x="107" y="341"/>
                  </a:cubicBezTo>
                  <a:cubicBezTo>
                    <a:pt x="138" y="316"/>
                    <a:pt x="159" y="282"/>
                    <a:pt x="187" y="246"/>
                  </a:cubicBezTo>
                  <a:cubicBezTo>
                    <a:pt x="214" y="210"/>
                    <a:pt x="247" y="161"/>
                    <a:pt x="271" y="127"/>
                  </a:cubicBezTo>
                  <a:cubicBezTo>
                    <a:pt x="294" y="93"/>
                    <a:pt x="301" y="64"/>
                    <a:pt x="326" y="43"/>
                  </a:cubicBezTo>
                  <a:cubicBezTo>
                    <a:pt x="351" y="23"/>
                    <a:pt x="389" y="0"/>
                    <a:pt x="419" y="2"/>
                  </a:cubicBezTo>
                  <a:cubicBezTo>
                    <a:pt x="449" y="5"/>
                    <a:pt x="482" y="28"/>
                    <a:pt x="507" y="56"/>
                  </a:cubicBezTo>
                  <a:cubicBezTo>
                    <a:pt x="532" y="84"/>
                    <a:pt x="538" y="129"/>
                    <a:pt x="568" y="169"/>
                  </a:cubicBezTo>
                  <a:cubicBezTo>
                    <a:pt x="598" y="208"/>
                    <a:pt x="651" y="265"/>
                    <a:pt x="689" y="293"/>
                  </a:cubicBezTo>
                  <a:cubicBezTo>
                    <a:pt x="727" y="322"/>
                    <a:pt x="736" y="324"/>
                    <a:pt x="798" y="341"/>
                  </a:cubicBezTo>
                  <a:cubicBezTo>
                    <a:pt x="861" y="359"/>
                    <a:pt x="1009" y="383"/>
                    <a:pt x="1065" y="395"/>
                  </a:cubicBezTo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352680" y="5035320"/>
              <a:ext cx="4419360" cy="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4496400" y="3581280"/>
              <a:ext cx="2520" cy="145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4281120" y="50068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4999680" y="5006880"/>
              <a:ext cx="932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p(t|z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5470560" y="3581280"/>
              <a:ext cx="1800" cy="145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6973200" y="3581280"/>
              <a:ext cx="2520" cy="145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6763680" y="501264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3" name=""/>
          <p:cNvSpPr/>
          <p:nvPr/>
        </p:nvSpPr>
        <p:spPr>
          <a:xfrm>
            <a:off x="685800" y="1371600"/>
            <a:ext cx="777240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1085760" indent="-228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/>
          </p:nvPr>
        </p:nvSpPr>
        <p:spPr>
          <a:xfrm>
            <a:off x="609480" y="1447560"/>
            <a:ext cx="792504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form explicit factor analysis using 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imate factor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likelihoo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title"/>
          </p:nvPr>
        </p:nvSpPr>
        <p:spPr>
          <a:xfrm>
            <a:off x="685440" y="4568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actoring methods - PLS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609480" y="4191120"/>
            <a:ext cx="777240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1085760" indent="-228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762120" y="4343400"/>
            <a:ext cx="784836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lid probabilistic foundation for reasoning about document cont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ems to outperform LSA in many domai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8" name=""/>
              <p:cNvSpPr txBox="1"/>
              <p:nvPr/>
            </p:nvSpPr>
            <p:spPr>
              <a:xfrm>
                <a:off x="4648320" y="2819520"/>
                <a:ext cx="3449520" cy="79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j</m:t>
                        </m:r>
                      </m:sub>
                      <m:sup/>
                      <m:e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</m:num>
                          <m:den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'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</m:sSub>
                              </m:e>
                            </m:nary>
                          </m:den>
                        </m:f>
                      </m:e>
                    </m:nary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9" name=""/>
              <p:cNvSpPr txBox="1"/>
              <p:nvPr/>
            </p:nvSpPr>
            <p:spPr>
              <a:xfrm>
                <a:off x="4254480" y="1981080"/>
                <a:ext cx="336564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0" name=""/>
              <p:cNvSpPr txBox="1"/>
              <p:nvPr/>
            </p:nvSpPr>
            <p:spPr>
              <a:xfrm>
                <a:off x="4656240" y="3581280"/>
                <a:ext cx="3573360" cy="79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∝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</m:num>
                          <m:den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'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</m:sSub>
                              </m:e>
                            </m:nary>
                          </m:den>
                        </m:f>
                      </m:e>
                    </m:nary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762120" y="1447920"/>
            <a:ext cx="67053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ctored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document comes from linear combination of the underlying sour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50%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ayes ne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50%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762120" y="1447920"/>
            <a:ext cx="670536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ustered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document comes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on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the underlying sour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either 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ayes ne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per or 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or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p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title"/>
          </p:nvPr>
        </p:nvSpPr>
        <p:spPr>
          <a:xfrm>
            <a:off x="685800" y="4568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igression: Clusters vs. Facto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4" name=""/>
          <p:cNvGrpSpPr/>
          <p:nvPr/>
        </p:nvGrpSpPr>
        <p:grpSpPr>
          <a:xfrm>
            <a:off x="6553080" y="3276720"/>
            <a:ext cx="2133000" cy="2743200"/>
            <a:chOff x="6553080" y="3276720"/>
            <a:chExt cx="2133000" cy="2743200"/>
          </a:xfrm>
        </p:grpSpPr>
        <p:grpSp>
          <p:nvGrpSpPr>
            <p:cNvPr id="495" name=""/>
            <p:cNvGrpSpPr/>
            <p:nvPr/>
          </p:nvGrpSpPr>
          <p:grpSpPr>
            <a:xfrm>
              <a:off x="7238880" y="5105520"/>
              <a:ext cx="1447200" cy="914400"/>
              <a:chOff x="7238880" y="5105520"/>
              <a:chExt cx="1447200" cy="914400"/>
            </a:xfrm>
          </p:grpSpPr>
          <p:sp>
            <p:nvSpPr>
              <p:cNvPr id="496" name=""/>
              <p:cNvSpPr/>
              <p:nvPr/>
            </p:nvSpPr>
            <p:spPr>
              <a:xfrm>
                <a:off x="7392600" y="5376960"/>
                <a:ext cx="777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a50021"/>
                    </a:solidFill>
                    <a:latin typeface="Times New Roman"/>
                  </a:rPr>
                  <a:t>theory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7238880" y="5105520"/>
                <a:ext cx="1447200" cy="914400"/>
              </a:xfrm>
              <a:prstGeom prst="irregularSeal2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8" name=""/>
            <p:cNvGrpSpPr/>
            <p:nvPr/>
          </p:nvGrpSpPr>
          <p:grpSpPr>
            <a:xfrm>
              <a:off x="6553080" y="3276720"/>
              <a:ext cx="1676160" cy="990360"/>
              <a:chOff x="6553080" y="3276720"/>
              <a:chExt cx="1676160" cy="990360"/>
            </a:xfrm>
          </p:grpSpPr>
          <p:sp>
            <p:nvSpPr>
              <p:cNvPr id="499" name=""/>
              <p:cNvSpPr/>
              <p:nvPr/>
            </p:nvSpPr>
            <p:spPr>
              <a:xfrm>
                <a:off x="6818760" y="3570480"/>
                <a:ext cx="11408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996600"/>
                    </a:solidFill>
                    <a:latin typeface="Times New Roman"/>
                  </a:rPr>
                  <a:t>bayes net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6553080" y="3276720"/>
                <a:ext cx="1676160" cy="990360"/>
              </a:xfrm>
              <a:prstGeom prst="irregularSeal2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1" name=""/>
            <p:cNvSpPr/>
            <p:nvPr/>
          </p:nvSpPr>
          <p:spPr>
            <a:xfrm>
              <a:off x="7467480" y="4115160"/>
              <a:ext cx="457200" cy="1066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7680240" y="4267440"/>
              <a:ext cx="244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7603920" y="457236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latent variable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7924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pirically, factors correspond well to categories that can be verbalized by us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use dominant factors as clusters (spectral cluster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use factoring as front end to clustering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uster using document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tance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p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actors tell how they diff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usters tell how they clum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 use multidimensional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aling to visualiz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ationship in fact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4558680" y="3352680"/>
            <a:ext cx="4400640" cy="32907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.64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0.100 0.066 0.079 0.114]       business-commod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.625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0.068 0.055 0.126 0.125]       business-doll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.619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0.059 0.098 0.122 0.102]       business-f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[0.052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.706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0.108 0.071 0.063]       sports-nbaper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[0.093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.576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0.097 0.105 0.129]       sports-ncaadavenpo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[0.075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.677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0.053 0.100 0.095]       sports-nflkenned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[0.065 0.084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.66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0.099 0.093]       health-ah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[0.059 0.124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.648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0.088 0.081]       health-benef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[0.052 0.073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.70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0.081 0.094]       health-clu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[0.056 0.064 0.045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.74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0.094]       politics-hilla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[0.047 0.068 0.062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.74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0.082]       politics-jo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[0.116 0.159 0.125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.463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0.136]       politics-miam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[0.078 0.062 0.045 0.170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.645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]       politics-iraq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[0.107 0.079 0.068 0.099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.646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]       politics-pentag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[0.058 0.090 0.055 0.139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.659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]       politics-tra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ructure within the factored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measure similarity, but there’s more to structure than simila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iven a cluster of 23,015 documents on learning theory, which one should we look 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relationshi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ority on top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resentative of top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nection to other members of top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ocuments, documents everywhere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8487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velation #1: There are Too Many Docu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ail arch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earch paper colle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w... w... We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esponse #1: Get over it – they’re not going a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velation #2: Existing Tools for Managing Document Collections are Woefully Inadequ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esponse #2: So what are you going to do about i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Quick introduction to bibliometric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077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bliometrics: a set of mathematical techniques for identifying citation patterns in a collection of docu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thor co-citation analysis (ACA) - 196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entifies principal topics of col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entifies authoritative authors/documents in each top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2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urgence of interest with application to we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ypertext-Induced Topic Selection (HITS) - 199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ful for sorting through deluge of pages from search eng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CA/HITS – how it 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6858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thority as a function of citation statis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ore documents cite docu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more authoritativ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ore authoritativ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, the more authority its citations convey to other docu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mal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ri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ummarizes citation stat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vect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dicates authority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ority is linear function of citation                             count and authority of citer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= A’A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utions are eigenvectors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’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7288200" y="2757600"/>
            <a:ext cx="1695960" cy="2733120"/>
            <a:chOff x="7288200" y="2757600"/>
            <a:chExt cx="1695960" cy="2733120"/>
          </a:xfrm>
        </p:grpSpPr>
        <p:grpSp>
          <p:nvGrpSpPr>
            <p:cNvPr id="514" name=""/>
            <p:cNvGrpSpPr/>
            <p:nvPr/>
          </p:nvGrpSpPr>
          <p:grpSpPr>
            <a:xfrm>
              <a:off x="7288200" y="2757600"/>
              <a:ext cx="1695960" cy="2733120"/>
              <a:chOff x="7288200" y="2757600"/>
              <a:chExt cx="1695960" cy="2733120"/>
            </a:xfrm>
          </p:grpSpPr>
          <p:grpSp>
            <p:nvGrpSpPr>
              <p:cNvPr id="515" name=""/>
              <p:cNvGrpSpPr/>
              <p:nvPr/>
            </p:nvGrpSpPr>
            <p:grpSpPr>
              <a:xfrm>
                <a:off x="7664760" y="2757600"/>
                <a:ext cx="383400" cy="2655720"/>
                <a:chOff x="7664760" y="2757600"/>
                <a:chExt cx="383400" cy="2655720"/>
              </a:xfrm>
            </p:grpSpPr>
            <p:sp>
              <p:nvSpPr>
                <p:cNvPr id="516" name=""/>
                <p:cNvSpPr/>
                <p:nvPr/>
              </p:nvSpPr>
              <p:spPr>
                <a:xfrm>
                  <a:off x="7701120" y="2826000"/>
                  <a:ext cx="301680" cy="25873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7" name=""/>
                <p:cNvSpPr/>
                <p:nvPr/>
              </p:nvSpPr>
              <p:spPr>
                <a:xfrm>
                  <a:off x="7664760" y="2757600"/>
                  <a:ext cx="38340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d</a:t>
                  </a:r>
                  <a:r>
                    <a:rPr b="0" i="1" lang="en-US" sz="20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8" name=""/>
              <p:cNvGrpSpPr/>
              <p:nvPr/>
            </p:nvGrpSpPr>
            <p:grpSpPr>
              <a:xfrm>
                <a:off x="7959960" y="2760840"/>
                <a:ext cx="383400" cy="2655720"/>
                <a:chOff x="7959960" y="2760840"/>
                <a:chExt cx="383400" cy="2655720"/>
              </a:xfrm>
            </p:grpSpPr>
            <p:sp>
              <p:nvSpPr>
                <p:cNvPr id="519" name=""/>
                <p:cNvSpPr/>
                <p:nvPr/>
              </p:nvSpPr>
              <p:spPr>
                <a:xfrm>
                  <a:off x="7996320" y="2829240"/>
                  <a:ext cx="301680" cy="25873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0" name=""/>
                <p:cNvSpPr/>
                <p:nvPr/>
              </p:nvSpPr>
              <p:spPr>
                <a:xfrm>
                  <a:off x="7959960" y="2760840"/>
                  <a:ext cx="38340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d</a:t>
                  </a:r>
                  <a:r>
                    <a:rPr b="0" i="1" lang="en-US" sz="20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1" name=""/>
              <p:cNvGrpSpPr/>
              <p:nvPr/>
            </p:nvGrpSpPr>
            <p:grpSpPr>
              <a:xfrm>
                <a:off x="8259120" y="2760840"/>
                <a:ext cx="372600" cy="2655720"/>
                <a:chOff x="8259120" y="2760840"/>
                <a:chExt cx="372600" cy="2655720"/>
              </a:xfrm>
            </p:grpSpPr>
            <p:sp>
              <p:nvSpPr>
                <p:cNvPr id="522" name=""/>
                <p:cNvSpPr/>
                <p:nvPr/>
              </p:nvSpPr>
              <p:spPr>
                <a:xfrm>
                  <a:off x="8299440" y="2829240"/>
                  <a:ext cx="301320" cy="25873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3" name=""/>
                <p:cNvSpPr/>
                <p:nvPr/>
              </p:nvSpPr>
              <p:spPr>
                <a:xfrm>
                  <a:off x="8259120" y="2760840"/>
                  <a:ext cx="3726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...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4" name=""/>
              <p:cNvGrpSpPr/>
              <p:nvPr/>
            </p:nvGrpSpPr>
            <p:grpSpPr>
              <a:xfrm>
                <a:off x="8568720" y="2760840"/>
                <a:ext cx="415440" cy="2655720"/>
                <a:chOff x="8568720" y="2760840"/>
                <a:chExt cx="415440" cy="2655720"/>
              </a:xfrm>
            </p:grpSpPr>
            <p:sp>
              <p:nvSpPr>
                <p:cNvPr id="525" name=""/>
                <p:cNvSpPr/>
                <p:nvPr/>
              </p:nvSpPr>
              <p:spPr>
                <a:xfrm>
                  <a:off x="8602920" y="2829240"/>
                  <a:ext cx="301680" cy="25873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>
                  <a:off x="8568720" y="2760840"/>
                  <a:ext cx="41544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d</a:t>
                  </a:r>
                  <a:r>
                    <a:rPr b="0" i="1" lang="en-US" sz="20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m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7" name=""/>
              <p:cNvGrpSpPr/>
              <p:nvPr/>
            </p:nvGrpSpPr>
            <p:grpSpPr>
              <a:xfrm>
                <a:off x="7293960" y="3019680"/>
                <a:ext cx="1605600" cy="440640"/>
                <a:chOff x="7293960" y="3019680"/>
                <a:chExt cx="1605600" cy="440640"/>
              </a:xfrm>
            </p:grpSpPr>
            <p:sp>
              <p:nvSpPr>
                <p:cNvPr id="528" name=""/>
                <p:cNvSpPr/>
                <p:nvPr/>
              </p:nvSpPr>
              <p:spPr>
                <a:xfrm>
                  <a:off x="7318440" y="3132360"/>
                  <a:ext cx="1581120" cy="2556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9" name=""/>
                <p:cNvSpPr/>
                <p:nvPr/>
              </p:nvSpPr>
              <p:spPr>
                <a:xfrm>
                  <a:off x="7293960" y="3019680"/>
                  <a:ext cx="36792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c</a:t>
                  </a:r>
                  <a:r>
                    <a:rPr b="0" i="1" lang="en-US" sz="20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0" name=""/>
              <p:cNvGrpSpPr/>
              <p:nvPr/>
            </p:nvGrpSpPr>
            <p:grpSpPr>
              <a:xfrm>
                <a:off x="7292520" y="3272040"/>
                <a:ext cx="1605600" cy="440640"/>
                <a:chOff x="7292520" y="3272040"/>
                <a:chExt cx="1605600" cy="440640"/>
              </a:xfrm>
            </p:grpSpPr>
            <p:sp>
              <p:nvSpPr>
                <p:cNvPr id="531" name=""/>
                <p:cNvSpPr/>
                <p:nvPr/>
              </p:nvSpPr>
              <p:spPr>
                <a:xfrm>
                  <a:off x="7317000" y="3384720"/>
                  <a:ext cx="1581120" cy="2556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2" name=""/>
                <p:cNvSpPr/>
                <p:nvPr/>
              </p:nvSpPr>
              <p:spPr>
                <a:xfrm>
                  <a:off x="7292520" y="3272040"/>
                  <a:ext cx="36792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c</a:t>
                  </a:r>
                  <a:r>
                    <a:rPr b="0" i="1" lang="en-US" sz="20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3" name=""/>
              <p:cNvGrpSpPr/>
              <p:nvPr/>
            </p:nvGrpSpPr>
            <p:grpSpPr>
              <a:xfrm>
                <a:off x="7293960" y="3524400"/>
                <a:ext cx="1605600" cy="440640"/>
                <a:chOff x="7293960" y="3524400"/>
                <a:chExt cx="1605600" cy="440640"/>
              </a:xfrm>
            </p:grpSpPr>
            <p:sp>
              <p:nvSpPr>
                <p:cNvPr id="534" name=""/>
                <p:cNvSpPr/>
                <p:nvPr/>
              </p:nvSpPr>
              <p:spPr>
                <a:xfrm>
                  <a:off x="7318440" y="3637080"/>
                  <a:ext cx="1581120" cy="2556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5" name=""/>
                <p:cNvSpPr/>
                <p:nvPr/>
              </p:nvSpPr>
              <p:spPr>
                <a:xfrm>
                  <a:off x="7293960" y="3524400"/>
                  <a:ext cx="36792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c</a:t>
                  </a:r>
                  <a:r>
                    <a:rPr b="0" i="1" lang="en-US" sz="20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6" name=""/>
              <p:cNvGrpSpPr/>
              <p:nvPr/>
            </p:nvGrpSpPr>
            <p:grpSpPr>
              <a:xfrm>
                <a:off x="7293960" y="3781440"/>
                <a:ext cx="1605600" cy="440640"/>
                <a:chOff x="7293960" y="3781440"/>
                <a:chExt cx="1605600" cy="440640"/>
              </a:xfrm>
            </p:grpSpPr>
            <p:sp>
              <p:nvSpPr>
                <p:cNvPr id="537" name=""/>
                <p:cNvSpPr/>
                <p:nvPr/>
              </p:nvSpPr>
              <p:spPr>
                <a:xfrm>
                  <a:off x="7318440" y="3894120"/>
                  <a:ext cx="1581120" cy="2556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>
                  <a:off x="7293960" y="3781440"/>
                  <a:ext cx="36792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c</a:t>
                  </a:r>
                  <a:r>
                    <a:rPr b="0" i="1" lang="en-US" sz="20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4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9" name=""/>
              <p:cNvGrpSpPr/>
              <p:nvPr/>
            </p:nvGrpSpPr>
            <p:grpSpPr>
              <a:xfrm>
                <a:off x="7293960" y="4037040"/>
                <a:ext cx="1605600" cy="440640"/>
                <a:chOff x="7293960" y="4037040"/>
                <a:chExt cx="1605600" cy="440640"/>
              </a:xfrm>
            </p:grpSpPr>
            <p:sp>
              <p:nvSpPr>
                <p:cNvPr id="540" name=""/>
                <p:cNvSpPr/>
                <p:nvPr/>
              </p:nvSpPr>
              <p:spPr>
                <a:xfrm>
                  <a:off x="7318440" y="4149720"/>
                  <a:ext cx="1581120" cy="2556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1" name=""/>
                <p:cNvSpPr/>
                <p:nvPr/>
              </p:nvSpPr>
              <p:spPr>
                <a:xfrm>
                  <a:off x="7293960" y="4037040"/>
                  <a:ext cx="36792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c</a:t>
                  </a:r>
                  <a:r>
                    <a:rPr b="0" i="1" lang="en-US" sz="20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5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2" name=""/>
              <p:cNvGrpSpPr/>
              <p:nvPr/>
            </p:nvGrpSpPr>
            <p:grpSpPr>
              <a:xfrm>
                <a:off x="7293960" y="4292640"/>
                <a:ext cx="1605600" cy="440640"/>
                <a:chOff x="7293960" y="4292640"/>
                <a:chExt cx="1605600" cy="440640"/>
              </a:xfrm>
            </p:grpSpPr>
            <p:sp>
              <p:nvSpPr>
                <p:cNvPr id="543" name=""/>
                <p:cNvSpPr/>
                <p:nvPr/>
              </p:nvSpPr>
              <p:spPr>
                <a:xfrm>
                  <a:off x="7318440" y="4405320"/>
                  <a:ext cx="1581120" cy="2556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4" name=""/>
                <p:cNvSpPr/>
                <p:nvPr/>
              </p:nvSpPr>
              <p:spPr>
                <a:xfrm>
                  <a:off x="7293960" y="4292640"/>
                  <a:ext cx="36792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c</a:t>
                  </a:r>
                  <a:r>
                    <a:rPr b="0" i="1" lang="en-US" sz="20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6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5" name=""/>
              <p:cNvGrpSpPr/>
              <p:nvPr/>
            </p:nvGrpSpPr>
            <p:grpSpPr>
              <a:xfrm>
                <a:off x="7289280" y="4548240"/>
                <a:ext cx="1610280" cy="398880"/>
                <a:chOff x="7289280" y="4548240"/>
                <a:chExt cx="1610280" cy="398880"/>
              </a:xfrm>
            </p:grpSpPr>
            <p:sp>
              <p:nvSpPr>
                <p:cNvPr id="546" name=""/>
                <p:cNvSpPr/>
                <p:nvPr/>
              </p:nvSpPr>
              <p:spPr>
                <a:xfrm>
                  <a:off x="7318440" y="4660920"/>
                  <a:ext cx="1581120" cy="2556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>
                  <a:off x="7289280" y="4548240"/>
                  <a:ext cx="3726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...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8" name=""/>
              <p:cNvGrpSpPr/>
              <p:nvPr/>
            </p:nvGrpSpPr>
            <p:grpSpPr>
              <a:xfrm>
                <a:off x="7288200" y="4799160"/>
                <a:ext cx="1611360" cy="396720"/>
                <a:chOff x="7288200" y="4799160"/>
                <a:chExt cx="1611360" cy="396720"/>
              </a:xfrm>
            </p:grpSpPr>
            <p:sp>
              <p:nvSpPr>
                <p:cNvPr id="549" name=""/>
                <p:cNvSpPr/>
                <p:nvPr/>
              </p:nvSpPr>
              <p:spPr>
                <a:xfrm>
                  <a:off x="7318440" y="4911840"/>
                  <a:ext cx="1581120" cy="2556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>
                  <a:off x="7288200" y="4799160"/>
                  <a:ext cx="184320" cy="396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1" name=""/>
              <p:cNvGrpSpPr/>
              <p:nvPr/>
            </p:nvGrpSpPr>
            <p:grpSpPr>
              <a:xfrm>
                <a:off x="7296120" y="5050080"/>
                <a:ext cx="1603440" cy="440640"/>
                <a:chOff x="7296120" y="5050080"/>
                <a:chExt cx="1603440" cy="440640"/>
              </a:xfrm>
            </p:grpSpPr>
            <p:sp>
              <p:nvSpPr>
                <p:cNvPr id="552" name=""/>
                <p:cNvSpPr/>
                <p:nvPr/>
              </p:nvSpPr>
              <p:spPr>
                <a:xfrm>
                  <a:off x="7318440" y="5162760"/>
                  <a:ext cx="1581120" cy="2556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3" name=""/>
                <p:cNvSpPr/>
                <p:nvPr/>
              </p:nvSpPr>
              <p:spPr>
                <a:xfrm>
                  <a:off x="7296120" y="5050080"/>
                  <a:ext cx="39996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c</a:t>
                  </a:r>
                  <a:r>
                    <a:rPr b="0" i="1" lang="en-US" sz="20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m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4" name=""/>
              <p:cNvGrpSpPr/>
              <p:nvPr/>
            </p:nvGrpSpPr>
            <p:grpSpPr>
              <a:xfrm>
                <a:off x="7694640" y="3084480"/>
                <a:ext cx="296640" cy="2403360"/>
                <a:chOff x="7694640" y="3084480"/>
                <a:chExt cx="296640" cy="2403360"/>
              </a:xfrm>
            </p:grpSpPr>
            <p:sp>
              <p:nvSpPr>
                <p:cNvPr id="555" name=""/>
                <p:cNvSpPr/>
                <p:nvPr/>
              </p:nvSpPr>
              <p:spPr>
                <a:xfrm>
                  <a:off x="7696080" y="3084480"/>
                  <a:ext cx="2952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6" name=""/>
                <p:cNvSpPr/>
                <p:nvPr/>
              </p:nvSpPr>
              <p:spPr>
                <a:xfrm>
                  <a:off x="7696080" y="3327480"/>
                  <a:ext cx="2952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7" name=""/>
                <p:cNvSpPr/>
                <p:nvPr/>
              </p:nvSpPr>
              <p:spPr>
                <a:xfrm>
                  <a:off x="7696080" y="3601800"/>
                  <a:ext cx="2952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8" name=""/>
                <p:cNvSpPr/>
                <p:nvPr/>
              </p:nvSpPr>
              <p:spPr>
                <a:xfrm>
                  <a:off x="7694640" y="3844800"/>
                  <a:ext cx="2952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9" name=""/>
                <p:cNvSpPr/>
                <p:nvPr/>
              </p:nvSpPr>
              <p:spPr>
                <a:xfrm>
                  <a:off x="7696080" y="4098960"/>
                  <a:ext cx="2952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0" name=""/>
                <p:cNvSpPr/>
                <p:nvPr/>
              </p:nvSpPr>
              <p:spPr>
                <a:xfrm>
                  <a:off x="7694640" y="4341600"/>
                  <a:ext cx="2952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1" name=""/>
                <p:cNvSpPr/>
                <p:nvPr/>
              </p:nvSpPr>
              <p:spPr>
                <a:xfrm>
                  <a:off x="7694640" y="4616280"/>
                  <a:ext cx="2952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2" name=""/>
                <p:cNvSpPr/>
                <p:nvPr/>
              </p:nvSpPr>
              <p:spPr>
                <a:xfrm>
                  <a:off x="7694640" y="4859280"/>
                  <a:ext cx="2952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3" name=""/>
                <p:cNvSpPr/>
                <p:nvPr/>
              </p:nvSpPr>
              <p:spPr>
                <a:xfrm>
                  <a:off x="7696080" y="5119560"/>
                  <a:ext cx="2952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4" name=""/>
              <p:cNvGrpSpPr/>
              <p:nvPr/>
            </p:nvGrpSpPr>
            <p:grpSpPr>
              <a:xfrm>
                <a:off x="8002440" y="3083040"/>
                <a:ext cx="297000" cy="2403360"/>
                <a:chOff x="8002440" y="3083040"/>
                <a:chExt cx="297000" cy="2403360"/>
              </a:xfrm>
            </p:grpSpPr>
            <p:sp>
              <p:nvSpPr>
                <p:cNvPr id="565" name=""/>
                <p:cNvSpPr/>
                <p:nvPr/>
              </p:nvSpPr>
              <p:spPr>
                <a:xfrm>
                  <a:off x="8004240" y="3083040"/>
                  <a:ext cx="2952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6" name=""/>
                <p:cNvSpPr/>
                <p:nvPr/>
              </p:nvSpPr>
              <p:spPr>
                <a:xfrm>
                  <a:off x="8004240" y="3325680"/>
                  <a:ext cx="2952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7" name=""/>
                <p:cNvSpPr/>
                <p:nvPr/>
              </p:nvSpPr>
              <p:spPr>
                <a:xfrm>
                  <a:off x="8004240" y="3600360"/>
                  <a:ext cx="2952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8" name=""/>
                <p:cNvSpPr/>
                <p:nvPr/>
              </p:nvSpPr>
              <p:spPr>
                <a:xfrm>
                  <a:off x="8002440" y="3843360"/>
                  <a:ext cx="2952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9" name=""/>
                <p:cNvSpPr/>
                <p:nvPr/>
              </p:nvSpPr>
              <p:spPr>
                <a:xfrm>
                  <a:off x="8004240" y="4097160"/>
                  <a:ext cx="2952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0" name=""/>
                <p:cNvSpPr/>
                <p:nvPr/>
              </p:nvSpPr>
              <p:spPr>
                <a:xfrm>
                  <a:off x="8002440" y="4340160"/>
                  <a:ext cx="2952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1" name=""/>
                <p:cNvSpPr/>
                <p:nvPr/>
              </p:nvSpPr>
              <p:spPr>
                <a:xfrm>
                  <a:off x="8002440" y="4614840"/>
                  <a:ext cx="2952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2" name=""/>
                <p:cNvSpPr/>
                <p:nvPr/>
              </p:nvSpPr>
              <p:spPr>
                <a:xfrm>
                  <a:off x="8002440" y="4857840"/>
                  <a:ext cx="2952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3" name=""/>
                <p:cNvSpPr/>
                <p:nvPr/>
              </p:nvSpPr>
              <p:spPr>
                <a:xfrm>
                  <a:off x="8004240" y="5118120"/>
                  <a:ext cx="2952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4" name=""/>
              <p:cNvGrpSpPr/>
              <p:nvPr/>
            </p:nvGrpSpPr>
            <p:grpSpPr>
              <a:xfrm>
                <a:off x="8315280" y="3084480"/>
                <a:ext cx="296640" cy="2403360"/>
                <a:chOff x="8315280" y="3084480"/>
                <a:chExt cx="296640" cy="2403360"/>
              </a:xfrm>
            </p:grpSpPr>
            <p:sp>
              <p:nvSpPr>
                <p:cNvPr id="575" name=""/>
                <p:cNvSpPr/>
                <p:nvPr/>
              </p:nvSpPr>
              <p:spPr>
                <a:xfrm>
                  <a:off x="8316720" y="3084480"/>
                  <a:ext cx="2952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6" name=""/>
                <p:cNvSpPr/>
                <p:nvPr/>
              </p:nvSpPr>
              <p:spPr>
                <a:xfrm>
                  <a:off x="8316720" y="3327480"/>
                  <a:ext cx="2952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7" name=""/>
                <p:cNvSpPr/>
                <p:nvPr/>
              </p:nvSpPr>
              <p:spPr>
                <a:xfrm>
                  <a:off x="8316720" y="3601800"/>
                  <a:ext cx="2952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8" name=""/>
                <p:cNvSpPr/>
                <p:nvPr/>
              </p:nvSpPr>
              <p:spPr>
                <a:xfrm>
                  <a:off x="8315280" y="3844800"/>
                  <a:ext cx="2952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9" name=""/>
                <p:cNvSpPr/>
                <p:nvPr/>
              </p:nvSpPr>
              <p:spPr>
                <a:xfrm>
                  <a:off x="8316720" y="4098960"/>
                  <a:ext cx="2952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0" name=""/>
                <p:cNvSpPr/>
                <p:nvPr/>
              </p:nvSpPr>
              <p:spPr>
                <a:xfrm>
                  <a:off x="8315280" y="4341600"/>
                  <a:ext cx="2952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1" name=""/>
                <p:cNvSpPr/>
                <p:nvPr/>
              </p:nvSpPr>
              <p:spPr>
                <a:xfrm>
                  <a:off x="8315280" y="4616280"/>
                  <a:ext cx="2952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2" name=""/>
                <p:cNvSpPr/>
                <p:nvPr/>
              </p:nvSpPr>
              <p:spPr>
                <a:xfrm>
                  <a:off x="8315280" y="4859280"/>
                  <a:ext cx="2952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3" name=""/>
                <p:cNvSpPr/>
                <p:nvPr/>
              </p:nvSpPr>
              <p:spPr>
                <a:xfrm>
                  <a:off x="8316720" y="5119560"/>
                  <a:ext cx="2952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4" name=""/>
              <p:cNvGrpSpPr/>
              <p:nvPr/>
            </p:nvGrpSpPr>
            <p:grpSpPr>
              <a:xfrm>
                <a:off x="8623080" y="3084480"/>
                <a:ext cx="297000" cy="2403360"/>
                <a:chOff x="8623080" y="3084480"/>
                <a:chExt cx="297000" cy="2403360"/>
              </a:xfrm>
            </p:grpSpPr>
            <p:sp>
              <p:nvSpPr>
                <p:cNvPr id="585" name=""/>
                <p:cNvSpPr/>
                <p:nvPr/>
              </p:nvSpPr>
              <p:spPr>
                <a:xfrm>
                  <a:off x="8624880" y="3084480"/>
                  <a:ext cx="2952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6" name=""/>
                <p:cNvSpPr/>
                <p:nvPr/>
              </p:nvSpPr>
              <p:spPr>
                <a:xfrm>
                  <a:off x="8624880" y="3327120"/>
                  <a:ext cx="2952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7" name=""/>
                <p:cNvSpPr/>
                <p:nvPr/>
              </p:nvSpPr>
              <p:spPr>
                <a:xfrm>
                  <a:off x="8624880" y="3601800"/>
                  <a:ext cx="2952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8" name=""/>
                <p:cNvSpPr/>
                <p:nvPr/>
              </p:nvSpPr>
              <p:spPr>
                <a:xfrm>
                  <a:off x="8623080" y="3844800"/>
                  <a:ext cx="2952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9" name=""/>
                <p:cNvSpPr/>
                <p:nvPr/>
              </p:nvSpPr>
              <p:spPr>
                <a:xfrm>
                  <a:off x="8624880" y="4098600"/>
                  <a:ext cx="2952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0" name=""/>
                <p:cNvSpPr/>
                <p:nvPr/>
              </p:nvSpPr>
              <p:spPr>
                <a:xfrm>
                  <a:off x="8623080" y="4341600"/>
                  <a:ext cx="2952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1" name=""/>
                <p:cNvSpPr/>
                <p:nvPr/>
              </p:nvSpPr>
              <p:spPr>
                <a:xfrm>
                  <a:off x="8623080" y="4616280"/>
                  <a:ext cx="2952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2" name=""/>
                <p:cNvSpPr/>
                <p:nvPr/>
              </p:nvSpPr>
              <p:spPr>
                <a:xfrm>
                  <a:off x="8623080" y="4859280"/>
                  <a:ext cx="2952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3" name=""/>
                <p:cNvSpPr/>
                <p:nvPr/>
              </p:nvSpPr>
              <p:spPr>
                <a:xfrm>
                  <a:off x="8624880" y="5119560"/>
                  <a:ext cx="2952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94" name=""/>
            <p:cNvSpPr/>
            <p:nvPr/>
          </p:nvSpPr>
          <p:spPr>
            <a:xfrm>
              <a:off x="7318440" y="2833560"/>
              <a:ext cx="381240" cy="2955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7329600" y="2757600"/>
              <a:ext cx="33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t’s try it out on something we know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69608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ra’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achine Learn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93 categorized into machine learning hierarch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ory, neural networks, rule learning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abilistic models, genetic algorithms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inforcement learning, case-based lear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estion #1: can we reconstruct ML topics from citation structur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tation structure independent of text used for initial class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estion #2: Can we identify authoritative papers in each topic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8" name="untitled" descr=""/>
          <p:cNvPicPr/>
          <p:nvPr/>
        </p:nvPicPr>
        <p:blipFill>
          <a:blip r:embed="rId1"/>
          <a:stretch/>
        </p:blipFill>
        <p:spPr>
          <a:xfrm>
            <a:off x="6400800" y="1550880"/>
            <a:ext cx="2668680" cy="218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CA authority -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ora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cit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1276200" y="1425600"/>
            <a:ext cx="691524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igenvector 1  (Genetic Algorithms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0492     How genetic algorithms work: A critical look at implicit parallelism. Grefenstett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0490     A theory and methodology of inductive learning. Michalski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0473     Co-evolving parasites improve simulated evolution as an optimization procedure. Hill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igenvector 2  (Genetic Algorithms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00295     Induction of finite automata by genetic algorithms. Zhou et a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00295     Implementation of massively parallel genetic algorithm on the MasPar MP-1. Logar et a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00294     Genetic programming: A new paradigm for control and analysis. Hamp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igenvector 3  (Reinforcement Learning/Genetic Algorithms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256     Learning to predict by the methods of temporal differences. Sutt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238     Genetic Algorithms in Search, Optimization, and Machine Learning. Angeline et a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178     Adaptation in Natural and Artificial Systems. Hollan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igenvector 4  (Neural Networks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162     Learning internal representations by error propagation. Rumelhart et a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129     Pattern Recognition and Neural Networks. Lawrence et a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127     Self-Organization and Associative Memory. Hasselmo et a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igenvector 5  (Rule Learning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0828    Irrelevant features and the subset selection problem, Cohen et a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0721    Very Simple Classification Rules Perform Well on Most Commonly Used Datasets. Holt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0680     Classification and Regression Trees. Breiman et a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igenvector 6  (Rule Learning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130     Classification and Regression Trees. Breiman et a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0879     The CN2 induction algorithm. Clark et a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0751     Boolean Feature Discovery in Empirical Learning. Pagall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igenvector 7  ([Classical Statistics?]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5-132    Method of Least Squares. Gaus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5-132    The historical development of the Gauss linear model. Sea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5-132    A Treatise on the Adjustment of Observations. Wrigh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CA/HITS – why it (sort of) 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769608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thor Co-citation Analysis (AC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entify principal eigenvectors of co-citation matri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’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label as primary topics of corp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ypertext Induced Topic Selection (HITS) – 199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eigenvalue iteration to identify principal “hubs” and “authorities” of a linked corp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762120" y="4343400"/>
            <a:ext cx="769608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oth just doing factor analysis on link statis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ame as is done for text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oth are using Gaussian (wrong!) statistical model for variation in citation r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/>
          </p:nvPr>
        </p:nvSpPr>
        <p:spPr>
          <a:xfrm>
            <a:off x="685800" y="1447560"/>
            <a:ext cx="784872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form explicit factor analysis using 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imate factor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likelihoo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 type="title"/>
          </p:nvPr>
        </p:nvSpPr>
        <p:spPr>
          <a:xfrm>
            <a:off x="685440" y="4568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babilistic bibliometric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Cohn ’0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609480" y="4038480"/>
            <a:ext cx="777240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1085760" indent="-228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62120" y="4419720"/>
            <a:ext cx="784836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lid probabilistic foundation for reasoning about document conne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ems to frequently outperform HITS/A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8" name=""/>
              <p:cNvSpPr txBox="1"/>
              <p:nvPr/>
            </p:nvSpPr>
            <p:spPr>
              <a:xfrm>
                <a:off x="4640400" y="2819520"/>
                <a:ext cx="3512880" cy="79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j</m:t>
                        </m:r>
                      </m:sub>
                      <m:sup/>
                      <m:e>
                        <m:f>
                          <m:num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lj</m:t>
                                </m:r>
                              </m:sub>
                            </m:sSub>
                          </m:num>
                          <m:den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  <m:r>
                                      <m:t xml:space="preserve">'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</m:sSub>
                              </m:e>
                            </m:nary>
                          </m:den>
                        </m:f>
                      </m:e>
                    </m:nary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9" name=""/>
              <p:cNvSpPr txBox="1"/>
              <p:nvPr/>
            </p:nvSpPr>
            <p:spPr>
              <a:xfrm>
                <a:off x="4191120" y="1981080"/>
                <a:ext cx="344952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0" name=""/>
              <p:cNvSpPr txBox="1"/>
              <p:nvPr/>
            </p:nvSpPr>
            <p:spPr>
              <a:xfrm>
                <a:off x="4633920" y="3621240"/>
                <a:ext cx="3595680" cy="79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∝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l</m:t>
                        </m:r>
                      </m:sub>
                      <m:sup/>
                      <m:e>
                        <m:f>
                          <m:num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lj</m:t>
                                </m:r>
                              </m:sub>
                            </m:sSub>
                          </m:num>
                          <m:den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  <m:r>
                                      <m:t xml:space="preserve">'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</m:sSub>
                              </m:e>
                            </m:nary>
                          </m:den>
                        </m:f>
                      </m:e>
                    </m:nary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babilistic bibliometrics –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ora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cit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743400" y="1425600"/>
            <a:ext cx="720324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actor 1  (Reinforcement Learnin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0108  Learning to predict by the methods of temporal differences. Sut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0066  Neuronlike adaptive elements that can solve difficult learning control problems. Barto et 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0065  Practical Issues in Temporal Difference Learning. Tesaur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actor 2  (Rule Learnin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0038  Explanation-based generalization: a unifying view. Mitchell et 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0037  Learning internal representations by error propagation. Rumelhart et 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0036  Explanation-Based Learning: An Alternative View. DeJong et 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actor 3  (Neural Network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0120  Learning internal representations by error propagation. Rumelhart et 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0061  Neural networks and the bias-variance dilemma. Geman et 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0049  The Cascade-Correlation learning architecture. Fahlman et 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actor 4  (Theor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0093  Classification and Regression Trees. Breiman et 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0066  Learnability and the Vapnik-Chervonenkis dimension, Blumer et 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0055  Learning Quickly when Irrelevant Attributes Abound. Littlest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actor 5  (Probabilistic Reasonin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0118  Probabilistic Reasoning in Intelligent Systems: Networks of Plausible Inference. Pear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0094  Maximum likelihood from incomplete data via the em algorithm. Dempster et 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0056  Local computations with probabilities on graphical structures... Lauritzen et 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actor 6  (Genetic Algorithm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0157  Genetic Algorithms in Search, Optimization, and Machine Learning. Goldbe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0132  Adaptation in Natural and Artificial Systems. Hol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0096  Genetic Programming: On the Programming of Computers by Means of Natural Selection. Koz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actor 7  (Logi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0063  Efficient induction of logic programs. Muggleton et 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0054  Learning logical definitions from relations. Quinla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0033  Inductive Logic Programming Techniques and Applications. Lavrac et 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7315200" y="62485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re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ools for understanding a collec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2666520" y="1752480"/>
            <a:ext cx="4496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is the topic of this docu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other documents are there on this topic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e topics in this collectio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are they rel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e there better documents on this topic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6" name=""/>
          <p:cNvGrpSpPr/>
          <p:nvPr/>
        </p:nvGrpSpPr>
        <p:grpSpPr>
          <a:xfrm>
            <a:off x="1219320" y="1910160"/>
            <a:ext cx="1523880" cy="3416040"/>
            <a:chOff x="1219320" y="1910160"/>
            <a:chExt cx="1523880" cy="3416040"/>
          </a:xfrm>
        </p:grpSpPr>
        <p:sp>
          <p:nvSpPr>
            <p:cNvPr id="617" name=""/>
            <p:cNvSpPr/>
            <p:nvPr/>
          </p:nvSpPr>
          <p:spPr>
            <a:xfrm rot="16200000">
              <a:off x="-75960" y="3205440"/>
              <a:ext cx="3416040" cy="82512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Times New Roman"/>
                </a:rPr>
                <a:t>Text analysis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 flipV="1">
              <a:off x="2057400" y="2057040"/>
              <a:ext cx="685800" cy="22860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 flipV="1">
              <a:off x="1981080" y="2819160"/>
              <a:ext cx="762120" cy="7596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 flipV="1">
              <a:off x="1981080" y="3657600"/>
              <a:ext cx="762120" cy="7632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1" name=""/>
          <p:cNvGrpSpPr/>
          <p:nvPr/>
        </p:nvGrpSpPr>
        <p:grpSpPr>
          <a:xfrm>
            <a:off x="6248520" y="1949760"/>
            <a:ext cx="1896480" cy="3449880"/>
            <a:chOff x="6248520" y="1949760"/>
            <a:chExt cx="1896480" cy="3449880"/>
          </a:xfrm>
        </p:grpSpPr>
        <p:sp>
          <p:nvSpPr>
            <p:cNvPr id="622" name=""/>
            <p:cNvSpPr/>
            <p:nvPr/>
          </p:nvSpPr>
          <p:spPr>
            <a:xfrm rot="16200000">
              <a:off x="6007320" y="3261960"/>
              <a:ext cx="3449880" cy="825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Times New Roman"/>
                </a:rPr>
                <a:t>Link analysis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 flipH="1">
              <a:off x="6857640" y="2895480"/>
              <a:ext cx="609480" cy="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 flipH="1">
              <a:off x="6858000" y="3733920"/>
              <a:ext cx="533520" cy="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 flipV="1">
              <a:off x="6248520" y="4343040"/>
              <a:ext cx="1143000" cy="22860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 flipH="1">
              <a:off x="6857640" y="4800600"/>
              <a:ext cx="609480" cy="22860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ut can they play together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have two independent, probabilistic document models with parallel formu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9" name=""/>
          <p:cNvGrpSpPr/>
          <p:nvPr/>
        </p:nvGrpSpPr>
        <p:grpSpPr>
          <a:xfrm>
            <a:off x="1445760" y="2438280"/>
            <a:ext cx="2352600" cy="2590920"/>
            <a:chOff x="1445760" y="2438280"/>
            <a:chExt cx="2352600" cy="2590920"/>
          </a:xfrm>
        </p:grpSpPr>
        <p:grpSp>
          <p:nvGrpSpPr>
            <p:cNvPr id="630" name=""/>
            <p:cNvGrpSpPr/>
            <p:nvPr/>
          </p:nvGrpSpPr>
          <p:grpSpPr>
            <a:xfrm>
              <a:off x="2774880" y="2438280"/>
              <a:ext cx="1023480" cy="2590920"/>
              <a:chOff x="2774880" y="2438280"/>
              <a:chExt cx="1023480" cy="2590920"/>
            </a:xfrm>
          </p:grpSpPr>
          <p:sp>
            <p:nvSpPr>
              <p:cNvPr id="631" name=""/>
              <p:cNvSpPr/>
              <p:nvPr/>
            </p:nvSpPr>
            <p:spPr>
              <a:xfrm>
                <a:off x="3286080" y="3962160"/>
                <a:ext cx="0" cy="609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3286080" y="2971800"/>
                <a:ext cx="0" cy="609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2790720" y="3429000"/>
                <a:ext cx="990720" cy="609480"/>
              </a:xfrm>
              <a:prstGeom prst="ellipse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2905920" y="3470040"/>
                <a:ext cx="7617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p(z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k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2790720" y="2438280"/>
                <a:ext cx="990720" cy="609480"/>
              </a:xfrm>
              <a:prstGeom prst="ellipse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2774880" y="2479680"/>
                <a:ext cx="10234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p(d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j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|z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k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2790720" y="4419360"/>
                <a:ext cx="990720" cy="609840"/>
              </a:xfrm>
              <a:prstGeom prst="ellipse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2807640" y="4460760"/>
                <a:ext cx="9565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p(t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i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|z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k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9" name=""/>
            <p:cNvSpPr/>
            <p:nvPr/>
          </p:nvSpPr>
          <p:spPr>
            <a:xfrm>
              <a:off x="1445760" y="3219480"/>
              <a:ext cx="122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PLS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4583160" y="2438280"/>
            <a:ext cx="2530800" cy="2590920"/>
            <a:chOff x="4583160" y="2438280"/>
            <a:chExt cx="2530800" cy="2590920"/>
          </a:xfrm>
        </p:grpSpPr>
        <p:grpSp>
          <p:nvGrpSpPr>
            <p:cNvPr id="641" name=""/>
            <p:cNvGrpSpPr/>
            <p:nvPr/>
          </p:nvGrpSpPr>
          <p:grpSpPr>
            <a:xfrm>
              <a:off x="4583160" y="2438280"/>
              <a:ext cx="1081800" cy="2590920"/>
              <a:chOff x="4583160" y="2438280"/>
              <a:chExt cx="1081800" cy="2590920"/>
            </a:xfrm>
          </p:grpSpPr>
          <p:sp>
            <p:nvSpPr>
              <p:cNvPr id="642" name=""/>
              <p:cNvSpPr/>
              <p:nvPr/>
            </p:nvSpPr>
            <p:spPr>
              <a:xfrm>
                <a:off x="5094000" y="3962160"/>
                <a:ext cx="0" cy="609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5094000" y="2971800"/>
                <a:ext cx="0" cy="609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4599000" y="3429000"/>
                <a:ext cx="990360" cy="60948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4713840" y="3470040"/>
                <a:ext cx="7617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p(z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k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4599000" y="2438280"/>
                <a:ext cx="990360" cy="60948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4583160" y="2479680"/>
                <a:ext cx="10234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p(d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j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|z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k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4599000" y="4419360"/>
                <a:ext cx="990360" cy="60984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4618080" y="4460760"/>
                <a:ext cx="10468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p(c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h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|z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k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0" name=""/>
            <p:cNvSpPr/>
            <p:nvPr/>
          </p:nvSpPr>
          <p:spPr>
            <a:xfrm>
              <a:off x="5712480" y="3200400"/>
              <a:ext cx="1401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PHIT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1" name=""/>
          <p:cNvGrpSpPr/>
          <p:nvPr/>
        </p:nvGrpSpPr>
        <p:grpSpPr>
          <a:xfrm>
            <a:off x="685800" y="2286000"/>
            <a:ext cx="7772400" cy="4114800"/>
            <a:chOff x="685800" y="2286000"/>
            <a:chExt cx="7772400" cy="4114800"/>
          </a:xfrm>
        </p:grpSpPr>
        <p:sp>
          <p:nvSpPr>
            <p:cNvPr id="652" name=""/>
            <p:cNvSpPr/>
            <p:nvPr/>
          </p:nvSpPr>
          <p:spPr>
            <a:xfrm>
              <a:off x="685800" y="5257800"/>
              <a:ext cx="77724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What happens if we put them in a room together and turn out the lights?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53" name=""/>
            <p:cNvGrpSpPr/>
            <p:nvPr/>
          </p:nvGrpSpPr>
          <p:grpSpPr>
            <a:xfrm>
              <a:off x="2666880" y="2286000"/>
              <a:ext cx="3048120" cy="2819520"/>
              <a:chOff x="2666880" y="2286000"/>
              <a:chExt cx="3048120" cy="2819520"/>
            </a:xfrm>
          </p:grpSpPr>
          <p:sp>
            <p:nvSpPr>
              <p:cNvPr id="654" name=""/>
              <p:cNvSpPr/>
              <p:nvPr/>
            </p:nvSpPr>
            <p:spPr>
              <a:xfrm>
                <a:off x="2666880" y="2286000"/>
                <a:ext cx="3048120" cy="2819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4343400" y="3962520"/>
                <a:ext cx="750600" cy="609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 flipH="1">
                <a:off x="3352320" y="3962520"/>
                <a:ext cx="523800" cy="533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4124160" y="2971800"/>
                <a:ext cx="0" cy="609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3628800" y="3429000"/>
                <a:ext cx="990720" cy="609840"/>
              </a:xfrm>
              <a:prstGeom prst="ellipse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3744000" y="3470400"/>
                <a:ext cx="7617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p(z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k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3628800" y="2438640"/>
                <a:ext cx="990720" cy="609480"/>
              </a:xfrm>
              <a:prstGeom prst="ellipse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3612960" y="2479680"/>
                <a:ext cx="10234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p(d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j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|z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k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2790720" y="4419720"/>
                <a:ext cx="990720" cy="609480"/>
              </a:xfrm>
              <a:prstGeom prst="ellipse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2807640" y="4461120"/>
                <a:ext cx="9565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p(t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i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|z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k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4599000" y="4419720"/>
                <a:ext cx="990360" cy="60948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4618080" y="4461120"/>
                <a:ext cx="10468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p(c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h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|z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k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/>
          </p:nvPr>
        </p:nvSpPr>
        <p:spPr>
          <a:xfrm>
            <a:off x="685800" y="1411200"/>
            <a:ext cx="78487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hematically trivial to comb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 twist: mode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links c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stead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utlink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form explicit factor analysis using 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timate facto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3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imize likelihoo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with mixing paramete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 type="title"/>
          </p:nvPr>
        </p:nvSpPr>
        <p:spPr>
          <a:xfrm>
            <a:off x="685440" y="42048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Joint Probabilistic Document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609480" y="4154400"/>
            <a:ext cx="777240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1085760" indent="-228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9" name=""/>
              <p:cNvSpPr txBox="1"/>
              <p:nvPr/>
            </p:nvSpPr>
            <p:spPr>
              <a:xfrm>
                <a:off x="1538280" y="4154400"/>
                <a:ext cx="7277040" cy="79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j</m:t>
                        </m:r>
                      </m:sub>
                      <m:sup/>
                      <m:e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</m:num>
                          <m:den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'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</m:sSub>
                              </m:e>
                            </m:nary>
                          </m:den>
                        </m:f>
                      </m:e>
                    </m:nary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  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c</m:t>
                    </m:r>
                    <m:sSub>
                      <m:e>
                        <m:r>
                          <m:t xml:space="preserve">'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j</m:t>
                        </m:r>
                      </m:sub>
                      <m:sup/>
                      <m:e>
                        <m:f>
                          <m:num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lj</m:t>
                                </m:r>
                              </m:sub>
                            </m:sSub>
                          </m:num>
                          <m:den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  <m:r>
                                      <m:t xml:space="preserve">'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</m:sSub>
                              </m:e>
                            </m:nary>
                          </m:den>
                        </m:f>
                      </m:e>
                    </m:nary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c</m:t>
                    </m:r>
                    <m:sSub>
                      <m:e>
                        <m:r>
                          <m:t xml:space="preserve">'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0" name=""/>
              <p:cNvSpPr txBox="1"/>
              <p:nvPr/>
            </p:nvSpPr>
            <p:spPr>
              <a:xfrm>
                <a:off x="1623960" y="3147840"/>
                <a:ext cx="70884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c</m:t>
                    </m:r>
                    <m:sSub>
                      <m:e>
                        <m:r>
                          <m:t xml:space="preserve">'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c</m:t>
                        </m:r>
                        <m:sSub>
                          <m:e>
                            <m:r>
                              <m:t xml:space="preserve">'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c</m:t>
                        </m:r>
                        <m:sSub>
                          <m:e>
                            <m:r>
                              <m:t xml:space="preserve">'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1" name=""/>
              <p:cNvSpPr txBox="1"/>
              <p:nvPr/>
            </p:nvSpPr>
            <p:spPr>
              <a:xfrm>
                <a:off x="1519200" y="5526000"/>
                <a:ext cx="6981840" cy="79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∝</m:t>
                    </m:r>
                    <m:r>
                      <m:t xml:space="preserve">α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</m:num>
                          <m:den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'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</m:sSub>
                              </m:e>
                            </m:nary>
                          </m:den>
                        </m:f>
                      </m:e>
                    </m:nary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)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l</m:t>
                        </m:r>
                      </m:sub>
                      <m:sup/>
                      <m:e>
                        <m:f>
                          <m:num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lj</m:t>
                                </m:r>
                              </m:sub>
                            </m:sSub>
                          </m:num>
                          <m:den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  <m:r>
                                      <m:t xml:space="preserve">'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</m:sSub>
                              </m:e>
                            </m:nary>
                          </m:den>
                        </m:f>
                      </m:e>
                    </m:nary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c</m:t>
                    </m:r>
                    <m:sSub>
                      <m:e>
                        <m:r>
                          <m:t xml:space="preserve">'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goal of this researc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ilding tools for learning, manipulating and navigating the structure of document colle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me preliminari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’s a document collec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 arbitrary collection of docu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kay, what’s a document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xt docu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ss obvious: audio, video recor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en less obvious: financial transaction records, sensor streams, clickstrea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’s the point of a document collec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y make it easy to find information (in principle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wo domai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79246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bKB data set from CM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266 pages from Computer Science departments at US universities (6099 have both text and hyperlink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tegorized 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urce of page (cornell, washington, texas, wisconsin, oth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ype of page (course, department, project, faculty, student, staff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ra research paper arch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4745 research papers and extracted re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93 categorized into machine learning hierarch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ory, neural networks, rule learning, probabilistic models, genetic algorithms, reinforcement learning, case-based lear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assification accurac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8001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t model improves classification accura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ject into factor space, label according to nearest labeled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6" name=""/>
          <p:cNvGrpSpPr/>
          <p:nvPr/>
        </p:nvGrpSpPr>
        <p:grpSpPr>
          <a:xfrm>
            <a:off x="304920" y="3006720"/>
            <a:ext cx="8534160" cy="3624840"/>
            <a:chOff x="304920" y="3006720"/>
            <a:chExt cx="8534160" cy="3624840"/>
          </a:xfrm>
        </p:grpSpPr>
        <p:grpSp>
          <p:nvGrpSpPr>
            <p:cNvPr id="677" name=""/>
            <p:cNvGrpSpPr/>
            <p:nvPr/>
          </p:nvGrpSpPr>
          <p:grpSpPr>
            <a:xfrm>
              <a:off x="304920" y="3006720"/>
              <a:ext cx="4572000" cy="3624840"/>
              <a:chOff x="304920" y="3006720"/>
              <a:chExt cx="4572000" cy="3624840"/>
            </a:xfrm>
          </p:grpSpPr>
          <p:pic>
            <p:nvPicPr>
              <p:cNvPr id="678" name="webmix1" descr=""/>
              <p:cNvPicPr/>
              <p:nvPr/>
            </p:nvPicPr>
            <p:blipFill>
              <a:blip r:embed="rId1"/>
              <a:stretch/>
            </p:blipFill>
            <p:spPr>
              <a:xfrm>
                <a:off x="457560" y="3006720"/>
                <a:ext cx="4419360" cy="3314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79" name=""/>
              <p:cNvSpPr/>
              <p:nvPr/>
            </p:nvSpPr>
            <p:spPr>
              <a:xfrm>
                <a:off x="1668240" y="6232680"/>
                <a:ext cx="1759680" cy="398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mixing fraction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 rot="16200000">
                <a:off x="-740880" y="4353840"/>
                <a:ext cx="2491200" cy="398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classification accuracy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1523520" y="5292720"/>
                <a:ext cx="1349640" cy="398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webkb dat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2" name=""/>
            <p:cNvGrpSpPr/>
            <p:nvPr/>
          </p:nvGrpSpPr>
          <p:grpSpPr>
            <a:xfrm>
              <a:off x="4802040" y="3006720"/>
              <a:ext cx="4037040" cy="3587760"/>
              <a:chOff x="4802040" y="3006720"/>
              <a:chExt cx="4037040" cy="3587760"/>
            </a:xfrm>
          </p:grpSpPr>
          <p:sp>
            <p:nvSpPr>
              <p:cNvPr id="683" name=""/>
              <p:cNvSpPr/>
              <p:nvPr/>
            </p:nvSpPr>
            <p:spPr>
              <a:xfrm>
                <a:off x="6087600" y="6195600"/>
                <a:ext cx="1759680" cy="398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mixing fraction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5636880" y="5292360"/>
                <a:ext cx="1989720" cy="398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Cora citation dat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685" name="mlmix" descr=""/>
              <p:cNvPicPr/>
              <p:nvPr/>
            </p:nvPicPr>
            <p:blipFill>
              <a:blip r:embed="rId2"/>
              <a:stretch/>
            </p:blipFill>
            <p:spPr>
              <a:xfrm>
                <a:off x="4995720" y="3006720"/>
                <a:ext cx="3843360" cy="3281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86" name=""/>
              <p:cNvSpPr/>
              <p:nvPr/>
            </p:nvSpPr>
            <p:spPr>
              <a:xfrm rot="16200000">
                <a:off x="3755880" y="4317480"/>
                <a:ext cx="2491200" cy="398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classification accuracy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5967360" y="5216400"/>
                <a:ext cx="1192680" cy="398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Cora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 dat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Qualitative document analys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is fact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“about”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(t|z) [actually, p(t|z)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/p(t)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1143000" y="2733840"/>
            <a:ext cx="7162920" cy="1719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actor 1: class, homework, lecture, hours 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urs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actor 2: systems, professor, university, computer 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acult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actor 3: system, data, project, group 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oject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actor 4: page, home, computer, austin 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udents/departme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1143000" y="4791240"/>
            <a:ext cx="6257880" cy="15037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actor 1: learning, reinforcement, neur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actor 2: learning, networks, Bayesi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actor 3: learning, programming, gen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Qualitative document analys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is documen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“about”? 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k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(t|z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)p(z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|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1143000" y="2362320"/>
            <a:ext cx="7162920" cy="1043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alton home pag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text, document, retriev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obotics and Vision Lab pag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robotics, learning, robots, dona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dvanced Database Systems cours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database, project,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5" name=""/>
          <p:cNvGrpSpPr/>
          <p:nvPr/>
        </p:nvGrpSpPr>
        <p:grpSpPr>
          <a:xfrm>
            <a:off x="685800" y="3733920"/>
            <a:ext cx="8000640" cy="2209320"/>
            <a:chOff x="685800" y="3733920"/>
            <a:chExt cx="8000640" cy="2209320"/>
          </a:xfrm>
        </p:grpSpPr>
        <p:grpSp>
          <p:nvGrpSpPr>
            <p:cNvPr id="696" name=""/>
            <p:cNvGrpSpPr/>
            <p:nvPr/>
          </p:nvGrpSpPr>
          <p:grpSpPr>
            <a:xfrm>
              <a:off x="1143000" y="4319640"/>
              <a:ext cx="7543440" cy="1623600"/>
              <a:chOff x="1143000" y="4319640"/>
              <a:chExt cx="7543440" cy="1623600"/>
            </a:xfrm>
          </p:grpSpPr>
          <p:sp>
            <p:nvSpPr>
              <p:cNvPr id="697" name=""/>
              <p:cNvSpPr/>
              <p:nvPr/>
            </p:nvSpPr>
            <p:spPr>
              <a:xfrm>
                <a:off x="1143000" y="4319640"/>
                <a:ext cx="7512840" cy="162360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1223640" y="4942440"/>
                <a:ext cx="730332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0.566 Reinforcement Learning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0.239 Neural Networks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0.044 Logic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0.027 Rule Learning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0.026 Theory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0.026 Probabilistic Reasoning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0.072 Genetic Algorithm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1223640" y="4319640"/>
                <a:ext cx="746280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Factors for “TD Learning of Game Evaluation Functions with Hierarchical Neural Architectures,” by M.A. Wiering: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flipV="1">
                <a:off x="1143000" y="4942440"/>
                <a:ext cx="7451640" cy="6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1" name=""/>
            <p:cNvSpPr/>
            <p:nvPr/>
          </p:nvSpPr>
          <p:spPr>
            <a:xfrm>
              <a:off x="685800" y="3733920"/>
              <a:ext cx="777240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700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What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topic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is a document about?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Qualitative document analys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authoritative is a document in its field?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(c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|z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how likely is it to be cited from its principal topic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990720" y="2743200"/>
            <a:ext cx="7772400" cy="3150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ctor 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arning to predict by the methods of temporal differences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utt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ctor 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xplanation-based generalization: a unifying view. Mitchell et 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ctor 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arning internal representations by error propagation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umelhart et 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ctor 4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assification and Regression Trees. Breiman et 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ctor 5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babilistic Reasoning in Intelligent Systems: Networks of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lausible Inference. Pear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ctor 6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tic Algorithms in Search, Optimization, and Machin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Learning. Goldber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ctor 7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fficient induction of logic programs. Muggleton et 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Qualitative document analys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ute cross-factor author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ch theory papers are most authoritative with respect to the Neural Network community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“Decision Theoretic Generalizations of the PAC Model for Neural Net and other Learning Applications,'' by David Haussl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7" name=""/>
              <p:cNvSpPr txBox="1"/>
              <p:nvPr/>
            </p:nvSpPr>
            <p:spPr>
              <a:xfrm>
                <a:off x="2209680" y="2860560"/>
                <a:ext cx="5318280" cy="87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c</m:t>
                    </m:r>
                    <m:r>
                      <m:t xml:space="preserve">|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nn</m:t>
                    </m:r>
                    <m:r>
                      <m:t xml:space="preserve">)</m:t>
                    </m:r>
                    <m:r>
                      <m:t xml:space="preserve">:</m:t>
                    </m:r>
                    <m:f>
                      <m:num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theory</m:t>
                        </m:r>
                        <m:r>
                          <m:t xml:space="preserve">|</m:t>
                        </m:r>
                        <m:r>
                          <m:t xml:space="preserve">c</m:t>
                        </m:r>
                        <m:r>
                          <m:t xml:space="preserve">)</m:t>
                        </m:r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z</m:t>
                            </m:r>
                            <m:r>
                              <m:t xml:space="preserve">|</m:t>
                            </m:r>
                            <m:r>
                              <m:t xml:space="preserve">c</m:t>
                            </m:r>
                            <m:r>
                              <m:t xml:space="preserve">)</m:t>
                            </m:r>
                          </m:e>
                        </m:nary>
                      </m:den>
                    </m:f>
                    <m:r>
                      <m:t xml:space="preserve">&gt;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nalyzing document relationship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do these topics relate to each othe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ds in document are signposts in factor 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ks are a directed conn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ween two docu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ween two points in factor sp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0" name=""/>
          <p:cNvGrpSpPr/>
          <p:nvPr/>
        </p:nvGrpSpPr>
        <p:grpSpPr>
          <a:xfrm>
            <a:off x="1371240" y="3581280"/>
            <a:ext cx="5867280" cy="2641320"/>
            <a:chOff x="1371240" y="3581280"/>
            <a:chExt cx="5867280" cy="2641320"/>
          </a:xfrm>
        </p:grpSpPr>
        <p:sp>
          <p:nvSpPr>
            <p:cNvPr id="711" name=""/>
            <p:cNvSpPr/>
            <p:nvPr/>
          </p:nvSpPr>
          <p:spPr>
            <a:xfrm>
              <a:off x="2658600" y="3835800"/>
              <a:ext cx="29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5469480" y="3931200"/>
              <a:ext cx="40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z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 flipV="1">
              <a:off x="3113280" y="3835440"/>
              <a:ext cx="2475000" cy="286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3296520" y="3740400"/>
              <a:ext cx="2016720" cy="572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 flipV="1">
              <a:off x="3296520" y="4313160"/>
              <a:ext cx="91800" cy="1527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 flipV="1">
              <a:off x="5955480" y="3740040"/>
              <a:ext cx="1008000" cy="572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5955480" y="4408920"/>
              <a:ext cx="1283040" cy="381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5955480" y="4599720"/>
              <a:ext cx="366120" cy="1050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3571560" y="4408920"/>
              <a:ext cx="2016720" cy="1432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 flipH="1">
              <a:off x="3571200" y="5936400"/>
              <a:ext cx="1649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 flipV="1">
              <a:off x="3571560" y="6127560"/>
              <a:ext cx="201672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 flipH="1" flipV="1">
              <a:off x="2654640" y="5649840"/>
              <a:ext cx="549720" cy="477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 flipH="1">
              <a:off x="2562840" y="4599720"/>
              <a:ext cx="274680" cy="1050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2456280" y="3581280"/>
              <a:ext cx="473760" cy="541080"/>
            </a:xfrm>
            <a:custGeom>
              <a:avLst/>
              <a:gdLst/>
              <a:ahLst/>
              <a:rect l="l" t="t" r="r" b="b"/>
              <a:pathLst>
                <a:path w="248" h="272">
                  <a:moveTo>
                    <a:pt x="248" y="224"/>
                  </a:moveTo>
                  <a:cubicBezTo>
                    <a:pt x="240" y="144"/>
                    <a:pt x="232" y="64"/>
                    <a:pt x="200" y="32"/>
                  </a:cubicBezTo>
                  <a:cubicBezTo>
                    <a:pt x="168" y="0"/>
                    <a:pt x="88" y="8"/>
                    <a:pt x="56" y="32"/>
                  </a:cubicBezTo>
                  <a:cubicBezTo>
                    <a:pt x="24" y="56"/>
                    <a:pt x="0" y="136"/>
                    <a:pt x="8" y="176"/>
                  </a:cubicBezTo>
                  <a:cubicBezTo>
                    <a:pt x="16" y="216"/>
                    <a:pt x="60" y="244"/>
                    <a:pt x="104" y="27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 flipH="1">
              <a:off x="3480120" y="4503960"/>
              <a:ext cx="2108160" cy="1241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 flipH="1">
              <a:off x="1829880" y="5649840"/>
              <a:ext cx="641160" cy="477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 flipH="1" flipV="1">
              <a:off x="1371240" y="4599360"/>
              <a:ext cx="1099800" cy="1050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nalyzing document relationship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5562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link can be evidence of reference between arbitrary point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z’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topic sp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0" name=""/>
          <p:cNvGrpSpPr/>
          <p:nvPr/>
        </p:nvGrpSpPr>
        <p:grpSpPr>
          <a:xfrm>
            <a:off x="6128280" y="1447920"/>
            <a:ext cx="3003480" cy="1713240"/>
            <a:chOff x="6128280" y="1447920"/>
            <a:chExt cx="3003480" cy="1713240"/>
          </a:xfrm>
        </p:grpSpPr>
        <p:sp>
          <p:nvSpPr>
            <p:cNvPr id="731" name=""/>
            <p:cNvSpPr/>
            <p:nvPr/>
          </p:nvSpPr>
          <p:spPr>
            <a:xfrm>
              <a:off x="6347160" y="2579760"/>
              <a:ext cx="33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8508960" y="257976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z’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 rot="595200">
              <a:off x="6954480" y="1711080"/>
              <a:ext cx="1114560" cy="188640"/>
            </a:xfrm>
            <a:prstGeom prst="rightArrow">
              <a:avLst>
                <a:gd name="adj1" fmla="val 50000"/>
                <a:gd name="adj2" fmla="val 14771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 flipV="1">
              <a:off x="6508800" y="1787400"/>
              <a:ext cx="25884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 rot="17216400">
              <a:off x="6043680" y="2011680"/>
              <a:ext cx="85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p(c|z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8264520" y="2016000"/>
              <a:ext cx="39060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 rot="3558000">
              <a:off x="8195400" y="2055600"/>
              <a:ext cx="977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p(z’|d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6676560" y="144792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8070840" y="16351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0" name=""/>
          <p:cNvGrpSpPr/>
          <p:nvPr/>
        </p:nvGrpSpPr>
        <p:grpSpPr>
          <a:xfrm>
            <a:off x="685800" y="3886200"/>
            <a:ext cx="8077320" cy="2743200"/>
            <a:chOff x="685800" y="3886200"/>
            <a:chExt cx="8077320" cy="2743200"/>
          </a:xfrm>
        </p:grpSpPr>
        <p:grpSp>
          <p:nvGrpSpPr>
            <p:cNvPr id="741" name=""/>
            <p:cNvGrpSpPr/>
            <p:nvPr/>
          </p:nvGrpSpPr>
          <p:grpSpPr>
            <a:xfrm>
              <a:off x="5851440" y="3886200"/>
              <a:ext cx="2911680" cy="2743200"/>
              <a:chOff x="5851440" y="3886200"/>
              <a:chExt cx="2911680" cy="2743200"/>
            </a:xfrm>
          </p:grpSpPr>
          <p:sp>
            <p:nvSpPr>
              <p:cNvPr id="742" name=""/>
              <p:cNvSpPr/>
              <p:nvPr/>
            </p:nvSpPr>
            <p:spPr>
              <a:xfrm>
                <a:off x="7875000" y="6091560"/>
                <a:ext cx="846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cours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6276960" y="6026400"/>
                <a:ext cx="887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faculty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5851440" y="4797720"/>
                <a:ext cx="13266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student/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departmen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7209720" y="4197600"/>
                <a:ext cx="887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projec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7875360" y="4654800"/>
                <a:ext cx="88776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dept./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faculty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7276320" y="6106680"/>
                <a:ext cx="532440" cy="195840"/>
              </a:xfrm>
              <a:prstGeom prst="leftArrow">
                <a:avLst>
                  <a:gd name="adj1" fmla="val 50000"/>
                  <a:gd name="adj2" fmla="val 67969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 rot="8301600">
                <a:off x="6743160" y="4539240"/>
                <a:ext cx="532440" cy="195840"/>
              </a:xfrm>
              <a:prstGeom prst="leftArrow">
                <a:avLst>
                  <a:gd name="adj1" fmla="val 50000"/>
                  <a:gd name="adj2" fmla="val 67969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 rot="15489000">
                <a:off x="6282360" y="5582160"/>
                <a:ext cx="522720" cy="199440"/>
              </a:xfrm>
              <a:prstGeom prst="leftArrow">
                <a:avLst>
                  <a:gd name="adj1" fmla="val 50000"/>
                  <a:gd name="adj2" fmla="val 65523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 rot="17615400">
                <a:off x="6618240" y="5141160"/>
                <a:ext cx="1404000" cy="199440"/>
              </a:xfrm>
              <a:prstGeom prst="leftArrow">
                <a:avLst>
                  <a:gd name="adj1" fmla="val 50000"/>
                  <a:gd name="adj2" fmla="val 175993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7476120" y="3886200"/>
                <a:ext cx="599040" cy="261360"/>
              </a:xfrm>
              <a:custGeom>
                <a:avLst/>
                <a:gdLst>
                  <a:gd name="textAreaLeft" fmla="*/ 104760 w 599040"/>
                  <a:gd name="textAreaRight" fmla="*/ 434520 w 599040"/>
                  <a:gd name="textAreaTop" fmla="*/ 34920 h 261360"/>
                  <a:gd name="textAreaBottom" fmla="*/ 226440 h 261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arcTo wR="7560" hR="21600" stAng="10800000" swAng="5400000"/>
                    <a:lnTo>
                      <a:pt x="11880" y="0"/>
                    </a:lnTo>
                    <a:arcTo wR="7560" hR="21600" stAng="-5400000" swAng="2682637"/>
                    <a:lnTo>
                      <a:pt x="21168" y="14400"/>
                    </a:lnTo>
                    <a:lnTo>
                      <a:pt x="17280" y="21600"/>
                    </a:lnTo>
                    <a:lnTo>
                      <a:pt x="12528" y="14400"/>
                    </a:lnTo>
                    <a:lnTo>
                      <a:pt x="14688" y="14400"/>
                    </a:lnTo>
                    <a:arcTo wR="7560" hR="21600" stAng="-2717363" swAng="-2325203"/>
                    <a:lnTo>
                      <a:pt x="9720" y="900"/>
                    </a:lnTo>
                    <a:arcTo wR="7560" hR="21600" stAng="-5757435" swAng="-5042565"/>
                    <a:close/>
                  </a:path>
                  <a:path fill="darkenLess" w="21600" h="21600">
                    <a:moveTo>
                      <a:pt x="0" y="21600"/>
                    </a:moveTo>
                    <a:arcTo wR="7560" hR="21600" stAng="10800000" swAng="5400000"/>
                    <a:lnTo>
                      <a:pt x="7560" y="0"/>
                    </a:lnTo>
                    <a:arcTo wR="7560" hR="21600" stAng="-5400000" swAng="357435"/>
                    <a:lnTo>
                      <a:pt x="9720" y="900"/>
                    </a:lnTo>
                    <a:arcTo wR="7560" hR="21600" stAng="-5757435" swAng="-5042565"/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 rot="6815400">
                <a:off x="6751440" y="5272200"/>
                <a:ext cx="1404000" cy="199440"/>
              </a:xfrm>
              <a:prstGeom prst="leftArrow">
                <a:avLst>
                  <a:gd name="adj1" fmla="val 50000"/>
                  <a:gd name="adj2" fmla="val 175993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 rot="18757200">
                <a:off x="7320600" y="5568840"/>
                <a:ext cx="902160" cy="192600"/>
              </a:xfrm>
              <a:prstGeom prst="leftArrow">
                <a:avLst>
                  <a:gd name="adj1" fmla="val 50000"/>
                  <a:gd name="adj2" fmla="val 117103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 flipV="1">
                <a:off x="6610320" y="6368040"/>
                <a:ext cx="599040" cy="261360"/>
              </a:xfrm>
              <a:custGeom>
                <a:avLst/>
                <a:gdLst>
                  <a:gd name="textAreaLeft" fmla="*/ 104760 w 599040"/>
                  <a:gd name="textAreaRight" fmla="*/ 434520 w 599040"/>
                  <a:gd name="textAreaTop" fmla="*/ 34920 h 261360"/>
                  <a:gd name="textAreaBottom" fmla="*/ 226440 h 261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arcTo wR="7560" hR="21600" stAng="10800000" swAng="5400000"/>
                    <a:lnTo>
                      <a:pt x="11880" y="0"/>
                    </a:lnTo>
                    <a:arcTo wR="7560" hR="21600" stAng="-5400000" swAng="2682637"/>
                    <a:lnTo>
                      <a:pt x="21168" y="14400"/>
                    </a:lnTo>
                    <a:lnTo>
                      <a:pt x="17280" y="21600"/>
                    </a:lnTo>
                    <a:lnTo>
                      <a:pt x="12528" y="14400"/>
                    </a:lnTo>
                    <a:lnTo>
                      <a:pt x="14688" y="14400"/>
                    </a:lnTo>
                    <a:arcTo wR="7560" hR="21600" stAng="-2717363" swAng="-2325203"/>
                    <a:lnTo>
                      <a:pt x="9720" y="900"/>
                    </a:lnTo>
                    <a:arcTo wR="7560" hR="21600" stAng="-5757435" swAng="-5042565"/>
                    <a:close/>
                  </a:path>
                  <a:path fill="darkenLess" w="21600" h="21600">
                    <a:moveTo>
                      <a:pt x="0" y="21600"/>
                    </a:moveTo>
                    <a:arcTo wR="7560" hR="21600" stAng="10800000" swAng="5400000"/>
                    <a:lnTo>
                      <a:pt x="7560" y="0"/>
                    </a:lnTo>
                    <a:arcTo wR="7560" hR="21600" stAng="-5400000" swAng="357435"/>
                    <a:lnTo>
                      <a:pt x="9720" y="900"/>
                    </a:lnTo>
                    <a:arcTo wR="7560" hR="21600" stAng="-5757435" swAng="-5042565"/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 rot="5388000">
                <a:off x="7835040" y="5612400"/>
                <a:ext cx="902160" cy="192600"/>
              </a:xfrm>
              <a:prstGeom prst="leftArrow">
                <a:avLst>
                  <a:gd name="adj1" fmla="val 50000"/>
                  <a:gd name="adj2" fmla="val 117103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 rot="4666800">
                <a:off x="7087680" y="5243040"/>
                <a:ext cx="1692720" cy="154080"/>
              </a:xfrm>
              <a:prstGeom prst="leftArrow">
                <a:avLst>
                  <a:gd name="adj1" fmla="val 50000"/>
                  <a:gd name="adj2" fmla="val 274650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240" bIns="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 rot="2178600">
                <a:off x="6864120" y="5649480"/>
                <a:ext cx="1119240" cy="195840"/>
              </a:xfrm>
              <a:prstGeom prst="leftArrow">
                <a:avLst>
                  <a:gd name="adj1" fmla="val 50000"/>
                  <a:gd name="adj2" fmla="val 142877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58" name=""/>
            <p:cNvSpPr/>
            <p:nvPr/>
          </p:nvSpPr>
          <p:spPr>
            <a:xfrm>
              <a:off x="685800" y="4800600"/>
              <a:ext cx="55627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700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uild a “Generalized Reference Map” over document spac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9" name=""/>
          <p:cNvGrpSpPr/>
          <p:nvPr/>
        </p:nvGrpSpPr>
        <p:grpSpPr>
          <a:xfrm>
            <a:off x="685800" y="2971800"/>
            <a:ext cx="5562720" cy="1541520"/>
            <a:chOff x="685800" y="2971800"/>
            <a:chExt cx="5562720" cy="1541520"/>
          </a:xfrm>
        </p:grpSpPr>
        <mc:AlternateContent>
          <mc:Choice xmlns:a14="http://schemas.microsoft.com/office/drawing/2010/main" Requires="a14">
            <p:sp>
              <p:nvSpPr>
                <p:cNvPr id="760" name=""/>
                <p:cNvSpPr txBox="1"/>
                <p:nvPr/>
              </p:nvSpPr>
              <p:spPr>
                <a:xfrm>
                  <a:off x="1955880" y="3962520"/>
                  <a:ext cx="3976560" cy="550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z</m:t>
                      </m:r>
                      <m:r>
                        <m:t xml:space="preserve">,</m:t>
                      </m:r>
                      <m:r>
                        <m:t xml:space="preserve">z</m:t>
                      </m:r>
                      <m:r>
                        <m:t xml:space="preserve">'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nary>
                        <m:naryPr>
                          <m:chr m:val="∑"/>
                          <m:subHide m:val="1"/>
                          <m:supHide m:val="1"/>
                        </m:naryPr>
                        <m:sub/>
                        <m:sup/>
                        <m:e>
                          <m:r>
                            <m:t xml:space="preserve">p</m:t>
                          </m:r>
                          <m:r>
                            <m:t xml:space="preserve">(</m:t>
                          </m:r>
                          <m:r>
                            <m:t xml:space="preserve">c</m:t>
                          </m:r>
                          <m:r>
                            <m:t xml:space="preserve">|</m:t>
                          </m:r>
                          <m:r>
                            <m:t xml:space="preserve">z</m:t>
                          </m:r>
                          <m:r>
                            <m:t xml:space="preserve">)</m:t>
                          </m:r>
                          <m:r>
                            <m:t xml:space="preserve">p</m:t>
                          </m:r>
                          <m:r>
                            <m:t xml:space="preserve">(</m:t>
                          </m:r>
                          <m:r>
                            <m:t xml:space="preserve">z</m:t>
                          </m:r>
                          <m:r>
                            <m:t xml:space="preserve">'</m:t>
                          </m:r>
                          <m:r>
                            <m:t xml:space="preserve">|</m:t>
                          </m:r>
                          <m:r>
                            <m:t xml:space="preserve">d</m:t>
                          </m:r>
                          <m:r>
                            <m:t xml:space="preserve">)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761" name=""/>
            <p:cNvSpPr/>
            <p:nvPr/>
          </p:nvSpPr>
          <p:spPr>
            <a:xfrm>
              <a:off x="685800" y="2971800"/>
              <a:ext cx="55627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700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Integrate over all links to compute “reference flow” from 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to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z’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2" name="segment" descr=""/>
          <p:cNvPicPr/>
          <p:nvPr/>
        </p:nvPicPr>
        <p:blipFill>
          <a:blip r:embed="rId1"/>
          <a:stretch/>
        </p:blipFill>
        <p:spPr>
          <a:xfrm>
            <a:off x="228600" y="4114800"/>
            <a:ext cx="8534520" cy="2743200"/>
          </a:xfrm>
          <a:prstGeom prst="rect">
            <a:avLst/>
          </a:prstGeom>
          <a:ln w="0">
            <a:noFill/>
          </a:ln>
        </p:spPr>
      </p:pic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ne use: Intelligent  spider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64771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document may cover many top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llows trajectory through topic 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gment via factor proj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window over document, track  trajectory of projection in factor 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gment at ‘jumps’ in factor 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5" name=""/>
          <p:cNvGrpSpPr/>
          <p:nvPr/>
        </p:nvGrpSpPr>
        <p:grpSpPr>
          <a:xfrm>
            <a:off x="6477120" y="2057400"/>
            <a:ext cx="2133360" cy="1905120"/>
            <a:chOff x="6477120" y="2057400"/>
            <a:chExt cx="2133360" cy="1905120"/>
          </a:xfrm>
        </p:grpSpPr>
        <p:sp>
          <p:nvSpPr>
            <p:cNvPr id="766" name=""/>
            <p:cNvSpPr/>
            <p:nvPr/>
          </p:nvSpPr>
          <p:spPr>
            <a:xfrm>
              <a:off x="6477120" y="2057400"/>
              <a:ext cx="2133360" cy="1905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6651000" y="2366280"/>
              <a:ext cx="1613880" cy="1345680"/>
            </a:xfrm>
            <a:custGeom>
              <a:avLst/>
              <a:gdLst/>
              <a:ahLst/>
              <a:rect l="l" t="t" r="r" b="b"/>
              <a:pathLst>
                <a:path w="1112" h="1288">
                  <a:moveTo>
                    <a:pt x="0" y="40"/>
                  </a:moveTo>
                  <a:cubicBezTo>
                    <a:pt x="104" y="20"/>
                    <a:pt x="208" y="0"/>
                    <a:pt x="240" y="40"/>
                  </a:cubicBezTo>
                  <a:cubicBezTo>
                    <a:pt x="272" y="80"/>
                    <a:pt x="112" y="240"/>
                    <a:pt x="192" y="280"/>
                  </a:cubicBezTo>
                  <a:cubicBezTo>
                    <a:pt x="272" y="320"/>
                    <a:pt x="680" y="192"/>
                    <a:pt x="720" y="280"/>
                  </a:cubicBezTo>
                  <a:cubicBezTo>
                    <a:pt x="760" y="368"/>
                    <a:pt x="368" y="728"/>
                    <a:pt x="432" y="808"/>
                  </a:cubicBezTo>
                  <a:cubicBezTo>
                    <a:pt x="496" y="888"/>
                    <a:pt x="1112" y="680"/>
                    <a:pt x="1104" y="760"/>
                  </a:cubicBezTo>
                  <a:cubicBezTo>
                    <a:pt x="1096" y="840"/>
                    <a:pt x="740" y="1064"/>
                    <a:pt x="384" y="1288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7625880" y="3038760"/>
              <a:ext cx="874800" cy="316080"/>
            </a:xfrm>
            <a:prstGeom prst="ellipse">
              <a:avLst/>
            </a:prstGeom>
            <a:noFill/>
            <a:ln w="19080">
              <a:solidFill>
                <a:srgbClr val="0000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969240" y="2923200"/>
              <a:ext cx="437400" cy="431640"/>
            </a:xfrm>
            <a:prstGeom prst="ellipse">
              <a:avLst/>
            </a:prstGeom>
            <a:noFill/>
            <a:ln w="19080">
              <a:solidFill>
                <a:srgbClr val="ff66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297560" y="2518920"/>
              <a:ext cx="525240" cy="31608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6695640" y="2345760"/>
              <a:ext cx="525240" cy="461520"/>
            </a:xfrm>
            <a:prstGeom prst="ellipse">
              <a:avLst/>
            </a:prstGeom>
            <a:noFill/>
            <a:ln w="19080">
              <a:solidFill>
                <a:srgbClr val="3399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2" name=""/>
          <p:cNvSpPr/>
          <p:nvPr/>
        </p:nvSpPr>
        <p:spPr>
          <a:xfrm flipV="1">
            <a:off x="6934320" y="228564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 flipV="1">
            <a:off x="6934320" y="2361960"/>
            <a:ext cx="53316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7696080" y="2666880"/>
            <a:ext cx="38124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 flipH="1">
            <a:off x="6781320" y="3124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 flipH="1">
            <a:off x="8153280" y="3276720"/>
            <a:ext cx="763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8229600" y="3276720"/>
            <a:ext cx="7632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8229600" y="32767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8229600" y="3276720"/>
            <a:ext cx="30492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"/>
          <p:cNvSpPr/>
          <p:nvPr/>
        </p:nvSpPr>
        <p:spPr>
          <a:xfrm>
            <a:off x="6477120" y="2286000"/>
            <a:ext cx="2057400" cy="1295280"/>
          </a:xfrm>
          <a:custGeom>
            <a:avLst/>
            <a:gdLst/>
            <a:ahLst/>
            <a:rect l="l" t="t" r="r" b="b"/>
            <a:pathLst>
              <a:path w="1296" h="816">
                <a:moveTo>
                  <a:pt x="48" y="720"/>
                </a:moveTo>
                <a:lnTo>
                  <a:pt x="384" y="0"/>
                </a:lnTo>
                <a:lnTo>
                  <a:pt x="1296" y="0"/>
                </a:lnTo>
                <a:lnTo>
                  <a:pt x="1008" y="816"/>
                </a:lnTo>
                <a:lnTo>
                  <a:pt x="0" y="816"/>
                </a:lnTo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/>
          </p:nvPr>
        </p:nvSpPr>
        <p:spPr>
          <a:xfrm>
            <a:off x="609120" y="1371600"/>
            <a:ext cx="6172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 want to find documents containing phrase “Britney Spears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ute poi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b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factor space most likely to contain these w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telligent spider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7543800" y="1523880"/>
            <a:ext cx="609480" cy="1143000"/>
            <a:chOff x="7543800" y="1523880"/>
            <a:chExt cx="609480" cy="1143000"/>
          </a:xfrm>
        </p:grpSpPr>
        <p:sp>
          <p:nvSpPr>
            <p:cNvPr id="784" name=""/>
            <p:cNvSpPr/>
            <p:nvPr/>
          </p:nvSpPr>
          <p:spPr>
            <a:xfrm>
              <a:off x="7543800" y="1600200"/>
              <a:ext cx="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7543800" y="1523880"/>
              <a:ext cx="609480" cy="53352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69120 h 533520"/>
                <a:gd name="textAreaBottom" fmla="*/ 464400 h 533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400"/>
                  </a:moveTo>
                  <a:cubicBezTo>
                    <a:pt x="7200" y="-3560"/>
                    <a:pt x="14400" y="6360"/>
                    <a:pt x="21600" y="1400"/>
                  </a:cubicBezTo>
                  <a:lnTo>
                    <a:pt x="21600" y="20200"/>
                  </a:lnTo>
                  <a:cubicBezTo>
                    <a:pt x="14400" y="25160"/>
                    <a:pt x="7200" y="15240"/>
                    <a:pt x="0" y="20200"/>
                  </a:cubicBez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6" name=""/>
          <p:cNvGrpSpPr/>
          <p:nvPr/>
        </p:nvGrpSpPr>
        <p:grpSpPr>
          <a:xfrm>
            <a:off x="609480" y="2286000"/>
            <a:ext cx="7785360" cy="2362320"/>
            <a:chOff x="609480" y="2286000"/>
            <a:chExt cx="7785360" cy="2362320"/>
          </a:xfrm>
        </p:grpSpPr>
        <p:sp>
          <p:nvSpPr>
            <p:cNvPr id="787" name=""/>
            <p:cNvSpPr/>
            <p:nvPr/>
          </p:nvSpPr>
          <p:spPr>
            <a:xfrm>
              <a:off x="609480" y="3657600"/>
              <a:ext cx="731520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743040" indent="-28584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Times New Roman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xamine segments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, s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, s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of current document, project them into factor space points: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s1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, z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s2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, z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s3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8" name=""/>
            <p:cNvGrpSpPr/>
            <p:nvPr/>
          </p:nvGrpSpPr>
          <p:grpSpPr>
            <a:xfrm>
              <a:off x="6719400" y="2286000"/>
              <a:ext cx="1675440" cy="1272240"/>
              <a:chOff x="6719400" y="2286000"/>
              <a:chExt cx="1675440" cy="1272240"/>
            </a:xfrm>
          </p:grpSpPr>
          <p:sp>
            <p:nvSpPr>
              <p:cNvPr id="789" name=""/>
              <p:cNvSpPr/>
              <p:nvPr/>
            </p:nvSpPr>
            <p:spPr>
              <a:xfrm>
                <a:off x="6719400" y="2971800"/>
                <a:ext cx="4564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z</a:t>
                </a:r>
                <a:r>
                  <a:rPr b="0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s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7557480" y="3048120"/>
                <a:ext cx="4564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z</a:t>
                </a:r>
                <a:r>
                  <a:rPr b="0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s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7938360" y="2286000"/>
                <a:ext cx="4564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z</a:t>
                </a:r>
                <a:r>
                  <a:rPr b="0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s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92" name=""/>
          <p:cNvGrpSpPr/>
          <p:nvPr/>
        </p:nvGrpSpPr>
        <p:grpSpPr>
          <a:xfrm>
            <a:off x="609480" y="2590920"/>
            <a:ext cx="7315200" cy="3047760"/>
            <a:chOff x="609480" y="2590920"/>
            <a:chExt cx="7315200" cy="3047760"/>
          </a:xfrm>
        </p:grpSpPr>
        <p:grpSp>
          <p:nvGrpSpPr>
            <p:cNvPr id="793" name=""/>
            <p:cNvGrpSpPr/>
            <p:nvPr/>
          </p:nvGrpSpPr>
          <p:grpSpPr>
            <a:xfrm>
              <a:off x="6934320" y="2590920"/>
              <a:ext cx="990360" cy="609480"/>
              <a:chOff x="6934320" y="2590920"/>
              <a:chExt cx="990360" cy="609480"/>
            </a:xfrm>
          </p:grpSpPr>
          <p:sp>
            <p:nvSpPr>
              <p:cNvPr id="794" name=""/>
              <p:cNvSpPr/>
              <p:nvPr/>
            </p:nvSpPr>
            <p:spPr>
              <a:xfrm flipV="1">
                <a:off x="6934320" y="2666880"/>
                <a:ext cx="609480" cy="45720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 flipH="1" flipV="1">
                <a:off x="7619760" y="2743200"/>
                <a:ext cx="75960" cy="4572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flipH="1">
                <a:off x="7620120" y="2590920"/>
                <a:ext cx="304560" cy="759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97" name=""/>
            <p:cNvSpPr/>
            <p:nvPr/>
          </p:nvSpPr>
          <p:spPr>
            <a:xfrm>
              <a:off x="609480" y="4419720"/>
              <a:ext cx="7315200" cy="12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imes New Roman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ompute reference flow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f(z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si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,z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s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to determine which is most likely to contain transition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8" name=""/>
          <p:cNvSpPr/>
          <p:nvPr/>
        </p:nvSpPr>
        <p:spPr>
          <a:xfrm>
            <a:off x="609480" y="4724280"/>
            <a:ext cx="73152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ve with greedy search, 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inuous-space MDP, using normalized GRM for transition probabil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nding information in document collec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arch engines – Goog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ied by Information Retrieval commun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onical question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“can you find me more like this on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erarchies – Yaho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onical question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“where does this fit in the big pictu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ypertext – the rest of 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onical question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“what is this related to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Times New Roman"/>
              </a:rPr>
              <a:t>Search engines – Goog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Times New Roman"/>
              </a:rPr>
              <a:t>studied by Information Retrieval commun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Times New Roman"/>
              </a:rPr>
              <a:t>canonical question - </a:t>
            </a:r>
            <a:r>
              <a:rPr b="0" i="1" lang="en-US" sz="2400" spc="-1" strike="noStrike">
                <a:solidFill>
                  <a:srgbClr val="ccccff"/>
                </a:solidFill>
                <a:latin typeface="Times New Roman"/>
              </a:rPr>
              <a:t>“can you find me more like this on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erarchies – Yaho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onical question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“where does this fit in the big pictu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ypertext – the rest of 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onical question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“what is this related to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/>
          </p:nvPr>
        </p:nvSpPr>
        <p:spPr>
          <a:xfrm>
            <a:off x="685440" y="1447920"/>
            <a:ext cx="4800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bKB experi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ose target document at rand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ose source document containing link to tar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k against 100 other “distractor” sources and a “placebo” 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dian source rank: 27/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dian placebo rank: 50/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telligent spider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1" name=""/>
          <p:cNvGrpSpPr/>
          <p:nvPr/>
        </p:nvGrpSpPr>
        <p:grpSpPr>
          <a:xfrm>
            <a:off x="4861080" y="1447920"/>
            <a:ext cx="3978000" cy="4878720"/>
            <a:chOff x="4861080" y="1447920"/>
            <a:chExt cx="3978000" cy="4878720"/>
          </a:xfrm>
        </p:grpSpPr>
        <p:pic>
          <p:nvPicPr>
            <p:cNvPr id="802" name="flow" descr=""/>
            <p:cNvPicPr/>
            <p:nvPr/>
          </p:nvPicPr>
          <p:blipFill>
            <a:blip r:embed="rId1"/>
            <a:stretch/>
          </p:blipFill>
          <p:spPr>
            <a:xfrm>
              <a:off x="5181480" y="1447920"/>
              <a:ext cx="3657600" cy="462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3" name=""/>
            <p:cNvSpPr/>
            <p:nvPr/>
          </p:nvSpPr>
          <p:spPr>
            <a:xfrm>
              <a:off x="6321240" y="5927760"/>
              <a:ext cx="1718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ank hist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 rot="16200000">
              <a:off x="4459680" y="3660120"/>
              <a:ext cx="120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frequenc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7606080" y="1644480"/>
              <a:ext cx="1076760" cy="3373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true sour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7289640" y="2057400"/>
              <a:ext cx="1393920" cy="33732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lacebo sour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nother use: Dynamic hypertext gener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ject and segment plaintext docu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each segment, identify documents in corpus most likely to be referenc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9" name=""/>
          <p:cNvGrpSpPr/>
          <p:nvPr/>
        </p:nvGrpSpPr>
        <p:grpSpPr>
          <a:xfrm>
            <a:off x="838080" y="2738520"/>
            <a:ext cx="7772040" cy="3814200"/>
            <a:chOff x="838080" y="2738520"/>
            <a:chExt cx="7772040" cy="3814200"/>
          </a:xfrm>
        </p:grpSpPr>
        <p:pic>
          <p:nvPicPr>
            <p:cNvPr id="810" name="htext1" descr=""/>
            <p:cNvPicPr/>
            <p:nvPr/>
          </p:nvPicPr>
          <p:blipFill>
            <a:blip r:embed="rId1"/>
            <a:stretch/>
          </p:blipFill>
          <p:spPr>
            <a:xfrm>
              <a:off x="838080" y="3030480"/>
              <a:ext cx="4814280" cy="352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1" name="htext2" descr=""/>
            <p:cNvPicPr/>
            <p:nvPr/>
          </p:nvPicPr>
          <p:blipFill>
            <a:blip r:embed="rId2"/>
            <a:stretch/>
          </p:blipFill>
          <p:spPr>
            <a:xfrm>
              <a:off x="5239800" y="3495600"/>
              <a:ext cx="3370320" cy="246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2" name=""/>
            <p:cNvSpPr/>
            <p:nvPr/>
          </p:nvSpPr>
          <p:spPr>
            <a:xfrm rot="18747000">
              <a:off x="4228920" y="3030840"/>
              <a:ext cx="1084320" cy="661680"/>
            </a:xfrm>
            <a:custGeom>
              <a:avLst/>
              <a:gdLst>
                <a:gd name="textAreaLeft" fmla="*/ 189720 w 1084320"/>
                <a:gd name="textAreaRight" fmla="*/ 786240 w 1084320"/>
                <a:gd name="textAreaTop" fmla="*/ 88560 h 661680"/>
                <a:gd name="textAreaBottom" fmla="*/ 573120 h 661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ck to the big pi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8487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all that we wanted structure that w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omatic - learned with minimal human interven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- operates on all document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avai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cccc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- accommodates new and stale documents as they arrive and disapp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onalized - incorporates our preferences and pri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subject of a different talk, on semi-supervised learnin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5000"/>
              </a:lnSpc>
              <a:spcBef>
                <a:spcPts val="12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re we missing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85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mm, any form of user interfac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85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large-scale testbed (objective evaluation of structure                                                                                                                           and authority is notoriously trick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ngs I’ve glossed ov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ck of factor orthogonality in probabilistic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CA-like variant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metimes you do only have one source/docu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nalized factoriz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forms of document ba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dio/visual stre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sual clustering, behavioral modeling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[Brand 98, Fisher 00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ursebot, smart spa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stre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strea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sor lo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nancial transaction lo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/>
          </p:nvPr>
        </p:nvSpPr>
        <p:spPr>
          <a:xfrm>
            <a:off x="685800" y="1447920"/>
            <a:ext cx="777240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need tools that let us learn, manipulate and navigate the structure of our ever-growing document ba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s can’t be understood by contents or connections al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take-home messa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457200" y="4587840"/>
            <a:ext cx="3997440" cy="1434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tatistic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xt analy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4648320" y="4587840"/>
            <a:ext cx="4038480" cy="14346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tatistic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ink analy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2" name=""/>
          <p:cNvGrpSpPr/>
          <p:nvPr/>
        </p:nvGrpSpPr>
        <p:grpSpPr>
          <a:xfrm>
            <a:off x="380880" y="4495680"/>
            <a:ext cx="8382240" cy="1600200"/>
            <a:chOff x="380880" y="4495680"/>
            <a:chExt cx="8382240" cy="1600200"/>
          </a:xfrm>
        </p:grpSpPr>
        <p:sp>
          <p:nvSpPr>
            <p:cNvPr id="823" name=""/>
            <p:cNvSpPr/>
            <p:nvPr/>
          </p:nvSpPr>
          <p:spPr>
            <a:xfrm>
              <a:off x="380880" y="4495680"/>
              <a:ext cx="8382240" cy="1600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4" name=""/>
            <p:cNvGrpSpPr/>
            <p:nvPr/>
          </p:nvGrpSpPr>
          <p:grpSpPr>
            <a:xfrm>
              <a:off x="2126880" y="4587840"/>
              <a:ext cx="4582080" cy="1434600"/>
              <a:chOff x="2126880" y="4587840"/>
              <a:chExt cx="4582080" cy="1434600"/>
            </a:xfrm>
          </p:grpSpPr>
          <p:sp>
            <p:nvSpPr>
              <p:cNvPr id="825" name=""/>
              <p:cNvSpPr/>
              <p:nvPr/>
            </p:nvSpPr>
            <p:spPr>
              <a:xfrm>
                <a:off x="2590920" y="4716720"/>
                <a:ext cx="3809880" cy="990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2126880" y="4587840"/>
                <a:ext cx="4582080" cy="143460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400" spc="-1" strike="noStrike">
                    <a:solidFill>
                      <a:srgbClr val="000000"/>
                    </a:solidFill>
                    <a:latin typeface="Times New Roman"/>
                  </a:rPr>
                  <a:t>statistical</a:t>
                </a: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400" spc="-1" strike="noStrike">
                    <a:solidFill>
                      <a:srgbClr val="000000"/>
                    </a:solidFill>
                    <a:latin typeface="Times New Roman"/>
                  </a:rPr>
                  <a:t>document analysis</a:t>
                </a: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tra slid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pplication: What’s wrong with IR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we want: Ask a question, get an answ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we have: “Cargo cult” retriev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agine what answer would look l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“cargo cult” model of answer docu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uess words that might appear in answ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ate pseudo-document from guessed wor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 document that most resembles pseudo-docu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 machine learning approach to I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1000"/>
          </a:bodyPr>
          <a:p>
            <a:pPr marL="140400" indent="-1404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distinct vocabularies: questions and answ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304560" indent="-1170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verlapping, but distin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40400" indent="-1404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rn statistical map between t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304560" indent="-1170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estion vocabular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pic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swer vocabul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04560" indent="-1170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latent variable model of top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04560" indent="-1170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 mapping from matched Q/A pai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468360" indent="-93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NET FAQ shee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468360" indent="-93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rporate call center document ba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045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045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40400" indent="-140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new question, want to find matching answer in FA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40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3" name=""/>
          <p:cNvGrpSpPr/>
          <p:nvPr/>
        </p:nvGrpSpPr>
        <p:grpSpPr>
          <a:xfrm>
            <a:off x="6629400" y="3657600"/>
            <a:ext cx="1218960" cy="2286000"/>
            <a:chOff x="6629400" y="3657600"/>
            <a:chExt cx="1218960" cy="2286000"/>
          </a:xfrm>
        </p:grpSpPr>
        <p:grpSp>
          <p:nvGrpSpPr>
            <p:cNvPr id="834" name=""/>
            <p:cNvGrpSpPr/>
            <p:nvPr/>
          </p:nvGrpSpPr>
          <p:grpSpPr>
            <a:xfrm>
              <a:off x="6629400" y="3657600"/>
              <a:ext cx="1218960" cy="533160"/>
              <a:chOff x="6629400" y="3657600"/>
              <a:chExt cx="1218960" cy="533160"/>
            </a:xfrm>
          </p:grpSpPr>
          <p:sp>
            <p:nvSpPr>
              <p:cNvPr id="835" name=""/>
              <p:cNvSpPr/>
              <p:nvPr/>
            </p:nvSpPr>
            <p:spPr>
              <a:xfrm>
                <a:off x="6824520" y="3657600"/>
                <a:ext cx="9489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terms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q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6629400" y="3657600"/>
                <a:ext cx="1218960" cy="5331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7" name=""/>
            <p:cNvGrpSpPr/>
            <p:nvPr/>
          </p:nvGrpSpPr>
          <p:grpSpPr>
            <a:xfrm>
              <a:off x="6629400" y="5410080"/>
              <a:ext cx="1218960" cy="533520"/>
              <a:chOff x="6629400" y="5410080"/>
              <a:chExt cx="1218960" cy="533520"/>
            </a:xfrm>
          </p:grpSpPr>
          <p:sp>
            <p:nvSpPr>
              <p:cNvPr id="838" name=""/>
              <p:cNvSpPr/>
              <p:nvPr/>
            </p:nvSpPr>
            <p:spPr>
              <a:xfrm>
                <a:off x="6824520" y="5410080"/>
                <a:ext cx="9381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terms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6629400" y="5410080"/>
                <a:ext cx="1218960" cy="5335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0" name=""/>
            <p:cNvGrpSpPr/>
            <p:nvPr/>
          </p:nvGrpSpPr>
          <p:grpSpPr>
            <a:xfrm>
              <a:off x="6629400" y="4533840"/>
              <a:ext cx="1218960" cy="533520"/>
              <a:chOff x="6629400" y="4533840"/>
              <a:chExt cx="1218960" cy="533520"/>
            </a:xfrm>
          </p:grpSpPr>
          <p:sp>
            <p:nvSpPr>
              <p:cNvPr id="841" name=""/>
              <p:cNvSpPr/>
              <p:nvPr/>
            </p:nvSpPr>
            <p:spPr>
              <a:xfrm>
                <a:off x="6818040" y="4533840"/>
                <a:ext cx="792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topi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6629400" y="4533840"/>
                <a:ext cx="1218960" cy="5335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43" name=""/>
            <p:cNvSpPr/>
            <p:nvPr/>
          </p:nvSpPr>
          <p:spPr>
            <a:xfrm>
              <a:off x="7238880" y="4190760"/>
              <a:ext cx="0" cy="343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7238880" y="5105160"/>
              <a:ext cx="0" cy="343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 machine learning approach to I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1000"/>
          </a:bodyPr>
          <a:p>
            <a:pPr marL="243360" indent="-2433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sting the approa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27400" indent="-202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ke 90% of q/a pairs, build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27400" indent="-202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aining 10% as test c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11440" indent="-1620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p test question into pseudo-answer using latent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riable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11440" indent="-1620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rieve answers closest to pseudo-answer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king according to tf-id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27400" indent="-202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ore: mean and median rank of correct answer, averaged over 5 train/test spl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7" name=""/>
          <p:cNvGrpSpPr/>
          <p:nvPr/>
        </p:nvGrpSpPr>
        <p:grpSpPr>
          <a:xfrm>
            <a:off x="7238880" y="2133720"/>
            <a:ext cx="1218960" cy="2286000"/>
            <a:chOff x="7238880" y="2133720"/>
            <a:chExt cx="1218960" cy="2286000"/>
          </a:xfrm>
        </p:grpSpPr>
        <p:grpSp>
          <p:nvGrpSpPr>
            <p:cNvPr id="848" name=""/>
            <p:cNvGrpSpPr/>
            <p:nvPr/>
          </p:nvGrpSpPr>
          <p:grpSpPr>
            <a:xfrm>
              <a:off x="7238880" y="2133720"/>
              <a:ext cx="1218960" cy="533160"/>
              <a:chOff x="7238880" y="2133720"/>
              <a:chExt cx="1218960" cy="533160"/>
            </a:xfrm>
          </p:grpSpPr>
          <p:sp>
            <p:nvSpPr>
              <p:cNvPr id="849" name=""/>
              <p:cNvSpPr/>
              <p:nvPr/>
            </p:nvSpPr>
            <p:spPr>
              <a:xfrm>
                <a:off x="7434000" y="2133720"/>
                <a:ext cx="9489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terms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q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7238880" y="2133720"/>
                <a:ext cx="1218960" cy="5331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1" name=""/>
            <p:cNvGrpSpPr/>
            <p:nvPr/>
          </p:nvGrpSpPr>
          <p:grpSpPr>
            <a:xfrm>
              <a:off x="7238880" y="3886200"/>
              <a:ext cx="1218960" cy="533520"/>
              <a:chOff x="7238880" y="3886200"/>
              <a:chExt cx="1218960" cy="533520"/>
            </a:xfrm>
          </p:grpSpPr>
          <p:sp>
            <p:nvSpPr>
              <p:cNvPr id="852" name=""/>
              <p:cNvSpPr/>
              <p:nvPr/>
            </p:nvSpPr>
            <p:spPr>
              <a:xfrm>
                <a:off x="7434000" y="3886200"/>
                <a:ext cx="9381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terms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7238880" y="3886200"/>
                <a:ext cx="1218960" cy="5335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4" name=""/>
            <p:cNvGrpSpPr/>
            <p:nvPr/>
          </p:nvGrpSpPr>
          <p:grpSpPr>
            <a:xfrm>
              <a:off x="7238880" y="3009960"/>
              <a:ext cx="1218960" cy="533520"/>
              <a:chOff x="7238880" y="3009960"/>
              <a:chExt cx="1218960" cy="533520"/>
            </a:xfrm>
          </p:grpSpPr>
          <p:sp>
            <p:nvSpPr>
              <p:cNvPr id="855" name=""/>
              <p:cNvSpPr/>
              <p:nvPr/>
            </p:nvSpPr>
            <p:spPr>
              <a:xfrm>
                <a:off x="7427520" y="3009960"/>
                <a:ext cx="792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topi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7238880" y="3009960"/>
                <a:ext cx="1218960" cy="5335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7" name=""/>
            <p:cNvSpPr/>
            <p:nvPr/>
          </p:nvSpPr>
          <p:spPr>
            <a:xfrm>
              <a:off x="7848360" y="2666880"/>
              <a:ext cx="0" cy="343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7848360" y="3581280"/>
              <a:ext cx="0" cy="343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859" name=""/>
          <p:cNvGraphicFramePr/>
          <p:nvPr/>
        </p:nvGraphicFramePr>
        <p:xfrm>
          <a:off x="1219320" y="5334120"/>
          <a:ext cx="7051680" cy="1155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5334120"/>
                    <a:ext cx="7051680" cy="115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"/>
          <p:cNvSpPr/>
          <p:nvPr/>
        </p:nvSpPr>
        <p:spPr>
          <a:xfrm>
            <a:off x="6858000" y="3352680"/>
            <a:ext cx="838080" cy="38124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ACA on web pag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query to a search engine, identif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ncipal topics matching que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oritative documents in each top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ild co-citation matrix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llowing Kleinber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mit query to search eng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ponses make up the “root set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rieve all pages pointed to by root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rieve all pages pointing to root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 query “Jaguars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4" name=""/>
          <p:cNvGrpSpPr/>
          <p:nvPr/>
        </p:nvGrpSpPr>
        <p:grpSpPr>
          <a:xfrm>
            <a:off x="5715000" y="3352680"/>
            <a:ext cx="3276720" cy="2211120"/>
            <a:chOff x="5715000" y="3352680"/>
            <a:chExt cx="3276720" cy="2211120"/>
          </a:xfrm>
        </p:grpSpPr>
        <p:sp>
          <p:nvSpPr>
            <p:cNvPr id="865" name=""/>
            <p:cNvSpPr/>
            <p:nvPr/>
          </p:nvSpPr>
          <p:spPr>
            <a:xfrm>
              <a:off x="7275600" y="3657240"/>
              <a:ext cx="0" cy="91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66" name=""/>
            <p:cNvGrpSpPr/>
            <p:nvPr/>
          </p:nvGrpSpPr>
          <p:grpSpPr>
            <a:xfrm>
              <a:off x="6858000" y="4495680"/>
              <a:ext cx="838080" cy="703800"/>
              <a:chOff x="6858000" y="4495680"/>
              <a:chExt cx="838080" cy="703800"/>
            </a:xfrm>
          </p:grpSpPr>
          <p:sp>
            <p:nvSpPr>
              <p:cNvPr id="867" name=""/>
              <p:cNvSpPr/>
              <p:nvPr/>
            </p:nvSpPr>
            <p:spPr>
              <a:xfrm>
                <a:off x="6858000" y="4570200"/>
                <a:ext cx="838080" cy="6094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6975360" y="4495680"/>
                <a:ext cx="5922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roo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se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69" name=""/>
            <p:cNvSpPr/>
            <p:nvPr/>
          </p:nvSpPr>
          <p:spPr>
            <a:xfrm>
              <a:off x="6894000" y="3352680"/>
              <a:ext cx="76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que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557760" y="3885840"/>
              <a:ext cx="1434960" cy="368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earch engin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019920" y="4571640"/>
              <a:ext cx="761760" cy="60984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7848720" y="4571640"/>
              <a:ext cx="761760" cy="60984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 flipV="1">
              <a:off x="6324480" y="4952520"/>
              <a:ext cx="685800" cy="15228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324480" y="4647960"/>
              <a:ext cx="685800" cy="15228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248520" y="4876560"/>
              <a:ext cx="76176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543800" y="4952880"/>
              <a:ext cx="685800" cy="15228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 flipV="1">
              <a:off x="7543800" y="4647600"/>
              <a:ext cx="685800" cy="15228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467480" y="4876560"/>
              <a:ext cx="76212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5715000" y="4343040"/>
              <a:ext cx="3276720" cy="1219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6858720" y="5195520"/>
              <a:ext cx="90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ase se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at’s wrong with hierarchies/hyperlink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ts of things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ually created – time consu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mited scope – author’s access/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tic – become obsolete as corpus chan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jective – but for wrong subjec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5800" y="3733920"/>
            <a:ext cx="777240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would we like? Navigable structure in a dynamic document base that 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omatic - generated with minimal human interven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- operates on all document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avai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- accommodates new and stale documents as they arrive and disapp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onalized - incorporates our preferences and pri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ACA on web pag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3" name=""/>
          <p:cNvGrpSpPr/>
          <p:nvPr/>
        </p:nvGrpSpPr>
        <p:grpSpPr>
          <a:xfrm>
            <a:off x="1233000" y="1905120"/>
            <a:ext cx="6845400" cy="4354920"/>
            <a:chOff x="1233000" y="1905120"/>
            <a:chExt cx="6845400" cy="4354920"/>
          </a:xfrm>
        </p:grpSpPr>
        <p:sp>
          <p:nvSpPr>
            <p:cNvPr id="884" name=""/>
            <p:cNvSpPr/>
            <p:nvPr/>
          </p:nvSpPr>
          <p:spPr>
            <a:xfrm>
              <a:off x="1233000" y="1905120"/>
              <a:ext cx="3263760" cy="43549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A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eigenvector 1: 729.8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0.224 www.gannett.co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0.224 homefinder.cincinnati.co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0.224 cincinnati.com/freetime/movi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0.224 autofinder.cincinnati.co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eigenvector 2: 358.3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0.0003 www.cmpnet.co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0.0003 www.networkcomputing.co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0.0002 www.techweb.com/new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0.0002 www.byte.co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eigenvector 3: 294.2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0.781 www.jaguarsnfl.co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0.381 www.nfl.co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0.343 jaguars.jacksonville.co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0.174 www.nfl.com/jagua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5267160" y="1905120"/>
              <a:ext cx="2811240" cy="371556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PACA - sorted by p(c|z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Factor 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0.0440 www.jaguarsnfl.co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0.0252 jaguars.jacksonville.co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0.0232 www.jag-lovers.or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0.0200 www.nfl.co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0.0167 www.jaguarcars.co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Factor 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0.0367 www.jaguarsnfl.co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0.0233 www.jag-lovers.or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0.0210 jaguars.jacksonville.co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0.0201 www.nfl.co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0.0161 www.jaguarcars.co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ACA on web pag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entifies authorities, but mixes principal top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2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’s going o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b citations aren’t as “intentional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st authoritative” page for many queri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www.microsoft.com/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aren’t orthogonal - data likelihood maximized by sharing some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this case, clustered mode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ore appropriate than factored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8" name=""/>
          <p:cNvGrpSpPr/>
          <p:nvPr/>
        </p:nvGrpSpPr>
        <p:grpSpPr>
          <a:xfrm>
            <a:off x="5715000" y="3429000"/>
            <a:ext cx="1447920" cy="533520"/>
            <a:chOff x="5715000" y="3429000"/>
            <a:chExt cx="1447920" cy="533520"/>
          </a:xfrm>
        </p:grpSpPr>
        <p:sp>
          <p:nvSpPr>
            <p:cNvPr id="889" name=""/>
            <p:cNvSpPr/>
            <p:nvPr/>
          </p:nvSpPr>
          <p:spPr>
            <a:xfrm>
              <a:off x="5715000" y="3429000"/>
              <a:ext cx="1447920" cy="53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5748480" y="3505320"/>
              <a:ext cx="1312920" cy="398520"/>
            </a:xfrm>
            <a:prstGeom prst="rect">
              <a:avLst/>
            </a:pr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This page best viewed with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91" name="lgoIE" descr=""/>
            <p:cNvPicPr/>
            <p:nvPr/>
          </p:nvPicPr>
          <p:blipFill>
            <a:blip r:embed="rId1"/>
            <a:stretch/>
          </p:blipFill>
          <p:spPr>
            <a:xfrm>
              <a:off x="6704280" y="3446640"/>
              <a:ext cx="441000" cy="5032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ome thoughts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ear probabilistic interpre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sily manipulated to estimate quantities of inter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orities correspond well to human intu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s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out enforced orthogonality, doesn’t cleanly separate topics on web p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s specifying number of topics/factor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prior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A can extract successive orthogonal fa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raw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utational costs approximately equivale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4" name=""/>
          <p:cNvGrpSpPr/>
          <p:nvPr/>
        </p:nvGrpSpPr>
        <p:grpSpPr>
          <a:xfrm>
            <a:off x="609480" y="1295280"/>
            <a:ext cx="8075520" cy="3660120"/>
            <a:chOff x="609480" y="1295280"/>
            <a:chExt cx="8075520" cy="3660120"/>
          </a:xfrm>
        </p:grpSpPr>
        <p:grpSp>
          <p:nvGrpSpPr>
            <p:cNvPr id="895" name=""/>
            <p:cNvGrpSpPr/>
            <p:nvPr/>
          </p:nvGrpSpPr>
          <p:grpSpPr>
            <a:xfrm>
              <a:off x="5486760" y="2293920"/>
              <a:ext cx="3198240" cy="2661480"/>
              <a:chOff x="5486760" y="2293920"/>
              <a:chExt cx="3198240" cy="2661480"/>
            </a:xfrm>
          </p:grpSpPr>
          <p:grpSp>
            <p:nvGrpSpPr>
              <p:cNvPr id="896" name=""/>
              <p:cNvGrpSpPr/>
              <p:nvPr/>
            </p:nvGrpSpPr>
            <p:grpSpPr>
              <a:xfrm>
                <a:off x="5486760" y="2293920"/>
                <a:ext cx="3198240" cy="2661480"/>
                <a:chOff x="5486760" y="2293920"/>
                <a:chExt cx="3198240" cy="2661480"/>
              </a:xfrm>
            </p:grpSpPr>
            <p:sp>
              <p:nvSpPr>
                <p:cNvPr id="897" name=""/>
                <p:cNvSpPr/>
                <p:nvPr/>
              </p:nvSpPr>
              <p:spPr>
                <a:xfrm>
                  <a:off x="6316200" y="361908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cc9900"/>
                      </a:solidFill>
                      <a:latin typeface="Times New Roman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8" name=""/>
                <p:cNvSpPr/>
                <p:nvPr/>
              </p:nvSpPr>
              <p:spPr>
                <a:xfrm>
                  <a:off x="6745680" y="356040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cc9900"/>
                      </a:solidFill>
                      <a:latin typeface="Times New Roman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9" name=""/>
                <p:cNvSpPr/>
                <p:nvPr/>
              </p:nvSpPr>
              <p:spPr>
                <a:xfrm>
                  <a:off x="6844680" y="331596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cc9900"/>
                      </a:solidFill>
                      <a:latin typeface="Times New Roman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0" name=""/>
                <p:cNvSpPr/>
                <p:nvPr/>
              </p:nvSpPr>
              <p:spPr>
                <a:xfrm>
                  <a:off x="6967800" y="343656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cc9900"/>
                      </a:solidFill>
                      <a:latin typeface="Times New Roman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1" name=""/>
                <p:cNvSpPr/>
                <p:nvPr/>
              </p:nvSpPr>
              <p:spPr>
                <a:xfrm>
                  <a:off x="6967800" y="368280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cc9900"/>
                      </a:solidFill>
                      <a:latin typeface="Times New Roman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2" name=""/>
                <p:cNvSpPr/>
                <p:nvPr/>
              </p:nvSpPr>
              <p:spPr>
                <a:xfrm>
                  <a:off x="6807600" y="404784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cc9900"/>
                      </a:solidFill>
                      <a:latin typeface="Times New Roman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3" name=""/>
                <p:cNvSpPr/>
                <p:nvPr/>
              </p:nvSpPr>
              <p:spPr>
                <a:xfrm>
                  <a:off x="6067800" y="423036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cc9900"/>
                      </a:solidFill>
                      <a:latin typeface="Times New Roman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4" name=""/>
                <p:cNvSpPr/>
                <p:nvPr/>
              </p:nvSpPr>
              <p:spPr>
                <a:xfrm>
                  <a:off x="7179120" y="410652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cc9900"/>
                      </a:solidFill>
                      <a:latin typeface="Times New Roman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5" name=""/>
                <p:cNvSpPr/>
                <p:nvPr/>
              </p:nvSpPr>
              <p:spPr>
                <a:xfrm>
                  <a:off x="6967800" y="392580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cc9900"/>
                      </a:solidFill>
                      <a:latin typeface="Times New Roman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6" name=""/>
                <p:cNvSpPr/>
                <p:nvPr/>
              </p:nvSpPr>
              <p:spPr>
                <a:xfrm>
                  <a:off x="6807600" y="429084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cc9900"/>
                      </a:solidFill>
                      <a:latin typeface="Times New Roman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7" name=""/>
                <p:cNvSpPr/>
                <p:nvPr/>
              </p:nvSpPr>
              <p:spPr>
                <a:xfrm>
                  <a:off x="5610600" y="325728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cc9900"/>
                      </a:solidFill>
                      <a:latin typeface="Times New Roman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8" name=""/>
                <p:cNvSpPr/>
                <p:nvPr/>
              </p:nvSpPr>
              <p:spPr>
                <a:xfrm>
                  <a:off x="5980320" y="362088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cc9900"/>
                      </a:solidFill>
                      <a:latin typeface="Times New Roman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9" name=""/>
                <p:cNvSpPr/>
                <p:nvPr/>
              </p:nvSpPr>
              <p:spPr>
                <a:xfrm>
                  <a:off x="6164640" y="331596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cc9900"/>
                      </a:solidFill>
                      <a:latin typeface="Times New Roman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0" name=""/>
                <p:cNvSpPr/>
                <p:nvPr/>
              </p:nvSpPr>
              <p:spPr>
                <a:xfrm>
                  <a:off x="6262200" y="307332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cc9900"/>
                      </a:solidFill>
                      <a:latin typeface="Times New Roman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1" name=""/>
                <p:cNvSpPr/>
                <p:nvPr/>
              </p:nvSpPr>
              <p:spPr>
                <a:xfrm>
                  <a:off x="6389280" y="319680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cc9900"/>
                      </a:solidFill>
                      <a:latin typeface="Times New Roman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2" name=""/>
                <p:cNvSpPr/>
                <p:nvPr/>
              </p:nvSpPr>
              <p:spPr>
                <a:xfrm>
                  <a:off x="5610600" y="350028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cc9900"/>
                      </a:solidFill>
                      <a:latin typeface="Times New Roman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3" name=""/>
                <p:cNvSpPr/>
                <p:nvPr/>
              </p:nvSpPr>
              <p:spPr>
                <a:xfrm>
                  <a:off x="5486760" y="398592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cc9900"/>
                      </a:solidFill>
                      <a:latin typeface="Times New Roman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4" name=""/>
                <p:cNvSpPr/>
                <p:nvPr/>
              </p:nvSpPr>
              <p:spPr>
                <a:xfrm>
                  <a:off x="7367040" y="370332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800000"/>
                      </a:solidFill>
                      <a:latin typeface="Times New Roman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5" name=""/>
                <p:cNvSpPr/>
                <p:nvPr/>
              </p:nvSpPr>
              <p:spPr>
                <a:xfrm>
                  <a:off x="7488360" y="3825720"/>
                  <a:ext cx="184320" cy="45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6" name=""/>
                <p:cNvSpPr/>
                <p:nvPr/>
              </p:nvSpPr>
              <p:spPr>
                <a:xfrm>
                  <a:off x="7920360" y="376704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800000"/>
                      </a:solidFill>
                      <a:latin typeface="Times New Roman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7" name=""/>
                <p:cNvSpPr/>
                <p:nvPr/>
              </p:nvSpPr>
              <p:spPr>
                <a:xfrm>
                  <a:off x="8018640" y="352080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800000"/>
                      </a:solidFill>
                      <a:latin typeface="Times New Roman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8" name=""/>
                <p:cNvSpPr/>
                <p:nvPr/>
              </p:nvSpPr>
              <p:spPr>
                <a:xfrm>
                  <a:off x="8142480" y="364320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800000"/>
                      </a:solidFill>
                      <a:latin typeface="Times New Roman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9" name=""/>
                <p:cNvSpPr/>
                <p:nvPr/>
              </p:nvSpPr>
              <p:spPr>
                <a:xfrm>
                  <a:off x="8142480" y="388764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800000"/>
                      </a:solidFill>
                      <a:latin typeface="Times New Roman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0" name=""/>
                <p:cNvSpPr/>
                <p:nvPr/>
              </p:nvSpPr>
              <p:spPr>
                <a:xfrm>
                  <a:off x="7982280" y="425124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800000"/>
                      </a:solidFill>
                      <a:latin typeface="Times New Roman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1" name=""/>
                <p:cNvSpPr/>
                <p:nvPr/>
              </p:nvSpPr>
              <p:spPr>
                <a:xfrm>
                  <a:off x="7241040" y="443520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800000"/>
                      </a:solidFill>
                      <a:latin typeface="Times New Roman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2" name=""/>
                <p:cNvSpPr/>
                <p:nvPr/>
              </p:nvSpPr>
              <p:spPr>
                <a:xfrm>
                  <a:off x="7733880" y="431136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800000"/>
                      </a:solidFill>
                      <a:latin typeface="Times New Roman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3" name=""/>
                <p:cNvSpPr/>
                <p:nvPr/>
              </p:nvSpPr>
              <p:spPr>
                <a:xfrm>
                  <a:off x="8352000" y="431136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800000"/>
                      </a:solidFill>
                      <a:latin typeface="Times New Roman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4" name=""/>
                <p:cNvSpPr/>
                <p:nvPr/>
              </p:nvSpPr>
              <p:spPr>
                <a:xfrm>
                  <a:off x="8143200" y="413028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800000"/>
                      </a:solidFill>
                      <a:latin typeface="Times New Roman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5" name=""/>
                <p:cNvSpPr/>
                <p:nvPr/>
              </p:nvSpPr>
              <p:spPr>
                <a:xfrm>
                  <a:off x="7982280" y="449568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800000"/>
                      </a:solidFill>
                      <a:latin typeface="Times New Roman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6" name=""/>
                <p:cNvSpPr/>
                <p:nvPr/>
              </p:nvSpPr>
              <p:spPr>
                <a:xfrm>
                  <a:off x="6786720" y="346032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800000"/>
                      </a:solidFill>
                      <a:latin typeface="Times New Roman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7" name=""/>
                <p:cNvSpPr/>
                <p:nvPr/>
              </p:nvSpPr>
              <p:spPr>
                <a:xfrm>
                  <a:off x="7339320" y="352080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800000"/>
                      </a:solidFill>
                      <a:latin typeface="Times New Roman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8" name=""/>
                <p:cNvSpPr/>
                <p:nvPr/>
              </p:nvSpPr>
              <p:spPr>
                <a:xfrm>
                  <a:off x="7437600" y="327636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800000"/>
                      </a:solidFill>
                      <a:latin typeface="Times New Roman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9" name=""/>
                <p:cNvSpPr/>
                <p:nvPr/>
              </p:nvSpPr>
              <p:spPr>
                <a:xfrm>
                  <a:off x="7561440" y="340020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800000"/>
                      </a:solidFill>
                      <a:latin typeface="Times New Roman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0" name=""/>
                <p:cNvSpPr/>
                <p:nvPr/>
              </p:nvSpPr>
              <p:spPr>
                <a:xfrm>
                  <a:off x="7155000" y="407016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800000"/>
                      </a:solidFill>
                      <a:latin typeface="Times New Roman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1" name=""/>
                <p:cNvSpPr/>
                <p:nvPr/>
              </p:nvSpPr>
              <p:spPr>
                <a:xfrm>
                  <a:off x="7129800" y="283968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9900"/>
                      </a:solidFill>
                      <a:latin typeface="Times New Roman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2" name=""/>
                <p:cNvSpPr/>
                <p:nvPr/>
              </p:nvSpPr>
              <p:spPr>
                <a:xfrm>
                  <a:off x="7374240" y="308736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9900"/>
                      </a:solidFill>
                      <a:latin typeface="Times New Roman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3" name=""/>
                <p:cNvSpPr/>
                <p:nvPr/>
              </p:nvSpPr>
              <p:spPr>
                <a:xfrm>
                  <a:off x="7560000" y="278100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9900"/>
                      </a:solidFill>
                      <a:latin typeface="Times New Roman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4" name=""/>
                <p:cNvSpPr/>
                <p:nvPr/>
              </p:nvSpPr>
              <p:spPr>
                <a:xfrm>
                  <a:off x="7658280" y="253656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9900"/>
                      </a:solidFill>
                      <a:latin typeface="Times New Roman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5" name=""/>
                <p:cNvSpPr/>
                <p:nvPr/>
              </p:nvSpPr>
              <p:spPr>
                <a:xfrm>
                  <a:off x="7817040" y="265716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9900"/>
                      </a:solidFill>
                      <a:latin typeface="Times New Roman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6" name=""/>
                <p:cNvSpPr/>
                <p:nvPr/>
              </p:nvSpPr>
              <p:spPr>
                <a:xfrm>
                  <a:off x="7782120" y="290340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9900"/>
                      </a:solidFill>
                      <a:latin typeface="Times New Roman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7" name=""/>
                <p:cNvSpPr/>
                <p:nvPr/>
              </p:nvSpPr>
              <p:spPr>
                <a:xfrm>
                  <a:off x="7621920" y="326844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9900"/>
                      </a:solidFill>
                      <a:latin typeface="Times New Roman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8" name=""/>
                <p:cNvSpPr/>
                <p:nvPr/>
              </p:nvSpPr>
              <p:spPr>
                <a:xfrm>
                  <a:off x="7989480" y="332712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9900"/>
                      </a:solidFill>
                      <a:latin typeface="Times New Roman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9" name=""/>
                <p:cNvSpPr/>
                <p:nvPr/>
              </p:nvSpPr>
              <p:spPr>
                <a:xfrm>
                  <a:off x="7781400" y="314604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9900"/>
                      </a:solidFill>
                      <a:latin typeface="Times New Roman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0" name=""/>
                <p:cNvSpPr/>
                <p:nvPr/>
              </p:nvSpPr>
              <p:spPr>
                <a:xfrm>
                  <a:off x="6424920" y="247608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9900"/>
                      </a:solidFill>
                      <a:latin typeface="Times New Roman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1" name=""/>
                <p:cNvSpPr/>
                <p:nvPr/>
              </p:nvSpPr>
              <p:spPr>
                <a:xfrm>
                  <a:off x="6548760" y="259848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9900"/>
                      </a:solidFill>
                      <a:latin typeface="Times New Roman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2" name=""/>
                <p:cNvSpPr/>
                <p:nvPr/>
              </p:nvSpPr>
              <p:spPr>
                <a:xfrm>
                  <a:off x="6548760" y="283968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9900"/>
                      </a:solidFill>
                      <a:latin typeface="Times New Roman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3" name=""/>
                <p:cNvSpPr/>
                <p:nvPr/>
              </p:nvSpPr>
              <p:spPr>
                <a:xfrm>
                  <a:off x="7077240" y="229392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9900"/>
                      </a:solidFill>
                      <a:latin typeface="Times New Roman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4" name=""/>
                <p:cNvSpPr/>
                <p:nvPr/>
              </p:nvSpPr>
              <p:spPr>
                <a:xfrm>
                  <a:off x="7199640" y="241596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9900"/>
                      </a:solidFill>
                      <a:latin typeface="Times New Roman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5" name=""/>
                <p:cNvSpPr/>
                <p:nvPr/>
              </p:nvSpPr>
              <p:spPr>
                <a:xfrm>
                  <a:off x="6301800" y="320652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9900"/>
                      </a:solidFill>
                      <a:latin typeface="Times New Roman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6" name=""/>
                <p:cNvSpPr/>
                <p:nvPr/>
              </p:nvSpPr>
              <p:spPr>
                <a:xfrm>
                  <a:off x="6794640" y="308736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9900"/>
                      </a:solidFill>
                      <a:latin typeface="Times New Roman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47" name=""/>
              <p:cNvGrpSpPr/>
              <p:nvPr/>
            </p:nvGrpSpPr>
            <p:grpSpPr>
              <a:xfrm>
                <a:off x="6261480" y="2666880"/>
                <a:ext cx="1719720" cy="1760040"/>
                <a:chOff x="6261480" y="2666880"/>
                <a:chExt cx="1719720" cy="1760040"/>
              </a:xfrm>
            </p:grpSpPr>
            <p:sp>
              <p:nvSpPr>
                <p:cNvPr id="948" name=""/>
                <p:cNvSpPr/>
                <p:nvPr/>
              </p:nvSpPr>
              <p:spPr>
                <a:xfrm>
                  <a:off x="6261480" y="3463920"/>
                  <a:ext cx="554400" cy="78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000" spc="-1" strike="noStrike">
                      <a:solidFill>
                        <a:srgbClr val="cc9900"/>
                      </a:solidFill>
                      <a:latin typeface="Times New Roman"/>
                    </a:rPr>
                    <a:t>z</a:t>
                  </a:r>
                  <a:r>
                    <a:rPr b="1" lang="en-US" sz="4000" spc="-1" strike="noStrike" baseline="-25000">
                      <a:solidFill>
                        <a:srgbClr val="cc9900"/>
                      </a:solidFill>
                      <a:latin typeface="Times New Roman"/>
                    </a:rPr>
                    <a:t>1</a:t>
                  </a:r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9" name=""/>
                <p:cNvSpPr/>
                <p:nvPr/>
              </p:nvSpPr>
              <p:spPr>
                <a:xfrm>
                  <a:off x="6979320" y="2666880"/>
                  <a:ext cx="554400" cy="78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000" spc="-1" strike="noStrike">
                      <a:solidFill>
                        <a:srgbClr val="009900"/>
                      </a:solidFill>
                      <a:latin typeface="Times New Roman"/>
                    </a:rPr>
                    <a:t>z</a:t>
                  </a:r>
                  <a:r>
                    <a:rPr b="1" lang="en-US" sz="4000" spc="-1" strike="noStrike" baseline="-25000">
                      <a:solidFill>
                        <a:srgbClr val="009900"/>
                      </a:solidFill>
                      <a:latin typeface="Times New Roman"/>
                    </a:rPr>
                    <a:t>2</a:t>
                  </a:r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0" name=""/>
                <p:cNvSpPr/>
                <p:nvPr/>
              </p:nvSpPr>
              <p:spPr>
                <a:xfrm>
                  <a:off x="7426800" y="3639600"/>
                  <a:ext cx="554400" cy="78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000" spc="-1" strike="noStrike">
                      <a:solidFill>
                        <a:srgbClr val="800000"/>
                      </a:solidFill>
                      <a:latin typeface="Times New Roman"/>
                    </a:rPr>
                    <a:t>z</a:t>
                  </a:r>
                  <a:r>
                    <a:rPr b="1" lang="en-US" sz="4000" spc="-1" strike="noStrike" baseline="-25000">
                      <a:solidFill>
                        <a:srgbClr val="800000"/>
                      </a:solidFill>
                      <a:latin typeface="Times New Roman"/>
                    </a:rPr>
                    <a:t>3</a:t>
                  </a:r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951" name=""/>
            <p:cNvSpPr/>
            <p:nvPr/>
          </p:nvSpPr>
          <p:spPr>
            <a:xfrm>
              <a:off x="609480" y="1295280"/>
              <a:ext cx="5410440" cy="365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700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Factoring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imes New Roman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is a facto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imes New Roman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ach document assumed to be noisy instantiation of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mixtur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of sourc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2" marL="1143000" indent="-22860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elect source with probability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p(z</a:t>
              </a:r>
              <a:r>
                <a:rPr b="0" i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|d</a:t>
              </a:r>
              <a:r>
                <a:rPr b="0" i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j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2" marL="1143000" indent="-22860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elect one term in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i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j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ccording to selected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i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, repe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2" name=""/>
          <p:cNvGrpSpPr/>
          <p:nvPr/>
        </p:nvGrpSpPr>
        <p:grpSpPr>
          <a:xfrm>
            <a:off x="609480" y="1295280"/>
            <a:ext cx="8075520" cy="3660120"/>
            <a:chOff x="609480" y="1295280"/>
            <a:chExt cx="8075520" cy="3660120"/>
          </a:xfrm>
        </p:grpSpPr>
        <p:grpSp>
          <p:nvGrpSpPr>
            <p:cNvPr id="953" name=""/>
            <p:cNvGrpSpPr/>
            <p:nvPr/>
          </p:nvGrpSpPr>
          <p:grpSpPr>
            <a:xfrm>
              <a:off x="5486760" y="2293920"/>
              <a:ext cx="3198240" cy="2661480"/>
              <a:chOff x="5486760" y="2293920"/>
              <a:chExt cx="3198240" cy="2661480"/>
            </a:xfrm>
          </p:grpSpPr>
          <p:grpSp>
            <p:nvGrpSpPr>
              <p:cNvPr id="954" name=""/>
              <p:cNvGrpSpPr/>
              <p:nvPr/>
            </p:nvGrpSpPr>
            <p:grpSpPr>
              <a:xfrm>
                <a:off x="6259680" y="2674800"/>
                <a:ext cx="1719360" cy="1760040"/>
                <a:chOff x="6259680" y="2674800"/>
                <a:chExt cx="1719360" cy="1760040"/>
              </a:xfrm>
            </p:grpSpPr>
            <p:sp>
              <p:nvSpPr>
                <p:cNvPr id="955" name=""/>
                <p:cNvSpPr/>
                <p:nvPr/>
              </p:nvSpPr>
              <p:spPr>
                <a:xfrm>
                  <a:off x="6474960" y="3130200"/>
                  <a:ext cx="1218960" cy="990720"/>
                </a:xfrm>
                <a:custGeom>
                  <a:avLst/>
                  <a:gdLst/>
                  <a:ahLst/>
                  <a:rect l="l" t="t" r="r" b="b"/>
                  <a:pathLst>
                    <a:path w="768" h="624">
                      <a:moveTo>
                        <a:pt x="0" y="480"/>
                      </a:moveTo>
                      <a:lnTo>
                        <a:pt x="432" y="0"/>
                      </a:lnTo>
                      <a:lnTo>
                        <a:pt x="768" y="624"/>
                      </a:lnTo>
                      <a:lnTo>
                        <a:pt x="0" y="480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956" name=""/>
                <p:cNvGrpSpPr/>
                <p:nvPr/>
              </p:nvGrpSpPr>
              <p:grpSpPr>
                <a:xfrm>
                  <a:off x="6259680" y="2674800"/>
                  <a:ext cx="1719360" cy="1760040"/>
                  <a:chOff x="6259680" y="2674800"/>
                  <a:chExt cx="1719360" cy="1760040"/>
                </a:xfrm>
              </p:grpSpPr>
              <p:sp>
                <p:nvSpPr>
                  <p:cNvPr id="957" name=""/>
                  <p:cNvSpPr/>
                  <p:nvPr/>
                </p:nvSpPr>
                <p:spPr>
                  <a:xfrm>
                    <a:off x="6259680" y="3471480"/>
                    <a:ext cx="554400" cy="78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0" spc="-1" strike="noStrike">
                        <a:solidFill>
                          <a:srgbClr val="cc9900"/>
                        </a:solidFill>
                        <a:latin typeface="Times New Roman"/>
                      </a:rPr>
                      <a:t>z</a:t>
                    </a:r>
                    <a:r>
                      <a:rPr b="1" lang="en-US" sz="4000" spc="-1" strike="noStrike" baseline="-25000">
                        <a:solidFill>
                          <a:srgbClr val="cc9900"/>
                        </a:solidFill>
                        <a:latin typeface="Times New Roman"/>
                      </a:rPr>
                      <a:t>1</a:t>
                    </a:r>
                    <a:endParaRPr b="0" lang="en-US" sz="4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8" name=""/>
                  <p:cNvSpPr/>
                  <p:nvPr/>
                </p:nvSpPr>
                <p:spPr>
                  <a:xfrm>
                    <a:off x="6977520" y="2674800"/>
                    <a:ext cx="554400" cy="78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0" spc="-1" strike="noStrike">
                        <a:solidFill>
                          <a:srgbClr val="009900"/>
                        </a:solidFill>
                        <a:latin typeface="Times New Roman"/>
                      </a:rPr>
                      <a:t>z</a:t>
                    </a:r>
                    <a:r>
                      <a:rPr b="1" lang="en-US" sz="4000" spc="-1" strike="noStrike" baseline="-25000">
                        <a:solidFill>
                          <a:srgbClr val="009900"/>
                        </a:solidFill>
                        <a:latin typeface="Times New Roman"/>
                      </a:rPr>
                      <a:t>2</a:t>
                    </a:r>
                    <a:endParaRPr b="0" lang="en-US" sz="4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9" name=""/>
                  <p:cNvSpPr/>
                  <p:nvPr/>
                </p:nvSpPr>
                <p:spPr>
                  <a:xfrm>
                    <a:off x="7424640" y="3647520"/>
                    <a:ext cx="554400" cy="78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0" spc="-1" strike="noStrike">
                        <a:solidFill>
                          <a:srgbClr val="800000"/>
                        </a:solidFill>
                        <a:latin typeface="Times New Roman"/>
                      </a:rPr>
                      <a:t>z</a:t>
                    </a:r>
                    <a:r>
                      <a:rPr b="1" lang="en-US" sz="4000" spc="-1" strike="noStrike" baseline="-25000">
                        <a:solidFill>
                          <a:srgbClr val="800000"/>
                        </a:solidFill>
                        <a:latin typeface="Times New Roman"/>
                      </a:rPr>
                      <a:t>3</a:t>
                    </a:r>
                    <a:endParaRPr b="0" lang="en-US" sz="4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960" name=""/>
              <p:cNvGrpSpPr/>
              <p:nvPr/>
            </p:nvGrpSpPr>
            <p:grpSpPr>
              <a:xfrm>
                <a:off x="5486760" y="2293920"/>
                <a:ext cx="3198240" cy="2661480"/>
                <a:chOff x="5486760" y="2293920"/>
                <a:chExt cx="3198240" cy="2661480"/>
              </a:xfrm>
            </p:grpSpPr>
            <p:sp>
              <p:nvSpPr>
                <p:cNvPr id="961" name=""/>
                <p:cNvSpPr/>
                <p:nvPr/>
              </p:nvSpPr>
              <p:spPr>
                <a:xfrm>
                  <a:off x="6316200" y="361908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cc9900"/>
                      </a:solidFill>
                      <a:latin typeface="Times New Roman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2" name=""/>
                <p:cNvSpPr/>
                <p:nvPr/>
              </p:nvSpPr>
              <p:spPr>
                <a:xfrm>
                  <a:off x="6745680" y="356040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cc9900"/>
                      </a:solidFill>
                      <a:latin typeface="Times New Roman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3" name=""/>
                <p:cNvSpPr/>
                <p:nvPr/>
              </p:nvSpPr>
              <p:spPr>
                <a:xfrm>
                  <a:off x="6844680" y="331596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cc9900"/>
                      </a:solidFill>
                      <a:latin typeface="Times New Roman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4" name=""/>
                <p:cNvSpPr/>
                <p:nvPr/>
              </p:nvSpPr>
              <p:spPr>
                <a:xfrm>
                  <a:off x="6967800" y="343656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cc9900"/>
                      </a:solidFill>
                      <a:latin typeface="Times New Roman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5" name=""/>
                <p:cNvSpPr/>
                <p:nvPr/>
              </p:nvSpPr>
              <p:spPr>
                <a:xfrm>
                  <a:off x="6967800" y="368280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cc9900"/>
                      </a:solidFill>
                      <a:latin typeface="Times New Roman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6" name=""/>
                <p:cNvSpPr/>
                <p:nvPr/>
              </p:nvSpPr>
              <p:spPr>
                <a:xfrm>
                  <a:off x="6807600" y="404784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cc9900"/>
                      </a:solidFill>
                      <a:latin typeface="Times New Roman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7" name=""/>
                <p:cNvSpPr/>
                <p:nvPr/>
              </p:nvSpPr>
              <p:spPr>
                <a:xfrm>
                  <a:off x="6067800" y="423036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cc9900"/>
                      </a:solidFill>
                      <a:latin typeface="Times New Roman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8" name=""/>
                <p:cNvSpPr/>
                <p:nvPr/>
              </p:nvSpPr>
              <p:spPr>
                <a:xfrm>
                  <a:off x="7179120" y="410652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cc9900"/>
                      </a:solidFill>
                      <a:latin typeface="Times New Roman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9" name=""/>
                <p:cNvSpPr/>
                <p:nvPr/>
              </p:nvSpPr>
              <p:spPr>
                <a:xfrm>
                  <a:off x="6967800" y="392580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cc9900"/>
                      </a:solidFill>
                      <a:latin typeface="Times New Roman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0" name=""/>
                <p:cNvSpPr/>
                <p:nvPr/>
              </p:nvSpPr>
              <p:spPr>
                <a:xfrm>
                  <a:off x="6807600" y="429084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cc9900"/>
                      </a:solidFill>
                      <a:latin typeface="Times New Roman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1" name=""/>
                <p:cNvSpPr/>
                <p:nvPr/>
              </p:nvSpPr>
              <p:spPr>
                <a:xfrm>
                  <a:off x="5610600" y="325728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cc9900"/>
                      </a:solidFill>
                      <a:latin typeface="Times New Roman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2" name=""/>
                <p:cNvSpPr/>
                <p:nvPr/>
              </p:nvSpPr>
              <p:spPr>
                <a:xfrm>
                  <a:off x="5980320" y="362088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cc9900"/>
                      </a:solidFill>
                      <a:latin typeface="Times New Roman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3" name=""/>
                <p:cNvSpPr/>
                <p:nvPr/>
              </p:nvSpPr>
              <p:spPr>
                <a:xfrm>
                  <a:off x="6164640" y="331596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cc9900"/>
                      </a:solidFill>
                      <a:latin typeface="Times New Roman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4" name=""/>
                <p:cNvSpPr/>
                <p:nvPr/>
              </p:nvSpPr>
              <p:spPr>
                <a:xfrm>
                  <a:off x="6262200" y="307332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cc9900"/>
                      </a:solidFill>
                      <a:latin typeface="Times New Roman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5" name=""/>
                <p:cNvSpPr/>
                <p:nvPr/>
              </p:nvSpPr>
              <p:spPr>
                <a:xfrm>
                  <a:off x="6389280" y="319680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cc9900"/>
                      </a:solidFill>
                      <a:latin typeface="Times New Roman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6" name=""/>
                <p:cNvSpPr/>
                <p:nvPr/>
              </p:nvSpPr>
              <p:spPr>
                <a:xfrm>
                  <a:off x="5610600" y="350028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cc9900"/>
                      </a:solidFill>
                      <a:latin typeface="Times New Roman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7" name=""/>
                <p:cNvSpPr/>
                <p:nvPr/>
              </p:nvSpPr>
              <p:spPr>
                <a:xfrm>
                  <a:off x="5486760" y="398592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cc9900"/>
                      </a:solidFill>
                      <a:latin typeface="Times New Roman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8" name=""/>
                <p:cNvSpPr/>
                <p:nvPr/>
              </p:nvSpPr>
              <p:spPr>
                <a:xfrm>
                  <a:off x="7367040" y="370332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800000"/>
                      </a:solidFill>
                      <a:latin typeface="Times New Roman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9" name=""/>
                <p:cNvSpPr/>
                <p:nvPr/>
              </p:nvSpPr>
              <p:spPr>
                <a:xfrm>
                  <a:off x="7488360" y="3825720"/>
                  <a:ext cx="184320" cy="45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0" name=""/>
                <p:cNvSpPr/>
                <p:nvPr/>
              </p:nvSpPr>
              <p:spPr>
                <a:xfrm>
                  <a:off x="7920360" y="376704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800000"/>
                      </a:solidFill>
                      <a:latin typeface="Times New Roman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1" name=""/>
                <p:cNvSpPr/>
                <p:nvPr/>
              </p:nvSpPr>
              <p:spPr>
                <a:xfrm>
                  <a:off x="8018640" y="352080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800000"/>
                      </a:solidFill>
                      <a:latin typeface="Times New Roman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2" name=""/>
                <p:cNvSpPr/>
                <p:nvPr/>
              </p:nvSpPr>
              <p:spPr>
                <a:xfrm>
                  <a:off x="8142480" y="364320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800000"/>
                      </a:solidFill>
                      <a:latin typeface="Times New Roman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3" name=""/>
                <p:cNvSpPr/>
                <p:nvPr/>
              </p:nvSpPr>
              <p:spPr>
                <a:xfrm>
                  <a:off x="8142480" y="388764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800000"/>
                      </a:solidFill>
                      <a:latin typeface="Times New Roman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4" name=""/>
                <p:cNvSpPr/>
                <p:nvPr/>
              </p:nvSpPr>
              <p:spPr>
                <a:xfrm>
                  <a:off x="7982280" y="425124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800000"/>
                      </a:solidFill>
                      <a:latin typeface="Times New Roman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5" name=""/>
                <p:cNvSpPr/>
                <p:nvPr/>
              </p:nvSpPr>
              <p:spPr>
                <a:xfrm>
                  <a:off x="7241040" y="443520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800000"/>
                      </a:solidFill>
                      <a:latin typeface="Times New Roman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6" name=""/>
                <p:cNvSpPr/>
                <p:nvPr/>
              </p:nvSpPr>
              <p:spPr>
                <a:xfrm>
                  <a:off x="7733880" y="431136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800000"/>
                      </a:solidFill>
                      <a:latin typeface="Times New Roman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7" name=""/>
                <p:cNvSpPr/>
                <p:nvPr/>
              </p:nvSpPr>
              <p:spPr>
                <a:xfrm>
                  <a:off x="8352000" y="431136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800000"/>
                      </a:solidFill>
                      <a:latin typeface="Times New Roman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8" name=""/>
                <p:cNvSpPr/>
                <p:nvPr/>
              </p:nvSpPr>
              <p:spPr>
                <a:xfrm>
                  <a:off x="8143200" y="413028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800000"/>
                      </a:solidFill>
                      <a:latin typeface="Times New Roman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9" name=""/>
                <p:cNvSpPr/>
                <p:nvPr/>
              </p:nvSpPr>
              <p:spPr>
                <a:xfrm>
                  <a:off x="7982280" y="449568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800000"/>
                      </a:solidFill>
                      <a:latin typeface="Times New Roman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0" name=""/>
                <p:cNvSpPr/>
                <p:nvPr/>
              </p:nvSpPr>
              <p:spPr>
                <a:xfrm>
                  <a:off x="6786720" y="346032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800000"/>
                      </a:solidFill>
                      <a:latin typeface="Times New Roman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1" name=""/>
                <p:cNvSpPr/>
                <p:nvPr/>
              </p:nvSpPr>
              <p:spPr>
                <a:xfrm>
                  <a:off x="7339320" y="352080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800000"/>
                      </a:solidFill>
                      <a:latin typeface="Times New Roman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2" name=""/>
                <p:cNvSpPr/>
                <p:nvPr/>
              </p:nvSpPr>
              <p:spPr>
                <a:xfrm>
                  <a:off x="7437600" y="327636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800000"/>
                      </a:solidFill>
                      <a:latin typeface="Times New Roman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3" name=""/>
                <p:cNvSpPr/>
                <p:nvPr/>
              </p:nvSpPr>
              <p:spPr>
                <a:xfrm>
                  <a:off x="7561440" y="340020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800000"/>
                      </a:solidFill>
                      <a:latin typeface="Times New Roman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4" name=""/>
                <p:cNvSpPr/>
                <p:nvPr/>
              </p:nvSpPr>
              <p:spPr>
                <a:xfrm>
                  <a:off x="7155000" y="407016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800000"/>
                      </a:solidFill>
                      <a:latin typeface="Times New Roman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5" name=""/>
                <p:cNvSpPr/>
                <p:nvPr/>
              </p:nvSpPr>
              <p:spPr>
                <a:xfrm>
                  <a:off x="7129800" y="283968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9900"/>
                      </a:solidFill>
                      <a:latin typeface="Times New Roman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6" name=""/>
                <p:cNvSpPr/>
                <p:nvPr/>
              </p:nvSpPr>
              <p:spPr>
                <a:xfrm>
                  <a:off x="7374240" y="308736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9900"/>
                      </a:solidFill>
                      <a:latin typeface="Times New Roman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7" name=""/>
                <p:cNvSpPr/>
                <p:nvPr/>
              </p:nvSpPr>
              <p:spPr>
                <a:xfrm>
                  <a:off x="7560000" y="278100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9900"/>
                      </a:solidFill>
                      <a:latin typeface="Times New Roman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8" name=""/>
                <p:cNvSpPr/>
                <p:nvPr/>
              </p:nvSpPr>
              <p:spPr>
                <a:xfrm>
                  <a:off x="7658280" y="253656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9900"/>
                      </a:solidFill>
                      <a:latin typeface="Times New Roman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9" name=""/>
                <p:cNvSpPr/>
                <p:nvPr/>
              </p:nvSpPr>
              <p:spPr>
                <a:xfrm>
                  <a:off x="7817040" y="265716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9900"/>
                      </a:solidFill>
                      <a:latin typeface="Times New Roman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0" name=""/>
                <p:cNvSpPr/>
                <p:nvPr/>
              </p:nvSpPr>
              <p:spPr>
                <a:xfrm>
                  <a:off x="7782120" y="290340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9900"/>
                      </a:solidFill>
                      <a:latin typeface="Times New Roman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1" name=""/>
                <p:cNvSpPr/>
                <p:nvPr/>
              </p:nvSpPr>
              <p:spPr>
                <a:xfrm>
                  <a:off x="7621920" y="326844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9900"/>
                      </a:solidFill>
                      <a:latin typeface="Times New Roman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2" name=""/>
                <p:cNvSpPr/>
                <p:nvPr/>
              </p:nvSpPr>
              <p:spPr>
                <a:xfrm>
                  <a:off x="7989480" y="332712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9900"/>
                      </a:solidFill>
                      <a:latin typeface="Times New Roman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3" name=""/>
                <p:cNvSpPr/>
                <p:nvPr/>
              </p:nvSpPr>
              <p:spPr>
                <a:xfrm>
                  <a:off x="7781400" y="314604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9900"/>
                      </a:solidFill>
                      <a:latin typeface="Times New Roman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4" name=""/>
                <p:cNvSpPr/>
                <p:nvPr/>
              </p:nvSpPr>
              <p:spPr>
                <a:xfrm>
                  <a:off x="6424920" y="247608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9900"/>
                      </a:solidFill>
                      <a:latin typeface="Times New Roman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5" name=""/>
                <p:cNvSpPr/>
                <p:nvPr/>
              </p:nvSpPr>
              <p:spPr>
                <a:xfrm>
                  <a:off x="6548760" y="259848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9900"/>
                      </a:solidFill>
                      <a:latin typeface="Times New Roman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6" name=""/>
                <p:cNvSpPr/>
                <p:nvPr/>
              </p:nvSpPr>
              <p:spPr>
                <a:xfrm>
                  <a:off x="6548760" y="283968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9900"/>
                      </a:solidFill>
                      <a:latin typeface="Times New Roman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7" name=""/>
                <p:cNvSpPr/>
                <p:nvPr/>
              </p:nvSpPr>
              <p:spPr>
                <a:xfrm>
                  <a:off x="7077240" y="229392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9900"/>
                      </a:solidFill>
                      <a:latin typeface="Times New Roman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8" name=""/>
                <p:cNvSpPr/>
                <p:nvPr/>
              </p:nvSpPr>
              <p:spPr>
                <a:xfrm>
                  <a:off x="7199640" y="241596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9900"/>
                      </a:solidFill>
                      <a:latin typeface="Times New Roman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9" name=""/>
                <p:cNvSpPr/>
                <p:nvPr/>
              </p:nvSpPr>
              <p:spPr>
                <a:xfrm>
                  <a:off x="6301800" y="320652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9900"/>
                      </a:solidFill>
                      <a:latin typeface="Times New Roman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0" name=""/>
                <p:cNvSpPr/>
                <p:nvPr/>
              </p:nvSpPr>
              <p:spPr>
                <a:xfrm>
                  <a:off x="6794640" y="308736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9900"/>
                      </a:solidFill>
                      <a:latin typeface="Times New Roman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11" name=""/>
              <p:cNvSpPr/>
              <p:nvPr/>
            </p:nvSpPr>
            <p:spPr>
              <a:xfrm flipV="1">
                <a:off x="6324480" y="3894120"/>
                <a:ext cx="38052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 flipV="1">
                <a:off x="6933960" y="3894120"/>
                <a:ext cx="75960" cy="533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 flipV="1">
                <a:off x="5790960" y="3970080"/>
                <a:ext cx="53316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5867280" y="3741840"/>
                <a:ext cx="837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 flipV="1">
                <a:off x="7391160" y="3970080"/>
                <a:ext cx="0" cy="685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6705360" y="3208320"/>
                <a:ext cx="22824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 flipH="1" flipV="1">
                <a:off x="7467120" y="3970080"/>
                <a:ext cx="380520" cy="533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 flipH="1" flipV="1">
                <a:off x="7848360" y="4274640"/>
                <a:ext cx="304560" cy="381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6781680" y="2903400"/>
                <a:ext cx="22824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 flipH="1" flipV="1">
                <a:off x="7696080" y="3970080"/>
                <a:ext cx="761760" cy="60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 flipH="1" flipV="1">
                <a:off x="7467480" y="3817800"/>
                <a:ext cx="76176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 flipH="1">
                <a:off x="7314840" y="3589200"/>
                <a:ext cx="761400" cy="76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 flipH="1">
                <a:off x="7086600" y="2674800"/>
                <a:ext cx="151920" cy="685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 flipH="1">
                <a:off x="7315200" y="3284640"/>
                <a:ext cx="53280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 flipH="1">
                <a:off x="7238880" y="2979720"/>
                <a:ext cx="685440" cy="533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 flipH="1">
                <a:off x="7086600" y="2903400"/>
                <a:ext cx="609120" cy="685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 flipV="1">
                <a:off x="7162560" y="3817440"/>
                <a:ext cx="15228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28" name=""/>
            <p:cNvSpPr/>
            <p:nvPr/>
          </p:nvSpPr>
          <p:spPr>
            <a:xfrm>
              <a:off x="609480" y="1295280"/>
              <a:ext cx="5410440" cy="365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700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Factoring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imes New Roman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is a facto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imes New Roman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ach document assumed to be noisy instantiation of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mixtur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of sourc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2" marL="1143000" indent="-22860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elect source with probability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p(z</a:t>
              </a:r>
              <a:r>
                <a:rPr b="0" i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|d</a:t>
              </a:r>
              <a:r>
                <a:rPr b="0" i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j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2" marL="1143000" indent="-22860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elect one term in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i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j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ccording to selected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i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, repe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imes New Roman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rrange factors to minimize “distance” of data to hyperplane defined by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...z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ustering vs. Factor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0" name=""/>
          <p:cNvGrpSpPr/>
          <p:nvPr/>
        </p:nvGrpSpPr>
        <p:grpSpPr>
          <a:xfrm>
            <a:off x="609480" y="1295280"/>
            <a:ext cx="7371360" cy="3657600"/>
            <a:chOff x="609480" y="1295280"/>
            <a:chExt cx="7371360" cy="3657600"/>
          </a:xfrm>
        </p:grpSpPr>
        <p:sp>
          <p:nvSpPr>
            <p:cNvPr id="1031" name=""/>
            <p:cNvSpPr/>
            <p:nvPr/>
          </p:nvSpPr>
          <p:spPr>
            <a:xfrm>
              <a:off x="609480" y="1295280"/>
              <a:ext cx="5410440" cy="365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700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Factoring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imes New Roman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is a facto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32" name=""/>
            <p:cNvGrpSpPr/>
            <p:nvPr/>
          </p:nvGrpSpPr>
          <p:grpSpPr>
            <a:xfrm>
              <a:off x="6261480" y="2676600"/>
              <a:ext cx="1719360" cy="1760040"/>
              <a:chOff x="6261480" y="2676600"/>
              <a:chExt cx="1719360" cy="1760040"/>
            </a:xfrm>
          </p:grpSpPr>
          <p:sp>
            <p:nvSpPr>
              <p:cNvPr id="1033" name=""/>
              <p:cNvSpPr/>
              <p:nvPr/>
            </p:nvSpPr>
            <p:spPr>
              <a:xfrm>
                <a:off x="6261480" y="3473280"/>
                <a:ext cx="554400" cy="78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cc9900"/>
                    </a:solidFill>
                    <a:latin typeface="Times New Roman"/>
                  </a:rPr>
                  <a:t>z</a:t>
                </a:r>
                <a:r>
                  <a:rPr b="1" lang="en-US" sz="4000" spc="-1" strike="noStrike" baseline="-25000">
                    <a:solidFill>
                      <a:srgbClr val="cc9900"/>
                    </a:solidFill>
                    <a:latin typeface="Times New Roman"/>
                  </a:rPr>
                  <a:t>1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6979320" y="2676600"/>
                <a:ext cx="554400" cy="78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009900"/>
                    </a:solidFill>
                    <a:latin typeface="Times New Roman"/>
                  </a:rPr>
                  <a:t>z</a:t>
                </a:r>
                <a:r>
                  <a:rPr b="1" lang="en-US" sz="4000" spc="-1" strike="noStrike" baseline="-25000">
                    <a:solidFill>
                      <a:srgbClr val="009900"/>
                    </a:solidFill>
                    <a:latin typeface="Times New Roman"/>
                  </a:rPr>
                  <a:t>2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7426440" y="3649320"/>
                <a:ext cx="554400" cy="78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800000"/>
                    </a:solidFill>
                    <a:latin typeface="Times New Roman"/>
                  </a:rPr>
                  <a:t>z</a:t>
                </a:r>
                <a:r>
                  <a:rPr b="1" lang="en-US" sz="4000" spc="-1" strike="noStrike" baseline="-25000">
                    <a:solidFill>
                      <a:srgbClr val="800000"/>
                    </a:solidFill>
                    <a:latin typeface="Times New Roman"/>
                  </a:rPr>
                  <a:t>3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685800" y="6552720"/>
            <a:ext cx="3200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7000"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7" name=""/>
          <p:cNvGrpSpPr/>
          <p:nvPr/>
        </p:nvGrpSpPr>
        <p:grpSpPr>
          <a:xfrm>
            <a:off x="685800" y="1219320"/>
            <a:ext cx="7770600" cy="3886200"/>
            <a:chOff x="685800" y="1219320"/>
            <a:chExt cx="7770600" cy="3886200"/>
          </a:xfrm>
        </p:grpSpPr>
        <p:grpSp>
          <p:nvGrpSpPr>
            <p:cNvPr id="1038" name=""/>
            <p:cNvGrpSpPr/>
            <p:nvPr/>
          </p:nvGrpSpPr>
          <p:grpSpPr>
            <a:xfrm>
              <a:off x="5258160" y="1219320"/>
              <a:ext cx="3198240" cy="2661480"/>
              <a:chOff x="5258160" y="1219320"/>
              <a:chExt cx="3198240" cy="2661480"/>
            </a:xfrm>
          </p:grpSpPr>
          <p:grpSp>
            <p:nvGrpSpPr>
              <p:cNvPr id="1039" name=""/>
              <p:cNvGrpSpPr/>
              <p:nvPr/>
            </p:nvGrpSpPr>
            <p:grpSpPr>
              <a:xfrm>
                <a:off x="5258160" y="1219320"/>
                <a:ext cx="3198240" cy="2661480"/>
                <a:chOff x="5258160" y="1219320"/>
                <a:chExt cx="3198240" cy="2661480"/>
              </a:xfrm>
            </p:grpSpPr>
            <p:sp>
              <p:nvSpPr>
                <p:cNvPr id="1040" name=""/>
                <p:cNvSpPr/>
                <p:nvPr/>
              </p:nvSpPr>
              <p:spPr>
                <a:xfrm>
                  <a:off x="6087600" y="254448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cc9900"/>
                      </a:solidFill>
                      <a:latin typeface="Times New Roman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1" name=""/>
                <p:cNvSpPr/>
                <p:nvPr/>
              </p:nvSpPr>
              <p:spPr>
                <a:xfrm>
                  <a:off x="6517080" y="248580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cc9900"/>
                      </a:solidFill>
                      <a:latin typeface="Times New Roman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2" name=""/>
                <p:cNvSpPr/>
                <p:nvPr/>
              </p:nvSpPr>
              <p:spPr>
                <a:xfrm>
                  <a:off x="6616080" y="224136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cc9900"/>
                      </a:solidFill>
                      <a:latin typeface="Times New Roman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3" name=""/>
                <p:cNvSpPr/>
                <p:nvPr/>
              </p:nvSpPr>
              <p:spPr>
                <a:xfrm>
                  <a:off x="6739200" y="236196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cc9900"/>
                      </a:solidFill>
                      <a:latin typeface="Times New Roman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4" name=""/>
                <p:cNvSpPr/>
                <p:nvPr/>
              </p:nvSpPr>
              <p:spPr>
                <a:xfrm>
                  <a:off x="6739200" y="260820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cc9900"/>
                      </a:solidFill>
                      <a:latin typeface="Times New Roman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5" name=""/>
                <p:cNvSpPr/>
                <p:nvPr/>
              </p:nvSpPr>
              <p:spPr>
                <a:xfrm>
                  <a:off x="6579000" y="297324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cc9900"/>
                      </a:solidFill>
                      <a:latin typeface="Times New Roman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6" name=""/>
                <p:cNvSpPr/>
                <p:nvPr/>
              </p:nvSpPr>
              <p:spPr>
                <a:xfrm>
                  <a:off x="5839200" y="315576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cc9900"/>
                      </a:solidFill>
                      <a:latin typeface="Times New Roman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7" name=""/>
                <p:cNvSpPr/>
                <p:nvPr/>
              </p:nvSpPr>
              <p:spPr>
                <a:xfrm>
                  <a:off x="6950520" y="303192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cc9900"/>
                      </a:solidFill>
                      <a:latin typeface="Times New Roman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8" name=""/>
                <p:cNvSpPr/>
                <p:nvPr/>
              </p:nvSpPr>
              <p:spPr>
                <a:xfrm>
                  <a:off x="6739200" y="285120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cc9900"/>
                      </a:solidFill>
                      <a:latin typeface="Times New Roman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9" name=""/>
                <p:cNvSpPr/>
                <p:nvPr/>
              </p:nvSpPr>
              <p:spPr>
                <a:xfrm>
                  <a:off x="6579000" y="321624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cc9900"/>
                      </a:solidFill>
                      <a:latin typeface="Times New Roman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0" name=""/>
                <p:cNvSpPr/>
                <p:nvPr/>
              </p:nvSpPr>
              <p:spPr>
                <a:xfrm>
                  <a:off x="5382000" y="218268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cc9900"/>
                      </a:solidFill>
                      <a:latin typeface="Times New Roman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1" name=""/>
                <p:cNvSpPr/>
                <p:nvPr/>
              </p:nvSpPr>
              <p:spPr>
                <a:xfrm>
                  <a:off x="5751720" y="254628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cc9900"/>
                      </a:solidFill>
                      <a:latin typeface="Times New Roman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2" name=""/>
                <p:cNvSpPr/>
                <p:nvPr/>
              </p:nvSpPr>
              <p:spPr>
                <a:xfrm>
                  <a:off x="5936040" y="224136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cc9900"/>
                      </a:solidFill>
                      <a:latin typeface="Times New Roman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3" name=""/>
                <p:cNvSpPr/>
                <p:nvPr/>
              </p:nvSpPr>
              <p:spPr>
                <a:xfrm>
                  <a:off x="6033600" y="199872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cc9900"/>
                      </a:solidFill>
                      <a:latin typeface="Times New Roman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4" name=""/>
                <p:cNvSpPr/>
                <p:nvPr/>
              </p:nvSpPr>
              <p:spPr>
                <a:xfrm>
                  <a:off x="6160680" y="212220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cc9900"/>
                      </a:solidFill>
                      <a:latin typeface="Times New Roman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5" name=""/>
                <p:cNvSpPr/>
                <p:nvPr/>
              </p:nvSpPr>
              <p:spPr>
                <a:xfrm>
                  <a:off x="5382000" y="242568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cc9900"/>
                      </a:solidFill>
                      <a:latin typeface="Times New Roman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6" name=""/>
                <p:cNvSpPr/>
                <p:nvPr/>
              </p:nvSpPr>
              <p:spPr>
                <a:xfrm>
                  <a:off x="5258160" y="291132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cc9900"/>
                      </a:solidFill>
                      <a:latin typeface="Times New Roman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7" name=""/>
                <p:cNvSpPr/>
                <p:nvPr/>
              </p:nvSpPr>
              <p:spPr>
                <a:xfrm>
                  <a:off x="7138440" y="262872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800000"/>
                      </a:solidFill>
                      <a:latin typeface="Times New Roman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8" name=""/>
                <p:cNvSpPr/>
                <p:nvPr/>
              </p:nvSpPr>
              <p:spPr>
                <a:xfrm>
                  <a:off x="7259760" y="2751120"/>
                  <a:ext cx="184320" cy="45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9" name=""/>
                <p:cNvSpPr/>
                <p:nvPr/>
              </p:nvSpPr>
              <p:spPr>
                <a:xfrm>
                  <a:off x="7691760" y="269244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800000"/>
                      </a:solidFill>
                      <a:latin typeface="Times New Roman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0" name=""/>
                <p:cNvSpPr/>
                <p:nvPr/>
              </p:nvSpPr>
              <p:spPr>
                <a:xfrm>
                  <a:off x="7790040" y="244620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800000"/>
                      </a:solidFill>
                      <a:latin typeface="Times New Roman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1" name=""/>
                <p:cNvSpPr/>
                <p:nvPr/>
              </p:nvSpPr>
              <p:spPr>
                <a:xfrm>
                  <a:off x="7913880" y="256860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800000"/>
                      </a:solidFill>
                      <a:latin typeface="Times New Roman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2" name=""/>
                <p:cNvSpPr/>
                <p:nvPr/>
              </p:nvSpPr>
              <p:spPr>
                <a:xfrm>
                  <a:off x="7913880" y="281304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800000"/>
                      </a:solidFill>
                      <a:latin typeface="Times New Roman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3" name=""/>
                <p:cNvSpPr/>
                <p:nvPr/>
              </p:nvSpPr>
              <p:spPr>
                <a:xfrm>
                  <a:off x="7753680" y="317664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800000"/>
                      </a:solidFill>
                      <a:latin typeface="Times New Roman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4" name=""/>
                <p:cNvSpPr/>
                <p:nvPr/>
              </p:nvSpPr>
              <p:spPr>
                <a:xfrm>
                  <a:off x="7012440" y="336060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800000"/>
                      </a:solidFill>
                      <a:latin typeface="Times New Roman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5" name=""/>
                <p:cNvSpPr/>
                <p:nvPr/>
              </p:nvSpPr>
              <p:spPr>
                <a:xfrm>
                  <a:off x="7505280" y="323676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800000"/>
                      </a:solidFill>
                      <a:latin typeface="Times New Roman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6" name=""/>
                <p:cNvSpPr/>
                <p:nvPr/>
              </p:nvSpPr>
              <p:spPr>
                <a:xfrm>
                  <a:off x="8123400" y="323676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800000"/>
                      </a:solidFill>
                      <a:latin typeface="Times New Roman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7" name=""/>
                <p:cNvSpPr/>
                <p:nvPr/>
              </p:nvSpPr>
              <p:spPr>
                <a:xfrm>
                  <a:off x="7914600" y="305568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800000"/>
                      </a:solidFill>
                      <a:latin typeface="Times New Roman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8" name=""/>
                <p:cNvSpPr/>
                <p:nvPr/>
              </p:nvSpPr>
              <p:spPr>
                <a:xfrm>
                  <a:off x="7753680" y="342108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800000"/>
                      </a:solidFill>
                      <a:latin typeface="Times New Roman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9" name=""/>
                <p:cNvSpPr/>
                <p:nvPr/>
              </p:nvSpPr>
              <p:spPr>
                <a:xfrm>
                  <a:off x="6558120" y="238572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800000"/>
                      </a:solidFill>
                      <a:latin typeface="Times New Roman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0" name=""/>
                <p:cNvSpPr/>
                <p:nvPr/>
              </p:nvSpPr>
              <p:spPr>
                <a:xfrm>
                  <a:off x="7110720" y="244620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800000"/>
                      </a:solidFill>
                      <a:latin typeface="Times New Roman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1" name=""/>
                <p:cNvSpPr/>
                <p:nvPr/>
              </p:nvSpPr>
              <p:spPr>
                <a:xfrm>
                  <a:off x="7209000" y="220176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800000"/>
                      </a:solidFill>
                      <a:latin typeface="Times New Roman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2" name=""/>
                <p:cNvSpPr/>
                <p:nvPr/>
              </p:nvSpPr>
              <p:spPr>
                <a:xfrm>
                  <a:off x="7332840" y="232560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800000"/>
                      </a:solidFill>
                      <a:latin typeface="Times New Roman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3" name=""/>
                <p:cNvSpPr/>
                <p:nvPr/>
              </p:nvSpPr>
              <p:spPr>
                <a:xfrm>
                  <a:off x="6926400" y="299556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800000"/>
                      </a:solidFill>
                      <a:latin typeface="Times New Roman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4" name=""/>
                <p:cNvSpPr/>
                <p:nvPr/>
              </p:nvSpPr>
              <p:spPr>
                <a:xfrm>
                  <a:off x="6901200" y="176508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9900"/>
                      </a:solidFill>
                      <a:latin typeface="Times New Roman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5" name=""/>
                <p:cNvSpPr/>
                <p:nvPr/>
              </p:nvSpPr>
              <p:spPr>
                <a:xfrm>
                  <a:off x="7145640" y="201276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9900"/>
                      </a:solidFill>
                      <a:latin typeface="Times New Roman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6" name=""/>
                <p:cNvSpPr/>
                <p:nvPr/>
              </p:nvSpPr>
              <p:spPr>
                <a:xfrm>
                  <a:off x="7331400" y="170640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9900"/>
                      </a:solidFill>
                      <a:latin typeface="Times New Roman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7" name=""/>
                <p:cNvSpPr/>
                <p:nvPr/>
              </p:nvSpPr>
              <p:spPr>
                <a:xfrm>
                  <a:off x="7429680" y="146196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9900"/>
                      </a:solidFill>
                      <a:latin typeface="Times New Roman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8" name=""/>
                <p:cNvSpPr/>
                <p:nvPr/>
              </p:nvSpPr>
              <p:spPr>
                <a:xfrm>
                  <a:off x="7588440" y="158256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9900"/>
                      </a:solidFill>
                      <a:latin typeface="Times New Roman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9" name=""/>
                <p:cNvSpPr/>
                <p:nvPr/>
              </p:nvSpPr>
              <p:spPr>
                <a:xfrm>
                  <a:off x="7553520" y="182880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9900"/>
                      </a:solidFill>
                      <a:latin typeface="Times New Roman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0" name=""/>
                <p:cNvSpPr/>
                <p:nvPr/>
              </p:nvSpPr>
              <p:spPr>
                <a:xfrm>
                  <a:off x="7393320" y="219384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9900"/>
                      </a:solidFill>
                      <a:latin typeface="Times New Roman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1" name=""/>
                <p:cNvSpPr/>
                <p:nvPr/>
              </p:nvSpPr>
              <p:spPr>
                <a:xfrm>
                  <a:off x="7760880" y="225252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9900"/>
                      </a:solidFill>
                      <a:latin typeface="Times New Roman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2" name=""/>
                <p:cNvSpPr/>
                <p:nvPr/>
              </p:nvSpPr>
              <p:spPr>
                <a:xfrm>
                  <a:off x="7552800" y="207144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9900"/>
                      </a:solidFill>
                      <a:latin typeface="Times New Roman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3" name=""/>
                <p:cNvSpPr/>
                <p:nvPr/>
              </p:nvSpPr>
              <p:spPr>
                <a:xfrm>
                  <a:off x="6196320" y="140148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9900"/>
                      </a:solidFill>
                      <a:latin typeface="Times New Roman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4" name=""/>
                <p:cNvSpPr/>
                <p:nvPr/>
              </p:nvSpPr>
              <p:spPr>
                <a:xfrm>
                  <a:off x="6320160" y="152388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9900"/>
                      </a:solidFill>
                      <a:latin typeface="Times New Roman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5" name=""/>
                <p:cNvSpPr/>
                <p:nvPr/>
              </p:nvSpPr>
              <p:spPr>
                <a:xfrm>
                  <a:off x="6320160" y="176508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9900"/>
                      </a:solidFill>
                      <a:latin typeface="Times New Roman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6" name=""/>
                <p:cNvSpPr/>
                <p:nvPr/>
              </p:nvSpPr>
              <p:spPr>
                <a:xfrm>
                  <a:off x="6848640" y="121932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9900"/>
                      </a:solidFill>
                      <a:latin typeface="Times New Roman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7" name=""/>
                <p:cNvSpPr/>
                <p:nvPr/>
              </p:nvSpPr>
              <p:spPr>
                <a:xfrm>
                  <a:off x="6971040" y="134136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9900"/>
                      </a:solidFill>
                      <a:latin typeface="Times New Roman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8" name=""/>
                <p:cNvSpPr/>
                <p:nvPr/>
              </p:nvSpPr>
              <p:spPr>
                <a:xfrm>
                  <a:off x="6073200" y="213192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9900"/>
                      </a:solidFill>
                      <a:latin typeface="Times New Roman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9" name=""/>
                <p:cNvSpPr/>
                <p:nvPr/>
              </p:nvSpPr>
              <p:spPr>
                <a:xfrm>
                  <a:off x="6566040" y="201276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9900"/>
                      </a:solidFill>
                      <a:latin typeface="Times New Roman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0" name=""/>
              <p:cNvGrpSpPr/>
              <p:nvPr/>
            </p:nvGrpSpPr>
            <p:grpSpPr>
              <a:xfrm>
                <a:off x="6032880" y="1676520"/>
                <a:ext cx="1719720" cy="1760040"/>
                <a:chOff x="6032880" y="1676520"/>
                <a:chExt cx="1719720" cy="1760040"/>
              </a:xfrm>
            </p:grpSpPr>
            <p:sp>
              <p:nvSpPr>
                <p:cNvPr id="1091" name=""/>
                <p:cNvSpPr/>
                <p:nvPr/>
              </p:nvSpPr>
              <p:spPr>
                <a:xfrm>
                  <a:off x="6032880" y="2473200"/>
                  <a:ext cx="554400" cy="78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000" spc="-1" strike="noStrike">
                      <a:solidFill>
                        <a:srgbClr val="cc9900"/>
                      </a:solidFill>
                      <a:latin typeface="Times New Roman"/>
                    </a:rPr>
                    <a:t>z</a:t>
                  </a:r>
                  <a:r>
                    <a:rPr b="1" lang="en-US" sz="4000" spc="-1" strike="noStrike" baseline="-25000">
                      <a:solidFill>
                        <a:srgbClr val="cc9900"/>
                      </a:solidFill>
                      <a:latin typeface="Times New Roman"/>
                    </a:rPr>
                    <a:t>1</a:t>
                  </a:r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2" name=""/>
                <p:cNvSpPr/>
                <p:nvPr/>
              </p:nvSpPr>
              <p:spPr>
                <a:xfrm>
                  <a:off x="6750720" y="1676520"/>
                  <a:ext cx="554400" cy="78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000" spc="-1" strike="noStrike">
                      <a:solidFill>
                        <a:srgbClr val="009900"/>
                      </a:solidFill>
                      <a:latin typeface="Times New Roman"/>
                    </a:rPr>
                    <a:t>z</a:t>
                  </a:r>
                  <a:r>
                    <a:rPr b="1" lang="en-US" sz="4000" spc="-1" strike="noStrike" baseline="-25000">
                      <a:solidFill>
                        <a:srgbClr val="009900"/>
                      </a:solidFill>
                      <a:latin typeface="Times New Roman"/>
                    </a:rPr>
                    <a:t>2</a:t>
                  </a:r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3" name=""/>
                <p:cNvSpPr/>
                <p:nvPr/>
              </p:nvSpPr>
              <p:spPr>
                <a:xfrm>
                  <a:off x="7198200" y="2649240"/>
                  <a:ext cx="554400" cy="78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000" spc="-1" strike="noStrike">
                      <a:solidFill>
                        <a:srgbClr val="800000"/>
                      </a:solidFill>
                      <a:latin typeface="Times New Roman"/>
                    </a:rPr>
                    <a:t>z</a:t>
                  </a:r>
                  <a:r>
                    <a:rPr b="1" lang="en-US" sz="4000" spc="-1" strike="noStrike" baseline="-25000">
                      <a:solidFill>
                        <a:srgbClr val="800000"/>
                      </a:solidFill>
                      <a:latin typeface="Times New Roman"/>
                    </a:rPr>
                    <a:t>3</a:t>
                  </a:r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094" name=""/>
            <p:cNvSpPr/>
            <p:nvPr/>
          </p:nvSpPr>
          <p:spPr>
            <a:xfrm>
              <a:off x="685800" y="1447920"/>
              <a:ext cx="5410080" cy="365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700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lustering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imes New Roman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is a prototyp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imes New Roman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ach document assumed to be noisy instantiation of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on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sour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2" marL="1143000" indent="-22860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elect source with probability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p(z</a:t>
              </a:r>
              <a:r>
                <a:rPr b="0" i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|d</a:t>
              </a:r>
              <a:r>
                <a:rPr b="0" i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j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2" marL="1143000" indent="-22860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elect all terms in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i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j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ccording to selected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i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ustering vs. Factor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6" name=""/>
          <p:cNvGrpSpPr/>
          <p:nvPr/>
        </p:nvGrpSpPr>
        <p:grpSpPr>
          <a:xfrm>
            <a:off x="685800" y="1219320"/>
            <a:ext cx="7770600" cy="3886200"/>
            <a:chOff x="685800" y="1219320"/>
            <a:chExt cx="7770600" cy="3886200"/>
          </a:xfrm>
        </p:grpSpPr>
        <p:sp>
          <p:nvSpPr>
            <p:cNvPr id="1097" name=""/>
            <p:cNvSpPr/>
            <p:nvPr/>
          </p:nvSpPr>
          <p:spPr>
            <a:xfrm>
              <a:off x="685800" y="1447920"/>
              <a:ext cx="5410080" cy="365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700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lustering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imes New Roman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is a prototyp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imes New Roman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ach document assumed to be noisy instantiation of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on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sour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2" marL="1143000" indent="-22860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elect source with probability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p(z</a:t>
              </a:r>
              <a:r>
                <a:rPr b="0" i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|d</a:t>
              </a:r>
              <a:r>
                <a:rPr b="0" i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j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2" marL="1143000" indent="-22860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elect all terms in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i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j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ccording to selected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i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imes New Roman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rrange prototypes to minimize “distance” of data to “nearest”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98" name=""/>
            <p:cNvGrpSpPr/>
            <p:nvPr/>
          </p:nvGrpSpPr>
          <p:grpSpPr>
            <a:xfrm>
              <a:off x="5258160" y="1219320"/>
              <a:ext cx="3198240" cy="2661480"/>
              <a:chOff x="5258160" y="1219320"/>
              <a:chExt cx="3198240" cy="2661480"/>
            </a:xfrm>
          </p:grpSpPr>
          <p:grpSp>
            <p:nvGrpSpPr>
              <p:cNvPr id="1099" name=""/>
              <p:cNvGrpSpPr/>
              <p:nvPr/>
            </p:nvGrpSpPr>
            <p:grpSpPr>
              <a:xfrm>
                <a:off x="5508720" y="1576440"/>
                <a:ext cx="2814120" cy="2067120"/>
                <a:chOff x="5508720" y="1576440"/>
                <a:chExt cx="2814120" cy="2067120"/>
              </a:xfrm>
            </p:grpSpPr>
            <p:grpSp>
              <p:nvGrpSpPr>
                <p:cNvPr id="1100" name=""/>
                <p:cNvGrpSpPr/>
                <p:nvPr/>
              </p:nvGrpSpPr>
              <p:grpSpPr>
                <a:xfrm>
                  <a:off x="5508720" y="2355120"/>
                  <a:ext cx="1638360" cy="1083600"/>
                  <a:chOff x="5508720" y="2355120"/>
                  <a:chExt cx="1638360" cy="1083600"/>
                </a:xfrm>
              </p:grpSpPr>
              <p:sp>
                <p:nvSpPr>
                  <p:cNvPr id="1101" name=""/>
                  <p:cNvSpPr/>
                  <p:nvPr/>
                </p:nvSpPr>
                <p:spPr>
                  <a:xfrm flipV="1">
                    <a:off x="5508720" y="2916720"/>
                    <a:ext cx="767160" cy="240840"/>
                  </a:xfrm>
                  <a:prstGeom prst="line">
                    <a:avLst/>
                  </a:prstGeom>
                  <a:ln w="9360">
                    <a:solidFill>
                      <a:srgbClr val="cc99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2" name=""/>
                  <p:cNvSpPr/>
                  <p:nvPr/>
                </p:nvSpPr>
                <p:spPr>
                  <a:xfrm>
                    <a:off x="5613120" y="2475360"/>
                    <a:ext cx="627480" cy="441720"/>
                  </a:xfrm>
                  <a:prstGeom prst="line">
                    <a:avLst/>
                  </a:prstGeom>
                  <a:ln w="9360">
                    <a:solidFill>
                      <a:srgbClr val="cc99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3" name=""/>
                  <p:cNvSpPr/>
                  <p:nvPr/>
                </p:nvSpPr>
                <p:spPr>
                  <a:xfrm>
                    <a:off x="5648040" y="2716200"/>
                    <a:ext cx="557640" cy="200880"/>
                  </a:xfrm>
                  <a:prstGeom prst="line">
                    <a:avLst/>
                  </a:prstGeom>
                  <a:ln w="9360">
                    <a:solidFill>
                      <a:srgbClr val="cc99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4" name=""/>
                  <p:cNvSpPr/>
                  <p:nvPr/>
                </p:nvSpPr>
                <p:spPr>
                  <a:xfrm flipV="1">
                    <a:off x="6066720" y="2957040"/>
                    <a:ext cx="139320" cy="401400"/>
                  </a:xfrm>
                  <a:prstGeom prst="line">
                    <a:avLst/>
                  </a:prstGeom>
                  <a:ln w="9360">
                    <a:solidFill>
                      <a:srgbClr val="cc99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5" name=""/>
                  <p:cNvSpPr/>
                  <p:nvPr/>
                </p:nvSpPr>
                <p:spPr>
                  <a:xfrm flipH="1" flipV="1">
                    <a:off x="6275520" y="2957400"/>
                    <a:ext cx="243720" cy="321120"/>
                  </a:xfrm>
                  <a:prstGeom prst="line">
                    <a:avLst/>
                  </a:prstGeom>
                  <a:ln w="9360">
                    <a:solidFill>
                      <a:srgbClr val="cc99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6" name=""/>
                  <p:cNvSpPr/>
                  <p:nvPr/>
                </p:nvSpPr>
                <p:spPr>
                  <a:xfrm flipH="1" flipV="1">
                    <a:off x="6310080" y="2997360"/>
                    <a:ext cx="453240" cy="441360"/>
                  </a:xfrm>
                  <a:prstGeom prst="line">
                    <a:avLst/>
                  </a:prstGeom>
                  <a:ln w="9360">
                    <a:solidFill>
                      <a:srgbClr val="cc99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7" name=""/>
                  <p:cNvSpPr/>
                  <p:nvPr/>
                </p:nvSpPr>
                <p:spPr>
                  <a:xfrm flipH="1" flipV="1">
                    <a:off x="6310440" y="2957400"/>
                    <a:ext cx="836640" cy="321120"/>
                  </a:xfrm>
                  <a:prstGeom prst="line">
                    <a:avLst/>
                  </a:prstGeom>
                  <a:ln w="9360">
                    <a:solidFill>
                      <a:srgbClr val="cc99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8" name=""/>
                  <p:cNvSpPr/>
                  <p:nvPr/>
                </p:nvSpPr>
                <p:spPr>
                  <a:xfrm flipH="1">
                    <a:off x="6345360" y="2877120"/>
                    <a:ext cx="592560" cy="39960"/>
                  </a:xfrm>
                  <a:prstGeom prst="line">
                    <a:avLst/>
                  </a:prstGeom>
                  <a:ln w="9360">
                    <a:solidFill>
                      <a:srgbClr val="cc99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840" bIns="-6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9" name=""/>
                  <p:cNvSpPr/>
                  <p:nvPr/>
                </p:nvSpPr>
                <p:spPr>
                  <a:xfrm flipH="1">
                    <a:off x="6275520" y="2676240"/>
                    <a:ext cx="627480" cy="200520"/>
                  </a:xfrm>
                  <a:prstGeom prst="line">
                    <a:avLst/>
                  </a:prstGeom>
                  <a:ln w="9360">
                    <a:solidFill>
                      <a:srgbClr val="cc99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0" name=""/>
                  <p:cNvSpPr/>
                  <p:nvPr/>
                </p:nvSpPr>
                <p:spPr>
                  <a:xfrm flipH="1">
                    <a:off x="6240960" y="2556000"/>
                    <a:ext cx="558000" cy="280800"/>
                  </a:xfrm>
                  <a:prstGeom prst="line">
                    <a:avLst/>
                  </a:prstGeom>
                  <a:ln w="9360">
                    <a:solidFill>
                      <a:srgbClr val="cc99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1" name=""/>
                  <p:cNvSpPr/>
                  <p:nvPr/>
                </p:nvSpPr>
                <p:spPr>
                  <a:xfrm flipH="1">
                    <a:off x="6240600" y="2435400"/>
                    <a:ext cx="139320" cy="361080"/>
                  </a:xfrm>
                  <a:prstGeom prst="line">
                    <a:avLst/>
                  </a:prstGeom>
                  <a:ln w="9360">
                    <a:solidFill>
                      <a:srgbClr val="cc99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2" name=""/>
                  <p:cNvSpPr/>
                  <p:nvPr/>
                </p:nvSpPr>
                <p:spPr>
                  <a:xfrm>
                    <a:off x="6240960" y="2355120"/>
                    <a:ext cx="360" cy="361080"/>
                  </a:xfrm>
                  <a:prstGeom prst="line">
                    <a:avLst/>
                  </a:prstGeom>
                  <a:ln w="9360">
                    <a:solidFill>
                      <a:srgbClr val="cc99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3" name=""/>
                  <p:cNvSpPr/>
                  <p:nvPr/>
                </p:nvSpPr>
                <p:spPr>
                  <a:xfrm>
                    <a:off x="6136200" y="2595960"/>
                    <a:ext cx="104400" cy="160560"/>
                  </a:xfrm>
                  <a:prstGeom prst="line">
                    <a:avLst/>
                  </a:prstGeom>
                  <a:ln w="9360">
                    <a:solidFill>
                      <a:srgbClr val="cc99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14" name=""/>
                <p:cNvGrpSpPr/>
                <p:nvPr/>
              </p:nvGrpSpPr>
              <p:grpSpPr>
                <a:xfrm>
                  <a:off x="6684480" y="2559960"/>
                  <a:ext cx="1638360" cy="1083600"/>
                  <a:chOff x="6684480" y="2559960"/>
                  <a:chExt cx="1638360" cy="1083600"/>
                </a:xfrm>
              </p:grpSpPr>
              <p:sp>
                <p:nvSpPr>
                  <p:cNvPr id="1115" name=""/>
                  <p:cNvSpPr/>
                  <p:nvPr/>
                </p:nvSpPr>
                <p:spPr>
                  <a:xfrm flipV="1">
                    <a:off x="6684480" y="3121560"/>
                    <a:ext cx="767160" cy="240840"/>
                  </a:xfrm>
                  <a:prstGeom prst="line">
                    <a:avLst/>
                  </a:prstGeom>
                  <a:ln w="9360">
                    <a:solidFill>
                      <a:srgbClr val="8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6" name=""/>
                  <p:cNvSpPr/>
                  <p:nvPr/>
                </p:nvSpPr>
                <p:spPr>
                  <a:xfrm>
                    <a:off x="6788880" y="2680200"/>
                    <a:ext cx="627480" cy="441720"/>
                  </a:xfrm>
                  <a:prstGeom prst="line">
                    <a:avLst/>
                  </a:prstGeom>
                  <a:ln w="9360">
                    <a:solidFill>
                      <a:srgbClr val="8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7" name=""/>
                  <p:cNvSpPr/>
                  <p:nvPr/>
                </p:nvSpPr>
                <p:spPr>
                  <a:xfrm>
                    <a:off x="6823800" y="2921040"/>
                    <a:ext cx="557640" cy="200880"/>
                  </a:xfrm>
                  <a:prstGeom prst="line">
                    <a:avLst/>
                  </a:prstGeom>
                  <a:ln w="9360">
                    <a:solidFill>
                      <a:srgbClr val="8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8" name=""/>
                  <p:cNvSpPr/>
                  <p:nvPr/>
                </p:nvSpPr>
                <p:spPr>
                  <a:xfrm flipV="1">
                    <a:off x="7242480" y="3161880"/>
                    <a:ext cx="139320" cy="401400"/>
                  </a:xfrm>
                  <a:prstGeom prst="line">
                    <a:avLst/>
                  </a:prstGeom>
                  <a:ln w="9360">
                    <a:solidFill>
                      <a:srgbClr val="8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9" name=""/>
                  <p:cNvSpPr/>
                  <p:nvPr/>
                </p:nvSpPr>
                <p:spPr>
                  <a:xfrm flipH="1" flipV="1">
                    <a:off x="7451280" y="3162240"/>
                    <a:ext cx="243720" cy="321120"/>
                  </a:xfrm>
                  <a:prstGeom prst="line">
                    <a:avLst/>
                  </a:prstGeom>
                  <a:ln w="9360">
                    <a:solidFill>
                      <a:srgbClr val="8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0" name=""/>
                  <p:cNvSpPr/>
                  <p:nvPr/>
                </p:nvSpPr>
                <p:spPr>
                  <a:xfrm flipH="1" flipV="1">
                    <a:off x="7485840" y="3202200"/>
                    <a:ext cx="453240" cy="441360"/>
                  </a:xfrm>
                  <a:prstGeom prst="line">
                    <a:avLst/>
                  </a:prstGeom>
                  <a:ln w="9360">
                    <a:solidFill>
                      <a:srgbClr val="8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1" name=""/>
                  <p:cNvSpPr/>
                  <p:nvPr/>
                </p:nvSpPr>
                <p:spPr>
                  <a:xfrm flipH="1" flipV="1">
                    <a:off x="7486200" y="3162240"/>
                    <a:ext cx="836640" cy="321120"/>
                  </a:xfrm>
                  <a:prstGeom prst="line">
                    <a:avLst/>
                  </a:prstGeom>
                  <a:ln w="9360">
                    <a:solidFill>
                      <a:srgbClr val="8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2" name=""/>
                  <p:cNvSpPr/>
                  <p:nvPr/>
                </p:nvSpPr>
                <p:spPr>
                  <a:xfrm flipH="1">
                    <a:off x="7521120" y="3081960"/>
                    <a:ext cx="592560" cy="39960"/>
                  </a:xfrm>
                  <a:prstGeom prst="line">
                    <a:avLst/>
                  </a:prstGeom>
                  <a:ln w="9360">
                    <a:solidFill>
                      <a:srgbClr val="8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840" bIns="-6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3" name=""/>
                  <p:cNvSpPr/>
                  <p:nvPr/>
                </p:nvSpPr>
                <p:spPr>
                  <a:xfrm flipH="1">
                    <a:off x="7451280" y="2881080"/>
                    <a:ext cx="627480" cy="200520"/>
                  </a:xfrm>
                  <a:prstGeom prst="line">
                    <a:avLst/>
                  </a:prstGeom>
                  <a:ln w="9360">
                    <a:solidFill>
                      <a:srgbClr val="8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4" name=""/>
                  <p:cNvSpPr/>
                  <p:nvPr/>
                </p:nvSpPr>
                <p:spPr>
                  <a:xfrm flipH="1">
                    <a:off x="7416720" y="2760840"/>
                    <a:ext cx="558000" cy="280800"/>
                  </a:xfrm>
                  <a:prstGeom prst="line">
                    <a:avLst/>
                  </a:prstGeom>
                  <a:ln w="9360">
                    <a:solidFill>
                      <a:srgbClr val="8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5" name=""/>
                  <p:cNvSpPr/>
                  <p:nvPr/>
                </p:nvSpPr>
                <p:spPr>
                  <a:xfrm flipH="1">
                    <a:off x="7416360" y="2640240"/>
                    <a:ext cx="139320" cy="361080"/>
                  </a:xfrm>
                  <a:prstGeom prst="line">
                    <a:avLst/>
                  </a:prstGeom>
                  <a:ln w="9360">
                    <a:solidFill>
                      <a:srgbClr val="8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6" name=""/>
                  <p:cNvSpPr/>
                  <p:nvPr/>
                </p:nvSpPr>
                <p:spPr>
                  <a:xfrm>
                    <a:off x="7416720" y="2559960"/>
                    <a:ext cx="360" cy="361080"/>
                  </a:xfrm>
                  <a:prstGeom prst="line">
                    <a:avLst/>
                  </a:prstGeom>
                  <a:ln w="9360">
                    <a:solidFill>
                      <a:srgbClr val="8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7" name=""/>
                  <p:cNvSpPr/>
                  <p:nvPr/>
                </p:nvSpPr>
                <p:spPr>
                  <a:xfrm>
                    <a:off x="7311960" y="2800800"/>
                    <a:ext cx="104400" cy="160560"/>
                  </a:xfrm>
                  <a:prstGeom prst="line">
                    <a:avLst/>
                  </a:prstGeom>
                  <a:ln w="9360">
                    <a:solidFill>
                      <a:srgbClr val="8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28" name=""/>
                <p:cNvGrpSpPr/>
                <p:nvPr/>
              </p:nvGrpSpPr>
              <p:grpSpPr>
                <a:xfrm>
                  <a:off x="6233400" y="1576440"/>
                  <a:ext cx="1638360" cy="1083600"/>
                  <a:chOff x="6233400" y="1576440"/>
                  <a:chExt cx="1638360" cy="1083600"/>
                </a:xfrm>
              </p:grpSpPr>
              <p:sp>
                <p:nvSpPr>
                  <p:cNvPr id="1129" name=""/>
                  <p:cNvSpPr/>
                  <p:nvPr/>
                </p:nvSpPr>
                <p:spPr>
                  <a:xfrm flipV="1">
                    <a:off x="6233400" y="2138040"/>
                    <a:ext cx="767160" cy="240840"/>
                  </a:xfrm>
                  <a:prstGeom prst="line">
                    <a:avLst/>
                  </a:prstGeom>
                  <a:ln w="9360">
                    <a:solidFill>
                      <a:srgbClr val="0099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0" name=""/>
                  <p:cNvSpPr/>
                  <p:nvPr/>
                </p:nvSpPr>
                <p:spPr>
                  <a:xfrm>
                    <a:off x="6337800" y="1696680"/>
                    <a:ext cx="627480" cy="441720"/>
                  </a:xfrm>
                  <a:prstGeom prst="line">
                    <a:avLst/>
                  </a:prstGeom>
                  <a:ln w="9360">
                    <a:solidFill>
                      <a:srgbClr val="0099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1" name=""/>
                  <p:cNvSpPr/>
                  <p:nvPr/>
                </p:nvSpPr>
                <p:spPr>
                  <a:xfrm>
                    <a:off x="6372720" y="1937520"/>
                    <a:ext cx="557640" cy="200880"/>
                  </a:xfrm>
                  <a:prstGeom prst="line">
                    <a:avLst/>
                  </a:prstGeom>
                  <a:ln w="9360">
                    <a:solidFill>
                      <a:srgbClr val="0099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2" name=""/>
                  <p:cNvSpPr/>
                  <p:nvPr/>
                </p:nvSpPr>
                <p:spPr>
                  <a:xfrm flipV="1">
                    <a:off x="6791400" y="2178360"/>
                    <a:ext cx="139320" cy="401400"/>
                  </a:xfrm>
                  <a:prstGeom prst="line">
                    <a:avLst/>
                  </a:prstGeom>
                  <a:ln w="9360">
                    <a:solidFill>
                      <a:srgbClr val="0099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3" name=""/>
                  <p:cNvSpPr/>
                  <p:nvPr/>
                </p:nvSpPr>
                <p:spPr>
                  <a:xfrm flipH="1" flipV="1">
                    <a:off x="7000200" y="2178720"/>
                    <a:ext cx="243720" cy="321120"/>
                  </a:xfrm>
                  <a:prstGeom prst="line">
                    <a:avLst/>
                  </a:prstGeom>
                  <a:ln w="9360">
                    <a:solidFill>
                      <a:srgbClr val="0099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4" name=""/>
                  <p:cNvSpPr/>
                  <p:nvPr/>
                </p:nvSpPr>
                <p:spPr>
                  <a:xfrm flipH="1" flipV="1">
                    <a:off x="7034760" y="2218680"/>
                    <a:ext cx="453240" cy="441360"/>
                  </a:xfrm>
                  <a:prstGeom prst="line">
                    <a:avLst/>
                  </a:prstGeom>
                  <a:ln w="9360">
                    <a:solidFill>
                      <a:srgbClr val="0099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5" name=""/>
                  <p:cNvSpPr/>
                  <p:nvPr/>
                </p:nvSpPr>
                <p:spPr>
                  <a:xfrm flipH="1" flipV="1">
                    <a:off x="7035120" y="2178720"/>
                    <a:ext cx="836640" cy="321120"/>
                  </a:xfrm>
                  <a:prstGeom prst="line">
                    <a:avLst/>
                  </a:prstGeom>
                  <a:ln w="9360">
                    <a:solidFill>
                      <a:srgbClr val="0099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6" name=""/>
                  <p:cNvSpPr/>
                  <p:nvPr/>
                </p:nvSpPr>
                <p:spPr>
                  <a:xfrm flipH="1">
                    <a:off x="7070040" y="2098440"/>
                    <a:ext cx="592560" cy="39960"/>
                  </a:xfrm>
                  <a:prstGeom prst="line">
                    <a:avLst/>
                  </a:prstGeom>
                  <a:ln w="9360">
                    <a:solidFill>
                      <a:srgbClr val="0099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840" bIns="-6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7" name=""/>
                  <p:cNvSpPr/>
                  <p:nvPr/>
                </p:nvSpPr>
                <p:spPr>
                  <a:xfrm flipH="1">
                    <a:off x="7000200" y="1897560"/>
                    <a:ext cx="627480" cy="200520"/>
                  </a:xfrm>
                  <a:prstGeom prst="line">
                    <a:avLst/>
                  </a:prstGeom>
                  <a:ln w="9360">
                    <a:solidFill>
                      <a:srgbClr val="0099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8" name=""/>
                  <p:cNvSpPr/>
                  <p:nvPr/>
                </p:nvSpPr>
                <p:spPr>
                  <a:xfrm flipH="1">
                    <a:off x="6965640" y="1777320"/>
                    <a:ext cx="558000" cy="280800"/>
                  </a:xfrm>
                  <a:prstGeom prst="line">
                    <a:avLst/>
                  </a:prstGeom>
                  <a:ln w="9360">
                    <a:solidFill>
                      <a:srgbClr val="0099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9" name=""/>
                  <p:cNvSpPr/>
                  <p:nvPr/>
                </p:nvSpPr>
                <p:spPr>
                  <a:xfrm flipH="1">
                    <a:off x="6965280" y="1656720"/>
                    <a:ext cx="139320" cy="361080"/>
                  </a:xfrm>
                  <a:prstGeom prst="line">
                    <a:avLst/>
                  </a:prstGeom>
                  <a:ln w="9360">
                    <a:solidFill>
                      <a:srgbClr val="0099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0" name=""/>
                  <p:cNvSpPr/>
                  <p:nvPr/>
                </p:nvSpPr>
                <p:spPr>
                  <a:xfrm>
                    <a:off x="6965640" y="1576440"/>
                    <a:ext cx="360" cy="361080"/>
                  </a:xfrm>
                  <a:prstGeom prst="line">
                    <a:avLst/>
                  </a:prstGeom>
                  <a:ln w="9360">
                    <a:solidFill>
                      <a:srgbClr val="0099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1" name=""/>
                  <p:cNvSpPr/>
                  <p:nvPr/>
                </p:nvSpPr>
                <p:spPr>
                  <a:xfrm>
                    <a:off x="6860880" y="1817280"/>
                    <a:ext cx="104400" cy="160560"/>
                  </a:xfrm>
                  <a:prstGeom prst="line">
                    <a:avLst/>
                  </a:prstGeom>
                  <a:ln w="9360">
                    <a:solidFill>
                      <a:srgbClr val="0099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142" name=""/>
              <p:cNvGrpSpPr/>
              <p:nvPr/>
            </p:nvGrpSpPr>
            <p:grpSpPr>
              <a:xfrm>
                <a:off x="5258160" y="1219320"/>
                <a:ext cx="3198240" cy="2661480"/>
                <a:chOff x="5258160" y="1219320"/>
                <a:chExt cx="3198240" cy="2661480"/>
              </a:xfrm>
            </p:grpSpPr>
            <p:sp>
              <p:nvSpPr>
                <p:cNvPr id="1143" name=""/>
                <p:cNvSpPr/>
                <p:nvPr/>
              </p:nvSpPr>
              <p:spPr>
                <a:xfrm>
                  <a:off x="6087600" y="254448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cc9900"/>
                      </a:solidFill>
                      <a:latin typeface="Times New Roman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4" name=""/>
                <p:cNvSpPr/>
                <p:nvPr/>
              </p:nvSpPr>
              <p:spPr>
                <a:xfrm>
                  <a:off x="6517080" y="248580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cc9900"/>
                      </a:solidFill>
                      <a:latin typeface="Times New Roman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5" name=""/>
                <p:cNvSpPr/>
                <p:nvPr/>
              </p:nvSpPr>
              <p:spPr>
                <a:xfrm>
                  <a:off x="6616080" y="224136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cc9900"/>
                      </a:solidFill>
                      <a:latin typeface="Times New Roman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6" name=""/>
                <p:cNvSpPr/>
                <p:nvPr/>
              </p:nvSpPr>
              <p:spPr>
                <a:xfrm>
                  <a:off x="6739200" y="236196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cc9900"/>
                      </a:solidFill>
                      <a:latin typeface="Times New Roman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7" name=""/>
                <p:cNvSpPr/>
                <p:nvPr/>
              </p:nvSpPr>
              <p:spPr>
                <a:xfrm>
                  <a:off x="6739200" y="260820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cc9900"/>
                      </a:solidFill>
                      <a:latin typeface="Times New Roman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8" name=""/>
                <p:cNvSpPr/>
                <p:nvPr/>
              </p:nvSpPr>
              <p:spPr>
                <a:xfrm>
                  <a:off x="6579000" y="297324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cc9900"/>
                      </a:solidFill>
                      <a:latin typeface="Times New Roman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9" name=""/>
                <p:cNvSpPr/>
                <p:nvPr/>
              </p:nvSpPr>
              <p:spPr>
                <a:xfrm>
                  <a:off x="5839200" y="315576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cc9900"/>
                      </a:solidFill>
                      <a:latin typeface="Times New Roman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0" name=""/>
                <p:cNvSpPr/>
                <p:nvPr/>
              </p:nvSpPr>
              <p:spPr>
                <a:xfrm>
                  <a:off x="6950520" y="303192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cc9900"/>
                      </a:solidFill>
                      <a:latin typeface="Times New Roman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1" name=""/>
                <p:cNvSpPr/>
                <p:nvPr/>
              </p:nvSpPr>
              <p:spPr>
                <a:xfrm>
                  <a:off x="6739200" y="285120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cc9900"/>
                      </a:solidFill>
                      <a:latin typeface="Times New Roman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2" name=""/>
                <p:cNvSpPr/>
                <p:nvPr/>
              </p:nvSpPr>
              <p:spPr>
                <a:xfrm>
                  <a:off x="6579000" y="321624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cc9900"/>
                      </a:solidFill>
                      <a:latin typeface="Times New Roman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3" name=""/>
                <p:cNvSpPr/>
                <p:nvPr/>
              </p:nvSpPr>
              <p:spPr>
                <a:xfrm>
                  <a:off x="5382000" y="218268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cc9900"/>
                      </a:solidFill>
                      <a:latin typeface="Times New Roman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4" name=""/>
                <p:cNvSpPr/>
                <p:nvPr/>
              </p:nvSpPr>
              <p:spPr>
                <a:xfrm>
                  <a:off x="5751720" y="254628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cc9900"/>
                      </a:solidFill>
                      <a:latin typeface="Times New Roman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5" name=""/>
                <p:cNvSpPr/>
                <p:nvPr/>
              </p:nvSpPr>
              <p:spPr>
                <a:xfrm>
                  <a:off x="5936040" y="224136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cc9900"/>
                      </a:solidFill>
                      <a:latin typeface="Times New Roman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6" name=""/>
                <p:cNvSpPr/>
                <p:nvPr/>
              </p:nvSpPr>
              <p:spPr>
                <a:xfrm>
                  <a:off x="6033600" y="199872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cc9900"/>
                      </a:solidFill>
                      <a:latin typeface="Times New Roman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7" name=""/>
                <p:cNvSpPr/>
                <p:nvPr/>
              </p:nvSpPr>
              <p:spPr>
                <a:xfrm>
                  <a:off x="6160680" y="212220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cc9900"/>
                      </a:solidFill>
                      <a:latin typeface="Times New Roman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8" name=""/>
                <p:cNvSpPr/>
                <p:nvPr/>
              </p:nvSpPr>
              <p:spPr>
                <a:xfrm>
                  <a:off x="5382000" y="242568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cc9900"/>
                      </a:solidFill>
                      <a:latin typeface="Times New Roman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9" name=""/>
                <p:cNvSpPr/>
                <p:nvPr/>
              </p:nvSpPr>
              <p:spPr>
                <a:xfrm>
                  <a:off x="5258160" y="291132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cc9900"/>
                      </a:solidFill>
                      <a:latin typeface="Times New Roman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0" name=""/>
                <p:cNvSpPr/>
                <p:nvPr/>
              </p:nvSpPr>
              <p:spPr>
                <a:xfrm>
                  <a:off x="7138440" y="262872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800000"/>
                      </a:solidFill>
                      <a:latin typeface="Times New Roman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1" name=""/>
                <p:cNvSpPr/>
                <p:nvPr/>
              </p:nvSpPr>
              <p:spPr>
                <a:xfrm>
                  <a:off x="7259760" y="2751120"/>
                  <a:ext cx="184320" cy="45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2" name=""/>
                <p:cNvSpPr/>
                <p:nvPr/>
              </p:nvSpPr>
              <p:spPr>
                <a:xfrm>
                  <a:off x="7691760" y="269244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800000"/>
                      </a:solidFill>
                      <a:latin typeface="Times New Roman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3" name=""/>
                <p:cNvSpPr/>
                <p:nvPr/>
              </p:nvSpPr>
              <p:spPr>
                <a:xfrm>
                  <a:off x="7790040" y="244620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800000"/>
                      </a:solidFill>
                      <a:latin typeface="Times New Roman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4" name=""/>
                <p:cNvSpPr/>
                <p:nvPr/>
              </p:nvSpPr>
              <p:spPr>
                <a:xfrm>
                  <a:off x="7913880" y="256860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800000"/>
                      </a:solidFill>
                      <a:latin typeface="Times New Roman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5" name=""/>
                <p:cNvSpPr/>
                <p:nvPr/>
              </p:nvSpPr>
              <p:spPr>
                <a:xfrm>
                  <a:off x="7913880" y="281304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800000"/>
                      </a:solidFill>
                      <a:latin typeface="Times New Roman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6" name=""/>
                <p:cNvSpPr/>
                <p:nvPr/>
              </p:nvSpPr>
              <p:spPr>
                <a:xfrm>
                  <a:off x="7753680" y="317664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800000"/>
                      </a:solidFill>
                      <a:latin typeface="Times New Roman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7" name=""/>
                <p:cNvSpPr/>
                <p:nvPr/>
              </p:nvSpPr>
              <p:spPr>
                <a:xfrm>
                  <a:off x="7012440" y="336060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800000"/>
                      </a:solidFill>
                      <a:latin typeface="Times New Roman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8" name=""/>
                <p:cNvSpPr/>
                <p:nvPr/>
              </p:nvSpPr>
              <p:spPr>
                <a:xfrm>
                  <a:off x="7505280" y="323676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800000"/>
                      </a:solidFill>
                      <a:latin typeface="Times New Roman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9" name=""/>
                <p:cNvSpPr/>
                <p:nvPr/>
              </p:nvSpPr>
              <p:spPr>
                <a:xfrm>
                  <a:off x="8123400" y="323676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800000"/>
                      </a:solidFill>
                      <a:latin typeface="Times New Roman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0" name=""/>
                <p:cNvSpPr/>
                <p:nvPr/>
              </p:nvSpPr>
              <p:spPr>
                <a:xfrm>
                  <a:off x="7914600" y="305568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800000"/>
                      </a:solidFill>
                      <a:latin typeface="Times New Roman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1" name=""/>
                <p:cNvSpPr/>
                <p:nvPr/>
              </p:nvSpPr>
              <p:spPr>
                <a:xfrm>
                  <a:off x="7753680" y="342108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800000"/>
                      </a:solidFill>
                      <a:latin typeface="Times New Roman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2" name=""/>
                <p:cNvSpPr/>
                <p:nvPr/>
              </p:nvSpPr>
              <p:spPr>
                <a:xfrm>
                  <a:off x="6558120" y="238572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800000"/>
                      </a:solidFill>
                      <a:latin typeface="Times New Roman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3" name=""/>
                <p:cNvSpPr/>
                <p:nvPr/>
              </p:nvSpPr>
              <p:spPr>
                <a:xfrm>
                  <a:off x="7110720" y="244620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800000"/>
                      </a:solidFill>
                      <a:latin typeface="Times New Roman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4" name=""/>
                <p:cNvSpPr/>
                <p:nvPr/>
              </p:nvSpPr>
              <p:spPr>
                <a:xfrm>
                  <a:off x="7209000" y="220176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800000"/>
                      </a:solidFill>
                      <a:latin typeface="Times New Roman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5" name=""/>
                <p:cNvSpPr/>
                <p:nvPr/>
              </p:nvSpPr>
              <p:spPr>
                <a:xfrm>
                  <a:off x="7332840" y="232560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800000"/>
                      </a:solidFill>
                      <a:latin typeface="Times New Roman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6" name=""/>
                <p:cNvSpPr/>
                <p:nvPr/>
              </p:nvSpPr>
              <p:spPr>
                <a:xfrm>
                  <a:off x="6926400" y="299556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800000"/>
                      </a:solidFill>
                      <a:latin typeface="Times New Roman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7" name=""/>
                <p:cNvSpPr/>
                <p:nvPr/>
              </p:nvSpPr>
              <p:spPr>
                <a:xfrm>
                  <a:off x="6901200" y="176508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9900"/>
                      </a:solidFill>
                      <a:latin typeface="Times New Roman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8" name=""/>
                <p:cNvSpPr/>
                <p:nvPr/>
              </p:nvSpPr>
              <p:spPr>
                <a:xfrm>
                  <a:off x="7145640" y="201276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9900"/>
                      </a:solidFill>
                      <a:latin typeface="Times New Roman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9" name=""/>
                <p:cNvSpPr/>
                <p:nvPr/>
              </p:nvSpPr>
              <p:spPr>
                <a:xfrm>
                  <a:off x="7331400" y="170640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9900"/>
                      </a:solidFill>
                      <a:latin typeface="Times New Roman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0" name=""/>
                <p:cNvSpPr/>
                <p:nvPr/>
              </p:nvSpPr>
              <p:spPr>
                <a:xfrm>
                  <a:off x="7429680" y="146196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9900"/>
                      </a:solidFill>
                      <a:latin typeface="Times New Roman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1" name=""/>
                <p:cNvSpPr/>
                <p:nvPr/>
              </p:nvSpPr>
              <p:spPr>
                <a:xfrm>
                  <a:off x="7588440" y="158256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9900"/>
                      </a:solidFill>
                      <a:latin typeface="Times New Roman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2" name=""/>
                <p:cNvSpPr/>
                <p:nvPr/>
              </p:nvSpPr>
              <p:spPr>
                <a:xfrm>
                  <a:off x="7553520" y="182880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9900"/>
                      </a:solidFill>
                      <a:latin typeface="Times New Roman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3" name=""/>
                <p:cNvSpPr/>
                <p:nvPr/>
              </p:nvSpPr>
              <p:spPr>
                <a:xfrm>
                  <a:off x="7393320" y="219384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9900"/>
                      </a:solidFill>
                      <a:latin typeface="Times New Roman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4" name=""/>
                <p:cNvSpPr/>
                <p:nvPr/>
              </p:nvSpPr>
              <p:spPr>
                <a:xfrm>
                  <a:off x="7760880" y="225252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9900"/>
                      </a:solidFill>
                      <a:latin typeface="Times New Roman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5" name=""/>
                <p:cNvSpPr/>
                <p:nvPr/>
              </p:nvSpPr>
              <p:spPr>
                <a:xfrm>
                  <a:off x="7552800" y="207144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9900"/>
                      </a:solidFill>
                      <a:latin typeface="Times New Roman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6" name=""/>
                <p:cNvSpPr/>
                <p:nvPr/>
              </p:nvSpPr>
              <p:spPr>
                <a:xfrm>
                  <a:off x="6196320" y="140148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9900"/>
                      </a:solidFill>
                      <a:latin typeface="Times New Roman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7" name=""/>
                <p:cNvSpPr/>
                <p:nvPr/>
              </p:nvSpPr>
              <p:spPr>
                <a:xfrm>
                  <a:off x="6320160" y="152388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9900"/>
                      </a:solidFill>
                      <a:latin typeface="Times New Roman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8" name=""/>
                <p:cNvSpPr/>
                <p:nvPr/>
              </p:nvSpPr>
              <p:spPr>
                <a:xfrm>
                  <a:off x="6320160" y="176508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9900"/>
                      </a:solidFill>
                      <a:latin typeface="Times New Roman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9" name=""/>
                <p:cNvSpPr/>
                <p:nvPr/>
              </p:nvSpPr>
              <p:spPr>
                <a:xfrm>
                  <a:off x="6848640" y="121932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9900"/>
                      </a:solidFill>
                      <a:latin typeface="Times New Roman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0" name=""/>
                <p:cNvSpPr/>
                <p:nvPr/>
              </p:nvSpPr>
              <p:spPr>
                <a:xfrm>
                  <a:off x="6971040" y="134136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9900"/>
                      </a:solidFill>
                      <a:latin typeface="Times New Roman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1" name=""/>
                <p:cNvSpPr/>
                <p:nvPr/>
              </p:nvSpPr>
              <p:spPr>
                <a:xfrm>
                  <a:off x="6073200" y="213192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9900"/>
                      </a:solidFill>
                      <a:latin typeface="Times New Roman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2" name=""/>
                <p:cNvSpPr/>
                <p:nvPr/>
              </p:nvSpPr>
              <p:spPr>
                <a:xfrm>
                  <a:off x="6566040" y="201276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9900"/>
                      </a:solidFill>
                      <a:latin typeface="Times New Roman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193" name=""/>
          <p:cNvGrpSpPr/>
          <p:nvPr/>
        </p:nvGrpSpPr>
        <p:grpSpPr>
          <a:xfrm>
            <a:off x="685800" y="1447920"/>
            <a:ext cx="7072920" cy="1988640"/>
            <a:chOff x="685800" y="1447920"/>
            <a:chExt cx="7072920" cy="1988640"/>
          </a:xfrm>
        </p:grpSpPr>
        <p:grpSp>
          <p:nvGrpSpPr>
            <p:cNvPr id="1194" name=""/>
            <p:cNvGrpSpPr/>
            <p:nvPr/>
          </p:nvGrpSpPr>
          <p:grpSpPr>
            <a:xfrm>
              <a:off x="6039000" y="1676520"/>
              <a:ext cx="1719720" cy="1760040"/>
              <a:chOff x="6039000" y="1676520"/>
              <a:chExt cx="1719720" cy="1760040"/>
            </a:xfrm>
          </p:grpSpPr>
          <p:sp>
            <p:nvSpPr>
              <p:cNvPr id="1195" name=""/>
              <p:cNvSpPr/>
              <p:nvPr/>
            </p:nvSpPr>
            <p:spPr>
              <a:xfrm>
                <a:off x="6039000" y="2473200"/>
                <a:ext cx="554400" cy="78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cc9900"/>
                    </a:solidFill>
                    <a:latin typeface="Times New Roman"/>
                  </a:rPr>
                  <a:t>z</a:t>
                </a:r>
                <a:r>
                  <a:rPr b="1" lang="en-US" sz="4000" spc="-1" strike="noStrike" baseline="-25000">
                    <a:solidFill>
                      <a:srgbClr val="cc9900"/>
                    </a:solidFill>
                    <a:latin typeface="Times New Roman"/>
                  </a:rPr>
                  <a:t>1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>
                <a:off x="6756840" y="1676520"/>
                <a:ext cx="554400" cy="78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009900"/>
                    </a:solidFill>
                    <a:latin typeface="Times New Roman"/>
                  </a:rPr>
                  <a:t>z</a:t>
                </a:r>
                <a:r>
                  <a:rPr b="1" lang="en-US" sz="4000" spc="-1" strike="noStrike" baseline="-25000">
                    <a:solidFill>
                      <a:srgbClr val="009900"/>
                    </a:solidFill>
                    <a:latin typeface="Times New Roman"/>
                  </a:rPr>
                  <a:t>2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>
                <a:off x="7204320" y="2649240"/>
                <a:ext cx="554400" cy="78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800000"/>
                    </a:solidFill>
                    <a:latin typeface="Times New Roman"/>
                  </a:rPr>
                  <a:t>z</a:t>
                </a:r>
                <a:r>
                  <a:rPr b="1" lang="en-US" sz="4000" spc="-1" strike="noStrike" baseline="-25000">
                    <a:solidFill>
                      <a:srgbClr val="800000"/>
                    </a:solidFill>
                    <a:latin typeface="Times New Roman"/>
                  </a:rPr>
                  <a:t>3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98" name=""/>
            <p:cNvSpPr/>
            <p:nvPr/>
          </p:nvSpPr>
          <p:spPr>
            <a:xfrm>
              <a:off x="685800" y="1447920"/>
              <a:ext cx="541008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700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lustering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imes New Roman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is a prototyp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685800" y="6552720"/>
            <a:ext cx="3200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7000"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anipulating stru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kay we’ve got structure - what if it doesn’t match the model inside our hea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ustering, bibliometric analysis are unsupervi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lude some prior that may not match our ow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95444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approach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beled exam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pervised learning - absolute specification of catego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tra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mi-supervised learning - relationships of examp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ructure as “art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bels and structure are frequently hard to gener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re should I file this email about phytoplankton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sier to criticize than to constru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at document doe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belong in this cluster!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ms of criticis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me/different clus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od/bad clu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re/less detail (here/everywhere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y, many other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mi-supervised lear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mi-supervised learn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rive 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user criticize 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rive new structure that accommodates user critic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6" name="constrain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7569360" cy="24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mi-supervised learning - re-cluster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, using mixture of multinomi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separation constraints at rand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term reweighting, warping metric space to enforce constra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is it so powerfu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query b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unterexampl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[Angluin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r only adds constraint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where something’s brok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9" name="purity" descr=""/>
          <p:cNvPicPr/>
          <p:nvPr/>
        </p:nvPicPr>
        <p:blipFill>
          <a:blip r:embed="rId1"/>
          <a:stretch/>
        </p:blipFill>
        <p:spPr>
          <a:xfrm>
            <a:off x="4724280" y="3067200"/>
            <a:ext cx="4184640" cy="34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mi-supervised learning - realigning topics and authori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document set, may disagree with statistics on principal topics, author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nt to give feedback to “correct” the stat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TS 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 feedback to realig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ncipal eigenvec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k matrix reweighting b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dient des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2" name=""/>
          <p:cNvGrpSpPr/>
          <p:nvPr/>
        </p:nvGrpSpPr>
        <p:grpSpPr>
          <a:xfrm>
            <a:off x="5410080" y="3117240"/>
            <a:ext cx="3006720" cy="3207240"/>
            <a:chOff x="5410080" y="3117240"/>
            <a:chExt cx="3006720" cy="3207240"/>
          </a:xfrm>
        </p:grpSpPr>
        <p:pic>
          <p:nvPicPr>
            <p:cNvPr id="1213" name="lift-fig" descr=""/>
            <p:cNvPicPr/>
            <p:nvPr/>
          </p:nvPicPr>
          <p:blipFill>
            <a:blip r:embed="rId1"/>
            <a:stretch/>
          </p:blipFill>
          <p:spPr>
            <a:xfrm>
              <a:off x="5410080" y="3276720"/>
              <a:ext cx="3006720" cy="304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4" name=""/>
            <p:cNvSpPr/>
            <p:nvPr/>
          </p:nvSpPr>
          <p:spPr>
            <a:xfrm rot="22800">
              <a:off x="5790960" y="3117600"/>
              <a:ext cx="1839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5" name=""/>
          <p:cNvSpPr/>
          <p:nvPr/>
        </p:nvSpPr>
        <p:spPr>
          <a:xfrm>
            <a:off x="5796000" y="3124080"/>
            <a:ext cx="181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riginal eigenv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rn the structure of a document collection us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nsupervised lear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actor analysis/latent variable modeling to identify and map out latent structure in document 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i-supervised lear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adapt structure to match user’s perception of wor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veat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ry Big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rning: work in progres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idea what user interface should 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50000"/>
              </a:lnSpc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few pieces of the large jigsaw puzzle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85800" y="1600200"/>
            <a:ext cx="77724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Times New Roman"/>
              </a:rPr>
              <a:t>Learn the structure of a document collection us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nsupervised lear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actor analysis/latent variable modeling to identify and map out latent structure in document 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semi-supervised lear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to adapt structure to match user’s perception of wor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Times New Roman"/>
              </a:rPr>
              <a:t>Caveat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Times New Roman"/>
              </a:rPr>
              <a:t>Very Big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Times New Roman"/>
              </a:rPr>
              <a:t>Warning: work in progres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Times New Roman"/>
              </a:rPr>
              <a:t>No idea what user interface should 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50000"/>
              </a:lnSpc>
              <a:spcBef>
                <a:spcPts val="400"/>
              </a:spcBef>
              <a:buClr>
                <a:srgbClr val="ccccff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ccff"/>
                </a:solidFill>
                <a:latin typeface="Times New Roman"/>
              </a:rPr>
              <a:t>A few pieces of the large jigsaw puzzle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title"/>
          </p:nvPr>
        </p:nvSpPr>
        <p:spPr>
          <a:xfrm>
            <a:off x="6858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at are we going to do about it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bigtriangle" descr=""/>
          <p:cNvPicPr/>
          <p:nvPr/>
        </p:nvPicPr>
        <p:blipFill>
          <a:blip r:embed="rId1"/>
          <a:stretch/>
        </p:blipFill>
        <p:spPr>
          <a:xfrm>
            <a:off x="6384960" y="4305240"/>
            <a:ext cx="1006560" cy="10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mi-supervised learning - realigning topics and authori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: learning “what’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eall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mportant in my field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ft” authoritative documents in one subfield, see how others rea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hesion of subfie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tomatically creating customized authority li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ft” things you’ve cited/browsed, see what else is considered interes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8" name=""/>
          <p:cNvGrpSpPr/>
          <p:nvPr/>
        </p:nvGrpSpPr>
        <p:grpSpPr>
          <a:xfrm>
            <a:off x="2286000" y="3352680"/>
            <a:ext cx="4400280" cy="1766880"/>
            <a:chOff x="2286000" y="3352680"/>
            <a:chExt cx="4400280" cy="1766880"/>
          </a:xfrm>
        </p:grpSpPr>
        <p:pic>
          <p:nvPicPr>
            <p:cNvPr id="1219" name="genetic20random" descr=""/>
            <p:cNvPicPr/>
            <p:nvPr/>
          </p:nvPicPr>
          <p:blipFill>
            <a:blip r:embed="rId1"/>
            <a:stretch/>
          </p:blipFill>
          <p:spPr>
            <a:xfrm>
              <a:off x="4566960" y="3359160"/>
              <a:ext cx="2119320" cy="175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0" name="rl20random" descr=""/>
            <p:cNvPicPr/>
            <p:nvPr/>
          </p:nvPicPr>
          <p:blipFill>
            <a:blip r:embed="rId2"/>
            <a:stretch/>
          </p:blipFill>
          <p:spPr>
            <a:xfrm>
              <a:off x="2286000" y="3352680"/>
              <a:ext cx="2139840" cy="1766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xt analysis background – structure from document cont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ctor space models, LSA, PL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ctoring vs. clust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bliometrics – structure from document conne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rything old is new again: ACA, H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abilistic bibliometr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tting it all toge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joint probabilistic model for document content and conne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we can do with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685800" y="1447920"/>
            <a:ext cx="58672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gin with vector space representation of document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word/phrase in vocabular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ssigned term i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...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|V|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documen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presented as vector of (weighted) counts of te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rpus represented as term-by-document matrix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Quick introduction to text model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6631200" y="1625760"/>
            <a:ext cx="2209320" cy="3707280"/>
            <a:chOff x="6631200" y="1625760"/>
            <a:chExt cx="2209320" cy="3707280"/>
          </a:xfrm>
        </p:grpSpPr>
        <p:sp>
          <p:nvSpPr>
            <p:cNvPr id="64" name=""/>
            <p:cNvSpPr/>
            <p:nvPr/>
          </p:nvSpPr>
          <p:spPr>
            <a:xfrm>
              <a:off x="6673680" y="1758960"/>
              <a:ext cx="520920" cy="4255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5" name=""/>
            <p:cNvGrpSpPr/>
            <p:nvPr/>
          </p:nvGrpSpPr>
          <p:grpSpPr>
            <a:xfrm>
              <a:off x="6631200" y="1625760"/>
              <a:ext cx="2209320" cy="3707280"/>
              <a:chOff x="6631200" y="1625760"/>
              <a:chExt cx="2209320" cy="3707280"/>
            </a:xfrm>
          </p:grpSpPr>
          <p:grpSp>
            <p:nvGrpSpPr>
              <p:cNvPr id="66" name=""/>
              <p:cNvGrpSpPr/>
              <p:nvPr/>
            </p:nvGrpSpPr>
            <p:grpSpPr>
              <a:xfrm>
                <a:off x="7146720" y="1625760"/>
                <a:ext cx="458640" cy="3700800"/>
                <a:chOff x="7146720" y="1625760"/>
                <a:chExt cx="458640" cy="3700800"/>
              </a:xfrm>
            </p:grpSpPr>
            <p:sp>
              <p:nvSpPr>
                <p:cNvPr id="67" name=""/>
                <p:cNvSpPr/>
                <p:nvPr/>
              </p:nvSpPr>
              <p:spPr>
                <a:xfrm>
                  <a:off x="7194240" y="1769760"/>
                  <a:ext cx="411120" cy="35568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>
                  <a:off x="7146720" y="1625760"/>
                  <a:ext cx="42156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d</a:t>
                  </a:r>
                  <a:r>
                    <a:rPr b="0" i="1" lang="en-US" sz="24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" name=""/>
              <p:cNvGrpSpPr/>
              <p:nvPr/>
            </p:nvGrpSpPr>
            <p:grpSpPr>
              <a:xfrm>
                <a:off x="7548840" y="1631880"/>
                <a:ext cx="459360" cy="3698640"/>
                <a:chOff x="7548840" y="1631880"/>
                <a:chExt cx="459360" cy="3698640"/>
              </a:xfrm>
            </p:grpSpPr>
            <p:sp>
              <p:nvSpPr>
                <p:cNvPr id="70" name=""/>
                <p:cNvSpPr/>
                <p:nvPr/>
              </p:nvSpPr>
              <p:spPr>
                <a:xfrm>
                  <a:off x="7597080" y="1773720"/>
                  <a:ext cx="411120" cy="35568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7548840" y="1631880"/>
                  <a:ext cx="42156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d</a:t>
                  </a:r>
                  <a:r>
                    <a:rPr b="0" i="1" lang="en-US" sz="24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" name=""/>
              <p:cNvGrpSpPr/>
              <p:nvPr/>
            </p:nvGrpSpPr>
            <p:grpSpPr>
              <a:xfrm>
                <a:off x="7957080" y="1631880"/>
                <a:ext cx="465120" cy="3698640"/>
                <a:chOff x="7957080" y="1631880"/>
                <a:chExt cx="465120" cy="3698640"/>
              </a:xfrm>
            </p:grpSpPr>
            <p:sp>
              <p:nvSpPr>
                <p:cNvPr id="73" name=""/>
                <p:cNvSpPr/>
                <p:nvPr/>
              </p:nvSpPr>
              <p:spPr>
                <a:xfrm>
                  <a:off x="8011440" y="1773720"/>
                  <a:ext cx="410760" cy="35568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>
                  <a:off x="7957080" y="1631880"/>
                  <a:ext cx="409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...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" name=""/>
              <p:cNvGrpSpPr/>
              <p:nvPr/>
            </p:nvGrpSpPr>
            <p:grpSpPr>
              <a:xfrm>
                <a:off x="8379360" y="1631880"/>
                <a:ext cx="461160" cy="3698640"/>
                <a:chOff x="8379360" y="1631880"/>
                <a:chExt cx="461160" cy="3698640"/>
              </a:xfrm>
            </p:grpSpPr>
            <p:sp>
              <p:nvSpPr>
                <p:cNvPr id="76" name=""/>
                <p:cNvSpPr/>
                <p:nvPr/>
              </p:nvSpPr>
              <p:spPr>
                <a:xfrm>
                  <a:off x="8425080" y="1773720"/>
                  <a:ext cx="411120" cy="35568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8379360" y="1631880"/>
                  <a:ext cx="46116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d</a:t>
                  </a:r>
                  <a:r>
                    <a:rPr b="0" i="1" lang="en-US" sz="24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m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" name=""/>
              <p:cNvGrpSpPr/>
              <p:nvPr/>
            </p:nvGrpSpPr>
            <p:grpSpPr>
              <a:xfrm>
                <a:off x="6638040" y="1987920"/>
                <a:ext cx="2191680" cy="553680"/>
                <a:chOff x="6638040" y="1987920"/>
                <a:chExt cx="2191680" cy="553680"/>
              </a:xfrm>
            </p:grpSpPr>
            <p:sp>
              <p:nvSpPr>
                <p:cNvPr id="79" name=""/>
                <p:cNvSpPr/>
                <p:nvPr/>
              </p:nvSpPr>
              <p:spPr>
                <a:xfrm>
                  <a:off x="6672240" y="2190600"/>
                  <a:ext cx="2157480" cy="3510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" name=""/>
                <p:cNvSpPr/>
                <p:nvPr/>
              </p:nvSpPr>
              <p:spPr>
                <a:xfrm>
                  <a:off x="6638040" y="1987920"/>
                  <a:ext cx="35460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t</a:t>
                  </a:r>
                  <a:r>
                    <a:rPr b="0" i="1" lang="en-US" sz="24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" name=""/>
              <p:cNvGrpSpPr/>
              <p:nvPr/>
            </p:nvGrpSpPr>
            <p:grpSpPr>
              <a:xfrm>
                <a:off x="6636960" y="2332440"/>
                <a:ext cx="2190960" cy="556200"/>
                <a:chOff x="6636960" y="2332440"/>
                <a:chExt cx="2190960" cy="556200"/>
              </a:xfrm>
            </p:grpSpPr>
            <p:sp>
              <p:nvSpPr>
                <p:cNvPr id="82" name=""/>
                <p:cNvSpPr/>
                <p:nvPr/>
              </p:nvSpPr>
              <p:spPr>
                <a:xfrm>
                  <a:off x="6670440" y="2537640"/>
                  <a:ext cx="2157480" cy="3510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>
                  <a:off x="6636960" y="2332440"/>
                  <a:ext cx="35460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t</a:t>
                  </a:r>
                  <a:r>
                    <a:rPr b="0" i="1" lang="en-US" sz="24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4" name=""/>
              <p:cNvGrpSpPr/>
              <p:nvPr/>
            </p:nvGrpSpPr>
            <p:grpSpPr>
              <a:xfrm>
                <a:off x="6638040" y="2682000"/>
                <a:ext cx="2191680" cy="553680"/>
                <a:chOff x="6638040" y="2682000"/>
                <a:chExt cx="2191680" cy="553680"/>
              </a:xfrm>
            </p:grpSpPr>
            <p:sp>
              <p:nvSpPr>
                <p:cNvPr id="85" name=""/>
                <p:cNvSpPr/>
                <p:nvPr/>
              </p:nvSpPr>
              <p:spPr>
                <a:xfrm>
                  <a:off x="6672240" y="2884680"/>
                  <a:ext cx="2157480" cy="3510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>
                  <a:off x="6638040" y="2682000"/>
                  <a:ext cx="35460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t</a:t>
                  </a:r>
                  <a:r>
                    <a:rPr b="0" i="1" lang="en-US" sz="24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" name=""/>
              <p:cNvGrpSpPr/>
              <p:nvPr/>
            </p:nvGrpSpPr>
            <p:grpSpPr>
              <a:xfrm>
                <a:off x="6638040" y="3035160"/>
                <a:ext cx="2191680" cy="553680"/>
                <a:chOff x="6638040" y="3035160"/>
                <a:chExt cx="2191680" cy="553680"/>
              </a:xfrm>
            </p:grpSpPr>
            <p:sp>
              <p:nvSpPr>
                <p:cNvPr id="88" name=""/>
                <p:cNvSpPr/>
                <p:nvPr/>
              </p:nvSpPr>
              <p:spPr>
                <a:xfrm>
                  <a:off x="6672240" y="3237840"/>
                  <a:ext cx="2157480" cy="3510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>
                  <a:off x="6638040" y="3035160"/>
                  <a:ext cx="35460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t</a:t>
                  </a:r>
                  <a:r>
                    <a:rPr b="0" i="1" lang="en-US" sz="24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4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" name=""/>
              <p:cNvGrpSpPr/>
              <p:nvPr/>
            </p:nvGrpSpPr>
            <p:grpSpPr>
              <a:xfrm>
                <a:off x="6638040" y="3386520"/>
                <a:ext cx="2191680" cy="553680"/>
                <a:chOff x="6638040" y="3386520"/>
                <a:chExt cx="2191680" cy="553680"/>
              </a:xfrm>
            </p:grpSpPr>
            <p:sp>
              <p:nvSpPr>
                <p:cNvPr id="91" name=""/>
                <p:cNvSpPr/>
                <p:nvPr/>
              </p:nvSpPr>
              <p:spPr>
                <a:xfrm>
                  <a:off x="6672240" y="3589200"/>
                  <a:ext cx="2157480" cy="3510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>
                  <a:off x="6638040" y="3386520"/>
                  <a:ext cx="35460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t</a:t>
                  </a:r>
                  <a:r>
                    <a:rPr b="0" i="1" lang="en-US" sz="24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5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3" name=""/>
              <p:cNvGrpSpPr/>
              <p:nvPr/>
            </p:nvGrpSpPr>
            <p:grpSpPr>
              <a:xfrm>
                <a:off x="6638040" y="3736080"/>
                <a:ext cx="2191680" cy="555480"/>
                <a:chOff x="6638040" y="3736080"/>
                <a:chExt cx="2191680" cy="555480"/>
              </a:xfrm>
            </p:grpSpPr>
            <p:sp>
              <p:nvSpPr>
                <p:cNvPr id="94" name=""/>
                <p:cNvSpPr/>
                <p:nvPr/>
              </p:nvSpPr>
              <p:spPr>
                <a:xfrm>
                  <a:off x="6672240" y="3940920"/>
                  <a:ext cx="2157480" cy="3506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>
                  <a:off x="6638040" y="3736080"/>
                  <a:ext cx="35460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t</a:t>
                  </a:r>
                  <a:r>
                    <a:rPr b="0" i="1" lang="en-US" sz="24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6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" name=""/>
              <p:cNvGrpSpPr/>
              <p:nvPr/>
            </p:nvGrpSpPr>
            <p:grpSpPr>
              <a:xfrm>
                <a:off x="6632280" y="4089600"/>
                <a:ext cx="2197440" cy="553680"/>
                <a:chOff x="6632280" y="4089600"/>
                <a:chExt cx="2197440" cy="553680"/>
              </a:xfrm>
            </p:grpSpPr>
            <p:sp>
              <p:nvSpPr>
                <p:cNvPr id="97" name=""/>
                <p:cNvSpPr/>
                <p:nvPr/>
              </p:nvSpPr>
              <p:spPr>
                <a:xfrm>
                  <a:off x="6672240" y="4292280"/>
                  <a:ext cx="2157480" cy="3510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>
                  <a:off x="6632280" y="4089600"/>
                  <a:ext cx="409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...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" name=""/>
              <p:cNvGrpSpPr/>
              <p:nvPr/>
            </p:nvGrpSpPr>
            <p:grpSpPr>
              <a:xfrm>
                <a:off x="6631200" y="4434480"/>
                <a:ext cx="2198520" cy="553680"/>
                <a:chOff x="6631200" y="4434480"/>
                <a:chExt cx="2198520" cy="553680"/>
              </a:xfrm>
            </p:grpSpPr>
            <p:sp>
              <p:nvSpPr>
                <p:cNvPr id="100" name=""/>
                <p:cNvSpPr/>
                <p:nvPr/>
              </p:nvSpPr>
              <p:spPr>
                <a:xfrm>
                  <a:off x="6672240" y="4637160"/>
                  <a:ext cx="2157480" cy="3510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>
                  <a:off x="6631200" y="4434480"/>
                  <a:ext cx="183960" cy="45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2" name=""/>
              <p:cNvGrpSpPr/>
              <p:nvPr/>
            </p:nvGrpSpPr>
            <p:grpSpPr>
              <a:xfrm>
                <a:off x="6638040" y="4776840"/>
                <a:ext cx="2191680" cy="556200"/>
                <a:chOff x="6638040" y="4776840"/>
                <a:chExt cx="2191680" cy="556200"/>
              </a:xfrm>
            </p:grpSpPr>
            <p:sp>
              <p:nvSpPr>
                <p:cNvPr id="103" name=""/>
                <p:cNvSpPr/>
                <p:nvPr/>
              </p:nvSpPr>
              <p:spPr>
                <a:xfrm>
                  <a:off x="6672240" y="4982040"/>
                  <a:ext cx="2157480" cy="3510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6638040" y="4776840"/>
                  <a:ext cx="34380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t</a:t>
                  </a:r>
                  <a:r>
                    <a:rPr b="0" i="1" lang="en-US" sz="24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v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5" name=""/>
              <p:cNvGrpSpPr/>
              <p:nvPr/>
            </p:nvGrpSpPr>
            <p:grpSpPr>
              <a:xfrm>
                <a:off x="7183800" y="2101320"/>
                <a:ext cx="311040" cy="3197160"/>
                <a:chOff x="7183800" y="2101320"/>
                <a:chExt cx="311040" cy="319716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7185960" y="2101320"/>
                  <a:ext cx="3088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7185960" y="2435040"/>
                  <a:ext cx="3088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7185960" y="2812680"/>
                  <a:ext cx="3088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7183800" y="3146760"/>
                  <a:ext cx="3088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7185960" y="3498480"/>
                  <a:ext cx="3088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7183800" y="3830040"/>
                  <a:ext cx="3088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7183800" y="4207680"/>
                  <a:ext cx="3088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183800" y="4541040"/>
                  <a:ext cx="3088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7185960" y="4899600"/>
                  <a:ext cx="3088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5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5" name=""/>
              <p:cNvGrpSpPr/>
              <p:nvPr/>
            </p:nvGrpSpPr>
            <p:grpSpPr>
              <a:xfrm>
                <a:off x="7605000" y="2098800"/>
                <a:ext cx="309960" cy="3196440"/>
                <a:chOff x="7605000" y="2098800"/>
                <a:chExt cx="309960" cy="3196440"/>
              </a:xfrm>
            </p:grpSpPr>
            <p:sp>
              <p:nvSpPr>
                <p:cNvPr id="116" name=""/>
                <p:cNvSpPr/>
                <p:nvPr/>
              </p:nvSpPr>
              <p:spPr>
                <a:xfrm>
                  <a:off x="7606080" y="2098800"/>
                  <a:ext cx="3088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7606080" y="2432520"/>
                  <a:ext cx="3088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7606080" y="2810160"/>
                  <a:ext cx="3088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7605000" y="3143880"/>
                  <a:ext cx="3088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7606080" y="3493440"/>
                  <a:ext cx="3088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7605000" y="3829320"/>
                  <a:ext cx="3088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7605000" y="4205160"/>
                  <a:ext cx="3088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7605000" y="4538520"/>
                  <a:ext cx="3088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7606080" y="4896360"/>
                  <a:ext cx="3088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5" name=""/>
              <p:cNvGrpSpPr/>
              <p:nvPr/>
            </p:nvGrpSpPr>
            <p:grpSpPr>
              <a:xfrm>
                <a:off x="8031960" y="2101320"/>
                <a:ext cx="309960" cy="3197160"/>
                <a:chOff x="8031960" y="2101320"/>
                <a:chExt cx="309960" cy="3197160"/>
              </a:xfrm>
            </p:grpSpPr>
            <p:sp>
              <p:nvSpPr>
                <p:cNvPr id="126" name=""/>
                <p:cNvSpPr/>
                <p:nvPr/>
              </p:nvSpPr>
              <p:spPr>
                <a:xfrm>
                  <a:off x="8033040" y="2101320"/>
                  <a:ext cx="3088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4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8033040" y="2435040"/>
                  <a:ext cx="3088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033040" y="2812680"/>
                  <a:ext cx="3088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8031960" y="3146760"/>
                  <a:ext cx="3088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8033040" y="3498480"/>
                  <a:ext cx="3088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8031960" y="3830040"/>
                  <a:ext cx="3088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8031960" y="4207680"/>
                  <a:ext cx="3088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8031960" y="4539240"/>
                  <a:ext cx="3088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8033040" y="4899600"/>
                  <a:ext cx="3088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" name=""/>
              <p:cNvGrpSpPr/>
              <p:nvPr/>
            </p:nvGrpSpPr>
            <p:grpSpPr>
              <a:xfrm>
                <a:off x="8451360" y="2101320"/>
                <a:ext cx="309600" cy="3196440"/>
                <a:chOff x="8451360" y="2101320"/>
                <a:chExt cx="309600" cy="319644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8452080" y="2101320"/>
                  <a:ext cx="3088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8452080" y="2435040"/>
                  <a:ext cx="3088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8452080" y="2812680"/>
                  <a:ext cx="3088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8451360" y="3146400"/>
                  <a:ext cx="3088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8452080" y="3497760"/>
                  <a:ext cx="3088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4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8451360" y="3830040"/>
                  <a:ext cx="3088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451360" y="4207680"/>
                  <a:ext cx="3088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8451360" y="4539240"/>
                  <a:ext cx="3088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8452080" y="4898880"/>
                  <a:ext cx="3088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45" name=""/>
            <p:cNvSpPr/>
            <p:nvPr/>
          </p:nvSpPr>
          <p:spPr>
            <a:xfrm>
              <a:off x="6701040" y="17524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tistical text model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7467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compute raw statistical properties of corp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for retrieval, clustering, class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612800" y="2556000"/>
            <a:ext cx="5765760" cy="3998160"/>
            <a:chOff x="1612800" y="2556000"/>
            <a:chExt cx="5765760" cy="3998160"/>
          </a:xfrm>
        </p:grpSpPr>
        <p:grpSp>
          <p:nvGrpSpPr>
            <p:cNvPr id="149" name=""/>
            <p:cNvGrpSpPr/>
            <p:nvPr/>
          </p:nvGrpSpPr>
          <p:grpSpPr>
            <a:xfrm>
              <a:off x="1981080" y="2556000"/>
              <a:ext cx="5105520" cy="3177360"/>
              <a:chOff x="1981080" y="2556000"/>
              <a:chExt cx="5105520" cy="3177360"/>
            </a:xfrm>
          </p:grpSpPr>
          <p:grpSp>
            <p:nvGrpSpPr>
              <p:cNvPr id="150" name=""/>
              <p:cNvGrpSpPr/>
              <p:nvPr/>
            </p:nvGrpSpPr>
            <p:grpSpPr>
              <a:xfrm>
                <a:off x="2209320" y="2860920"/>
                <a:ext cx="4572360" cy="2743200"/>
                <a:chOff x="2209320" y="2860920"/>
                <a:chExt cx="4572360" cy="274320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2286000" y="2860920"/>
                  <a:ext cx="4495680" cy="609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2286000" y="3241800"/>
                  <a:ext cx="449568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2286000" y="3546720"/>
                  <a:ext cx="4495680" cy="609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2286000" y="3927600"/>
                  <a:ext cx="449568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2286000" y="4384800"/>
                  <a:ext cx="449568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flipH="1">
                  <a:off x="2209320" y="3470400"/>
                  <a:ext cx="449604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 flipH="1">
                  <a:off x="2209320" y="3851640"/>
                  <a:ext cx="4496040" cy="609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 flipH="1">
                  <a:off x="2209320" y="4156200"/>
                  <a:ext cx="449604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 flipH="1">
                  <a:off x="2209320" y="4537440"/>
                  <a:ext cx="4496040" cy="609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2209320" y="4994640"/>
                  <a:ext cx="4496040" cy="609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2286000" y="2860920"/>
                  <a:ext cx="4419720" cy="990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2286000" y="3165840"/>
                  <a:ext cx="4419720" cy="990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2286000" y="3546720"/>
                  <a:ext cx="4419720" cy="990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362320" y="4003920"/>
                  <a:ext cx="4419360" cy="990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 flipH="1">
                  <a:off x="2362320" y="3470400"/>
                  <a:ext cx="4419360" cy="990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 flipH="1">
                  <a:off x="2285640" y="3851640"/>
                  <a:ext cx="4419720" cy="990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 flipH="1">
                  <a:off x="2362320" y="4156200"/>
                  <a:ext cx="4419360" cy="990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 flipH="1">
                  <a:off x="2285640" y="4537440"/>
                  <a:ext cx="4419720" cy="990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2286000" y="3241800"/>
                  <a:ext cx="441972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2286000" y="3546720"/>
                  <a:ext cx="441972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2362320" y="3927600"/>
                  <a:ext cx="441936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2286000" y="4308840"/>
                  <a:ext cx="441972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2362320" y="4766040"/>
                  <a:ext cx="441936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 flipH="1">
                  <a:off x="2362320" y="3470400"/>
                  <a:ext cx="4419360" cy="7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 flipH="1">
                  <a:off x="2285640" y="3851640"/>
                  <a:ext cx="4419720" cy="7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 flipH="1">
                  <a:off x="2285640" y="4156200"/>
                  <a:ext cx="4419720" cy="7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flipH="1">
                  <a:off x="2285640" y="4537440"/>
                  <a:ext cx="4419720" cy="7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 flipH="1">
                  <a:off x="2362320" y="4994640"/>
                  <a:ext cx="4419360" cy="7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2362320" y="2860920"/>
                  <a:ext cx="4267080" cy="1295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2438280" y="3241800"/>
                  <a:ext cx="4267440" cy="1295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2438280" y="3699000"/>
                  <a:ext cx="4267440" cy="1295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flipH="1">
                  <a:off x="2285640" y="4232520"/>
                  <a:ext cx="4267080" cy="1295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 flipH="1">
                  <a:off x="2361960" y="3851640"/>
                  <a:ext cx="4267080" cy="1295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2361960" y="3470400"/>
                  <a:ext cx="4267080" cy="1295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 flipV="1">
                  <a:off x="2286000" y="3775320"/>
                  <a:ext cx="4419720" cy="1752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 flipV="1">
                  <a:off x="2286000" y="3470040"/>
                  <a:ext cx="4495680" cy="2057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 flipV="1">
                  <a:off x="2286000" y="3546360"/>
                  <a:ext cx="4419720" cy="1600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2286000" y="2860920"/>
                  <a:ext cx="4419720" cy="1676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2286000" y="2860920"/>
                  <a:ext cx="4495680" cy="2133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286000" y="3241800"/>
                  <a:ext cx="4343400" cy="1752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1" name=""/>
              <p:cNvGrpSpPr/>
              <p:nvPr/>
            </p:nvGrpSpPr>
            <p:grpSpPr>
              <a:xfrm>
                <a:off x="1981080" y="2556000"/>
                <a:ext cx="457200" cy="3177360"/>
                <a:chOff x="1981080" y="2556000"/>
                <a:chExt cx="457200" cy="3177360"/>
              </a:xfrm>
            </p:grpSpPr>
            <p:grpSp>
              <p:nvGrpSpPr>
                <p:cNvPr id="192" name=""/>
                <p:cNvGrpSpPr/>
                <p:nvPr/>
              </p:nvGrpSpPr>
              <p:grpSpPr>
                <a:xfrm>
                  <a:off x="1981080" y="2556000"/>
                  <a:ext cx="457200" cy="510120"/>
                  <a:chOff x="1981080" y="2556000"/>
                  <a:chExt cx="457200" cy="510120"/>
                </a:xfrm>
              </p:grpSpPr>
              <p:sp>
                <p:nvSpPr>
                  <p:cNvPr id="193" name=""/>
                  <p:cNvSpPr/>
                  <p:nvPr/>
                </p:nvSpPr>
                <p:spPr>
                  <a:xfrm>
                    <a:off x="1981080" y="2632320"/>
                    <a:ext cx="380880" cy="380880"/>
                  </a:xfrm>
                  <a:prstGeom prst="rect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4" name=""/>
                  <p:cNvSpPr/>
                  <p:nvPr/>
                </p:nvSpPr>
                <p:spPr>
                  <a:xfrm>
                    <a:off x="1981080" y="2556000"/>
                    <a:ext cx="457200" cy="510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t</a:t>
                    </a:r>
                    <a:r>
                      <a:rPr b="0" i="1" lang="en-US" sz="2400" spc="-1" strike="noStrike" baseline="-25000">
                        <a:solidFill>
                          <a:srgbClr val="000000"/>
                        </a:solidFill>
                        <a:latin typeface="Times New Roman"/>
                      </a:rPr>
                      <a:t>1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95" name=""/>
                <p:cNvGrpSpPr/>
                <p:nvPr/>
              </p:nvGrpSpPr>
              <p:grpSpPr>
                <a:xfrm>
                  <a:off x="1981080" y="2937240"/>
                  <a:ext cx="457200" cy="510120"/>
                  <a:chOff x="1981080" y="2937240"/>
                  <a:chExt cx="457200" cy="510120"/>
                </a:xfrm>
              </p:grpSpPr>
              <p:sp>
                <p:nvSpPr>
                  <p:cNvPr id="196" name=""/>
                  <p:cNvSpPr/>
                  <p:nvPr/>
                </p:nvSpPr>
                <p:spPr>
                  <a:xfrm>
                    <a:off x="1981080" y="3013560"/>
                    <a:ext cx="380880" cy="380880"/>
                  </a:xfrm>
                  <a:prstGeom prst="rect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7" name=""/>
                  <p:cNvSpPr/>
                  <p:nvPr/>
                </p:nvSpPr>
                <p:spPr>
                  <a:xfrm>
                    <a:off x="1981080" y="2937240"/>
                    <a:ext cx="457200" cy="510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t</a:t>
                    </a:r>
                    <a:r>
                      <a:rPr b="0" i="1" lang="en-US" sz="2400" spc="-1" strike="noStrike" baseline="-25000">
                        <a:solidFill>
                          <a:srgbClr val="000000"/>
                        </a:solidFill>
                        <a:latin typeface="Times New Roman"/>
                      </a:rPr>
                      <a:t>2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98" name=""/>
                <p:cNvGrpSpPr/>
                <p:nvPr/>
              </p:nvGrpSpPr>
              <p:grpSpPr>
                <a:xfrm>
                  <a:off x="1981080" y="3318120"/>
                  <a:ext cx="457200" cy="510120"/>
                  <a:chOff x="1981080" y="3318120"/>
                  <a:chExt cx="457200" cy="510120"/>
                </a:xfrm>
              </p:grpSpPr>
              <p:sp>
                <p:nvSpPr>
                  <p:cNvPr id="199" name=""/>
                  <p:cNvSpPr/>
                  <p:nvPr/>
                </p:nvSpPr>
                <p:spPr>
                  <a:xfrm>
                    <a:off x="1981080" y="3394440"/>
                    <a:ext cx="380880" cy="380880"/>
                  </a:xfrm>
                  <a:prstGeom prst="rect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0" name=""/>
                  <p:cNvSpPr/>
                  <p:nvPr/>
                </p:nvSpPr>
                <p:spPr>
                  <a:xfrm>
                    <a:off x="1981080" y="3318120"/>
                    <a:ext cx="457200" cy="510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t</a:t>
                    </a:r>
                    <a:r>
                      <a:rPr b="0" i="1" lang="en-US" sz="2400" spc="-1" strike="noStrike" baseline="-25000">
                        <a:solidFill>
                          <a:srgbClr val="000000"/>
                        </a:solidFill>
                        <a:latin typeface="Times New Roman"/>
                      </a:rPr>
                      <a:t>3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1" name=""/>
                <p:cNvGrpSpPr/>
                <p:nvPr/>
              </p:nvGrpSpPr>
              <p:grpSpPr>
                <a:xfrm>
                  <a:off x="1981080" y="3699000"/>
                  <a:ext cx="457200" cy="510120"/>
                  <a:chOff x="1981080" y="3699000"/>
                  <a:chExt cx="457200" cy="510120"/>
                </a:xfrm>
              </p:grpSpPr>
              <p:sp>
                <p:nvSpPr>
                  <p:cNvPr id="202" name=""/>
                  <p:cNvSpPr/>
                  <p:nvPr/>
                </p:nvSpPr>
                <p:spPr>
                  <a:xfrm>
                    <a:off x="1981080" y="3775320"/>
                    <a:ext cx="380880" cy="380880"/>
                  </a:xfrm>
                  <a:prstGeom prst="rect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3" name=""/>
                  <p:cNvSpPr/>
                  <p:nvPr/>
                </p:nvSpPr>
                <p:spPr>
                  <a:xfrm>
                    <a:off x="1981080" y="3699000"/>
                    <a:ext cx="457200" cy="510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t</a:t>
                    </a:r>
                    <a:r>
                      <a:rPr b="0" i="1" lang="en-US" sz="2400" spc="-1" strike="noStrike" baseline="-25000">
                        <a:solidFill>
                          <a:srgbClr val="000000"/>
                        </a:solidFill>
                        <a:latin typeface="Times New Roman"/>
                      </a:rPr>
                      <a:t>4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4" name=""/>
                <p:cNvGrpSpPr/>
                <p:nvPr/>
              </p:nvGrpSpPr>
              <p:grpSpPr>
                <a:xfrm>
                  <a:off x="1981080" y="4080240"/>
                  <a:ext cx="457200" cy="510120"/>
                  <a:chOff x="1981080" y="4080240"/>
                  <a:chExt cx="457200" cy="510120"/>
                </a:xfrm>
              </p:grpSpPr>
              <p:sp>
                <p:nvSpPr>
                  <p:cNvPr id="205" name=""/>
                  <p:cNvSpPr/>
                  <p:nvPr/>
                </p:nvSpPr>
                <p:spPr>
                  <a:xfrm>
                    <a:off x="1981080" y="4156560"/>
                    <a:ext cx="380880" cy="380880"/>
                  </a:xfrm>
                  <a:prstGeom prst="rect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6" name=""/>
                  <p:cNvSpPr/>
                  <p:nvPr/>
                </p:nvSpPr>
                <p:spPr>
                  <a:xfrm>
                    <a:off x="1981080" y="4080240"/>
                    <a:ext cx="457200" cy="510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t</a:t>
                    </a:r>
                    <a:r>
                      <a:rPr b="0" i="1" lang="en-US" sz="2400" spc="-1" strike="noStrike" baseline="-25000">
                        <a:solidFill>
                          <a:srgbClr val="000000"/>
                        </a:solidFill>
                        <a:latin typeface="Times New Roman"/>
                      </a:rPr>
                      <a:t>5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7" name=""/>
                <p:cNvGrpSpPr/>
                <p:nvPr/>
              </p:nvGrpSpPr>
              <p:grpSpPr>
                <a:xfrm>
                  <a:off x="1981080" y="4461120"/>
                  <a:ext cx="457200" cy="510120"/>
                  <a:chOff x="1981080" y="4461120"/>
                  <a:chExt cx="457200" cy="510120"/>
                </a:xfrm>
              </p:grpSpPr>
              <p:sp>
                <p:nvSpPr>
                  <p:cNvPr id="208" name=""/>
                  <p:cNvSpPr/>
                  <p:nvPr/>
                </p:nvSpPr>
                <p:spPr>
                  <a:xfrm>
                    <a:off x="1981080" y="4537440"/>
                    <a:ext cx="380880" cy="380880"/>
                  </a:xfrm>
                  <a:prstGeom prst="rect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9" name=""/>
                  <p:cNvSpPr/>
                  <p:nvPr/>
                </p:nvSpPr>
                <p:spPr>
                  <a:xfrm>
                    <a:off x="1981080" y="4461120"/>
                    <a:ext cx="457200" cy="510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t</a:t>
                    </a:r>
                    <a:r>
                      <a:rPr b="0" i="1" lang="en-US" sz="2400" spc="-1" strike="noStrike" baseline="-25000">
                        <a:solidFill>
                          <a:srgbClr val="000000"/>
                        </a:solidFill>
                        <a:latin typeface="Times New Roman"/>
                      </a:rPr>
                      <a:t>6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0" name=""/>
                <p:cNvGrpSpPr/>
                <p:nvPr/>
              </p:nvGrpSpPr>
              <p:grpSpPr>
                <a:xfrm>
                  <a:off x="1981080" y="4842000"/>
                  <a:ext cx="457200" cy="459720"/>
                  <a:chOff x="1981080" y="4842000"/>
                  <a:chExt cx="457200" cy="45972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1981080" y="4918320"/>
                    <a:ext cx="380880" cy="380880"/>
                  </a:xfrm>
                  <a:prstGeom prst="rect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1981080" y="4842000"/>
                    <a:ext cx="4572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...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3" name=""/>
                <p:cNvGrpSpPr/>
                <p:nvPr/>
              </p:nvGrpSpPr>
              <p:grpSpPr>
                <a:xfrm>
                  <a:off x="1981080" y="5223240"/>
                  <a:ext cx="457200" cy="510120"/>
                  <a:chOff x="1981080" y="5223240"/>
                  <a:chExt cx="457200" cy="51012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1981080" y="5299560"/>
                    <a:ext cx="380880" cy="380880"/>
                  </a:xfrm>
                  <a:prstGeom prst="rect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1981080" y="5223240"/>
                    <a:ext cx="457200" cy="510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t</a:t>
                    </a:r>
                    <a:r>
                      <a:rPr b="0" i="1" lang="en-US" sz="2400" spc="-1" strike="noStrike" baseline="-25000">
                        <a:solidFill>
                          <a:srgbClr val="000000"/>
                        </a:solidFill>
                        <a:latin typeface="Times New Roman"/>
                      </a:rPr>
                      <a:t>V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16" name=""/>
              <p:cNvGrpSpPr/>
              <p:nvPr/>
            </p:nvGrpSpPr>
            <p:grpSpPr>
              <a:xfrm>
                <a:off x="6629400" y="3165840"/>
                <a:ext cx="457200" cy="1996560"/>
                <a:chOff x="6629400" y="3165840"/>
                <a:chExt cx="457200" cy="1996560"/>
              </a:xfrm>
            </p:grpSpPr>
            <p:grpSp>
              <p:nvGrpSpPr>
                <p:cNvPr id="217" name=""/>
                <p:cNvGrpSpPr/>
                <p:nvPr/>
              </p:nvGrpSpPr>
              <p:grpSpPr>
                <a:xfrm>
                  <a:off x="6629400" y="3165840"/>
                  <a:ext cx="457200" cy="510120"/>
                  <a:chOff x="6629400" y="3165840"/>
                  <a:chExt cx="457200" cy="510120"/>
                </a:xfrm>
              </p:grpSpPr>
              <p:sp>
                <p:nvSpPr>
                  <p:cNvPr id="218" name=""/>
                  <p:cNvSpPr/>
                  <p:nvPr/>
                </p:nvSpPr>
                <p:spPr>
                  <a:xfrm>
                    <a:off x="6629400" y="3242160"/>
                    <a:ext cx="380880" cy="380880"/>
                  </a:xfrm>
                  <a:prstGeom prst="rect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9" name=""/>
                  <p:cNvSpPr/>
                  <p:nvPr/>
                </p:nvSpPr>
                <p:spPr>
                  <a:xfrm>
                    <a:off x="6629400" y="3165840"/>
                    <a:ext cx="457200" cy="510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d</a:t>
                    </a:r>
                    <a:r>
                      <a:rPr b="0" i="1" lang="en-US" sz="2400" spc="-1" strike="noStrike" baseline="-25000">
                        <a:solidFill>
                          <a:srgbClr val="000000"/>
                        </a:solidFill>
                        <a:latin typeface="Times New Roman"/>
                      </a:rPr>
                      <a:t>1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20" name=""/>
                <p:cNvGrpSpPr/>
                <p:nvPr/>
              </p:nvGrpSpPr>
              <p:grpSpPr>
                <a:xfrm>
                  <a:off x="6629400" y="3546720"/>
                  <a:ext cx="457200" cy="510120"/>
                  <a:chOff x="6629400" y="3546720"/>
                  <a:chExt cx="457200" cy="51012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629400" y="3623040"/>
                    <a:ext cx="380880" cy="380880"/>
                  </a:xfrm>
                  <a:prstGeom prst="rect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629400" y="3546720"/>
                    <a:ext cx="457200" cy="510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d</a:t>
                    </a:r>
                    <a:r>
                      <a:rPr b="0" i="1" lang="en-US" sz="2400" spc="-1" strike="noStrike" baseline="-25000">
                        <a:solidFill>
                          <a:srgbClr val="000000"/>
                        </a:solidFill>
                        <a:latin typeface="Times New Roman"/>
                      </a:rPr>
                      <a:t>2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23" name=""/>
                <p:cNvGrpSpPr/>
                <p:nvPr/>
              </p:nvGrpSpPr>
              <p:grpSpPr>
                <a:xfrm>
                  <a:off x="6629400" y="3927600"/>
                  <a:ext cx="457200" cy="510120"/>
                  <a:chOff x="6629400" y="3927600"/>
                  <a:chExt cx="457200" cy="510120"/>
                </a:xfrm>
              </p:grpSpPr>
              <p:sp>
                <p:nvSpPr>
                  <p:cNvPr id="224" name=""/>
                  <p:cNvSpPr/>
                  <p:nvPr/>
                </p:nvSpPr>
                <p:spPr>
                  <a:xfrm>
                    <a:off x="6629400" y="4003920"/>
                    <a:ext cx="380880" cy="380880"/>
                  </a:xfrm>
                  <a:prstGeom prst="rect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5" name=""/>
                  <p:cNvSpPr/>
                  <p:nvPr/>
                </p:nvSpPr>
                <p:spPr>
                  <a:xfrm>
                    <a:off x="6629400" y="3927600"/>
                    <a:ext cx="457200" cy="510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d</a:t>
                    </a:r>
                    <a:r>
                      <a:rPr b="0" i="1" lang="en-US" sz="2400" spc="-1" strike="noStrike" baseline="-25000">
                        <a:solidFill>
                          <a:srgbClr val="000000"/>
                        </a:solidFill>
                        <a:latin typeface="Times New Roman"/>
                      </a:rPr>
                      <a:t>3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26" name=""/>
                <p:cNvGrpSpPr/>
                <p:nvPr/>
              </p:nvGrpSpPr>
              <p:grpSpPr>
                <a:xfrm>
                  <a:off x="6629400" y="4308840"/>
                  <a:ext cx="457200" cy="459720"/>
                  <a:chOff x="6629400" y="4308840"/>
                  <a:chExt cx="457200" cy="459720"/>
                </a:xfrm>
              </p:grpSpPr>
              <p:sp>
                <p:nvSpPr>
                  <p:cNvPr id="227" name=""/>
                  <p:cNvSpPr/>
                  <p:nvPr/>
                </p:nvSpPr>
                <p:spPr>
                  <a:xfrm>
                    <a:off x="6629400" y="4385160"/>
                    <a:ext cx="380880" cy="380880"/>
                  </a:xfrm>
                  <a:prstGeom prst="rect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8" name=""/>
                  <p:cNvSpPr/>
                  <p:nvPr/>
                </p:nvSpPr>
                <p:spPr>
                  <a:xfrm>
                    <a:off x="6629400" y="4308840"/>
                    <a:ext cx="4572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...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29" name=""/>
                <p:cNvGrpSpPr/>
                <p:nvPr/>
              </p:nvGrpSpPr>
              <p:grpSpPr>
                <a:xfrm>
                  <a:off x="6629400" y="4689720"/>
                  <a:ext cx="457200" cy="472680"/>
                  <a:chOff x="6629400" y="4689720"/>
                  <a:chExt cx="457200" cy="472680"/>
                </a:xfrm>
              </p:grpSpPr>
              <p:sp>
                <p:nvSpPr>
                  <p:cNvPr id="230" name=""/>
                  <p:cNvSpPr/>
                  <p:nvPr/>
                </p:nvSpPr>
                <p:spPr>
                  <a:xfrm>
                    <a:off x="6629400" y="4766040"/>
                    <a:ext cx="380880" cy="380880"/>
                  </a:xfrm>
                  <a:prstGeom prst="rect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1" name=""/>
                  <p:cNvSpPr/>
                  <p:nvPr/>
                </p:nvSpPr>
                <p:spPr>
                  <a:xfrm>
                    <a:off x="6629400" y="4689720"/>
                    <a:ext cx="457200" cy="472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d</a:t>
                    </a:r>
                    <a:r>
                      <a:rPr b="0" i="1" lang="en-US" sz="1600" spc="-1" strike="noStrike" baseline="-25000">
                        <a:solidFill>
                          <a:srgbClr val="000000"/>
                        </a:solidFill>
                        <a:latin typeface="Times New Roman"/>
                      </a:rPr>
                      <a:t>M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32" name=""/>
            <p:cNvSpPr/>
            <p:nvPr/>
          </p:nvSpPr>
          <p:spPr>
            <a:xfrm>
              <a:off x="1612800" y="5835960"/>
              <a:ext cx="131580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p(t</a:t>
              </a:r>
              <a:r>
                <a:rPr b="1" i="1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|d</a:t>
              </a:r>
              <a:r>
                <a:rPr b="1" i="1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j</a:t>
              </a: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062760" y="5832720"/>
              <a:ext cx="131580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p(d</a:t>
              </a:r>
              <a:r>
                <a:rPr b="1" i="1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j</a:t>
              </a: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|t</a:t>
              </a:r>
              <a:r>
                <a:rPr b="1" i="1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5T13:39:05Z</dcterms:created>
  <dc:creator>David Cohn</dc:creator>
  <dc:description/>
  <dc:language>en-US</dc:language>
  <cp:lastModifiedBy>David Cohn</cp:lastModifiedBy>
  <cp:lastPrinted>2000-03-07T23:57:35Z</cp:lastPrinted>
  <dcterms:modified xsi:type="dcterms:W3CDTF">2000-12-11T15:11:12Z</dcterms:modified>
  <cp:revision>138</cp:revision>
  <dc:subject/>
  <dc:title>Learning, Navigating, and Manipulating Structure in Unstructured Data/Document Bases</dc:title>
</cp:coreProperties>
</file>