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333-0B93-4A61-B3FF-4194D515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ECE-7191-4248-977B-E0DDF338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EF4-1496-4C27-872A-7EC3B946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82B-C353-4A9F-928F-8799351E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05D-F70C-41F7-A59D-8D5237A8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161-83DD-4FBC-9CFE-E09AE60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A5F-F142-4A74-975C-00994865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9D8-A09B-4AA0-8726-E3DAFE70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09A-D6BC-4A19-86B2-487A6463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FD1-0202-44ED-9AFA-006ACED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E6C-F4C1-45ED-AAE6-84E7DBB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318-8D77-47EC-8B1B-9B79101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B56-30F1-4EA7-BB33-BE6DB7BC8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Structure in Unstructured Document 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 Glass Technologi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U Robotics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cs.cmu.edu/~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t work with: Adam Berger, Rich Caruana, Huan Chang, Dayne Frietag, Thomas Hofmann, Andrew McCallum, Vibhu Mittal and Greg Sch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666880"/>
            <a:ext cx="7848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ations of the V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frequencies aren’t the whol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s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sharp increase in rates on bank no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pilot notes a sharp increase in ba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b/Robert/Bobby spilled pop/soda/Coke/Pepsi on the couch/sofa/lovesea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an Greenspan”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“Federal Reserve”, “interest ra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 else is going 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536480" y="2670120"/>
            <a:ext cx="5765760" cy="3998160"/>
            <a:chOff x="1536480" y="2670120"/>
            <a:chExt cx="5765760" cy="3998160"/>
          </a:xfrm>
        </p:grpSpPr>
        <p:grpSp>
          <p:nvGrpSpPr>
            <p:cNvPr id="237" name=""/>
            <p:cNvGrpSpPr/>
            <p:nvPr/>
          </p:nvGrpSpPr>
          <p:grpSpPr>
            <a:xfrm>
              <a:off x="1904760" y="2670120"/>
              <a:ext cx="5105520" cy="3177360"/>
              <a:chOff x="1904760" y="2670120"/>
              <a:chExt cx="5105520" cy="3177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133000" y="2975040"/>
                <a:ext cx="4572360" cy="2743200"/>
                <a:chOff x="2133000" y="2975040"/>
                <a:chExt cx="4572360" cy="2743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209680" y="297504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09680" y="335592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366084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209680" y="404172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09680" y="449892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133000" y="358452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2133000" y="396576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2133000" y="427032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2133000" y="465156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2133000" y="510876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209680" y="297504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209680" y="327996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209680" y="366084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86000" y="411804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2286000" y="358452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2209320" y="396576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2286000" y="427032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2209320" y="465156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209680" y="335592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209680" y="366084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86000" y="404172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209680" y="442296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286000" y="488016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286000" y="3584520"/>
                  <a:ext cx="44193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2209320" y="396576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209320" y="4270320"/>
                  <a:ext cx="44197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2209320" y="465156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286000" y="5108760"/>
                  <a:ext cx="44193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286000" y="297504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61960" y="335592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61960" y="381312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209320" y="434664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2285640" y="396576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285640" y="3584520"/>
                  <a:ext cx="426708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2209680" y="3889440"/>
                  <a:ext cx="441972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209680" y="3584160"/>
                  <a:ext cx="449568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2209680" y="3660480"/>
                  <a:ext cx="441972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09680" y="2975040"/>
                  <a:ext cx="441972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09680" y="2975040"/>
                  <a:ext cx="44956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09680" y="3355920"/>
                  <a:ext cx="434340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1904760" y="2670120"/>
                <a:ext cx="457200" cy="3177360"/>
                <a:chOff x="1904760" y="2670120"/>
                <a:chExt cx="457200" cy="317736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1904760" y="2670120"/>
                  <a:ext cx="457200" cy="510120"/>
                  <a:chOff x="1904760" y="2670120"/>
                  <a:chExt cx="457200" cy="510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904760" y="2746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904760" y="2670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1904760" y="3051360"/>
                  <a:ext cx="457200" cy="510120"/>
                  <a:chOff x="1904760" y="3051360"/>
                  <a:chExt cx="457200" cy="51012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1904760" y="3127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904760" y="3051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1904760" y="3432240"/>
                  <a:ext cx="457200" cy="510120"/>
                  <a:chOff x="1904760" y="3432240"/>
                  <a:chExt cx="457200" cy="5101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1904760" y="3508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904760" y="3432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904760" y="3813120"/>
                  <a:ext cx="457200" cy="510120"/>
                  <a:chOff x="1904760" y="3813120"/>
                  <a:chExt cx="457200" cy="5101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1904760" y="3889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904760" y="3813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1904760" y="4194360"/>
                  <a:ext cx="457200" cy="510120"/>
                  <a:chOff x="1904760" y="4194360"/>
                  <a:chExt cx="457200" cy="510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904760" y="4270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904760" y="4194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1904760" y="4575240"/>
                  <a:ext cx="457200" cy="510120"/>
                  <a:chOff x="1904760" y="4575240"/>
                  <a:chExt cx="457200" cy="510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1904760" y="4651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904760" y="4575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904760" y="4956120"/>
                  <a:ext cx="457200" cy="459720"/>
                  <a:chOff x="1904760" y="4956120"/>
                  <a:chExt cx="457200" cy="4597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1904760" y="5032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904760" y="49561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1904760" y="5337360"/>
                  <a:ext cx="457200" cy="510120"/>
                  <a:chOff x="1904760" y="5337360"/>
                  <a:chExt cx="457200" cy="510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1904760" y="5413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904760" y="5337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6553080" y="3279960"/>
                <a:ext cx="457200" cy="1996560"/>
                <a:chOff x="6553080" y="3279960"/>
                <a:chExt cx="457200" cy="19965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6553080" y="3279960"/>
                  <a:ext cx="457200" cy="510120"/>
                  <a:chOff x="6553080" y="3279960"/>
                  <a:chExt cx="457200" cy="510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553080" y="3356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553080" y="32799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553080" y="3660840"/>
                  <a:ext cx="457200" cy="510120"/>
                  <a:chOff x="6553080" y="3660840"/>
                  <a:chExt cx="457200" cy="5101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6553080" y="3737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553080" y="3660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553080" y="4041720"/>
                  <a:ext cx="457200" cy="510120"/>
                  <a:chOff x="6553080" y="4041720"/>
                  <a:chExt cx="457200" cy="5101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553080" y="41180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553080" y="40417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553080" y="4422960"/>
                  <a:ext cx="457200" cy="459720"/>
                  <a:chOff x="6553080" y="4422960"/>
                  <a:chExt cx="457200" cy="459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6553080" y="4499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553080" y="442296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553080" y="4803840"/>
                  <a:ext cx="457200" cy="472680"/>
                  <a:chOff x="6553080" y="4803840"/>
                  <a:chExt cx="457200" cy="4726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553080" y="4880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553080" y="4803840"/>
                    <a:ext cx="45720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0" name=""/>
            <p:cNvSpPr/>
            <p:nvPr/>
          </p:nvSpPr>
          <p:spPr>
            <a:xfrm>
              <a:off x="1536480" y="595008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594684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92280" y="2514600"/>
            <a:ext cx="7772400" cy="4150800"/>
            <a:chOff x="692280" y="2514600"/>
            <a:chExt cx="7772400" cy="4150800"/>
          </a:xfrm>
        </p:grpSpPr>
        <p:sp>
          <p:nvSpPr>
            <p:cNvPr id="323" name=""/>
            <p:cNvSpPr/>
            <p:nvPr/>
          </p:nvSpPr>
          <p:spPr>
            <a:xfrm>
              <a:off x="692280" y="2514600"/>
              <a:ext cx="777240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547280" y="2667240"/>
              <a:ext cx="5876280" cy="3998160"/>
              <a:chOff x="1547280" y="2667240"/>
              <a:chExt cx="5876280" cy="39981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4425840" y="3505320"/>
                <a:ext cx="2286000" cy="1600560"/>
                <a:chOff x="4425840" y="3505320"/>
                <a:chExt cx="2286000" cy="160056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4425840" y="3505680"/>
                  <a:ext cx="221004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425840" y="396288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425840" y="3962880"/>
                  <a:ext cx="22860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25840" y="3962880"/>
                  <a:ext cx="221004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25840" y="3962880"/>
                  <a:ext cx="221004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4425840" y="3505320"/>
                  <a:ext cx="2286000" cy="1600200"/>
                  <a:chOff x="4425840" y="3505320"/>
                  <a:chExt cx="2286000" cy="16002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4425840" y="4648320"/>
                    <a:ext cx="221004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25840" y="464832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V="1">
                    <a:off x="4425840" y="4267440"/>
                    <a:ext cx="228600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V="1">
                    <a:off x="4425840" y="3886560"/>
                    <a:ext cx="2210040" cy="76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4425840" y="3505320"/>
                    <a:ext cx="221004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4425840" y="4343760"/>
                  <a:ext cx="221004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25840" y="434376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4425840" y="3962880"/>
                  <a:ext cx="228600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4425840" y="3581280"/>
                  <a:ext cx="221004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25840" y="4343760"/>
                  <a:ext cx="221004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139840" y="2972160"/>
                <a:ext cx="2057400" cy="2743200"/>
                <a:chOff x="2139840" y="2972160"/>
                <a:chExt cx="2057400" cy="274320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2216160" y="4724640"/>
                  <a:ext cx="198108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216160" y="4724640"/>
                  <a:ext cx="19810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2216160" y="4724640"/>
                  <a:ext cx="198108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16160" y="4496040"/>
                  <a:ext cx="1981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139840" y="4115160"/>
                  <a:ext cx="2057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216160" y="3734280"/>
                  <a:ext cx="198108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139840" y="3353040"/>
                  <a:ext cx="205740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39840" y="2972160"/>
                  <a:ext cx="205740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2216160" y="4343760"/>
                  <a:ext cx="198108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2216160" y="4343760"/>
                  <a:ext cx="19810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2216160" y="4343760"/>
                  <a:ext cx="198108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16160" y="4115160"/>
                  <a:ext cx="1981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139840" y="3734280"/>
                  <a:ext cx="2057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216160" y="3353040"/>
                  <a:ext cx="198108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139840" y="2972160"/>
                  <a:ext cx="205740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2216160" y="3962880"/>
                  <a:ext cx="198108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2216160" y="3962520"/>
                  <a:ext cx="198108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2216160" y="3962520"/>
                  <a:ext cx="19810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216160" y="3734280"/>
                  <a:ext cx="19810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39840" y="3353040"/>
                  <a:ext cx="205740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216160" y="2972160"/>
                  <a:ext cx="198108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2216160" y="4343760"/>
                  <a:ext cx="1981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2216160" y="3962880"/>
                  <a:ext cx="198108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2216160" y="3962880"/>
                  <a:ext cx="1981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911240" y="2667240"/>
                <a:ext cx="457200" cy="3177360"/>
                <a:chOff x="1911240" y="2667240"/>
                <a:chExt cx="457200" cy="317736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1911240" y="2667240"/>
                  <a:ext cx="457200" cy="510120"/>
                  <a:chOff x="1911240" y="2667240"/>
                  <a:chExt cx="457200" cy="5101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1911240" y="2743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11240" y="2667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1911240" y="3048480"/>
                  <a:ext cx="457200" cy="510120"/>
                  <a:chOff x="1911240" y="3048480"/>
                  <a:chExt cx="457200" cy="5101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1911240" y="31248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911240" y="30484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1911240" y="3429360"/>
                  <a:ext cx="457200" cy="510120"/>
                  <a:chOff x="1911240" y="3429360"/>
                  <a:chExt cx="457200" cy="5101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1911240" y="3505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911240" y="3429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1911240" y="3810240"/>
                  <a:ext cx="457200" cy="510120"/>
                  <a:chOff x="1911240" y="3810240"/>
                  <a:chExt cx="457200" cy="5101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1911240" y="3886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911240" y="3810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1911240" y="4191480"/>
                  <a:ext cx="457200" cy="510120"/>
                  <a:chOff x="1911240" y="4191480"/>
                  <a:chExt cx="457200" cy="5101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1911240" y="42678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911240" y="41914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1911240" y="4572360"/>
                  <a:ext cx="457200" cy="510120"/>
                  <a:chOff x="1911240" y="4572360"/>
                  <a:chExt cx="457200" cy="5101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1911240" y="46486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911240" y="45723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1911240" y="4953240"/>
                  <a:ext cx="457200" cy="459720"/>
                  <a:chOff x="1911240" y="4953240"/>
                  <a:chExt cx="457200" cy="4597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1911240" y="5029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911240" y="49532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1911240" y="5334480"/>
                  <a:ext cx="457200" cy="510120"/>
                  <a:chOff x="1911240" y="5334480"/>
                  <a:chExt cx="457200" cy="510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911240" y="54108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911240" y="53344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6559560" y="3277080"/>
                <a:ext cx="457200" cy="1996560"/>
                <a:chOff x="6559560" y="3277080"/>
                <a:chExt cx="457200" cy="199656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6559560" y="3277080"/>
                  <a:ext cx="457200" cy="510120"/>
                  <a:chOff x="6559560" y="3277080"/>
                  <a:chExt cx="457200" cy="510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6559560" y="33534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559560" y="32770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6559560" y="3657960"/>
                  <a:ext cx="457200" cy="510120"/>
                  <a:chOff x="6559560" y="3657960"/>
                  <a:chExt cx="457200" cy="510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6559560" y="3734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559560" y="36579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6559560" y="4038840"/>
                  <a:ext cx="457200" cy="510120"/>
                  <a:chOff x="6559560" y="4038840"/>
                  <a:chExt cx="457200" cy="5101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6559560" y="4115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559560" y="4038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6559560" y="4420080"/>
                  <a:ext cx="457200" cy="459720"/>
                  <a:chOff x="6559560" y="4420080"/>
                  <a:chExt cx="457200" cy="4597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6559560" y="44964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559560" y="4420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559560" y="4800960"/>
                  <a:ext cx="457200" cy="472680"/>
                  <a:chOff x="6559560" y="4800960"/>
                  <a:chExt cx="457200" cy="4726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6559560" y="4877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559560" y="4800960"/>
                    <a:ext cx="45720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8" name=""/>
              <p:cNvSpPr/>
              <p:nvPr/>
            </p:nvSpPr>
            <p:spPr>
              <a:xfrm>
                <a:off x="1547280" y="5947200"/>
                <a:ext cx="1325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t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96520" y="5943960"/>
                <a:ext cx="14270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4360" y="5943960"/>
                <a:ext cx="1024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1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121280" y="3657960"/>
                <a:ext cx="457200" cy="1272240"/>
                <a:chOff x="4121280" y="3657960"/>
                <a:chExt cx="457200" cy="127224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4121280" y="3657960"/>
                  <a:ext cx="457200" cy="510120"/>
                  <a:chOff x="4121280" y="3657960"/>
                  <a:chExt cx="457200" cy="510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4121280" y="373428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121280" y="365796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4121280" y="4038840"/>
                  <a:ext cx="457200" cy="510120"/>
                  <a:chOff x="4121280" y="4038840"/>
                  <a:chExt cx="457200" cy="5101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121280" y="4115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121280" y="4038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4121280" y="4420080"/>
                  <a:ext cx="457200" cy="510120"/>
                  <a:chOff x="4121280" y="4420080"/>
                  <a:chExt cx="457200" cy="5101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4121280" y="449640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21280" y="442008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al tex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40652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s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re’s structure ou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cuments can be “explained” in terms of a (relatively) small number of underlying “concep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tent semantic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singular value decomposition on term-by-document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Deerwester et al., 199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ed eigenvalue matrix gives reduced subspace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distortion reconstruc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-by-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s distortion by exploiting term co-occu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irically, produces big improvement in retrieval,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057400" y="4267080"/>
            <a:ext cx="5790960" cy="1473120"/>
            <a:chOff x="2057400" y="4267080"/>
            <a:chExt cx="5790960" cy="1473120"/>
          </a:xfrm>
        </p:grpSpPr>
        <p:sp>
          <p:nvSpPr>
            <p:cNvPr id="426" name=""/>
            <p:cNvSpPr/>
            <p:nvPr/>
          </p:nvSpPr>
          <p:spPr>
            <a:xfrm>
              <a:off x="2057400" y="4275000"/>
              <a:ext cx="865080" cy="14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1520" y="4275000"/>
              <a:ext cx="865440" cy="14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6616440" y="3775320"/>
              <a:ext cx="732600" cy="173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6200" y="4275000"/>
              <a:ext cx="865440" cy="7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23640" y="45194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-by-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840" y="4380840"/>
              <a:ext cx="74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-by-z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83680" y="438084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-by-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25080" y="45522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6080" y="455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9680" y="455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3240" y="4267080"/>
              <a:ext cx="284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14360" y="4403160"/>
              <a:ext cx="284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97120" y="4834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78680" y="47048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20440" y="4383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90760" y="451008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7960" y="46004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58920" y="4763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0520" y="4271760"/>
              <a:ext cx="524160" cy="47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17480" y="4271760"/>
              <a:ext cx="1730880" cy="45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21520" y="4271760"/>
              <a:ext cx="599040" cy="146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al interpretation of L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A is performing linear factor analys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erm and document maps to a point in z-space (via t-by-z’ and z’-by-d matr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d as a Bayes ne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created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mixture of fa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erm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ular value decomposition finds fa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“best explain” observed term-documen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724280" y="3352680"/>
            <a:ext cx="2590920" cy="550800"/>
            <a:chOff x="4724280" y="3352680"/>
            <a:chExt cx="2590920" cy="550800"/>
          </a:xfrm>
        </p:grpSpPr>
        <p:grpSp>
          <p:nvGrpSpPr>
            <p:cNvPr id="450" name=""/>
            <p:cNvGrpSpPr/>
            <p:nvPr/>
          </p:nvGrpSpPr>
          <p:grpSpPr>
            <a:xfrm>
              <a:off x="4724280" y="3352680"/>
              <a:ext cx="533520" cy="533520"/>
              <a:chOff x="4724280" y="3352680"/>
              <a:chExt cx="53352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724280" y="335268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24720" y="3390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753160" y="3370320"/>
              <a:ext cx="533520" cy="533160"/>
              <a:chOff x="5753160" y="3370320"/>
              <a:chExt cx="533520" cy="533160"/>
            </a:xfrm>
          </p:grpSpPr>
          <p:sp>
            <p:nvSpPr>
              <p:cNvPr id="454" name=""/>
              <p:cNvSpPr/>
              <p:nvPr/>
            </p:nvSpPr>
            <p:spPr>
              <a:xfrm>
                <a:off x="5753160" y="337032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53600" y="340812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781680" y="3370320"/>
              <a:ext cx="533520" cy="533160"/>
              <a:chOff x="6781680" y="3370320"/>
              <a:chExt cx="533520" cy="533160"/>
            </a:xfrm>
          </p:grpSpPr>
          <p:sp>
            <p:nvSpPr>
              <p:cNvPr id="457" name=""/>
              <p:cNvSpPr/>
              <p:nvPr/>
            </p:nvSpPr>
            <p:spPr>
              <a:xfrm>
                <a:off x="6781680" y="337032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81400" y="34081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257800" y="36194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83440" y="3639960"/>
              <a:ext cx="49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SA - what’s wr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A minimizes “distortion” of t-by-d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maximizing data likelihood assum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tion in term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ed term frequencies may be less than zero or greater than 1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733920" y="3809880"/>
            <a:ext cx="3885840" cy="1654920"/>
            <a:chOff x="3733920" y="3809880"/>
            <a:chExt cx="3885840" cy="1654920"/>
          </a:xfrm>
        </p:grpSpPr>
        <p:sp>
          <p:nvSpPr>
            <p:cNvPr id="464" name=""/>
            <p:cNvSpPr/>
            <p:nvPr/>
          </p:nvSpPr>
          <p:spPr>
            <a:xfrm>
              <a:off x="3814920" y="4078800"/>
              <a:ext cx="3501720" cy="905760"/>
            </a:xfrm>
            <a:custGeom>
              <a:avLst/>
              <a:gdLst/>
              <a:ahLst/>
              <a:rect l="l" t="t" r="r" b="b"/>
              <a:pathLst>
                <a:path w="1644" h="380">
                  <a:moveTo>
                    <a:pt x="0" y="380"/>
                  </a:moveTo>
                  <a:cubicBezTo>
                    <a:pt x="108" y="378"/>
                    <a:pt x="215" y="375"/>
                    <a:pt x="304" y="351"/>
                  </a:cubicBezTo>
                  <a:cubicBezTo>
                    <a:pt x="393" y="327"/>
                    <a:pt x="475" y="273"/>
                    <a:pt x="532" y="234"/>
                  </a:cubicBezTo>
                  <a:cubicBezTo>
                    <a:pt x="589" y="195"/>
                    <a:pt x="612" y="153"/>
                    <a:pt x="646" y="118"/>
                  </a:cubicBezTo>
                  <a:cubicBezTo>
                    <a:pt x="680" y="83"/>
                    <a:pt x="703" y="44"/>
                    <a:pt x="735" y="24"/>
                  </a:cubicBezTo>
                  <a:cubicBezTo>
                    <a:pt x="767" y="4"/>
                    <a:pt x="800" y="0"/>
                    <a:pt x="836" y="1"/>
                  </a:cubicBezTo>
                  <a:cubicBezTo>
                    <a:pt x="872" y="2"/>
                    <a:pt x="912" y="1"/>
                    <a:pt x="950" y="30"/>
                  </a:cubicBezTo>
                  <a:cubicBezTo>
                    <a:pt x="988" y="59"/>
                    <a:pt x="1022" y="136"/>
                    <a:pt x="1064" y="176"/>
                  </a:cubicBezTo>
                  <a:cubicBezTo>
                    <a:pt x="1106" y="216"/>
                    <a:pt x="1137" y="240"/>
                    <a:pt x="1200" y="269"/>
                  </a:cubicBezTo>
                  <a:cubicBezTo>
                    <a:pt x="1263" y="298"/>
                    <a:pt x="1370" y="333"/>
                    <a:pt x="1444" y="351"/>
                  </a:cubicBezTo>
                  <a:cubicBezTo>
                    <a:pt x="1518" y="369"/>
                    <a:pt x="1602" y="373"/>
                    <a:pt x="1644" y="379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3920" y="4984920"/>
              <a:ext cx="38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39400" y="3809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8800" y="494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26400" y="494424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t|z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95480" y="3809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27480" y="3809880"/>
              <a:ext cx="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19760" y="4944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stic Latent Semantic Analy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ofmann, ‘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ultinomial to model observed variations in term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generating documents by sampling from a “bag of wor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ing methods - PL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352680" y="3581280"/>
            <a:ext cx="4419360" cy="1951920"/>
            <a:chOff x="3352680" y="3581280"/>
            <a:chExt cx="4419360" cy="1951920"/>
          </a:xfrm>
        </p:grpSpPr>
        <p:sp>
          <p:nvSpPr>
            <p:cNvPr id="475" name=""/>
            <p:cNvSpPr/>
            <p:nvPr/>
          </p:nvSpPr>
          <p:spPr>
            <a:xfrm>
              <a:off x="4505760" y="3911400"/>
              <a:ext cx="2451240" cy="1126800"/>
            </a:xfrm>
            <a:custGeom>
              <a:avLst/>
              <a:gdLst/>
              <a:ahLst/>
              <a:rect l="l" t="t" r="r" b="b"/>
              <a:pathLst>
                <a:path w="1065" h="396">
                  <a:moveTo>
                    <a:pt x="0" y="396"/>
                  </a:moveTo>
                  <a:cubicBezTo>
                    <a:pt x="18" y="387"/>
                    <a:pt x="76" y="366"/>
                    <a:pt x="107" y="341"/>
                  </a:cubicBezTo>
                  <a:cubicBezTo>
                    <a:pt x="138" y="316"/>
                    <a:pt x="159" y="282"/>
                    <a:pt x="187" y="246"/>
                  </a:cubicBezTo>
                  <a:cubicBezTo>
                    <a:pt x="214" y="210"/>
                    <a:pt x="247" y="161"/>
                    <a:pt x="271" y="127"/>
                  </a:cubicBezTo>
                  <a:cubicBezTo>
                    <a:pt x="294" y="93"/>
                    <a:pt x="301" y="64"/>
                    <a:pt x="326" y="43"/>
                  </a:cubicBezTo>
                  <a:cubicBezTo>
                    <a:pt x="351" y="23"/>
                    <a:pt x="389" y="0"/>
                    <a:pt x="419" y="2"/>
                  </a:cubicBezTo>
                  <a:cubicBezTo>
                    <a:pt x="449" y="5"/>
                    <a:pt x="482" y="28"/>
                    <a:pt x="507" y="56"/>
                  </a:cubicBezTo>
                  <a:cubicBezTo>
                    <a:pt x="532" y="84"/>
                    <a:pt x="538" y="129"/>
                    <a:pt x="568" y="169"/>
                  </a:cubicBezTo>
                  <a:cubicBezTo>
                    <a:pt x="598" y="208"/>
                    <a:pt x="651" y="265"/>
                    <a:pt x="689" y="293"/>
                  </a:cubicBezTo>
                  <a:cubicBezTo>
                    <a:pt x="727" y="322"/>
                    <a:pt x="736" y="324"/>
                    <a:pt x="798" y="341"/>
                  </a:cubicBezTo>
                  <a:cubicBezTo>
                    <a:pt x="861" y="359"/>
                    <a:pt x="1009" y="383"/>
                    <a:pt x="1065" y="395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52680" y="5035320"/>
              <a:ext cx="4419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6400" y="3581280"/>
              <a:ext cx="2520" cy="14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81120" y="500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99680" y="500688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t|z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70560" y="3581280"/>
              <a:ext cx="1800" cy="14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73200" y="3581280"/>
              <a:ext cx="2520" cy="14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63680" y="5012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explicit factor analysis using 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likeliho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ing methods - PL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41911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434340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probabilistic foundation for reasoning about document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ms to outperform LSA in many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648320" y="2819520"/>
                <a:ext cx="3449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254480" y="1981080"/>
                <a:ext cx="3365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56240" y="3581280"/>
                <a:ext cx="3573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comes from linear combination of the underlying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50%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 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50%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1447920"/>
            <a:ext cx="6705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com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underlying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ithe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 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per 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gression: Clusters vs.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553080" y="3276720"/>
            <a:ext cx="2133000" cy="2743200"/>
            <a:chOff x="6553080" y="3276720"/>
            <a:chExt cx="2133000" cy="2743200"/>
          </a:xfrm>
        </p:grpSpPr>
        <p:grpSp>
          <p:nvGrpSpPr>
            <p:cNvPr id="495" name=""/>
            <p:cNvGrpSpPr/>
            <p:nvPr/>
          </p:nvGrpSpPr>
          <p:grpSpPr>
            <a:xfrm>
              <a:off x="7238880" y="5105520"/>
              <a:ext cx="1447200" cy="914400"/>
              <a:chOff x="7238880" y="5105520"/>
              <a:chExt cx="1447200" cy="914400"/>
            </a:xfrm>
          </p:grpSpPr>
          <p:sp>
            <p:nvSpPr>
              <p:cNvPr id="496" name=""/>
              <p:cNvSpPr/>
              <p:nvPr/>
            </p:nvSpPr>
            <p:spPr>
              <a:xfrm>
                <a:off x="7392600" y="53769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a50021"/>
                    </a:solidFill>
                    <a:latin typeface="Times New Roman"/>
                  </a:rPr>
                  <a:t>the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238880" y="5105520"/>
                <a:ext cx="1447200" cy="914400"/>
              </a:xfrm>
              <a:prstGeom prst="irregularSeal2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553080" y="3276720"/>
              <a:ext cx="1676160" cy="990360"/>
              <a:chOff x="6553080" y="3276720"/>
              <a:chExt cx="1676160" cy="990360"/>
            </a:xfrm>
          </p:grpSpPr>
          <p:sp>
            <p:nvSpPr>
              <p:cNvPr id="499" name=""/>
              <p:cNvSpPr/>
              <p:nvPr/>
            </p:nvSpPr>
            <p:spPr>
              <a:xfrm>
                <a:off x="6818760" y="3570480"/>
                <a:ext cx="114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6600"/>
                    </a:solidFill>
                    <a:latin typeface="Times New Roman"/>
                  </a:rPr>
                  <a:t>bayes ne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3080" y="3276720"/>
                <a:ext cx="1676160" cy="990360"/>
              </a:xfrm>
              <a:prstGeom prst="irregularSeal2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7467480" y="4115160"/>
              <a:ext cx="4572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80240" y="426744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03920" y="45723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latent variable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ly, factors correspond well to categories that can be verbalized by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dominant factors as clusters (spectral clus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factoring as front end to cluster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using docu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ors tell how they di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s tell how they cl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use multidimensio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 to visualiz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in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58680" y="3352680"/>
            <a:ext cx="4400640" cy="329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100 0.066 0.079 0.114]       business-commod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68 0.055 0.126 0.125]       business-dol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59 0.098 0.122 0.102]       business-f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108 0.071 0.063]       sports-nba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9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57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97 0.105 0.129]       sports-ncaadaven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7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7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53 0.100 0.095]       sports-nflkenne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65 0.08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99 0.093]       health-a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9 0.12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88 0.081]       health-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2 0.07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81 0.094]       health-c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6 0.064 0.04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94]       politics-hil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47 0.068 0.06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082]       politics-j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116 0.159 0.12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46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0.136]       politics-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78 0.062 0.045 0.170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       politics-ira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107 0.079 0.068 0.099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4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       politics-penta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0.058 0.090 0.055 0.139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65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       politics-tr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within the factore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easure similarity, but there’s more to structure than simi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ven a cluster of 23,015 documents on learning theory, which one should we look 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 on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other members of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s, documents everywhe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lation #1: There are Too Many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paper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... w... W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e #1: Get over it – they’re not going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lation #2: Existing Tools for Managing Document Collections are Woefully Inadeq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e #2: So what are you going to do ab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ck introduction to biblio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metrics: a set of mathematical techniques for identifying citation patterns in a collection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 co-citation analysis (ACA) - 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principal topics of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authoritative authors/documents in ea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rgence of interest with application to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xt-Induced Topic Selection (HITS) -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sorting through deluge of pages from search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/HITS – how it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as a function of citation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documents cite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re authorita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authorita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, the more authority its citations convey to othe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marizes cit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vec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icates author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 is linear function of citation                             count and authority of citer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A’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are eigenve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288200" y="2757600"/>
            <a:ext cx="1695960" cy="2733120"/>
            <a:chOff x="7288200" y="2757600"/>
            <a:chExt cx="1695960" cy="2733120"/>
          </a:xfrm>
        </p:grpSpPr>
        <p:grpSp>
          <p:nvGrpSpPr>
            <p:cNvPr id="514" name=""/>
            <p:cNvGrpSpPr/>
            <p:nvPr/>
          </p:nvGrpSpPr>
          <p:grpSpPr>
            <a:xfrm>
              <a:off x="7288200" y="2757600"/>
              <a:ext cx="1695960" cy="2733120"/>
              <a:chOff x="7288200" y="2757600"/>
              <a:chExt cx="1695960" cy="27331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7664760" y="2757600"/>
                <a:ext cx="383400" cy="2655720"/>
                <a:chOff x="7664760" y="2757600"/>
                <a:chExt cx="383400" cy="26557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701120" y="2826000"/>
                  <a:ext cx="30168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664760" y="275760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7959960" y="2760840"/>
                <a:ext cx="383400" cy="2655720"/>
                <a:chOff x="7959960" y="2760840"/>
                <a:chExt cx="383400" cy="2655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996320" y="2829240"/>
                  <a:ext cx="30168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59960" y="2760840"/>
                  <a:ext cx="3834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8259120" y="2760840"/>
                <a:ext cx="372600" cy="2655720"/>
                <a:chOff x="8259120" y="2760840"/>
                <a:chExt cx="372600" cy="2655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8299440" y="2829240"/>
                  <a:ext cx="30132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59120" y="2760840"/>
                  <a:ext cx="372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568720" y="2760840"/>
                <a:ext cx="415440" cy="2655720"/>
                <a:chOff x="8568720" y="2760840"/>
                <a:chExt cx="415440" cy="2655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602920" y="2829240"/>
                  <a:ext cx="301680" cy="25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568720" y="2760840"/>
                  <a:ext cx="4154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293960" y="3019680"/>
                <a:ext cx="1605600" cy="440640"/>
                <a:chOff x="7293960" y="3019680"/>
                <a:chExt cx="1605600" cy="4406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318440" y="313236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293960" y="301968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292520" y="3272040"/>
                <a:ext cx="1605600" cy="440640"/>
                <a:chOff x="7292520" y="3272040"/>
                <a:chExt cx="1605600" cy="4406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7317000" y="33847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292520" y="32720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293960" y="3524400"/>
                <a:ext cx="1605600" cy="440640"/>
                <a:chOff x="7293960" y="3524400"/>
                <a:chExt cx="1605600" cy="4406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318440" y="363708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293960" y="352440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293960" y="3781440"/>
                <a:ext cx="1605600" cy="440640"/>
                <a:chOff x="7293960" y="3781440"/>
                <a:chExt cx="1605600" cy="4406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7318440" y="38941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293960" y="37814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293960" y="4037040"/>
                <a:ext cx="1605600" cy="440640"/>
                <a:chOff x="7293960" y="4037040"/>
                <a:chExt cx="1605600" cy="4406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18440" y="41497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293960" y="40370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293960" y="4292640"/>
                <a:ext cx="1605600" cy="440640"/>
                <a:chOff x="7293960" y="4292640"/>
                <a:chExt cx="1605600" cy="4406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318440" y="44053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293960" y="4292640"/>
                  <a:ext cx="367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289280" y="4548240"/>
                <a:ext cx="1610280" cy="398880"/>
                <a:chOff x="7289280" y="4548240"/>
                <a:chExt cx="1610280" cy="3988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318440" y="466092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289280" y="4548240"/>
                  <a:ext cx="372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288200" y="4799160"/>
                <a:ext cx="1611360" cy="396720"/>
                <a:chOff x="7288200" y="4799160"/>
                <a:chExt cx="1611360" cy="396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318440" y="491184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288200" y="479916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296120" y="5050080"/>
                <a:ext cx="1603440" cy="440640"/>
                <a:chOff x="7296120" y="5050080"/>
                <a:chExt cx="1603440" cy="4406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318440" y="5162760"/>
                  <a:ext cx="1581120" cy="255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296120" y="5050080"/>
                  <a:ext cx="39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94640" y="3084480"/>
                <a:ext cx="296640" cy="2403360"/>
                <a:chOff x="7694640" y="3084480"/>
                <a:chExt cx="296640" cy="24033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96080" y="308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96080" y="3327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696080" y="36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694640" y="384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96080" y="40989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694640" y="4341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94640" y="4616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694640" y="4859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696080" y="5119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8002440" y="3083040"/>
                <a:ext cx="297000" cy="2403360"/>
                <a:chOff x="8002440" y="3083040"/>
                <a:chExt cx="297000" cy="24033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8004240" y="30830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004240" y="33256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004240" y="36003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002440" y="38433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004240" y="4097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02440" y="4340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002440" y="46148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002440" y="48578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004240" y="51181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8315280" y="3084480"/>
                <a:ext cx="296640" cy="2403360"/>
                <a:chOff x="8315280" y="3084480"/>
                <a:chExt cx="296640" cy="24033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8316720" y="308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316720" y="3327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316720" y="36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315280" y="384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316720" y="40989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315280" y="4341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315280" y="4616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315280" y="4859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316720" y="5119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8623080" y="3084480"/>
                <a:ext cx="297000" cy="2403360"/>
                <a:chOff x="8623080" y="3084480"/>
                <a:chExt cx="297000" cy="24033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8624880" y="3084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624880" y="33271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624880" y="36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623080" y="384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624880" y="4098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623080" y="4341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623080" y="4616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623080" y="48592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624880" y="5119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7318440" y="2833560"/>
              <a:ext cx="381240" cy="295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29600" y="27576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’s try it out on something we kn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a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93 categorized into machine learning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, neural networks, rule learn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stic models, genetic algorith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ment learning, case-ba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#1: can we reconstruct ML topics from citation stru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 structure independent of text used for initial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#2: Can we identify authoritative papers in each topic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untitled" descr=""/>
          <p:cNvPicPr/>
          <p:nvPr/>
        </p:nvPicPr>
        <p:blipFill>
          <a:blip r:embed="rId1"/>
          <a:stretch/>
        </p:blipFill>
        <p:spPr>
          <a:xfrm>
            <a:off x="6400800" y="1550880"/>
            <a:ext cx="266868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 authority -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76200" y="1425600"/>
            <a:ext cx="6915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1  (Genetic Algorith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92     How genetic algorithms work: A critical look at implicit parallelism. Grefenstet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90     A theory and methodology of inductive learning. Michalsk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73     Co-evolving parasites improve simulated evolution as an optimization procedure. Hi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2  (Genetic Algorith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95     Induction of finite automata by genetic algorithms. Zhou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95     Implementation of massively parallel genetic algorithm on the MasPar MP-1. Logar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94     Genetic programming: A new paradigm for control and analysis. Ham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3  (Reinforcement Learning/Genetic Algorithm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6     Learning to predict by the methods of temporal differences. S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38     Genetic Algorithms in Search, Optimization, and Machine Learning. Angeline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78     Adaptation in Natural and Artificial Systems. Hol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4  (Neural Networ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62     Learning internal representations by error propagation. Rumelhart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29     Pattern Recognition and Neural Networks. Lawrence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27     Self-Organization and Associative Memory. Hasselmo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5  (Rule Lea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828    Irrelevant features and the subset selection problem, Cohen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721    Very Simple Classification Rules Perform Well on Most Commonly Used Datasets. Hol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680     Classification and Regression Trees. Breiman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6  (Rule Lea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30     Classification and Regression Trees. Breiman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879     The CN2 induction algorithm. Clark et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751     Boolean Feature Discovery in Empirical Learning. Pagal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envector 7  ([Classical Statistics?]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-132    Method of Least Squares. Gau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-132    The historical development of the Gauss linear model. Se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-132    A Treatise on the Adjustment of Observations. Wr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/HITS – why it (sort of)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 Co-citation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rincipal eigenvectors of co-citation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abel as primary topics of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Induced Topic Selection (HITS) –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igenvalue iteration to identify principal “hubs” and “authorities” of a linked 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43434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 just doing factor analysis on link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as is done for tex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 are using Gaussian (wrong!) statistical model for variation in cit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explicit factor analysis using 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likeliho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bibliometric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hn ’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441972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probabilistic foundation for reasoning about document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ms to frequently outperform HITS/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40400" y="2819520"/>
                <a:ext cx="35128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191120" y="1981080"/>
                <a:ext cx="3449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633920" y="3621240"/>
                <a:ext cx="3595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bibliometrics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r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43400" y="1425600"/>
            <a:ext cx="7203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1  (Reinforcement Lear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08  Learning to predict by the methods of temporal differences. S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6  Neuronlike adaptive elements that can solve difficult learning control problems. Barto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5  Practical Issues in Temporal Difference Learning. Tesa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2  (Rule Lear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8  Explanation-based generalization: a unifying view. Mitchell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7  Learning internal representations by error propagation. Rumelhart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6  Explanation-Based Learning: An Alternative View. DeJong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3  (Neural Networ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20  Learning internal representations by error propagation. Rumelhart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1  Neural networks and the bias-variance dilemma. Gema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49  The Cascade-Correlation learning architecture. Fahlma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4  (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93  Classification and Regression Trees. Breima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6  Learnability and the Vapnik-Chervonenkis dimension, Blumer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5  Learning Quickly when Irrelevant Attributes Abound. Littl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5  (Probabilistic Reaso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18  Probabilistic Reasoning in Intelligent Systems: Networks of Plausible Inference. Pear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94  Maximum likelihood from incomplete data via the em algorithm. Dempster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6  Local computations with probabilities on graphical structures... Lauritze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6  (Genetic Algorith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57  Genetic Algorithms in Search, Optimization, and Machine Learning. Gold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32  Adaptation in Natural and Artificial Systems. Hol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96  Genetic Programming: On the Programming of Computers by Means of Natural Selection. Ko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 7  (Log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3  Efficient induction of logic programs. Muggleton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54  Learning logical definitions from relations. Quin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33  Inductive Logic Programming Techniques and Applications. Lavrac et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15200" y="6248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ols for understanding a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66652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pic of this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ther documents are there on this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opics in this coll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they rel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better documents on this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9320" y="1910160"/>
            <a:ext cx="1523880" cy="3416040"/>
            <a:chOff x="1219320" y="1910160"/>
            <a:chExt cx="1523880" cy="3416040"/>
          </a:xfrm>
        </p:grpSpPr>
        <p:sp>
          <p:nvSpPr>
            <p:cNvPr id="617" name=""/>
            <p:cNvSpPr/>
            <p:nvPr/>
          </p:nvSpPr>
          <p:spPr>
            <a:xfrm rot="16200000">
              <a:off x="-75960" y="3205440"/>
              <a:ext cx="3416040" cy="825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Text analysi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057400" y="2057040"/>
              <a:ext cx="685800" cy="22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1981080" y="2819160"/>
              <a:ext cx="7621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981080" y="3657600"/>
              <a:ext cx="762120" cy="763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248520" y="1949760"/>
            <a:ext cx="1896480" cy="3449880"/>
            <a:chOff x="6248520" y="1949760"/>
            <a:chExt cx="1896480" cy="3449880"/>
          </a:xfrm>
        </p:grpSpPr>
        <p:sp>
          <p:nvSpPr>
            <p:cNvPr id="622" name=""/>
            <p:cNvSpPr/>
            <p:nvPr/>
          </p:nvSpPr>
          <p:spPr>
            <a:xfrm rot="16200000">
              <a:off x="6007320" y="3261960"/>
              <a:ext cx="3449880" cy="825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nk analysi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57640" y="2895480"/>
              <a:ext cx="6094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858000" y="3733920"/>
              <a:ext cx="533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248520" y="4343040"/>
              <a:ext cx="114300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857640" y="480060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can they play toge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have two independent, probabilistic document models with parallel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445760" y="2438280"/>
            <a:ext cx="2352600" cy="2590920"/>
            <a:chOff x="1445760" y="2438280"/>
            <a:chExt cx="2352600" cy="2590920"/>
          </a:xfrm>
        </p:grpSpPr>
        <p:grpSp>
          <p:nvGrpSpPr>
            <p:cNvPr id="630" name=""/>
            <p:cNvGrpSpPr/>
            <p:nvPr/>
          </p:nvGrpSpPr>
          <p:grpSpPr>
            <a:xfrm>
              <a:off x="2774880" y="2438280"/>
              <a:ext cx="1023480" cy="2590920"/>
              <a:chOff x="2774880" y="2438280"/>
              <a:chExt cx="1023480" cy="2590920"/>
            </a:xfrm>
          </p:grpSpPr>
          <p:sp>
            <p:nvSpPr>
              <p:cNvPr id="631" name=""/>
              <p:cNvSpPr/>
              <p:nvPr/>
            </p:nvSpPr>
            <p:spPr>
              <a:xfrm>
                <a:off x="3286080" y="396216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86080" y="29718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90720" y="342900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05920" y="34700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90720" y="243828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74880" y="2479680"/>
                <a:ext cx="102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90720" y="4419360"/>
                <a:ext cx="990720" cy="609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07640" y="4460760"/>
                <a:ext cx="95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445760" y="3219480"/>
              <a:ext cx="122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LS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583160" y="2438280"/>
            <a:ext cx="2530800" cy="2590920"/>
            <a:chOff x="4583160" y="2438280"/>
            <a:chExt cx="2530800" cy="2590920"/>
          </a:xfrm>
        </p:grpSpPr>
        <p:grpSp>
          <p:nvGrpSpPr>
            <p:cNvPr id="641" name=""/>
            <p:cNvGrpSpPr/>
            <p:nvPr/>
          </p:nvGrpSpPr>
          <p:grpSpPr>
            <a:xfrm>
              <a:off x="4583160" y="2438280"/>
              <a:ext cx="1081800" cy="2590920"/>
              <a:chOff x="4583160" y="2438280"/>
              <a:chExt cx="1081800" cy="2590920"/>
            </a:xfrm>
          </p:grpSpPr>
          <p:sp>
            <p:nvSpPr>
              <p:cNvPr id="642" name=""/>
              <p:cNvSpPr/>
              <p:nvPr/>
            </p:nvSpPr>
            <p:spPr>
              <a:xfrm>
                <a:off x="5094000" y="396216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094000" y="29718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99000" y="3429000"/>
                <a:ext cx="990360" cy="609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13840" y="34700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99000" y="2438280"/>
                <a:ext cx="990360" cy="609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83160" y="2479680"/>
                <a:ext cx="102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599000" y="4419360"/>
                <a:ext cx="990360" cy="6098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18080" y="4460760"/>
                <a:ext cx="104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5712480" y="3200400"/>
              <a:ext cx="14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I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85800" y="2286000"/>
            <a:ext cx="7772400" cy="4114800"/>
            <a:chOff x="685800" y="2286000"/>
            <a:chExt cx="7772400" cy="4114800"/>
          </a:xfrm>
        </p:grpSpPr>
        <p:sp>
          <p:nvSpPr>
            <p:cNvPr id="652" name=""/>
            <p:cNvSpPr/>
            <p:nvPr/>
          </p:nvSpPr>
          <p:spPr>
            <a:xfrm>
              <a:off x="685800" y="52578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hat happens if we put them in a room together and turn out the light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666880" y="2286000"/>
              <a:ext cx="3048120" cy="2819520"/>
              <a:chOff x="2666880" y="2286000"/>
              <a:chExt cx="3048120" cy="2819520"/>
            </a:xfrm>
          </p:grpSpPr>
          <p:sp>
            <p:nvSpPr>
              <p:cNvPr id="654" name=""/>
              <p:cNvSpPr/>
              <p:nvPr/>
            </p:nvSpPr>
            <p:spPr>
              <a:xfrm>
                <a:off x="2666880" y="2286000"/>
                <a:ext cx="304812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43400" y="3962520"/>
                <a:ext cx="7506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352320" y="3962520"/>
                <a:ext cx="5238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24160" y="297180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28800" y="3429000"/>
                <a:ext cx="990720" cy="609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744000" y="34704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628800" y="243864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612960" y="2479680"/>
                <a:ext cx="102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90720" y="4419720"/>
                <a:ext cx="9907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07640" y="4461120"/>
                <a:ext cx="95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99000" y="4419720"/>
                <a:ext cx="990360" cy="609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18080" y="4461120"/>
                <a:ext cx="104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z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85800" y="141120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ally trivial to com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wist: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links 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li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explicit factor analysis using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likelih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ith mixing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440" y="420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t Probabilistic Document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54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1538280" y="4154400"/>
                <a:ext cx="7277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1623960" y="3147840"/>
                <a:ext cx="7088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519200" y="5526000"/>
                <a:ext cx="6981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j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oal of this 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ols for learning, manipulating and navigating the structure of document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elimin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a document coll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bitrary collection o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ay, what’s a docu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obvious: audio, video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less obvious: financial transaction records, sensor streams, click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point of a document coll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make it easy to find information (in principl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 data set from C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66 pages from Computer Science departments at US universities (6099 have both text and hyper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z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of page (cornell, washington, texas, wisconsin, o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page (course, department, project, faculty, student,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a research paper 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745 research papers and extracted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93 categorized into machine learning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, neural networks, rule learning, probabilistic models, genetic algorithms, reinforcement learning, case-ba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ication accu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model improves classificatio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to factor space, label according to nearest labeled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04920" y="3006720"/>
            <a:ext cx="8534160" cy="3624840"/>
            <a:chOff x="304920" y="3006720"/>
            <a:chExt cx="8534160" cy="3624840"/>
          </a:xfrm>
        </p:grpSpPr>
        <p:grpSp>
          <p:nvGrpSpPr>
            <p:cNvPr id="677" name=""/>
            <p:cNvGrpSpPr/>
            <p:nvPr/>
          </p:nvGrpSpPr>
          <p:grpSpPr>
            <a:xfrm>
              <a:off x="304920" y="3006720"/>
              <a:ext cx="4572000" cy="3624840"/>
              <a:chOff x="304920" y="3006720"/>
              <a:chExt cx="4572000" cy="3624840"/>
            </a:xfrm>
          </p:grpSpPr>
          <p:pic>
            <p:nvPicPr>
              <p:cNvPr id="678" name="webmix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560" y="3006720"/>
                <a:ext cx="441936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1668240" y="6232680"/>
                <a:ext cx="17596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xing fr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6200000">
                <a:off x="-740880" y="4353840"/>
                <a:ext cx="2491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assification accura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523520" y="5292720"/>
                <a:ext cx="13496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kb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802040" y="3006720"/>
              <a:ext cx="4037040" cy="3587760"/>
              <a:chOff x="4802040" y="3006720"/>
              <a:chExt cx="4037040" cy="3587760"/>
            </a:xfrm>
          </p:grpSpPr>
          <p:sp>
            <p:nvSpPr>
              <p:cNvPr id="683" name=""/>
              <p:cNvSpPr/>
              <p:nvPr/>
            </p:nvSpPr>
            <p:spPr>
              <a:xfrm>
                <a:off x="6087600" y="6195600"/>
                <a:ext cx="17596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xing fr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36880" y="5292360"/>
                <a:ext cx="19897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ra citation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5" name="mlmix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5720" y="3006720"/>
                <a:ext cx="3843360" cy="32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 rot="16200000">
                <a:off x="3755880" y="4317480"/>
                <a:ext cx="2491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assification accura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67360" y="5216400"/>
                <a:ext cx="11926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r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about”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t|z) [actually, p(t|z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p(t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43000" y="2733840"/>
            <a:ext cx="7162920" cy="1719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1: class, homework, lecture, hour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2: systems, professor, university, computer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3: system, data, project, group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4: page, home, computer, austin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/depart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791240"/>
            <a:ext cx="6257880" cy="150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1: learning, reinforcement, ne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2: learning, networks, Bay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3: learning, programming, gen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about”? 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t|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p(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2362320"/>
            <a:ext cx="7162920" cy="104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on home p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ext, document, 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botics and Vision Lab p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obotics, learning, robots, don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ced Database Systems 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abase, project,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85800" y="3733920"/>
            <a:ext cx="8000640" cy="2209320"/>
            <a:chOff x="685800" y="3733920"/>
            <a:chExt cx="8000640" cy="2209320"/>
          </a:xfrm>
        </p:grpSpPr>
        <p:grpSp>
          <p:nvGrpSpPr>
            <p:cNvPr id="696" name=""/>
            <p:cNvGrpSpPr/>
            <p:nvPr/>
          </p:nvGrpSpPr>
          <p:grpSpPr>
            <a:xfrm>
              <a:off x="1143000" y="4319640"/>
              <a:ext cx="7543440" cy="1623600"/>
              <a:chOff x="1143000" y="4319640"/>
              <a:chExt cx="7543440" cy="1623600"/>
            </a:xfrm>
          </p:grpSpPr>
          <p:sp>
            <p:nvSpPr>
              <p:cNvPr id="697" name=""/>
              <p:cNvSpPr/>
              <p:nvPr/>
            </p:nvSpPr>
            <p:spPr>
              <a:xfrm>
                <a:off x="1143000" y="4319640"/>
                <a:ext cx="7512840" cy="1623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223640" y="4942440"/>
                <a:ext cx="7303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566 Reinforcement Learn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239 Neural Network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44 Log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27 Rule Learn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26 The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26 Probabilistic Reason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072 Genetic Algorith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23640" y="4319640"/>
                <a:ext cx="7462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actors for “TD Learning of Game Evaluation Functions with Hierarchical Neural Architectures,” by M.A. Wiering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143000" y="4942440"/>
                <a:ext cx="74516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685800" y="373392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a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opic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document about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uthoritative is a document in its field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w likely is it to be cited from its principal topic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90720" y="2743200"/>
            <a:ext cx="7772400" cy="3150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predict by the methods of temporal difference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nation-based generalization: a unifying view. Mitchell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internal representations by error propagatio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melhart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and Regression Trees. Breima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Reasoning in Intelligent Systems: Network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usible Inference. Pea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 Algorithms in Search, Optimization, and Mach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rning. Gold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induction of logic programs. Muggleto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ative docu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cross-factor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theory papers are most authoritative with respect to the Neural Network community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Decision Theoretic Generalizations of the PAC Model for Neural Net and other Learning Applications,'' by David Hauss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209680" y="2860560"/>
                <a:ext cx="53182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n</m:t>
                    </m:r>
                    <m:r>
                      <m:t xml:space="preserve">)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ory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ing document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these topics relate to each 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 in document are signposts in fa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are a directe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two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two points in factor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371240" y="3581280"/>
            <a:ext cx="5867280" cy="2641320"/>
            <a:chOff x="1371240" y="3581280"/>
            <a:chExt cx="5867280" cy="2641320"/>
          </a:xfrm>
        </p:grpSpPr>
        <p:sp>
          <p:nvSpPr>
            <p:cNvPr id="711" name=""/>
            <p:cNvSpPr/>
            <p:nvPr/>
          </p:nvSpPr>
          <p:spPr>
            <a:xfrm>
              <a:off x="2658600" y="38358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69480" y="393120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113280" y="3835440"/>
              <a:ext cx="2475000" cy="2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96520" y="3740400"/>
              <a:ext cx="201672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296520" y="4313160"/>
              <a:ext cx="91800" cy="152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955480" y="3740040"/>
              <a:ext cx="100800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55480" y="4408920"/>
              <a:ext cx="1283040" cy="38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55480" y="4599720"/>
              <a:ext cx="366120" cy="10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71560" y="4408920"/>
              <a:ext cx="2016720" cy="143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571200" y="5936400"/>
              <a:ext cx="164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71560" y="6127560"/>
              <a:ext cx="201672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654640" y="5649840"/>
              <a:ext cx="549720" cy="47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562840" y="4599720"/>
              <a:ext cx="274680" cy="10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56280" y="3581280"/>
              <a:ext cx="473760" cy="541080"/>
            </a:xfrm>
            <a:custGeom>
              <a:avLst/>
              <a:gdLst/>
              <a:ahLst/>
              <a:rect l="l" t="t" r="r" b="b"/>
              <a:pathLst>
                <a:path w="248" h="272">
                  <a:moveTo>
                    <a:pt x="248" y="224"/>
                  </a:moveTo>
                  <a:cubicBezTo>
                    <a:pt x="240" y="144"/>
                    <a:pt x="232" y="64"/>
                    <a:pt x="200" y="32"/>
                  </a:cubicBezTo>
                  <a:cubicBezTo>
                    <a:pt x="168" y="0"/>
                    <a:pt x="88" y="8"/>
                    <a:pt x="56" y="32"/>
                  </a:cubicBezTo>
                  <a:cubicBezTo>
                    <a:pt x="24" y="56"/>
                    <a:pt x="0" y="136"/>
                    <a:pt x="8" y="176"/>
                  </a:cubicBezTo>
                  <a:cubicBezTo>
                    <a:pt x="16" y="216"/>
                    <a:pt x="60" y="244"/>
                    <a:pt x="104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480120" y="4503960"/>
              <a:ext cx="2108160" cy="12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829880" y="5649840"/>
              <a:ext cx="641160" cy="47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1371240" y="4599360"/>
              <a:ext cx="1099800" cy="10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ing document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62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nk can be evidence of reference between arbitrary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opic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6128280" y="1447920"/>
            <a:ext cx="3003480" cy="1713240"/>
            <a:chOff x="6128280" y="1447920"/>
            <a:chExt cx="3003480" cy="1713240"/>
          </a:xfrm>
        </p:grpSpPr>
        <p:sp>
          <p:nvSpPr>
            <p:cNvPr id="731" name=""/>
            <p:cNvSpPr/>
            <p:nvPr/>
          </p:nvSpPr>
          <p:spPr>
            <a:xfrm>
              <a:off x="6347160" y="257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08960" y="2579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z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595200">
              <a:off x="6954480" y="1711080"/>
              <a:ext cx="1114560" cy="188640"/>
            </a:xfrm>
            <a:prstGeom prst="rightArrow">
              <a:avLst>
                <a:gd name="adj1" fmla="val 50000"/>
                <a:gd name="adj2" fmla="val 14771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508800" y="1787400"/>
              <a:ext cx="258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7216400">
              <a:off x="6043680" y="20116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(c|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264520" y="2016000"/>
              <a:ext cx="390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3558000">
              <a:off x="8195400" y="20556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(z’|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76560" y="1447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70840" y="163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685800" y="3886200"/>
            <a:ext cx="8077320" cy="2743200"/>
            <a:chOff x="685800" y="3886200"/>
            <a:chExt cx="8077320" cy="2743200"/>
          </a:xfrm>
        </p:grpSpPr>
        <p:grpSp>
          <p:nvGrpSpPr>
            <p:cNvPr id="741" name=""/>
            <p:cNvGrpSpPr/>
            <p:nvPr/>
          </p:nvGrpSpPr>
          <p:grpSpPr>
            <a:xfrm>
              <a:off x="5851440" y="3886200"/>
              <a:ext cx="2911680" cy="2743200"/>
              <a:chOff x="5851440" y="3886200"/>
              <a:chExt cx="2911680" cy="2743200"/>
            </a:xfrm>
          </p:grpSpPr>
          <p:sp>
            <p:nvSpPr>
              <p:cNvPr id="742" name=""/>
              <p:cNvSpPr/>
              <p:nvPr/>
            </p:nvSpPr>
            <p:spPr>
              <a:xfrm>
                <a:off x="7875000" y="609156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ur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276960" y="602640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cul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51440" y="479772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udent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part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09720" y="419760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875360" y="4654800"/>
                <a:ext cx="887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pt.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cul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76320" y="6106680"/>
                <a:ext cx="532440" cy="195840"/>
              </a:xfrm>
              <a:prstGeom prst="leftArrow">
                <a:avLst>
                  <a:gd name="adj1" fmla="val 50000"/>
                  <a:gd name="adj2" fmla="val 6796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8301600">
                <a:off x="6743160" y="4539240"/>
                <a:ext cx="532440" cy="195840"/>
              </a:xfrm>
              <a:prstGeom prst="leftArrow">
                <a:avLst>
                  <a:gd name="adj1" fmla="val 50000"/>
                  <a:gd name="adj2" fmla="val 6796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5489000">
                <a:off x="6282360" y="5582160"/>
                <a:ext cx="522720" cy="199440"/>
              </a:xfrm>
              <a:prstGeom prst="leftArrow">
                <a:avLst>
                  <a:gd name="adj1" fmla="val 50000"/>
                  <a:gd name="adj2" fmla="val 6552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615400">
                <a:off x="6618240" y="5141160"/>
                <a:ext cx="1404000" cy="199440"/>
              </a:xfrm>
              <a:prstGeom prst="leftArrow">
                <a:avLst>
                  <a:gd name="adj1" fmla="val 50000"/>
                  <a:gd name="adj2" fmla="val 1759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476120" y="3886200"/>
                <a:ext cx="599040" cy="261360"/>
              </a:xfrm>
              <a:custGeom>
                <a:avLst/>
                <a:gdLst>
                  <a:gd name="textAreaLeft" fmla="*/ 104760 w 599040"/>
                  <a:gd name="textAreaRight" fmla="*/ 434520 w 599040"/>
                  <a:gd name="textAreaTop" fmla="*/ 34920 h 261360"/>
                  <a:gd name="textAreaBottom" fmla="*/ 226440 h 26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6815400">
                <a:off x="6751440" y="5272200"/>
                <a:ext cx="1404000" cy="199440"/>
              </a:xfrm>
              <a:prstGeom prst="leftArrow">
                <a:avLst>
                  <a:gd name="adj1" fmla="val 50000"/>
                  <a:gd name="adj2" fmla="val 17599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757200">
                <a:off x="7320600" y="5568840"/>
                <a:ext cx="902160" cy="192600"/>
              </a:xfrm>
              <a:prstGeom prst="leftArrow">
                <a:avLst>
                  <a:gd name="adj1" fmla="val 50000"/>
                  <a:gd name="adj2" fmla="val 11710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0320" y="6368040"/>
                <a:ext cx="599040" cy="261360"/>
              </a:xfrm>
              <a:custGeom>
                <a:avLst/>
                <a:gdLst>
                  <a:gd name="textAreaLeft" fmla="*/ 104760 w 599040"/>
                  <a:gd name="textAreaRight" fmla="*/ 434520 w 599040"/>
                  <a:gd name="textAreaTop" fmla="*/ 34920 h 261360"/>
                  <a:gd name="textAreaBottom" fmla="*/ 226440 h 26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5388000">
                <a:off x="7835040" y="5612400"/>
                <a:ext cx="902160" cy="192600"/>
              </a:xfrm>
              <a:prstGeom prst="leftArrow">
                <a:avLst>
                  <a:gd name="adj1" fmla="val 50000"/>
                  <a:gd name="adj2" fmla="val 11710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4666800">
                <a:off x="7087680" y="5243040"/>
                <a:ext cx="1692720" cy="154080"/>
              </a:xfrm>
              <a:prstGeom prst="leftArrow">
                <a:avLst>
                  <a:gd name="adj1" fmla="val 50000"/>
                  <a:gd name="adj2" fmla="val 27465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178600">
                <a:off x="6864120" y="5649480"/>
                <a:ext cx="1119240" cy="195840"/>
              </a:xfrm>
              <a:prstGeom prst="leftArrow">
                <a:avLst>
                  <a:gd name="adj1" fmla="val 50000"/>
                  <a:gd name="adj2" fmla="val 14287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85800" y="4800600"/>
              <a:ext cx="5562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ild a “Generalized Reference Map” over document spa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85800" y="2971800"/>
            <a:ext cx="5562720" cy="1541520"/>
            <a:chOff x="685800" y="2971800"/>
            <a:chExt cx="5562720" cy="154152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1955880" y="3962520"/>
                  <a:ext cx="397656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'</m:t>
                          </m:r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685800" y="2971800"/>
              <a:ext cx="5562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grate over all links to compute “reference flow” from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segment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534520" cy="27432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use: Intelligent  spid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may cover many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s trajectory through topic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via factor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window over document, track  trajectory of projection in fa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at ‘jumps’ in fa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477120" y="2057400"/>
            <a:ext cx="2133360" cy="1905120"/>
            <a:chOff x="6477120" y="2057400"/>
            <a:chExt cx="2133360" cy="1905120"/>
          </a:xfrm>
        </p:grpSpPr>
        <p:sp>
          <p:nvSpPr>
            <p:cNvPr id="766" name=""/>
            <p:cNvSpPr/>
            <p:nvPr/>
          </p:nvSpPr>
          <p:spPr>
            <a:xfrm>
              <a:off x="6477120" y="2057400"/>
              <a:ext cx="213336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51000" y="2366280"/>
              <a:ext cx="1613880" cy="1345680"/>
            </a:xfrm>
            <a:custGeom>
              <a:avLst/>
              <a:gdLst/>
              <a:ahLst/>
              <a:rect l="l" t="t" r="r" b="b"/>
              <a:pathLst>
                <a:path w="1112" h="1288">
                  <a:moveTo>
                    <a:pt x="0" y="40"/>
                  </a:moveTo>
                  <a:cubicBezTo>
                    <a:pt x="104" y="20"/>
                    <a:pt x="208" y="0"/>
                    <a:pt x="240" y="40"/>
                  </a:cubicBezTo>
                  <a:cubicBezTo>
                    <a:pt x="272" y="80"/>
                    <a:pt x="112" y="240"/>
                    <a:pt x="192" y="280"/>
                  </a:cubicBezTo>
                  <a:cubicBezTo>
                    <a:pt x="272" y="320"/>
                    <a:pt x="680" y="192"/>
                    <a:pt x="720" y="280"/>
                  </a:cubicBezTo>
                  <a:cubicBezTo>
                    <a:pt x="760" y="368"/>
                    <a:pt x="368" y="728"/>
                    <a:pt x="432" y="808"/>
                  </a:cubicBezTo>
                  <a:cubicBezTo>
                    <a:pt x="496" y="888"/>
                    <a:pt x="1112" y="680"/>
                    <a:pt x="1104" y="760"/>
                  </a:cubicBezTo>
                  <a:cubicBezTo>
                    <a:pt x="1096" y="840"/>
                    <a:pt x="740" y="1064"/>
                    <a:pt x="384" y="128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25880" y="3038760"/>
              <a:ext cx="874800" cy="3160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9240" y="2923200"/>
              <a:ext cx="437400" cy="431640"/>
            </a:xfrm>
            <a:prstGeom prst="ellipse">
              <a:avLst/>
            </a:prstGeom>
            <a:noFill/>
            <a:ln w="1908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297560" y="2518920"/>
              <a:ext cx="52524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95640" y="2345760"/>
              <a:ext cx="525240" cy="461520"/>
            </a:xfrm>
            <a:prstGeom prst="ellipse">
              <a:avLst/>
            </a:prstGeom>
            <a:noFill/>
            <a:ln w="1908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 flipV="1">
            <a:off x="6934320" y="2285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934320" y="236196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96080" y="2666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678132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153280" y="32767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29600" y="32767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29600" y="327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229600" y="3276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477120" y="2286000"/>
            <a:ext cx="2057400" cy="1295280"/>
          </a:xfrm>
          <a:custGeom>
            <a:avLst/>
            <a:gdLst/>
            <a:ahLst/>
            <a:rect l="l" t="t" r="r" b="b"/>
            <a:pathLst>
              <a:path w="1296" h="816">
                <a:moveTo>
                  <a:pt x="48" y="720"/>
                </a:moveTo>
                <a:lnTo>
                  <a:pt x="384" y="0"/>
                </a:lnTo>
                <a:lnTo>
                  <a:pt x="1296" y="0"/>
                </a:lnTo>
                <a:lnTo>
                  <a:pt x="1008" y="816"/>
                </a:lnTo>
                <a:lnTo>
                  <a:pt x="0" y="816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want to find documents containing phrase “Britney Spea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or space most likely to contain thes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ligent spid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543800" y="1523880"/>
            <a:ext cx="609480" cy="1143000"/>
            <a:chOff x="7543800" y="1523880"/>
            <a:chExt cx="609480" cy="1143000"/>
          </a:xfrm>
        </p:grpSpPr>
        <p:sp>
          <p:nvSpPr>
            <p:cNvPr id="784" name=""/>
            <p:cNvSpPr/>
            <p:nvPr/>
          </p:nvSpPr>
          <p:spPr>
            <a:xfrm>
              <a:off x="7543800" y="1600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43800" y="1523880"/>
              <a:ext cx="609480" cy="533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69120 h 533520"/>
                <a:gd name="textAreaBottom" fmla="*/ 4644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09480" y="2286000"/>
            <a:ext cx="7785360" cy="2362320"/>
            <a:chOff x="609480" y="2286000"/>
            <a:chExt cx="7785360" cy="2362320"/>
          </a:xfrm>
        </p:grpSpPr>
        <p:sp>
          <p:nvSpPr>
            <p:cNvPr id="787" name=""/>
            <p:cNvSpPr/>
            <p:nvPr/>
          </p:nvSpPr>
          <p:spPr>
            <a:xfrm>
              <a:off x="609480" y="3657600"/>
              <a:ext cx="7315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amine segment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current document, project them into factor space points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6719400" y="2286000"/>
              <a:ext cx="1675440" cy="1272240"/>
              <a:chOff x="6719400" y="2286000"/>
              <a:chExt cx="1675440" cy="1272240"/>
            </a:xfrm>
          </p:grpSpPr>
          <p:sp>
            <p:nvSpPr>
              <p:cNvPr id="789" name=""/>
              <p:cNvSpPr/>
              <p:nvPr/>
            </p:nvSpPr>
            <p:spPr>
              <a:xfrm>
                <a:off x="6719400" y="2971800"/>
                <a:ext cx="45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557480" y="3048120"/>
                <a:ext cx="45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938360" y="2286000"/>
                <a:ext cx="45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609480" y="2590920"/>
            <a:ext cx="7315200" cy="3047760"/>
            <a:chOff x="609480" y="2590920"/>
            <a:chExt cx="7315200" cy="3047760"/>
          </a:xfrm>
        </p:grpSpPr>
        <p:grpSp>
          <p:nvGrpSpPr>
            <p:cNvPr id="793" name=""/>
            <p:cNvGrpSpPr/>
            <p:nvPr/>
          </p:nvGrpSpPr>
          <p:grpSpPr>
            <a:xfrm>
              <a:off x="6934320" y="2590920"/>
              <a:ext cx="990360" cy="609480"/>
              <a:chOff x="6934320" y="2590920"/>
              <a:chExt cx="990360" cy="609480"/>
            </a:xfrm>
          </p:grpSpPr>
          <p:sp>
            <p:nvSpPr>
              <p:cNvPr id="794" name=""/>
              <p:cNvSpPr/>
              <p:nvPr/>
            </p:nvSpPr>
            <p:spPr>
              <a:xfrm flipV="1">
                <a:off x="6934320" y="2666880"/>
                <a:ext cx="60948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flipV="1">
                <a:off x="7619760" y="2743200"/>
                <a:ext cx="759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620120" y="2590920"/>
                <a:ext cx="30456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609480" y="4419720"/>
              <a:ext cx="7315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reference f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(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determine which is most likely to contain transition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09480" y="472428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with greedy search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space MDP, using normalized GRM for transition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ing information in document col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engines – Goo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d by Information Retrieval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can you find me more like this on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es –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ere does this fit in the big pictu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– the rest of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at is this related to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earch engines – Goo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tudied by Information Retrieval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“can you find me more like this on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es –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ere does this fit in the big pictu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– the rest of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question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what is this related to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KB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arget document a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source document containing link to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 against 100 other “distractor” sources and a “placebo”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 source rank: 27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 placebo rank: 50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ligent spid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4861080" y="1447920"/>
            <a:ext cx="3978000" cy="4878720"/>
            <a:chOff x="4861080" y="1447920"/>
            <a:chExt cx="3978000" cy="4878720"/>
          </a:xfrm>
        </p:grpSpPr>
        <p:pic>
          <p:nvPicPr>
            <p:cNvPr id="802" name="flow" descr=""/>
            <p:cNvPicPr/>
            <p:nvPr/>
          </p:nvPicPr>
          <p:blipFill>
            <a:blip r:embed="rId1"/>
            <a:stretch/>
          </p:blipFill>
          <p:spPr>
            <a:xfrm>
              <a:off x="5181480" y="1447920"/>
              <a:ext cx="3657600" cy="46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6321240" y="592776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nk hist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4459680" y="366012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06080" y="1644480"/>
              <a:ext cx="107676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u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89640" y="2057400"/>
              <a:ext cx="1393920" cy="337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cebo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use: Dynamic hypertext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and segment plaintex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egment, identify documents in corpus most likely to be refere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838080" y="2738520"/>
            <a:ext cx="7772040" cy="3814200"/>
            <a:chOff x="838080" y="2738520"/>
            <a:chExt cx="7772040" cy="3814200"/>
          </a:xfrm>
        </p:grpSpPr>
        <p:pic>
          <p:nvPicPr>
            <p:cNvPr id="810" name="htext1" descr=""/>
            <p:cNvPicPr/>
            <p:nvPr/>
          </p:nvPicPr>
          <p:blipFill>
            <a:blip r:embed="rId1"/>
            <a:stretch/>
          </p:blipFill>
          <p:spPr>
            <a:xfrm>
              <a:off x="838080" y="3030480"/>
              <a:ext cx="4814280" cy="35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htext2" descr=""/>
            <p:cNvPicPr/>
            <p:nvPr/>
          </p:nvPicPr>
          <p:blipFill>
            <a:blip r:embed="rId2"/>
            <a:stretch/>
          </p:blipFill>
          <p:spPr>
            <a:xfrm>
              <a:off x="5239800" y="3495600"/>
              <a:ext cx="3370320" cy="24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 rot="18747000">
              <a:off x="4228920" y="3030840"/>
              <a:ext cx="1084320" cy="661680"/>
            </a:xfrm>
            <a:custGeom>
              <a:avLst/>
              <a:gdLst>
                <a:gd name="textAreaLeft" fmla="*/ 189720 w 1084320"/>
                <a:gd name="textAreaRight" fmla="*/ 786240 w 1084320"/>
                <a:gd name="textAreaTop" fmla="*/ 88560 h 661680"/>
                <a:gd name="textAreaBottom" fmla="*/ 57312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 to the big pi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at we wanted structure tha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- learned with minimal human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- operates on all docu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c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- accommodates new and stale documents as they arrive and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zed - incorporates our preferences and pr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bject of a different talk, on semi-supervised lear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we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m, any form of user inte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-scale testbed (objective evaluation of structure                                                                                                                           and authority is notoriously tric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I’ve glossed 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factor orthogonality in probabil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A-like vari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you do only have one source/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ized factor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orms of document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/visual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clustering, behavioral model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Brand 98, Fisher 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bot, smart 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transaction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ols that let us learn, manipulate and navigate the structure of our ever-growing document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can’t be understood by contents or connections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ake-home mes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4587840"/>
            <a:ext cx="3997440" cy="143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x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48320" y="4587840"/>
            <a:ext cx="4038480" cy="143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k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380880" y="4495680"/>
            <a:ext cx="8382240" cy="1600200"/>
            <a:chOff x="380880" y="4495680"/>
            <a:chExt cx="8382240" cy="1600200"/>
          </a:xfrm>
        </p:grpSpPr>
        <p:sp>
          <p:nvSpPr>
            <p:cNvPr id="823" name=""/>
            <p:cNvSpPr/>
            <p:nvPr/>
          </p:nvSpPr>
          <p:spPr>
            <a:xfrm>
              <a:off x="380880" y="4495680"/>
              <a:ext cx="83822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2126880" y="4587840"/>
              <a:ext cx="4582080" cy="1434600"/>
              <a:chOff x="2126880" y="4587840"/>
              <a:chExt cx="4582080" cy="1434600"/>
            </a:xfrm>
          </p:grpSpPr>
          <p:sp>
            <p:nvSpPr>
              <p:cNvPr id="825" name=""/>
              <p:cNvSpPr/>
              <p:nvPr/>
            </p:nvSpPr>
            <p:spPr>
              <a:xfrm>
                <a:off x="2590920" y="4716720"/>
                <a:ext cx="3809880" cy="99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126880" y="4587840"/>
                <a:ext cx="4582080" cy="1434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statistical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document analysi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ra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: What’s wrong with I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 want: Ask a question, get an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 have: “Cargo cult”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what answer would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“cargo cult” model of answer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ss words that might appear in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pseudo-document from guess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document that most resembles pseudo-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achine learning approach to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stinct vocabularies: questions and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, but distin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statistical map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vocabul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p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latent variable model of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mapping from matched Q/A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68360" indent="-93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NET FAQ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8360" indent="-93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call center document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new question, want to find matching answer in F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6629400" y="3657600"/>
            <a:ext cx="1218960" cy="2286000"/>
            <a:chOff x="6629400" y="3657600"/>
            <a:chExt cx="1218960" cy="2286000"/>
          </a:xfrm>
        </p:grpSpPr>
        <p:grpSp>
          <p:nvGrpSpPr>
            <p:cNvPr id="834" name=""/>
            <p:cNvGrpSpPr/>
            <p:nvPr/>
          </p:nvGrpSpPr>
          <p:grpSpPr>
            <a:xfrm>
              <a:off x="6629400" y="3657600"/>
              <a:ext cx="1218960" cy="533160"/>
              <a:chOff x="6629400" y="3657600"/>
              <a:chExt cx="1218960" cy="533160"/>
            </a:xfrm>
          </p:grpSpPr>
          <p:sp>
            <p:nvSpPr>
              <p:cNvPr id="835" name=""/>
              <p:cNvSpPr/>
              <p:nvPr/>
            </p:nvSpPr>
            <p:spPr>
              <a:xfrm>
                <a:off x="6824520" y="3657600"/>
                <a:ext cx="948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629400" y="3657600"/>
                <a:ext cx="12189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6629400" y="5410080"/>
              <a:ext cx="1218960" cy="533520"/>
              <a:chOff x="6629400" y="5410080"/>
              <a:chExt cx="1218960" cy="533520"/>
            </a:xfrm>
          </p:grpSpPr>
          <p:sp>
            <p:nvSpPr>
              <p:cNvPr id="838" name=""/>
              <p:cNvSpPr/>
              <p:nvPr/>
            </p:nvSpPr>
            <p:spPr>
              <a:xfrm>
                <a:off x="6824520" y="5410080"/>
                <a:ext cx="93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29400" y="541008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6629400" y="4533840"/>
              <a:ext cx="1218960" cy="533520"/>
              <a:chOff x="6629400" y="4533840"/>
              <a:chExt cx="1218960" cy="533520"/>
            </a:xfrm>
          </p:grpSpPr>
          <p:sp>
            <p:nvSpPr>
              <p:cNvPr id="841" name=""/>
              <p:cNvSpPr/>
              <p:nvPr/>
            </p:nvSpPr>
            <p:spPr>
              <a:xfrm>
                <a:off x="6818040" y="45338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p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29400" y="453384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7238880" y="419076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38880" y="510516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achine learning approach to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he appro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90% of q/a pairs, buil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ing 10% as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test question into pseudo-answer using lat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nswers closest to pseudo-answe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 according to tf-i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: mean and median rank of correct answer, averaged over 5 train/test sp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7238880" y="2133720"/>
            <a:ext cx="1218960" cy="2286000"/>
            <a:chOff x="7238880" y="2133720"/>
            <a:chExt cx="1218960" cy="2286000"/>
          </a:xfrm>
        </p:grpSpPr>
        <p:grpSp>
          <p:nvGrpSpPr>
            <p:cNvPr id="848" name=""/>
            <p:cNvGrpSpPr/>
            <p:nvPr/>
          </p:nvGrpSpPr>
          <p:grpSpPr>
            <a:xfrm>
              <a:off x="7238880" y="2133720"/>
              <a:ext cx="1218960" cy="533160"/>
              <a:chOff x="7238880" y="2133720"/>
              <a:chExt cx="1218960" cy="533160"/>
            </a:xfrm>
          </p:grpSpPr>
          <p:sp>
            <p:nvSpPr>
              <p:cNvPr id="849" name=""/>
              <p:cNvSpPr/>
              <p:nvPr/>
            </p:nvSpPr>
            <p:spPr>
              <a:xfrm>
                <a:off x="7434000" y="2133720"/>
                <a:ext cx="948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38880" y="2133720"/>
                <a:ext cx="12189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238880" y="3886200"/>
              <a:ext cx="1218960" cy="533520"/>
              <a:chOff x="7238880" y="3886200"/>
              <a:chExt cx="1218960" cy="533520"/>
            </a:xfrm>
          </p:grpSpPr>
          <p:sp>
            <p:nvSpPr>
              <p:cNvPr id="852" name=""/>
              <p:cNvSpPr/>
              <p:nvPr/>
            </p:nvSpPr>
            <p:spPr>
              <a:xfrm>
                <a:off x="7434000" y="3886200"/>
                <a:ext cx="93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m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238880" y="388620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238880" y="3009960"/>
              <a:ext cx="1218960" cy="533520"/>
              <a:chOff x="7238880" y="3009960"/>
              <a:chExt cx="1218960" cy="5335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300996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p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38880" y="3009960"/>
                <a:ext cx="1218960" cy="533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7848360" y="266688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48360" y="3581280"/>
              <a:ext cx="0" cy="3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9" name=""/>
          <p:cNvGraphicFramePr/>
          <p:nvPr/>
        </p:nvGraphicFramePr>
        <p:xfrm>
          <a:off x="1219320" y="5334120"/>
          <a:ext cx="7051680" cy="115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4120"/>
                    <a:ext cx="70516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0" y="3352680"/>
            <a:ext cx="838080" cy="381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A on web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query to a search engine, ident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topics matching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tive documents in ea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co-citation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llowing Kleinber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 query to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s make up the “root s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ll pages pointed to by roo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ll pages pointing to roo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query “Jagua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715000" y="3352680"/>
            <a:ext cx="3276720" cy="2211120"/>
            <a:chOff x="5715000" y="3352680"/>
            <a:chExt cx="3276720" cy="2211120"/>
          </a:xfrm>
        </p:grpSpPr>
        <p:sp>
          <p:nvSpPr>
            <p:cNvPr id="865" name=""/>
            <p:cNvSpPr/>
            <p:nvPr/>
          </p:nvSpPr>
          <p:spPr>
            <a:xfrm>
              <a:off x="7275600" y="36572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6858000" y="4495680"/>
              <a:ext cx="838080" cy="703800"/>
              <a:chOff x="6858000" y="4495680"/>
              <a:chExt cx="838080" cy="703800"/>
            </a:xfrm>
          </p:grpSpPr>
          <p:sp>
            <p:nvSpPr>
              <p:cNvPr id="867" name=""/>
              <p:cNvSpPr/>
              <p:nvPr/>
            </p:nvSpPr>
            <p:spPr>
              <a:xfrm>
                <a:off x="6858000" y="4570200"/>
                <a:ext cx="838080" cy="6094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75360" y="4495680"/>
                <a:ext cx="592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o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894000" y="3352680"/>
              <a:ext cx="7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57760" y="3885840"/>
              <a:ext cx="143496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arch eng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19920" y="4571640"/>
              <a:ext cx="761760" cy="609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48720" y="4571640"/>
              <a:ext cx="761760" cy="609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324480" y="495252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24480" y="464796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48520" y="4876560"/>
              <a:ext cx="761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543800" y="495288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543800" y="4647600"/>
              <a:ext cx="685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67480" y="4876560"/>
              <a:ext cx="762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15000" y="4343040"/>
              <a:ext cx="32767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720" y="5195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e 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wrong with hierarchies/hyperlink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thing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 created – time 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cope – author’s access/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– become obsolete as corpu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ive – but for wrong sub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we like? Navigable structure in a dynamic document base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- generated with minimal human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- operates on all docu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- accommodates new and stale documents as they arrive and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zed - incorporates our preferences and pr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A on web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233000" y="1905120"/>
            <a:ext cx="6845400" cy="4354920"/>
            <a:chOff x="1233000" y="1905120"/>
            <a:chExt cx="6845400" cy="4354920"/>
          </a:xfrm>
        </p:grpSpPr>
        <p:sp>
          <p:nvSpPr>
            <p:cNvPr id="884" name=""/>
            <p:cNvSpPr/>
            <p:nvPr/>
          </p:nvSpPr>
          <p:spPr>
            <a:xfrm>
              <a:off x="1233000" y="1905120"/>
              <a:ext cx="3263760" cy="435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igenvector 1: 729.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www.gannett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homefinder.cincinnati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cincinnati.com/freetime/mov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224 autofinder.cincinnati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igenvector 2: 358.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3 www.cmpnet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3 www.networkcomputing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2 www.techweb.com/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2 www.byt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igenvector 3: 294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781 www.jaguars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81 www.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343 jaguars.jacksonvill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74 www.nfl.com/jagu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7160" y="1905120"/>
              <a:ext cx="2811240" cy="3715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CA - sorted by p(c|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to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440 www.jaguars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52 jaguars.jacksonvill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32 www.jag-lovers.o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00 www.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67 www.jaguarcars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to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367 www.jaguars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33 www.jag-lovers.o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10 jaguars.jacksonville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201 www.nfl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61 www.jaguarcars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A on web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authorities, but mixes princip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going 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citations aren’t as “intention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uthoritative” page for many qu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ww.microsoft.com/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n’t orthogonal - data likelihood maximized by sharing som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clustered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appropriate than factor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715000" y="3429000"/>
            <a:ext cx="1447920" cy="533520"/>
            <a:chOff x="5715000" y="3429000"/>
            <a:chExt cx="1447920" cy="533520"/>
          </a:xfrm>
        </p:grpSpPr>
        <p:sp>
          <p:nvSpPr>
            <p:cNvPr id="889" name=""/>
            <p:cNvSpPr/>
            <p:nvPr/>
          </p:nvSpPr>
          <p:spPr>
            <a:xfrm>
              <a:off x="5715000" y="3429000"/>
              <a:ext cx="14479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48480" y="3505320"/>
              <a:ext cx="1312920" cy="3985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page best viewed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lgoIE" descr=""/>
            <p:cNvPicPr/>
            <p:nvPr/>
          </p:nvPicPr>
          <p:blipFill>
            <a:blip r:embed="rId1"/>
            <a:stretch/>
          </p:blipFill>
          <p:spPr>
            <a:xfrm>
              <a:off x="6704280" y="3446640"/>
              <a:ext cx="44100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thought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probabilistic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manipulated to estimate quantitie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ies correspond well to human intu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enforced orthogonality, doesn’t cleanly separate topics on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specifying number of topics/facto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 can extract successive orthogonal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sts approximately equival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609480" y="1295280"/>
            <a:ext cx="8075520" cy="3660120"/>
            <a:chOff x="609480" y="1295280"/>
            <a:chExt cx="8075520" cy="3660120"/>
          </a:xfrm>
        </p:grpSpPr>
        <p:grpSp>
          <p:nvGrpSpPr>
            <p:cNvPr id="895" name=""/>
            <p:cNvGrpSpPr/>
            <p:nvPr/>
          </p:nvGrpSpPr>
          <p:grpSpPr>
            <a:xfrm>
              <a:off x="5486760" y="2293920"/>
              <a:ext cx="3198240" cy="2661480"/>
              <a:chOff x="5486760" y="2293920"/>
              <a:chExt cx="3198240" cy="266148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5486760" y="2293920"/>
                <a:ext cx="3198240" cy="2661480"/>
                <a:chOff x="5486760" y="2293920"/>
                <a:chExt cx="3198240" cy="266148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6316200" y="3619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745680" y="356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84468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967800" y="34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967800" y="3682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807600" y="4047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67800" y="4230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179120" y="41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967800" y="392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807600" y="4290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610600" y="3257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980320" y="3620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16464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262200" y="307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389280" y="3196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610600" y="35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486760" y="398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367040" y="370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488360" y="38257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920360" y="3767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01864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142480" y="364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142480" y="3887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82280" y="4251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41040" y="443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73388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35200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143200" y="413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982280" y="449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786720" y="3460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33932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37600" y="3276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561440" y="340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155000" y="4070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2980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3742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60000" y="27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658280" y="25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817040" y="2657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782120" y="2903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621920" y="3268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989480" y="332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781400" y="314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424920" y="2476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548760" y="2598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54876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077240" y="229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199640" y="24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301800" y="32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7946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261480" y="2666880"/>
                <a:ext cx="1719720" cy="1760040"/>
                <a:chOff x="6261480" y="2666880"/>
                <a:chExt cx="1719720" cy="176004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6261480" y="346392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cc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cc99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979320" y="266688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0099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26800" y="363960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8000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8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609480" y="1295280"/>
              <a:ext cx="54104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cto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xtu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one term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09480" y="1295280"/>
            <a:ext cx="8075520" cy="3660120"/>
            <a:chOff x="609480" y="1295280"/>
            <a:chExt cx="8075520" cy="3660120"/>
          </a:xfrm>
        </p:grpSpPr>
        <p:grpSp>
          <p:nvGrpSpPr>
            <p:cNvPr id="953" name=""/>
            <p:cNvGrpSpPr/>
            <p:nvPr/>
          </p:nvGrpSpPr>
          <p:grpSpPr>
            <a:xfrm>
              <a:off x="5486760" y="2293920"/>
              <a:ext cx="3198240" cy="2661480"/>
              <a:chOff x="5486760" y="2293920"/>
              <a:chExt cx="3198240" cy="266148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6259680" y="2674800"/>
                <a:ext cx="1719360" cy="1760040"/>
                <a:chOff x="6259680" y="2674800"/>
                <a:chExt cx="1719360" cy="17600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6474960" y="3130200"/>
                  <a:ext cx="1218960" cy="990720"/>
                </a:xfrm>
                <a:custGeom>
                  <a:avLst/>
                  <a:gdLst/>
                  <a:ahLst/>
                  <a:rect l="l" t="t" r="r" b="b"/>
                  <a:pathLst>
                    <a:path w="768" h="624">
                      <a:moveTo>
                        <a:pt x="0" y="480"/>
                      </a:moveTo>
                      <a:lnTo>
                        <a:pt x="432" y="0"/>
                      </a:lnTo>
                      <a:lnTo>
                        <a:pt x="768" y="624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6" name=""/>
                <p:cNvGrpSpPr/>
                <p:nvPr/>
              </p:nvGrpSpPr>
              <p:grpSpPr>
                <a:xfrm>
                  <a:off x="6259680" y="2674800"/>
                  <a:ext cx="1719360" cy="1760040"/>
                  <a:chOff x="6259680" y="2674800"/>
                  <a:chExt cx="1719360" cy="176004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6259680" y="3471480"/>
                    <a:ext cx="554400" cy="78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cc9900"/>
                        </a:solidFill>
                        <a:latin typeface="Times New Roman"/>
                      </a:rPr>
                      <a:t>z</a:t>
                    </a:r>
                    <a:r>
                      <a:rPr b="1" lang="en-US" sz="4000" spc="-1" strike="noStrike" baseline="-25000">
                        <a:solidFill>
                          <a:srgbClr val="cc9900"/>
                        </a:solidFill>
                        <a:latin typeface="Times New Roman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977520" y="2674800"/>
                    <a:ext cx="554400" cy="78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z</a:t>
                    </a:r>
                    <a:r>
                      <a:rPr b="1" lang="en-US" sz="4000" spc="-1" strike="noStrike" baseline="-25000">
                        <a:solidFill>
                          <a:srgbClr val="009900"/>
                        </a:solidFill>
                        <a:latin typeface="Times New Roman"/>
                      </a:rPr>
                      <a:t>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7424640" y="3647520"/>
                    <a:ext cx="554400" cy="78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z</a:t>
                    </a:r>
                    <a:r>
                      <a:rPr b="1" lang="en-US" sz="4000" spc="-1" strike="noStrike" baseline="-25000">
                        <a:solidFill>
                          <a:srgbClr val="800000"/>
                        </a:solidFill>
                        <a:latin typeface="Times New Roman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0" name=""/>
              <p:cNvGrpSpPr/>
              <p:nvPr/>
            </p:nvGrpSpPr>
            <p:grpSpPr>
              <a:xfrm>
                <a:off x="5486760" y="2293920"/>
                <a:ext cx="3198240" cy="2661480"/>
                <a:chOff x="5486760" y="2293920"/>
                <a:chExt cx="3198240" cy="266148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6316200" y="3619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745680" y="356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84468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967800" y="34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967800" y="3682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807600" y="4047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067800" y="4230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179120" y="41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967800" y="392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807600" y="4290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610600" y="3257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980320" y="3620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164640" y="33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262200" y="307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389280" y="3196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610600" y="35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486760" y="398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367040" y="370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88360" y="38257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920360" y="3767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01864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142480" y="364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142480" y="3887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982280" y="4251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241040" y="4435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73388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352000" y="431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143200" y="413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982280" y="449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786720" y="3460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39320" y="352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437600" y="3276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61440" y="340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155000" y="4070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12980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742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60000" y="27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658280" y="2536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817040" y="2657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782120" y="2903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621920" y="3268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989480" y="332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781400" y="314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424920" y="2476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548760" y="2598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548760" y="2839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077240" y="229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199640" y="2415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301800" y="3206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94640" y="30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 flipV="1">
                <a:off x="6324480" y="3894120"/>
                <a:ext cx="380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6933960" y="3894120"/>
                <a:ext cx="759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5790960" y="3970080"/>
                <a:ext cx="5331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7280" y="37418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7391160" y="39700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05360" y="3208320"/>
                <a:ext cx="22824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7467120" y="3970080"/>
                <a:ext cx="380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7848360" y="4274640"/>
                <a:ext cx="3045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781680" y="2903400"/>
                <a:ext cx="228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696080" y="3970080"/>
                <a:ext cx="7617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7467480" y="3817800"/>
                <a:ext cx="76176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7314840" y="3589200"/>
                <a:ext cx="7614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7086600" y="2674800"/>
                <a:ext cx="151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7315200" y="3284640"/>
                <a:ext cx="5328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7238880" y="2979720"/>
                <a:ext cx="68544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7086600" y="2903400"/>
                <a:ext cx="6091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7162560" y="38174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609480" y="1295280"/>
              <a:ext cx="54104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cto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xtu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one term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rep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range factors to minimize “distance” of data to hyperpla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ustering vs.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609480" y="1295280"/>
            <a:ext cx="7371360" cy="3657600"/>
            <a:chOff x="609480" y="1295280"/>
            <a:chExt cx="7371360" cy="3657600"/>
          </a:xfrm>
        </p:grpSpPr>
        <p:sp>
          <p:nvSpPr>
            <p:cNvPr id="1031" name=""/>
            <p:cNvSpPr/>
            <p:nvPr/>
          </p:nvSpPr>
          <p:spPr>
            <a:xfrm>
              <a:off x="609480" y="1295280"/>
              <a:ext cx="541044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cto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6261480" y="2676600"/>
              <a:ext cx="1719360" cy="1760040"/>
              <a:chOff x="6261480" y="2676600"/>
              <a:chExt cx="1719360" cy="1760040"/>
            </a:xfrm>
          </p:grpSpPr>
          <p:sp>
            <p:nvSpPr>
              <p:cNvPr id="1033" name=""/>
              <p:cNvSpPr/>
              <p:nvPr/>
            </p:nvSpPr>
            <p:spPr>
              <a:xfrm>
                <a:off x="6261480" y="347328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cc99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979320" y="267660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26440" y="364932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8000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8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"/>
          <p:cNvGrpSpPr/>
          <p:nvPr/>
        </p:nvGrpSpPr>
        <p:grpSpPr>
          <a:xfrm>
            <a:off x="685800" y="1219320"/>
            <a:ext cx="7770600" cy="3886200"/>
            <a:chOff x="685800" y="1219320"/>
            <a:chExt cx="7770600" cy="3886200"/>
          </a:xfrm>
        </p:grpSpPr>
        <p:grpSp>
          <p:nvGrpSpPr>
            <p:cNvPr id="1038" name=""/>
            <p:cNvGrpSpPr/>
            <p:nvPr/>
          </p:nvGrpSpPr>
          <p:grpSpPr>
            <a:xfrm>
              <a:off x="5258160" y="1219320"/>
              <a:ext cx="3198240" cy="2661480"/>
              <a:chOff x="5258160" y="1219320"/>
              <a:chExt cx="3198240" cy="266148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5258160" y="1219320"/>
                <a:ext cx="3198240" cy="2661480"/>
                <a:chOff x="5258160" y="1219320"/>
                <a:chExt cx="3198240" cy="26614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6087600" y="254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517080" y="248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61608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739200" y="23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739200" y="2608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579000" y="2973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839200" y="3155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950520" y="30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739200" y="2851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579000" y="3216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382000" y="21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751720" y="2546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93604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033600" y="199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60680" y="2122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382000" y="242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258160" y="2911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138440" y="26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259760" y="27511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91760" y="2692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79004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913880" y="256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913880" y="2813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753680" y="3176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012440" y="33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50528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12340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914600" y="305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753680" y="3421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558120" y="2385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11072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209000" y="2201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332840" y="232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926400" y="2995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90120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1456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331400" y="1706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429680" y="14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588440" y="1582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553520" y="1828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393320" y="2193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760880" y="225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5528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196320" y="1401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320160" y="152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32016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848640" y="1219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971040" y="13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073200" y="21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5660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6032880" y="1676520"/>
                <a:ext cx="1719720" cy="1760040"/>
                <a:chOff x="6032880" y="1676520"/>
                <a:chExt cx="1719720" cy="176004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6032880" y="247320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cc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cc9900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750720" y="167652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99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009900"/>
                      </a:solidFill>
                      <a:latin typeface="Times New Roman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198200" y="2649240"/>
                  <a:ext cx="5544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800000"/>
                      </a:solidFill>
                      <a:latin typeface="Times New Roman"/>
                    </a:rPr>
                    <a:t>z</a:t>
                  </a:r>
                  <a:r>
                    <a:rPr b="1" lang="en-US" sz="4000" spc="-1" strike="noStrike" baseline="-25000">
                      <a:solidFill>
                        <a:srgbClr val="800000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4" name=""/>
            <p:cNvSpPr/>
            <p:nvPr/>
          </p:nvSpPr>
          <p:spPr>
            <a:xfrm>
              <a:off x="685800" y="1447920"/>
              <a:ext cx="54100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uste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rot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n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all terms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ustering vs.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5800" y="1219320"/>
            <a:ext cx="7770600" cy="3886200"/>
            <a:chOff x="685800" y="1219320"/>
            <a:chExt cx="7770600" cy="3886200"/>
          </a:xfrm>
        </p:grpSpPr>
        <p:sp>
          <p:nvSpPr>
            <p:cNvPr id="1097" name=""/>
            <p:cNvSpPr/>
            <p:nvPr/>
          </p:nvSpPr>
          <p:spPr>
            <a:xfrm>
              <a:off x="685800" y="1447920"/>
              <a:ext cx="54100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uste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rot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ach document assumed to be noisy instantiatio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n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ource with probabilit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(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all terms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rding to select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range prototypes to minimize “distance” of data to “nearest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258160" y="1219320"/>
              <a:ext cx="3198240" cy="2661480"/>
              <a:chOff x="5258160" y="1219320"/>
              <a:chExt cx="3198240" cy="266148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5508720" y="1576440"/>
                <a:ext cx="2814120" cy="2067120"/>
                <a:chOff x="5508720" y="1576440"/>
                <a:chExt cx="2814120" cy="2067120"/>
              </a:xfrm>
            </p:grpSpPr>
            <p:grpSp>
              <p:nvGrpSpPr>
                <p:cNvPr id="1100" name=""/>
                <p:cNvGrpSpPr/>
                <p:nvPr/>
              </p:nvGrpSpPr>
              <p:grpSpPr>
                <a:xfrm>
                  <a:off x="5508720" y="2355120"/>
                  <a:ext cx="1638360" cy="1083600"/>
                  <a:chOff x="5508720" y="2355120"/>
                  <a:chExt cx="1638360" cy="10836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V="1">
                    <a:off x="5508720" y="2916720"/>
                    <a:ext cx="767160" cy="24084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613120" y="2475360"/>
                    <a:ext cx="627480" cy="4417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5648040" y="2716200"/>
                    <a:ext cx="557640" cy="20088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flipV="1">
                    <a:off x="6066720" y="2957040"/>
                    <a:ext cx="139320" cy="40140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flipV="1">
                    <a:off x="6275520" y="2957400"/>
                    <a:ext cx="243720" cy="3211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flipV="1">
                    <a:off x="6310080" y="2997360"/>
                    <a:ext cx="453240" cy="44136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 flipV="1">
                    <a:off x="6310440" y="2957400"/>
                    <a:ext cx="836640" cy="3211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>
                    <a:off x="6345360" y="2877120"/>
                    <a:ext cx="592560" cy="3996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6275520" y="2676240"/>
                    <a:ext cx="627480" cy="20052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>
                    <a:off x="6240960" y="2556000"/>
                    <a:ext cx="558000" cy="28080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6240600" y="2435400"/>
                    <a:ext cx="139320" cy="36108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240960" y="2355120"/>
                    <a:ext cx="360" cy="36108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6136200" y="2595960"/>
                    <a:ext cx="104400" cy="16056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6684480" y="2559960"/>
                  <a:ext cx="1638360" cy="1083600"/>
                  <a:chOff x="6684480" y="2559960"/>
                  <a:chExt cx="1638360" cy="108360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 flipV="1">
                    <a:off x="6684480" y="3121560"/>
                    <a:ext cx="767160" cy="24084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788880" y="2680200"/>
                    <a:ext cx="627480" cy="4417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823800" y="2921040"/>
                    <a:ext cx="557640" cy="2008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V="1">
                    <a:off x="7242480" y="3161880"/>
                    <a:ext cx="139320" cy="40140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H="1" flipV="1">
                    <a:off x="7451280" y="3162240"/>
                    <a:ext cx="243720" cy="3211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flipV="1">
                    <a:off x="7485840" y="3202200"/>
                    <a:ext cx="453240" cy="44136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flipV="1">
                    <a:off x="7486200" y="3162240"/>
                    <a:ext cx="836640" cy="3211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 flipH="1">
                    <a:off x="7521120" y="3081960"/>
                    <a:ext cx="592560" cy="3996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flipH="1">
                    <a:off x="7451280" y="2881080"/>
                    <a:ext cx="627480" cy="20052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flipH="1">
                    <a:off x="7416720" y="2760840"/>
                    <a:ext cx="558000" cy="28080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 flipH="1">
                    <a:off x="7416360" y="2640240"/>
                    <a:ext cx="139320" cy="3610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416720" y="2559960"/>
                    <a:ext cx="360" cy="3610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311960" y="2800800"/>
                    <a:ext cx="104400" cy="16056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6233400" y="1576440"/>
                  <a:ext cx="1638360" cy="1083600"/>
                  <a:chOff x="6233400" y="1576440"/>
                  <a:chExt cx="1638360" cy="108360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V="1">
                    <a:off x="6233400" y="2138040"/>
                    <a:ext cx="767160" cy="24084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37800" y="1696680"/>
                    <a:ext cx="627480" cy="4417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372720" y="1937520"/>
                    <a:ext cx="557640" cy="20088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6791400" y="2178360"/>
                    <a:ext cx="139320" cy="40140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 flipV="1">
                    <a:off x="7000200" y="2178720"/>
                    <a:ext cx="243720" cy="3211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 flipV="1">
                    <a:off x="7034760" y="2218680"/>
                    <a:ext cx="453240" cy="4413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>
                    <a:off x="7035120" y="2178720"/>
                    <a:ext cx="836640" cy="3211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>
                    <a:off x="7070040" y="2098440"/>
                    <a:ext cx="592560" cy="399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>
                    <a:off x="7000200" y="1897560"/>
                    <a:ext cx="627480" cy="20052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 flipH="1">
                    <a:off x="6965640" y="1777320"/>
                    <a:ext cx="558000" cy="28080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6965280" y="1656720"/>
                    <a:ext cx="139320" cy="36108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965640" y="1576440"/>
                    <a:ext cx="360" cy="36108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6860880" y="1817280"/>
                    <a:ext cx="104400" cy="1605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5258160" y="1219320"/>
                <a:ext cx="3198240" cy="2661480"/>
                <a:chOff x="5258160" y="1219320"/>
                <a:chExt cx="3198240" cy="2661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6087600" y="254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517080" y="2485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61608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739200" y="23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739200" y="2608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579000" y="2973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839200" y="3155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950520" y="30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739200" y="2851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6579000" y="3216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82000" y="21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751720" y="2546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936040" y="22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033600" y="199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160680" y="2122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382000" y="242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258160" y="2911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cc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138440" y="26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259760" y="2751120"/>
                  <a:ext cx="184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691760" y="2692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79004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913880" y="256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913880" y="2813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753680" y="3176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012440" y="33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50528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123400" y="323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914600" y="3055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753680" y="3421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558120" y="2385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110720" y="2446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209000" y="2201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332840" y="232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926400" y="2995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8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90120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1456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331400" y="1706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429680" y="146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588440" y="1582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553520" y="1828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393320" y="2193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760880" y="225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5528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196320" y="1401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320160" y="152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6320160" y="1765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848640" y="1219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6971040" y="1341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073200" y="2131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6566040" y="2012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99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93" name=""/>
          <p:cNvGrpSpPr/>
          <p:nvPr/>
        </p:nvGrpSpPr>
        <p:grpSpPr>
          <a:xfrm>
            <a:off x="685800" y="1447920"/>
            <a:ext cx="7072920" cy="1988640"/>
            <a:chOff x="685800" y="1447920"/>
            <a:chExt cx="7072920" cy="1988640"/>
          </a:xfrm>
        </p:grpSpPr>
        <p:grpSp>
          <p:nvGrpSpPr>
            <p:cNvPr id="1194" name=""/>
            <p:cNvGrpSpPr/>
            <p:nvPr/>
          </p:nvGrpSpPr>
          <p:grpSpPr>
            <a:xfrm>
              <a:off x="6039000" y="1676520"/>
              <a:ext cx="1719720" cy="1760040"/>
              <a:chOff x="6039000" y="1676520"/>
              <a:chExt cx="1719720" cy="1760040"/>
            </a:xfrm>
          </p:grpSpPr>
          <p:sp>
            <p:nvSpPr>
              <p:cNvPr id="1195" name=""/>
              <p:cNvSpPr/>
              <p:nvPr/>
            </p:nvSpPr>
            <p:spPr>
              <a:xfrm>
                <a:off x="6039000" y="247320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cc99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756840" y="167652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99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04320" y="2649240"/>
                <a:ext cx="55440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800000"/>
                    </a:solidFill>
                    <a:latin typeface="Times New Roman"/>
                  </a:rPr>
                  <a:t>z</a:t>
                </a:r>
                <a:r>
                  <a:rPr b="1" lang="en-US" sz="4000" spc="-1" strike="noStrike" baseline="-25000">
                    <a:solidFill>
                      <a:srgbClr val="800000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685800" y="1447920"/>
              <a:ext cx="54100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ustering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prot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ipulat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ay we’ve got structure - what if it doesn’t match the model inside our h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, bibliometric analysis are unsuper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some prior that may not match 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d learning - absolute specification of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supervised learning - relationships of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as “ar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s and structure are frequently hard to gen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should I file this email about phytoplankton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criticize than to con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 document do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long in this cluster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of crit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/different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/bad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/less detail (here/everywhe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, many 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-supervised lear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er criticiz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 new structure that accommodates user cri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constrain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75693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 - re-clust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, using mixture of multi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separation constraints a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erm reweighting, warping metric space to enforc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so power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query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er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Anglu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only adds constra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something’s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purity" descr=""/>
          <p:cNvPicPr/>
          <p:nvPr/>
        </p:nvPicPr>
        <p:blipFill>
          <a:blip r:embed="rId1"/>
          <a:stretch/>
        </p:blipFill>
        <p:spPr>
          <a:xfrm>
            <a:off x="4724280" y="3067200"/>
            <a:ext cx="4184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 - realigning topics and auth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document set, may disagree with statistics on principal topics, auth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give feedback to “correct” th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feedback to realig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eigen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matrix reweighting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410080" y="3117240"/>
            <a:ext cx="3006720" cy="3207240"/>
            <a:chOff x="5410080" y="3117240"/>
            <a:chExt cx="3006720" cy="3207240"/>
          </a:xfrm>
        </p:grpSpPr>
        <p:pic>
          <p:nvPicPr>
            <p:cNvPr id="1213" name="lift-fig" descr=""/>
            <p:cNvPicPr/>
            <p:nvPr/>
          </p:nvPicPr>
          <p:blipFill>
            <a:blip r:embed="rId1"/>
            <a:stretch/>
          </p:blipFill>
          <p:spPr>
            <a:xfrm>
              <a:off x="5410080" y="3276720"/>
              <a:ext cx="3006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 rot="22800">
              <a:off x="5790960" y="31176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5796000" y="312408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al eigen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he structure of a document collection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analysis/latent variable modeling to identify and map out latent structure in document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i-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dapt structure to match user’s perception of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Bi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: work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dea what user interface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ew pieces of the large jigsaw puzz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Learn the structure of a document collection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 analysis/latent variable modeling to identify and map out latent structure in document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semi-supervise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to adapt structure to match user’s perception of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av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Very Bi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rning: work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No idea what user interface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0000"/>
              </a:lnSpc>
              <a:spcBef>
                <a:spcPts val="400"/>
              </a:spcBef>
              <a:buClr>
                <a:srgbClr val="cccc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Times New Roman"/>
              </a:rPr>
              <a:t>A few pieces of the large jigsaw puzz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we going to do about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igtriangle" descr=""/>
          <p:cNvPicPr/>
          <p:nvPr/>
        </p:nvPicPr>
        <p:blipFill>
          <a:blip r:embed="rId1"/>
          <a:stretch/>
        </p:blipFill>
        <p:spPr>
          <a:xfrm>
            <a:off x="6384960" y="4305240"/>
            <a:ext cx="1006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supervised learning - realigning topics and auth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learning “what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 in my fiel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” authoritative documents in one subfield, see how others re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 of sub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reating customized authori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” things you’ve cited/browsed, see what else is considered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2286000" y="3352680"/>
            <a:ext cx="4400280" cy="1766880"/>
            <a:chOff x="2286000" y="3352680"/>
            <a:chExt cx="4400280" cy="1766880"/>
          </a:xfrm>
        </p:grpSpPr>
        <p:pic>
          <p:nvPicPr>
            <p:cNvPr id="1219" name="genetic20random" descr=""/>
            <p:cNvPicPr/>
            <p:nvPr/>
          </p:nvPicPr>
          <p:blipFill>
            <a:blip r:embed="rId1"/>
            <a:stretch/>
          </p:blipFill>
          <p:spPr>
            <a:xfrm>
              <a:off x="4566960" y="3359160"/>
              <a:ext cx="21193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rl20random" descr=""/>
            <p:cNvPicPr/>
            <p:nvPr/>
          </p:nvPicPr>
          <p:blipFill>
            <a:blip r:embed="rId2"/>
            <a:stretch/>
          </p:blipFill>
          <p:spPr>
            <a:xfrm>
              <a:off x="2286000" y="3352680"/>
              <a:ext cx="2139840" cy="17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analysis background – structure from document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 models, LSA, P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ng vs.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metrics – structure from document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old is new again: ACA,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biblio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oint probabilistic model for document content and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can do wi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ith vector space representation of 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ord/phrase in vocabula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gned term 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...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|V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ed as vector of (weighted) counts of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us represented as term-by-document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ck introduction to tex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631200" y="1625760"/>
            <a:ext cx="2209320" cy="3707280"/>
            <a:chOff x="6631200" y="1625760"/>
            <a:chExt cx="2209320" cy="3707280"/>
          </a:xfrm>
        </p:grpSpPr>
        <p:sp>
          <p:nvSpPr>
            <p:cNvPr id="64" name=""/>
            <p:cNvSpPr/>
            <p:nvPr/>
          </p:nvSpPr>
          <p:spPr>
            <a:xfrm>
              <a:off x="6673680" y="1758960"/>
              <a:ext cx="520920" cy="42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631200" y="1625760"/>
              <a:ext cx="2209320" cy="3707280"/>
              <a:chOff x="6631200" y="1625760"/>
              <a:chExt cx="2209320" cy="37072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7146720" y="1625760"/>
                <a:ext cx="458640" cy="3700800"/>
                <a:chOff x="7146720" y="1625760"/>
                <a:chExt cx="458640" cy="3700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194240" y="1769760"/>
                  <a:ext cx="41112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146720" y="162576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548840" y="1631880"/>
                <a:ext cx="459360" cy="3698640"/>
                <a:chOff x="7548840" y="1631880"/>
                <a:chExt cx="459360" cy="36986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7597080" y="1773720"/>
                  <a:ext cx="41112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548840" y="163188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957080" y="1631880"/>
                <a:ext cx="465120" cy="3698640"/>
                <a:chOff x="7957080" y="1631880"/>
                <a:chExt cx="465120" cy="36986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8011440" y="1773720"/>
                  <a:ext cx="41076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957080" y="16318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8379360" y="1631880"/>
                <a:ext cx="461160" cy="3698640"/>
                <a:chOff x="8379360" y="1631880"/>
                <a:chExt cx="461160" cy="3698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425080" y="1773720"/>
                  <a:ext cx="411120" cy="355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79360" y="1631880"/>
                  <a:ext cx="461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638040" y="1987920"/>
                <a:ext cx="2191680" cy="553680"/>
                <a:chOff x="6638040" y="1987920"/>
                <a:chExt cx="2191680" cy="553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672240" y="219060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638040" y="198792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636960" y="2332440"/>
                <a:ext cx="2190960" cy="556200"/>
                <a:chOff x="6636960" y="2332440"/>
                <a:chExt cx="2190960" cy="556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670440" y="253764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36960" y="233244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638040" y="2682000"/>
                <a:ext cx="2191680" cy="553680"/>
                <a:chOff x="6638040" y="2682000"/>
                <a:chExt cx="2191680" cy="5536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672240" y="288468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638040" y="268200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638040" y="3035160"/>
                <a:ext cx="2191680" cy="553680"/>
                <a:chOff x="6638040" y="3035160"/>
                <a:chExt cx="2191680" cy="5536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672240" y="323784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638040" y="303516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638040" y="3386520"/>
                <a:ext cx="2191680" cy="553680"/>
                <a:chOff x="6638040" y="3386520"/>
                <a:chExt cx="2191680" cy="5536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672240" y="358920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638040" y="338652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638040" y="3736080"/>
                <a:ext cx="2191680" cy="555480"/>
                <a:chOff x="6638040" y="3736080"/>
                <a:chExt cx="2191680" cy="555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672240" y="3940920"/>
                  <a:ext cx="2157480" cy="350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638040" y="3736080"/>
                  <a:ext cx="3546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632280" y="4089600"/>
                <a:ext cx="2197440" cy="553680"/>
                <a:chOff x="6632280" y="4089600"/>
                <a:chExt cx="2197440" cy="553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672240" y="429228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632280" y="408960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631200" y="4434480"/>
                <a:ext cx="2198520" cy="553680"/>
                <a:chOff x="6631200" y="4434480"/>
                <a:chExt cx="2198520" cy="553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672240" y="463716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31200" y="4434480"/>
                  <a:ext cx="18396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638040" y="4776840"/>
                <a:ext cx="2191680" cy="556200"/>
                <a:chOff x="6638040" y="4776840"/>
                <a:chExt cx="2191680" cy="556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672240" y="4982040"/>
                  <a:ext cx="2157480" cy="351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38040" y="4776840"/>
                  <a:ext cx="343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183800" y="2101320"/>
                <a:ext cx="311040" cy="3197160"/>
                <a:chOff x="7183800" y="2101320"/>
                <a:chExt cx="311040" cy="31971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185960" y="210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85960" y="2435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185960" y="2812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183800" y="3146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185960" y="3498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83800" y="3830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83800" y="4207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83800" y="4541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85960" y="48996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605000" y="2098800"/>
                <a:ext cx="309960" cy="3196440"/>
                <a:chOff x="7605000" y="2098800"/>
                <a:chExt cx="309960" cy="31964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606080" y="2098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606080" y="24325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06080" y="2810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05000" y="3143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06080" y="34934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605000" y="3829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05000" y="42051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05000" y="45385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06080" y="4896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031960" y="2101320"/>
                <a:ext cx="309960" cy="3197160"/>
                <a:chOff x="8031960" y="2101320"/>
                <a:chExt cx="309960" cy="3197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033040" y="210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033040" y="2435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033040" y="2812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31960" y="3146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033040" y="34984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031960" y="3830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031960" y="4207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031960" y="4539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033040" y="48996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8451360" y="2101320"/>
                <a:ext cx="309600" cy="3196440"/>
                <a:chOff x="8451360" y="2101320"/>
                <a:chExt cx="309600" cy="3196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452080" y="21013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452080" y="2435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452080" y="2812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451360" y="31464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452080" y="3497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451360" y="38300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451360" y="4207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451360" y="4539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452080" y="48988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6701040" y="175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cal text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mpute raw statistical properties of cor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 retrieval, clustering,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2800" y="2556000"/>
            <a:ext cx="5765760" cy="3998160"/>
            <a:chOff x="1612800" y="2556000"/>
            <a:chExt cx="5765760" cy="3998160"/>
          </a:xfrm>
        </p:grpSpPr>
        <p:grpSp>
          <p:nvGrpSpPr>
            <p:cNvPr id="149" name=""/>
            <p:cNvGrpSpPr/>
            <p:nvPr/>
          </p:nvGrpSpPr>
          <p:grpSpPr>
            <a:xfrm>
              <a:off x="1981080" y="2556000"/>
              <a:ext cx="5105520" cy="3177360"/>
              <a:chOff x="1981080" y="2556000"/>
              <a:chExt cx="5105520" cy="31773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209320" y="2860920"/>
                <a:ext cx="4572360" cy="2743200"/>
                <a:chOff x="2209320" y="2860920"/>
                <a:chExt cx="4572360" cy="2743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286000" y="286092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86000" y="324180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546720"/>
                  <a:ext cx="449568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392760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286000" y="4384800"/>
                  <a:ext cx="449568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209320" y="347040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2209320" y="385164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2209320" y="4156200"/>
                  <a:ext cx="449604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2209320" y="453744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2209320" y="4994640"/>
                  <a:ext cx="449604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86000" y="286092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86000" y="316584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86000" y="3546720"/>
                  <a:ext cx="441972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62320" y="400392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362320" y="347040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2285640" y="385164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2362320" y="4156200"/>
                  <a:ext cx="441936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285640" y="4537440"/>
                  <a:ext cx="441972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86000" y="324180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286000" y="354672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62320" y="392760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86000" y="4308840"/>
                  <a:ext cx="4419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62320" y="4766040"/>
                  <a:ext cx="44193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2362320" y="3470400"/>
                  <a:ext cx="44193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2285640" y="385164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285640" y="4156200"/>
                  <a:ext cx="44197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85640" y="4537440"/>
                  <a:ext cx="4419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362320" y="4994640"/>
                  <a:ext cx="44193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362320" y="286092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38280" y="324180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38280" y="3699000"/>
                  <a:ext cx="426744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285640" y="423252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361960" y="3851640"/>
                  <a:ext cx="426708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2361960" y="3470400"/>
                  <a:ext cx="426708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2286000" y="3775320"/>
                  <a:ext cx="441972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2286000" y="3470040"/>
                  <a:ext cx="449568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286000" y="3546360"/>
                  <a:ext cx="441972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286000" y="2860920"/>
                  <a:ext cx="441972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86000" y="2860920"/>
                  <a:ext cx="44956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286000" y="3241800"/>
                  <a:ext cx="434340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981080" y="2556000"/>
                <a:ext cx="457200" cy="3177360"/>
                <a:chOff x="1981080" y="2556000"/>
                <a:chExt cx="457200" cy="31773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1981080" y="2556000"/>
                  <a:ext cx="457200" cy="510120"/>
                  <a:chOff x="1981080" y="2556000"/>
                  <a:chExt cx="457200" cy="5101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1981080" y="26323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981080" y="255600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1981080" y="2937240"/>
                  <a:ext cx="457200" cy="510120"/>
                  <a:chOff x="1981080" y="2937240"/>
                  <a:chExt cx="457200" cy="510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1981080" y="3013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81080" y="2937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1981080" y="3318120"/>
                  <a:ext cx="457200" cy="510120"/>
                  <a:chOff x="1981080" y="3318120"/>
                  <a:chExt cx="457200" cy="5101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1981080" y="3394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981080" y="3318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1981080" y="3699000"/>
                  <a:ext cx="457200" cy="510120"/>
                  <a:chOff x="1981080" y="3699000"/>
                  <a:chExt cx="457200" cy="5101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1981080" y="37753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981080" y="369900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1981080" y="4080240"/>
                  <a:ext cx="457200" cy="510120"/>
                  <a:chOff x="1981080" y="4080240"/>
                  <a:chExt cx="457200" cy="5101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981080" y="4156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981080" y="4080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1981080" y="4461120"/>
                  <a:ext cx="457200" cy="510120"/>
                  <a:chOff x="1981080" y="4461120"/>
                  <a:chExt cx="457200" cy="5101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1981080" y="45374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1981080" y="44611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1981080" y="4842000"/>
                  <a:ext cx="457200" cy="459720"/>
                  <a:chOff x="1981080" y="4842000"/>
                  <a:chExt cx="457200" cy="4597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1981080" y="49183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981080" y="48420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1981080" y="5223240"/>
                  <a:ext cx="457200" cy="510120"/>
                  <a:chOff x="1981080" y="5223240"/>
                  <a:chExt cx="457200" cy="5101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981080" y="52995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81080" y="52232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6629400" y="3165840"/>
                <a:ext cx="457200" cy="1996560"/>
                <a:chOff x="6629400" y="3165840"/>
                <a:chExt cx="457200" cy="19965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6629400" y="3165840"/>
                  <a:ext cx="457200" cy="510120"/>
                  <a:chOff x="6629400" y="3165840"/>
                  <a:chExt cx="457200" cy="5101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6629400" y="3242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629400" y="316584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629400" y="3546720"/>
                  <a:ext cx="457200" cy="510120"/>
                  <a:chOff x="6629400" y="3546720"/>
                  <a:chExt cx="457200" cy="5101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629400" y="36230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629400" y="354672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29400" y="3927600"/>
                  <a:ext cx="457200" cy="510120"/>
                  <a:chOff x="6629400" y="3927600"/>
                  <a:chExt cx="457200" cy="510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629400" y="400392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629400" y="3927600"/>
                    <a:ext cx="4572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629400" y="4308840"/>
                  <a:ext cx="457200" cy="459720"/>
                  <a:chOff x="6629400" y="4308840"/>
                  <a:chExt cx="45720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629400" y="438516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629400" y="430884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629400" y="4689720"/>
                  <a:ext cx="457200" cy="472680"/>
                  <a:chOff x="6629400" y="4689720"/>
                  <a:chExt cx="457200" cy="4726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6629400" y="4766040"/>
                    <a:ext cx="3808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629400" y="4689720"/>
                    <a:ext cx="45720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2" name=""/>
            <p:cNvSpPr/>
            <p:nvPr/>
          </p:nvSpPr>
          <p:spPr>
            <a:xfrm>
              <a:off x="1612800" y="583596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62760" y="5832720"/>
              <a:ext cx="131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(d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|t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3:39:05Z</dcterms:created>
  <dc:creator>David Cohn</dc:creator>
  <dc:description/>
  <dc:language>en-US</dc:language>
  <cp:lastModifiedBy>David Cohn</cp:lastModifiedBy>
  <cp:lastPrinted>2000-03-07T23:57:35Z</cp:lastPrinted>
  <dcterms:modified xsi:type="dcterms:W3CDTF">2000-12-11T15:11:12Z</dcterms:modified>
  <cp:revision>138</cp:revision>
  <dc:subject/>
  <dc:title>Learning, Navigating, and Manipulating Structure in Unstructured Data/Document Bases</dc:title>
</cp:coreProperties>
</file>