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9560" cy="458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989160" y="0"/>
            <a:ext cx="3049560" cy="458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224000" y="687240"/>
            <a:ext cx="4595760" cy="3446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5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726040"/>
            <a:ext cx="3049560" cy="459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989160" y="8726040"/>
            <a:ext cx="3049560" cy="459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8192BDE-7119-41D6-B02C-3CE52E382CC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224000" y="6872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5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ality of BMA is based on the assumption that data we observe are generated according to one of the distribution models in the chosen class of mod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holds in practice since a simple class is used or not enough data to estimate the true model or too complex or prior knowledge is part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5728-EC10-4F35-B276-B5E409B41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5593-1E34-4895-AB52-77A4CCD5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BF83-2433-45D4-8D9A-356278ABB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48C1-10A9-40D8-994E-20CB3CDA3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78A1-118B-45CA-854E-26FDBA494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37BB-7892-447D-9441-1B1428D6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DF1C-C6FC-4553-8EAF-21E40829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4608C-3993-4177-BFEE-7C93E6A1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B66F-E214-48CD-B417-39A7A75A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9FD4D-7E3E-4240-BD2A-C0334721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DB3E-D3D0-4C6D-AD7A-4F0E9E63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C612-FEF5-4AA7-89A1-D480B33C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4CA0-71B5-46AF-8145-9BB05BAA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2DEC-5206-49D9-AAC5-E8ECEB90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1259-5314-4FA9-B88C-20DCFF88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ED2FD-6C20-4922-8890-2F41F2A55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7234-45A9-4A48-9C87-3A7BCF589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2393-6FA2-44ED-922E-3AF73140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2BBF-6762-49B3-BC71-208A64F3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09AD-EB05-4976-A1C4-CD29F12F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33A3-BD83-4F8A-BC5B-5FDAB512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E1CC-44AC-4F32-87E9-A571C9F9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07F2-8B3F-4375-B520-1065345F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0C35-FAFA-4291-B897-0E8C010B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6D96-D36D-4962-9693-1E9CFBAB97E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E271-F4F1-46EA-BD87-B63AF802453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560" y="912240"/>
            <a:ext cx="883908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Bayesian Averaging of Classifiers and the Overfitting Problem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yid Ghan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"/>
          <p:cNvSpPr/>
          <p:nvPr/>
        </p:nvSpPr>
        <p:spPr>
          <a:xfrm>
            <a:off x="834120" y="628020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L Lunch – 11/13/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MA of various learner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ISE Rule sets with partitio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 databases from UC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MA worse than RISE in every doma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ding Ru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the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day moving average rises above the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day one, buy; else sell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t&gt;s, set t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ma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uition (there is no single right rule so BMA should hel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MA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AGAI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imilar to choosing the single best r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kelihood of a model             increases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exponentiall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with with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/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mall random variation in the sample can sharply increase the likelihood of a mod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en if a small fraction of terms is considered, the probability of one term being very large purely by chance is very hig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better the approximation (more terms), the worse the averaging perform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5181480" y="1828800"/>
                <a:ext cx="17528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ε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Overfitting in BM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sue of overfitting is usually ignored (Freund et al. 2000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overfitting the explanation for the poor performance of BM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ferring a hypothesis that does not truly have  the lowest error of any hypothesis considered, but by chance has the lowest error on training da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verfitting is the result of the likelihood’s exponential sensitivity to random fluctuations in the sample and increases with # of models conside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o BMA or not to BMA?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t effect will depend on which effect prevail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overfitting (small if few models are considere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duction in error obtained by giving some weight to alternative models (skewed weights =&gt; small effec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i &amp; Pazzani (1996) report good results but bagging wasn’t tr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mingos (2000) used bootstrapping before BMA so the models were built from less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pectrum of ensembl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6019920"/>
            <a:ext cx="77724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83640" y="6019920"/>
            <a:ext cx="33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Asymmetry of we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396240" y="20574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Over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2895480"/>
            <a:ext cx="457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2120" y="2743200"/>
            <a:ext cx="7772400" cy="0"/>
          </a:xfrm>
          <a:prstGeom prst="line">
            <a:avLst/>
          </a:prstGeom>
          <a:ln w="7632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191120" y="2819520"/>
            <a:ext cx="380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o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696080" y="3505320"/>
            <a:ext cx="609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ibliograph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33200" y="17524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ming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eund, Mansour, Schap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i, Pazz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226080"/>
            <a:ext cx="81961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MA is a form of Ensemble Classificat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of Classifi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cisions combined in ”some” wa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nweighted Vo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gging, ECOC et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ighted Vo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igh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ccuracy (training or holdout set), LSR (weight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1/variance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o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ayesian Model Averag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All possible model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n the model space used (weighted by their probability of being the “Correct” model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terior of a model = Prior * Likelihood given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Optimal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iven the correct model space and pri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imed to obviate the overfitting problem by cancelling the effects of different overfitted models (Buntine 1990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MA - Train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219320" y="2467080"/>
                <a:ext cx="485136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|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)</m:t>
                        </m:r>
                      </m:den>
                    </m:f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1991160" y="1676520"/>
            <a:ext cx="8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64000" y="1905120"/>
            <a:ext cx="15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523880" y="3733920"/>
            <a:ext cx="4267440" cy="4903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6524280" y="3124080"/>
            <a:ext cx="193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nois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743560" y="1990800"/>
            <a:ext cx="664200" cy="540000"/>
          </a:xfrm>
          <a:prstGeom prst="line">
            <a:avLst/>
          </a:prstGeom>
          <a:ln w="284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409720" y="2286000"/>
            <a:ext cx="304920" cy="380880"/>
          </a:xfrm>
          <a:prstGeom prst="line">
            <a:avLst/>
          </a:prstGeom>
          <a:ln w="284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5562720" y="3505320"/>
            <a:ext cx="838080" cy="228600"/>
          </a:xfrm>
          <a:prstGeom prst="line">
            <a:avLst/>
          </a:prstGeom>
          <a:ln w="284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2286000"/>
            <a:ext cx="1143000" cy="380880"/>
          </a:xfrm>
          <a:prstGeom prst="line">
            <a:avLst/>
          </a:prstGeom>
          <a:ln w="284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78920" y="1676520"/>
            <a:ext cx="14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os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942280" y="3490920"/>
            <a:ext cx="420840" cy="333360"/>
          </a:xfrm>
          <a:prstGeom prst="line">
            <a:avLst/>
          </a:prstGeom>
          <a:ln w="284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917360" y="3276720"/>
            <a:ext cx="111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ign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143000" y="4572000"/>
                <a:ext cx="239220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ε</m:t>
                          </m:r>
                        </m:e>
                      </m:mr>
                      <m:mr>
                        <m:e>
                          <m:r>
                            <m:t xml:space="preserve">ε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3741840" y="4618080"/>
            <a:ext cx="47926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h predicts correct class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for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therw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066680" y="5878440"/>
                <a:ext cx="236556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1675080" y="544212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MA - Test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914400" y="2057400"/>
                <a:ext cx="65851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,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|</m:t>
                        </m:r>
                      </m:e>
                    </m:nary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1036800" y="3581280"/>
            <a:ext cx="7281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re Classification Mo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(c|x,h)=1 for the class predicted by h for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R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ass Probability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4571640" y="2590920"/>
            <a:ext cx="685800" cy="106668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roblem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to get the prio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to get the correct model spa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el space too large – approximation requir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el with highest posterior, Sampling (Imp sampling,MCMC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MA of Bagged C4.5 Rul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gging is an approximation of BMA by importance sampling where all samples are weighed equal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ighting the models by their posteriors should lead to a better approxi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erimental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ery version of BMA performed worse than bagging on 19 out of 26 UCI datas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teriors skewed – dominated by a single rule model – model selection rather than avera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xperimental Result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ery version of BMA performed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wors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han bagging on 19 out of 26 UCI datasets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st performing BMA was uniform class noise and pure class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teriors skewed – dominated by a single rule model even though error rates were simil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el selection rather than averaging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3048120" y="2743200"/>
            <a:ext cx="457200" cy="45720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agging as Imp Sampl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nt to approxim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according to q(x) and compute the average of f(x)p(x)/q(x) for points x sampl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ch sampled value will have weight p(x)/q(x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5181480" y="1828800"/>
                <a:ext cx="37339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p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q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d>
                          </m:e>
                        </m:nary>
                      </m:e>
                    </m:nary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3T20:51:43Z</dcterms:created>
  <dc:creator>Rayid Ghani</dc:creator>
  <dc:description/>
  <dc:language>en-US</dc:language>
  <cp:lastModifiedBy>Rayid Ghani</cp:lastModifiedBy>
  <dcterms:modified xsi:type="dcterms:W3CDTF">2000-11-20T02:09:01Z</dcterms:modified>
  <cp:revision>36</cp:revision>
  <dc:subject/>
  <dc:title>Ensemble Classification Methods </dc:title>
</cp:coreProperties>
</file>