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956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989160" y="0"/>
            <a:ext cx="304956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224000" y="687240"/>
            <a:ext cx="4595760" cy="344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5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726040"/>
            <a:ext cx="3049560" cy="459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989160" y="8726040"/>
            <a:ext cx="3049560" cy="459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FE0A528-0937-4C3C-B5DA-9447B4AB0A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24000" y="6872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5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lity of BMA is based on the assumption that data we observe are generated according to one of the distribution models in the chosen class of mod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holds in practice since a simple class is used or not enough data to estimate the true model or too complex or prior knowledge is part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64F4-837D-48DA-90E5-B9D68D3B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1103-BCBD-41B0-872E-C8EF2805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3053-5C2E-41A6-92F1-B443213E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93C7-615F-407E-B4C7-D08A8464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E811-D6F1-4099-9581-A921E2EF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383A-0A06-470F-B157-C34D32D8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3F74-F136-4148-B96C-EE319A61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8EE3-E33E-4345-9500-3DAE55B5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9FF0-9418-44FD-A680-5CCF55E9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0B03-30CD-4104-BCC1-60488534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E038-4FE9-4688-9718-3BDC8A79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6524-3DAF-4004-A3A3-B2F10F8A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6E98-2403-4220-9022-5D95DA0C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7A1A-6B37-4F8F-9897-AC51C4DE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A67B-1902-439A-9E86-C98EE5A4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3658-04E1-47D5-BBF7-59BEC15C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A511-17DA-4216-993A-FA7102EBD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B080-5191-4292-B8DC-789A263C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A0B3-1DA5-4D77-B9F5-06C38820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594F-77CB-468C-860C-BB50D6F1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98E2-D033-4D87-B240-A98A0DF0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7568-C03A-4B34-B4F9-726AA5B2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B5F-9B7E-4297-AE78-02F819EC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35CE-B779-4406-AD73-AAF3165C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3461-E3E0-48EA-AE52-095D76EC572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26C9-B73F-4BE4-BE18-B5998232A48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912240"/>
            <a:ext cx="883908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Bayesian Averaging of Classifiers and the Overfitting Problem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yid Ghan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834120" y="628020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L Lunch – 11/13/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MA of various learn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SE Rule sets with partitio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databases from U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MA worse than RISE in every dom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ding R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day moving average rises above th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day one, buy; else sell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t&gt;s, set 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ma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uition (there is no single right rule so BMA should hel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MA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GAI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imilar to choosing the single best r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kelihood of a model             increases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exponentiall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 with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/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mall random variation in the sample can sharply increase the likelihood of a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n if a small fraction of terms is considered, the probability of one term being very large purely by chance is very hig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etter the approximation (more terms), the worse the averaging perform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181480" y="1828800"/>
                <a:ext cx="17528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Overfitting in BM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sue of overfitting is usually ignored (Freund et al. 200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overfitting the explanation for the poor performance of BM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ferring a hypothesis that does not truly have  the lowest error of any hypothesis considered, but by chance has the lowest error on training da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fitting is the result of the likelihood’s exponential sensitivity to random fluctuations in the sample and increases with # of models consid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o BMA or not to BMA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 effect will depend on which effect prevail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overfitting (small if few models are consider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tion in error obtained by giving some weight to alternative models (skewed weights =&gt; small effe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 &amp; Pazzani (1996) report good results but bagging wasn’t tr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mingos (2000) used bootstrapping before BMA so the models were built from less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pectrum of ensembl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6019920"/>
            <a:ext cx="7772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83640" y="601992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symmetry of we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96240" y="20574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Over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2895480"/>
            <a:ext cx="45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2743200"/>
            <a:ext cx="7772400" cy="0"/>
          </a:xfrm>
          <a:prstGeom prst="line">
            <a:avLst/>
          </a:prstGeom>
          <a:ln w="7632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91120" y="2819520"/>
            <a:ext cx="380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3505320"/>
            <a:ext cx="60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ibliograph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332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ming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und, Mansour, Schap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, Pazz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26080"/>
            <a:ext cx="8196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MA is a form of Ensemble Classific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of Classifi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isions combined in ”some” wa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weighted Vo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gging, ECOC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ighted Vo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igh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ccuracy (training or holdout set), LSR (weigh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/variance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o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ayesian Model Averag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ll possible model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 the model space used (weighted by their probability of being the “Correct” mode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terior of a model = Prior * Likelihood given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ptim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n the correct model space and pri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imed to obviate the overfitting problem by cancelling the effects of different overfitted models (Buntine 199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MA - Train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219320" y="2467080"/>
                <a:ext cx="485136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)</m:t>
                        </m:r>
                      </m:den>
                    </m:f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1991160" y="167652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64000" y="190512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4267440" cy="4903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524280" y="3124080"/>
            <a:ext cx="19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nois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743560" y="1990800"/>
            <a:ext cx="664200" cy="54000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409720" y="2286000"/>
            <a:ext cx="304920" cy="38088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562720" y="3505320"/>
            <a:ext cx="838080" cy="22860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2286000"/>
            <a:ext cx="1143000" cy="38088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8920" y="1676520"/>
            <a:ext cx="14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s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42280" y="3490920"/>
            <a:ext cx="420840" cy="33336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17360" y="3276720"/>
            <a:ext cx="11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gn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143000" y="4572000"/>
                <a:ext cx="23922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e>
                      </m:mr>
                      <m:mr>
                        <m:e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3741840" y="4618080"/>
            <a:ext cx="479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h predicts correct class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066680" y="5878440"/>
                <a:ext cx="236556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1675080" y="54421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MA - Test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914400" y="2057400"/>
                <a:ext cx="6585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|</m:t>
                        </m:r>
                      </m:e>
                    </m:nary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1036800" y="3581280"/>
            <a:ext cx="728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re Classification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(c|x,h)=1 for the class predicted by h for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 Probabilit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571640" y="2590920"/>
            <a:ext cx="685800" cy="10666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robl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to get the pri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to get the correct model sp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el space too large – approximation requi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 with highest posterior, Sampling (Imp sampling,MCM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MA of Bagged C4.5 Rul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gging is an approximation of BMA by importance sampling where all samples are weighed equ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ighting the models by their posteriors should lead to a better approxi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ry version of BMA performed worse than bagging on 19 out of 26 UCI data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teriors skewed – dominated by a single rule model – model selection rather than avera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perimental Resul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ry version of BMA performe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wor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an bagging on 19 out of 26 UCI dataset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st performing BMA was uniform class noise and pure class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teriors skewed – dominated by a single rule model even though error rates were simi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 selection rather than averaging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3048120" y="2743200"/>
            <a:ext cx="457200" cy="45720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agging as Imp Sampl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nt to approxim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according to q(x) and compute the average of f(x)p(x)/q(x) for points x sampl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sampled value will have weight p(x)/q(x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181480" y="1828800"/>
                <a:ext cx="37339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q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e>
                    </m:nary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20:51:43Z</dcterms:created>
  <dc:creator>Rayid Ghani</dc:creator>
  <dc:description/>
  <dc:language>en-US</dc:language>
  <cp:lastModifiedBy>Rayid Ghani</cp:lastModifiedBy>
  <dcterms:modified xsi:type="dcterms:W3CDTF">2000-11-20T02:09:01Z</dcterms:modified>
  <cp:revision>36</cp:revision>
  <dc:subject/>
  <dc:title>Ensemble Classification Methods </dc:title>
</cp:coreProperties>
</file>