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8AE-8330-4FFD-A2CD-85B0A0A9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3E5-1563-4BD3-B729-BEBA1E2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AD7-F210-40AA-8C5E-CFE06C8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001-5592-4F8D-A8FB-4B9E5D7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96C-9E22-4F3F-B71D-137EFF7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3C8-9677-4262-B60D-6D301EB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C8F-1511-4817-9260-74218D6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FA5-01B0-47D5-AC0F-D7A3F93F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271-87B7-4094-940E-7B4F2677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EFA-D9C3-44B9-A270-8521788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BEF-17E3-436C-A17F-BC93871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84C-A251-466D-8350-7CBC222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8FD-1759-4650-B720-1B099A16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ensity Estimation and MDP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ald P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5181480"/>
            <a:ext cx="80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ork with Daphne Koller, Andrew Ng (U.C. 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dres Rodri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nsity Estim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represent dist. over many v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 interpreted,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 ne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man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Example: Dynamic Bayesian Network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5764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5764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764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5764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764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57640" y="504684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47880" y="28116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47880" y="41148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47880" y="5418000"/>
            <a:ext cx="140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2997360"/>
            <a:ext cx="1586160" cy="93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1480" y="4300560"/>
            <a:ext cx="1586160" cy="93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741840"/>
            <a:ext cx="704880" cy="745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4382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4440" y="255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440" y="392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440" y="522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18760" y="62485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2388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58128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5840" y="1752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268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524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724280"/>
            <a:ext cx="152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715000"/>
            <a:ext cx="2210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95480" y="2514600"/>
            <a:ext cx="22100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514600"/>
            <a:ext cx="365760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200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64832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4100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96252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25146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5146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48520" y="2590920"/>
                <a:ext cx="1162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43800" y="2514600"/>
                <a:ext cx="1195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81480" y="3276720"/>
                <a:ext cx="8319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45120" y="4005360"/>
                <a:ext cx="9046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57800" y="4724280"/>
                <a:ext cx="946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224320" y="5388120"/>
                <a:ext cx="1014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248520" y="3429000"/>
                <a:ext cx="1143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230880" y="4098960"/>
                <a:ext cx="1177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248520" y="4876920"/>
                <a:ext cx="1193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248520" y="5562720"/>
                <a:ext cx="12286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467480" y="5562720"/>
                <a:ext cx="1246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35880" y="4876920"/>
                <a:ext cx="1211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535880" y="4114800"/>
                <a:ext cx="11952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537320" y="3413160"/>
                <a:ext cx="1157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blem: Variable Correl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752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895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48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410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752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895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1148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410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16765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28195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40384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53341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133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1337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3526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5720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791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133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1337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3526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5720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52388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447920"/>
            <a:ext cx="1143000" cy="3581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81280"/>
              <a:gd name="textAreaBottom" fmla="*/ 3525480 h 3581280"/>
            </a:gdLst>
            <a:ahLst/>
            <a:rect l="textAreaLeft" t="textAreaTop" r="textAreaRight" b="textAreaBottom"/>
            <a:pathLst>
              <a:path w="21600" h="67663">
                <a:moveTo>
                  <a:pt x="3600" y="0"/>
                </a:moveTo>
                <a:arcTo wR="3600" hR="3600" stAng="16200000" swAng="-5400000"/>
                <a:lnTo>
                  <a:pt x="0" y="64063"/>
                </a:lnTo>
                <a:arcTo wR="3600" hR="3600" stAng="10800000" swAng="-5400000"/>
                <a:lnTo>
                  <a:pt x="18000" y="6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8080" y="618804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4320" y="6278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7000" y="6278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olution: BK algorith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627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mixing, bounded projection error: total error is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914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057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2767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45720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914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057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27672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5720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838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19810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20040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4495680"/>
            <a:ext cx="704880" cy="744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952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295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295280"/>
            <a:ext cx="22860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51460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733920"/>
            <a:ext cx="22860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4952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95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685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65760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24382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8840" y="51055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9680" y="50292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8400" y="16002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into smaller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ensity Estimation meets PO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valu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K algorithm for state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einforcement learning for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.g. Parr &amp; Russell 95, Littman et al.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V with neural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riguez, Parr and Koller, NIPS 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POMDP RL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82880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82880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44197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41972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5146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95120" y="2021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3124080"/>
            <a:ext cx="175248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1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2004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72200" y="3505320"/>
                <a:ext cx="38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>
            <a:off x="3504960" y="5105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038480" y="5181480"/>
                <a:ext cx="398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 flipV="1">
            <a:off x="3276720" y="3200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62680" y="3849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62320" y="33526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67040" y="3849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avigation Proble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14440" y="2843280"/>
            <a:ext cx="6315120" cy="117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70880" y="4724280"/>
            <a:ext cx="660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initi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way s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information gatherin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states (15 positions x 4 orien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avigation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achine Maintenanc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914400"/>
            <a:ext cx="6019560" cy="4038480"/>
            <a:chOff x="457200" y="914400"/>
            <a:chExt cx="6019560" cy="4038480"/>
          </a:xfrm>
        </p:grpSpPr>
        <p:sp>
          <p:nvSpPr>
            <p:cNvPr id="216" name=""/>
            <p:cNvSpPr/>
            <p:nvPr/>
          </p:nvSpPr>
          <p:spPr>
            <a:xfrm>
              <a:off x="457200" y="914400"/>
              <a:ext cx="6019560" cy="403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16002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16002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960" y="342900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335268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12480" y="5305320"/>
            <a:ext cx="61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achine maintenance states per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fo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degrade, reduc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requires expensive total dis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29718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26280" y="31640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aintenance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96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 we aim to d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/control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rge stat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st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a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 a bi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a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: novel uses of 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aintenance Results (Turnerized)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3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2319480" y="519588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246"/>
                </a:moveTo>
                <a:cubicBezTo>
                  <a:pt x="0" y="164"/>
                  <a:pt x="0" y="8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3640" y="3895560"/>
            <a:ext cx="5249520" cy="1676520"/>
          </a:xfrm>
          <a:custGeom>
            <a:avLst/>
            <a:gdLst/>
            <a:ahLst/>
            <a:rect l="l" t="t" r="r" b="b"/>
            <a:pathLst>
              <a:path w="3307" h="1056">
                <a:moveTo>
                  <a:pt x="7" y="1056"/>
                </a:moveTo>
                <a:cubicBezTo>
                  <a:pt x="11" y="792"/>
                  <a:pt x="0" y="479"/>
                  <a:pt x="19" y="216"/>
                </a:cubicBezTo>
                <a:cubicBezTo>
                  <a:pt x="19" y="240"/>
                  <a:pt x="67" y="240"/>
                  <a:pt x="67" y="240"/>
                </a:cubicBezTo>
                <a:cubicBezTo>
                  <a:pt x="136" y="249"/>
                  <a:pt x="192" y="263"/>
                  <a:pt x="259" y="276"/>
                </a:cubicBezTo>
                <a:cubicBezTo>
                  <a:pt x="331" y="271"/>
                  <a:pt x="395" y="286"/>
                  <a:pt x="451" y="240"/>
                </a:cubicBezTo>
                <a:cubicBezTo>
                  <a:pt x="451" y="216"/>
                  <a:pt x="503" y="214"/>
                  <a:pt x="523" y="204"/>
                </a:cubicBezTo>
                <a:cubicBezTo>
                  <a:pt x="539" y="196"/>
                  <a:pt x="571" y="216"/>
                  <a:pt x="571" y="216"/>
                </a:cubicBezTo>
                <a:cubicBezTo>
                  <a:pt x="611" y="236"/>
                  <a:pt x="594" y="246"/>
                  <a:pt x="631" y="264"/>
                </a:cubicBezTo>
                <a:cubicBezTo>
                  <a:pt x="635" y="272"/>
                  <a:pt x="672" y="294"/>
                  <a:pt x="679" y="300"/>
                </a:cubicBezTo>
                <a:cubicBezTo>
                  <a:pt x="693" y="311"/>
                  <a:pt x="727" y="288"/>
                  <a:pt x="727" y="288"/>
                </a:cubicBezTo>
                <a:cubicBezTo>
                  <a:pt x="751" y="276"/>
                  <a:pt x="780" y="235"/>
                  <a:pt x="799" y="216"/>
                </a:cubicBezTo>
                <a:cubicBezTo>
                  <a:pt x="819" y="196"/>
                  <a:pt x="839" y="164"/>
                  <a:pt x="859" y="144"/>
                </a:cubicBezTo>
                <a:cubicBezTo>
                  <a:pt x="899" y="104"/>
                  <a:pt x="990" y="87"/>
                  <a:pt x="1051" y="84"/>
                </a:cubicBezTo>
                <a:cubicBezTo>
                  <a:pt x="1183" y="77"/>
                  <a:pt x="1231" y="70"/>
                  <a:pt x="1363" y="66"/>
                </a:cubicBezTo>
                <a:cubicBezTo>
                  <a:pt x="1495" y="66"/>
                  <a:pt x="1728" y="88"/>
                  <a:pt x="1867" y="42"/>
                </a:cubicBezTo>
                <a:cubicBezTo>
                  <a:pt x="2037" y="53"/>
                  <a:pt x="2191" y="48"/>
                  <a:pt x="2383" y="24"/>
                </a:cubicBezTo>
                <a:cubicBezTo>
                  <a:pt x="2469" y="35"/>
                  <a:pt x="2539" y="15"/>
                  <a:pt x="2623" y="36"/>
                </a:cubicBezTo>
                <a:cubicBezTo>
                  <a:pt x="2804" y="25"/>
                  <a:pt x="2864" y="7"/>
                  <a:pt x="3043" y="18"/>
                </a:cubicBezTo>
                <a:cubicBezTo>
                  <a:pt x="3067" y="30"/>
                  <a:pt x="3115" y="48"/>
                  <a:pt x="3139" y="60"/>
                </a:cubicBezTo>
                <a:cubicBezTo>
                  <a:pt x="3147" y="64"/>
                  <a:pt x="3163" y="72"/>
                  <a:pt x="3163" y="72"/>
                </a:cubicBezTo>
                <a:cubicBezTo>
                  <a:pt x="3176" y="69"/>
                  <a:pt x="3217" y="11"/>
                  <a:pt x="3235" y="0"/>
                </a:cubicBezTo>
                <a:cubicBezTo>
                  <a:pt x="3235" y="12"/>
                  <a:pt x="3274" y="31"/>
                  <a:pt x="3283" y="24"/>
                </a:cubicBezTo>
                <a:cubicBezTo>
                  <a:pt x="3290" y="19"/>
                  <a:pt x="3307" y="12"/>
                  <a:pt x="3307" y="12"/>
                </a:cubicBezTo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95360" y="3451320"/>
            <a:ext cx="5239080" cy="2149560"/>
          </a:xfrm>
          <a:custGeom>
            <a:avLst/>
            <a:gdLst/>
            <a:ahLst/>
            <a:rect l="l" t="t" r="r" b="b"/>
            <a:pathLst>
              <a:path w="3300" h="1354">
                <a:moveTo>
                  <a:pt x="0" y="1354"/>
                </a:moveTo>
                <a:cubicBezTo>
                  <a:pt x="4" y="1186"/>
                  <a:pt x="5" y="1018"/>
                  <a:pt x="12" y="850"/>
                </a:cubicBezTo>
                <a:cubicBezTo>
                  <a:pt x="14" y="802"/>
                  <a:pt x="54" y="715"/>
                  <a:pt x="96" y="694"/>
                </a:cubicBezTo>
                <a:cubicBezTo>
                  <a:pt x="122" y="643"/>
                  <a:pt x="142" y="589"/>
                  <a:pt x="168" y="538"/>
                </a:cubicBezTo>
                <a:cubicBezTo>
                  <a:pt x="184" y="506"/>
                  <a:pt x="185" y="494"/>
                  <a:pt x="216" y="478"/>
                </a:cubicBezTo>
                <a:cubicBezTo>
                  <a:pt x="278" y="494"/>
                  <a:pt x="263" y="502"/>
                  <a:pt x="312" y="526"/>
                </a:cubicBezTo>
                <a:cubicBezTo>
                  <a:pt x="341" y="584"/>
                  <a:pt x="303" y="513"/>
                  <a:pt x="348" y="574"/>
                </a:cubicBezTo>
                <a:cubicBezTo>
                  <a:pt x="359" y="588"/>
                  <a:pt x="367" y="619"/>
                  <a:pt x="372" y="634"/>
                </a:cubicBezTo>
                <a:cubicBezTo>
                  <a:pt x="414" y="550"/>
                  <a:pt x="450" y="466"/>
                  <a:pt x="492" y="382"/>
                </a:cubicBezTo>
                <a:cubicBezTo>
                  <a:pt x="497" y="372"/>
                  <a:pt x="510" y="367"/>
                  <a:pt x="516" y="358"/>
                </a:cubicBezTo>
                <a:cubicBezTo>
                  <a:pt x="526" y="343"/>
                  <a:pt x="532" y="326"/>
                  <a:pt x="540" y="310"/>
                </a:cubicBezTo>
                <a:cubicBezTo>
                  <a:pt x="548" y="294"/>
                  <a:pt x="564" y="262"/>
                  <a:pt x="564" y="262"/>
                </a:cubicBezTo>
                <a:cubicBezTo>
                  <a:pt x="598" y="296"/>
                  <a:pt x="616" y="326"/>
                  <a:pt x="648" y="358"/>
                </a:cubicBezTo>
                <a:cubicBezTo>
                  <a:pt x="662" y="400"/>
                  <a:pt x="668" y="434"/>
                  <a:pt x="708" y="454"/>
                </a:cubicBezTo>
                <a:cubicBezTo>
                  <a:pt x="779" y="418"/>
                  <a:pt x="806" y="306"/>
                  <a:pt x="840" y="238"/>
                </a:cubicBezTo>
                <a:cubicBezTo>
                  <a:pt x="845" y="228"/>
                  <a:pt x="858" y="223"/>
                  <a:pt x="864" y="214"/>
                </a:cubicBezTo>
                <a:cubicBezTo>
                  <a:pt x="874" y="199"/>
                  <a:pt x="880" y="182"/>
                  <a:pt x="888" y="166"/>
                </a:cubicBezTo>
                <a:cubicBezTo>
                  <a:pt x="892" y="158"/>
                  <a:pt x="900" y="142"/>
                  <a:pt x="900" y="142"/>
                </a:cubicBezTo>
                <a:cubicBezTo>
                  <a:pt x="931" y="235"/>
                  <a:pt x="964" y="318"/>
                  <a:pt x="1008" y="406"/>
                </a:cubicBezTo>
                <a:cubicBezTo>
                  <a:pt x="1018" y="426"/>
                  <a:pt x="1026" y="471"/>
                  <a:pt x="1032" y="490"/>
                </a:cubicBezTo>
                <a:cubicBezTo>
                  <a:pt x="1039" y="514"/>
                  <a:pt x="1056" y="562"/>
                  <a:pt x="1056" y="562"/>
                </a:cubicBezTo>
                <a:cubicBezTo>
                  <a:pt x="1093" y="525"/>
                  <a:pt x="1075" y="548"/>
                  <a:pt x="1104" y="490"/>
                </a:cubicBezTo>
                <a:cubicBezTo>
                  <a:pt x="1108" y="482"/>
                  <a:pt x="1116" y="466"/>
                  <a:pt x="1116" y="466"/>
                </a:cubicBezTo>
                <a:cubicBezTo>
                  <a:pt x="1130" y="395"/>
                  <a:pt x="1189" y="202"/>
                  <a:pt x="1260" y="166"/>
                </a:cubicBezTo>
                <a:cubicBezTo>
                  <a:pt x="1404" y="58"/>
                  <a:pt x="1292" y="131"/>
                  <a:pt x="1632" y="118"/>
                </a:cubicBezTo>
                <a:cubicBezTo>
                  <a:pt x="1644" y="114"/>
                  <a:pt x="1656" y="111"/>
                  <a:pt x="1668" y="106"/>
                </a:cubicBezTo>
                <a:cubicBezTo>
                  <a:pt x="1676" y="103"/>
                  <a:pt x="1684" y="97"/>
                  <a:pt x="1692" y="94"/>
                </a:cubicBezTo>
                <a:cubicBezTo>
                  <a:pt x="1716" y="85"/>
                  <a:pt x="1788" y="82"/>
                  <a:pt x="1788" y="82"/>
                </a:cubicBezTo>
                <a:cubicBezTo>
                  <a:pt x="1911" y="92"/>
                  <a:pt x="1988" y="97"/>
                  <a:pt x="2112" y="106"/>
                </a:cubicBezTo>
                <a:cubicBezTo>
                  <a:pt x="2128" y="110"/>
                  <a:pt x="2144" y="113"/>
                  <a:pt x="2160" y="118"/>
                </a:cubicBezTo>
                <a:cubicBezTo>
                  <a:pt x="2184" y="125"/>
                  <a:pt x="2232" y="142"/>
                  <a:pt x="2232" y="142"/>
                </a:cubicBezTo>
                <a:cubicBezTo>
                  <a:pt x="2276" y="138"/>
                  <a:pt x="2321" y="139"/>
                  <a:pt x="2364" y="130"/>
                </a:cubicBezTo>
                <a:cubicBezTo>
                  <a:pt x="2382" y="126"/>
                  <a:pt x="2396" y="114"/>
                  <a:pt x="2412" y="106"/>
                </a:cubicBezTo>
                <a:cubicBezTo>
                  <a:pt x="2420" y="102"/>
                  <a:pt x="2436" y="94"/>
                  <a:pt x="2436" y="94"/>
                </a:cubicBezTo>
                <a:cubicBezTo>
                  <a:pt x="2483" y="0"/>
                  <a:pt x="2623" y="90"/>
                  <a:pt x="2700" y="94"/>
                </a:cubicBezTo>
                <a:cubicBezTo>
                  <a:pt x="2916" y="70"/>
                  <a:pt x="2694" y="69"/>
                  <a:pt x="3204" y="94"/>
                </a:cubicBezTo>
                <a:cubicBezTo>
                  <a:pt x="3242" y="96"/>
                  <a:pt x="3263" y="118"/>
                  <a:pt x="3300" y="118"/>
                </a:cubicBezTo>
              </a:path>
            </a:pathLst>
          </a:custGeom>
          <a:noFill/>
          <a:ln w="7632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4440" y="2762280"/>
            <a:ext cx="5238720" cy="2838600"/>
          </a:xfrm>
          <a:custGeom>
            <a:avLst/>
            <a:gdLst/>
            <a:ahLst/>
            <a:rect l="l" t="t" r="r" b="b"/>
            <a:pathLst>
              <a:path w="3300" h="1788">
                <a:moveTo>
                  <a:pt x="0" y="1788"/>
                </a:moveTo>
                <a:cubicBezTo>
                  <a:pt x="4" y="1692"/>
                  <a:pt x="5" y="1596"/>
                  <a:pt x="12" y="1500"/>
                </a:cubicBezTo>
                <a:cubicBezTo>
                  <a:pt x="14" y="1479"/>
                  <a:pt x="41" y="1430"/>
                  <a:pt x="48" y="1416"/>
                </a:cubicBezTo>
                <a:cubicBezTo>
                  <a:pt x="63" y="1386"/>
                  <a:pt x="64" y="1352"/>
                  <a:pt x="72" y="1320"/>
                </a:cubicBezTo>
                <a:cubicBezTo>
                  <a:pt x="80" y="1286"/>
                  <a:pt x="112" y="1258"/>
                  <a:pt x="120" y="1224"/>
                </a:cubicBezTo>
                <a:cubicBezTo>
                  <a:pt x="132" y="1175"/>
                  <a:pt x="154" y="1128"/>
                  <a:pt x="168" y="1080"/>
                </a:cubicBezTo>
                <a:cubicBezTo>
                  <a:pt x="185" y="1024"/>
                  <a:pt x="190" y="965"/>
                  <a:pt x="216" y="912"/>
                </a:cubicBezTo>
                <a:cubicBezTo>
                  <a:pt x="248" y="928"/>
                  <a:pt x="280" y="944"/>
                  <a:pt x="312" y="960"/>
                </a:cubicBezTo>
                <a:cubicBezTo>
                  <a:pt x="328" y="968"/>
                  <a:pt x="360" y="984"/>
                  <a:pt x="360" y="984"/>
                </a:cubicBezTo>
                <a:cubicBezTo>
                  <a:pt x="390" y="969"/>
                  <a:pt x="390" y="951"/>
                  <a:pt x="420" y="936"/>
                </a:cubicBezTo>
                <a:cubicBezTo>
                  <a:pt x="437" y="902"/>
                  <a:pt x="456" y="911"/>
                  <a:pt x="468" y="876"/>
                </a:cubicBezTo>
                <a:cubicBezTo>
                  <a:pt x="483" y="830"/>
                  <a:pt x="483" y="791"/>
                  <a:pt x="528" y="768"/>
                </a:cubicBezTo>
                <a:cubicBezTo>
                  <a:pt x="556" y="712"/>
                  <a:pt x="536" y="728"/>
                  <a:pt x="576" y="708"/>
                </a:cubicBezTo>
                <a:cubicBezTo>
                  <a:pt x="590" y="680"/>
                  <a:pt x="622" y="664"/>
                  <a:pt x="636" y="636"/>
                </a:cubicBezTo>
                <a:cubicBezTo>
                  <a:pt x="656" y="595"/>
                  <a:pt x="666" y="549"/>
                  <a:pt x="708" y="528"/>
                </a:cubicBezTo>
                <a:cubicBezTo>
                  <a:pt x="748" y="448"/>
                  <a:pt x="788" y="368"/>
                  <a:pt x="828" y="288"/>
                </a:cubicBezTo>
                <a:cubicBezTo>
                  <a:pt x="832" y="281"/>
                  <a:pt x="861" y="218"/>
                  <a:pt x="864" y="216"/>
                </a:cubicBezTo>
                <a:cubicBezTo>
                  <a:pt x="920" y="188"/>
                  <a:pt x="879" y="193"/>
                  <a:pt x="996" y="180"/>
                </a:cubicBezTo>
                <a:cubicBezTo>
                  <a:pt x="1048" y="154"/>
                  <a:pt x="1089" y="134"/>
                  <a:pt x="1140" y="108"/>
                </a:cubicBezTo>
                <a:cubicBezTo>
                  <a:pt x="1150" y="103"/>
                  <a:pt x="1155" y="90"/>
                  <a:pt x="1164" y="84"/>
                </a:cubicBezTo>
                <a:cubicBezTo>
                  <a:pt x="1224" y="44"/>
                  <a:pt x="1298" y="17"/>
                  <a:pt x="1368" y="0"/>
                </a:cubicBezTo>
                <a:cubicBezTo>
                  <a:pt x="1402" y="11"/>
                  <a:pt x="1442" y="42"/>
                  <a:pt x="1464" y="72"/>
                </a:cubicBezTo>
                <a:cubicBezTo>
                  <a:pt x="1476" y="120"/>
                  <a:pt x="1458" y="66"/>
                  <a:pt x="1464" y="72"/>
                </a:cubicBezTo>
                <a:cubicBezTo>
                  <a:pt x="1470" y="78"/>
                  <a:pt x="1469" y="102"/>
                  <a:pt x="1476" y="108"/>
                </a:cubicBezTo>
                <a:cubicBezTo>
                  <a:pt x="1508" y="135"/>
                  <a:pt x="1512" y="132"/>
                  <a:pt x="1536" y="168"/>
                </a:cubicBezTo>
                <a:cubicBezTo>
                  <a:pt x="1571" y="256"/>
                  <a:pt x="1529" y="131"/>
                  <a:pt x="1584" y="240"/>
                </a:cubicBezTo>
                <a:cubicBezTo>
                  <a:pt x="1588" y="248"/>
                  <a:pt x="1608" y="216"/>
                  <a:pt x="1608" y="216"/>
                </a:cubicBezTo>
                <a:cubicBezTo>
                  <a:pt x="1690" y="189"/>
                  <a:pt x="1600" y="272"/>
                  <a:pt x="1644" y="228"/>
                </a:cubicBezTo>
                <a:cubicBezTo>
                  <a:pt x="1660" y="212"/>
                  <a:pt x="1673" y="182"/>
                  <a:pt x="1692" y="168"/>
                </a:cubicBezTo>
                <a:cubicBezTo>
                  <a:pt x="1701" y="161"/>
                  <a:pt x="1731" y="126"/>
                  <a:pt x="1740" y="120"/>
                </a:cubicBezTo>
                <a:cubicBezTo>
                  <a:pt x="1758" y="104"/>
                  <a:pt x="1780" y="88"/>
                  <a:pt x="1800" y="72"/>
                </a:cubicBezTo>
                <a:cubicBezTo>
                  <a:pt x="1810" y="64"/>
                  <a:pt x="1848" y="29"/>
                  <a:pt x="1860" y="24"/>
                </a:cubicBezTo>
                <a:cubicBezTo>
                  <a:pt x="1898" y="8"/>
                  <a:pt x="1941" y="25"/>
                  <a:pt x="1980" y="12"/>
                </a:cubicBezTo>
                <a:cubicBezTo>
                  <a:pt x="2023" y="19"/>
                  <a:pt x="2050" y="20"/>
                  <a:pt x="2088" y="36"/>
                </a:cubicBezTo>
                <a:cubicBezTo>
                  <a:pt x="2141" y="59"/>
                  <a:pt x="2201" y="78"/>
                  <a:pt x="2256" y="96"/>
                </a:cubicBezTo>
                <a:cubicBezTo>
                  <a:pt x="2292" y="87"/>
                  <a:pt x="2348" y="76"/>
                  <a:pt x="2376" y="48"/>
                </a:cubicBezTo>
                <a:cubicBezTo>
                  <a:pt x="2406" y="18"/>
                  <a:pt x="2402" y="17"/>
                  <a:pt x="2436" y="0"/>
                </a:cubicBezTo>
                <a:cubicBezTo>
                  <a:pt x="2484" y="84"/>
                  <a:pt x="2512" y="56"/>
                  <a:pt x="2532" y="72"/>
                </a:cubicBezTo>
                <a:cubicBezTo>
                  <a:pt x="2552" y="88"/>
                  <a:pt x="2548" y="88"/>
                  <a:pt x="2556" y="96"/>
                </a:cubicBezTo>
                <a:cubicBezTo>
                  <a:pt x="2561" y="106"/>
                  <a:pt x="2573" y="111"/>
                  <a:pt x="2580" y="120"/>
                </a:cubicBezTo>
                <a:cubicBezTo>
                  <a:pt x="2585" y="127"/>
                  <a:pt x="2585" y="138"/>
                  <a:pt x="2592" y="144"/>
                </a:cubicBezTo>
                <a:cubicBezTo>
                  <a:pt x="2606" y="155"/>
                  <a:pt x="2640" y="168"/>
                  <a:pt x="2640" y="168"/>
                </a:cubicBezTo>
                <a:cubicBezTo>
                  <a:pt x="2671" y="137"/>
                  <a:pt x="2717" y="110"/>
                  <a:pt x="2760" y="96"/>
                </a:cubicBezTo>
                <a:cubicBezTo>
                  <a:pt x="2784" y="88"/>
                  <a:pt x="2820" y="60"/>
                  <a:pt x="2820" y="60"/>
                </a:cubicBezTo>
                <a:cubicBezTo>
                  <a:pt x="2840" y="64"/>
                  <a:pt x="2873" y="78"/>
                  <a:pt x="2892" y="84"/>
                </a:cubicBezTo>
                <a:cubicBezTo>
                  <a:pt x="2909" y="90"/>
                  <a:pt x="2952" y="84"/>
                  <a:pt x="2952" y="84"/>
                </a:cubicBezTo>
                <a:cubicBezTo>
                  <a:pt x="2980" y="80"/>
                  <a:pt x="3009" y="91"/>
                  <a:pt x="3036" y="84"/>
                </a:cubicBezTo>
                <a:cubicBezTo>
                  <a:pt x="3055" y="79"/>
                  <a:pt x="3042" y="62"/>
                  <a:pt x="3048" y="60"/>
                </a:cubicBezTo>
                <a:cubicBezTo>
                  <a:pt x="3054" y="58"/>
                  <a:pt x="3060" y="76"/>
                  <a:pt x="3072" y="72"/>
                </a:cubicBezTo>
                <a:cubicBezTo>
                  <a:pt x="3088" y="68"/>
                  <a:pt x="3104" y="40"/>
                  <a:pt x="3120" y="36"/>
                </a:cubicBezTo>
                <a:cubicBezTo>
                  <a:pt x="3185" y="52"/>
                  <a:pt x="3153" y="65"/>
                  <a:pt x="3216" y="96"/>
                </a:cubicBezTo>
                <a:cubicBezTo>
                  <a:pt x="3232" y="104"/>
                  <a:pt x="3246" y="117"/>
                  <a:pt x="3264" y="120"/>
                </a:cubicBezTo>
                <a:cubicBezTo>
                  <a:pt x="3288" y="124"/>
                  <a:pt x="3293" y="120"/>
                  <a:pt x="3300" y="120"/>
                </a:cubicBezTo>
              </a:path>
            </a:pathLst>
          </a:custGeom>
          <a:noFill/>
          <a:ln w="7632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1600200"/>
            <a:ext cx="30456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1752480"/>
            <a:ext cx="3045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520" y="640080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ecomposed NN has fewer inputs, learn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factored belie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MDP RL to larger stat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lp with regular MD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vergence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oal: DP with guarantee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value determination in 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exact DP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projection (function approx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pansive function approximation (convergence, bounded e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 Value Determination Problem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1295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8195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191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581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19810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274320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1" idx="3"/>
            <a:endCxn id="245" idx="1"/>
          </p:cNvCxnSpPr>
          <p:nvPr/>
        </p:nvCxnSpPr>
        <p:spPr>
          <a:xfrm>
            <a:off x="2666520" y="1752120"/>
            <a:ext cx="12963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endCxn id="245" idx="1"/>
          </p:cNvCxnSpPr>
          <p:nvPr/>
        </p:nvCxnSpPr>
        <p:spPr>
          <a:xfrm flipV="1">
            <a:off x="2666520" y="24379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endCxn id="244" idx="1"/>
          </p:cNvCxnSpPr>
          <p:nvPr/>
        </p:nvCxnSpPr>
        <p:spPr>
          <a:xfrm>
            <a:off x="2666520" y="3504960"/>
            <a:ext cx="129636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endCxn id="244" idx="1"/>
          </p:cNvCxnSpPr>
          <p:nvPr/>
        </p:nvCxnSpPr>
        <p:spPr>
          <a:xfrm flipV="1">
            <a:off x="2666520" y="40381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3"/>
            <a:endCxn id="246" idx="1"/>
          </p:cNvCxnSpPr>
          <p:nvPr/>
        </p:nvCxnSpPr>
        <p:spPr>
          <a:xfrm>
            <a:off x="5410080" y="2437920"/>
            <a:ext cx="1067760" cy="7628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4" idx="3"/>
            <a:endCxn id="246" idx="1"/>
          </p:cNvCxnSpPr>
          <p:nvPr/>
        </p:nvCxnSpPr>
        <p:spPr>
          <a:xfrm flipV="1">
            <a:off x="5410080" y="3200040"/>
            <a:ext cx="1067760" cy="838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6462000" y="3753000"/>
            <a:ext cx="18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8680" y="5638680"/>
            <a:ext cx="72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predecessors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o offline/online stocha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, Stable DP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87840" y="182880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Restrict class of valu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39040" y="354636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809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352680"/>
            <a:ext cx="990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3809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743200"/>
            <a:ext cx="236232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3352680"/>
            <a:ext cx="990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8098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5640" y="4648320"/>
            <a:ext cx="72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A:  Neural Network, Regress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8120" y="571500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  Stability, Closeness of        to V*,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620120" y="3581280"/>
                <a:ext cx="533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638680" y="5715000"/>
                <a:ext cx="533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ïve function approximation is un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oyan &amp; Moore 95, Bertsekas &amp; Tsitsiklis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xamples where 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ear regression is 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elson 1958, Van Roy 19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must correspond to stationary distribution of polic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le Approximate 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2211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754280"/>
            <a:ext cx="221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05720" y="22114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1525680"/>
            <a:ext cx="2361960" cy="22860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1754280"/>
            <a:ext cx="9903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22114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62120" y="4343400"/>
                <a:ext cx="75610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κ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286000" y="608976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= effective contra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24040" y="175248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2767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error in fina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5760" y="3200400"/>
            <a:ext cx="204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lowe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62120" y="190656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867800" y="1906560"/>
                <a:ext cx="72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 rot="5400000">
            <a:off x="6629040" y="304812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828440" y="3429000"/>
            <a:ext cx="381240" cy="2057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c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3887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3429000"/>
            <a:ext cx="221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3886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3201840"/>
            <a:ext cx="2361960" cy="22860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1488" y="384"/>
                </a:moveTo>
                <a:cubicBezTo>
                  <a:pt x="1228" y="192"/>
                  <a:pt x="968" y="0"/>
                  <a:pt x="720" y="0"/>
                </a:cubicBezTo>
                <a:cubicBezTo>
                  <a:pt x="472" y="0"/>
                  <a:pt x="144" y="296"/>
                  <a:pt x="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3430440"/>
            <a:ext cx="9903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38876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24040" y="342900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5791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Must do these steps efficientl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200400" y="4647960"/>
            <a:ext cx="533520" cy="9903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62120" y="358308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867800" y="3583080"/>
                <a:ext cx="72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226080" y="175248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, projection consider every state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80520" y="4646160"/>
            <a:ext cx="524520" cy="99504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ompact Models = Compact V*?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80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80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80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0984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0984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0984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0984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0984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423072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97080" y="229068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7080" y="342252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7080" y="4552920"/>
            <a:ext cx="1112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57400" y="2452680"/>
            <a:ext cx="1252440" cy="808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57400" y="3583080"/>
            <a:ext cx="1252440" cy="80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9800" y="3098880"/>
            <a:ext cx="557280" cy="646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9800" y="1967040"/>
            <a:ext cx="557280" cy="645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6720" y="2068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6720" y="3259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360" y="438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8600" y="15699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8720" y="137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7240" y="1371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15238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R = 1 if Z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2286000"/>
            <a:ext cx="243864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627840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uniform valu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62640" y="51055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512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335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336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33000" y="62784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 depends upo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33840" y="2286000"/>
                <a:ext cx="839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00720" y="3535200"/>
                <a:ext cx="906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H="1">
            <a:off x="40384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43880" y="4724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1800" y="4724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)MDP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(PO)MDP solu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)MDPs meet density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 learning for PO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programming w/function appr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374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375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446120" y="627840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depends upon previous Y and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230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505640" y="2286000"/>
                <a:ext cx="839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7472520" y="3535200"/>
                <a:ext cx="906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 flipH="1">
            <a:off x="70102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512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384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18288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183200" y="2709720"/>
                <a:ext cx="558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099040" y="2633760"/>
                <a:ext cx="603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075280" y="3319560"/>
                <a:ext cx="62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160880" y="3319560"/>
                <a:ext cx="603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4439880" y="4724280"/>
            <a:ext cx="7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02200" y="4724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Value Function Growth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06720" y="1371600"/>
            <a:ext cx="2793960" cy="3504240"/>
            <a:chOff x="306720" y="1371600"/>
            <a:chExt cx="2793960" cy="3504240"/>
          </a:xfrm>
        </p:grpSpPr>
        <p:grpSp>
          <p:nvGrpSpPr>
            <p:cNvPr id="421" name=""/>
            <p:cNvGrpSpPr/>
            <p:nvPr/>
          </p:nvGrpSpPr>
          <p:grpSpPr>
            <a:xfrm>
              <a:off x="739080" y="1966680"/>
              <a:ext cx="2227680" cy="2909160"/>
              <a:chOff x="739080" y="1966680"/>
              <a:chExt cx="2227680" cy="2909160"/>
            </a:xfrm>
          </p:grpSpPr>
          <p:sp>
            <p:nvSpPr>
              <p:cNvPr id="422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908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0984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0984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09840" y="42292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96000" y="228960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96000" y="342108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96000" y="4552920"/>
                <a:ext cx="1113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56680" y="245124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56680" y="3583080"/>
                <a:ext cx="1253160" cy="80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9080" y="3098160"/>
                <a:ext cx="556920" cy="6458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9080" y="1966680"/>
                <a:ext cx="556920" cy="646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07080" y="2068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7080" y="3259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720" y="438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7880" y="1569960"/>
              <a:ext cx="24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8360" y="1371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87240" y="13716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 flipH="1">
            <a:off x="6019920" y="3200400"/>
            <a:ext cx="914400" cy="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34840" y="2706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230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1828800"/>
            <a:ext cx="190512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200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24680" y="18288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155000" y="2557440"/>
                <a:ext cx="558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8047080" y="2523960"/>
                <a:ext cx="603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8035920" y="3514680"/>
                <a:ext cx="62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132680" y="3514680"/>
                <a:ext cx="603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3658680" y="2590920"/>
            <a:ext cx="216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* ha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0" y="6035760"/>
            <a:ext cx="88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Boutilier, Dearden &amp; Goldszmidt (IJCAI 95) for metho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worst case when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40280" y="5257800"/>
            <a:ext cx="7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4800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5257800"/>
            <a:ext cx="685800" cy="68580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5880" y="54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mpact Reward Funct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444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3516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49560" y="48355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25320" y="361584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539720" y="36921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752480" y="3657240"/>
            <a:ext cx="517680" cy="12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3040" y="5826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06080" y="5826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26960" y="5826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66560" y="22096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16240" y="491184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4876920"/>
            <a:ext cx="60948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597120" y="369216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4800240" y="373356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4120" y="5826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960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38360" y="22096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7820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05720" y="2209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004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220968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63600" y="2209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2743200"/>
            <a:ext cx="762120" cy="762120"/>
          </a:xfrm>
          <a:prstGeom prst="flowChartDecision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2819520"/>
            <a:ext cx="762120" cy="761760"/>
          </a:xfrm>
          <a:prstGeom prst="flowChartDecision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asis Funct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pact basi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is defined over va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-1440" y="4724280"/>
            <a:ext cx="88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status of sub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inventory in different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function of status of machines in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DP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70560" y="182880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that DP is a linear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080080" y="5638680"/>
            <a:ext cx="411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5410080" y="26665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3809880"/>
            <a:ext cx="152640" cy="83844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3200400" y="281916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876920" y="3733920"/>
            <a:ext cx="457200" cy="83808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0520" y="37339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2895480"/>
            <a:ext cx="1067040" cy="22860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428400 h 2286000"/>
              <a:gd name="textAreaBottom" fmla="*/ 16545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95" stAng="-5400000" swAng="-5400000"/>
                <a:lnTo>
                  <a:pt x="0" y="11586"/>
                </a:lnTo>
                <a:arcTo wR="21600" hR="8095" stAng="10800000" swAng="-2757165"/>
                <a:lnTo>
                  <a:pt x="14239" y="21115"/>
                </a:lnTo>
                <a:lnTo>
                  <a:pt x="21600" y="17935"/>
                </a:lnTo>
                <a:lnTo>
                  <a:pt x="14239" y="13784"/>
                </a:lnTo>
                <a:lnTo>
                  <a:pt x="14239" y="15704"/>
                </a:lnTo>
                <a:arcTo wR="21600" hR="8095" stAng="8042835" swAng="2473313"/>
                <a:lnTo>
                  <a:pt x="508" y="9840"/>
                </a:lnTo>
                <a:arcTo wR="21600" hR="8095" stAng="-10516148" swAng="5116148"/>
                <a:close/>
              </a:path>
              <a:path fill="darkenLess" w="21600" h="21600">
                <a:moveTo>
                  <a:pt x="21600" y="0"/>
                </a:moveTo>
                <a:arcTo wR="21600" hR="8095" stAng="-5400000" swAng="-5400000"/>
                <a:lnTo>
                  <a:pt x="0" y="8095"/>
                </a:lnTo>
                <a:arcTo wR="21600" hR="8095" stAng="10800000" swAng="-283852"/>
                <a:lnTo>
                  <a:pt x="508" y="9840"/>
                </a:lnTo>
                <a:arcTo wR="21600" hR="8095" stAng="-10516148" swAng="5116148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76520" y="2803680"/>
                <a:ext cx="540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05120" y="4495680"/>
                <a:ext cx="4518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3507840" y="3986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8040" y="4038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Growth of Basis Function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43000" y="2438280"/>
            <a:ext cx="2818800" cy="3352320"/>
            <a:chOff x="1143000" y="2438280"/>
            <a:chExt cx="2818800" cy="3352320"/>
          </a:xfrm>
        </p:grpSpPr>
        <p:sp>
          <p:nvSpPr>
            <p:cNvPr id="504" name=""/>
            <p:cNvSpPr/>
            <p:nvPr/>
          </p:nvSpPr>
          <p:spPr>
            <a:xfrm>
              <a:off x="114300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300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4300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5692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5692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5692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5692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5692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56920" y="504540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47880" y="281016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47880" y="411444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47880" y="5418360"/>
              <a:ext cx="140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71480" y="2997000"/>
              <a:ext cx="1585440" cy="93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1480" y="4300920"/>
              <a:ext cx="1585440" cy="93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3000" y="3742200"/>
              <a:ext cx="704880" cy="7441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2438280"/>
              <a:ext cx="704880" cy="745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04440" y="255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4440" y="392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5440" y="522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51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0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7268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2240" y="17524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7560" y="2438280"/>
            <a:ext cx="32958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f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asis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by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potentially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8560" y="609588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eed to control growth in funct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334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914400" y="3885840"/>
            <a:ext cx="1523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2971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505320" y="1523880"/>
            <a:ext cx="1523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638680" y="3962160"/>
            <a:ext cx="15242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8620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2743200"/>
            <a:ext cx="2057400" cy="2171880"/>
          </a:xfrm>
          <a:custGeom>
            <a:avLst/>
            <a:gdLst/>
            <a:ahLst/>
            <a:rect l="l" t="t" r="r" b="b"/>
            <a:pathLst>
              <a:path w="1248" h="1032">
                <a:moveTo>
                  <a:pt x="0" y="1008"/>
                </a:moveTo>
                <a:cubicBezTo>
                  <a:pt x="256" y="1020"/>
                  <a:pt x="512" y="1032"/>
                  <a:pt x="720" y="864"/>
                </a:cubicBezTo>
                <a:cubicBezTo>
                  <a:pt x="928" y="696"/>
                  <a:pt x="1144" y="88"/>
                  <a:pt x="1248" y="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257080" y="2743200"/>
            <a:ext cx="2057400" cy="2171880"/>
          </a:xfrm>
          <a:custGeom>
            <a:avLst/>
            <a:gdLst/>
            <a:ahLst/>
            <a:rect l="l" t="t" r="r" b="b"/>
            <a:pathLst>
              <a:path w="1248" h="1032">
                <a:moveTo>
                  <a:pt x="0" y="1008"/>
                </a:moveTo>
                <a:cubicBezTo>
                  <a:pt x="256" y="1020"/>
                  <a:pt x="512" y="1032"/>
                  <a:pt x="720" y="864"/>
                </a:cubicBezTo>
                <a:cubicBezTo>
                  <a:pt x="928" y="696"/>
                  <a:pt x="1144" y="88"/>
                  <a:pt x="1248" y="0"/>
                </a:cubicBezTo>
              </a:path>
            </a:pathLst>
          </a:custGeom>
          <a:noFill/>
          <a:ln w="2844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20600" y="38005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18840" y="380988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7640" y="609588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Regression projects back into origi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209680" y="4556160"/>
                <a:ext cx="533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105520" y="1981080"/>
                <a:ext cx="2627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391520" y="4665600"/>
                <a:ext cx="780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38080" y="1447920"/>
            <a:ext cx="41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project all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06000" y="3429000"/>
            <a:ext cx="28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 x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415880" y="1906560"/>
                <a:ext cx="5781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4191120"/>
            <a:ext cx="2514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752120" y="2666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0880" y="320040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basi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05320" y="426708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30480" y="509580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760" y="4205160"/>
            <a:ext cx="1904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1)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1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2)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2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3124080"/>
            <a:ext cx="5257800" cy="3733920"/>
          </a:xfrm>
          <a:prstGeom prst="wedgeRoundRectCallout">
            <a:avLst>
              <a:gd name="adj1" fmla="val 29199"/>
              <a:gd name="adj2" fmla="val -59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Efficient dot produc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1143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680" y="334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880" y="2209680"/>
            <a:ext cx="82684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of unique terms in summ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f no. of unique terms in 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 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20520" y="5105520"/>
            <a:ext cx="795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of dot product is O(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 #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7520" y="601992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          using same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71800" y="6019920"/>
                <a:ext cx="1135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187880" y="1143000"/>
                <a:ext cx="2235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676520" y="3962520"/>
                <a:ext cx="5627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ant: 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Weighted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Projec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requir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igh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stationary dist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not be co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en-Koller Approximation [UAI 9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actored    with bounde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 produc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weighted dot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886200" y="4343400"/>
                <a:ext cx="41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505320" y="5181480"/>
                <a:ext cx="417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MDP Framework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ov Decis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state tran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 (or cost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648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038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181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44197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8380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33040" y="60958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5800" y="4156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5800" y="53751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5720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962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5105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62720" y="434340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1055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0640" y="6019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03400" y="4079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3400" y="5299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eighted dot produc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143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6480" y="2703600"/>
            <a:ext cx="79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   is factored, and basis functions are comp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889440" y="1143000"/>
                <a:ext cx="2832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219320" y="4952880"/>
                <a:ext cx="6483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311120" y="3236760"/>
                <a:ext cx="35816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uster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X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033520" y="3200400"/>
            <a:ext cx="30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all vars.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ing BK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930240" y="2779560"/>
                <a:ext cx="353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1400" y="168120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 If error in     not “too large”, then we’re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5880" y="2286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: 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349280" y="2819520"/>
                <a:ext cx="6750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ρ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342000" y="342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878200" y="3733920"/>
                <a:ext cx="308304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265680" y="49528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312920" y="5195880"/>
                <a:ext cx="66736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352680" y="1676520"/>
                <a:ext cx="331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DP 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ompact, approx. stationar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linear valu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until conver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DP replaces bases with larger f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alue function back into linea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beca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transi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basi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approx. stationar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ample Revisited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1295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8195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191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35812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19810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74320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90" idx="3"/>
            <a:endCxn id="594" idx="1"/>
          </p:cNvCxnSpPr>
          <p:nvPr/>
        </p:nvCxnSpPr>
        <p:spPr>
          <a:xfrm>
            <a:off x="2666520" y="1752120"/>
            <a:ext cx="12963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endCxn id="594" idx="1"/>
          </p:cNvCxnSpPr>
          <p:nvPr/>
        </p:nvCxnSpPr>
        <p:spPr>
          <a:xfrm flipV="1">
            <a:off x="2666520" y="24379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endCxn id="593" idx="1"/>
          </p:cNvCxnSpPr>
          <p:nvPr/>
        </p:nvCxnSpPr>
        <p:spPr>
          <a:xfrm>
            <a:off x="2666520" y="3504960"/>
            <a:ext cx="1296360" cy="533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endCxn id="593" idx="1"/>
          </p:cNvCxnSpPr>
          <p:nvPr/>
        </p:nvCxnSpPr>
        <p:spPr>
          <a:xfrm flipV="1">
            <a:off x="2666520" y="403812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4" idx="3"/>
            <a:endCxn id="595" idx="1"/>
          </p:cNvCxnSpPr>
          <p:nvPr/>
        </p:nvCxnSpPr>
        <p:spPr>
          <a:xfrm>
            <a:off x="5410080" y="2437920"/>
            <a:ext cx="1067760" cy="7628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3" idx="3"/>
            <a:endCxn id="595" idx="1"/>
          </p:cNvCxnSpPr>
          <p:nvPr/>
        </p:nvCxnSpPr>
        <p:spPr>
          <a:xfrm flipV="1">
            <a:off x="5410080" y="3200040"/>
            <a:ext cx="1067760" cy="838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6462000" y="3753000"/>
            <a:ext cx="18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38680" y="5638680"/>
            <a:ext cx="73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require predecessors to wo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 stochas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sults: Stability and Weighted Projec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04920" y="57276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461360" y="57276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61560" y="562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04920" y="535320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461360" y="535320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82920" y="52484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104920" y="4979880"/>
            <a:ext cx="414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461360" y="497988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94160" y="48736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04920" y="460548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461360" y="46054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582920" y="45007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104920" y="4230720"/>
            <a:ext cx="41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461360" y="423072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99120" y="41148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04920" y="3857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461360" y="385776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82920" y="37512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04920" y="3483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461360" y="34830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94160" y="3378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04920" y="3108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61360" y="31082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82920" y="3003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04920" y="27352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461360" y="27352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4160" y="2629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04920" y="23605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7461360" y="236052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82920" y="225576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04920" y="19861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461360" y="19861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94160" y="1881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0492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0492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5128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7795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7956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259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45456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5456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0056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2920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2920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7520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80384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0384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4984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47848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7848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2484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15312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5312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9948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8277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27760" y="1986120"/>
            <a:ext cx="1800" cy="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741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50240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50240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9548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104920" y="1986120"/>
            <a:ext cx="5397480" cy="37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-381240" y="3930840"/>
            <a:ext cx="282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ighted Sum of Squared Err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24280" y="6066000"/>
            <a:ext cx="19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is Functions Ad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2080" y="2209680"/>
            <a:ext cx="191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weighted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37160" y="2365200"/>
            <a:ext cx="3855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04920" y="1986120"/>
            <a:ext cx="96840" cy="1301760"/>
          </a:xfrm>
          <a:custGeom>
            <a:avLst/>
            <a:gdLst/>
            <a:ahLst/>
            <a:rect l="l" t="t" r="r" b="b"/>
            <a:pathLst>
              <a:path w="365" h="5741">
                <a:moveTo>
                  <a:pt x="0" y="5741"/>
                </a:moveTo>
                <a:lnTo>
                  <a:pt x="0" y="5741"/>
                </a:lnTo>
                <a:lnTo>
                  <a:pt x="36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02400" y="1986120"/>
            <a:ext cx="1800000" cy="3292200"/>
          </a:xfrm>
          <a:custGeom>
            <a:avLst/>
            <a:gdLst/>
            <a:ahLst/>
            <a:rect l="l" t="t" r="r" b="b"/>
            <a:pathLst>
              <a:path w="6803" h="14517">
                <a:moveTo>
                  <a:pt x="0" y="0"/>
                </a:moveTo>
                <a:lnTo>
                  <a:pt x="1703" y="12141"/>
                </a:lnTo>
                <a:lnTo>
                  <a:pt x="4253" y="13461"/>
                </a:lnTo>
                <a:lnTo>
                  <a:pt x="6803" y="1451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46240" y="3235320"/>
            <a:ext cx="11736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3"/>
                </a:lnTo>
                <a:lnTo>
                  <a:pt x="219" y="0"/>
                </a:lnTo>
                <a:lnTo>
                  <a:pt x="438" y="233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104920" y="32878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4440" y="468648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153120" y="4740120"/>
            <a:ext cx="1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69080" y="498636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27760" y="503856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43720" y="5226120"/>
            <a:ext cx="115920" cy="10476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4"/>
                </a:lnTo>
                <a:lnTo>
                  <a:pt x="219" y="0"/>
                </a:lnTo>
                <a:lnTo>
                  <a:pt x="438" y="234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502400" y="527832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72160" y="2313000"/>
            <a:ext cx="115920" cy="106200"/>
          </a:xfrm>
          <a:custGeom>
            <a:avLst/>
            <a:gdLst/>
            <a:ahLst/>
            <a:rect l="l" t="t" r="r" b="b"/>
            <a:pathLst>
              <a:path w="438" h="467">
                <a:moveTo>
                  <a:pt x="219" y="467"/>
                </a:moveTo>
                <a:lnTo>
                  <a:pt x="0" y="233"/>
                </a:lnTo>
                <a:lnTo>
                  <a:pt x="219" y="0"/>
                </a:lnTo>
                <a:lnTo>
                  <a:pt x="438" y="233"/>
                </a:lnTo>
                <a:lnTo>
                  <a:pt x="219" y="4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9040" y="236520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87320" y="2438280"/>
            <a:ext cx="171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ighted Proj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37160" y="2543040"/>
            <a:ext cx="3855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04920" y="4530600"/>
            <a:ext cx="5397480" cy="1062000"/>
          </a:xfrm>
          <a:custGeom>
            <a:avLst/>
            <a:gdLst/>
            <a:ahLst/>
            <a:rect l="l" t="t" r="r" b="b"/>
            <a:pathLst>
              <a:path w="20399" h="4686">
                <a:moveTo>
                  <a:pt x="0" y="0"/>
                </a:moveTo>
                <a:lnTo>
                  <a:pt x="0" y="0"/>
                </a:lnTo>
                <a:lnTo>
                  <a:pt x="5100" y="1188"/>
                </a:lnTo>
                <a:lnTo>
                  <a:pt x="12749" y="1617"/>
                </a:lnTo>
                <a:lnTo>
                  <a:pt x="15299" y="4620"/>
                </a:lnTo>
                <a:lnTo>
                  <a:pt x="17849" y="4652"/>
                </a:lnTo>
                <a:lnTo>
                  <a:pt x="20399" y="4686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046240" y="453060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04920" y="447660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95520" y="479916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454560" y="474660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419800" y="48974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478480" y="48434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4440" y="557856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153120" y="55245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769080" y="558468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27760" y="55324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443720" y="559260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02400" y="55404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72160" y="25430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29040" y="24908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roximate vs. Exact V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019240" y="5727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461360" y="57276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23680" y="562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19240" y="5192640"/>
            <a:ext cx="39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461360" y="519264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48360" y="50878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019240" y="4659480"/>
            <a:ext cx="39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7461360" y="46594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723680" y="4552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019240" y="4124160"/>
            <a:ext cx="39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461360" y="412416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8360" y="40194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19240" y="3589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461360" y="3589200"/>
            <a:ext cx="41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23680" y="3484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19240" y="3056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461360" y="305604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8360" y="2949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019240" y="25210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461360" y="2521080"/>
            <a:ext cx="41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723680" y="2416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19240" y="1986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461360" y="19861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48360" y="1881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1924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1924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15920" y="579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8936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8936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2664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75912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5912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59640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62924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24680" y="201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6652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50080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996240" y="201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3808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370560" y="5690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70560" y="198612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0784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240680" y="569088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240680" y="1986120"/>
            <a:ext cx="14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77960" y="5799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1981080"/>
            <a:ext cx="5483520" cy="3741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261440" y="38080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70840" y="6066000"/>
            <a:ext cx="44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86680" y="2031840"/>
            <a:ext cx="47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943680" y="2111400"/>
            <a:ext cx="38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019240" y="2427120"/>
            <a:ext cx="5483160" cy="2884680"/>
          </a:xfrm>
          <a:custGeom>
            <a:avLst/>
            <a:gdLst/>
            <a:ahLst/>
            <a:rect l="l" t="t" r="r" b="b"/>
            <a:pathLst>
              <a:path w="20725" h="12717">
                <a:moveTo>
                  <a:pt x="0" y="12717"/>
                </a:moveTo>
                <a:lnTo>
                  <a:pt x="0" y="12717"/>
                </a:lnTo>
                <a:lnTo>
                  <a:pt x="329" y="12657"/>
                </a:lnTo>
                <a:lnTo>
                  <a:pt x="658" y="12641"/>
                </a:lnTo>
                <a:lnTo>
                  <a:pt x="987" y="12482"/>
                </a:lnTo>
                <a:lnTo>
                  <a:pt x="1315" y="12657"/>
                </a:lnTo>
                <a:lnTo>
                  <a:pt x="1645" y="12578"/>
                </a:lnTo>
                <a:lnTo>
                  <a:pt x="1973" y="12482"/>
                </a:lnTo>
                <a:lnTo>
                  <a:pt x="2303" y="11889"/>
                </a:lnTo>
                <a:lnTo>
                  <a:pt x="2631" y="12717"/>
                </a:lnTo>
                <a:lnTo>
                  <a:pt x="2961" y="12657"/>
                </a:lnTo>
                <a:lnTo>
                  <a:pt x="3289" y="12641"/>
                </a:lnTo>
                <a:lnTo>
                  <a:pt x="3619" y="12387"/>
                </a:lnTo>
                <a:lnTo>
                  <a:pt x="3947" y="12657"/>
                </a:lnTo>
                <a:lnTo>
                  <a:pt x="4276" y="12578"/>
                </a:lnTo>
                <a:lnTo>
                  <a:pt x="4606" y="12482"/>
                </a:lnTo>
                <a:lnTo>
                  <a:pt x="4934" y="11331"/>
                </a:lnTo>
                <a:lnTo>
                  <a:pt x="5264" y="12717"/>
                </a:lnTo>
                <a:lnTo>
                  <a:pt x="5592" y="12657"/>
                </a:lnTo>
                <a:lnTo>
                  <a:pt x="5922" y="12641"/>
                </a:lnTo>
                <a:lnTo>
                  <a:pt x="6250" y="12482"/>
                </a:lnTo>
                <a:lnTo>
                  <a:pt x="6580" y="12657"/>
                </a:lnTo>
                <a:lnTo>
                  <a:pt x="6908" y="12578"/>
                </a:lnTo>
                <a:lnTo>
                  <a:pt x="7238" y="12387"/>
                </a:lnTo>
                <a:lnTo>
                  <a:pt x="7566" y="11331"/>
                </a:lnTo>
                <a:lnTo>
                  <a:pt x="7895" y="11020"/>
                </a:lnTo>
                <a:lnTo>
                  <a:pt x="8224" y="10960"/>
                </a:lnTo>
                <a:lnTo>
                  <a:pt x="8553" y="10945"/>
                </a:lnTo>
                <a:lnTo>
                  <a:pt x="8883" y="10691"/>
                </a:lnTo>
                <a:lnTo>
                  <a:pt x="9211" y="10960"/>
                </a:lnTo>
                <a:lnTo>
                  <a:pt x="9540" y="10882"/>
                </a:lnTo>
                <a:lnTo>
                  <a:pt x="9868" y="10691"/>
                </a:lnTo>
                <a:lnTo>
                  <a:pt x="10198" y="7784"/>
                </a:lnTo>
                <a:lnTo>
                  <a:pt x="10526" y="8003"/>
                </a:lnTo>
                <a:lnTo>
                  <a:pt x="10855" y="7943"/>
                </a:lnTo>
                <a:lnTo>
                  <a:pt x="11184" y="7928"/>
                </a:lnTo>
                <a:lnTo>
                  <a:pt x="11513" y="7768"/>
                </a:lnTo>
                <a:lnTo>
                  <a:pt x="11842" y="7943"/>
                </a:lnTo>
                <a:lnTo>
                  <a:pt x="12171" y="7865"/>
                </a:lnTo>
                <a:lnTo>
                  <a:pt x="12501" y="7768"/>
                </a:lnTo>
                <a:lnTo>
                  <a:pt x="12829" y="7175"/>
                </a:lnTo>
                <a:lnTo>
                  <a:pt x="13159" y="8003"/>
                </a:lnTo>
                <a:lnTo>
                  <a:pt x="13487" y="7943"/>
                </a:lnTo>
                <a:lnTo>
                  <a:pt x="13817" y="7928"/>
                </a:lnTo>
                <a:lnTo>
                  <a:pt x="14145" y="7674"/>
                </a:lnTo>
                <a:lnTo>
                  <a:pt x="14474" y="7943"/>
                </a:lnTo>
                <a:lnTo>
                  <a:pt x="14803" y="7865"/>
                </a:lnTo>
                <a:lnTo>
                  <a:pt x="15132" y="7768"/>
                </a:lnTo>
                <a:lnTo>
                  <a:pt x="15461" y="6619"/>
                </a:lnTo>
                <a:lnTo>
                  <a:pt x="15790" y="8003"/>
                </a:lnTo>
                <a:lnTo>
                  <a:pt x="16119" y="7943"/>
                </a:lnTo>
                <a:lnTo>
                  <a:pt x="16448" y="7928"/>
                </a:lnTo>
                <a:lnTo>
                  <a:pt x="16778" y="7768"/>
                </a:lnTo>
                <a:lnTo>
                  <a:pt x="17106" y="7943"/>
                </a:lnTo>
                <a:lnTo>
                  <a:pt x="17435" y="7865"/>
                </a:lnTo>
                <a:lnTo>
                  <a:pt x="17764" y="7674"/>
                </a:lnTo>
                <a:lnTo>
                  <a:pt x="18093" y="6619"/>
                </a:lnTo>
                <a:lnTo>
                  <a:pt x="18422" y="4186"/>
                </a:lnTo>
                <a:lnTo>
                  <a:pt x="18751" y="4126"/>
                </a:lnTo>
                <a:lnTo>
                  <a:pt x="19080" y="4111"/>
                </a:lnTo>
                <a:lnTo>
                  <a:pt x="19409" y="3857"/>
                </a:lnTo>
                <a:lnTo>
                  <a:pt x="19738" y="4126"/>
                </a:lnTo>
                <a:lnTo>
                  <a:pt x="20067" y="4047"/>
                </a:lnTo>
                <a:lnTo>
                  <a:pt x="20396" y="3857"/>
                </a:lnTo>
                <a:lnTo>
                  <a:pt x="20725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60560" y="5311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19240" y="5259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48040" y="529920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0672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35160" y="529416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9240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2264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79520" y="5205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08320" y="529920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6700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95440" y="528012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54120" y="522756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8292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41600" y="5205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70040" y="51246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27280" y="50720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57520" y="5311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4760" y="5259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4464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01880" y="52452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30680" y="529416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8936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17800" y="5237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76480" y="51847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0528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06396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92400" y="52801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49640" y="52275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17988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36760" y="5205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67000" y="49975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324240" y="49449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352680" y="531180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11360" y="525924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4016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98840" y="52452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27280" y="529416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86320" y="52419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614760" y="52592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72000" y="520524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701880" y="52992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59120" y="524520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87920" y="528012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46600" y="52275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75040" y="523728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33720" y="51847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499752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21200" y="494496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049640" y="49276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108320" y="48736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37120" y="491328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94000" y="48610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24240" y="49100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281480" y="48578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311720" y="485316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68960" y="47991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397400" y="491328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56080" y="486108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84520" y="48960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43560" y="48434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485316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629240" y="479916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59480" y="419256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14036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45160" y="4243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03840" y="418932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32280" y="4229280"/>
            <a:ext cx="117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89096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9760" y="4226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978440" y="417348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0688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65560" y="4137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09436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151600" y="4176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81480" y="42116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3872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6896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326200" y="41371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354640" y="4054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13320" y="4002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42120" y="4243320"/>
            <a:ext cx="1155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500800" y="418932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2924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792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16720" y="4226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73600" y="417348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703840" y="4168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61080" y="41148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84820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877000" y="42116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3568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64120" y="4189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22800" y="41371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51600" y="3929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08840" y="38768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38720" y="42433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5960" y="4189320"/>
            <a:ext cx="180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2620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283440" y="4176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11880" y="4226040"/>
            <a:ext cx="117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70560" y="417348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399360" y="41893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458040" y="41371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486480" y="422928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545160" y="41767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73960" y="42116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32640" y="4159080"/>
            <a:ext cx="1440" cy="1051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661080" y="41688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718320" y="411480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748560" y="392904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05440" y="3876840"/>
            <a:ext cx="1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34240" y="337644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92920" y="332424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921360" y="336384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980400" y="33116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08840" y="336060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67520" y="3306600"/>
            <a:ext cx="1440" cy="106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95960" y="330192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156440" y="3200400"/>
            <a:ext cx="6480" cy="155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183440" y="3363840"/>
            <a:ext cx="1159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240680" y="3311640"/>
            <a:ext cx="144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270920" y="3346560"/>
            <a:ext cx="1155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327800" y="329256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356600" y="3301920"/>
            <a:ext cx="117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415280" y="3249720"/>
            <a:ext cx="144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443720" y="2427120"/>
            <a:ext cx="117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502400" y="2374920"/>
            <a:ext cx="1800" cy="106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078680" y="2111400"/>
            <a:ext cx="1159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135920" y="2058840"/>
            <a:ext cx="1440" cy="10656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636880" y="220968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943680" y="2289240"/>
            <a:ext cx="3859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19240" y="3627360"/>
            <a:ext cx="5483160" cy="1897200"/>
          </a:xfrm>
          <a:custGeom>
            <a:avLst/>
            <a:gdLst/>
            <a:ahLst/>
            <a:rect l="l" t="t" r="r" b="b"/>
            <a:pathLst>
              <a:path w="20725" h="8363">
                <a:moveTo>
                  <a:pt x="0" y="8184"/>
                </a:moveTo>
                <a:lnTo>
                  <a:pt x="0" y="8184"/>
                </a:lnTo>
                <a:lnTo>
                  <a:pt x="329" y="8094"/>
                </a:lnTo>
                <a:lnTo>
                  <a:pt x="658" y="8363"/>
                </a:lnTo>
                <a:lnTo>
                  <a:pt x="987" y="7784"/>
                </a:lnTo>
                <a:lnTo>
                  <a:pt x="1315" y="8094"/>
                </a:lnTo>
                <a:lnTo>
                  <a:pt x="1645" y="8003"/>
                </a:lnTo>
                <a:lnTo>
                  <a:pt x="1973" y="7784"/>
                </a:lnTo>
                <a:lnTo>
                  <a:pt x="2303" y="7203"/>
                </a:lnTo>
                <a:lnTo>
                  <a:pt x="2631" y="8015"/>
                </a:lnTo>
                <a:lnTo>
                  <a:pt x="2961" y="7925"/>
                </a:lnTo>
                <a:lnTo>
                  <a:pt x="3289" y="8194"/>
                </a:lnTo>
                <a:lnTo>
                  <a:pt x="3619" y="7614"/>
                </a:lnTo>
                <a:lnTo>
                  <a:pt x="3947" y="7925"/>
                </a:lnTo>
                <a:lnTo>
                  <a:pt x="4276" y="7833"/>
                </a:lnTo>
                <a:lnTo>
                  <a:pt x="4606" y="7614"/>
                </a:lnTo>
                <a:lnTo>
                  <a:pt x="4934" y="7034"/>
                </a:lnTo>
                <a:lnTo>
                  <a:pt x="5264" y="8015"/>
                </a:lnTo>
                <a:lnTo>
                  <a:pt x="5592" y="7925"/>
                </a:lnTo>
                <a:lnTo>
                  <a:pt x="5922" y="8194"/>
                </a:lnTo>
                <a:lnTo>
                  <a:pt x="6250" y="7614"/>
                </a:lnTo>
                <a:lnTo>
                  <a:pt x="6580" y="7925"/>
                </a:lnTo>
                <a:lnTo>
                  <a:pt x="6908" y="7833"/>
                </a:lnTo>
                <a:lnTo>
                  <a:pt x="7238" y="7614"/>
                </a:lnTo>
                <a:lnTo>
                  <a:pt x="7566" y="7034"/>
                </a:lnTo>
                <a:lnTo>
                  <a:pt x="7895" y="5858"/>
                </a:lnTo>
                <a:lnTo>
                  <a:pt x="8224" y="5768"/>
                </a:lnTo>
                <a:lnTo>
                  <a:pt x="8553" y="6038"/>
                </a:lnTo>
                <a:lnTo>
                  <a:pt x="8883" y="5458"/>
                </a:lnTo>
                <a:lnTo>
                  <a:pt x="9211" y="5768"/>
                </a:lnTo>
                <a:lnTo>
                  <a:pt x="9540" y="5678"/>
                </a:lnTo>
                <a:lnTo>
                  <a:pt x="9868" y="5458"/>
                </a:lnTo>
                <a:lnTo>
                  <a:pt x="10198" y="4877"/>
                </a:lnTo>
                <a:lnTo>
                  <a:pt x="10526" y="3306"/>
                </a:lnTo>
                <a:lnTo>
                  <a:pt x="10855" y="3215"/>
                </a:lnTo>
                <a:lnTo>
                  <a:pt x="11184" y="3485"/>
                </a:lnTo>
                <a:lnTo>
                  <a:pt x="11513" y="2905"/>
                </a:lnTo>
                <a:lnTo>
                  <a:pt x="11842" y="3215"/>
                </a:lnTo>
                <a:lnTo>
                  <a:pt x="12171" y="3125"/>
                </a:lnTo>
                <a:lnTo>
                  <a:pt x="12501" y="2905"/>
                </a:lnTo>
                <a:lnTo>
                  <a:pt x="12829" y="2325"/>
                </a:lnTo>
                <a:lnTo>
                  <a:pt x="13159" y="3137"/>
                </a:lnTo>
                <a:lnTo>
                  <a:pt x="13487" y="3046"/>
                </a:lnTo>
                <a:lnTo>
                  <a:pt x="13817" y="3316"/>
                </a:lnTo>
                <a:lnTo>
                  <a:pt x="14145" y="2735"/>
                </a:lnTo>
                <a:lnTo>
                  <a:pt x="14474" y="3046"/>
                </a:lnTo>
                <a:lnTo>
                  <a:pt x="14803" y="2956"/>
                </a:lnTo>
                <a:lnTo>
                  <a:pt x="15132" y="2735"/>
                </a:lnTo>
                <a:lnTo>
                  <a:pt x="15461" y="2156"/>
                </a:lnTo>
                <a:lnTo>
                  <a:pt x="15790" y="3137"/>
                </a:lnTo>
                <a:lnTo>
                  <a:pt x="16119" y="3046"/>
                </a:lnTo>
                <a:lnTo>
                  <a:pt x="16448" y="3316"/>
                </a:lnTo>
                <a:lnTo>
                  <a:pt x="16778" y="2735"/>
                </a:lnTo>
                <a:lnTo>
                  <a:pt x="17106" y="3046"/>
                </a:lnTo>
                <a:lnTo>
                  <a:pt x="17435" y="2956"/>
                </a:lnTo>
                <a:lnTo>
                  <a:pt x="17764" y="2735"/>
                </a:lnTo>
                <a:lnTo>
                  <a:pt x="18093" y="2156"/>
                </a:lnTo>
                <a:lnTo>
                  <a:pt x="18422" y="981"/>
                </a:lnTo>
                <a:lnTo>
                  <a:pt x="18751" y="891"/>
                </a:lnTo>
                <a:lnTo>
                  <a:pt x="19080" y="1160"/>
                </a:lnTo>
                <a:lnTo>
                  <a:pt x="19409" y="580"/>
                </a:lnTo>
                <a:lnTo>
                  <a:pt x="19738" y="891"/>
                </a:lnTo>
                <a:lnTo>
                  <a:pt x="20067" y="800"/>
                </a:lnTo>
                <a:lnTo>
                  <a:pt x="20396" y="580"/>
                </a:lnTo>
                <a:lnTo>
                  <a:pt x="2072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60560" y="5430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19240" y="548496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48040" y="541008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06720" y="54640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35160" y="54720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192400" y="55245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222640" y="53402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79520" y="53928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308320" y="5410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367000" y="54640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95440" y="53895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454120" y="544356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482920" y="53402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41600" y="53928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570040" y="52084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627280" y="52610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57520" y="5392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14760" y="5445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464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801880" y="54259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30680" y="5433840"/>
            <a:ext cx="115560" cy="105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89360" y="54864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91780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97648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00528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63960" y="5425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092400" y="535140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149640" y="54039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7988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3676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267000" y="517032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24240" y="52228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352680" y="5392800"/>
            <a:ext cx="1177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1360" y="544500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4016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98840" y="5425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27280" y="5433840"/>
            <a:ext cx="115920" cy="105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86320" y="54864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61476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672000" y="53546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701880" y="53722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59120" y="54259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87920" y="535140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46600" y="54039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5040" y="530208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33720" y="5354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962520" y="517032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021200" y="52228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49640" y="4903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108320" y="495612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137120" y="48830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194000" y="49356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24240" y="494496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81480" y="49975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311720" y="48132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68960" y="4865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397400" y="488304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6080" y="49356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84520" y="48625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43560" y="49165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572000" y="481320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29240" y="4865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59480" y="4681440"/>
            <a:ext cx="11556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716360" y="47340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745160" y="432432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03840" y="43783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832280" y="4303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90960" y="43578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19760" y="43657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78440" y="4417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6880" y="4233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065560" y="42861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094360" y="4303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151600" y="435780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181480" y="428472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38720" y="43369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68960" y="42339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26200" y="428616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1022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13320" y="415620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42120" y="428616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500800" y="434016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52924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8792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616720" y="432756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73600" y="43797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0384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76108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9132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4820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77000" y="42451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35680" y="42991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96412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22800" y="424800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051600" y="40640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08840" y="411624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38720" y="4286160"/>
            <a:ext cx="11592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95960" y="43401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22620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83440" y="43196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11880" y="4327560"/>
            <a:ext cx="11736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370560" y="43797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39936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45804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86480" y="42656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545160" y="4319640"/>
            <a:ext cx="18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573960" y="42451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32640" y="429912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61080" y="419580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718320" y="424800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48560" y="406404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05440" y="411624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34240" y="3797280"/>
            <a:ext cx="1173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92920" y="385128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921360" y="37767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980400" y="3830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008840" y="383868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067520" y="389088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95960" y="3706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155000" y="37591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183440" y="37767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40680" y="383076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270920" y="3755880"/>
            <a:ext cx="115560" cy="106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27800" y="380988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356600" y="370692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415280" y="3759120"/>
            <a:ext cx="14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43720" y="3575160"/>
            <a:ext cx="115920" cy="106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502400" y="3627360"/>
            <a:ext cx="180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078680" y="2236680"/>
            <a:ext cx="115920" cy="10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135920" y="2289240"/>
            <a:ext cx="144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, approximate DP for larg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P, projection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only, no polic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ivial to add polic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representation may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irect Policy Search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8720" y="175248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Search smoothly parameterize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4240" y="281952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6120" y="419112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unction (wrt starting dist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4480" y="5403960"/>
            <a:ext cx="85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s 83, Marbach &amp; Tsitskilis 98, Baird &amp; Moore 9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uleau et al. 99, Peshkin et al. 9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da &amp; Tsitsiklis 00, Sutton et al.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444840" y="2879640"/>
                <a:ext cx="1200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629400" y="4267080"/>
                <a:ext cx="9270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Policy Search with Density Estimation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compute value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for both MDPs and POMP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comput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(small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jectori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, Parr &amp; Koller NIPS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olicy Evaluatio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8640" y="1371600"/>
            <a:ext cx="36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Model 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3276720"/>
            <a:ext cx="182880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943600" y="3276720"/>
            <a:ext cx="182880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95800" y="3292560"/>
            <a:ext cx="112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752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184640" y="2806560"/>
            <a:ext cx="1806480" cy="490680"/>
          </a:xfrm>
          <a:custGeom>
            <a:avLst/>
            <a:gdLst/>
            <a:ahLst/>
            <a:rect l="l" t="t" r="r" b="b"/>
            <a:pathLst>
              <a:path w="1138" h="309">
                <a:moveTo>
                  <a:pt x="1138" y="309"/>
                </a:moveTo>
                <a:cubicBezTo>
                  <a:pt x="1109" y="271"/>
                  <a:pt x="1073" y="154"/>
                  <a:pt x="964" y="104"/>
                </a:cubicBezTo>
                <a:cubicBezTo>
                  <a:pt x="855" y="54"/>
                  <a:pt x="620" y="0"/>
                  <a:pt x="484" y="8"/>
                </a:cubicBezTo>
                <a:cubicBezTo>
                  <a:pt x="348" y="16"/>
                  <a:pt x="228" y="112"/>
                  <a:pt x="148" y="152"/>
                </a:cubicBezTo>
                <a:cubicBezTo>
                  <a:pt x="68" y="192"/>
                  <a:pt x="31" y="227"/>
                  <a:pt x="0" y="2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905120" y="3124080"/>
                <a:ext cx="571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4952880" y="396252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048280" y="1828800"/>
                <a:ext cx="838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365760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429000" y="5467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actio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(reward maxim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 bi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fa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full state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Rollout Based Policy Search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32080" y="1143000"/>
            <a:ext cx="59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t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using simplex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666880" y="3505320"/>
                <a:ext cx="3200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1889280" y="34448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62840" y="3581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5440" y="4419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to rea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2819520" y="5181480"/>
                <a:ext cx="3504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343400" y="434340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305280" y="297180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505320" y="1066680"/>
                <a:ext cx="9144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124080" y="1676520"/>
                <a:ext cx="389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3240" y="6035760"/>
            <a:ext cx="82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.B.: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Given density estimation, this turns policy search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imple function max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imple BAT ne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762120" y="1143000"/>
            <a:ext cx="7937280" cy="5614920"/>
            <a:chOff x="762120" y="1143000"/>
            <a:chExt cx="7937280" cy="5614920"/>
          </a:xfrm>
        </p:grpSpPr>
        <p:sp>
          <p:nvSpPr>
            <p:cNvPr id="1052" name=""/>
            <p:cNvSpPr/>
            <p:nvPr/>
          </p:nvSpPr>
          <p:spPr>
            <a:xfrm>
              <a:off x="762120" y="11430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2120" y="5410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1981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2120" y="2819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120" y="3657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2120" y="4495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28800" y="15238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1447920" y="213336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1447920" y="19051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47920" y="14479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47920" y="3352680"/>
              <a:ext cx="53316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7920" y="4267080"/>
              <a:ext cx="53316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24480" y="11430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24480" y="5410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24480" y="19810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24480" y="2819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24480" y="3657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24480" y="4495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391520" y="15238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010280" y="213336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10280" y="14479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10280" y="3352680"/>
              <a:ext cx="53352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10280" y="4267080"/>
              <a:ext cx="533520" cy="152424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0" y="960"/>
                  </a:moveTo>
                  <a:cubicBezTo>
                    <a:pt x="168" y="776"/>
                    <a:pt x="336" y="592"/>
                    <a:pt x="336" y="432"/>
                  </a:cubicBezTo>
                  <a:cubicBezTo>
                    <a:pt x="336" y="272"/>
                    <a:pt x="88" y="6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57913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7920" y="48769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47920" y="403848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7920" y="312408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47920" y="23623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47920" y="144792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447920" y="2514240"/>
              <a:ext cx="45720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447920" y="2437920"/>
              <a:ext cx="4572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1447920" y="1599840"/>
              <a:ext cx="46479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1447920" y="1752480"/>
              <a:ext cx="45720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3124080"/>
              <a:ext cx="4647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14600" y="1828800"/>
              <a:ext cx="350532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81280" y="6019920"/>
              <a:ext cx="685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47920" y="1447920"/>
              <a:ext cx="1981080" cy="47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47920" y="2362320"/>
              <a:ext cx="198108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47920" y="3124080"/>
              <a:ext cx="19810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267080" y="5943600"/>
              <a:ext cx="1752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4267080" y="5029200"/>
              <a:ext cx="1828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33920" y="6237360"/>
              <a:ext cx="40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licy = CPT for Lat_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implex Search Result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438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radient Ascen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62520" y="1387440"/>
            <a:ext cx="84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x is weak: better to use gradient 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41000" y="222552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differentiable model,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133720" y="4114800"/>
                <a:ext cx="51372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746280" y="329256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stimated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5080" y="5943600"/>
            <a:ext cx="78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Combined propagation/estimati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05120" y="3886200"/>
            <a:ext cx="30456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495680" y="4952880"/>
            <a:ext cx="0" cy="9907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Apply the Chain Rul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838080" y="2438280"/>
                <a:ext cx="753588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5488200" y="160020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28800" y="6019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437920" y="487692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Recursiv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828440" y="3428640"/>
            <a:ext cx="685800" cy="1676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6553080" y="45720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182920" y="57150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905120" y="1905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00" y="63784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f.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What if full model is not available?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3160" y="17524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genera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352680" y="3505320"/>
            <a:ext cx="23623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38862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905120" y="47242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10920" y="35812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18760" y="44355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4343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011720" y="3886200"/>
            <a:ext cx="11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Rollout with sampl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352680" y="1905120"/>
            <a:ext cx="198144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562720" y="4267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371600" y="4267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914400" y="2133720"/>
                <a:ext cx="6667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1905120" y="2514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34120" y="3276720"/>
            <a:ext cx="8380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715720" y="297180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8305920" y="2819520"/>
                <a:ext cx="61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 flipH="1">
            <a:off x="3581280" y="4952880"/>
            <a:ext cx="198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41760" y="4968720"/>
            <a:ext cx="194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4191120" y="6019920"/>
                <a:ext cx="388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 flipV="1">
            <a:off x="2362320" y="335268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805120" y="3673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886200" y="3505320"/>
                <a:ext cx="928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Gradient Ascent &amp; Sampl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18040" y="1616040"/>
            <a:ext cx="78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del fitting is differentiable, why not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62120" y="2819520"/>
                <a:ext cx="753588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Ψ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θ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>
            <a:off x="303840" y="556272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Samples are from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ought Experimen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1240" y="121932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0520" y="1981080"/>
            <a:ext cx="78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 estimation, reweighting old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752480" y="2819520"/>
                <a:ext cx="544356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3505320" y="1219320"/>
                <a:ext cx="46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2133720" y="4648320"/>
                <a:ext cx="3886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685800" y="6019920"/>
                <a:ext cx="838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0" name=""/>
          <p:cNvSpPr/>
          <p:nvPr/>
        </p:nvSpPr>
        <p:spPr>
          <a:xfrm>
            <a:off x="1451520" y="601992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otes on reweighti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amples are actually re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ifferenti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, since differentiation considers an infinitesimal chang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5791320" y="4876920"/>
                <a:ext cx="46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Value Determination in 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expected, discounted value of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andom variable for state at tim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3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scou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- reward for state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0" y="4038480"/>
                <a:ext cx="451656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17160" y="60199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Expected value of factory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icycle Example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ycle simulator from Randlov &amp; Astrom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actions for combinations of lean and t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dimensional state + absorbing go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ed to 6D multivariate Ga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horizon of 200 steps, 300 samples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max actio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results comparable to R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km vs. 7km for “good”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km vs. 1.7km for “best”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new uses for density estimation in (PO)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DP 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approx. with dens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determination with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space of parameterize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ynamic Programming (DP)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oint is V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|S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er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state variables, |S|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73040" y="2133720"/>
                <a:ext cx="831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artial Observability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ions of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: true state is 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” depends upo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tate = dist. over tru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DP for POMDPs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 still works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is now a belief state, i.e. prob. d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state variables, dist. over |S|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s exactly 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V exactly is nightma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3040" y="2133720"/>
                <a:ext cx="831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3:01:40Z</dcterms:created>
  <dc:creator>Ron Parr</dc:creator>
  <dc:description/>
  <dc:language>en-US</dc:language>
  <cp:lastModifiedBy>Ronald Parr</cp:lastModifiedBy>
  <cp:lastPrinted>1999-10-15T19:59:35Z</cp:lastPrinted>
  <dcterms:modified xsi:type="dcterms:W3CDTF">1999-10-18T13:51:22Z</dcterms:modified>
  <cp:revision>63</cp:revision>
  <dc:subject/>
  <dc:title>No Slide Title</dc:title>
</cp:coreProperties>
</file>