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138B-947C-490A-A522-579CF041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B0EA-EC01-48B4-9021-68135258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1541-3BD3-4958-ACC1-DE39F305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4216-5772-421C-92A5-F37BC1AA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6E72-E5AB-4546-95EF-0BDCDC76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994F-178E-481A-ADE6-29764D23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5951-54CC-4A64-8CA7-E6FDE793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3565-61F3-4E23-9AF5-C51AE8AB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F2EF-DDB7-4712-A0B8-77D2F0C5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8242-4ABB-456F-BEC1-F556AB01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ED8-E268-46E7-AC6A-A50FDB88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A83C-91F4-4E05-882A-6221D274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2506-A16C-4708-A0A5-643658C64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Density Estimation and MDPs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289548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nald Pa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ford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3680" y="5181480"/>
            <a:ext cx="803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ork with Daphne Koller, Andrew Ng (U.C. Berkel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ndres Rodrig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Density Estimation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ly represent dist. over many v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ly interpreted, incl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yes net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tur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lman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Example: Dynamic Bayesian Networks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4382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3741840"/>
            <a:ext cx="704880" cy="745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04684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504684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57640" y="24382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57640" y="3741840"/>
            <a:ext cx="704880" cy="745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57640" y="504684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57640" y="24382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57640" y="3741840"/>
            <a:ext cx="704880" cy="745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57640" y="504684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47880" y="2811600"/>
            <a:ext cx="1409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47880" y="4114800"/>
            <a:ext cx="1409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47880" y="5418000"/>
            <a:ext cx="1409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71480" y="2997360"/>
            <a:ext cx="1586160" cy="931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1480" y="4300560"/>
            <a:ext cx="1586160" cy="931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3741840"/>
            <a:ext cx="704880" cy="745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4382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4440" y="255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4440" y="392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5440" y="5222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51240" y="255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18760" y="624852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523880" y="5943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581280" y="5943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15840" y="17524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981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2680" y="175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42240" y="175248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4724280"/>
            <a:ext cx="1522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715000"/>
            <a:ext cx="22100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895480" y="2514600"/>
            <a:ext cx="221004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2514600"/>
            <a:ext cx="3657600" cy="358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320040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464832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54100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396252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67480" y="2514600"/>
            <a:ext cx="0" cy="358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2514600"/>
            <a:ext cx="0" cy="358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248520" y="2590920"/>
                <a:ext cx="1162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543800" y="2514600"/>
                <a:ext cx="11955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181480" y="3276720"/>
                <a:ext cx="83196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45120" y="4005360"/>
                <a:ext cx="9046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257800" y="4724280"/>
                <a:ext cx="9460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224320" y="5388120"/>
                <a:ext cx="10144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248520" y="3429000"/>
                <a:ext cx="11430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230880" y="4098960"/>
                <a:ext cx="11779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248520" y="4876920"/>
                <a:ext cx="11937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248520" y="5562720"/>
                <a:ext cx="12286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467480" y="5562720"/>
                <a:ext cx="12463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535880" y="4876920"/>
                <a:ext cx="12114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535880" y="4114800"/>
                <a:ext cx="11952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537320" y="3413160"/>
                <a:ext cx="11574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Problem: Variable Correlation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7524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8954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11480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54100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7524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28954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411480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54100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167652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38880" y="281952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238880" y="40384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38880" y="533412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579132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213372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2133720"/>
            <a:ext cx="228600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3352680"/>
            <a:ext cx="228600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4572000"/>
            <a:ext cx="228600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79132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213372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2133720"/>
            <a:ext cx="228600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352680"/>
            <a:ext cx="228600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572000"/>
            <a:ext cx="228600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1523880"/>
            <a:ext cx="1143000" cy="236232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362320"/>
              <a:gd name="textAreaBottom" fmla="*/ 2306520 h 2362320"/>
            </a:gdLst>
            <a:ahLst/>
            <a:rect l="textAreaLeft" t="textAreaTop" r="textAreaRight" b="textAreaBottom"/>
            <a:pathLst>
              <a:path w="21600" h="44635">
                <a:moveTo>
                  <a:pt x="3600" y="0"/>
                </a:moveTo>
                <a:arcTo wR="3600" hR="3600" stAng="16200000" swAng="-5400000"/>
                <a:lnTo>
                  <a:pt x="0" y="41035"/>
                </a:lnTo>
                <a:arcTo wR="3600" hR="3600" stAng="10800000" swAng="-5400000"/>
                <a:lnTo>
                  <a:pt x="18000" y="44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1447920"/>
            <a:ext cx="1143000" cy="35812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3581280"/>
              <a:gd name="textAreaBottom" fmla="*/ 3525480 h 3581280"/>
            </a:gdLst>
            <a:ahLst/>
            <a:rect l="textAreaLeft" t="textAreaTop" r="textAreaRight" b="textAreaBottom"/>
            <a:pathLst>
              <a:path w="21600" h="67663">
                <a:moveTo>
                  <a:pt x="3600" y="0"/>
                </a:moveTo>
                <a:arcTo wR="3600" hR="3600" stAng="16200000" swAng="-5400000"/>
                <a:lnTo>
                  <a:pt x="0" y="64063"/>
                </a:lnTo>
                <a:arcTo wR="3600" hR="3600" stAng="10800000" swAng="-5400000"/>
                <a:lnTo>
                  <a:pt x="18000" y="6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8080" y="6188040"/>
            <a:ext cx="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64320" y="6278400"/>
            <a:ext cx="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17000" y="6278400"/>
            <a:ext cx="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Solution: BK algorithm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627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mixing, bounded projection error: total error is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91440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205740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27672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457200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91440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205740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327672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457200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8380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19810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8880" y="320040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38880" y="44956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495288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129528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1295280"/>
            <a:ext cx="228600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514600"/>
            <a:ext cx="228600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3733920"/>
            <a:ext cx="228600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495288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129528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685800"/>
            <a:ext cx="1143000" cy="236232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362320"/>
              <a:gd name="textAreaBottom" fmla="*/ 2306520 h 2362320"/>
            </a:gdLst>
            <a:ahLst/>
            <a:rect l="textAreaLeft" t="textAreaTop" r="textAreaRight" b="textAreaBottom"/>
            <a:pathLst>
              <a:path w="21600" h="44635">
                <a:moveTo>
                  <a:pt x="3600" y="0"/>
                </a:moveTo>
                <a:arcTo wR="3600" hR="3600" stAng="16200000" swAng="-5400000"/>
                <a:lnTo>
                  <a:pt x="0" y="41035"/>
                </a:lnTo>
                <a:arcTo wR="3600" hR="3600" stAng="10800000" swAng="-5400000"/>
                <a:lnTo>
                  <a:pt x="18000" y="44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365760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243828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58840" y="5105520"/>
            <a:ext cx="94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29680" y="5029200"/>
            <a:ext cx="22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io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08400" y="160020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into smaller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Density Estimation meets POMDP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ing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ing valu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BK algorithm for state 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reinforcement learning for 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.g. Parr &amp; Russell 95, Littman et al. 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 V with neural 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driguez, Parr and Koller, NIPS 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Approximate POMDP RL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1828800"/>
            <a:ext cx="1981080" cy="13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828800"/>
            <a:ext cx="1981080" cy="13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4419720"/>
            <a:ext cx="1981080" cy="13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4419720"/>
            <a:ext cx="1981080" cy="13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251460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95120" y="20210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3124080"/>
            <a:ext cx="1752480" cy="129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1160" y="2895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320040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172200" y="3505320"/>
                <a:ext cx="387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ϕ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 flipH="1">
            <a:off x="3504960" y="510552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038480" y="5181480"/>
                <a:ext cx="3985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 flipV="1">
            <a:off x="3276720" y="3200400"/>
            <a:ext cx="160020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62680" y="3849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362320" y="3352680"/>
            <a:ext cx="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67040" y="3849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Navigation Problem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14440" y="2843280"/>
            <a:ext cx="6315120" cy="11714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370880" y="4724280"/>
            <a:ext cx="6605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ertain initial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way s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information gatherin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 states (15 positions x 4 orient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Navigation Result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001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Machine Maintenance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914400"/>
            <a:ext cx="6019560" cy="4038480"/>
            <a:chOff x="457200" y="914400"/>
            <a:chExt cx="6019560" cy="4038480"/>
          </a:xfrm>
        </p:grpSpPr>
        <p:sp>
          <p:nvSpPr>
            <p:cNvPr id="216" name=""/>
            <p:cNvSpPr/>
            <p:nvPr/>
          </p:nvSpPr>
          <p:spPr>
            <a:xfrm>
              <a:off x="457200" y="914400"/>
              <a:ext cx="6019560" cy="4038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43000" y="1600200"/>
              <a:ext cx="1600200" cy="114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rt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86200" y="1600200"/>
              <a:ext cx="1600200" cy="114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rt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18960" y="3429000"/>
              <a:ext cx="1600200" cy="114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rt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86200" y="3352680"/>
              <a:ext cx="1600200" cy="114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rt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12480" y="5305320"/>
            <a:ext cx="61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achine maintenance states per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ward fo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degrade, reducing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ir requires expensive total dis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77120" y="2971800"/>
            <a:ext cx="1523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26280" y="316404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Maintenance Result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69608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What we aim to do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for/control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arge state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den sta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 a 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de a bi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a fa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ion: novel uses of density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Maintenance Results (Turnerized)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477120" cy="453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8" name=""/>
          <p:cNvSpPr/>
          <p:nvPr/>
        </p:nvSpPr>
        <p:spPr>
          <a:xfrm>
            <a:off x="2319480" y="519588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246"/>
                </a:moveTo>
                <a:cubicBezTo>
                  <a:pt x="0" y="164"/>
                  <a:pt x="0" y="8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03640" y="3895560"/>
            <a:ext cx="5249520" cy="1676520"/>
          </a:xfrm>
          <a:custGeom>
            <a:avLst/>
            <a:gdLst/>
            <a:ahLst/>
            <a:rect l="l" t="t" r="r" b="b"/>
            <a:pathLst>
              <a:path w="3307" h="1056">
                <a:moveTo>
                  <a:pt x="7" y="1056"/>
                </a:moveTo>
                <a:cubicBezTo>
                  <a:pt x="11" y="792"/>
                  <a:pt x="0" y="479"/>
                  <a:pt x="19" y="216"/>
                </a:cubicBezTo>
                <a:cubicBezTo>
                  <a:pt x="19" y="240"/>
                  <a:pt x="67" y="240"/>
                  <a:pt x="67" y="240"/>
                </a:cubicBezTo>
                <a:cubicBezTo>
                  <a:pt x="136" y="249"/>
                  <a:pt x="192" y="263"/>
                  <a:pt x="259" y="276"/>
                </a:cubicBezTo>
                <a:cubicBezTo>
                  <a:pt x="331" y="271"/>
                  <a:pt x="395" y="286"/>
                  <a:pt x="451" y="240"/>
                </a:cubicBezTo>
                <a:cubicBezTo>
                  <a:pt x="451" y="216"/>
                  <a:pt x="503" y="214"/>
                  <a:pt x="523" y="204"/>
                </a:cubicBezTo>
                <a:cubicBezTo>
                  <a:pt x="539" y="196"/>
                  <a:pt x="571" y="216"/>
                  <a:pt x="571" y="216"/>
                </a:cubicBezTo>
                <a:cubicBezTo>
                  <a:pt x="611" y="236"/>
                  <a:pt x="594" y="246"/>
                  <a:pt x="631" y="264"/>
                </a:cubicBezTo>
                <a:cubicBezTo>
                  <a:pt x="635" y="272"/>
                  <a:pt x="672" y="294"/>
                  <a:pt x="679" y="300"/>
                </a:cubicBezTo>
                <a:cubicBezTo>
                  <a:pt x="693" y="311"/>
                  <a:pt x="727" y="288"/>
                  <a:pt x="727" y="288"/>
                </a:cubicBezTo>
                <a:cubicBezTo>
                  <a:pt x="751" y="276"/>
                  <a:pt x="780" y="235"/>
                  <a:pt x="799" y="216"/>
                </a:cubicBezTo>
                <a:cubicBezTo>
                  <a:pt x="819" y="196"/>
                  <a:pt x="839" y="164"/>
                  <a:pt x="859" y="144"/>
                </a:cubicBezTo>
                <a:cubicBezTo>
                  <a:pt x="899" y="104"/>
                  <a:pt x="990" y="87"/>
                  <a:pt x="1051" y="84"/>
                </a:cubicBezTo>
                <a:cubicBezTo>
                  <a:pt x="1183" y="77"/>
                  <a:pt x="1231" y="70"/>
                  <a:pt x="1363" y="66"/>
                </a:cubicBezTo>
                <a:cubicBezTo>
                  <a:pt x="1495" y="66"/>
                  <a:pt x="1728" y="88"/>
                  <a:pt x="1867" y="42"/>
                </a:cubicBezTo>
                <a:cubicBezTo>
                  <a:pt x="2037" y="53"/>
                  <a:pt x="2191" y="48"/>
                  <a:pt x="2383" y="24"/>
                </a:cubicBezTo>
                <a:cubicBezTo>
                  <a:pt x="2469" y="35"/>
                  <a:pt x="2539" y="15"/>
                  <a:pt x="2623" y="36"/>
                </a:cubicBezTo>
                <a:cubicBezTo>
                  <a:pt x="2804" y="25"/>
                  <a:pt x="2864" y="7"/>
                  <a:pt x="3043" y="18"/>
                </a:cubicBezTo>
                <a:cubicBezTo>
                  <a:pt x="3067" y="30"/>
                  <a:pt x="3115" y="48"/>
                  <a:pt x="3139" y="60"/>
                </a:cubicBezTo>
                <a:cubicBezTo>
                  <a:pt x="3147" y="64"/>
                  <a:pt x="3163" y="72"/>
                  <a:pt x="3163" y="72"/>
                </a:cubicBezTo>
                <a:cubicBezTo>
                  <a:pt x="3176" y="69"/>
                  <a:pt x="3217" y="11"/>
                  <a:pt x="3235" y="0"/>
                </a:cubicBezTo>
                <a:cubicBezTo>
                  <a:pt x="3235" y="12"/>
                  <a:pt x="3274" y="31"/>
                  <a:pt x="3283" y="24"/>
                </a:cubicBezTo>
                <a:cubicBezTo>
                  <a:pt x="3290" y="19"/>
                  <a:pt x="3307" y="12"/>
                  <a:pt x="3307" y="12"/>
                </a:cubicBezTo>
              </a:path>
            </a:pathLst>
          </a:custGeom>
          <a:noFill/>
          <a:ln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95360" y="3451320"/>
            <a:ext cx="5239080" cy="2149560"/>
          </a:xfrm>
          <a:custGeom>
            <a:avLst/>
            <a:gdLst/>
            <a:ahLst/>
            <a:rect l="l" t="t" r="r" b="b"/>
            <a:pathLst>
              <a:path w="3300" h="1354">
                <a:moveTo>
                  <a:pt x="0" y="1354"/>
                </a:moveTo>
                <a:cubicBezTo>
                  <a:pt x="4" y="1186"/>
                  <a:pt x="5" y="1018"/>
                  <a:pt x="12" y="850"/>
                </a:cubicBezTo>
                <a:cubicBezTo>
                  <a:pt x="14" y="802"/>
                  <a:pt x="54" y="715"/>
                  <a:pt x="96" y="694"/>
                </a:cubicBezTo>
                <a:cubicBezTo>
                  <a:pt x="122" y="643"/>
                  <a:pt x="142" y="589"/>
                  <a:pt x="168" y="538"/>
                </a:cubicBezTo>
                <a:cubicBezTo>
                  <a:pt x="184" y="506"/>
                  <a:pt x="185" y="494"/>
                  <a:pt x="216" y="478"/>
                </a:cubicBezTo>
                <a:cubicBezTo>
                  <a:pt x="278" y="494"/>
                  <a:pt x="263" y="502"/>
                  <a:pt x="312" y="526"/>
                </a:cubicBezTo>
                <a:cubicBezTo>
                  <a:pt x="341" y="584"/>
                  <a:pt x="303" y="513"/>
                  <a:pt x="348" y="574"/>
                </a:cubicBezTo>
                <a:cubicBezTo>
                  <a:pt x="359" y="588"/>
                  <a:pt x="367" y="619"/>
                  <a:pt x="372" y="634"/>
                </a:cubicBezTo>
                <a:cubicBezTo>
                  <a:pt x="414" y="550"/>
                  <a:pt x="450" y="466"/>
                  <a:pt x="492" y="382"/>
                </a:cubicBezTo>
                <a:cubicBezTo>
                  <a:pt x="497" y="372"/>
                  <a:pt x="510" y="367"/>
                  <a:pt x="516" y="358"/>
                </a:cubicBezTo>
                <a:cubicBezTo>
                  <a:pt x="526" y="343"/>
                  <a:pt x="532" y="326"/>
                  <a:pt x="540" y="310"/>
                </a:cubicBezTo>
                <a:cubicBezTo>
                  <a:pt x="548" y="294"/>
                  <a:pt x="564" y="262"/>
                  <a:pt x="564" y="262"/>
                </a:cubicBezTo>
                <a:cubicBezTo>
                  <a:pt x="598" y="296"/>
                  <a:pt x="616" y="326"/>
                  <a:pt x="648" y="358"/>
                </a:cubicBezTo>
                <a:cubicBezTo>
                  <a:pt x="662" y="400"/>
                  <a:pt x="668" y="434"/>
                  <a:pt x="708" y="454"/>
                </a:cubicBezTo>
                <a:cubicBezTo>
                  <a:pt x="779" y="418"/>
                  <a:pt x="806" y="306"/>
                  <a:pt x="840" y="238"/>
                </a:cubicBezTo>
                <a:cubicBezTo>
                  <a:pt x="845" y="228"/>
                  <a:pt x="858" y="223"/>
                  <a:pt x="864" y="214"/>
                </a:cubicBezTo>
                <a:cubicBezTo>
                  <a:pt x="874" y="199"/>
                  <a:pt x="880" y="182"/>
                  <a:pt x="888" y="166"/>
                </a:cubicBezTo>
                <a:cubicBezTo>
                  <a:pt x="892" y="158"/>
                  <a:pt x="900" y="142"/>
                  <a:pt x="900" y="142"/>
                </a:cubicBezTo>
                <a:cubicBezTo>
                  <a:pt x="931" y="235"/>
                  <a:pt x="964" y="318"/>
                  <a:pt x="1008" y="406"/>
                </a:cubicBezTo>
                <a:cubicBezTo>
                  <a:pt x="1018" y="426"/>
                  <a:pt x="1026" y="471"/>
                  <a:pt x="1032" y="490"/>
                </a:cubicBezTo>
                <a:cubicBezTo>
                  <a:pt x="1039" y="514"/>
                  <a:pt x="1056" y="562"/>
                  <a:pt x="1056" y="562"/>
                </a:cubicBezTo>
                <a:cubicBezTo>
                  <a:pt x="1093" y="525"/>
                  <a:pt x="1075" y="548"/>
                  <a:pt x="1104" y="490"/>
                </a:cubicBezTo>
                <a:cubicBezTo>
                  <a:pt x="1108" y="482"/>
                  <a:pt x="1116" y="466"/>
                  <a:pt x="1116" y="466"/>
                </a:cubicBezTo>
                <a:cubicBezTo>
                  <a:pt x="1130" y="395"/>
                  <a:pt x="1189" y="202"/>
                  <a:pt x="1260" y="166"/>
                </a:cubicBezTo>
                <a:cubicBezTo>
                  <a:pt x="1404" y="58"/>
                  <a:pt x="1292" y="131"/>
                  <a:pt x="1632" y="118"/>
                </a:cubicBezTo>
                <a:cubicBezTo>
                  <a:pt x="1644" y="114"/>
                  <a:pt x="1656" y="111"/>
                  <a:pt x="1668" y="106"/>
                </a:cubicBezTo>
                <a:cubicBezTo>
                  <a:pt x="1676" y="103"/>
                  <a:pt x="1684" y="97"/>
                  <a:pt x="1692" y="94"/>
                </a:cubicBezTo>
                <a:cubicBezTo>
                  <a:pt x="1716" y="85"/>
                  <a:pt x="1788" y="82"/>
                  <a:pt x="1788" y="82"/>
                </a:cubicBezTo>
                <a:cubicBezTo>
                  <a:pt x="1911" y="92"/>
                  <a:pt x="1988" y="97"/>
                  <a:pt x="2112" y="106"/>
                </a:cubicBezTo>
                <a:cubicBezTo>
                  <a:pt x="2128" y="110"/>
                  <a:pt x="2144" y="113"/>
                  <a:pt x="2160" y="118"/>
                </a:cubicBezTo>
                <a:cubicBezTo>
                  <a:pt x="2184" y="125"/>
                  <a:pt x="2232" y="142"/>
                  <a:pt x="2232" y="142"/>
                </a:cubicBezTo>
                <a:cubicBezTo>
                  <a:pt x="2276" y="138"/>
                  <a:pt x="2321" y="139"/>
                  <a:pt x="2364" y="130"/>
                </a:cubicBezTo>
                <a:cubicBezTo>
                  <a:pt x="2382" y="126"/>
                  <a:pt x="2396" y="114"/>
                  <a:pt x="2412" y="106"/>
                </a:cubicBezTo>
                <a:cubicBezTo>
                  <a:pt x="2420" y="102"/>
                  <a:pt x="2436" y="94"/>
                  <a:pt x="2436" y="94"/>
                </a:cubicBezTo>
                <a:cubicBezTo>
                  <a:pt x="2483" y="0"/>
                  <a:pt x="2623" y="90"/>
                  <a:pt x="2700" y="94"/>
                </a:cubicBezTo>
                <a:cubicBezTo>
                  <a:pt x="2916" y="70"/>
                  <a:pt x="2694" y="69"/>
                  <a:pt x="3204" y="94"/>
                </a:cubicBezTo>
                <a:cubicBezTo>
                  <a:pt x="3242" y="96"/>
                  <a:pt x="3263" y="118"/>
                  <a:pt x="3300" y="118"/>
                </a:cubicBezTo>
              </a:path>
            </a:pathLst>
          </a:custGeom>
          <a:noFill/>
          <a:ln w="76320">
            <a:solidFill>
              <a:srgbClr val="99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14440" y="2762280"/>
            <a:ext cx="5238720" cy="2838600"/>
          </a:xfrm>
          <a:custGeom>
            <a:avLst/>
            <a:gdLst/>
            <a:ahLst/>
            <a:rect l="l" t="t" r="r" b="b"/>
            <a:pathLst>
              <a:path w="3300" h="1788">
                <a:moveTo>
                  <a:pt x="0" y="1788"/>
                </a:moveTo>
                <a:cubicBezTo>
                  <a:pt x="4" y="1692"/>
                  <a:pt x="5" y="1596"/>
                  <a:pt x="12" y="1500"/>
                </a:cubicBezTo>
                <a:cubicBezTo>
                  <a:pt x="14" y="1479"/>
                  <a:pt x="41" y="1430"/>
                  <a:pt x="48" y="1416"/>
                </a:cubicBezTo>
                <a:cubicBezTo>
                  <a:pt x="63" y="1386"/>
                  <a:pt x="64" y="1352"/>
                  <a:pt x="72" y="1320"/>
                </a:cubicBezTo>
                <a:cubicBezTo>
                  <a:pt x="80" y="1286"/>
                  <a:pt x="112" y="1258"/>
                  <a:pt x="120" y="1224"/>
                </a:cubicBezTo>
                <a:cubicBezTo>
                  <a:pt x="132" y="1175"/>
                  <a:pt x="154" y="1128"/>
                  <a:pt x="168" y="1080"/>
                </a:cubicBezTo>
                <a:cubicBezTo>
                  <a:pt x="185" y="1024"/>
                  <a:pt x="190" y="965"/>
                  <a:pt x="216" y="912"/>
                </a:cubicBezTo>
                <a:cubicBezTo>
                  <a:pt x="248" y="928"/>
                  <a:pt x="280" y="944"/>
                  <a:pt x="312" y="960"/>
                </a:cubicBezTo>
                <a:cubicBezTo>
                  <a:pt x="328" y="968"/>
                  <a:pt x="360" y="984"/>
                  <a:pt x="360" y="984"/>
                </a:cubicBezTo>
                <a:cubicBezTo>
                  <a:pt x="390" y="969"/>
                  <a:pt x="390" y="951"/>
                  <a:pt x="420" y="936"/>
                </a:cubicBezTo>
                <a:cubicBezTo>
                  <a:pt x="437" y="902"/>
                  <a:pt x="456" y="911"/>
                  <a:pt x="468" y="876"/>
                </a:cubicBezTo>
                <a:cubicBezTo>
                  <a:pt x="483" y="830"/>
                  <a:pt x="483" y="791"/>
                  <a:pt x="528" y="768"/>
                </a:cubicBezTo>
                <a:cubicBezTo>
                  <a:pt x="556" y="712"/>
                  <a:pt x="536" y="728"/>
                  <a:pt x="576" y="708"/>
                </a:cubicBezTo>
                <a:cubicBezTo>
                  <a:pt x="590" y="680"/>
                  <a:pt x="622" y="664"/>
                  <a:pt x="636" y="636"/>
                </a:cubicBezTo>
                <a:cubicBezTo>
                  <a:pt x="656" y="595"/>
                  <a:pt x="666" y="549"/>
                  <a:pt x="708" y="528"/>
                </a:cubicBezTo>
                <a:cubicBezTo>
                  <a:pt x="748" y="448"/>
                  <a:pt x="788" y="368"/>
                  <a:pt x="828" y="288"/>
                </a:cubicBezTo>
                <a:cubicBezTo>
                  <a:pt x="832" y="281"/>
                  <a:pt x="861" y="218"/>
                  <a:pt x="864" y="216"/>
                </a:cubicBezTo>
                <a:cubicBezTo>
                  <a:pt x="920" y="188"/>
                  <a:pt x="879" y="193"/>
                  <a:pt x="996" y="180"/>
                </a:cubicBezTo>
                <a:cubicBezTo>
                  <a:pt x="1048" y="154"/>
                  <a:pt x="1089" y="134"/>
                  <a:pt x="1140" y="108"/>
                </a:cubicBezTo>
                <a:cubicBezTo>
                  <a:pt x="1150" y="103"/>
                  <a:pt x="1155" y="90"/>
                  <a:pt x="1164" y="84"/>
                </a:cubicBezTo>
                <a:cubicBezTo>
                  <a:pt x="1224" y="44"/>
                  <a:pt x="1298" y="17"/>
                  <a:pt x="1368" y="0"/>
                </a:cubicBezTo>
                <a:cubicBezTo>
                  <a:pt x="1402" y="11"/>
                  <a:pt x="1442" y="42"/>
                  <a:pt x="1464" y="72"/>
                </a:cubicBezTo>
                <a:cubicBezTo>
                  <a:pt x="1476" y="120"/>
                  <a:pt x="1458" y="66"/>
                  <a:pt x="1464" y="72"/>
                </a:cubicBezTo>
                <a:cubicBezTo>
                  <a:pt x="1470" y="78"/>
                  <a:pt x="1469" y="102"/>
                  <a:pt x="1476" y="108"/>
                </a:cubicBezTo>
                <a:cubicBezTo>
                  <a:pt x="1508" y="135"/>
                  <a:pt x="1512" y="132"/>
                  <a:pt x="1536" y="168"/>
                </a:cubicBezTo>
                <a:cubicBezTo>
                  <a:pt x="1571" y="256"/>
                  <a:pt x="1529" y="131"/>
                  <a:pt x="1584" y="240"/>
                </a:cubicBezTo>
                <a:cubicBezTo>
                  <a:pt x="1588" y="248"/>
                  <a:pt x="1608" y="216"/>
                  <a:pt x="1608" y="216"/>
                </a:cubicBezTo>
                <a:cubicBezTo>
                  <a:pt x="1690" y="189"/>
                  <a:pt x="1600" y="272"/>
                  <a:pt x="1644" y="228"/>
                </a:cubicBezTo>
                <a:cubicBezTo>
                  <a:pt x="1660" y="212"/>
                  <a:pt x="1673" y="182"/>
                  <a:pt x="1692" y="168"/>
                </a:cubicBezTo>
                <a:cubicBezTo>
                  <a:pt x="1701" y="161"/>
                  <a:pt x="1731" y="126"/>
                  <a:pt x="1740" y="120"/>
                </a:cubicBezTo>
                <a:cubicBezTo>
                  <a:pt x="1758" y="104"/>
                  <a:pt x="1780" y="88"/>
                  <a:pt x="1800" y="72"/>
                </a:cubicBezTo>
                <a:cubicBezTo>
                  <a:pt x="1810" y="64"/>
                  <a:pt x="1848" y="29"/>
                  <a:pt x="1860" y="24"/>
                </a:cubicBezTo>
                <a:cubicBezTo>
                  <a:pt x="1898" y="8"/>
                  <a:pt x="1941" y="25"/>
                  <a:pt x="1980" y="12"/>
                </a:cubicBezTo>
                <a:cubicBezTo>
                  <a:pt x="2023" y="19"/>
                  <a:pt x="2050" y="20"/>
                  <a:pt x="2088" y="36"/>
                </a:cubicBezTo>
                <a:cubicBezTo>
                  <a:pt x="2141" y="59"/>
                  <a:pt x="2201" y="78"/>
                  <a:pt x="2256" y="96"/>
                </a:cubicBezTo>
                <a:cubicBezTo>
                  <a:pt x="2292" y="87"/>
                  <a:pt x="2348" y="76"/>
                  <a:pt x="2376" y="48"/>
                </a:cubicBezTo>
                <a:cubicBezTo>
                  <a:pt x="2406" y="18"/>
                  <a:pt x="2402" y="17"/>
                  <a:pt x="2436" y="0"/>
                </a:cubicBezTo>
                <a:cubicBezTo>
                  <a:pt x="2484" y="84"/>
                  <a:pt x="2512" y="56"/>
                  <a:pt x="2532" y="72"/>
                </a:cubicBezTo>
                <a:cubicBezTo>
                  <a:pt x="2552" y="88"/>
                  <a:pt x="2548" y="88"/>
                  <a:pt x="2556" y="96"/>
                </a:cubicBezTo>
                <a:cubicBezTo>
                  <a:pt x="2561" y="106"/>
                  <a:pt x="2573" y="111"/>
                  <a:pt x="2580" y="120"/>
                </a:cubicBezTo>
                <a:cubicBezTo>
                  <a:pt x="2585" y="127"/>
                  <a:pt x="2585" y="138"/>
                  <a:pt x="2592" y="144"/>
                </a:cubicBezTo>
                <a:cubicBezTo>
                  <a:pt x="2606" y="155"/>
                  <a:pt x="2640" y="168"/>
                  <a:pt x="2640" y="168"/>
                </a:cubicBezTo>
                <a:cubicBezTo>
                  <a:pt x="2671" y="137"/>
                  <a:pt x="2717" y="110"/>
                  <a:pt x="2760" y="96"/>
                </a:cubicBezTo>
                <a:cubicBezTo>
                  <a:pt x="2784" y="88"/>
                  <a:pt x="2820" y="60"/>
                  <a:pt x="2820" y="60"/>
                </a:cubicBezTo>
                <a:cubicBezTo>
                  <a:pt x="2840" y="64"/>
                  <a:pt x="2873" y="78"/>
                  <a:pt x="2892" y="84"/>
                </a:cubicBezTo>
                <a:cubicBezTo>
                  <a:pt x="2909" y="90"/>
                  <a:pt x="2952" y="84"/>
                  <a:pt x="2952" y="84"/>
                </a:cubicBezTo>
                <a:cubicBezTo>
                  <a:pt x="2980" y="80"/>
                  <a:pt x="3009" y="91"/>
                  <a:pt x="3036" y="84"/>
                </a:cubicBezTo>
                <a:cubicBezTo>
                  <a:pt x="3055" y="79"/>
                  <a:pt x="3042" y="62"/>
                  <a:pt x="3048" y="60"/>
                </a:cubicBezTo>
                <a:cubicBezTo>
                  <a:pt x="3054" y="58"/>
                  <a:pt x="3060" y="76"/>
                  <a:pt x="3072" y="72"/>
                </a:cubicBezTo>
                <a:cubicBezTo>
                  <a:pt x="3088" y="68"/>
                  <a:pt x="3104" y="40"/>
                  <a:pt x="3120" y="36"/>
                </a:cubicBezTo>
                <a:cubicBezTo>
                  <a:pt x="3185" y="52"/>
                  <a:pt x="3153" y="65"/>
                  <a:pt x="3216" y="96"/>
                </a:cubicBezTo>
                <a:cubicBezTo>
                  <a:pt x="3232" y="104"/>
                  <a:pt x="3246" y="117"/>
                  <a:pt x="3264" y="120"/>
                </a:cubicBezTo>
                <a:cubicBezTo>
                  <a:pt x="3288" y="124"/>
                  <a:pt x="3293" y="120"/>
                  <a:pt x="3300" y="120"/>
                </a:cubicBezTo>
              </a:path>
            </a:pathLst>
          </a:custGeom>
          <a:noFill/>
          <a:ln w="7632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1600200"/>
            <a:ext cx="304560" cy="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1752480"/>
            <a:ext cx="30456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1905120"/>
            <a:ext cx="304560" cy="0"/>
          </a:xfrm>
          <a:prstGeom prst="line">
            <a:avLst/>
          </a:prstGeom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520" y="6400800"/>
            <a:ext cx="66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Decomposed NN has fewer inputs, learns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factored belief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s POMDP RL to larger state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help with regular MD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nvergence guaran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Goal: DP with guarantee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value determination in MD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 exact DP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 projection (function approxi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expansive function approximation (convergence, bounded err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A Value Determination Problem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129528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81952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19112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358128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198108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274320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"/>
          <p:cNvCxnSpPr>
            <a:stCxn id="241" idx="3"/>
            <a:endCxn id="245" idx="1"/>
          </p:cNvCxnSpPr>
          <p:nvPr/>
        </p:nvCxnSpPr>
        <p:spPr>
          <a:xfrm>
            <a:off x="2666520" y="1752120"/>
            <a:ext cx="129636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endCxn id="245" idx="1"/>
          </p:cNvCxnSpPr>
          <p:nvPr/>
        </p:nvCxnSpPr>
        <p:spPr>
          <a:xfrm flipV="1">
            <a:off x="2666520" y="2437920"/>
            <a:ext cx="1296360" cy="610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endCxn id="244" idx="1"/>
          </p:cNvCxnSpPr>
          <p:nvPr/>
        </p:nvCxnSpPr>
        <p:spPr>
          <a:xfrm>
            <a:off x="2666520" y="3504960"/>
            <a:ext cx="1296360" cy="533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endCxn id="244" idx="1"/>
          </p:cNvCxnSpPr>
          <p:nvPr/>
        </p:nvCxnSpPr>
        <p:spPr>
          <a:xfrm flipV="1">
            <a:off x="2666520" y="4038120"/>
            <a:ext cx="1296360" cy="610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5" idx="3"/>
            <a:endCxn id="246" idx="1"/>
          </p:cNvCxnSpPr>
          <p:nvPr/>
        </p:nvCxnSpPr>
        <p:spPr>
          <a:xfrm>
            <a:off x="5410080" y="2437920"/>
            <a:ext cx="1067760" cy="76284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4" idx="3"/>
            <a:endCxn id="246" idx="1"/>
          </p:cNvCxnSpPr>
          <p:nvPr/>
        </p:nvCxnSpPr>
        <p:spPr>
          <a:xfrm flipV="1">
            <a:off x="5410080" y="3200040"/>
            <a:ext cx="1067760" cy="83880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6462000" y="3753000"/>
            <a:ext cx="189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38680" y="5638680"/>
            <a:ext cx="72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s require predecessors t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go offline/online stochas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fficient, Stable DP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87840" y="1828800"/>
            <a:ext cx="70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Restrict class of valu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39040" y="354636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38098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3352680"/>
            <a:ext cx="99072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48520" y="38098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2743200"/>
            <a:ext cx="2362320" cy="609480"/>
          </a:xfrm>
          <a:custGeom>
            <a:avLst/>
            <a:gdLst/>
            <a:ahLst/>
            <a:rect l="l" t="t" r="r" b="b"/>
            <a:pathLst>
              <a:path w="1488" h="384">
                <a:moveTo>
                  <a:pt x="1488" y="384"/>
                </a:moveTo>
                <a:cubicBezTo>
                  <a:pt x="1228" y="192"/>
                  <a:pt x="968" y="0"/>
                  <a:pt x="720" y="0"/>
                </a:cubicBezTo>
                <a:cubicBezTo>
                  <a:pt x="472" y="0"/>
                  <a:pt x="144" y="296"/>
                  <a:pt x="0" y="38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3352680"/>
            <a:ext cx="99072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05120" y="38098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25640" y="4648320"/>
            <a:ext cx="72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FA:  Neural Network, Regressio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8120" y="5715000"/>
            <a:ext cx="82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:  Stability, Closeness of        to V*,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7620120" y="3581280"/>
                <a:ext cx="5331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638680" y="5715000"/>
                <a:ext cx="5335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Stability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ïve function approximation is uns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Boyan &amp; Moore 95, Bertsekas &amp; Tsitsiklis 9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examples where V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igh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near regression is s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Nelson 1958, Van Roy 199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s must correspond to stationary distribution of policy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Stable Approximate 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81280" y="221148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1754280"/>
            <a:ext cx="221004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05720" y="22114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48120" y="1525680"/>
            <a:ext cx="2361960" cy="228600"/>
          </a:xfrm>
          <a:custGeom>
            <a:avLst/>
            <a:gdLst/>
            <a:ahLst/>
            <a:rect l="l" t="t" r="r" b="b"/>
            <a:pathLst>
              <a:path w="1488" h="384">
                <a:moveTo>
                  <a:pt x="1488" y="384"/>
                </a:moveTo>
                <a:cubicBezTo>
                  <a:pt x="1228" y="192"/>
                  <a:pt x="968" y="0"/>
                  <a:pt x="720" y="0"/>
                </a:cubicBezTo>
                <a:cubicBezTo>
                  <a:pt x="472" y="0"/>
                  <a:pt x="144" y="296"/>
                  <a:pt x="0" y="38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90920" y="1754280"/>
            <a:ext cx="99036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00200" y="22114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762120" y="4343400"/>
                <a:ext cx="756108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*,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κ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2286000" y="6089760"/>
            <a:ext cx="46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= effective contrac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24040" y="1752480"/>
            <a:ext cx="22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ed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27672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error in final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5760" y="3200400"/>
            <a:ext cx="204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lowest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762120" y="1906560"/>
                <a:ext cx="609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7867800" y="1906560"/>
                <a:ext cx="72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 rot="5400000">
            <a:off x="6629040" y="3048120"/>
            <a:ext cx="304920" cy="2895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1828440" y="3429000"/>
            <a:ext cx="381240" cy="2057400"/>
          </a:xfrm>
          <a:custGeom>
            <a:avLst/>
            <a:gdLst>
              <a:gd name="textAreaLeft" fmla="*/ 243720 w 381240"/>
              <a:gd name="textAreaRight" fmla="*/ 381600 w 3812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7621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fficienc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581280" y="38876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95680" y="3429000"/>
            <a:ext cx="221004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05720" y="38862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48120" y="3201840"/>
            <a:ext cx="2361960" cy="228600"/>
          </a:xfrm>
          <a:custGeom>
            <a:avLst/>
            <a:gdLst/>
            <a:ahLst/>
            <a:rect l="l" t="t" r="r" b="b"/>
            <a:pathLst>
              <a:path w="1488" h="384">
                <a:moveTo>
                  <a:pt x="1488" y="384"/>
                </a:moveTo>
                <a:cubicBezTo>
                  <a:pt x="1228" y="192"/>
                  <a:pt x="968" y="0"/>
                  <a:pt x="720" y="0"/>
                </a:cubicBezTo>
                <a:cubicBezTo>
                  <a:pt x="472" y="0"/>
                  <a:pt x="144" y="296"/>
                  <a:pt x="0" y="38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3430440"/>
            <a:ext cx="99036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388764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24040" y="3429000"/>
            <a:ext cx="22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ed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52480" y="57913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Must do these steps efficientl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3200400" y="4647960"/>
            <a:ext cx="533520" cy="99036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762120" y="3583080"/>
                <a:ext cx="609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7867800" y="3583080"/>
                <a:ext cx="72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226080" y="1752480"/>
            <a:ext cx="85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, projection consider every state individ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880520" y="4646160"/>
            <a:ext cx="524520" cy="99504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Compact Models = Compact V*?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51240" y="255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39800" y="1967040"/>
            <a:ext cx="557280" cy="6458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9800" y="3098880"/>
            <a:ext cx="557280" cy="646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9800" y="4230720"/>
            <a:ext cx="557280" cy="646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9800" y="4230720"/>
            <a:ext cx="557280" cy="646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09840" y="1967040"/>
            <a:ext cx="557280" cy="6458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09840" y="3098880"/>
            <a:ext cx="557280" cy="646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09840" y="4230720"/>
            <a:ext cx="557280" cy="646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09840" y="1967040"/>
            <a:ext cx="557280" cy="6458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09840" y="3098880"/>
            <a:ext cx="557280" cy="646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09840" y="4230720"/>
            <a:ext cx="557280" cy="646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97080" y="2290680"/>
            <a:ext cx="1112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97080" y="3422520"/>
            <a:ext cx="1112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97080" y="4552920"/>
            <a:ext cx="1112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57400" y="2452680"/>
            <a:ext cx="1252440" cy="80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57400" y="3583080"/>
            <a:ext cx="1252440" cy="809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39800" y="3098880"/>
            <a:ext cx="557280" cy="646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39800" y="1967040"/>
            <a:ext cx="557280" cy="6458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6720" y="2068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6720" y="3259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6360" y="438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98600" y="156996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8720" y="1371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487240" y="13716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6920" y="1523880"/>
            <a:ext cx="35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R = 1 if Z =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2286000"/>
            <a:ext cx="2438640" cy="2819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95280" y="6278400"/>
            <a:ext cx="629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a uniform valu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895480" y="4800600"/>
            <a:ext cx="38124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5257800"/>
            <a:ext cx="685800" cy="685800"/>
          </a:xfrm>
          <a:prstGeom prst="flowChartDecision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262640" y="510552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35880" y="54100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=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Value Function Growth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51240" y="194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06720" y="1371600"/>
            <a:ext cx="2793960" cy="3504240"/>
            <a:chOff x="306720" y="1371600"/>
            <a:chExt cx="2793960" cy="3504240"/>
          </a:xfrm>
        </p:grpSpPr>
        <p:grpSp>
          <p:nvGrpSpPr>
            <p:cNvPr id="335" name=""/>
            <p:cNvGrpSpPr/>
            <p:nvPr/>
          </p:nvGrpSpPr>
          <p:grpSpPr>
            <a:xfrm>
              <a:off x="739080" y="1966680"/>
              <a:ext cx="2227680" cy="2909160"/>
              <a:chOff x="739080" y="1966680"/>
              <a:chExt cx="2227680" cy="2909160"/>
            </a:xfrm>
          </p:grpSpPr>
          <p:sp>
            <p:nvSpPr>
              <p:cNvPr id="336" name=""/>
              <p:cNvSpPr/>
              <p:nvPr/>
            </p:nvSpPr>
            <p:spPr>
              <a:xfrm>
                <a:off x="739080" y="19666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9080" y="3098160"/>
                <a:ext cx="556920" cy="64584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39080" y="42292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39080" y="42292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409840" y="19666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409840" y="3098160"/>
                <a:ext cx="556920" cy="64584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409840" y="42292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409840" y="19666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409840" y="3098160"/>
                <a:ext cx="556920" cy="64584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409840" y="42292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296000" y="2289600"/>
                <a:ext cx="1113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296000" y="3421080"/>
                <a:ext cx="1113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296000" y="4552920"/>
                <a:ext cx="1113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156680" y="2451240"/>
                <a:ext cx="1253160" cy="807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156680" y="3583080"/>
                <a:ext cx="1253160" cy="807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39080" y="3098160"/>
                <a:ext cx="556920" cy="64584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39080" y="19666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307080" y="2068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7080" y="3259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6720" y="4383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7880" y="1569960"/>
              <a:ext cx="24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18360" y="13716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487240" y="137160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7010280" y="1828800"/>
            <a:ext cx="1905120" cy="27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133000" y="627840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ard depends upon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038480" y="1828800"/>
            <a:ext cx="1905120" cy="27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019920" y="3200400"/>
            <a:ext cx="914400" cy="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234840" y="27068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533840" y="2286000"/>
                <a:ext cx="839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Y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500720" y="3535200"/>
                <a:ext cx="9064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Y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 flipH="1">
            <a:off x="4038480" y="32004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43880" y="472428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95480" y="4800600"/>
            <a:ext cx="38124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5257800"/>
            <a:ext cx="685800" cy="685800"/>
          </a:xfrm>
          <a:prstGeom prst="flowChartDecision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1800" y="4724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35880" y="54100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=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alk Outline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)MDP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(PO)MDP solut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)MDPs meet density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forcement learning for PO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programming w/function appr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Value Function Growth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306720" y="1371600"/>
            <a:ext cx="2793960" cy="3504240"/>
            <a:chOff x="306720" y="1371600"/>
            <a:chExt cx="2793960" cy="3504240"/>
          </a:xfrm>
        </p:grpSpPr>
        <p:grpSp>
          <p:nvGrpSpPr>
            <p:cNvPr id="374" name=""/>
            <p:cNvGrpSpPr/>
            <p:nvPr/>
          </p:nvGrpSpPr>
          <p:grpSpPr>
            <a:xfrm>
              <a:off x="739080" y="1966680"/>
              <a:ext cx="2227680" cy="2909160"/>
              <a:chOff x="739080" y="1966680"/>
              <a:chExt cx="2227680" cy="2909160"/>
            </a:xfrm>
          </p:grpSpPr>
          <p:sp>
            <p:nvSpPr>
              <p:cNvPr id="375" name=""/>
              <p:cNvSpPr/>
              <p:nvPr/>
            </p:nvSpPr>
            <p:spPr>
              <a:xfrm>
                <a:off x="739080" y="19666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39080" y="3098160"/>
                <a:ext cx="556920" cy="64584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39080" y="42292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39080" y="42292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409840" y="19666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409840" y="3098160"/>
                <a:ext cx="556920" cy="64584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409840" y="42292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409840" y="19666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409840" y="3098160"/>
                <a:ext cx="556920" cy="64584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409840" y="42292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296000" y="2289600"/>
                <a:ext cx="1113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296000" y="3421080"/>
                <a:ext cx="1113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296000" y="4552920"/>
                <a:ext cx="1113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156680" y="2451240"/>
                <a:ext cx="1253160" cy="807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56680" y="3583080"/>
                <a:ext cx="1253160" cy="807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39080" y="3098160"/>
                <a:ext cx="556920" cy="64584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9080" y="19666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307080" y="2068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7080" y="3259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06720" y="4383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7880" y="1569960"/>
              <a:ext cx="24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8360" y="13716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487240" y="137160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1446120" y="6278400"/>
            <a:ext cx="62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 depends upon previous Y and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6019920" y="3200400"/>
            <a:ext cx="914400" cy="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34840" y="27068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223040" y="194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010280" y="1828800"/>
            <a:ext cx="1905120" cy="27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7505640" y="2286000"/>
                <a:ext cx="839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Y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7472520" y="3535200"/>
                <a:ext cx="9064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Y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 flipH="1">
            <a:off x="7010280" y="32004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251240" y="194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1828800"/>
            <a:ext cx="1905120" cy="27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038480" y="32004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952880" y="182880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183200" y="2709720"/>
                <a:ext cx="5587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y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5099040" y="2633760"/>
                <a:ext cx="603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y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075280" y="3319560"/>
                <a:ext cx="625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4160880" y="3319560"/>
                <a:ext cx="6033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4439880" y="4724280"/>
            <a:ext cx="72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95480" y="4800600"/>
            <a:ext cx="38124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5257800"/>
            <a:ext cx="685800" cy="685800"/>
          </a:xfrm>
          <a:prstGeom prst="flowChartDecision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702200" y="4724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135880" y="54100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=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Value Function Growth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306720" y="1371600"/>
            <a:ext cx="2793960" cy="3504240"/>
            <a:chOff x="306720" y="1371600"/>
            <a:chExt cx="2793960" cy="3504240"/>
          </a:xfrm>
        </p:grpSpPr>
        <p:grpSp>
          <p:nvGrpSpPr>
            <p:cNvPr id="421" name=""/>
            <p:cNvGrpSpPr/>
            <p:nvPr/>
          </p:nvGrpSpPr>
          <p:grpSpPr>
            <a:xfrm>
              <a:off x="739080" y="1966680"/>
              <a:ext cx="2227680" cy="2909160"/>
              <a:chOff x="739080" y="1966680"/>
              <a:chExt cx="2227680" cy="2909160"/>
            </a:xfrm>
          </p:grpSpPr>
          <p:sp>
            <p:nvSpPr>
              <p:cNvPr id="422" name=""/>
              <p:cNvSpPr/>
              <p:nvPr/>
            </p:nvSpPr>
            <p:spPr>
              <a:xfrm>
                <a:off x="739080" y="19666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39080" y="3098160"/>
                <a:ext cx="556920" cy="64584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39080" y="42292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9080" y="42292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409840" y="19666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409840" y="3098160"/>
                <a:ext cx="556920" cy="64584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409840" y="42292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09840" y="19666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409840" y="3098160"/>
                <a:ext cx="556920" cy="64584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09840" y="42292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296000" y="2289600"/>
                <a:ext cx="1113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296000" y="3421080"/>
                <a:ext cx="1113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296000" y="4552920"/>
                <a:ext cx="1113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156680" y="2451240"/>
                <a:ext cx="1253160" cy="807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156680" y="3583080"/>
                <a:ext cx="1253160" cy="807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39080" y="3098160"/>
                <a:ext cx="556920" cy="64584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9080" y="19666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307080" y="2068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7080" y="3259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6720" y="4383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7880" y="1569960"/>
              <a:ext cx="24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18360" y="13716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487240" y="137160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 flipH="1">
            <a:off x="6019920" y="3200400"/>
            <a:ext cx="914400" cy="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234840" y="27068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223040" y="194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10280" y="1828800"/>
            <a:ext cx="1905120" cy="27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7010280" y="32004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24680" y="182880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7155000" y="2557440"/>
                <a:ext cx="5587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y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8047080" y="2523960"/>
                <a:ext cx="603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y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8035920" y="3514680"/>
                <a:ext cx="625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7132680" y="3514680"/>
                <a:ext cx="6033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3658680" y="2590920"/>
            <a:ext cx="216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al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* has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20" y="6035760"/>
            <a:ext cx="882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Boutilier, Dearden &amp; Goldszmidt (IJCAI 95) for method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s worst case when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640280" y="5257800"/>
            <a:ext cx="72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4800600"/>
            <a:ext cx="38124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24080" y="5257800"/>
            <a:ext cx="685800" cy="685800"/>
          </a:xfrm>
          <a:prstGeom prst="flowChartDecision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35880" y="54100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=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Compact Reward Function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44440" y="4835520"/>
            <a:ext cx="60948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235160" y="4835520"/>
            <a:ext cx="60948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149560" y="4835520"/>
            <a:ext cx="60948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625320" y="3615840"/>
            <a:ext cx="6858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539720" y="369216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1752480" y="3657240"/>
            <a:ext cx="517680" cy="12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83040" y="5826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306080" y="5826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26960" y="58262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366560" y="22096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16240" y="4911840"/>
            <a:ext cx="60948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4876920"/>
            <a:ext cx="60948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597120" y="3692160"/>
            <a:ext cx="6858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4800240" y="3733560"/>
            <a:ext cx="6094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54120" y="58262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9600" y="579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338360" y="22096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878200" y="220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605720" y="22096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180040" y="220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934320" y="2209680"/>
            <a:ext cx="3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763600" y="22096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43000" y="2743200"/>
            <a:ext cx="762120" cy="762120"/>
          </a:xfrm>
          <a:prstGeom prst="flowChartDecision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114800" y="2819520"/>
            <a:ext cx="762120" cy="761760"/>
          </a:xfrm>
          <a:prstGeom prst="flowChartDecision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Basis Function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=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+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+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mpact basis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basis defined over var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-1440" y="4724280"/>
            <a:ext cx="88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= function of status of sub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= function of inventory in different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= function of status of machines in fa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fficient DP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970560" y="1828800"/>
            <a:ext cx="695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 that DP is a linear ope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080080" y="5638680"/>
            <a:ext cx="4117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16200000">
            <a:off x="5410080" y="266652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352680" y="3809880"/>
            <a:ext cx="152640" cy="838440"/>
          </a:xfrm>
          <a:prstGeom prst="line">
            <a:avLst/>
          </a:prstGeom>
          <a:ln w="255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16200000">
            <a:off x="3200400" y="2819160"/>
            <a:ext cx="228600" cy="1447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4876920" y="3733920"/>
            <a:ext cx="457200" cy="838080"/>
          </a:xfrm>
          <a:prstGeom prst="line">
            <a:avLst/>
          </a:prstGeom>
          <a:ln w="255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40520" y="373392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2895480"/>
            <a:ext cx="1067040" cy="2286000"/>
          </a:xfrm>
          <a:custGeom>
            <a:avLst/>
            <a:gdLst>
              <a:gd name="textAreaLeft" fmla="*/ 142920 w 1067040"/>
              <a:gd name="textAreaRight" fmla="*/ 924120 w 1067040"/>
              <a:gd name="textAreaTop" fmla="*/ 428400 h 2286000"/>
              <a:gd name="textAreaBottom" fmla="*/ 165456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95" stAng="-5400000" swAng="-5400000"/>
                <a:lnTo>
                  <a:pt x="0" y="11586"/>
                </a:lnTo>
                <a:arcTo wR="21600" hR="8095" stAng="10800000" swAng="-2757165"/>
                <a:lnTo>
                  <a:pt x="14239" y="21115"/>
                </a:lnTo>
                <a:lnTo>
                  <a:pt x="21600" y="17935"/>
                </a:lnTo>
                <a:lnTo>
                  <a:pt x="14239" y="13784"/>
                </a:lnTo>
                <a:lnTo>
                  <a:pt x="14239" y="15704"/>
                </a:lnTo>
                <a:arcTo wR="21600" hR="8095" stAng="8042835" swAng="2473313"/>
                <a:lnTo>
                  <a:pt x="508" y="9840"/>
                </a:lnTo>
                <a:arcTo wR="21600" hR="8095" stAng="-10516148" swAng="5116148"/>
                <a:close/>
              </a:path>
              <a:path fill="darkenLess" w="21600" h="21600">
                <a:moveTo>
                  <a:pt x="21600" y="0"/>
                </a:moveTo>
                <a:arcTo wR="21600" hR="8095" stAng="-5400000" swAng="-5400000"/>
                <a:lnTo>
                  <a:pt x="0" y="8095"/>
                </a:lnTo>
                <a:arcTo wR="21600" hR="8095" stAng="10800000" swAng="-283852"/>
                <a:lnTo>
                  <a:pt x="508" y="9840"/>
                </a:lnTo>
                <a:arcTo wR="21600" hR="8095" stAng="-10516148" swAng="5116148"/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1676520" y="2803680"/>
                <a:ext cx="5405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905120" y="4495680"/>
                <a:ext cx="451800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3507840" y="39862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08040" y="40384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Growth of Basis Functions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143000" y="2438280"/>
            <a:ext cx="2818800" cy="3352320"/>
            <a:chOff x="1143000" y="2438280"/>
            <a:chExt cx="2818800" cy="3352320"/>
          </a:xfrm>
        </p:grpSpPr>
        <p:sp>
          <p:nvSpPr>
            <p:cNvPr id="504" name=""/>
            <p:cNvSpPr/>
            <p:nvPr/>
          </p:nvSpPr>
          <p:spPr>
            <a:xfrm>
              <a:off x="1143000" y="2438280"/>
              <a:ext cx="704880" cy="7452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43000" y="3742200"/>
              <a:ext cx="704880" cy="7441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143000" y="5045400"/>
              <a:ext cx="704880" cy="7452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143000" y="5045400"/>
              <a:ext cx="704880" cy="7452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256920" y="2438280"/>
              <a:ext cx="704880" cy="7452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256920" y="3742200"/>
              <a:ext cx="704880" cy="7441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256920" y="5045400"/>
              <a:ext cx="704880" cy="7452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56920" y="2438280"/>
              <a:ext cx="704880" cy="7452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256920" y="3742200"/>
              <a:ext cx="704880" cy="7441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56920" y="5045400"/>
              <a:ext cx="704880" cy="7452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847880" y="2810160"/>
              <a:ext cx="1409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847880" y="4114440"/>
              <a:ext cx="1409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847880" y="5418360"/>
              <a:ext cx="1409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671480" y="2997000"/>
              <a:ext cx="1585440" cy="93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71480" y="4300920"/>
              <a:ext cx="1585440" cy="93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43000" y="3742200"/>
              <a:ext cx="704880" cy="7441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43000" y="2438280"/>
              <a:ext cx="704880" cy="7452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604440" y="255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4440" y="392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95440" y="5222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251240" y="255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8080" y="1981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372680" y="175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342240" y="175248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957560" y="2438280"/>
            <a:ext cx="32958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f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f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asis func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d by a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 potentially la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28560" y="609588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Need to control growth in function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Projection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38080" y="5334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914400" y="3885840"/>
            <a:ext cx="152388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29000" y="2971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505320" y="1523880"/>
            <a:ext cx="15238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5410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638680" y="3962160"/>
            <a:ext cx="15242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3886200" y="16002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971800" y="2743200"/>
            <a:ext cx="2057400" cy="2171880"/>
          </a:xfrm>
          <a:custGeom>
            <a:avLst/>
            <a:gdLst/>
            <a:ahLst/>
            <a:rect l="l" t="t" r="r" b="b"/>
            <a:pathLst>
              <a:path w="1248" h="1032">
                <a:moveTo>
                  <a:pt x="0" y="1008"/>
                </a:moveTo>
                <a:cubicBezTo>
                  <a:pt x="256" y="1020"/>
                  <a:pt x="512" y="1032"/>
                  <a:pt x="720" y="864"/>
                </a:cubicBezTo>
                <a:cubicBezTo>
                  <a:pt x="928" y="696"/>
                  <a:pt x="1144" y="88"/>
                  <a:pt x="1248" y="0"/>
                </a:cubicBezTo>
              </a:path>
            </a:pathLst>
          </a:custGeom>
          <a:noFill/>
          <a:ln w="2844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5257080" y="2743200"/>
            <a:ext cx="2057400" cy="2171880"/>
          </a:xfrm>
          <a:custGeom>
            <a:avLst/>
            <a:gdLst/>
            <a:ahLst/>
            <a:rect l="l" t="t" r="r" b="b"/>
            <a:pathLst>
              <a:path w="1248" h="1032">
                <a:moveTo>
                  <a:pt x="0" y="1008"/>
                </a:moveTo>
                <a:cubicBezTo>
                  <a:pt x="256" y="1020"/>
                  <a:pt x="512" y="1032"/>
                  <a:pt x="720" y="864"/>
                </a:cubicBezTo>
                <a:cubicBezTo>
                  <a:pt x="928" y="696"/>
                  <a:pt x="1144" y="88"/>
                  <a:pt x="1248" y="0"/>
                </a:cubicBezTo>
              </a:path>
            </a:pathLst>
          </a:custGeom>
          <a:noFill/>
          <a:ln w="28440">
            <a:solidFill>
              <a:srgbClr val="cc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720600" y="380052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018840" y="3809880"/>
            <a:ext cx="4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7640" y="6095880"/>
            <a:ext cx="81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Regression projects back into original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209680" y="4556160"/>
                <a:ext cx="5335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5105520" y="1981080"/>
                <a:ext cx="26272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7391520" y="4665600"/>
                <a:ext cx="780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fficient Projection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38080" y="1447920"/>
            <a:ext cx="41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project all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06000" y="3429000"/>
            <a:ext cx="283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o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k x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1415880" y="1906560"/>
                <a:ext cx="57819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685800" y="4191120"/>
            <a:ext cx="25146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5400000">
            <a:off x="1752120" y="2666880"/>
            <a:ext cx="304560" cy="2438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50880" y="320040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basis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505320" y="4267080"/>
            <a:ext cx="380880" cy="2362320"/>
          </a:xfrm>
          <a:custGeom>
            <a:avLst/>
            <a:gdLst>
              <a:gd name="textAreaLeft" fmla="*/ 0 w 380880"/>
              <a:gd name="textAreaRight" fmla="*/ 137520 w 3808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930480" y="509580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52760" y="4205160"/>
            <a:ext cx="190476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1)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1)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2)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2)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04920" y="3124080"/>
            <a:ext cx="5257800" cy="3733920"/>
          </a:xfrm>
          <a:prstGeom prst="wedgeRoundRectCallout">
            <a:avLst>
              <a:gd name="adj1" fmla="val 29199"/>
              <a:gd name="adj2" fmla="val -5939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fficient dot product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04920" y="1143000"/>
            <a:ext cx="33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compu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17680" y="3343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3880" y="2209680"/>
            <a:ext cx="826848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of unique terms in summa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of no. of unique terms in b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 x #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920520" y="5105520"/>
            <a:ext cx="7955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 of dot product is O(#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 x #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17520" y="6019920"/>
            <a:ext cx="74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          using same observ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971800" y="6019920"/>
                <a:ext cx="11350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4187880" y="1143000"/>
                <a:ext cx="22352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1676520" y="3962520"/>
                <a:ext cx="56275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Want:  </a:t>
            </a:r>
            <a:r>
              <a:rPr b="0" i="1" lang="en-US" sz="4400" spc="-1" strike="noStrike">
                <a:solidFill>
                  <a:srgbClr val="3333ff"/>
                </a:solidFill>
                <a:latin typeface="Arial"/>
              </a:rPr>
              <a:t>Weighted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Projection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ty requir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igh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, stationary dist.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not be compa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yen-Koller Approximation [UAI 9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factored    with bounded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t produc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weighted dot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3886200" y="4343400"/>
                <a:ext cx="417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505320" y="5181480"/>
                <a:ext cx="4172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he MDP Framework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ov Decis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hastic state trans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ard (or cost)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6483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4038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5181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4419720"/>
            <a:ext cx="8380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5181480"/>
            <a:ext cx="83808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33040" y="60958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45800" y="4156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45800" y="53751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45720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3962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5105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562720" y="4343400"/>
            <a:ext cx="8380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5105520"/>
            <a:ext cx="8380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0640" y="60199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03400" y="40798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03400" y="5299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Weighted dot product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04920" y="1143000"/>
            <a:ext cx="33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compu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46480" y="2703600"/>
            <a:ext cx="792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    is factored, and basis functions are compa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3889440" y="1143000"/>
                <a:ext cx="28321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219320" y="4952880"/>
                <a:ext cx="64832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1311120" y="3236760"/>
                <a:ext cx="358164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uster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X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5033520" y="3200400"/>
            <a:ext cx="309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all vars.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losing BK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930240" y="2779560"/>
                <a:ext cx="3538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Stability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61400" y="1681200"/>
            <a:ext cx="78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 If error in     not “too large”, then we’re 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45880" y="228600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em: 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349280" y="2819520"/>
                <a:ext cx="6750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)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ρ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)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/>
          <p:nvPr/>
        </p:nvSpPr>
        <p:spPr>
          <a:xfrm>
            <a:off x="342000" y="34290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2878200" y="3733920"/>
                <a:ext cx="3083040" cy="12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>
            <a:off x="265680" y="495288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1312920" y="5195880"/>
                <a:ext cx="667368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*,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3352680" y="1676520"/>
                <a:ext cx="331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Approximate DP summary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compact, approx. stationary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linear valu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until converg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 DP replaces bases with larger f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value function back into linear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 becaus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ed transi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ct basis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ct approx. stationary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Sample Revisited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219320" y="129528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219320" y="281952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219320" y="419112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62520" y="358128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62520" y="198108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77120" y="274320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6" name=""/>
          <p:cNvCxnSpPr>
            <a:stCxn id="590" idx="3"/>
            <a:endCxn id="594" idx="1"/>
          </p:cNvCxnSpPr>
          <p:nvPr/>
        </p:nvCxnSpPr>
        <p:spPr>
          <a:xfrm>
            <a:off x="2666520" y="1752120"/>
            <a:ext cx="129636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7" name=""/>
          <p:cNvCxnSpPr>
            <a:endCxn id="594" idx="1"/>
          </p:cNvCxnSpPr>
          <p:nvPr/>
        </p:nvCxnSpPr>
        <p:spPr>
          <a:xfrm flipV="1">
            <a:off x="2666520" y="2437920"/>
            <a:ext cx="1296360" cy="610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"/>
          <p:cNvCxnSpPr>
            <a:endCxn id="593" idx="1"/>
          </p:cNvCxnSpPr>
          <p:nvPr/>
        </p:nvCxnSpPr>
        <p:spPr>
          <a:xfrm>
            <a:off x="2666520" y="3504960"/>
            <a:ext cx="1296360" cy="533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"/>
          <p:cNvCxnSpPr>
            <a:endCxn id="593" idx="1"/>
          </p:cNvCxnSpPr>
          <p:nvPr/>
        </p:nvCxnSpPr>
        <p:spPr>
          <a:xfrm flipV="1">
            <a:off x="2666520" y="4038120"/>
            <a:ext cx="1296360" cy="610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0" name=""/>
          <p:cNvCxnSpPr>
            <a:stCxn id="594" idx="3"/>
            <a:endCxn id="595" idx="1"/>
          </p:cNvCxnSpPr>
          <p:nvPr/>
        </p:nvCxnSpPr>
        <p:spPr>
          <a:xfrm>
            <a:off x="5410080" y="2437920"/>
            <a:ext cx="1067760" cy="76284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1" name=""/>
          <p:cNvCxnSpPr>
            <a:stCxn id="593" idx="3"/>
            <a:endCxn id="595" idx="1"/>
          </p:cNvCxnSpPr>
          <p:nvPr/>
        </p:nvCxnSpPr>
        <p:spPr>
          <a:xfrm flipV="1">
            <a:off x="5410080" y="3200040"/>
            <a:ext cx="1067760" cy="83880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2" name=""/>
          <p:cNvSpPr/>
          <p:nvPr/>
        </p:nvSpPr>
        <p:spPr>
          <a:xfrm>
            <a:off x="6462000" y="3753000"/>
            <a:ext cx="189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138680" y="5638680"/>
            <a:ext cx="738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s require predecessors to wor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 stochas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Results: Stability and Weighted Projection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04920" y="572760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461360" y="572760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61560" y="56228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104920" y="5353200"/>
            <a:ext cx="41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7461360" y="5353200"/>
            <a:ext cx="41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582920" y="524844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104920" y="4979880"/>
            <a:ext cx="414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7461360" y="4979880"/>
            <a:ext cx="41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694160" y="48736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104920" y="4605480"/>
            <a:ext cx="41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7461360" y="4605480"/>
            <a:ext cx="41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582920" y="450072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104920" y="4230720"/>
            <a:ext cx="41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7461360" y="4230720"/>
            <a:ext cx="41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99120" y="411480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104920" y="385776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7461360" y="385776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582920" y="375120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104920" y="34830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461360" y="348300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694160" y="337824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104920" y="310824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461360" y="310824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82920" y="300348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3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104920" y="273528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7461360" y="273528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94160" y="26290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104920" y="236052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7461360" y="236052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582920" y="225576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4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104920" y="198612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7461360" y="198612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694160" y="188136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2104920" y="569088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104920" y="198612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051280" y="5799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2779560" y="569088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779560" y="198612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725920" y="5799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3454560" y="569088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454560" y="198612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00560" y="5799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4129200" y="569088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129200" y="198612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075200" y="5799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803840" y="569088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803840" y="198612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749840" y="5799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5478480" y="569088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478480" y="198612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424840" y="5799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6153120" y="569088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153120" y="198612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099480" y="5799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6827760" y="569088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827760" y="1986120"/>
            <a:ext cx="1800" cy="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74120" y="5799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7502400" y="569088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502400" y="198612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395480" y="5799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104920" y="1986120"/>
            <a:ext cx="5397480" cy="37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rot="16200000">
            <a:off x="-381240" y="3930840"/>
            <a:ext cx="2820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eighted Sum of Squared Err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824280" y="6066000"/>
            <a:ext cx="195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asis Functions Add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512080" y="2209680"/>
            <a:ext cx="1916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nweighted Proje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637160" y="2365200"/>
            <a:ext cx="3855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104920" y="1986120"/>
            <a:ext cx="96840" cy="1301760"/>
          </a:xfrm>
          <a:custGeom>
            <a:avLst/>
            <a:gdLst/>
            <a:ahLst/>
            <a:rect l="l" t="t" r="r" b="b"/>
            <a:pathLst>
              <a:path w="365" h="5741">
                <a:moveTo>
                  <a:pt x="0" y="5741"/>
                </a:moveTo>
                <a:lnTo>
                  <a:pt x="0" y="5741"/>
                </a:lnTo>
                <a:lnTo>
                  <a:pt x="365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702400" y="1986120"/>
            <a:ext cx="1800000" cy="3292200"/>
          </a:xfrm>
          <a:custGeom>
            <a:avLst/>
            <a:gdLst/>
            <a:ahLst/>
            <a:rect l="l" t="t" r="r" b="b"/>
            <a:pathLst>
              <a:path w="6803" h="14517">
                <a:moveTo>
                  <a:pt x="0" y="0"/>
                </a:moveTo>
                <a:lnTo>
                  <a:pt x="1703" y="12141"/>
                </a:lnTo>
                <a:lnTo>
                  <a:pt x="4253" y="13461"/>
                </a:lnTo>
                <a:lnTo>
                  <a:pt x="6803" y="14517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046240" y="3235320"/>
            <a:ext cx="117360" cy="106200"/>
          </a:xfrm>
          <a:custGeom>
            <a:avLst/>
            <a:gdLst/>
            <a:ahLst/>
            <a:rect l="l" t="t" r="r" b="b"/>
            <a:pathLst>
              <a:path w="438" h="467">
                <a:moveTo>
                  <a:pt x="219" y="467"/>
                </a:moveTo>
                <a:lnTo>
                  <a:pt x="0" y="233"/>
                </a:lnTo>
                <a:lnTo>
                  <a:pt x="219" y="0"/>
                </a:lnTo>
                <a:lnTo>
                  <a:pt x="438" y="233"/>
                </a:lnTo>
                <a:lnTo>
                  <a:pt x="219" y="467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104920" y="328788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094440" y="4686480"/>
            <a:ext cx="115920" cy="106200"/>
          </a:xfrm>
          <a:custGeom>
            <a:avLst/>
            <a:gdLst/>
            <a:ahLst/>
            <a:rect l="l" t="t" r="r" b="b"/>
            <a:pathLst>
              <a:path w="438" h="467">
                <a:moveTo>
                  <a:pt x="219" y="467"/>
                </a:moveTo>
                <a:lnTo>
                  <a:pt x="0" y="234"/>
                </a:lnTo>
                <a:lnTo>
                  <a:pt x="219" y="0"/>
                </a:lnTo>
                <a:lnTo>
                  <a:pt x="438" y="234"/>
                </a:lnTo>
                <a:lnTo>
                  <a:pt x="219" y="467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153120" y="4740120"/>
            <a:ext cx="14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769080" y="4986360"/>
            <a:ext cx="115920" cy="106200"/>
          </a:xfrm>
          <a:custGeom>
            <a:avLst/>
            <a:gdLst/>
            <a:ahLst/>
            <a:rect l="l" t="t" r="r" b="b"/>
            <a:pathLst>
              <a:path w="438" h="467">
                <a:moveTo>
                  <a:pt x="219" y="467"/>
                </a:moveTo>
                <a:lnTo>
                  <a:pt x="0" y="234"/>
                </a:lnTo>
                <a:lnTo>
                  <a:pt x="219" y="0"/>
                </a:lnTo>
                <a:lnTo>
                  <a:pt x="438" y="234"/>
                </a:lnTo>
                <a:lnTo>
                  <a:pt x="219" y="467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827760" y="5038560"/>
            <a:ext cx="1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443720" y="5226120"/>
            <a:ext cx="115920" cy="104760"/>
          </a:xfrm>
          <a:custGeom>
            <a:avLst/>
            <a:gdLst/>
            <a:ahLst/>
            <a:rect l="l" t="t" r="r" b="b"/>
            <a:pathLst>
              <a:path w="438" h="467">
                <a:moveTo>
                  <a:pt x="219" y="467"/>
                </a:moveTo>
                <a:lnTo>
                  <a:pt x="0" y="234"/>
                </a:lnTo>
                <a:lnTo>
                  <a:pt x="219" y="0"/>
                </a:lnTo>
                <a:lnTo>
                  <a:pt x="438" y="234"/>
                </a:lnTo>
                <a:lnTo>
                  <a:pt x="219" y="467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502400" y="5278320"/>
            <a:ext cx="1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772160" y="2313000"/>
            <a:ext cx="115920" cy="106200"/>
          </a:xfrm>
          <a:custGeom>
            <a:avLst/>
            <a:gdLst/>
            <a:ahLst/>
            <a:rect l="l" t="t" r="r" b="b"/>
            <a:pathLst>
              <a:path w="438" h="467">
                <a:moveTo>
                  <a:pt x="219" y="467"/>
                </a:moveTo>
                <a:lnTo>
                  <a:pt x="0" y="233"/>
                </a:lnTo>
                <a:lnTo>
                  <a:pt x="219" y="0"/>
                </a:lnTo>
                <a:lnTo>
                  <a:pt x="438" y="233"/>
                </a:lnTo>
                <a:lnTo>
                  <a:pt x="219" y="467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829040" y="2365200"/>
            <a:ext cx="1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87320" y="2438280"/>
            <a:ext cx="1715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eighted Proje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637160" y="2543040"/>
            <a:ext cx="3855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104920" y="4530600"/>
            <a:ext cx="5397480" cy="1062000"/>
          </a:xfrm>
          <a:custGeom>
            <a:avLst/>
            <a:gdLst/>
            <a:ahLst/>
            <a:rect l="l" t="t" r="r" b="b"/>
            <a:pathLst>
              <a:path w="20399" h="4686">
                <a:moveTo>
                  <a:pt x="0" y="0"/>
                </a:moveTo>
                <a:lnTo>
                  <a:pt x="0" y="0"/>
                </a:lnTo>
                <a:lnTo>
                  <a:pt x="5100" y="1188"/>
                </a:lnTo>
                <a:lnTo>
                  <a:pt x="12749" y="1617"/>
                </a:lnTo>
                <a:lnTo>
                  <a:pt x="15299" y="4620"/>
                </a:lnTo>
                <a:lnTo>
                  <a:pt x="17849" y="4652"/>
                </a:lnTo>
                <a:lnTo>
                  <a:pt x="20399" y="4686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046240" y="4530600"/>
            <a:ext cx="1173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104920" y="4476600"/>
            <a:ext cx="180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395520" y="4799160"/>
            <a:ext cx="1177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454560" y="4746600"/>
            <a:ext cx="144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419800" y="4897440"/>
            <a:ext cx="1173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478480" y="4843440"/>
            <a:ext cx="144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094440" y="5578560"/>
            <a:ext cx="1173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153120" y="552456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769080" y="5584680"/>
            <a:ext cx="1173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827760" y="553248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443720" y="5592600"/>
            <a:ext cx="1177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502400" y="554040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772160" y="254304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829040" y="2490840"/>
            <a:ext cx="1800" cy="104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Approximate vs. Exact V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019240" y="572760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461360" y="572760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723680" y="56228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019240" y="5192640"/>
            <a:ext cx="39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7461360" y="5192640"/>
            <a:ext cx="41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548360" y="50878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019240" y="4659480"/>
            <a:ext cx="39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7461360" y="4659480"/>
            <a:ext cx="41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723680" y="45529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019240" y="4124160"/>
            <a:ext cx="39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7461360" y="4124160"/>
            <a:ext cx="41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548360" y="401940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019240" y="358920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7461360" y="3589200"/>
            <a:ext cx="41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723680" y="34844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019240" y="305604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7461360" y="3056040"/>
            <a:ext cx="41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548360" y="29494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019240" y="252108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7461360" y="2521080"/>
            <a:ext cx="41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723680" y="2416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019240" y="198612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7461360" y="198612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548360" y="188136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2019240" y="569088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019240" y="198612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915920" y="5799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2889360" y="569088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889360" y="198612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726640" y="5799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3759120" y="569088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759120" y="198612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596400" y="5799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629240" y="569088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124680" y="2011320"/>
            <a:ext cx="144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466520" y="5799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5500800" y="569088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996240" y="2011320"/>
            <a:ext cx="144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338080" y="5799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6370560" y="569088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370560" y="198612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207840" y="5799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7240680" y="569088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240680" y="198612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077960" y="5799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981080" y="1981080"/>
            <a:ext cx="5483520" cy="3741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1261440" y="3808080"/>
            <a:ext cx="48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470840" y="6066000"/>
            <a:ext cx="44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286680" y="2031840"/>
            <a:ext cx="47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ac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943680" y="2111400"/>
            <a:ext cx="38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019240" y="2427120"/>
            <a:ext cx="5483160" cy="2884680"/>
          </a:xfrm>
          <a:custGeom>
            <a:avLst/>
            <a:gdLst/>
            <a:ahLst/>
            <a:rect l="l" t="t" r="r" b="b"/>
            <a:pathLst>
              <a:path w="20725" h="12717">
                <a:moveTo>
                  <a:pt x="0" y="12717"/>
                </a:moveTo>
                <a:lnTo>
                  <a:pt x="0" y="12717"/>
                </a:lnTo>
                <a:lnTo>
                  <a:pt x="329" y="12657"/>
                </a:lnTo>
                <a:lnTo>
                  <a:pt x="658" y="12641"/>
                </a:lnTo>
                <a:lnTo>
                  <a:pt x="987" y="12482"/>
                </a:lnTo>
                <a:lnTo>
                  <a:pt x="1315" y="12657"/>
                </a:lnTo>
                <a:lnTo>
                  <a:pt x="1645" y="12578"/>
                </a:lnTo>
                <a:lnTo>
                  <a:pt x="1973" y="12482"/>
                </a:lnTo>
                <a:lnTo>
                  <a:pt x="2303" y="11889"/>
                </a:lnTo>
                <a:lnTo>
                  <a:pt x="2631" y="12717"/>
                </a:lnTo>
                <a:lnTo>
                  <a:pt x="2961" y="12657"/>
                </a:lnTo>
                <a:lnTo>
                  <a:pt x="3289" y="12641"/>
                </a:lnTo>
                <a:lnTo>
                  <a:pt x="3619" y="12387"/>
                </a:lnTo>
                <a:lnTo>
                  <a:pt x="3947" y="12657"/>
                </a:lnTo>
                <a:lnTo>
                  <a:pt x="4276" y="12578"/>
                </a:lnTo>
                <a:lnTo>
                  <a:pt x="4606" y="12482"/>
                </a:lnTo>
                <a:lnTo>
                  <a:pt x="4934" y="11331"/>
                </a:lnTo>
                <a:lnTo>
                  <a:pt x="5264" y="12717"/>
                </a:lnTo>
                <a:lnTo>
                  <a:pt x="5592" y="12657"/>
                </a:lnTo>
                <a:lnTo>
                  <a:pt x="5922" y="12641"/>
                </a:lnTo>
                <a:lnTo>
                  <a:pt x="6250" y="12482"/>
                </a:lnTo>
                <a:lnTo>
                  <a:pt x="6580" y="12657"/>
                </a:lnTo>
                <a:lnTo>
                  <a:pt x="6908" y="12578"/>
                </a:lnTo>
                <a:lnTo>
                  <a:pt x="7238" y="12387"/>
                </a:lnTo>
                <a:lnTo>
                  <a:pt x="7566" y="11331"/>
                </a:lnTo>
                <a:lnTo>
                  <a:pt x="7895" y="11020"/>
                </a:lnTo>
                <a:lnTo>
                  <a:pt x="8224" y="10960"/>
                </a:lnTo>
                <a:lnTo>
                  <a:pt x="8553" y="10945"/>
                </a:lnTo>
                <a:lnTo>
                  <a:pt x="8883" y="10691"/>
                </a:lnTo>
                <a:lnTo>
                  <a:pt x="9211" y="10960"/>
                </a:lnTo>
                <a:lnTo>
                  <a:pt x="9540" y="10882"/>
                </a:lnTo>
                <a:lnTo>
                  <a:pt x="9868" y="10691"/>
                </a:lnTo>
                <a:lnTo>
                  <a:pt x="10198" y="7784"/>
                </a:lnTo>
                <a:lnTo>
                  <a:pt x="10526" y="8003"/>
                </a:lnTo>
                <a:lnTo>
                  <a:pt x="10855" y="7943"/>
                </a:lnTo>
                <a:lnTo>
                  <a:pt x="11184" y="7928"/>
                </a:lnTo>
                <a:lnTo>
                  <a:pt x="11513" y="7768"/>
                </a:lnTo>
                <a:lnTo>
                  <a:pt x="11842" y="7943"/>
                </a:lnTo>
                <a:lnTo>
                  <a:pt x="12171" y="7865"/>
                </a:lnTo>
                <a:lnTo>
                  <a:pt x="12501" y="7768"/>
                </a:lnTo>
                <a:lnTo>
                  <a:pt x="12829" y="7175"/>
                </a:lnTo>
                <a:lnTo>
                  <a:pt x="13159" y="8003"/>
                </a:lnTo>
                <a:lnTo>
                  <a:pt x="13487" y="7943"/>
                </a:lnTo>
                <a:lnTo>
                  <a:pt x="13817" y="7928"/>
                </a:lnTo>
                <a:lnTo>
                  <a:pt x="14145" y="7674"/>
                </a:lnTo>
                <a:lnTo>
                  <a:pt x="14474" y="7943"/>
                </a:lnTo>
                <a:lnTo>
                  <a:pt x="14803" y="7865"/>
                </a:lnTo>
                <a:lnTo>
                  <a:pt x="15132" y="7768"/>
                </a:lnTo>
                <a:lnTo>
                  <a:pt x="15461" y="6619"/>
                </a:lnTo>
                <a:lnTo>
                  <a:pt x="15790" y="8003"/>
                </a:lnTo>
                <a:lnTo>
                  <a:pt x="16119" y="7943"/>
                </a:lnTo>
                <a:lnTo>
                  <a:pt x="16448" y="7928"/>
                </a:lnTo>
                <a:lnTo>
                  <a:pt x="16778" y="7768"/>
                </a:lnTo>
                <a:lnTo>
                  <a:pt x="17106" y="7943"/>
                </a:lnTo>
                <a:lnTo>
                  <a:pt x="17435" y="7865"/>
                </a:lnTo>
                <a:lnTo>
                  <a:pt x="17764" y="7674"/>
                </a:lnTo>
                <a:lnTo>
                  <a:pt x="18093" y="6619"/>
                </a:lnTo>
                <a:lnTo>
                  <a:pt x="18422" y="4186"/>
                </a:lnTo>
                <a:lnTo>
                  <a:pt x="18751" y="4126"/>
                </a:lnTo>
                <a:lnTo>
                  <a:pt x="19080" y="4111"/>
                </a:lnTo>
                <a:lnTo>
                  <a:pt x="19409" y="3857"/>
                </a:lnTo>
                <a:lnTo>
                  <a:pt x="19738" y="4126"/>
                </a:lnTo>
                <a:lnTo>
                  <a:pt x="20067" y="4047"/>
                </a:lnTo>
                <a:lnTo>
                  <a:pt x="20396" y="3857"/>
                </a:lnTo>
                <a:lnTo>
                  <a:pt x="20725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60560" y="531180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019240" y="5259240"/>
            <a:ext cx="180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048040" y="5299200"/>
            <a:ext cx="1155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106720" y="524520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135160" y="529416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192400" y="524196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222640" y="525924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279520" y="5205240"/>
            <a:ext cx="180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308320" y="5299200"/>
            <a:ext cx="1173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367000" y="524520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395440" y="5280120"/>
            <a:ext cx="1177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454120" y="5227560"/>
            <a:ext cx="180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482920" y="525924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541600" y="5205240"/>
            <a:ext cx="144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570040" y="512460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627280" y="5072040"/>
            <a:ext cx="1800" cy="104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657520" y="531180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4760" y="5259240"/>
            <a:ext cx="144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744640" y="529920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801880" y="524520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830680" y="5294160"/>
            <a:ext cx="1173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889360" y="524196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917800" y="523728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976480" y="5184720"/>
            <a:ext cx="180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005280" y="529920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063960" y="524520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092400" y="528012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149640" y="5227560"/>
            <a:ext cx="144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179880" y="525924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236760" y="5205240"/>
            <a:ext cx="180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267000" y="499752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324240" y="4944960"/>
            <a:ext cx="144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352680" y="5311800"/>
            <a:ext cx="1177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411360" y="5259240"/>
            <a:ext cx="180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440160" y="529920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498840" y="524520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527280" y="529416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586320" y="524196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614760" y="525924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672000" y="5205240"/>
            <a:ext cx="144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701880" y="529920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759120" y="524520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787920" y="5280120"/>
            <a:ext cx="1173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846600" y="5227560"/>
            <a:ext cx="144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875040" y="5237280"/>
            <a:ext cx="1173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933720" y="5184720"/>
            <a:ext cx="180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962520" y="499752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021200" y="4944960"/>
            <a:ext cx="144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049640" y="492768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108320" y="487368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137120" y="491328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194000" y="486108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224240" y="491004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281480" y="4857840"/>
            <a:ext cx="1440" cy="104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311720" y="485316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368960" y="479916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397400" y="4913280"/>
            <a:ext cx="1173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456080" y="486108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484520" y="489600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543560" y="4843440"/>
            <a:ext cx="1440" cy="104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572000" y="485316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629240" y="479916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659480" y="4192560"/>
            <a:ext cx="1155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716360" y="414036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745160" y="4243320"/>
            <a:ext cx="1173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803840" y="4189320"/>
            <a:ext cx="144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832280" y="4229280"/>
            <a:ext cx="1177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890960" y="417672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919760" y="422604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978440" y="4173480"/>
            <a:ext cx="1440" cy="104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006880" y="418932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065560" y="413712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094360" y="422928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151600" y="417672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181480" y="421164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238720" y="4159080"/>
            <a:ext cx="1440" cy="1051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68960" y="418932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326200" y="413712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354640" y="4054320"/>
            <a:ext cx="1173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13320" y="400212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442120" y="4243320"/>
            <a:ext cx="1155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500800" y="4189320"/>
            <a:ext cx="144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529240" y="422928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587920" y="417672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616720" y="422604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673600" y="4173480"/>
            <a:ext cx="1800" cy="104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703840" y="416880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761080" y="411480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791320" y="422928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848200" y="417672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877000" y="4211640"/>
            <a:ext cx="1173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935680" y="4159080"/>
            <a:ext cx="1440" cy="1051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964120" y="418932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022800" y="413712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051600" y="392904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108840" y="3876840"/>
            <a:ext cx="1440" cy="104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138720" y="424332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195960" y="4189320"/>
            <a:ext cx="180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226200" y="422928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283440" y="417672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311880" y="4226040"/>
            <a:ext cx="1173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370560" y="4173480"/>
            <a:ext cx="1800" cy="104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399360" y="4189320"/>
            <a:ext cx="1173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458040" y="413712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486480" y="422928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545160" y="417672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573960" y="421164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632640" y="4159080"/>
            <a:ext cx="1440" cy="1051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661080" y="416880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718320" y="411480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748560" y="392904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805440" y="3876840"/>
            <a:ext cx="1800" cy="104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834240" y="3376440"/>
            <a:ext cx="1173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892920" y="332424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921360" y="3363840"/>
            <a:ext cx="1177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980400" y="3311640"/>
            <a:ext cx="1440" cy="104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008840" y="336060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067520" y="3306600"/>
            <a:ext cx="144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095960" y="330192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7156440" y="3200400"/>
            <a:ext cx="6480" cy="1555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183440" y="336384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7240680" y="3311640"/>
            <a:ext cx="1440" cy="104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270920" y="3346560"/>
            <a:ext cx="1155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327800" y="329256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356600" y="3301920"/>
            <a:ext cx="1173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415280" y="324972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443720" y="2427120"/>
            <a:ext cx="1177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502400" y="237492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078680" y="211140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135920" y="2058840"/>
            <a:ext cx="1440" cy="10656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636880" y="2209680"/>
            <a:ext cx="107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pproxim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943680" y="2289240"/>
            <a:ext cx="38592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019240" y="3627360"/>
            <a:ext cx="5483160" cy="1897200"/>
          </a:xfrm>
          <a:custGeom>
            <a:avLst/>
            <a:gdLst/>
            <a:ahLst/>
            <a:rect l="l" t="t" r="r" b="b"/>
            <a:pathLst>
              <a:path w="20725" h="8363">
                <a:moveTo>
                  <a:pt x="0" y="8184"/>
                </a:moveTo>
                <a:lnTo>
                  <a:pt x="0" y="8184"/>
                </a:lnTo>
                <a:lnTo>
                  <a:pt x="329" y="8094"/>
                </a:lnTo>
                <a:lnTo>
                  <a:pt x="658" y="8363"/>
                </a:lnTo>
                <a:lnTo>
                  <a:pt x="987" y="7784"/>
                </a:lnTo>
                <a:lnTo>
                  <a:pt x="1315" y="8094"/>
                </a:lnTo>
                <a:lnTo>
                  <a:pt x="1645" y="8003"/>
                </a:lnTo>
                <a:lnTo>
                  <a:pt x="1973" y="7784"/>
                </a:lnTo>
                <a:lnTo>
                  <a:pt x="2303" y="7203"/>
                </a:lnTo>
                <a:lnTo>
                  <a:pt x="2631" y="8015"/>
                </a:lnTo>
                <a:lnTo>
                  <a:pt x="2961" y="7925"/>
                </a:lnTo>
                <a:lnTo>
                  <a:pt x="3289" y="8194"/>
                </a:lnTo>
                <a:lnTo>
                  <a:pt x="3619" y="7614"/>
                </a:lnTo>
                <a:lnTo>
                  <a:pt x="3947" y="7925"/>
                </a:lnTo>
                <a:lnTo>
                  <a:pt x="4276" y="7833"/>
                </a:lnTo>
                <a:lnTo>
                  <a:pt x="4606" y="7614"/>
                </a:lnTo>
                <a:lnTo>
                  <a:pt x="4934" y="7034"/>
                </a:lnTo>
                <a:lnTo>
                  <a:pt x="5264" y="8015"/>
                </a:lnTo>
                <a:lnTo>
                  <a:pt x="5592" y="7925"/>
                </a:lnTo>
                <a:lnTo>
                  <a:pt x="5922" y="8194"/>
                </a:lnTo>
                <a:lnTo>
                  <a:pt x="6250" y="7614"/>
                </a:lnTo>
                <a:lnTo>
                  <a:pt x="6580" y="7925"/>
                </a:lnTo>
                <a:lnTo>
                  <a:pt x="6908" y="7833"/>
                </a:lnTo>
                <a:lnTo>
                  <a:pt x="7238" y="7614"/>
                </a:lnTo>
                <a:lnTo>
                  <a:pt x="7566" y="7034"/>
                </a:lnTo>
                <a:lnTo>
                  <a:pt x="7895" y="5858"/>
                </a:lnTo>
                <a:lnTo>
                  <a:pt x="8224" y="5768"/>
                </a:lnTo>
                <a:lnTo>
                  <a:pt x="8553" y="6038"/>
                </a:lnTo>
                <a:lnTo>
                  <a:pt x="8883" y="5458"/>
                </a:lnTo>
                <a:lnTo>
                  <a:pt x="9211" y="5768"/>
                </a:lnTo>
                <a:lnTo>
                  <a:pt x="9540" y="5678"/>
                </a:lnTo>
                <a:lnTo>
                  <a:pt x="9868" y="5458"/>
                </a:lnTo>
                <a:lnTo>
                  <a:pt x="10198" y="4877"/>
                </a:lnTo>
                <a:lnTo>
                  <a:pt x="10526" y="3306"/>
                </a:lnTo>
                <a:lnTo>
                  <a:pt x="10855" y="3215"/>
                </a:lnTo>
                <a:lnTo>
                  <a:pt x="11184" y="3485"/>
                </a:lnTo>
                <a:lnTo>
                  <a:pt x="11513" y="2905"/>
                </a:lnTo>
                <a:lnTo>
                  <a:pt x="11842" y="3215"/>
                </a:lnTo>
                <a:lnTo>
                  <a:pt x="12171" y="3125"/>
                </a:lnTo>
                <a:lnTo>
                  <a:pt x="12501" y="2905"/>
                </a:lnTo>
                <a:lnTo>
                  <a:pt x="12829" y="2325"/>
                </a:lnTo>
                <a:lnTo>
                  <a:pt x="13159" y="3137"/>
                </a:lnTo>
                <a:lnTo>
                  <a:pt x="13487" y="3046"/>
                </a:lnTo>
                <a:lnTo>
                  <a:pt x="13817" y="3316"/>
                </a:lnTo>
                <a:lnTo>
                  <a:pt x="14145" y="2735"/>
                </a:lnTo>
                <a:lnTo>
                  <a:pt x="14474" y="3046"/>
                </a:lnTo>
                <a:lnTo>
                  <a:pt x="14803" y="2956"/>
                </a:lnTo>
                <a:lnTo>
                  <a:pt x="15132" y="2735"/>
                </a:lnTo>
                <a:lnTo>
                  <a:pt x="15461" y="2156"/>
                </a:lnTo>
                <a:lnTo>
                  <a:pt x="15790" y="3137"/>
                </a:lnTo>
                <a:lnTo>
                  <a:pt x="16119" y="3046"/>
                </a:lnTo>
                <a:lnTo>
                  <a:pt x="16448" y="3316"/>
                </a:lnTo>
                <a:lnTo>
                  <a:pt x="16778" y="2735"/>
                </a:lnTo>
                <a:lnTo>
                  <a:pt x="17106" y="3046"/>
                </a:lnTo>
                <a:lnTo>
                  <a:pt x="17435" y="2956"/>
                </a:lnTo>
                <a:lnTo>
                  <a:pt x="17764" y="2735"/>
                </a:lnTo>
                <a:lnTo>
                  <a:pt x="18093" y="2156"/>
                </a:lnTo>
                <a:lnTo>
                  <a:pt x="18422" y="981"/>
                </a:lnTo>
                <a:lnTo>
                  <a:pt x="18751" y="891"/>
                </a:lnTo>
                <a:lnTo>
                  <a:pt x="19080" y="1160"/>
                </a:lnTo>
                <a:lnTo>
                  <a:pt x="19409" y="580"/>
                </a:lnTo>
                <a:lnTo>
                  <a:pt x="19738" y="891"/>
                </a:lnTo>
                <a:lnTo>
                  <a:pt x="20067" y="800"/>
                </a:lnTo>
                <a:lnTo>
                  <a:pt x="20396" y="580"/>
                </a:lnTo>
                <a:lnTo>
                  <a:pt x="20725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960560" y="543096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019240" y="548496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048040" y="5410080"/>
            <a:ext cx="11556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106720" y="546408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135160" y="5472000"/>
            <a:ext cx="115920" cy="104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192400" y="552456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222640" y="534024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279520" y="539280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308320" y="541008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367000" y="546408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395440" y="538956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454120" y="544356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482920" y="534024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541600" y="539280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570040" y="520848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627280" y="526104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657520" y="539280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14760" y="544500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744640" y="537228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801880" y="5425920"/>
            <a:ext cx="180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830680" y="5433840"/>
            <a:ext cx="115560" cy="1051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889360" y="548640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917800" y="530208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976480" y="535464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005280" y="537228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063960" y="542592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092400" y="535140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149640" y="540396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179880" y="530208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236760" y="535464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267000" y="517032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324240" y="522288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352680" y="5392800"/>
            <a:ext cx="1177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411360" y="5445000"/>
            <a:ext cx="180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440160" y="537228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98840" y="542592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527280" y="5433840"/>
            <a:ext cx="115920" cy="1051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586320" y="548640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614760" y="530208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672000" y="535464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701880" y="537228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759120" y="5425920"/>
            <a:ext cx="180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787920" y="5351400"/>
            <a:ext cx="11736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846600" y="540396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875040" y="530208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933720" y="535464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962520" y="517032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021200" y="522288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049640" y="490392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108320" y="4956120"/>
            <a:ext cx="180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137120" y="488304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194000" y="493560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224240" y="4944960"/>
            <a:ext cx="115920" cy="104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281480" y="499752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311720" y="4813200"/>
            <a:ext cx="115920" cy="104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368960" y="486576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397400" y="488304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456080" y="493560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484520" y="486252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543560" y="491652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572000" y="4813200"/>
            <a:ext cx="115920" cy="104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629240" y="486576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659480" y="4681440"/>
            <a:ext cx="115560" cy="104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716360" y="473400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745160" y="4324320"/>
            <a:ext cx="11736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803840" y="437832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832280" y="430380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890960" y="435780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919760" y="436572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978440" y="441792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006880" y="423396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065560" y="4286160"/>
            <a:ext cx="180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094360" y="430380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151600" y="435780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5181480" y="4284720"/>
            <a:ext cx="115920" cy="104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238720" y="433692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268960" y="423396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26200" y="428616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354640" y="410220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413320" y="415620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442120" y="4286160"/>
            <a:ext cx="11556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500800" y="434016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529240" y="426564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587920" y="431964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616720" y="4327560"/>
            <a:ext cx="115920" cy="104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673600" y="4379760"/>
            <a:ext cx="180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703840" y="419580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761080" y="424800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791320" y="426564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848200" y="431964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877000" y="424512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935680" y="429912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964120" y="419580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022800" y="4248000"/>
            <a:ext cx="180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051600" y="406404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108840" y="411624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38720" y="428616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95960" y="4340160"/>
            <a:ext cx="180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226200" y="426564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283440" y="431964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311880" y="4327560"/>
            <a:ext cx="117360" cy="104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370560" y="4379760"/>
            <a:ext cx="180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399360" y="419580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458040" y="424800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486480" y="426564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545160" y="431964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573960" y="424512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632640" y="429912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661080" y="419580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718320" y="424800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48560" y="406404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6805440" y="4116240"/>
            <a:ext cx="180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834240" y="3797280"/>
            <a:ext cx="11736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892920" y="385128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921360" y="377676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980400" y="383076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008840" y="383868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067520" y="389088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095960" y="370692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155000" y="375912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183440" y="377676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240680" y="383076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270920" y="3755880"/>
            <a:ext cx="11556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327800" y="3809880"/>
            <a:ext cx="180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7356600" y="370692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7415280" y="375912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443720" y="357516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502400" y="3627360"/>
            <a:ext cx="180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078680" y="2236680"/>
            <a:ext cx="115920" cy="104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135920" y="228924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le, approximate DP for larg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DP, projection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on only, no policy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trivial to add policy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representation may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Direct Policy Search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78720" y="1752480"/>
            <a:ext cx="85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Search smoothly parameterized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34240" y="2819520"/>
            <a:ext cx="29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56120" y="4191120"/>
            <a:ext cx="60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function (wrt starting dist.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84480" y="5403960"/>
            <a:ext cx="858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iams 83, Marbach &amp; Tsitskilis 98, Baird &amp; Moore 99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uleau et al. 99, Peshkin et al. 99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da &amp; Tsitsiklis 00, Sutton et al. 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3444840" y="2879640"/>
                <a:ext cx="12002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6629400" y="4267080"/>
                <a:ext cx="92700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Policy Search with Density Estimation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compute value grad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for both MDPs and POMP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ient computat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traj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 (small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jectories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g, Parr &amp; Koller NIPS 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Policy Evaluation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58640" y="1371600"/>
            <a:ext cx="36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Model roll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743200" y="3276720"/>
            <a:ext cx="1828800" cy="1143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943600" y="3276720"/>
            <a:ext cx="1828800" cy="1143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595800" y="3292560"/>
            <a:ext cx="112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75248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572000" y="3886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184640" y="2806560"/>
            <a:ext cx="1806480" cy="490680"/>
          </a:xfrm>
          <a:custGeom>
            <a:avLst/>
            <a:gdLst/>
            <a:ahLst/>
            <a:rect l="l" t="t" r="r" b="b"/>
            <a:pathLst>
              <a:path w="1138" h="309">
                <a:moveTo>
                  <a:pt x="1138" y="309"/>
                </a:moveTo>
                <a:cubicBezTo>
                  <a:pt x="1109" y="271"/>
                  <a:pt x="1073" y="154"/>
                  <a:pt x="964" y="104"/>
                </a:cubicBezTo>
                <a:cubicBezTo>
                  <a:pt x="855" y="54"/>
                  <a:pt x="620" y="0"/>
                  <a:pt x="484" y="8"/>
                </a:cubicBezTo>
                <a:cubicBezTo>
                  <a:pt x="348" y="16"/>
                  <a:pt x="228" y="112"/>
                  <a:pt x="148" y="152"/>
                </a:cubicBezTo>
                <a:cubicBezTo>
                  <a:pt x="68" y="192"/>
                  <a:pt x="31" y="227"/>
                  <a:pt x="0" y="2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1905120" y="3124080"/>
                <a:ext cx="571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4952880" y="3962520"/>
                <a:ext cx="571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5048280" y="1828800"/>
                <a:ext cx="838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6" name=""/>
          <p:cNvSpPr/>
          <p:nvPr/>
        </p:nvSpPr>
        <p:spPr>
          <a:xfrm>
            <a:off x="365760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3429000" y="5467320"/>
                <a:ext cx="2666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MDP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 action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minimization (reward maxim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de bi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 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fa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that full state is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Rollout Based Policy Search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32080" y="1143000"/>
            <a:ext cx="59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stim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using simplex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0" name=""/>
              <p:cNvSpPr txBox="1"/>
              <p:nvPr/>
            </p:nvSpPr>
            <p:spPr>
              <a:xfrm>
                <a:off x="2666880" y="3505320"/>
                <a:ext cx="32004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1" name=""/>
          <p:cNvSpPr/>
          <p:nvPr/>
        </p:nvSpPr>
        <p:spPr>
          <a:xfrm>
            <a:off x="1889280" y="34448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762840" y="3581280"/>
            <a:ext cx="18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85440" y="4419720"/>
            <a:ext cx="35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to reac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2819520" y="5181480"/>
                <a:ext cx="35049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4343400" y="4343400"/>
                <a:ext cx="685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6" name=""/>
          <p:cNvSpPr/>
          <p:nvPr/>
        </p:nvSpPr>
        <p:spPr>
          <a:xfrm>
            <a:off x="305280" y="2971800"/>
            <a:ext cx="19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3505320" y="1066680"/>
                <a:ext cx="91440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3124080" y="1676520"/>
                <a:ext cx="3891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9" name=""/>
          <p:cNvSpPr/>
          <p:nvPr/>
        </p:nvSpPr>
        <p:spPr>
          <a:xfrm>
            <a:off x="3240" y="6035760"/>
            <a:ext cx="826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N.B.: 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Given density estimation, this turns policy search 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simple function max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Simple BAT net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762120" y="1143000"/>
            <a:ext cx="7937280" cy="5614920"/>
            <a:chOff x="762120" y="1143000"/>
            <a:chExt cx="7937280" cy="5614920"/>
          </a:xfrm>
        </p:grpSpPr>
        <p:sp>
          <p:nvSpPr>
            <p:cNvPr id="1052" name=""/>
            <p:cNvSpPr/>
            <p:nvPr/>
          </p:nvSpPr>
          <p:spPr>
            <a:xfrm>
              <a:off x="762120" y="114300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cl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62120" y="54100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A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2120" y="19810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cl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62120" y="281952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62120" y="365760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62120" y="44956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828800" y="15238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cl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1447920" y="2133360"/>
              <a:ext cx="4572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1447920" y="1905120"/>
              <a:ext cx="304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447920" y="1447920"/>
              <a:ext cx="228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447920" y="3352680"/>
              <a:ext cx="533160" cy="1524240"/>
            </a:xfrm>
            <a:custGeom>
              <a:avLst/>
              <a:gdLst/>
              <a:ahLst/>
              <a:rect l="l" t="t" r="r" b="b"/>
              <a:pathLst>
                <a:path w="336" h="960">
                  <a:moveTo>
                    <a:pt x="0" y="960"/>
                  </a:moveTo>
                  <a:cubicBezTo>
                    <a:pt x="168" y="776"/>
                    <a:pt x="336" y="592"/>
                    <a:pt x="336" y="432"/>
                  </a:cubicBezTo>
                  <a:cubicBezTo>
                    <a:pt x="336" y="272"/>
                    <a:pt x="88" y="6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447920" y="4267080"/>
              <a:ext cx="533160" cy="1524240"/>
            </a:xfrm>
            <a:custGeom>
              <a:avLst/>
              <a:gdLst/>
              <a:ahLst/>
              <a:rect l="l" t="t" r="r" b="b"/>
              <a:pathLst>
                <a:path w="336" h="960">
                  <a:moveTo>
                    <a:pt x="0" y="960"/>
                  </a:moveTo>
                  <a:cubicBezTo>
                    <a:pt x="168" y="776"/>
                    <a:pt x="336" y="592"/>
                    <a:pt x="336" y="432"/>
                  </a:cubicBezTo>
                  <a:cubicBezTo>
                    <a:pt x="336" y="272"/>
                    <a:pt x="88" y="6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324480" y="114300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cl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324480" y="54100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A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24480" y="19810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cl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324480" y="281952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324480" y="365760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324480" y="44956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391520" y="15238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cl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7010280" y="2133360"/>
              <a:ext cx="4572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7010280" y="190512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010280" y="1447920"/>
              <a:ext cx="228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010280" y="3352680"/>
              <a:ext cx="533520" cy="1524240"/>
            </a:xfrm>
            <a:custGeom>
              <a:avLst/>
              <a:gdLst/>
              <a:ahLst/>
              <a:rect l="l" t="t" r="r" b="b"/>
              <a:pathLst>
                <a:path w="336" h="960">
                  <a:moveTo>
                    <a:pt x="0" y="960"/>
                  </a:moveTo>
                  <a:cubicBezTo>
                    <a:pt x="168" y="776"/>
                    <a:pt x="336" y="592"/>
                    <a:pt x="336" y="432"/>
                  </a:cubicBezTo>
                  <a:cubicBezTo>
                    <a:pt x="336" y="272"/>
                    <a:pt x="88" y="6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010280" y="4267080"/>
              <a:ext cx="533520" cy="1524240"/>
            </a:xfrm>
            <a:custGeom>
              <a:avLst/>
              <a:gdLst/>
              <a:ahLst/>
              <a:rect l="l" t="t" r="r" b="b"/>
              <a:pathLst>
                <a:path w="336" h="960">
                  <a:moveTo>
                    <a:pt x="0" y="960"/>
                  </a:moveTo>
                  <a:cubicBezTo>
                    <a:pt x="168" y="776"/>
                    <a:pt x="336" y="592"/>
                    <a:pt x="336" y="432"/>
                  </a:cubicBezTo>
                  <a:cubicBezTo>
                    <a:pt x="336" y="272"/>
                    <a:pt x="88" y="6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447920" y="579132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447920" y="487692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447920" y="403848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447920" y="312408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447920" y="236232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447920" y="144792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1447920" y="2514240"/>
              <a:ext cx="45720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1447920" y="2437920"/>
              <a:ext cx="4572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1447920" y="1599840"/>
              <a:ext cx="464796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1447920" y="1752480"/>
              <a:ext cx="45720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447920" y="3124080"/>
              <a:ext cx="46479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514600" y="1828800"/>
              <a:ext cx="3505320" cy="38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581280" y="6019920"/>
              <a:ext cx="6858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447920" y="1447920"/>
              <a:ext cx="1981080" cy="472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447920" y="2362320"/>
              <a:ext cx="1981080" cy="39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447920" y="3124080"/>
              <a:ext cx="198108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4267080" y="5943600"/>
              <a:ext cx="1752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4267080" y="5029200"/>
              <a:ext cx="1828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633920" y="6237360"/>
              <a:ext cx="406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olicy = CPT for Lat_A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Simplex Search Result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1096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743880" cy="53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Gradient Ascent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62520" y="1387440"/>
            <a:ext cx="84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x is weak: better to use gradient as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41000" y="2225520"/>
            <a:ext cx="80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differentiable model, approx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2133720" y="4114800"/>
                <a:ext cx="513720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Ψ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1" name=""/>
          <p:cNvSpPr/>
          <p:nvPr/>
        </p:nvSpPr>
        <p:spPr>
          <a:xfrm>
            <a:off x="746280" y="329256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estimated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685080" y="5943600"/>
            <a:ext cx="787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Combined propagation/estimation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905120" y="3886200"/>
            <a:ext cx="304560" cy="38088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4495680" y="4952880"/>
            <a:ext cx="0" cy="99072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Apply the Chain Rule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838080" y="2438280"/>
                <a:ext cx="7535880" cy="21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dθ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dθ</m:t>
                            </m:r>
                          </m:den>
                        </m:f>
                        <m:acc>
                          <m:accPr>
                            <m:chr m:val="^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(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ϕ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Ψ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ϕ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Ψ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ϕ</m:t>
                                </m:r>
                              </m:e>
                            </m:acc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ϕ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dθ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5488200" y="1600200"/>
            <a:ext cx="14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28800" y="60199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437920" y="487692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Recursive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H="1" flipV="1">
            <a:off x="1828440" y="3428640"/>
            <a:ext cx="685800" cy="1676520"/>
          </a:xfrm>
          <a:prstGeom prst="line">
            <a:avLst/>
          </a:prstGeom>
          <a:ln w="255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6553080" y="4572000"/>
            <a:ext cx="457200" cy="533520"/>
          </a:xfrm>
          <a:prstGeom prst="line">
            <a:avLst/>
          </a:prstGeom>
          <a:ln w="255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182920" y="5715000"/>
            <a:ext cx="26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1905120" y="19051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800" y="63784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f. Neural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What if full model is not available?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33160" y="1752480"/>
            <a:ext cx="49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generat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352680" y="3505320"/>
            <a:ext cx="236232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905120" y="388620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905120" y="472428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10920" y="358128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518760" y="443556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715000" y="434340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011720" y="3886200"/>
            <a:ext cx="112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Rollout with sampling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352680" y="1905120"/>
            <a:ext cx="1981440" cy="13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562720" y="4267080"/>
            <a:ext cx="1981080" cy="13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371600" y="4267080"/>
            <a:ext cx="1981080" cy="13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914400" y="2133720"/>
                <a:ext cx="6667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29" name=""/>
          <p:cNvSpPr/>
          <p:nvPr/>
        </p:nvSpPr>
        <p:spPr>
          <a:xfrm>
            <a:off x="1905120" y="25146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334120" y="3276720"/>
            <a:ext cx="83808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5715720" y="297180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8305920" y="2819520"/>
                <a:ext cx="6174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33" name=""/>
          <p:cNvSpPr/>
          <p:nvPr/>
        </p:nvSpPr>
        <p:spPr>
          <a:xfrm flipH="1">
            <a:off x="3581280" y="4952880"/>
            <a:ext cx="1981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641760" y="4968720"/>
            <a:ext cx="194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4191120" y="6019920"/>
                <a:ext cx="3888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6" name=""/>
          <p:cNvSpPr/>
          <p:nvPr/>
        </p:nvSpPr>
        <p:spPr>
          <a:xfrm flipV="1">
            <a:off x="2362320" y="3352680"/>
            <a:ext cx="91440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805120" y="367344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3886200" y="3505320"/>
                <a:ext cx="9288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Gradient Ascent &amp; Sampling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18040" y="1616040"/>
            <a:ext cx="78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odel fitting is differentiable, why not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762120" y="2819520"/>
                <a:ext cx="7535880" cy="21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dθ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dθ</m:t>
                            </m:r>
                          </m:den>
                        </m:f>
                        <m:acc>
                          <m:accPr>
                            <m:chr m:val="^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(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ϕ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Ψ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ϕ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Ψ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ϕ</m:t>
                                </m:r>
                              </m:e>
                            </m:acc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ϕ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dθ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2" name=""/>
          <p:cNvSpPr/>
          <p:nvPr/>
        </p:nvSpPr>
        <p:spPr>
          <a:xfrm>
            <a:off x="303840" y="5562720"/>
            <a:ext cx="84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Samples are from </a:t>
            </a: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w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hought Experiment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81240" y="1219320"/>
            <a:ext cx="31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 n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80520" y="1981080"/>
            <a:ext cx="78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o estimation, reweighting old s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1752480" y="2819520"/>
                <a:ext cx="544356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ϕ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7" name=""/>
              <p:cNvSpPr txBox="1"/>
              <p:nvPr/>
            </p:nvSpPr>
            <p:spPr>
              <a:xfrm>
                <a:off x="3505320" y="1219320"/>
                <a:ext cx="46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2133720" y="4648320"/>
                <a:ext cx="38862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Φ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w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Φ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685800" y="6019920"/>
                <a:ext cx="8380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0" name=""/>
          <p:cNvSpPr/>
          <p:nvPr/>
        </p:nvSpPr>
        <p:spPr>
          <a:xfrm>
            <a:off x="1451520" y="601992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Notes on reweighting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amples are actually reu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differentiation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te, since differentiation considers an infinitesimal chang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3" name=""/>
              <p:cNvSpPr txBox="1"/>
              <p:nvPr/>
            </p:nvSpPr>
            <p:spPr>
              <a:xfrm>
                <a:off x="5791320" y="4876920"/>
                <a:ext cx="469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Value Determination in MDP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expected, discounted value of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random variable for state at time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3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iscount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- reward for state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286000" y="4038480"/>
                <a:ext cx="4516560" cy="16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γ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217160" y="6019920"/>
            <a:ext cx="67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Expected value of factory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Bicycle Example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cycle simulator from Randlov &amp; Astrom 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actions for combinations of lean and tor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dimensional state + absorbing goal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ted to 6D multivariate Gauss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horizon of 200 steps, 300 samples/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max action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d results comparable to R&amp;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km vs. 7km for “good”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5km vs. 1.7km for “best”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new uses for density estimation in (PO)MD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MDP 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approx. with density 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d MD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determination with guaran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space of parameterized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Dynamic Programming (DP)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3657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ive approx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point is V*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|S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per 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 state variables, |S|=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73040" y="2133720"/>
                <a:ext cx="83106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Partial Observability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d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tions of other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cation: true state is not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” depends upon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state = dist. over true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DP for POMDP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3580920"/>
            <a:ext cx="8610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 still works, 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is now a belief state, i.e. prob. d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 state variables, dist. over |S|=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s exactly is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V exactly is nightmar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73040" y="2133720"/>
                <a:ext cx="83106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03:01:40Z</dcterms:created>
  <dc:creator>Ron Parr</dc:creator>
  <dc:description/>
  <dc:language>en-US</dc:language>
  <cp:lastModifiedBy>Ronald Parr</cp:lastModifiedBy>
  <cp:lastPrinted>1999-10-15T19:59:35Z</cp:lastPrinted>
  <dcterms:modified xsi:type="dcterms:W3CDTF">1999-10-18T13:51:22Z</dcterms:modified>
  <cp:revision>63</cp:revision>
  <dc:subject/>
  <dc:title>No Slide Title</dc:title>
</cp:coreProperties>
</file>