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9EB-7523-418E-B703-107D0266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EAC-A0D6-48FB-8A16-31996AA4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3E1-EB90-4CD2-9079-34903401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444-F8FC-4C71-AFD9-57F4F90C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3D8C-34B9-44BA-B53B-03538CDC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52AE-A6C0-45C8-8C1D-02B2CDA0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AA8F-7F4E-4550-A3FE-02A3F5D9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9C4B-BE89-4B0E-B897-081BB106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89B0-6CB4-49A9-BACC-84834FEE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ACA9-555B-4CA6-A988-F169C0C8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66AE-5A44-4E2B-8D77-3105463E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A66-2462-44D3-8741-5E5827A0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205D-E5D0-42F5-A69F-F97EB1D7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E59E-2556-4D36-BA27-3F7C4E10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91C7-9C0A-490E-9C8A-DE06B4DA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E35B-C287-4DCA-86F3-E59EBC7A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F7DF-A6BE-4B0D-841D-DCADB7FC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A8F-33B7-470D-AE7A-6E1F2B7E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7E2-0F43-4FFE-9E9F-A99832A5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99E-AECE-4777-9E5C-C409746C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BC3-50A5-4B03-8D5A-6487C24E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F63-3DB2-4917-9242-8D5B5E04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602-40ED-4178-8910-3415B17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E53-46AA-4AAA-835A-1B3028FB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8170-B60A-4B75-9B40-557820F3D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6109-23EF-4547-A019-0791C2205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 on my Holidays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including how not to write an informative talk title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and give lots of negative resul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William 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akes a game f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 increases with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given level difficulty is 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Tet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controls speed at which blocks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lay time leads to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 design attempts to match user adaptation with level difficulty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akes a game f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the player till they’re almost dead then let them wi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te from Dr. Ian Davis (Acti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user to feel they overcome overwhelming od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many different gen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 standard ‘level’ structure of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akes anything f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western plot structure has a ‘story arc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o starts off in a ‘mundane’ 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in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ost f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comes odds to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y arc suggests ‘fun’ is related to change in ‘tensi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fixed tension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d and woo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se game satisfaction through a short ‘post-game’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elp overcome game addiction without sacrificing 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timed games to be ended without fru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n industry standard D-A conve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ing multiple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w muscle 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e’ muscle 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lvanic skin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actually D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M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physiological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tr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have been a number of papers published about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block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of top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op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gaps below top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function approx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tr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ried plugging in Leemon’s Web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-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al Net approxim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idn’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ed to Geoff Gordon rec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row and rotation as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Value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pysiological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 research used pre-segmented data from a single person projecting a sequence of discrete emo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ere trying to map continuous data to a, very noisy, continuous signal over a long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manage to learn much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yeballing the data didn’t show any obvious trends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sation of Sony C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40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te a few AI researchers, but also networking, theory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keep budget below 0.1% of Sony’s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be able to sell it as “look at all the research area’s we’re covering with your mone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out the reseachers over the research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as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n earth was I do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pysiological feedback an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I actuall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tris, HyperMask, Measuring mi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get maximum impact for your research dol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erM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to do with anything I’ve talked about, but c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mask with embedded IR L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video camera to track it in 3D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video projector to project a ‘face’ onto the m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erM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face model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expression to b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p sync actor’s speech in re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presented at SIGGRAPH this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crew-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-amplifiers arrived late and without power sup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 tried to build your own power supply in a country where you don’t speak the loc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-Sensors can be very fla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Volume sen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areful about extrapolating from research papers!!  #@$%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y Computer Science La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s working with Dr. Kim Bin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te the first computer punning riddle 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in Tok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holly owned subsidiary of S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’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people publish research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get to see any cool pre-releas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they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they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Joe Sucker puts another quarter in the s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the computer the time so it can make the game harder when the arcade is usually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players initials when the game starts so it can make it harder for the good players right from the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computer want from a g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they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 the computer player when Joe Sucker puts another quarter in the s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elp the human have f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read the human’s level of enjoyment and use that as a reinforcement function for the computer 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sychophysiological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the user as they perform some activities with varying ‘fun’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(learn?) a mapping from physical sensors to ‘fu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the user during a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s part of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s translated through learnt ‘fun’ model and fed in as a reinforcement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 work with psychophysiological 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Rosalind Picard, 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accuracy distinguishing 5 e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tendo BioTet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by Seta for the Nintendo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user hear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s game play to fix heart rate at set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ate = exc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rate = rela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implis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04:48:16Z</dcterms:created>
  <dc:creator>William Uther</dc:creator>
  <dc:description/>
  <dc:language>en-US</dc:language>
  <cp:lastModifiedBy>William Uther</cp:lastModifiedBy>
  <dcterms:modified xsi:type="dcterms:W3CDTF">1999-10-04T15:23:12Z</dcterms:modified>
  <cp:revision>3</cp:revision>
  <dc:subject/>
  <dc:title>“What I did on my Holidays”  …and how not to write an informative talk title...</dc:title>
</cp:coreProperties>
</file>