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D81-B810-4401-A4C3-C3537873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1E6-3CCA-4732-8391-9D34402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CF9-1B59-48ED-9554-ACAAB776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AE2-9B81-4BAC-ACD2-788C0F64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65CA-118F-4D36-8962-6A44CEB6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D7C4-DE29-4897-B676-057AED2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8AA7-40EF-49B6-9D6B-9C83FD30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82EF-F51B-4226-A725-FF38B4EF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47F-B9DD-4A84-A50F-ADAB159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0860-2400-4E53-805F-BEEBB59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50F7-9B2C-4CB4-B233-0C65F37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6CE-A987-4365-A4C1-95418891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A462-7866-4335-9EB2-149C5C0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0917-7214-4D1C-B701-87A0E056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23C8-4AA8-4394-BD39-2C478A8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C108-7F28-458A-9496-0418C4E0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0C9-5CDF-4FC4-ADCF-3BF67C63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8AB-951A-41BB-9047-B9E9502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7DD-6F11-4DB8-9E6A-0B9A032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6AA-FB28-4EEC-A129-9CAE149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79C-08CA-445D-A157-04BA682A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6A9-6ABD-4C8B-95D3-8D4BBD7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DB0-CE0C-4410-9CDB-5C71CCD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8A1-2925-489B-909C-8811454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A0A-D08F-4D0D-8837-691C0B3F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32F-6352-4A63-93B4-D1217CCE3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 on my Holidays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including how not to write an informative talk tit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and give lots of negative 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William 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a game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increases with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given level difficulty is 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Tet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controls speed at which blocks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lay time leads to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design attempts to match user adaptation with level difficul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a game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e player till they’re almost dead then let them wi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 from Dr. Ian Davis (Acti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er to feel they overcome overwhelming od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many different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standard ‘level’ structure of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anything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western plot structure has a ‘story arc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o starts off in a ‘mundane’ 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in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comes odds to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y arc suggests ‘fun’ is related to change in ‘tensi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ixed tens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d and wo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se game satisfaction through a short ‘post-game’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elp overcome game addiction without sacrificing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timed games to be ended without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n industry standard D-A conve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ing multipl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w muscle 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e’ muscle 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lvanic sk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actually D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physiological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have been a number of papers published about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block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top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op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gaps below top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function approx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ried plugging in Leemon’s Web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al Net approxim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idn’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ed to Geoff Gordon rec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ow and rotation as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Value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pysiological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 research used pre-segmented data from a single person projecting a sequence of discrete e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ere trying to map continuous data to a, very noisy, continuous signal over a long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manage to learn much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yeballing the data didn’t show any obvious trends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sation of Sony C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40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te a few AI researchers, but also networking, theory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keep budget below 0.1% of Sony’s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be able to sell it as “look at all the research area’s we’re covering with your mon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out the reseachers over the research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as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n earth was I do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pysiological feedback a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I actual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tris, HyperMask, Measuring mi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get maximum impact for your research d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M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to do with anything I’ve talked about, but c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mask with embedded IR L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video camera to track it in 3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video projector to project a ‘face’ onto the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M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face model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expression to b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 sync actor’s speech in re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presented at SIGGRAPH this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crew-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-amplifiers arrived late and without power sup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 tried to build your own power supply in a country where you don’t speak the loc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-Sensors can be very fla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Volume s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about extrapolating from research papers!!  #@$%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y Computer Science La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s working with Dr. Kim Bin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te the first computer punning riddle 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in Tok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holly owned subsidiary of S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’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people publish research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get to see any cool pre-releas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they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they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Joe Sucker puts another quarter in the s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the computer the time so it can make the game harder when the arcade is usually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players initials when the game starts so it can make it harder for the good players right from the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they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Joe Sucker puts another quarter in the s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the human have f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read the human’s level of enjoyment and use that as a reinforcement function for the computer 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sychophysiological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he user as they perform some activities with varying ‘fun’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(learn?) a mapping from physical sensors to ‘fu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he user during a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s part of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s translated through learnt ‘fun’ model and fed in as a reinforcement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work with psychophysiological 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Rosalind Picard, 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accuracy distinguishing 5 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tendo BioTet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by Seta for the Nintendo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user hear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s game play to fix heart rate at set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ate = exc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rate = rela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impl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04:48:16Z</dcterms:created>
  <dc:creator>William Uther</dc:creator>
  <dc:description/>
  <dc:language>en-US</dc:language>
  <cp:lastModifiedBy>William Uther</cp:lastModifiedBy>
  <dcterms:modified xsi:type="dcterms:W3CDTF">1999-10-04T15:23:12Z</dcterms:modified>
  <cp:revision>3</cp:revision>
  <dc:subject/>
  <dc:title>“What I did on my Holidays”  …and how not to write an informative talk title...</dc:title>
</cp:coreProperties>
</file>