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1116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1116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9360" y="703080"/>
            <a:ext cx="4656240" cy="349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040" y="443052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5024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85024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F34BFB4-4CDF-4908-9AA3-71F9FA1FCF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3962520" y="885024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3950287-D817-4BC8-8A86-7C0DA76329B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-360" y="885024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1116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962520" y="1116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934560" y="4425480"/>
            <a:ext cx="5139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ldImg"/>
          </p:nvPr>
        </p:nvSpPr>
        <p:spPr>
          <a:xfrm>
            <a:off x="1182600" y="704880"/>
            <a:ext cx="46450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3962520" y="885024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18C93CA-D0FA-4288-A613-3F9640A6E98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-360" y="885024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1116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962520" y="1116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934560" y="4425480"/>
            <a:ext cx="5139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ldImg"/>
          </p:nvPr>
        </p:nvSpPr>
        <p:spPr>
          <a:xfrm>
            <a:off x="1182600" y="704880"/>
            <a:ext cx="46450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3962520" y="885024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B69FCC2-1151-4399-BAF9-38E22DC4D08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-360" y="885024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1116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962520" y="1116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body"/>
          </p:nvPr>
        </p:nvSpPr>
        <p:spPr>
          <a:xfrm>
            <a:off x="934560" y="4425480"/>
            <a:ext cx="5139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ldImg"/>
          </p:nvPr>
        </p:nvSpPr>
        <p:spPr>
          <a:xfrm>
            <a:off x="1182600" y="704880"/>
            <a:ext cx="46450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3962520" y="885024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3BCC6AF-730A-4A6B-8755-AD6279B02A1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-360" y="885024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-360" y="1116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962520" y="1116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934560" y="4425480"/>
            <a:ext cx="5139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ldImg"/>
          </p:nvPr>
        </p:nvSpPr>
        <p:spPr>
          <a:xfrm>
            <a:off x="1182600" y="704880"/>
            <a:ext cx="46450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851-6292-4E83-9BD8-1D9D1E1D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A749-BE0F-4D70-9E76-26EC7ED3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216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432-9CE9-47AD-99FF-20272549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512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512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BBF-7168-4057-A2FB-1B3D2F2B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29C-06AE-4756-8B5E-98193516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F600-7F8F-4735-8489-1CF8B1AC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7403-1E79-45AA-A1EA-EB82ADE8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D86F-BEA4-4F35-AEC1-85F46739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848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4FB-A54A-470A-A190-8B0CA74C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503-478A-4062-915B-00531AEB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216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7BB6-4CDE-456C-9531-CF8A60A3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4AB-4F98-4052-A76E-017B0FEA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B7DF-8CBF-4AD1-94F1-19C03E515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23880" y="1316160"/>
            <a:ext cx="852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200" y="430200"/>
            <a:ext cx="68835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Times New Roman"/>
              </a:rPr>
              <a:t>An Introduction to Active Learning</a:t>
            </a:r>
            <a:endParaRPr b="0" lang="en-US" sz="36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60640" y="1473120"/>
            <a:ext cx="4821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avid C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ustsystem Pittsburgh Research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9880" y="2556000"/>
            <a:ext cx="7494480" cy="34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LAIMER: This is a tutorial. There will be n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gabyt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ive robotic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panese pop st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will have the opportunity to shoot the speaker halfway through the 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JustResearch" descr=""/>
          <p:cNvPicPr/>
          <p:nvPr/>
        </p:nvPicPr>
        <p:blipFill>
          <a:blip r:embed="rId1"/>
          <a:stretch/>
        </p:blipFill>
        <p:spPr>
          <a:xfrm>
            <a:off x="696960" y="1501920"/>
            <a:ext cx="476280" cy="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Machine learning - the loss function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place line where we d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t” decision is one that minimizes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 function(al) maps from predi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ule to pen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common los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expected squared error of predictor on future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uracy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bability that future example will be classified “incorrectl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uncertainty in mode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uncertainty in model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756040" y="1452600"/>
            <a:ext cx="3167280" cy="2548440"/>
            <a:chOff x="5756040" y="1452600"/>
            <a:chExt cx="3167280" cy="2548440"/>
          </a:xfrm>
        </p:grpSpPr>
        <p:grpSp>
          <p:nvGrpSpPr>
            <p:cNvPr id="182" name=""/>
            <p:cNvGrpSpPr/>
            <p:nvPr/>
          </p:nvGrpSpPr>
          <p:grpSpPr>
            <a:xfrm>
              <a:off x="5756040" y="1452600"/>
              <a:ext cx="3167280" cy="2548440"/>
              <a:chOff x="5756040" y="1452600"/>
              <a:chExt cx="3167280" cy="2548440"/>
            </a:xfrm>
          </p:grpSpPr>
          <p:sp>
            <p:nvSpPr>
              <p:cNvPr id="183" name=""/>
              <p:cNvSpPr/>
              <p:nvPr/>
            </p:nvSpPr>
            <p:spPr>
              <a:xfrm>
                <a:off x="6200640" y="1452600"/>
                <a:ext cx="2722680" cy="212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708600" y="1977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860880" y="213012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413400" y="23745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200720" y="2134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18080" y="176832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403040" y="277776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55680" y="293040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107840" y="317484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895160" y="293508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012880" y="256824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914520" y="3663720"/>
                <a:ext cx="10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-bak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00000">
                <a:off x="5112000" y="2351880"/>
                <a:ext cx="1625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hocolate-cont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6487920" y="1660680"/>
              <a:ext cx="2076120" cy="1789200"/>
              <a:chOff x="6487920" y="1660680"/>
              <a:chExt cx="2076120" cy="1789200"/>
            </a:xfrm>
          </p:grpSpPr>
          <p:sp>
            <p:nvSpPr>
              <p:cNvPr id="197" name=""/>
              <p:cNvSpPr/>
              <p:nvPr/>
            </p:nvSpPr>
            <p:spPr>
              <a:xfrm flipV="1">
                <a:off x="6487920" y="1660680"/>
                <a:ext cx="2076120" cy="178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183520" y="201276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Machine learning - using the loss function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 learning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asy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Figure out what loss function is for your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Figure out how to estimate expected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Find a model that minimizes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gobs of time and effort expended on each of these thre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Machine learning - the typical setup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32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known architecture will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a neural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raining set of examples T drawn at random from unknown source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loss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MSE on future examples from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 loss via MSE on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neural network parameters that minimize MSE on T, subject to smoothing and validation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725880" y="1587600"/>
            <a:ext cx="1896120" cy="1515600"/>
            <a:chOff x="6725880" y="1587600"/>
            <a:chExt cx="1896120" cy="1515600"/>
          </a:xfrm>
        </p:grpSpPr>
        <p:grpSp>
          <p:nvGrpSpPr>
            <p:cNvPr id="204" name=""/>
            <p:cNvGrpSpPr/>
            <p:nvPr/>
          </p:nvGrpSpPr>
          <p:grpSpPr>
            <a:xfrm>
              <a:off x="7059600" y="1587600"/>
              <a:ext cx="1240920" cy="1504440"/>
              <a:chOff x="7059600" y="1587600"/>
              <a:chExt cx="1240920" cy="1504440"/>
            </a:xfrm>
          </p:grpSpPr>
          <p:sp>
            <p:nvSpPr>
              <p:cNvPr id="205" name=""/>
              <p:cNvSpPr/>
              <p:nvPr/>
            </p:nvSpPr>
            <p:spPr>
              <a:xfrm flipV="1">
                <a:off x="7159320" y="1661760"/>
                <a:ext cx="426600" cy="28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7140240" y="1920600"/>
                <a:ext cx="42660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7119720" y="2199960"/>
                <a:ext cx="426600" cy="28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7146720" y="2455560"/>
                <a:ext cx="426600" cy="28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146720" y="1926720"/>
                <a:ext cx="391680" cy="2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7149960" y="2193480"/>
                <a:ext cx="391680" cy="2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7162560" y="2485440"/>
                <a:ext cx="391680" cy="2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7130880" y="2730240"/>
                <a:ext cx="39168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149960" y="1941480"/>
                <a:ext cx="426600" cy="28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75160" y="2198520"/>
                <a:ext cx="42660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167240" y="2489040"/>
                <a:ext cx="42660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134120" y="2757240"/>
                <a:ext cx="42660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7573320" y="1639800"/>
                <a:ext cx="658440" cy="69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flipV="1">
                <a:off x="7573320" y="1927080"/>
                <a:ext cx="658440" cy="41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flipV="1">
                <a:off x="7562160" y="2193480"/>
                <a:ext cx="6807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7585920" y="2342880"/>
                <a:ext cx="634680" cy="13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7562520" y="2342880"/>
                <a:ext cx="669600" cy="4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7586280" y="2355840"/>
                <a:ext cx="645840" cy="66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00600" y="2127240"/>
                <a:ext cx="150480" cy="137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500600" y="1857240"/>
                <a:ext cx="150480" cy="137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502400" y="1587600"/>
                <a:ext cx="150480" cy="137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502400" y="2414520"/>
                <a:ext cx="150480" cy="137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500600" y="2954160"/>
                <a:ext cx="150480" cy="137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502400" y="2684520"/>
                <a:ext cx="150480" cy="137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150040" y="2251080"/>
                <a:ext cx="150480" cy="137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061040" y="1869840"/>
                <a:ext cx="150480" cy="137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059600" y="2679480"/>
                <a:ext cx="150480" cy="137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59600" y="2409840"/>
                <a:ext cx="150480" cy="137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061040" y="2139840"/>
                <a:ext cx="150480" cy="137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 rot="16200000">
              <a:off x="6248520" y="215928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put feat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6200000">
              <a:off x="7699320" y="2180520"/>
              <a:ext cx="150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dicted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04720" y="3277800"/>
            <a:ext cx="1890720" cy="115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= [(x1,x2,x3,x4 -&gt; y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1,x2,x3,x4 -&gt; y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1,x2,x3,x4 -&gt; y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1,x2,x3,x4 -&gt; y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- what and why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ness of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map depends on h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good data to interpolate/extrapo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good method of interpolating/extrapol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 learning focuses on (2) at the expense of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(1) is out of our ha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-rays, stock market, datamining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it isn’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botics, vision, information retrieval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Learning defini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arning in which the learner exerts influence over the data upon which it will be tr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pply to control, estimation and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, focus on estimation/pred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- not all data are created equal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ing on model, some data sets will be much better than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ata set is best for a model usually cannot be determined a pri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inferred as you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66760" y="3900600"/>
            <a:ext cx="2722680" cy="21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4720" y="44254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54200" y="45082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60520" y="432540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0640" y="408600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00000" y="410184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93160" y="556056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21440" y="537804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32640" y="558756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61280" y="53827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8640" y="501624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80280" y="61113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-ba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77760" y="47995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colate-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454040" y="4108320"/>
            <a:ext cx="2076480" cy="178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96440" y="52909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00880" y="3867120"/>
            <a:ext cx="2722320" cy="212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59320" y="506232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77040" y="420984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83120" y="538920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38720" y="426204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32440" y="45874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17160" y="505440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36560" y="472104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72920" y="548460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295040" y="534960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12760" y="498276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4400" y="607824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-ba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4511880" y="476568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colate-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888160" y="4075200"/>
            <a:ext cx="2076480" cy="178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906320" y="40003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n active learning example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build active “dessert predict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 whether dessert will be ed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her data set of dess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et of desserts, selecting input values that will help us nail down the unknowns in ou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00880" y="3968640"/>
            <a:ext cx="2722320" cy="212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08480" y="44938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18320" y="428436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95040" y="54511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14400" y="61797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-ba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4511880" y="48679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colate-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04760" y="2412720"/>
            <a:ext cx="3300480" cy="32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31840" y="2413080"/>
            <a:ext cx="3035520" cy="33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956200" y="4456080"/>
            <a:ext cx="2183040" cy="12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72400" y="497016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899320" y="4179960"/>
            <a:ext cx="2170080" cy="12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2700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08600" y="528120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072120" y="4052880"/>
            <a:ext cx="1627200" cy="183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23480" y="41954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97560" y="413820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853240" y="4144680"/>
            <a:ext cx="2251080" cy="16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15520" y="423036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39640" y="419544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875200" y="4041720"/>
            <a:ext cx="2067120" cy="180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80240" y="562896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02920" y="559224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783040" y="4168800"/>
            <a:ext cx="2158920" cy="154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68080" y="49654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- why bother?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21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costs - selecting data helps us find solu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ome cases, learning only from given examples is NP-complete, while active learning admits polynomial (or even linear!) time solutions (Angluin, Baum, Coh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active vision - having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right” viewpoint can greatly simplif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utation of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escher1" descr=""/>
          <p:cNvPicPr/>
          <p:nvPr/>
        </p:nvPicPr>
        <p:blipFill>
          <a:blip r:embed="rId1"/>
          <a:stretch/>
        </p:blipFill>
        <p:spPr>
          <a:xfrm>
            <a:off x="6039000" y="3519360"/>
            <a:ext cx="245268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060880" y="3230640"/>
            <a:ext cx="3880080" cy="3340080"/>
            <a:chOff x="5060880" y="3230640"/>
            <a:chExt cx="3880080" cy="3340080"/>
          </a:xfrm>
        </p:grpSpPr>
        <p:pic>
          <p:nvPicPr>
            <p:cNvPr id="301" name="active_error" descr=""/>
            <p:cNvPicPr/>
            <p:nvPr/>
          </p:nvPicPr>
          <p:blipFill>
            <a:blip r:embed="rId1"/>
            <a:stretch/>
          </p:blipFill>
          <p:spPr>
            <a:xfrm>
              <a:off x="5060880" y="3230640"/>
              <a:ext cx="3880080" cy="33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7772040" y="3346200"/>
              <a:ext cx="4384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and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cti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- why bother?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540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sts - selecting data helps us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t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ome cases, learning from given examples has a polynomial (or flatter) learning curve,  while active learning has exponential learning curve (Blumer et al., Haussler, Cohn &amp; Tesau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learning dynamics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ing the state space succee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random flailing f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When do we want to do active learning?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2000"/>
          </a:bodyPr>
          <a:p>
            <a:pPr marL="178200" indent="-1782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what our cost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6280" indent="-148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ing to save physical resour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6280" indent="-148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ing to save time? comput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590840" y="3187080"/>
            <a:ext cx="5982840" cy="3181680"/>
            <a:chOff x="1590840" y="3187080"/>
            <a:chExt cx="5982840" cy="3181680"/>
          </a:xfrm>
        </p:grpSpPr>
        <p:grpSp>
          <p:nvGrpSpPr>
            <p:cNvPr id="308" name=""/>
            <p:cNvGrpSpPr/>
            <p:nvPr/>
          </p:nvGrpSpPr>
          <p:grpSpPr>
            <a:xfrm>
              <a:off x="1590840" y="3187080"/>
              <a:ext cx="1776240" cy="2527920"/>
              <a:chOff x="1590840" y="3187080"/>
              <a:chExt cx="1776240" cy="2527920"/>
            </a:xfrm>
          </p:grpSpPr>
          <p:sp>
            <p:nvSpPr>
              <p:cNvPr id="309" name=""/>
              <p:cNvSpPr/>
              <p:nvPr/>
            </p:nvSpPr>
            <p:spPr>
              <a:xfrm>
                <a:off x="1886040" y="3187080"/>
                <a:ext cx="1087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ta chea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590840" y="3813840"/>
                <a:ext cx="1776240" cy="33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ather data in bat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986120" y="4597920"/>
                <a:ext cx="986760" cy="33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 o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90240" y="5377680"/>
                <a:ext cx="577080" cy="33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474640" y="4178160"/>
                <a:ext cx="0" cy="39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460960" y="4933440"/>
                <a:ext cx="0" cy="44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5436360" y="3187080"/>
              <a:ext cx="2137320" cy="3181680"/>
              <a:chOff x="5436360" y="3187080"/>
              <a:chExt cx="2137320" cy="3181680"/>
            </a:xfrm>
          </p:grpSpPr>
          <p:sp>
            <p:nvSpPr>
              <p:cNvPr id="316" name=""/>
              <p:cNvSpPr/>
              <p:nvPr/>
            </p:nvSpPr>
            <p:spPr>
              <a:xfrm>
                <a:off x="5436360" y="3187080"/>
                <a:ext cx="176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mputation chea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99080" y="3814200"/>
                <a:ext cx="1546200" cy="33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ather data poi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093720" y="4598280"/>
                <a:ext cx="552600" cy="33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679720" y="5372640"/>
                <a:ext cx="1359360" cy="82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valuate best next point to s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364080" y="4178520"/>
                <a:ext cx="0" cy="39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350400" y="4933800"/>
                <a:ext cx="0" cy="44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342840" y="6197760"/>
                <a:ext cx="0" cy="17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041240" y="5784840"/>
                <a:ext cx="532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7573680" y="3985200"/>
                <a:ext cx="0" cy="179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7108200" y="3985560"/>
                <a:ext cx="46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3568320" y="3278880"/>
              <a:ext cx="1694880" cy="229320"/>
            </a:xfrm>
            <a:prstGeom prst="rightArrow">
              <a:avLst>
                <a:gd name="adj1" fmla="val 50000"/>
                <a:gd name="adj2" fmla="val 18477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24400" y="3615480"/>
              <a:ext cx="177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end of 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74760" y="4748400"/>
              <a:ext cx="26384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75520" y="4836240"/>
              <a:ext cx="149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ybrid semi-batch strateg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in history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mathematical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Cartesian coordinates of a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 angle and azimuth required to shoot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asic but incomplete Newtonian model that needs tu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optimization (1950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rge Box - “Evolutionary Operat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ores operating modes in process to hillclimb on y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ine, Agriculture - optimal experimen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eding a disease-resistant variety of c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sing a treatment or vac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 involve designing batches of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Times New Roman"/>
              </a:rPr>
              <a:t>A roadmap of today’s talk</a:t>
            </a:r>
            <a:endParaRPr b="0" lang="en-US" sz="36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machine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, why and 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active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, why and 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ew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dioactive Easter egg h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bot Tai 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tenberg’s nightm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ld blue y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 learning “on a budge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else can we do with this approa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Siblings to active learning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 excitation - contro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is to maintain (near) optimal control of a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 from the optimal control signal enough to provide continued information about system’s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- operations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data/experiments to learn something about shape of respons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interested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xim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function - not general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for estimation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learning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asy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Figure out what loss function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Figure out how to estimate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Estimate effect of a new candidate action/example on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) Choose candidate yielding smallest expected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) Repeat as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 few examples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learning with a parametr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dioactive Easter egg h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learning for prediction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bot Tai 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learning on a big ugly probl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tenberg’s nightm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8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with a parametric model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530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 buried hazardous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rels of hazardous waste buried in unmarked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l content causes electromagnetic disturbance which can be measured at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 to localize barrels with minimum number of pro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060240" y="2084400"/>
            <a:ext cx="1953360" cy="1857240"/>
            <a:chOff x="6060240" y="2084400"/>
            <a:chExt cx="1953360" cy="1857240"/>
          </a:xfrm>
        </p:grpSpPr>
        <p:grpSp>
          <p:nvGrpSpPr>
            <p:cNvPr id="341" name=""/>
            <p:cNvGrpSpPr/>
            <p:nvPr/>
          </p:nvGrpSpPr>
          <p:grpSpPr>
            <a:xfrm>
              <a:off x="6440040" y="2084400"/>
              <a:ext cx="1573560" cy="1715760"/>
              <a:chOff x="6440040" y="2084400"/>
              <a:chExt cx="1573560" cy="171576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6751440" y="2340360"/>
                <a:ext cx="1021680" cy="1223280"/>
                <a:chOff x="6751440" y="2340360"/>
                <a:chExt cx="1021680" cy="122328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6751440" y="2340360"/>
                  <a:ext cx="1021680" cy="1223280"/>
                  <a:chOff x="6751440" y="2340360"/>
                  <a:chExt cx="1021680" cy="122328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rot="20100000">
                    <a:off x="6854760" y="2565000"/>
                    <a:ext cx="644400" cy="39348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rot="20100000">
                    <a:off x="6764400" y="2466720"/>
                    <a:ext cx="64440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rot="20100000">
                    <a:off x="6940440" y="2844720"/>
                    <a:ext cx="64440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rot="20100000">
                    <a:off x="7027920" y="2942640"/>
                    <a:ext cx="644400" cy="39384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20100000">
                    <a:off x="6927840" y="2849400"/>
                    <a:ext cx="64440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100000">
                    <a:off x="7115040" y="3231720"/>
                    <a:ext cx="64476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rot="20100000">
                    <a:off x="6911640" y="2822040"/>
                    <a:ext cx="635040" cy="10980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20100000">
                    <a:off x="7095600" y="3217320"/>
                    <a:ext cx="635040" cy="10980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2" name=""/>
                <p:cNvSpPr/>
                <p:nvPr/>
              </p:nvSpPr>
              <p:spPr>
                <a:xfrm rot="20100000">
                  <a:off x="7022880" y="2606400"/>
                  <a:ext cx="3715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6440040" y="2361600"/>
                <a:ext cx="629280" cy="702720"/>
                <a:chOff x="6440040" y="2361600"/>
                <a:chExt cx="629280" cy="702720"/>
              </a:xfrm>
            </p:grpSpPr>
            <p:sp>
              <p:nvSpPr>
                <p:cNvPr id="354" name=""/>
                <p:cNvSpPr/>
                <p:nvPr/>
              </p:nvSpPr>
              <p:spPr>
                <a:xfrm rot="20100000">
                  <a:off x="6666840" y="2574720"/>
                  <a:ext cx="18396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07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073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rot="20100000">
                  <a:off x="6541920" y="2424240"/>
                  <a:ext cx="42516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743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74346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7381800" y="2821680"/>
                <a:ext cx="631800" cy="703800"/>
                <a:chOff x="7381800" y="2821680"/>
                <a:chExt cx="631800" cy="703800"/>
              </a:xfrm>
            </p:grpSpPr>
            <p:sp>
              <p:nvSpPr>
                <p:cNvPr id="357" name=""/>
                <p:cNvSpPr/>
                <p:nvPr/>
              </p:nvSpPr>
              <p:spPr>
                <a:xfrm rot="9300000">
                  <a:off x="7599960" y="3063600"/>
                  <a:ext cx="18324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07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073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9300000">
                  <a:off x="7483320" y="2885040"/>
                  <a:ext cx="42804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7444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7444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6841800" y="3097440"/>
                <a:ext cx="628920" cy="702720"/>
                <a:chOff x="6841800" y="3097440"/>
                <a:chExt cx="628920" cy="702720"/>
              </a:xfrm>
            </p:grpSpPr>
            <p:sp>
              <p:nvSpPr>
                <p:cNvPr id="360" name=""/>
                <p:cNvSpPr/>
                <p:nvPr/>
              </p:nvSpPr>
              <p:spPr>
                <a:xfrm rot="9300000">
                  <a:off x="7081560" y="3327840"/>
                  <a:ext cx="1836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rot="9300000">
                  <a:off x="6943680" y="3160080"/>
                  <a:ext cx="42480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7041600" y="2084400"/>
                <a:ext cx="628920" cy="702720"/>
                <a:chOff x="7041600" y="2084400"/>
                <a:chExt cx="628920" cy="702720"/>
              </a:xfrm>
            </p:grpSpPr>
            <p:sp>
              <p:nvSpPr>
                <p:cNvPr id="363" name=""/>
                <p:cNvSpPr/>
                <p:nvPr/>
              </p:nvSpPr>
              <p:spPr>
                <a:xfrm rot="20100000">
                  <a:off x="7250400" y="2307600"/>
                  <a:ext cx="1836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20100000">
                  <a:off x="7143480" y="2147040"/>
                  <a:ext cx="42480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5" name=""/>
            <p:cNvGrpSpPr/>
            <p:nvPr/>
          </p:nvGrpSpPr>
          <p:grpSpPr>
            <a:xfrm>
              <a:off x="6060240" y="2176560"/>
              <a:ext cx="1663560" cy="1765080"/>
              <a:chOff x="6060240" y="2176560"/>
              <a:chExt cx="1663560" cy="176508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6314760" y="2484360"/>
                <a:ext cx="1140120" cy="1222560"/>
                <a:chOff x="6314760" y="2484360"/>
                <a:chExt cx="1140120" cy="122256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6314760" y="2484360"/>
                  <a:ext cx="1140120" cy="1222560"/>
                  <a:chOff x="6314760" y="2484360"/>
                  <a:chExt cx="1140120" cy="12225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rot="2160000">
                    <a:off x="6686280" y="2731680"/>
                    <a:ext cx="644400" cy="39384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rot="2160000">
                    <a:off x="6811560" y="2653920"/>
                    <a:ext cx="64440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rot="2160000">
                    <a:off x="6567120" y="2990520"/>
                    <a:ext cx="64440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rot="2160000">
                    <a:off x="6440040" y="3066480"/>
                    <a:ext cx="644400" cy="39384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rot="2160000">
                    <a:off x="6556320" y="2982600"/>
                    <a:ext cx="644400" cy="20448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rot="2160000">
                    <a:off x="6312960" y="3332160"/>
                    <a:ext cx="64476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rot="2160000">
                    <a:off x="6616800" y="2976480"/>
                    <a:ext cx="634680" cy="10944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160000">
                    <a:off x="6359400" y="3328920"/>
                    <a:ext cx="635040" cy="10944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6" name=""/>
                <p:cNvSpPr/>
                <p:nvPr/>
              </p:nvSpPr>
              <p:spPr>
                <a:xfrm rot="2160000">
                  <a:off x="6775200" y="2765520"/>
                  <a:ext cx="3711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6511320" y="2176560"/>
                <a:ext cx="682920" cy="716760"/>
                <a:chOff x="6511320" y="2176560"/>
                <a:chExt cx="682920" cy="716760"/>
              </a:xfrm>
            </p:grpSpPr>
            <p:sp>
              <p:nvSpPr>
                <p:cNvPr id="378" name=""/>
                <p:cNvSpPr/>
                <p:nvPr/>
              </p:nvSpPr>
              <p:spPr>
                <a:xfrm rot="2160000">
                  <a:off x="6774840" y="2407320"/>
                  <a:ext cx="18396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07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073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2160000">
                  <a:off x="6640200" y="2246400"/>
                  <a:ext cx="42516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743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74346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6567480" y="3224880"/>
                <a:ext cx="682920" cy="716760"/>
                <a:chOff x="6567480" y="3224880"/>
                <a:chExt cx="682920" cy="716760"/>
              </a:xfrm>
            </p:grpSpPr>
            <p:sp>
              <p:nvSpPr>
                <p:cNvPr id="381" name=""/>
                <p:cNvSpPr/>
                <p:nvPr/>
              </p:nvSpPr>
              <p:spPr>
                <a:xfrm rot="12960000">
                  <a:off x="6799680" y="3461400"/>
                  <a:ext cx="18396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07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073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rot="12960000">
                  <a:off x="6696000" y="3294360"/>
                  <a:ext cx="42516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743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74346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6060240" y="2889360"/>
                <a:ext cx="684720" cy="719280"/>
                <a:chOff x="6060240" y="2889360"/>
                <a:chExt cx="684720" cy="719280"/>
              </a:xfrm>
            </p:grpSpPr>
            <p:sp>
              <p:nvSpPr>
                <p:cNvPr id="384" name=""/>
                <p:cNvSpPr/>
                <p:nvPr/>
              </p:nvSpPr>
              <p:spPr>
                <a:xfrm rot="12960000">
                  <a:off x="6314040" y="3142440"/>
                  <a:ext cx="1836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12960000">
                  <a:off x="6190200" y="2958480"/>
                  <a:ext cx="424440" cy="58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811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8116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7040880" y="2575440"/>
                <a:ext cx="682920" cy="716400"/>
                <a:chOff x="7040880" y="2575440"/>
                <a:chExt cx="682920" cy="716400"/>
              </a:xfrm>
            </p:grpSpPr>
            <p:sp>
              <p:nvSpPr>
                <p:cNvPr id="387" name=""/>
                <p:cNvSpPr/>
                <p:nvPr/>
              </p:nvSpPr>
              <p:spPr>
                <a:xfrm rot="2160000">
                  <a:off x="7287840" y="2794320"/>
                  <a:ext cx="18288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rot="2160000">
                  <a:off x="7169760" y="2644920"/>
                  <a:ext cx="42480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8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with a parametric model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116840" cy="41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parametric model of disturbances, but individual probes are very noi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barrel buried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mean disturbance a probe loc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, y, 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695280" y="3178080"/>
            <a:ext cx="1953360" cy="1857240"/>
            <a:chOff x="6695280" y="3178080"/>
            <a:chExt cx="1953360" cy="1857240"/>
          </a:xfrm>
        </p:grpSpPr>
        <p:grpSp>
          <p:nvGrpSpPr>
            <p:cNvPr id="392" name=""/>
            <p:cNvGrpSpPr/>
            <p:nvPr/>
          </p:nvGrpSpPr>
          <p:grpSpPr>
            <a:xfrm>
              <a:off x="7075080" y="3178080"/>
              <a:ext cx="1573560" cy="1715760"/>
              <a:chOff x="7075080" y="3178080"/>
              <a:chExt cx="1573560" cy="171576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7386480" y="3434040"/>
                <a:ext cx="1021680" cy="1223280"/>
                <a:chOff x="7386480" y="3434040"/>
                <a:chExt cx="1021680" cy="122328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7386480" y="3434040"/>
                  <a:ext cx="1021680" cy="1223280"/>
                  <a:chOff x="7386480" y="3434040"/>
                  <a:chExt cx="1021680" cy="122328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rot="20100000">
                    <a:off x="7489800" y="3658680"/>
                    <a:ext cx="644400" cy="39348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rot="20100000">
                    <a:off x="7399440" y="3560400"/>
                    <a:ext cx="64440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20100000">
                    <a:off x="7575480" y="3938400"/>
                    <a:ext cx="64440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rot="20100000">
                    <a:off x="7662960" y="4036320"/>
                    <a:ext cx="644400" cy="39384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rot="20100000">
                    <a:off x="7562880" y="3943080"/>
                    <a:ext cx="64440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rot="20100000">
                    <a:off x="7750080" y="4325400"/>
                    <a:ext cx="64476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rot="20100000">
                    <a:off x="7546680" y="3915720"/>
                    <a:ext cx="635040" cy="10980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rot="20100000">
                    <a:off x="7730640" y="4311000"/>
                    <a:ext cx="635040" cy="10980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3" name=""/>
                <p:cNvSpPr/>
                <p:nvPr/>
              </p:nvSpPr>
              <p:spPr>
                <a:xfrm rot="20100000">
                  <a:off x="7657920" y="3700080"/>
                  <a:ext cx="3715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7075080" y="3455280"/>
                <a:ext cx="629280" cy="702720"/>
                <a:chOff x="7075080" y="3455280"/>
                <a:chExt cx="629280" cy="702720"/>
              </a:xfrm>
            </p:grpSpPr>
            <p:sp>
              <p:nvSpPr>
                <p:cNvPr id="405" name=""/>
                <p:cNvSpPr/>
                <p:nvPr/>
              </p:nvSpPr>
              <p:spPr>
                <a:xfrm rot="20100000">
                  <a:off x="7301880" y="3668400"/>
                  <a:ext cx="18396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07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073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20100000">
                  <a:off x="7176960" y="3517920"/>
                  <a:ext cx="42516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743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74346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8016840" y="3915360"/>
                <a:ext cx="631800" cy="703800"/>
                <a:chOff x="8016840" y="3915360"/>
                <a:chExt cx="631800" cy="703800"/>
              </a:xfrm>
            </p:grpSpPr>
            <p:sp>
              <p:nvSpPr>
                <p:cNvPr id="408" name=""/>
                <p:cNvSpPr/>
                <p:nvPr/>
              </p:nvSpPr>
              <p:spPr>
                <a:xfrm rot="9300000">
                  <a:off x="8235000" y="4157280"/>
                  <a:ext cx="18324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07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073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9300000">
                  <a:off x="8118360" y="3978720"/>
                  <a:ext cx="42804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7444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7444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7476840" y="4191120"/>
                <a:ext cx="628920" cy="702720"/>
                <a:chOff x="7476840" y="4191120"/>
                <a:chExt cx="628920" cy="702720"/>
              </a:xfrm>
            </p:grpSpPr>
            <p:sp>
              <p:nvSpPr>
                <p:cNvPr id="411" name=""/>
                <p:cNvSpPr/>
                <p:nvPr/>
              </p:nvSpPr>
              <p:spPr>
                <a:xfrm rot="9300000">
                  <a:off x="7716600" y="4421520"/>
                  <a:ext cx="1836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rot="9300000">
                  <a:off x="7578720" y="4253760"/>
                  <a:ext cx="42480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7676640" y="3178080"/>
                <a:ext cx="628920" cy="702720"/>
                <a:chOff x="7676640" y="3178080"/>
                <a:chExt cx="628920" cy="702720"/>
              </a:xfrm>
            </p:grpSpPr>
            <p:sp>
              <p:nvSpPr>
                <p:cNvPr id="414" name=""/>
                <p:cNvSpPr/>
                <p:nvPr/>
              </p:nvSpPr>
              <p:spPr>
                <a:xfrm rot="20100000">
                  <a:off x="7885440" y="3401280"/>
                  <a:ext cx="1836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rot="20100000">
                  <a:off x="7778520" y="3240720"/>
                  <a:ext cx="42480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6" name=""/>
            <p:cNvGrpSpPr/>
            <p:nvPr/>
          </p:nvGrpSpPr>
          <p:grpSpPr>
            <a:xfrm>
              <a:off x="6695280" y="3270240"/>
              <a:ext cx="1663560" cy="1765080"/>
              <a:chOff x="6695280" y="3270240"/>
              <a:chExt cx="1663560" cy="176508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6949800" y="3578040"/>
                <a:ext cx="1140120" cy="1222560"/>
                <a:chOff x="6949800" y="3578040"/>
                <a:chExt cx="1140120" cy="122256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6949800" y="3578040"/>
                  <a:ext cx="1140120" cy="1222560"/>
                  <a:chOff x="6949800" y="3578040"/>
                  <a:chExt cx="1140120" cy="12225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rot="2160000">
                    <a:off x="7321320" y="3825360"/>
                    <a:ext cx="644400" cy="39384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rot="2160000">
                    <a:off x="7446600" y="3747600"/>
                    <a:ext cx="64440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2160000">
                    <a:off x="7202160" y="4084200"/>
                    <a:ext cx="64440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2160000">
                    <a:off x="7075080" y="4160160"/>
                    <a:ext cx="644400" cy="39384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rot="2160000">
                    <a:off x="7191360" y="4076280"/>
                    <a:ext cx="644400" cy="20448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rot="2160000">
                    <a:off x="6948000" y="4425840"/>
                    <a:ext cx="644760" cy="2048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rot="2160000">
                    <a:off x="7251840" y="4070160"/>
                    <a:ext cx="634680" cy="10944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rot="2160000">
                    <a:off x="6994440" y="4422600"/>
                    <a:ext cx="635040" cy="10944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7" name=""/>
                <p:cNvSpPr/>
                <p:nvPr/>
              </p:nvSpPr>
              <p:spPr>
                <a:xfrm rot="2160000">
                  <a:off x="7410240" y="3859200"/>
                  <a:ext cx="3711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7146360" y="3270240"/>
                <a:ext cx="682920" cy="716760"/>
                <a:chOff x="7146360" y="3270240"/>
                <a:chExt cx="682920" cy="716760"/>
              </a:xfrm>
            </p:grpSpPr>
            <p:sp>
              <p:nvSpPr>
                <p:cNvPr id="429" name=""/>
                <p:cNvSpPr/>
                <p:nvPr/>
              </p:nvSpPr>
              <p:spPr>
                <a:xfrm rot="2160000">
                  <a:off x="7409880" y="3501000"/>
                  <a:ext cx="18396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07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073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2160000">
                  <a:off x="7275240" y="3340080"/>
                  <a:ext cx="42516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743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74346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7202520" y="4318560"/>
                <a:ext cx="682920" cy="716760"/>
                <a:chOff x="7202520" y="4318560"/>
                <a:chExt cx="682920" cy="716760"/>
              </a:xfrm>
            </p:grpSpPr>
            <p:sp>
              <p:nvSpPr>
                <p:cNvPr id="432" name=""/>
                <p:cNvSpPr/>
                <p:nvPr/>
              </p:nvSpPr>
              <p:spPr>
                <a:xfrm rot="12960000">
                  <a:off x="7434720" y="4555080"/>
                  <a:ext cx="18396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07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073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12960000">
                  <a:off x="7331040" y="4388040"/>
                  <a:ext cx="42516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743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74346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6695280" y="3983040"/>
                <a:ext cx="684720" cy="719280"/>
                <a:chOff x="6695280" y="3983040"/>
                <a:chExt cx="684720" cy="719280"/>
              </a:xfrm>
            </p:grpSpPr>
            <p:sp>
              <p:nvSpPr>
                <p:cNvPr id="435" name=""/>
                <p:cNvSpPr/>
                <p:nvPr/>
              </p:nvSpPr>
              <p:spPr>
                <a:xfrm rot="12960000">
                  <a:off x="6949080" y="4236120"/>
                  <a:ext cx="1836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2960000">
                  <a:off x="6825240" y="4052160"/>
                  <a:ext cx="424440" cy="58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811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8116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7675920" y="3669120"/>
                <a:ext cx="682920" cy="716400"/>
                <a:chOff x="7675920" y="3669120"/>
                <a:chExt cx="682920" cy="716400"/>
              </a:xfrm>
            </p:grpSpPr>
            <p:sp>
              <p:nvSpPr>
                <p:cNvPr id="438" name=""/>
                <p:cNvSpPr/>
                <p:nvPr/>
              </p:nvSpPr>
              <p:spPr>
                <a:xfrm rot="2160000">
                  <a:off x="7922880" y="3888000"/>
                  <a:ext cx="18288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2160000">
                  <a:off x="7804800" y="3738600"/>
                  <a:ext cx="424800" cy="57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211480" y="3251160"/>
                <a:ext cx="28969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2211480" y="4362480"/>
                <a:ext cx="37558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with a parametric model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data and a noise model, apply Bayes rule and do maximum likelihood estimation of parameters from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confidence estimate for any hypothesized barrel loca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663480" y="3525840"/>
            <a:ext cx="3089520" cy="22701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126800" y="5843520"/>
            <a:ext cx="2455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after 60 random pro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216400" y="3468600"/>
            <a:ext cx="3130560" cy="25257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5368320" y="5834160"/>
            <a:ext cx="268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after 1200 random pro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0107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with a parametric model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59880" y="1752480"/>
            <a:ext cx="7479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urrent likelihood map to decide where to make next 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ew possible strateg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probes at random - in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eachcomber” - take next probe at most likely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ngineer” - follow the “five easy steps” of active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5857920" y="3770280"/>
            <a:ext cx="3089160" cy="227016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0107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with a parametric model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5320" y="1463760"/>
            <a:ext cx="6035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easy step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loss function is MSE between our estimates and true loc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can estimate loss with variance of parameter M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estimate effect of new probe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’, y’, z’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M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) identify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’, y’, z’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minimizes variance of M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) query, and repeat as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0107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with a parametric model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5320" y="1463760"/>
            <a:ext cx="7709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estimate effect of new probe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’, y’, z’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M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kne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h’|x’, y’, z’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would be e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ayesian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rue location of barrel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compute distribu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(h’| x’, y’, z’, 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nois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 distribution of h’ by likelihood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iven curren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over all reasona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rrive at expected distribution of respons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(h’| x’, y’, z’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033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with a parametric model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012680" y="1311120"/>
          <a:ext cx="8131320" cy="516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1311120"/>
                    <a:ext cx="8131320" cy="51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3407400" y="609516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ro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Machine learning - what and why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ike to have machines make decisions for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we don’t have time to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light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we don’t have attention span to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rge-scale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we aren’t available to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utonomous veh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we just don’t want to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formation 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decision requires evaluating its conseque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consequences may require machine to estimate unknowns or predict fu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for prediction confidence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ly, model parameters are a means to an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in a neural network, parameters are meaning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care how confident we are of parameters - we want to be confident of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turns out to be a tad more trick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confidence must be integrated over entire dom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ion confidence at any poi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aight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 analytically, or estimate using Taylor series or Monte Carlo approxi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overall confidence must be integrated for a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knowing test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for prediction confidence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integrate uncertainty over entir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estimate of test distribu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ive learning traditionally uses training set for estimat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ut if we’ve been choosing the training data.... (oops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re still okay if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define the test distribution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approximate the test distribution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ccess to a large number of unlabeled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Monte Carlo integration over a “reference s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 unlabeled reference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ording to test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 variance at each poi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reference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arm" descr=""/>
          <p:cNvPicPr/>
          <p:nvPr/>
        </p:nvPicPr>
        <p:blipFill>
          <a:blip r:embed="rId1"/>
          <a:stretch/>
        </p:blipFill>
        <p:spPr>
          <a:xfrm>
            <a:off x="6799320" y="2965320"/>
            <a:ext cx="2141640" cy="216540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2076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Times New Roman"/>
              </a:rPr>
              <a:t>Active learning for prediction confidence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454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kinematics of a planar two-joint 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s are joint angl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are Cartesian coordinates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 noise in angle sensors, effectors produces non-Gaussian noise in Cartesian output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function is uniform MSE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successi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to minimize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versions of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less: successive queries can be arbitrary values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state: successive queries must be within r of pri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locally weighted regression as model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with LWR- a demo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33280" y="1376280"/>
            <a:ext cx="753912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with LWR- a demo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314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to minimize bias </a:t>
            </a:r>
            <a:r>
              <a:rPr b="0" i="1" lang="en-US" sz="3200" spc="-1" strike="noStrike">
                <a:solidFill>
                  <a:srgbClr val="00808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 variance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confidence in model parameters and outputs assumes that the model is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odels are al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pancy shows up as model b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many of the same tricks to select data that will minimize bias and variance simultane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concomitant improvement in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7718400" y="2590920"/>
            <a:ext cx="54936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Life in a digital prepress print shop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99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stochastic scheduling, or “Gutenburg’s nightma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666720" y="2270160"/>
            <a:ext cx="7548120" cy="4063680"/>
            <a:chOff x="666720" y="2270160"/>
            <a:chExt cx="7548120" cy="4063680"/>
          </a:xfrm>
        </p:grpSpPr>
        <p:sp>
          <p:nvSpPr>
            <p:cNvPr id="487" name=""/>
            <p:cNvSpPr/>
            <p:nvPr/>
          </p:nvSpPr>
          <p:spPr>
            <a:xfrm>
              <a:off x="1523880" y="2283120"/>
              <a:ext cx="77220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plit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40040" y="2284920"/>
              <a:ext cx="63036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y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15440" y="2270160"/>
              <a:ext cx="114840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terpre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55480" y="4441680"/>
              <a:ext cx="86796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nd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27320" y="3228840"/>
              <a:ext cx="779760" cy="52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p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90760" y="3245040"/>
              <a:ext cx="907560" cy="52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l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20600" y="4437000"/>
              <a:ext cx="79956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of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634720" y="4437000"/>
              <a:ext cx="106776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ster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05400" y="5303520"/>
              <a:ext cx="938160" cy="52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02200" y="243504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72560" y="2435040"/>
              <a:ext cx="54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3714480" y="2613960"/>
              <a:ext cx="810720" cy="5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738240" y="3819960"/>
              <a:ext cx="845640" cy="58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201560" y="3518640"/>
              <a:ext cx="71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4687560" y="3806640"/>
              <a:ext cx="625680" cy="58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25200" y="2613960"/>
              <a:ext cx="80640" cy="165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37800" y="2613960"/>
              <a:ext cx="763920" cy="56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34960" y="4615200"/>
              <a:ext cx="59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76640" y="4779360"/>
              <a:ext cx="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02120" y="4615200"/>
              <a:ext cx="6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7" name="dis" descr=""/>
            <p:cNvPicPr/>
            <p:nvPr/>
          </p:nvPicPr>
          <p:blipFill>
            <a:blip r:embed="rId1"/>
            <a:stretch/>
          </p:blipFill>
          <p:spPr>
            <a:xfrm>
              <a:off x="666720" y="2902320"/>
              <a:ext cx="1891800" cy="15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machine3" descr=""/>
            <p:cNvPicPr/>
            <p:nvPr/>
          </p:nvPicPr>
          <p:blipFill>
            <a:blip r:embed="rId2"/>
            <a:stretch/>
          </p:blipFill>
          <p:spPr>
            <a:xfrm>
              <a:off x="2749680" y="5009040"/>
              <a:ext cx="169236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finisher" descr=""/>
            <p:cNvPicPr/>
            <p:nvPr/>
          </p:nvPicPr>
          <p:blipFill>
            <a:blip r:embed="rId3"/>
            <a:stretch/>
          </p:blipFill>
          <p:spPr>
            <a:xfrm>
              <a:off x="5907240" y="5060160"/>
              <a:ext cx="1172160" cy="127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dcp50d" descr=""/>
            <p:cNvPicPr/>
            <p:nvPr/>
          </p:nvPicPr>
          <p:blipFill>
            <a:blip r:embed="rId4"/>
            <a:stretch/>
          </p:blipFill>
          <p:spPr>
            <a:xfrm>
              <a:off x="6568200" y="2310480"/>
              <a:ext cx="1646640" cy="1792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Life in a digital prepress print shop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99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ale of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-100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’s of tasks at any given mo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s added, disappearing, changing on day-by-day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sks added, disappearing, changing on minute-by-minute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2000 - dragging digital prepress out of the 1600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d workflow management/optimization system for D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, deadline requirement determined when job arr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bs are decomposed into tasks and 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 requirements estimated for each 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sks scheduled, exec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The prediction problem in EP2000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002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do scheduling, need to estimate resource requirements for each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How long to rasterize this PostScript file on a DCP/32S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ime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features of input files (length, number of fills, area of fills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s of the target machine (clock speed, RAM, cache, disk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303280" y="2703240"/>
            <a:ext cx="5435640" cy="19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%! by HAYAKAWA,Takashi&lt;h-takasi@isea.is.titech.ac.jp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p/floor/S/add/A/copy/n/exch/i/index/J/ifelse/r/roll/e/sqrt/H{count 2 idiv ex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peat}def/q/gt/h/exp/t/and/C/neg/T/dup/Y/pop/d/mul/w/div/s/cvi/R/rlineto{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f}H/c(j1idj2id42rd)/G(140N7)/Q(31C85d4)/B(V0R0VRVC0R)/K(WCVW)/U(4C577d7)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 translate/I(3STinTinTinY)/l(993dC99Cc96raN)/k(X&amp;E9!&amp;1!J)/Z(blxC1SdC9n5dh)/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43r)/O(Y43d9rE3IaN96r63rvx2dcaN)/z(&amp;93r6IQO2Z4o3AQYaNlxS2w!)/N(3A3Axe1nwc)/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0 def/L(1i2A00053r45hNvQXz&amp;vUX&amp;UOvQXzFJ!FJ!J)/D(cjS5o32rS4oS3o)/v(6A)/b(7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F(&amp;vGYx4oGbxSd0nq&amp;3IGbxSGY4Ixwca3AlvvUkbQkdbGYx4ofwnw!&amp;vlx2w13wSb8Z4wS!J!)/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4I3Ax52r8Ia3A3Ax65rTdCS4iw5o5IxnwTTd32rCST0q&amp;eCST0q&amp;D1!&amp;EYE0!J!&amp;EYEY0!J0q)/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1 def/x(jd5o32rd4odSS)/a(1CD)/E(YYY)/o(1r)/f(nY9wn7wpSps1t1S){[n{( )T 0 4 3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ut T(/)q{T(9)q{cvn}{s}J}{($)q{[}{]}J}J cvx}forall]cvx def}H K{K{L setg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veto B fill}for Y} bind for show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Resource estimation in EP2000 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 quickly and accu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e new information quick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tic estimation intractable - so use machine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ailed simulation model too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locally-weighted regression on selected subset of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ing accurate model is time-consu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 new resource comes online, it must be calib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ong will task T take on machine 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 a series of test jobs to calibrate predi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ctive learning bits: which jobs will calibrate machine most quick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Machine learning - how to face the unknown?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uctive inference - logical 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with a set of general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rd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n_fly(x), fish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n_swim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 logical consequences of rul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du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a specific conclusion is vali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rd(Opu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n_fly(Op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tive inference - the best guess we can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with a set of specific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_fly(Polly), bird(Polly), can_fly(Albert), bird(Albert), ~can_fly(Flipper), ~bird(Flipp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du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general rule that explains examples: bird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_fly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rule to deduce new specific conclusion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rd(Opu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n_fly(Op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ctive learning in EP2000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17680" y="1447920"/>
            <a:ext cx="4216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ve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 to generate synthetic jobs to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ead select calibration jobs from a large set of available benchmark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4556160" y="1576440"/>
          <a:ext cx="4587840" cy="40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6160" y="1576440"/>
                    <a:ext cx="458784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/>
          <p:cNvSpPr/>
          <p:nvPr/>
        </p:nvSpPr>
        <p:spPr>
          <a:xfrm>
            <a:off x="7470720" y="2505960"/>
            <a:ext cx="41616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120" y="378000"/>
            <a:ext cx="5735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 few places I’ve pulled the wool over your eyes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28480" y="150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ra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thinking about which calibration job to run next, we’re spending time thinking to save time 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what point is it better to stop thinking, and jus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w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loss function for a prediction algorithm whose output is fed to a schedul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I do next?” provides a greedy solution - not a truly optimal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shaun" descr=""/>
          <p:cNvPicPr/>
          <p:nvPr/>
        </p:nvPicPr>
        <p:blipFill>
          <a:blip r:embed="rId1"/>
          <a:stretch/>
        </p:blipFill>
        <p:spPr>
          <a:xfrm>
            <a:off x="6705720" y="158760"/>
            <a:ext cx="126972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Times New Roman"/>
              </a:rPr>
              <a:t>What happens when we have a budget?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dy approach is not opt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ing experimental “budget” provides strategic information - how do we want to spend our experimen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dget may be in term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ple size - how many experime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cost - tradeoff cost/bene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known cost - must gu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calibrating on a dea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24 hours to calibrat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large set of calibration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run takes unkn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set of files for best calib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 dead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151240" y="3398760"/>
            <a:ext cx="3578400" cy="3171600"/>
            <a:chOff x="5151240" y="3398760"/>
            <a:chExt cx="3578400" cy="3171600"/>
          </a:xfrm>
        </p:grpSpPr>
        <p:sp>
          <p:nvSpPr>
            <p:cNvPr id="529" name=""/>
            <p:cNvSpPr/>
            <p:nvPr/>
          </p:nvSpPr>
          <p:spPr>
            <a:xfrm>
              <a:off x="5529240" y="3398760"/>
              <a:ext cx="3200400" cy="251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5986440" y="3703680"/>
              <a:ext cx="2225520" cy="2070000"/>
              <a:chOff x="5986440" y="3703680"/>
              <a:chExt cx="2225520" cy="2070000"/>
            </a:xfrm>
          </p:grpSpPr>
          <p:sp>
            <p:nvSpPr>
              <p:cNvPr id="531" name=""/>
              <p:cNvSpPr/>
              <p:nvPr/>
            </p:nvSpPr>
            <p:spPr>
              <a:xfrm>
                <a:off x="6215040" y="5608800"/>
                <a:ext cx="168120" cy="164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986440" y="4998960"/>
                <a:ext cx="168120" cy="16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062760" y="4465800"/>
                <a:ext cx="168120" cy="16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91360" y="4008600"/>
                <a:ext cx="168120" cy="16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900840" y="3703680"/>
                <a:ext cx="168120" cy="16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662960" y="3855960"/>
                <a:ext cx="168120" cy="16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043840" y="4465800"/>
                <a:ext cx="168120" cy="16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967520" y="5151600"/>
                <a:ext cx="168480" cy="16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129440" y="4770360"/>
                <a:ext cx="168120" cy="16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281720" y="5380200"/>
                <a:ext cx="168480" cy="16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flipV="1">
                <a:off x="6062400" y="5151600"/>
                <a:ext cx="2286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6062760" y="4618080"/>
                <a:ext cx="75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6215040" y="4160520"/>
                <a:ext cx="15228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6443640" y="3855600"/>
                <a:ext cx="4572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053120" y="3780000"/>
                <a:ext cx="6098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815240" y="4008600"/>
                <a:ext cx="30492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8043840" y="4618080"/>
                <a:ext cx="7632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7434000" y="5227560"/>
                <a:ext cx="5331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 flipV="1">
                <a:off x="7205400" y="4923000"/>
                <a:ext cx="15228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6367320" y="5151240"/>
                <a:ext cx="45720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824520" y="499896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7208280" y="6065280"/>
              <a:ext cx="113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reedy pa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977160" y="5227560"/>
              <a:ext cx="4572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51240" y="5989680"/>
              <a:ext cx="1846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timal gi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dget of 10 qu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5223960" y="5151240"/>
              <a:ext cx="685800" cy="990360"/>
              <a:chOff x="5223960" y="5151240"/>
              <a:chExt cx="685800" cy="990360"/>
            </a:xfrm>
          </p:grpSpPr>
          <p:sp>
            <p:nvSpPr>
              <p:cNvPr id="556" name=""/>
              <p:cNvSpPr/>
              <p:nvPr/>
            </p:nvSpPr>
            <p:spPr>
              <a:xfrm flipH="1">
                <a:off x="5223960" y="5151240"/>
                <a:ext cx="68580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224320" y="5760720"/>
                <a:ext cx="22860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Times New Roman"/>
              </a:rPr>
              <a:t>An algorithm for active learning on a budget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M-like 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Build feedforward greedy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best next point to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ess result of query, simulate addition of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Gauss-Seidel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ratively perturb individual points to minimize loss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n estimated effect of other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75400" y="507672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6804000" y="5343480"/>
            <a:ext cx="1009800" cy="590760"/>
            <a:chOff x="6804000" y="5343480"/>
            <a:chExt cx="1009800" cy="590760"/>
          </a:xfrm>
        </p:grpSpPr>
        <p:sp>
          <p:nvSpPr>
            <p:cNvPr id="562" name=""/>
            <p:cNvSpPr/>
            <p:nvPr/>
          </p:nvSpPr>
          <p:spPr>
            <a:xfrm>
              <a:off x="7527960" y="5629320"/>
              <a:ext cx="28584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04000" y="5343480"/>
              <a:ext cx="723960" cy="3621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7794720" y="5095800"/>
            <a:ext cx="819000" cy="609480"/>
            <a:chOff x="7794720" y="5095800"/>
            <a:chExt cx="819000" cy="609480"/>
          </a:xfrm>
        </p:grpSpPr>
        <p:sp>
          <p:nvSpPr>
            <p:cNvPr id="565" name=""/>
            <p:cNvSpPr/>
            <p:nvPr/>
          </p:nvSpPr>
          <p:spPr>
            <a:xfrm>
              <a:off x="8327880" y="5095800"/>
              <a:ext cx="28584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794720" y="5362200"/>
              <a:ext cx="533160" cy="3430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680240" y="4371840"/>
            <a:ext cx="685800" cy="742680"/>
            <a:chOff x="7680240" y="4371840"/>
            <a:chExt cx="685800" cy="742680"/>
          </a:xfrm>
        </p:grpSpPr>
        <p:sp>
          <p:nvSpPr>
            <p:cNvPr id="568" name=""/>
            <p:cNvSpPr/>
            <p:nvPr/>
          </p:nvSpPr>
          <p:spPr>
            <a:xfrm>
              <a:off x="7680240" y="4371840"/>
              <a:ext cx="28584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7908840" y="4638240"/>
              <a:ext cx="457200" cy="4762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947000" y="3686040"/>
            <a:ext cx="743040" cy="743040"/>
            <a:chOff x="7947000" y="3686040"/>
            <a:chExt cx="743040" cy="743040"/>
          </a:xfrm>
        </p:grpSpPr>
        <p:sp>
          <p:nvSpPr>
            <p:cNvPr id="571" name=""/>
            <p:cNvSpPr/>
            <p:nvPr/>
          </p:nvSpPr>
          <p:spPr>
            <a:xfrm>
              <a:off x="8404200" y="3686040"/>
              <a:ext cx="28584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947000" y="4010040"/>
              <a:ext cx="476280" cy="4190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642080" y="2828880"/>
            <a:ext cx="780840" cy="933120"/>
            <a:chOff x="7642080" y="2828880"/>
            <a:chExt cx="780840" cy="933120"/>
          </a:xfrm>
        </p:grpSpPr>
        <p:sp>
          <p:nvSpPr>
            <p:cNvPr id="574" name=""/>
            <p:cNvSpPr/>
            <p:nvPr/>
          </p:nvSpPr>
          <p:spPr>
            <a:xfrm>
              <a:off x="7642080" y="2828880"/>
              <a:ext cx="28584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 flipV="1">
              <a:off x="7908480" y="3114360"/>
              <a:ext cx="514440" cy="647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889760" y="1743120"/>
            <a:ext cx="685800" cy="1123920"/>
            <a:chOff x="7889760" y="1743120"/>
            <a:chExt cx="685800" cy="1123920"/>
          </a:xfrm>
        </p:grpSpPr>
        <p:sp>
          <p:nvSpPr>
            <p:cNvPr id="577" name=""/>
            <p:cNvSpPr/>
            <p:nvPr/>
          </p:nvSpPr>
          <p:spPr>
            <a:xfrm>
              <a:off x="8290080" y="1743120"/>
              <a:ext cx="28548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889760" y="2028960"/>
              <a:ext cx="495360" cy="8380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6187680" y="4744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i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Times New Roman"/>
              </a:rPr>
              <a:t>An algorithm for active learning on a budget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M-like 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Build feedforward greedy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best next point to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ess result of query, simulate addition of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Gauss-Seidel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ratively perturb individual points to minimize loss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n estimated effect of other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575400" y="507672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527960" y="562932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04000" y="5343480"/>
            <a:ext cx="723960" cy="36216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27880" y="509580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7794720" y="5362200"/>
            <a:ext cx="533160" cy="34308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404200" y="368604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7680240" y="4010040"/>
            <a:ext cx="743040" cy="1104480"/>
            <a:chOff x="7680240" y="4010040"/>
            <a:chExt cx="743040" cy="1104480"/>
          </a:xfrm>
        </p:grpSpPr>
        <p:sp>
          <p:nvSpPr>
            <p:cNvPr id="589" name=""/>
            <p:cNvSpPr/>
            <p:nvPr/>
          </p:nvSpPr>
          <p:spPr>
            <a:xfrm>
              <a:off x="7680240" y="4371840"/>
              <a:ext cx="285840" cy="304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7908840" y="4638240"/>
              <a:ext cx="457200" cy="4762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947000" y="4010040"/>
              <a:ext cx="476280" cy="4190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7642080" y="282888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7908480" y="3114360"/>
            <a:ext cx="514440" cy="64764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290080" y="1743120"/>
            <a:ext cx="28548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889760" y="2028960"/>
            <a:ext cx="495360" cy="83808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187680" y="4744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i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7721640" y="4009680"/>
            <a:ext cx="701640" cy="1105200"/>
            <a:chOff x="7721640" y="4009680"/>
            <a:chExt cx="701640" cy="1105200"/>
          </a:xfrm>
        </p:grpSpPr>
        <p:sp>
          <p:nvSpPr>
            <p:cNvPr id="598" name=""/>
            <p:cNvSpPr/>
            <p:nvPr/>
          </p:nvSpPr>
          <p:spPr>
            <a:xfrm>
              <a:off x="7721640" y="4168800"/>
              <a:ext cx="285840" cy="304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7948440" y="4425840"/>
              <a:ext cx="417600" cy="6890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7997760" y="4009680"/>
              <a:ext cx="425520" cy="2365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7435800" y="4009680"/>
            <a:ext cx="976320" cy="1103760"/>
            <a:chOff x="7435800" y="4009680"/>
            <a:chExt cx="976320" cy="1103760"/>
          </a:xfrm>
        </p:grpSpPr>
        <p:sp>
          <p:nvSpPr>
            <p:cNvPr id="602" name=""/>
            <p:cNvSpPr/>
            <p:nvPr/>
          </p:nvSpPr>
          <p:spPr>
            <a:xfrm>
              <a:off x="7435800" y="4351320"/>
              <a:ext cx="285840" cy="304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7664040" y="4618080"/>
              <a:ext cx="700200" cy="495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7702560" y="4009680"/>
              <a:ext cx="709560" cy="3985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7608960" y="4010040"/>
            <a:ext cx="803160" cy="1095120"/>
            <a:chOff x="7608960" y="4010040"/>
            <a:chExt cx="803160" cy="1095120"/>
          </a:xfrm>
        </p:grpSpPr>
        <p:sp>
          <p:nvSpPr>
            <p:cNvPr id="606" name=""/>
            <p:cNvSpPr/>
            <p:nvPr/>
          </p:nvSpPr>
          <p:spPr>
            <a:xfrm>
              <a:off x="7608960" y="4595760"/>
              <a:ext cx="285840" cy="304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7837560" y="4862160"/>
              <a:ext cx="528480" cy="2430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7875720" y="4010040"/>
              <a:ext cx="536400" cy="6429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7902720" y="4021200"/>
            <a:ext cx="500040" cy="1103040"/>
            <a:chOff x="7902720" y="4021200"/>
            <a:chExt cx="500040" cy="1103040"/>
          </a:xfrm>
        </p:grpSpPr>
        <p:sp>
          <p:nvSpPr>
            <p:cNvPr id="610" name=""/>
            <p:cNvSpPr/>
            <p:nvPr/>
          </p:nvSpPr>
          <p:spPr>
            <a:xfrm>
              <a:off x="7902720" y="4422600"/>
              <a:ext cx="285480" cy="304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 flipV="1">
              <a:off x="8130960" y="4689000"/>
              <a:ext cx="223560" cy="4352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8169120" y="4021200"/>
              <a:ext cx="233640" cy="458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477200" y="3989520"/>
            <a:ext cx="936720" cy="1136160"/>
            <a:chOff x="7477200" y="3989520"/>
            <a:chExt cx="936720" cy="1136160"/>
          </a:xfrm>
        </p:grpSpPr>
        <p:sp>
          <p:nvSpPr>
            <p:cNvPr id="614" name=""/>
            <p:cNvSpPr/>
            <p:nvPr/>
          </p:nvSpPr>
          <p:spPr>
            <a:xfrm>
              <a:off x="7477200" y="4545000"/>
              <a:ext cx="28584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7705800" y="4811400"/>
              <a:ext cx="681120" cy="314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743960" y="3989520"/>
              <a:ext cx="669960" cy="612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7477200" y="3989520"/>
            <a:ext cx="936720" cy="1136160"/>
            <a:chOff x="7477200" y="3989520"/>
            <a:chExt cx="936720" cy="1136160"/>
          </a:xfrm>
        </p:grpSpPr>
        <p:sp>
          <p:nvSpPr>
            <p:cNvPr id="618" name=""/>
            <p:cNvSpPr/>
            <p:nvPr/>
          </p:nvSpPr>
          <p:spPr>
            <a:xfrm>
              <a:off x="7477200" y="4545000"/>
              <a:ext cx="285840" cy="304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 flipV="1">
              <a:off x="7705800" y="4811400"/>
              <a:ext cx="681120" cy="3142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7743960" y="3989520"/>
              <a:ext cx="669960" cy="6127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7632720" y="2822400"/>
            <a:ext cx="285840" cy="304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7661160" y="4017960"/>
            <a:ext cx="743040" cy="1104480"/>
            <a:chOff x="7661160" y="4017960"/>
            <a:chExt cx="743040" cy="1104480"/>
          </a:xfrm>
        </p:grpSpPr>
        <p:sp>
          <p:nvSpPr>
            <p:cNvPr id="623" name=""/>
            <p:cNvSpPr/>
            <p:nvPr/>
          </p:nvSpPr>
          <p:spPr>
            <a:xfrm>
              <a:off x="7661160" y="4380120"/>
              <a:ext cx="285840" cy="304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7889760" y="4646160"/>
              <a:ext cx="457200" cy="4762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7927920" y="4017960"/>
              <a:ext cx="476280" cy="4190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7670880" y="4017960"/>
            <a:ext cx="743040" cy="1104480"/>
            <a:chOff x="7670880" y="4017960"/>
            <a:chExt cx="743040" cy="1104480"/>
          </a:xfrm>
        </p:grpSpPr>
        <p:sp>
          <p:nvSpPr>
            <p:cNvPr id="627" name=""/>
            <p:cNvSpPr/>
            <p:nvPr/>
          </p:nvSpPr>
          <p:spPr>
            <a:xfrm>
              <a:off x="7670880" y="4380120"/>
              <a:ext cx="285840" cy="304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7899480" y="4646160"/>
              <a:ext cx="457200" cy="4762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937640" y="4017960"/>
              <a:ext cx="476280" cy="4190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Times New Roman"/>
              </a:rPr>
              <a:t>An algorithm for active learning on a budget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M-like 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Build feedforward greedy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best next point to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ess result of query, simulate addition of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Gauss-Seidel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ratively perturb individual points to minimize loss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n estimated effect of other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increase in computational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edy method requir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tim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rative method requir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(k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number of iterative perturb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575400" y="507672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27960" y="562932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04000" y="5343480"/>
            <a:ext cx="723960" cy="36216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327880" y="509580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7794720" y="5362200"/>
            <a:ext cx="533160" cy="34308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404200" y="368604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42080" y="282888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 flipV="1">
            <a:off x="7908480" y="3114360"/>
            <a:ext cx="514440" cy="64764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290080" y="1743120"/>
            <a:ext cx="28548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7889760" y="2028960"/>
            <a:ext cx="495360" cy="83808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187680" y="4744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i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7477200" y="3989520"/>
            <a:ext cx="936720" cy="1136160"/>
            <a:chOff x="7477200" y="3989520"/>
            <a:chExt cx="936720" cy="1136160"/>
          </a:xfrm>
        </p:grpSpPr>
        <p:sp>
          <p:nvSpPr>
            <p:cNvPr id="644" name=""/>
            <p:cNvSpPr/>
            <p:nvPr/>
          </p:nvSpPr>
          <p:spPr>
            <a:xfrm>
              <a:off x="7477200" y="4545000"/>
              <a:ext cx="28584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7705800" y="4811400"/>
              <a:ext cx="681120" cy="314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7743960" y="3989520"/>
              <a:ext cx="669960" cy="612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7632720" y="2822400"/>
            <a:ext cx="285840" cy="304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Times New Roman"/>
              </a:rPr>
              <a:t>An algorithm for active learning on a budget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M-like 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Build feedforward greedy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best next point to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ess result of query, simulate addition of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Gauss-Seidel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ratively perturb individual points to minimize loss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n estimated effect of other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increase in computational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edy method requir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tim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rative method requir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(k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number of iterative perturb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does computational cost outweigh benef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75400" y="507672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527960" y="562932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04000" y="5343480"/>
            <a:ext cx="723960" cy="36216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327880" y="509580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7794720" y="5362200"/>
            <a:ext cx="533160" cy="34308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404200" y="368604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42080" y="2828880"/>
            <a:ext cx="2858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7908480" y="3114360"/>
            <a:ext cx="514440" cy="64764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290080" y="1743120"/>
            <a:ext cx="28548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7889760" y="2028960"/>
            <a:ext cx="495360" cy="83808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187680" y="4744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i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7477200" y="3989520"/>
            <a:ext cx="936720" cy="1136160"/>
            <a:chOff x="7477200" y="3989520"/>
            <a:chExt cx="936720" cy="1136160"/>
          </a:xfrm>
        </p:grpSpPr>
        <p:sp>
          <p:nvSpPr>
            <p:cNvPr id="662" name=""/>
            <p:cNvSpPr/>
            <p:nvPr/>
          </p:nvSpPr>
          <p:spPr>
            <a:xfrm>
              <a:off x="7477200" y="4545000"/>
              <a:ext cx="28584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7705800" y="4811400"/>
              <a:ext cx="681120" cy="314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7743960" y="3989520"/>
              <a:ext cx="669960" cy="612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7632720" y="2822400"/>
            <a:ext cx="285840" cy="304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arm" descr=""/>
          <p:cNvPicPr/>
          <p:nvPr/>
        </p:nvPicPr>
        <p:blipFill>
          <a:blip r:embed="rId1"/>
          <a:stretch/>
        </p:blipFill>
        <p:spPr>
          <a:xfrm>
            <a:off x="6799320" y="2965320"/>
            <a:ext cx="2141640" cy="21654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2076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Times New Roman"/>
              </a:rPr>
              <a:t>Active learning on a budget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454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kinematics of a planar two-joint 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s are joint angl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are Cartesian coordinates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 noise in angle sensors, effectors produces non-Gaussian noise in Cartesian output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function is uniform MSE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successi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to minimize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versions of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less: successive queries can be arbitrary values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state: successive queries must be within r of pri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locally weighted regression as model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75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Times New Roman"/>
              </a:rPr>
              <a:t>Active learning on a budget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6040" y="1390680"/>
            <a:ext cx="7875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less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p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1-2 hours for each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little improvement over greedy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uncon" descr=""/>
          <p:cNvPicPr/>
          <p:nvPr/>
        </p:nvPicPr>
        <p:blipFill>
          <a:blip r:embed="rId1"/>
          <a:stretch/>
        </p:blipFill>
        <p:spPr>
          <a:xfrm>
            <a:off x="690480" y="3017880"/>
            <a:ext cx="46101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con1" descr=""/>
          <p:cNvPicPr/>
          <p:nvPr/>
        </p:nvPicPr>
        <p:blipFill>
          <a:blip r:embed="rId1"/>
          <a:stretch/>
        </p:blipFill>
        <p:spPr>
          <a:xfrm>
            <a:off x="925560" y="3438360"/>
            <a:ext cx="4565520" cy="3419640"/>
          </a:xfrm>
          <a:prstGeom prst="rect">
            <a:avLst/>
          </a:prstGeom>
          <a:ln w="0">
            <a:noFill/>
          </a:ln>
        </p:spPr>
      </p:pic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425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Times New Roman"/>
              </a:rPr>
              <a:t>Active learning on a budget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36040" y="1390680"/>
            <a:ext cx="7875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with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p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1-2 hours for each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ficant improvement over greedy learning, but high 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times performs very poo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is clearly not achieving full potential of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Machine learning - how to face the unknown?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have a complete rule base, deductive inference is more power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prove that our prediction/estimate is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frequently, don’t have all the information needed for deductiv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hould I push the big red button now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hould I buy 5000 shares of WidgetTech stock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 this email from my manager important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 that ‘Chocolate Eggplant Surprise’ actually edible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se situations, resort to inductiv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Great - where else can this stuff be used?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classification and fil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 model of what sort of articles I like to s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 how to file my email into the right mailbo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 what I’m looking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n’t pester me - only ask me important, useful question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eliminate &gt; 90% of qu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ction will give us the most information about environm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camera positions to support/refute hypotheses about scene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torques/contact angles of robotic effector to provide information about unknown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course/heading to explore uncharted ter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05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 learning - what have we lear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it’s a darned good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learning - what have we lear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selecting training examples can be worthw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tstrapping” off of model estimates can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, greed is 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o we go from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efficient sequential query strateg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row from planning 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ly rational adaptive systems - when is optimality  worth the extra effort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row from work on ‘value of informatio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orts of applications require estimating unkn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cal diagnosis: symptom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ing oodles of money: market featur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morrow’s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ing: job properti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leti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botic control: motor torqu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m 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generally: stat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ti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use of whatever information we’ve g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have complete model, but need to fill in unknown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have partial model - know ordering of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know what relevant features 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have nothing but a wild gu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Prediction/estimation with inductive inference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How to predict/estimate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wo things for inductive in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Data - examples of the relation we want to e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Some means of interpolating/extrapolating data to new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(2) for the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How to interpolate/extrapolate data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976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al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/non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93200" y="1668960"/>
            <a:ext cx="1510200" cy="1352520"/>
            <a:chOff x="5893200" y="1668960"/>
            <a:chExt cx="1510200" cy="1352520"/>
          </a:xfrm>
        </p:grpSpPr>
        <p:grpSp>
          <p:nvGrpSpPr>
            <p:cNvPr id="68" name=""/>
            <p:cNvGrpSpPr/>
            <p:nvPr/>
          </p:nvGrpSpPr>
          <p:grpSpPr>
            <a:xfrm>
              <a:off x="6173280" y="1767240"/>
              <a:ext cx="961560" cy="1154880"/>
              <a:chOff x="6173280" y="1767240"/>
              <a:chExt cx="961560" cy="1154880"/>
            </a:xfrm>
          </p:grpSpPr>
          <p:sp>
            <p:nvSpPr>
              <p:cNvPr id="69" name=""/>
              <p:cNvSpPr/>
              <p:nvPr/>
            </p:nvSpPr>
            <p:spPr>
              <a:xfrm flipV="1">
                <a:off x="6250680" y="1824120"/>
                <a:ext cx="330480" cy="22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6235920" y="2022840"/>
                <a:ext cx="330480" cy="22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6220080" y="2237400"/>
                <a:ext cx="330480" cy="22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6240960" y="2433600"/>
                <a:ext cx="330480" cy="22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240960" y="2027880"/>
                <a:ext cx="3034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243480" y="2232720"/>
                <a:ext cx="3034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6253200" y="2456640"/>
                <a:ext cx="3034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6228720" y="2644200"/>
                <a:ext cx="3034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243480" y="2039040"/>
                <a:ext cx="330480" cy="22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262920" y="2236320"/>
                <a:ext cx="330480" cy="22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256800" y="2459160"/>
                <a:ext cx="330480" cy="22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231240" y="2665080"/>
                <a:ext cx="330480" cy="22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flipV="1">
                <a:off x="6571440" y="1807560"/>
                <a:ext cx="510120" cy="53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flipV="1">
                <a:off x="6571440" y="2027880"/>
                <a:ext cx="510120" cy="3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flipV="1">
                <a:off x="6562800" y="2232720"/>
                <a:ext cx="527400" cy="10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6581520" y="2347200"/>
                <a:ext cx="491760" cy="10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6562800" y="2347200"/>
                <a:ext cx="518760" cy="3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6581520" y="2356920"/>
                <a:ext cx="500400" cy="51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4920" y="2181600"/>
                <a:ext cx="116640" cy="105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514920" y="1974240"/>
                <a:ext cx="116640" cy="10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6360" y="1767240"/>
                <a:ext cx="116640" cy="10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16360" y="2401920"/>
                <a:ext cx="116640" cy="10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514920" y="2816280"/>
                <a:ext cx="116640" cy="10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16360" y="2609280"/>
                <a:ext cx="116640" cy="105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18200" y="2276640"/>
                <a:ext cx="116640" cy="105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74360" y="1983960"/>
                <a:ext cx="116640" cy="10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173280" y="2605320"/>
                <a:ext cx="116640" cy="10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173280" y="2398320"/>
                <a:ext cx="116640" cy="105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174360" y="2191320"/>
                <a:ext cx="116640" cy="10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rot="16200000">
              <a:off x="5465520" y="2172600"/>
              <a:ext cx="116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put feat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6573600" y="219168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edicted 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916600" y="3063960"/>
            <a:ext cx="1626120" cy="980640"/>
            <a:chOff x="5916600" y="3063960"/>
            <a:chExt cx="1626120" cy="980640"/>
          </a:xfrm>
        </p:grpSpPr>
        <p:sp>
          <p:nvSpPr>
            <p:cNvPr id="101" name=""/>
            <p:cNvSpPr/>
            <p:nvPr/>
          </p:nvSpPr>
          <p:spPr>
            <a:xfrm>
              <a:off x="5920920" y="3319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89360" y="3472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03720" y="3737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95800" y="359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84560" y="3156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72000" y="3290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134120" y="3063960"/>
              <a:ext cx="21420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7142400" y="3514320"/>
              <a:ext cx="26496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866280" y="3503520"/>
              <a:ext cx="27936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735600" y="3610080"/>
              <a:ext cx="127080" cy="2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6512040" y="3217680"/>
              <a:ext cx="35712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340680" y="3222720"/>
              <a:ext cx="17136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916600" y="3672000"/>
              <a:ext cx="4240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29520" y="3683160"/>
              <a:ext cx="212760" cy="2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318280" y="4220640"/>
            <a:ext cx="2584440" cy="1513800"/>
            <a:chOff x="5318280" y="4220640"/>
            <a:chExt cx="2584440" cy="1513800"/>
          </a:xfrm>
        </p:grpSpPr>
        <p:sp>
          <p:nvSpPr>
            <p:cNvPr id="116" name=""/>
            <p:cNvSpPr/>
            <p:nvPr/>
          </p:nvSpPr>
          <p:spPr>
            <a:xfrm>
              <a:off x="5895360" y="468612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98680" y="478944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52400" y="468612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07920" y="453384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64960" y="447048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04960" y="453384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64880" y="457200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64960" y="467352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66480" y="467352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35280" y="458640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87480" y="433224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3800" y="477504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26760" y="487512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5640" y="46371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74560" y="462276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77520" y="472284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33760" y="46371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82720" y="448452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59040" y="43815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64880" y="447048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30080" y="482436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44880" y="448452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41560" y="458640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44880" y="468612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49640" y="468612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41560" y="448452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6311880" y="4220640"/>
              <a:ext cx="928800" cy="1219320"/>
              <a:chOff x="6311880" y="4220640"/>
              <a:chExt cx="928800" cy="1219320"/>
            </a:xfrm>
          </p:grpSpPr>
          <p:sp>
            <p:nvSpPr>
              <p:cNvPr id="143" name=""/>
              <p:cNvSpPr/>
              <p:nvPr/>
            </p:nvSpPr>
            <p:spPr>
              <a:xfrm>
                <a:off x="6311880" y="5163840"/>
                <a:ext cx="928800" cy="273960"/>
              </a:xfrm>
              <a:custGeom>
                <a:avLst/>
                <a:gdLst/>
                <a:ahLst/>
                <a:rect l="l" t="t" r="r" b="b"/>
                <a:pathLst>
                  <a:path w="865" h="259">
                    <a:moveTo>
                      <a:pt x="0" y="258"/>
                    </a:moveTo>
                    <a:lnTo>
                      <a:pt x="15" y="249"/>
                    </a:lnTo>
                    <a:lnTo>
                      <a:pt x="24" y="249"/>
                    </a:lnTo>
                    <a:lnTo>
                      <a:pt x="33" y="249"/>
                    </a:lnTo>
                    <a:lnTo>
                      <a:pt x="42" y="252"/>
                    </a:lnTo>
                    <a:lnTo>
                      <a:pt x="51" y="252"/>
                    </a:lnTo>
                    <a:lnTo>
                      <a:pt x="60" y="252"/>
                    </a:lnTo>
                    <a:lnTo>
                      <a:pt x="69" y="255"/>
                    </a:lnTo>
                    <a:lnTo>
                      <a:pt x="78" y="255"/>
                    </a:lnTo>
                    <a:lnTo>
                      <a:pt x="87" y="255"/>
                    </a:lnTo>
                    <a:lnTo>
                      <a:pt x="96" y="255"/>
                    </a:lnTo>
                    <a:lnTo>
                      <a:pt x="105" y="252"/>
                    </a:lnTo>
                    <a:lnTo>
                      <a:pt x="114" y="249"/>
                    </a:lnTo>
                    <a:lnTo>
                      <a:pt x="123" y="249"/>
                    </a:lnTo>
                    <a:lnTo>
                      <a:pt x="132" y="246"/>
                    </a:lnTo>
                    <a:lnTo>
                      <a:pt x="141" y="243"/>
                    </a:lnTo>
                    <a:lnTo>
                      <a:pt x="150" y="240"/>
                    </a:lnTo>
                    <a:lnTo>
                      <a:pt x="159" y="237"/>
                    </a:lnTo>
                    <a:lnTo>
                      <a:pt x="168" y="231"/>
                    </a:lnTo>
                    <a:lnTo>
                      <a:pt x="177" y="228"/>
                    </a:lnTo>
                    <a:lnTo>
                      <a:pt x="186" y="225"/>
                    </a:lnTo>
                    <a:lnTo>
                      <a:pt x="195" y="219"/>
                    </a:lnTo>
                    <a:lnTo>
                      <a:pt x="204" y="216"/>
                    </a:lnTo>
                    <a:lnTo>
                      <a:pt x="213" y="213"/>
                    </a:lnTo>
                    <a:lnTo>
                      <a:pt x="222" y="207"/>
                    </a:lnTo>
                    <a:lnTo>
                      <a:pt x="231" y="204"/>
                    </a:lnTo>
                    <a:lnTo>
                      <a:pt x="240" y="201"/>
                    </a:lnTo>
                    <a:lnTo>
                      <a:pt x="246" y="192"/>
                    </a:lnTo>
                    <a:lnTo>
                      <a:pt x="255" y="186"/>
                    </a:lnTo>
                    <a:lnTo>
                      <a:pt x="264" y="177"/>
                    </a:lnTo>
                    <a:lnTo>
                      <a:pt x="273" y="171"/>
                    </a:lnTo>
                    <a:lnTo>
                      <a:pt x="282" y="162"/>
                    </a:lnTo>
                    <a:lnTo>
                      <a:pt x="291" y="153"/>
                    </a:lnTo>
                    <a:lnTo>
                      <a:pt x="300" y="147"/>
                    </a:lnTo>
                    <a:lnTo>
                      <a:pt x="303" y="138"/>
                    </a:lnTo>
                    <a:lnTo>
                      <a:pt x="309" y="129"/>
                    </a:lnTo>
                    <a:lnTo>
                      <a:pt x="315" y="120"/>
                    </a:lnTo>
                    <a:lnTo>
                      <a:pt x="318" y="111"/>
                    </a:lnTo>
                    <a:lnTo>
                      <a:pt x="324" y="102"/>
                    </a:lnTo>
                    <a:lnTo>
                      <a:pt x="330" y="93"/>
                    </a:lnTo>
                    <a:lnTo>
                      <a:pt x="336" y="84"/>
                    </a:lnTo>
                    <a:lnTo>
                      <a:pt x="342" y="75"/>
                    </a:lnTo>
                    <a:lnTo>
                      <a:pt x="348" y="66"/>
                    </a:lnTo>
                    <a:lnTo>
                      <a:pt x="354" y="57"/>
                    </a:lnTo>
                    <a:lnTo>
                      <a:pt x="360" y="48"/>
                    </a:lnTo>
                    <a:lnTo>
                      <a:pt x="363" y="39"/>
                    </a:lnTo>
                    <a:lnTo>
                      <a:pt x="372" y="33"/>
                    </a:lnTo>
                    <a:lnTo>
                      <a:pt x="378" y="24"/>
                    </a:lnTo>
                    <a:lnTo>
                      <a:pt x="387" y="18"/>
                    </a:lnTo>
                    <a:lnTo>
                      <a:pt x="396" y="12"/>
                    </a:lnTo>
                    <a:lnTo>
                      <a:pt x="405" y="6"/>
                    </a:lnTo>
                    <a:lnTo>
                      <a:pt x="414" y="3"/>
                    </a:lnTo>
                    <a:lnTo>
                      <a:pt x="423" y="3"/>
                    </a:lnTo>
                    <a:lnTo>
                      <a:pt x="432" y="3"/>
                    </a:lnTo>
                    <a:lnTo>
                      <a:pt x="441" y="3"/>
                    </a:lnTo>
                    <a:lnTo>
                      <a:pt x="450" y="3"/>
                    </a:lnTo>
                    <a:lnTo>
                      <a:pt x="459" y="0"/>
                    </a:lnTo>
                    <a:lnTo>
                      <a:pt x="468" y="3"/>
                    </a:lnTo>
                    <a:lnTo>
                      <a:pt x="477" y="6"/>
                    </a:lnTo>
                    <a:lnTo>
                      <a:pt x="486" y="12"/>
                    </a:lnTo>
                    <a:lnTo>
                      <a:pt x="495" y="18"/>
                    </a:lnTo>
                    <a:lnTo>
                      <a:pt x="504" y="21"/>
                    </a:lnTo>
                    <a:lnTo>
                      <a:pt x="513" y="24"/>
                    </a:lnTo>
                    <a:lnTo>
                      <a:pt x="522" y="33"/>
                    </a:lnTo>
                    <a:lnTo>
                      <a:pt x="528" y="42"/>
                    </a:lnTo>
                    <a:lnTo>
                      <a:pt x="537" y="48"/>
                    </a:lnTo>
                    <a:lnTo>
                      <a:pt x="546" y="54"/>
                    </a:lnTo>
                    <a:lnTo>
                      <a:pt x="555" y="60"/>
                    </a:lnTo>
                    <a:lnTo>
                      <a:pt x="558" y="69"/>
                    </a:lnTo>
                    <a:lnTo>
                      <a:pt x="564" y="78"/>
                    </a:lnTo>
                    <a:lnTo>
                      <a:pt x="570" y="87"/>
                    </a:lnTo>
                    <a:lnTo>
                      <a:pt x="579" y="96"/>
                    </a:lnTo>
                    <a:lnTo>
                      <a:pt x="588" y="105"/>
                    </a:lnTo>
                    <a:lnTo>
                      <a:pt x="591" y="114"/>
                    </a:lnTo>
                    <a:lnTo>
                      <a:pt x="600" y="120"/>
                    </a:lnTo>
                    <a:lnTo>
                      <a:pt x="606" y="129"/>
                    </a:lnTo>
                    <a:lnTo>
                      <a:pt x="612" y="138"/>
                    </a:lnTo>
                    <a:lnTo>
                      <a:pt x="621" y="144"/>
                    </a:lnTo>
                    <a:lnTo>
                      <a:pt x="630" y="153"/>
                    </a:lnTo>
                    <a:lnTo>
                      <a:pt x="639" y="159"/>
                    </a:lnTo>
                    <a:lnTo>
                      <a:pt x="645" y="168"/>
                    </a:lnTo>
                    <a:lnTo>
                      <a:pt x="654" y="174"/>
                    </a:lnTo>
                    <a:lnTo>
                      <a:pt x="660" y="183"/>
                    </a:lnTo>
                    <a:lnTo>
                      <a:pt x="669" y="189"/>
                    </a:lnTo>
                    <a:lnTo>
                      <a:pt x="678" y="192"/>
                    </a:lnTo>
                    <a:lnTo>
                      <a:pt x="687" y="195"/>
                    </a:lnTo>
                    <a:lnTo>
                      <a:pt x="696" y="201"/>
                    </a:lnTo>
                    <a:lnTo>
                      <a:pt x="702" y="210"/>
                    </a:lnTo>
                    <a:lnTo>
                      <a:pt x="711" y="216"/>
                    </a:lnTo>
                    <a:lnTo>
                      <a:pt x="720" y="219"/>
                    </a:lnTo>
                    <a:lnTo>
                      <a:pt x="729" y="222"/>
                    </a:lnTo>
                    <a:lnTo>
                      <a:pt x="738" y="228"/>
                    </a:lnTo>
                    <a:lnTo>
                      <a:pt x="747" y="231"/>
                    </a:lnTo>
                    <a:lnTo>
                      <a:pt x="756" y="234"/>
                    </a:lnTo>
                    <a:lnTo>
                      <a:pt x="765" y="234"/>
                    </a:lnTo>
                    <a:lnTo>
                      <a:pt x="774" y="240"/>
                    </a:lnTo>
                    <a:lnTo>
                      <a:pt x="783" y="243"/>
                    </a:lnTo>
                    <a:lnTo>
                      <a:pt x="792" y="243"/>
                    </a:lnTo>
                    <a:lnTo>
                      <a:pt x="801" y="249"/>
                    </a:lnTo>
                    <a:lnTo>
                      <a:pt x="810" y="249"/>
                    </a:lnTo>
                    <a:lnTo>
                      <a:pt x="819" y="249"/>
                    </a:lnTo>
                    <a:lnTo>
                      <a:pt x="828" y="252"/>
                    </a:lnTo>
                    <a:lnTo>
                      <a:pt x="837" y="252"/>
                    </a:lnTo>
                    <a:lnTo>
                      <a:pt x="846" y="252"/>
                    </a:lnTo>
                    <a:lnTo>
                      <a:pt x="855" y="252"/>
                    </a:lnTo>
                    <a:lnTo>
                      <a:pt x="864" y="252"/>
                    </a:lnTo>
                    <a:lnTo>
                      <a:pt x="864" y="258"/>
                    </a:lnTo>
                  </a:path>
                </a:pathLst>
              </a:custGeom>
              <a:solidFill>
                <a:srgbClr val="3333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6788520" y="4220640"/>
                <a:ext cx="0" cy="12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rot="1860000">
              <a:off x="6397920" y="4638600"/>
              <a:ext cx="819000" cy="20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05680" y="4383000"/>
              <a:ext cx="1317600" cy="781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40160" y="5207040"/>
              <a:ext cx="591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kern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861160" y="4735440"/>
              <a:ext cx="92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84560" y="4233960"/>
              <a:ext cx="780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weigh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poi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24400" y="4281480"/>
              <a:ext cx="1184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local regres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18280" y="4524480"/>
              <a:ext cx="80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Book Antiqua"/>
                </a:rPr>
                <a:t>predicted 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9920" y="5489640"/>
              <a:ext cx="633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input 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42040" y="5440320"/>
              <a:ext cx="25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0976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al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/non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parame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-nearest neighb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eird continuum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ly-weighted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vect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976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al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/non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parame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-nearest neighb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5155920" y="3657600"/>
            <a:ext cx="3167280" cy="2548440"/>
            <a:chOff x="5155920" y="3657600"/>
            <a:chExt cx="3167280" cy="2548440"/>
          </a:xfrm>
        </p:grpSpPr>
        <p:sp>
          <p:nvSpPr>
            <p:cNvPr id="157" name=""/>
            <p:cNvSpPr/>
            <p:nvPr/>
          </p:nvSpPr>
          <p:spPr>
            <a:xfrm>
              <a:off x="5600520" y="3657600"/>
              <a:ext cx="2722680" cy="212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08480" y="4182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60760" y="43351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13280" y="45795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00600" y="4339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17960" y="39733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02920" y="49827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55560" y="513540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07720" y="537984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95040" y="51400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12760" y="477324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14400" y="586872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ime-ba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4511880" y="4556880"/>
              <a:ext cx="162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ocolate-con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A machine learning example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build “dessert classifi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 whether dessert will be ed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her data set of dess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 input features “time-baked”, “chocolate-content”, and output feature “is-edibl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 simple linear class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ptron algorithm, many oth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find a separating 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one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36240" y="41572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842080" y="3808440"/>
            <a:ext cx="2076480" cy="1789200"/>
            <a:chOff x="5842080" y="3808440"/>
            <a:chExt cx="2076480" cy="1789200"/>
          </a:xfrm>
        </p:grpSpPr>
        <p:sp>
          <p:nvSpPr>
            <p:cNvPr id="174" name=""/>
            <p:cNvSpPr/>
            <p:nvPr/>
          </p:nvSpPr>
          <p:spPr>
            <a:xfrm flipV="1">
              <a:off x="5842080" y="3808440"/>
              <a:ext cx="2076480" cy="178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26520" y="41605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867280" y="3786120"/>
            <a:ext cx="2076480" cy="1789200"/>
            <a:chOff x="5867280" y="3786120"/>
            <a:chExt cx="2076480" cy="1789200"/>
          </a:xfrm>
        </p:grpSpPr>
        <p:sp>
          <p:nvSpPr>
            <p:cNvPr id="177" name=""/>
            <p:cNvSpPr/>
            <p:nvPr/>
          </p:nvSpPr>
          <p:spPr>
            <a:xfrm flipV="1">
              <a:off x="5867280" y="3786120"/>
              <a:ext cx="2076480" cy="178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63240" y="413820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30T21:13:54Z</dcterms:created>
  <dc:creator>David Cohn</dc:creator>
  <dc:description/>
  <dc:language>en-US</dc:language>
  <cp:lastModifiedBy>David Cohn</cp:lastModifiedBy>
  <cp:lastPrinted>1999-09-22T22:21:24Z</cp:lastPrinted>
  <dcterms:modified xsi:type="dcterms:W3CDTF">1999-10-06T14:50:49Z</dcterms:modified>
  <cp:revision>125</cp:revision>
  <dc:subject/>
  <dc:title>No Slide Title</dc:title>
</cp:coreProperties>
</file>