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Mediating Among Diverse Data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14300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hn Ockerbl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is Or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nuary 20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t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Garlan (Ch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iam L. Scher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annette 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ter Schwarz, IBM Alma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What do I mean by “superior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523880"/>
            <a:ext cx="716292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Arial"/>
              </a:rPr>
              <a:t>It’s superior in these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ressive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s a wide &amp; extendable range of data types (brea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bes them in detailed, useful ways (dep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os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clients to use current, legacy, and future formats even if never seen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low-cost and incremental integration of many existing programs, formats, data servers,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l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of formats, services, users can grow without 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Arial"/>
              </a:rPr>
              <a:t>Furthermore, it’s fea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be implemented efficiently, correctly, robus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Remainder of this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Arial"/>
              </a:rPr>
              <a:t>The Problem: Diversity of data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Arial"/>
              </a:rPr>
              <a:t>How to solve it: My thesis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M exampl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n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, brokers, con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(e.g. composability, scaling); case studies (e.g. TOM Conversion Service, TOM Frame 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ed work,  Future work, Con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Sending my mail message to 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70080" y="1612800"/>
            <a:ext cx="65786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Making the map viewable via 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1714680"/>
            <a:ext cx="65278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TOM Basic Data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523880"/>
            <a:ext cx="7162920" cy="45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(non-mutable)  typ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can come from anywhere, be passed about (cf. M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pecifies abstractly what can be done with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es attributes, methods, with slots for spec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enco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mapping from one type to another type that represents the origina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ually maps to a simpler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``lowest-level’’ type: byte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representation of a type as a byte sequen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 type plus a sequence of enco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have conversions associated with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Immutable obje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629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es this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OM, an object is a (typed) value, not a variable whose value can be set or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fore, objects are immutable (read-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, TOM supports new objects, environment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are immutable objects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can come from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can be sent anywhere or trans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simplifies the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’re insufficient for many general-purpos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sufficient for our special purpose (allowing unfamiliar formats to be understood or conver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Example: A simple mail message as a TOM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ue is the content of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s simple ``mail message’’ 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: sender, recipients, header, body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: priority(params...), getsegment(num)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``mail message’’ type has enco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``standard’’ encoding is RFC822 encoding (as ASCII byte seq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t is  type with enco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``mail mesage’’ type in ``standard’’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ld also have further encodings (e.g. mail hea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M ships objects around with format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Part of the TOM type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98960" y="2109960"/>
            <a:ext cx="89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13360" y="2948040"/>
            <a:ext cx="1111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203480" y="294804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203480" y="4014720"/>
            <a:ext cx="654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955960" y="2871720"/>
            <a:ext cx="1428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75480" y="4091040"/>
            <a:ext cx="1670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l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708440" y="4091040"/>
            <a:ext cx="946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h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42160" y="2871720"/>
            <a:ext cx="1911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133720" y="2362320"/>
            <a:ext cx="1904760" cy="53316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962520" y="2438280"/>
            <a:ext cx="304560" cy="45720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2438280"/>
            <a:ext cx="838080" cy="53352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286000"/>
            <a:ext cx="2209680" cy="53352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181480" y="3352680"/>
            <a:ext cx="228600" cy="76212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3352680"/>
            <a:ext cx="533520" cy="76212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086600" y="3276720"/>
            <a:ext cx="533520" cy="83808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47920" y="3276720"/>
            <a:ext cx="152280" cy="68580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50840" y="5234040"/>
            <a:ext cx="6877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types are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substitu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 supertypes (cf. Liskov &amp; W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Substitutable ty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a ``substitutable’’ subtyping model, objects of type T behave exactly  like objects of T’s supertypes when used through supertype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antics of subtypes implies semantics of super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``Abstraction mappings’’ exist between types and super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are the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allow unfamiliar types to be used with confidence through familiar supertype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O systems do not require substitutability; easier with a read-only 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provide guarantees of the information preserved by a type (useful in characterizing conversions..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What can you do with an object in an unfamiliar form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know it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can use it through its interface (attributes, meth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  getting “sender”, “recipients” attributes of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know one of it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encodin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can use it through its encode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 displaying the text encoding of th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don’t know its type, but know one of it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upertyp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use its supertype’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 using “element”, “describe” methods of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may be 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onver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a known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 Powerpoint slide format to GIF image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The Information Explo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users, servers, data, grew by orders of magnitude in last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so, lots of data off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anets, databases, tape archives, punchcard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d by lots of programs in many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 Web pages, MS Word documents, library catalog cards, statistical data sets, map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TOM’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62520" y="2590920"/>
            <a:ext cx="1447920" cy="838080"/>
            <a:chOff x="3962520" y="2590920"/>
            <a:chExt cx="1447920" cy="838080"/>
          </a:xfrm>
        </p:grpSpPr>
        <p:sp>
          <p:nvSpPr>
            <p:cNvPr id="97" name=""/>
            <p:cNvSpPr/>
            <p:nvPr/>
          </p:nvSpPr>
          <p:spPr>
            <a:xfrm>
              <a:off x="3962520" y="2590920"/>
              <a:ext cx="144792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4251240" y="2719440"/>
              <a:ext cx="9208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295280" y="2895480"/>
            <a:ext cx="1371600" cy="685800"/>
            <a:chOff x="1295280" y="2895480"/>
            <a:chExt cx="1371600" cy="685800"/>
          </a:xfrm>
        </p:grpSpPr>
        <p:sp>
          <p:nvSpPr>
            <p:cNvPr id="100" name=""/>
            <p:cNvSpPr/>
            <p:nvPr/>
          </p:nvSpPr>
          <p:spPr>
            <a:xfrm>
              <a:off x="1295280" y="289548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1546200" y="310032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>
            <a:off x="365040" y="1195560"/>
            <a:ext cx="213984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inf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.g. conver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65440" y="1347840"/>
            <a:ext cx="1949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ain inf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819520" y="3124080"/>
            <a:ext cx="990360" cy="763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TOM’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962520" y="2590920"/>
            <a:ext cx="1447920" cy="838080"/>
            <a:chOff x="3962520" y="2590920"/>
            <a:chExt cx="1447920" cy="838080"/>
          </a:xfrm>
        </p:grpSpPr>
        <p:sp>
          <p:nvSpPr>
            <p:cNvPr id="107" name=""/>
            <p:cNvSpPr/>
            <p:nvPr/>
          </p:nvSpPr>
          <p:spPr>
            <a:xfrm>
              <a:off x="3962520" y="2590920"/>
              <a:ext cx="144792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251240" y="2719440"/>
              <a:ext cx="9208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467480" y="2133720"/>
            <a:ext cx="1371600" cy="685800"/>
            <a:chOff x="7467480" y="2133720"/>
            <a:chExt cx="1371600" cy="685800"/>
          </a:xfrm>
        </p:grpSpPr>
        <p:sp>
          <p:nvSpPr>
            <p:cNvPr id="110" name=""/>
            <p:cNvSpPr/>
            <p:nvPr/>
          </p:nvSpPr>
          <p:spPr>
            <a:xfrm>
              <a:off x="7467480" y="213372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680240" y="2338560"/>
              <a:ext cx="895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05120" y="1905120"/>
            <a:ext cx="1371600" cy="685800"/>
            <a:chOff x="1905120" y="1905120"/>
            <a:chExt cx="1371600" cy="685800"/>
          </a:xfrm>
        </p:grpSpPr>
        <p:sp>
          <p:nvSpPr>
            <p:cNvPr id="113" name=""/>
            <p:cNvSpPr/>
            <p:nvPr/>
          </p:nvSpPr>
          <p:spPr>
            <a:xfrm>
              <a:off x="1905120" y="190512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2155680" y="210996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295280" y="2895480"/>
            <a:ext cx="1371600" cy="685800"/>
            <a:chOff x="1295280" y="2895480"/>
            <a:chExt cx="1371600" cy="685800"/>
          </a:xfrm>
        </p:grpSpPr>
        <p:sp>
          <p:nvSpPr>
            <p:cNvPr id="116" name=""/>
            <p:cNvSpPr/>
            <p:nvPr/>
          </p:nvSpPr>
          <p:spPr>
            <a:xfrm>
              <a:off x="1295280" y="289548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1546200" y="310032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162920" y="3276720"/>
            <a:ext cx="1371600" cy="685800"/>
            <a:chOff x="7162920" y="3276720"/>
            <a:chExt cx="1371600" cy="685800"/>
          </a:xfrm>
        </p:grpSpPr>
        <p:sp>
          <p:nvSpPr>
            <p:cNvPr id="119" name=""/>
            <p:cNvSpPr/>
            <p:nvPr/>
          </p:nvSpPr>
          <p:spPr>
            <a:xfrm>
              <a:off x="7162920" y="327672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7375680" y="3481560"/>
              <a:ext cx="895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467480" y="4038480"/>
            <a:ext cx="1371600" cy="685800"/>
            <a:chOff x="7467480" y="4038480"/>
            <a:chExt cx="1371600" cy="685800"/>
          </a:xfrm>
        </p:grpSpPr>
        <p:sp>
          <p:nvSpPr>
            <p:cNvPr id="122" name=""/>
            <p:cNvSpPr/>
            <p:nvPr/>
          </p:nvSpPr>
          <p:spPr>
            <a:xfrm>
              <a:off x="7467480" y="403848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7680240" y="4243320"/>
              <a:ext cx="895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365040" y="1195560"/>
            <a:ext cx="213984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inf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.g. conver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537240" y="1500120"/>
            <a:ext cx="2293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s 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5440" y="1347840"/>
            <a:ext cx="2598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ain inf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s, inv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s for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4382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3124080"/>
            <a:ext cx="990360" cy="763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486400" y="2514600"/>
            <a:ext cx="1828800" cy="533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3200400"/>
            <a:ext cx="1523880" cy="304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3526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TOM’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62520" y="2590920"/>
            <a:ext cx="1447920" cy="838080"/>
            <a:chOff x="3962520" y="2590920"/>
            <a:chExt cx="1447920" cy="838080"/>
          </a:xfrm>
        </p:grpSpPr>
        <p:sp>
          <p:nvSpPr>
            <p:cNvPr id="134" name=""/>
            <p:cNvSpPr/>
            <p:nvPr/>
          </p:nvSpPr>
          <p:spPr>
            <a:xfrm>
              <a:off x="3962520" y="2590920"/>
              <a:ext cx="144792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251240" y="2719440"/>
              <a:ext cx="9208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467480" y="2133720"/>
            <a:ext cx="1371600" cy="685800"/>
            <a:chOff x="7467480" y="2133720"/>
            <a:chExt cx="1371600" cy="685800"/>
          </a:xfrm>
        </p:grpSpPr>
        <p:sp>
          <p:nvSpPr>
            <p:cNvPr id="137" name=""/>
            <p:cNvSpPr/>
            <p:nvPr/>
          </p:nvSpPr>
          <p:spPr>
            <a:xfrm>
              <a:off x="7467480" y="213372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7680240" y="2338560"/>
              <a:ext cx="895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905120" y="1905120"/>
            <a:ext cx="1371600" cy="685800"/>
            <a:chOff x="1905120" y="1905120"/>
            <a:chExt cx="1371600" cy="685800"/>
          </a:xfrm>
        </p:grpSpPr>
        <p:sp>
          <p:nvSpPr>
            <p:cNvPr id="140" name=""/>
            <p:cNvSpPr/>
            <p:nvPr/>
          </p:nvSpPr>
          <p:spPr>
            <a:xfrm>
              <a:off x="1905120" y="190512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2155680" y="210996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295280" y="2895480"/>
            <a:ext cx="1371600" cy="685800"/>
            <a:chOff x="1295280" y="2895480"/>
            <a:chExt cx="1371600" cy="685800"/>
          </a:xfrm>
        </p:grpSpPr>
        <p:sp>
          <p:nvSpPr>
            <p:cNvPr id="143" name=""/>
            <p:cNvSpPr/>
            <p:nvPr/>
          </p:nvSpPr>
          <p:spPr>
            <a:xfrm>
              <a:off x="1295280" y="289548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546200" y="310032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162920" y="3276720"/>
            <a:ext cx="1371600" cy="685800"/>
            <a:chOff x="7162920" y="3276720"/>
            <a:chExt cx="1371600" cy="685800"/>
          </a:xfrm>
        </p:grpSpPr>
        <p:sp>
          <p:nvSpPr>
            <p:cNvPr id="146" name=""/>
            <p:cNvSpPr/>
            <p:nvPr/>
          </p:nvSpPr>
          <p:spPr>
            <a:xfrm>
              <a:off x="7162920" y="327672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7375680" y="3481560"/>
              <a:ext cx="895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467480" y="4038480"/>
            <a:ext cx="1371600" cy="685800"/>
            <a:chOff x="7467480" y="4038480"/>
            <a:chExt cx="1371600" cy="685800"/>
          </a:xfrm>
        </p:grpSpPr>
        <p:sp>
          <p:nvSpPr>
            <p:cNvPr id="149" name=""/>
            <p:cNvSpPr/>
            <p:nvPr/>
          </p:nvSpPr>
          <p:spPr>
            <a:xfrm>
              <a:off x="7467480" y="403848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7680240" y="4243320"/>
              <a:ext cx="895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267080" y="5181480"/>
            <a:ext cx="1447920" cy="838080"/>
            <a:chOff x="4267080" y="5181480"/>
            <a:chExt cx="1447920" cy="838080"/>
          </a:xfrm>
        </p:grpSpPr>
        <p:sp>
          <p:nvSpPr>
            <p:cNvPr id="152" name=""/>
            <p:cNvSpPr/>
            <p:nvPr/>
          </p:nvSpPr>
          <p:spPr>
            <a:xfrm>
              <a:off x="4267080" y="5181480"/>
              <a:ext cx="144792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556160" y="5310360"/>
              <a:ext cx="9208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365040" y="1195560"/>
            <a:ext cx="213984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inf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.g. conver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537240" y="1500120"/>
            <a:ext cx="2293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s 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5440" y="1347840"/>
            <a:ext cx="2598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ain inf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s, inv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s for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937040" y="3938760"/>
            <a:ext cx="1746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trade inf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ult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24382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819520" y="3124080"/>
            <a:ext cx="990360" cy="763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486400" y="2514600"/>
            <a:ext cx="1828800" cy="533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200400"/>
            <a:ext cx="1523880" cy="304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33526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350532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867280" y="4724280"/>
            <a:ext cx="1752840" cy="838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TOM’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962520" y="2590920"/>
            <a:ext cx="1447920" cy="838080"/>
            <a:chOff x="3962520" y="2590920"/>
            <a:chExt cx="1447920" cy="838080"/>
          </a:xfrm>
        </p:grpSpPr>
        <p:sp>
          <p:nvSpPr>
            <p:cNvPr id="167" name=""/>
            <p:cNvSpPr/>
            <p:nvPr/>
          </p:nvSpPr>
          <p:spPr>
            <a:xfrm>
              <a:off x="3962520" y="2590920"/>
              <a:ext cx="144792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4251240" y="2719440"/>
              <a:ext cx="9208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467480" y="2133720"/>
            <a:ext cx="1371600" cy="685800"/>
            <a:chOff x="7467480" y="2133720"/>
            <a:chExt cx="1371600" cy="685800"/>
          </a:xfrm>
        </p:grpSpPr>
        <p:sp>
          <p:nvSpPr>
            <p:cNvPr id="170" name=""/>
            <p:cNvSpPr/>
            <p:nvPr/>
          </p:nvSpPr>
          <p:spPr>
            <a:xfrm>
              <a:off x="7467480" y="213372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7680240" y="2338560"/>
              <a:ext cx="895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905120" y="1905120"/>
            <a:ext cx="1371600" cy="685800"/>
            <a:chOff x="1905120" y="1905120"/>
            <a:chExt cx="1371600" cy="685800"/>
          </a:xfrm>
        </p:grpSpPr>
        <p:sp>
          <p:nvSpPr>
            <p:cNvPr id="173" name=""/>
            <p:cNvSpPr/>
            <p:nvPr/>
          </p:nvSpPr>
          <p:spPr>
            <a:xfrm>
              <a:off x="1905120" y="190512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2155680" y="210996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752480" y="5181480"/>
            <a:ext cx="1371600" cy="685800"/>
            <a:chOff x="1752480" y="5181480"/>
            <a:chExt cx="1371600" cy="685800"/>
          </a:xfrm>
        </p:grpSpPr>
        <p:sp>
          <p:nvSpPr>
            <p:cNvPr id="176" name=""/>
            <p:cNvSpPr/>
            <p:nvPr/>
          </p:nvSpPr>
          <p:spPr>
            <a:xfrm>
              <a:off x="1752480" y="518148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2003400" y="538632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295280" y="2895480"/>
            <a:ext cx="1371600" cy="685800"/>
            <a:chOff x="1295280" y="2895480"/>
            <a:chExt cx="1371600" cy="685800"/>
          </a:xfrm>
        </p:grpSpPr>
        <p:sp>
          <p:nvSpPr>
            <p:cNvPr id="179" name=""/>
            <p:cNvSpPr/>
            <p:nvPr/>
          </p:nvSpPr>
          <p:spPr>
            <a:xfrm>
              <a:off x="1295280" y="289548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1546200" y="310032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162920" y="3276720"/>
            <a:ext cx="1371600" cy="685800"/>
            <a:chOff x="7162920" y="3276720"/>
            <a:chExt cx="1371600" cy="685800"/>
          </a:xfrm>
        </p:grpSpPr>
        <p:sp>
          <p:nvSpPr>
            <p:cNvPr id="182" name=""/>
            <p:cNvSpPr/>
            <p:nvPr/>
          </p:nvSpPr>
          <p:spPr>
            <a:xfrm>
              <a:off x="7162920" y="327672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7375680" y="3481560"/>
              <a:ext cx="895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467480" y="4038480"/>
            <a:ext cx="1371600" cy="685800"/>
            <a:chOff x="7467480" y="4038480"/>
            <a:chExt cx="1371600" cy="685800"/>
          </a:xfrm>
        </p:grpSpPr>
        <p:sp>
          <p:nvSpPr>
            <p:cNvPr id="185" name=""/>
            <p:cNvSpPr/>
            <p:nvPr/>
          </p:nvSpPr>
          <p:spPr>
            <a:xfrm>
              <a:off x="7467480" y="4038480"/>
              <a:ext cx="137160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7680240" y="4243320"/>
              <a:ext cx="895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267080" y="5181480"/>
            <a:ext cx="1447920" cy="838080"/>
            <a:chOff x="4267080" y="5181480"/>
            <a:chExt cx="1447920" cy="838080"/>
          </a:xfrm>
        </p:grpSpPr>
        <p:sp>
          <p:nvSpPr>
            <p:cNvPr id="188" name=""/>
            <p:cNvSpPr/>
            <p:nvPr/>
          </p:nvSpPr>
          <p:spPr>
            <a:xfrm>
              <a:off x="4267080" y="5181480"/>
              <a:ext cx="144792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556160" y="5310360"/>
              <a:ext cx="9208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365040" y="1195560"/>
            <a:ext cx="213984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inf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.g. conver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537240" y="1500120"/>
            <a:ext cx="2293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s 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5440" y="1347840"/>
            <a:ext cx="2598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ain inf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s, inv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s for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937040" y="3938760"/>
            <a:ext cx="1746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trade inf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ult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24382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819520" y="3124080"/>
            <a:ext cx="990360" cy="763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486400" y="2514600"/>
            <a:ext cx="1828800" cy="533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200400"/>
            <a:ext cx="1523880" cy="304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33526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50532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79440" y="4167360"/>
            <a:ext cx="28893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s can also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formats, operatio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informatio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5486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867280" y="4724280"/>
            <a:ext cx="1752840" cy="838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Type bro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 information about types, formats and thei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 clients a uniform acces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operations on the data (type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s to familiar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distributed addition of new formats, relations, operations,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Brokers enable smart con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85800" y="2209680"/>
            <a:ext cx="2133720" cy="1600560"/>
            <a:chOff x="685800" y="2209680"/>
            <a:chExt cx="2133720" cy="1600560"/>
          </a:xfrm>
        </p:grpSpPr>
        <p:grpSp>
          <p:nvGrpSpPr>
            <p:cNvPr id="207" name=""/>
            <p:cNvGrpSpPr/>
            <p:nvPr/>
          </p:nvGrpSpPr>
          <p:grpSpPr>
            <a:xfrm>
              <a:off x="685800" y="2209680"/>
              <a:ext cx="2133720" cy="1600560"/>
              <a:chOff x="685800" y="2209680"/>
              <a:chExt cx="2133720" cy="1600560"/>
            </a:xfrm>
          </p:grpSpPr>
          <p:sp>
            <p:nvSpPr>
              <p:cNvPr id="208" name=""/>
              <p:cNvSpPr/>
              <p:nvPr/>
            </p:nvSpPr>
            <p:spPr>
              <a:xfrm>
                <a:off x="831960" y="2351160"/>
                <a:ext cx="241200" cy="235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52480" y="3575160"/>
                <a:ext cx="243000" cy="235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5800" y="3103560"/>
                <a:ext cx="243000" cy="236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76520" y="2868480"/>
                <a:ext cx="243000" cy="235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139840" y="2209680"/>
                <a:ext cx="243000" cy="235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831960" y="2679840"/>
              <a:ext cx="96840" cy="37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170000" y="2351160"/>
              <a:ext cx="873000" cy="93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76320" y="3292560"/>
              <a:ext cx="679320" cy="328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35320" y="2540160"/>
              <a:ext cx="241200" cy="280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043000" y="3151080"/>
              <a:ext cx="533520" cy="37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22480" y="2633760"/>
              <a:ext cx="630000" cy="846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19320" y="2585880"/>
              <a:ext cx="1260360" cy="376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76320" y="2492280"/>
              <a:ext cx="1163520" cy="61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898640" y="2540160"/>
              <a:ext cx="290520" cy="89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073160" y="3057480"/>
              <a:ext cx="1406520" cy="141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429000" y="2286000"/>
            <a:ext cx="2133720" cy="1524240"/>
            <a:chOff x="3429000" y="2286000"/>
            <a:chExt cx="2133720" cy="1524240"/>
          </a:xfrm>
        </p:grpSpPr>
        <p:sp>
          <p:nvSpPr>
            <p:cNvPr id="224" name=""/>
            <p:cNvSpPr/>
            <p:nvPr/>
          </p:nvSpPr>
          <p:spPr>
            <a:xfrm>
              <a:off x="3573360" y="2421000"/>
              <a:ext cx="24444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95680" y="3586320"/>
              <a:ext cx="24300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29000" y="3138480"/>
              <a:ext cx="24300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19720" y="2913120"/>
              <a:ext cx="243000" cy="225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84840" y="2286000"/>
              <a:ext cx="24120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1320" y="2913120"/>
              <a:ext cx="241200" cy="225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65680" y="2689200"/>
              <a:ext cx="387360" cy="223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592520" y="2554200"/>
              <a:ext cx="292320" cy="358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768840" y="3092400"/>
              <a:ext cx="533160" cy="13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89360" y="3003480"/>
              <a:ext cx="484200" cy="4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5680" y="3227400"/>
              <a:ext cx="96840" cy="31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400800" y="2209680"/>
            <a:ext cx="2286000" cy="1447920"/>
            <a:chOff x="6400800" y="2209680"/>
            <a:chExt cx="2286000" cy="1447920"/>
          </a:xfrm>
        </p:grpSpPr>
        <p:grpSp>
          <p:nvGrpSpPr>
            <p:cNvPr id="236" name=""/>
            <p:cNvGrpSpPr/>
            <p:nvPr/>
          </p:nvGrpSpPr>
          <p:grpSpPr>
            <a:xfrm>
              <a:off x="6400800" y="2209680"/>
              <a:ext cx="2286000" cy="1447920"/>
              <a:chOff x="6400800" y="2209680"/>
              <a:chExt cx="2286000" cy="1447920"/>
            </a:xfrm>
          </p:grpSpPr>
          <p:sp>
            <p:nvSpPr>
              <p:cNvPr id="237" name=""/>
              <p:cNvSpPr/>
              <p:nvPr/>
            </p:nvSpPr>
            <p:spPr>
              <a:xfrm>
                <a:off x="6556320" y="2338560"/>
                <a:ext cx="260280" cy="210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43800" y="3444840"/>
                <a:ext cx="260280" cy="212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00800" y="3019320"/>
                <a:ext cx="260280" cy="210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26520" y="2806560"/>
                <a:ext cx="260280" cy="212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959600" y="2209680"/>
                <a:ext cx="258840" cy="212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 flipH="1">
              <a:off x="6556320" y="2637000"/>
              <a:ext cx="52560" cy="33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919920" y="2338560"/>
              <a:ext cx="934920" cy="83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18440" y="2465280"/>
              <a:ext cx="157320" cy="29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804080" y="2506680"/>
              <a:ext cx="311400" cy="853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64400" y="3189240"/>
              <a:ext cx="67608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907400" y="3105000"/>
              <a:ext cx="519120" cy="381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 txBox="1"/>
          <p:nvPr/>
        </p:nvSpPr>
        <p:spPr>
          <a:xfrm>
            <a:off x="669960" y="3938760"/>
            <a:ext cx="2165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This doesn’t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184560" y="3938760"/>
            <a:ext cx="2851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This may  lose too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84360" y="1652760"/>
            <a:ext cx="6586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If formats are nodes, and conversions are directed edg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461280" y="3862440"/>
            <a:ext cx="225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This gives grea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32080" y="4708440"/>
            <a:ext cx="6313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Arial"/>
              </a:rPr>
              <a:t>But how do we find best conversion pa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08040" y="5234040"/>
            <a:ext cx="660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dth-first search is a good star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label edges with conversi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substitutability can characterize information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Intersubstitutable ty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nversion c with input i i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ntersubstitu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respect to type T if i and c(i) are indistinguishable when viewed through the interface of typ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form: abstraction mapping to T of i and c(i) map to the sam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ak form: there exists no method m of type T for which m(i) can return a value that m(c(i)) cannot return, other parameters and context being equal.  (And vice versa.  With a similar rule for attributes of 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s this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says that a conversion preserves all the information defined in typ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ts clients specify  what info must be preser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Vali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: Does TOM allow users and programs to use a wider variety of data formats more effectively than current methods all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sibility, expressiveness, composability, scal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: Yes.  Shown through analysis and cas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Scalability: Graceful Distributed Expansion of Type Grap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ng new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one can register new types, operations,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kers share what they learn  with other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scheme prevents inadvertent conflicts, can be used as a certification mechanism for ``good’’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 set of relations between types and formats makes new formats and types easy to 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ing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encodings, methods, subtypes, conversions can be added, as long as they don’t fundamentally change type’s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les for when it’s safe to do this  (see the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Composability: Ease of Inte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M supports integrating existing data,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f-the-shelf programs, if invokable from script, can be hooked in to server via configuratio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providers can continue using their normal formats, if they’re described (no need to switch to ``standard’’ f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isting data sources, clients can be integrated into TOM via gate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M supports incremental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 service usable from ordinary 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your own type broker, TOM gateways, gives bette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your own formats, servers, allows you to share data with the world using your preferred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The Problem: A Babel of Data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s and programs often want to use information from outside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 Web is a prime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“information clients” only understand a few  of the many forma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therefore cannot effectively use many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ay  be in incomprehensib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ay  be in form not easily work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cularly problema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s that have complex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acy data and programs (obsolete format assumptio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Experience with 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brokers, 100+ types, 60+ co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rsion service used thousands of times/mo.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 conversions successful, perform accept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ing good user interfaces 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 identification necessary,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typing useful (package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ting conversions right can be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improve with scale,  enhancements to 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TOM makes new formats easy to integ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90720" y="1981080"/>
            <a:ext cx="7162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ML frames a headache fo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ed new navigation capabilites, bu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mpatible with older brow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, bookmarking not fixed for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eting frameset standards, delayed “official” s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M Frame Service allows easy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 generic ``frameset’’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scape, MS types subtypes of gen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ed functionality in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e new frameset on link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 results to HTML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tewayed to/from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M-aware browsers could make transition seam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M allows users and programs to use a wider variety of data formats more effectively than current methods 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M has been shown to be  feasible, expressive, composable, and sc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Related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 Indie brokers, DNS, OEM gateways, search engin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descript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 MIME, SGML/XML, RUFU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ed objec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 CORBA, COM, Jav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 substitutability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Contrib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s for making complex, heterogeneous data widely 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nessing diverse services with medi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ising the common data denominator with a read-only data model combining OO types and concrete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 flexible conversions that preserve needed information with intersubstitu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ful  arti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 brokers, applications serve many 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 graph gives useful descriptions of many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lable infrastructure for supporting data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1360" y="1752480"/>
            <a:ext cx="275904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to 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- ru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teways w/ CORBA &amp;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and 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meterized conversions &amp;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60880" y="1752480"/>
            <a:ext cx="275904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Further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involving 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-site 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specification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/writ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04080" y="1752480"/>
            <a:ext cx="2911320" cy="33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Further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beyond 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mediator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terogeneity problems in other domains (e.g. protocols, AP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applications for distributed data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 of PL concepts in distributed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Can TOM design evolve graceful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s: Yes, because functions sepa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.g. better brokers, conversions just follow same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so, protocol itself can be updated through nego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nfo: Yes, because type info. is itself expressed as 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new info?  Just make new types, relate to old types via subtype relations, and support convers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70360" y="281160"/>
            <a:ext cx="1555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(Extra 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Some conversions were difficult to do in 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 headaches were with MS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t info not published (propriet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rietary programs interactive, resisted scri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rietary formats with limited tools inherently hard  to deal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OM still provides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erver successfully providing conversion or operation can be used by many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conversion implementation can enable multiple uses, due to broker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70360" y="281160"/>
            <a:ext cx="1555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(Extra 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Examples of multi-level enco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web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ded as keyed blocks (files and cont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ded as a tarfile (in the standard Unix wa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l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ded as attribute-value list (as per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ded as text (as per RFC8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ded as byte sequence via standard MS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ded (again) as byte sequence via zip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70360" y="281160"/>
            <a:ext cx="1555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(Extra 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How to convert compound obje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90720" y="1828800"/>
            <a:ext cx="7162920" cy="42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OM Conversion Service, ``packages’’ are basically compou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ual procedure is to convert the ``outer’’ package, if needed, then select and convert ``inside’’ 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rsions can also be defined that convert outsides and insides in specifi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there may be many permutation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s can be used as a way to define a parameterized ``conversion’’ betwee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that’s kludgy: why not invoke ``real’’ conver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ture work may give new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meterized conversions, or parameteriz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extending model may introduce more complex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70360" y="281160"/>
            <a:ext cx="1555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(Extra 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Someone sent me a map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612800"/>
            <a:ext cx="51688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...but I got it like thi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69960" y="1541520"/>
            <a:ext cx="57182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: Sherry T Haddock &lt;shaddock@csr.uta.edu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: caeti@nosc.m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bject: CAETI Community Meeting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e: Thu, 15 Feb 1996 17:12:52 -0600 (C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ime-Version: 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ent-Type: MULTIPART/MIXED; BOUNDARY="608184028-521714262-824425972=:20798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c: Sherry T Haddock &lt;shaddock@csr.uta.edu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is message is in MIME format.  The first part should be readable tex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ile the remaining parts are likely unreadable without MIME-aware too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nd mail to mime@docserver.cac.washington.edu for more inf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-608184028-521714262-824425972=:207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ent-Type: TEXT/PLAIN; charset=US-ASC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ere are maps detailing the March CAETI Community Meeting Location. 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anks agai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herry &lt;shaddock@csr.uta.edu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-608184028-521714262-824425972=:207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ent-Type: TEXT/PLAIN; charset=US-ASCII; name="CaetiMap.hqx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ent-Transfer-Encoding: BASE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ent-ID: &lt;Pine.SUN.3.90.960215171252.20798B@csr.uta.edu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tent-Description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FRoaXMgZmlsZSBtdXN0IGJlIGNvbnZlcnRlZCB3aXRoIEJpbkhleCA0Lj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QoNCjojODBLQ0E0VCklZUtGISI2NiUzYzgmIjgtYCMzIiQpIU4hLSlEMyV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C1tNGkrJ2EnWiUhTiIhbCEhLSFyW20NCg0KKiEhQiFOIVgiISohJCEzIzM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iEhISFtIU4hLSIhKiEkcltxMyFgIzMjMnEzcnJxM1hJaHJOIS1BISohJCF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w0KDQozIWAzIU4hLSYhKiEkIkojMyFgRiFOIS0pISohJCMzIzMhYFMhTi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CEqISQkISMzIWBkIU4hLTEhKiEkcltxDQoNCjMhcmxyTiEtNCEqISQlSiM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WEtIU4hLTghKiEkJjMjMyFhQiFOITJxcmohJHJbcTNycnEzVCEiNSEqIX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851440" y="4495680"/>
            <a:ext cx="222552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mail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ME-attach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64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hex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point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Why current techniques don’t solve the problem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install programs that understand all the forma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there are so many formats, and each program installs and loads diffe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 ``universal converters’’ (e.g. Debabelizer)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lowest-common-denominator forma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.g. ``all ASCII’’ or ``all HTML’’ or ``all Microsoft’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n’t meet needs of advanced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denominator keeps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Why emerging technologies won’t solve the problem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data standards solve every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t of old data still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 can’t cover all contingencies (so more standards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object models solve every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ill lots of old data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veryone will conform to data or server 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adequate support for relating new data types to known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it will get wors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ld data will persist, new applications make new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The TOM solution: Key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 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models support abstract data use, relations between different kind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: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 use modified OO model (Typed Object Model, or TOM) to describe data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 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ch useful format info, programs, scattered through the N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ators give uniform access to diverse knowledge bases,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: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 use mediators (type brokers) to assist with unfamiliar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6280" y="1981080"/>
            <a:ext cx="549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46280" y="3581280"/>
            <a:ext cx="549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  <a:ea typeface="Arial"/>
              </a:rPr>
              <a:t>Thesis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feasible to design and implement a data model and a type broker network that allow individual data providers to define complex data in a wide variety of formats, and make these data formats widely usable throughout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ystem that uses this model and this network is superior in dealing with diverse data formats, compared to previous widely-deployed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ckerbloom</dc:creator>
  <dc:description/>
  <dc:language>en-US</dc:language>
  <cp:lastModifiedBy>SCS</cp:lastModifiedBy>
  <cp:revision>0</cp:revision>
  <dc:subject/>
  <dc:title>Mediating Among Diverse Data Formats</dc:title>
</cp:coreProperties>
</file>