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124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345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124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345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Keeping Digital Documents Usable:</a:t>
            </a:r>
            <a:br>
              <a:rPr sz="3600"/>
            </a:b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Managing Data Formats</a:t>
            </a:r>
            <a:endParaRPr b="1" lang="en-US" sz="36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274320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ohn Mark Ockerblo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negie Mellon Univers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ril 27, 199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Example: A simple mail message as a TOM object</a:t>
            </a:r>
            <a:endParaRPr b="1" lang="en-US" sz="36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 is the content of the mess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 is simple ``mail message’’ typ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tributes: sender, recipients, header, body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hods: get_attachment (num)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``mail message’’ type has encoding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``standard’’ encoding is RFC822 encoding (as ASCII byte sequenc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at is just a type with encoding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``mail message’’ type in ``standard’’ encod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ld also have further encodings (e.g. mail heade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M ships objects around with format ta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Part of the TOM type hierarchy</a:t>
            </a:r>
            <a:endParaRPr b="1" lang="en-US" sz="36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100040" y="2104920"/>
            <a:ext cx="893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15520" y="2943360"/>
            <a:ext cx="1106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ck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06000" y="2943360"/>
            <a:ext cx="1283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04920" y="4010040"/>
            <a:ext cx="650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R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56320" y="2867040"/>
            <a:ext cx="1428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77280" y="4086360"/>
            <a:ext cx="1665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l mes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709880" y="4086360"/>
            <a:ext cx="943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h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42880" y="2867040"/>
            <a:ext cx="1909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126880" y="2368440"/>
            <a:ext cx="1917720" cy="520920"/>
          </a:xfrm>
          <a:prstGeom prst="line">
            <a:avLst/>
          </a:prstGeom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3956040" y="2444760"/>
            <a:ext cx="317520" cy="444600"/>
          </a:xfrm>
          <a:prstGeom prst="line">
            <a:avLst/>
          </a:prstGeom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07080" y="2444760"/>
            <a:ext cx="825480" cy="520560"/>
          </a:xfrm>
          <a:prstGeom prst="line">
            <a:avLst/>
          </a:prstGeom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35680" y="2292480"/>
            <a:ext cx="2197080" cy="520560"/>
          </a:xfrm>
          <a:prstGeom prst="line">
            <a:avLst/>
          </a:prstGeom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175360" y="3359160"/>
            <a:ext cx="241200" cy="749160"/>
          </a:xfrm>
          <a:prstGeom prst="line">
            <a:avLst/>
          </a:prstGeom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873760" y="3359160"/>
            <a:ext cx="520560" cy="749160"/>
          </a:xfrm>
          <a:prstGeom prst="line">
            <a:avLst/>
          </a:prstGeom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079760" y="3282840"/>
            <a:ext cx="546120" cy="825480"/>
          </a:xfrm>
          <a:prstGeom prst="line">
            <a:avLst/>
          </a:prstGeom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441080" y="3282840"/>
            <a:ext cx="165240" cy="673200"/>
          </a:xfrm>
          <a:prstGeom prst="line">
            <a:avLst/>
          </a:prstGeom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50480" y="5229360"/>
            <a:ext cx="687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types are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substitutab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 supertypes (cf. Liskov &amp; W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Substitutable types?</a:t>
            </a:r>
            <a:endParaRPr b="1" lang="en-US" sz="36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are they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 ``substitutable’’ subtyping model, objects of type T behave exactly  like objects of T’s supertypes when used through supertype interfa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eptually, there’s an ``abstraction mapping’’ where each object in a subtype has a corresponding object in the supertype that can “substitute” for 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 are they important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y allow unfamiliar types to be used through familiar supertype interfaces, with information and behavior guaranteed to be consistent with the supertyp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Most other OO systems don’t require thi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guarantee of the information preserved by a type is also useful in characterizing conversion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What can you do with an object in an unfamiliar format?</a:t>
            </a:r>
            <a:endParaRPr b="1" lang="en-US" sz="36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know its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typ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you can use it through its interface (attributes, method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  getting “sender”, “recipients” attributes of mai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know one of its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encoding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you can use it through its encoded ty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 displaying the text encoding of the mai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don’t know its type, but know one of its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supertyp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use its supertype’s interf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 using “element”, “describe” methods of pack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may be a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convers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a known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 Powerpoint slide format to GIF image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The architecture supporting TOM</a:t>
            </a:r>
            <a:br>
              <a:rPr sz="3600"/>
            </a:b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(simplified)</a:t>
            </a:r>
            <a:endParaRPr b="1" lang="en-US" sz="3600" spc="-1" strike="noStrike">
              <a:solidFill>
                <a:srgbClr val="063de8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968640" y="2597040"/>
            <a:ext cx="1435320" cy="825480"/>
            <a:chOff x="3968640" y="2597040"/>
            <a:chExt cx="1435320" cy="825480"/>
          </a:xfrm>
        </p:grpSpPr>
        <p:sp>
          <p:nvSpPr>
            <p:cNvPr id="83" name=""/>
            <p:cNvSpPr/>
            <p:nvPr/>
          </p:nvSpPr>
          <p:spPr>
            <a:xfrm>
              <a:off x="3968640" y="2597040"/>
              <a:ext cx="1435320" cy="82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253760" y="2720880"/>
              <a:ext cx="9158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rok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7473960" y="2139840"/>
            <a:ext cx="1359000" cy="673200"/>
            <a:chOff x="7473960" y="2139840"/>
            <a:chExt cx="1359000" cy="673200"/>
          </a:xfrm>
        </p:grpSpPr>
        <p:sp>
          <p:nvSpPr>
            <p:cNvPr id="86" name=""/>
            <p:cNvSpPr/>
            <p:nvPr/>
          </p:nvSpPr>
          <p:spPr>
            <a:xfrm>
              <a:off x="7473960" y="2139840"/>
              <a:ext cx="1359000" cy="673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682760" y="2340000"/>
              <a:ext cx="890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911240" y="1911240"/>
            <a:ext cx="1359000" cy="673200"/>
            <a:chOff x="1911240" y="1911240"/>
            <a:chExt cx="1359000" cy="673200"/>
          </a:xfrm>
        </p:grpSpPr>
        <p:sp>
          <p:nvSpPr>
            <p:cNvPr id="89" name=""/>
            <p:cNvSpPr/>
            <p:nvPr/>
          </p:nvSpPr>
          <p:spPr>
            <a:xfrm>
              <a:off x="1911240" y="1911240"/>
              <a:ext cx="1359000" cy="673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157120" y="2111400"/>
              <a:ext cx="8168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1758960" y="5187960"/>
            <a:ext cx="1359000" cy="673200"/>
            <a:chOff x="1758960" y="5187960"/>
            <a:chExt cx="1359000" cy="673200"/>
          </a:xfrm>
        </p:grpSpPr>
        <p:sp>
          <p:nvSpPr>
            <p:cNvPr id="92" name=""/>
            <p:cNvSpPr/>
            <p:nvPr/>
          </p:nvSpPr>
          <p:spPr>
            <a:xfrm>
              <a:off x="1758960" y="5187960"/>
              <a:ext cx="1359000" cy="673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004480" y="5388120"/>
              <a:ext cx="8168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1301760" y="2901960"/>
            <a:ext cx="1359000" cy="673200"/>
            <a:chOff x="1301760" y="2901960"/>
            <a:chExt cx="1359000" cy="673200"/>
          </a:xfrm>
        </p:grpSpPr>
        <p:sp>
          <p:nvSpPr>
            <p:cNvPr id="95" name=""/>
            <p:cNvSpPr/>
            <p:nvPr/>
          </p:nvSpPr>
          <p:spPr>
            <a:xfrm>
              <a:off x="1301760" y="2901960"/>
              <a:ext cx="1359000" cy="673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547280" y="3102120"/>
              <a:ext cx="8168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7169040" y="3282840"/>
            <a:ext cx="1359000" cy="673200"/>
            <a:chOff x="7169040" y="3282840"/>
            <a:chExt cx="1359000" cy="673200"/>
          </a:xfrm>
        </p:grpSpPr>
        <p:sp>
          <p:nvSpPr>
            <p:cNvPr id="98" name=""/>
            <p:cNvSpPr/>
            <p:nvPr/>
          </p:nvSpPr>
          <p:spPr>
            <a:xfrm>
              <a:off x="7169040" y="3282840"/>
              <a:ext cx="1359000" cy="673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77840" y="3483000"/>
              <a:ext cx="890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7473960" y="4044960"/>
            <a:ext cx="1359000" cy="673200"/>
            <a:chOff x="7473960" y="4044960"/>
            <a:chExt cx="1359000" cy="673200"/>
          </a:xfrm>
        </p:grpSpPr>
        <p:sp>
          <p:nvSpPr>
            <p:cNvPr id="101" name=""/>
            <p:cNvSpPr/>
            <p:nvPr/>
          </p:nvSpPr>
          <p:spPr>
            <a:xfrm>
              <a:off x="7473960" y="4044960"/>
              <a:ext cx="1359000" cy="673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682760" y="4245120"/>
              <a:ext cx="890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4273560" y="5187960"/>
            <a:ext cx="1434960" cy="825480"/>
            <a:chOff x="4273560" y="5187960"/>
            <a:chExt cx="1434960" cy="825480"/>
          </a:xfrm>
        </p:grpSpPr>
        <p:sp>
          <p:nvSpPr>
            <p:cNvPr id="104" name=""/>
            <p:cNvSpPr/>
            <p:nvPr/>
          </p:nvSpPr>
          <p:spPr>
            <a:xfrm>
              <a:off x="4273560" y="5187960"/>
              <a:ext cx="1434960" cy="82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58320" y="5311800"/>
              <a:ext cx="9158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rok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366120" y="1197000"/>
            <a:ext cx="213840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info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at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e.g. convers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539760" y="1501920"/>
            <a:ext cx="2287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rs  imp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567960" y="1349280"/>
            <a:ext cx="25923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ok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tain info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ats, invo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rs for 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938120" y="3940200"/>
            <a:ext cx="17449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ok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trade info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ult 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ok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59160" y="2444760"/>
            <a:ext cx="444600" cy="368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825640" y="3117600"/>
            <a:ext cx="978120" cy="88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479920" y="2521080"/>
            <a:ext cx="1841760" cy="520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68840" y="3206880"/>
            <a:ext cx="1511280" cy="291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68840" y="3359160"/>
            <a:ext cx="1816200" cy="825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02160" y="3511440"/>
            <a:ext cx="368280" cy="1587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80520" y="4168800"/>
            <a:ext cx="28879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s can also 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ormats, operation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r information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82840" y="548640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860800" y="4730760"/>
            <a:ext cx="1765080" cy="825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TOM in action</a:t>
            </a:r>
            <a:endParaRPr b="1" lang="en-US" sz="36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okers, apps deployed at Carnegie Mell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M Conversion Service, TOM Frame Serv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s off-the-shelf technology (converters from the Net, Web browser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y them yourself!  Demos at http://tom.cs.cmu.edu/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should work even better when scaled u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oker software to be released later in 199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yone can add new types, methods, formats, serv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ore sites get involved, the more services will be available, and the more expertise brokers will ha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Brokers enable smart conversions</a:t>
            </a:r>
            <a:endParaRPr b="1" lang="en-US" sz="3600" spc="-1" strike="noStrike">
              <a:solidFill>
                <a:srgbClr val="063de8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92280" y="2216160"/>
            <a:ext cx="2120760" cy="1587600"/>
            <a:chOff x="692280" y="2216160"/>
            <a:chExt cx="2120760" cy="1587600"/>
          </a:xfrm>
        </p:grpSpPr>
        <p:grpSp>
          <p:nvGrpSpPr>
            <p:cNvPr id="123" name=""/>
            <p:cNvGrpSpPr/>
            <p:nvPr/>
          </p:nvGrpSpPr>
          <p:grpSpPr>
            <a:xfrm>
              <a:off x="692280" y="2216160"/>
              <a:ext cx="2120760" cy="1587600"/>
              <a:chOff x="692280" y="2216160"/>
              <a:chExt cx="2120760" cy="1587600"/>
            </a:xfrm>
          </p:grpSpPr>
          <p:sp>
            <p:nvSpPr>
              <p:cNvPr id="124" name=""/>
              <p:cNvSpPr/>
              <p:nvPr/>
            </p:nvSpPr>
            <p:spPr>
              <a:xfrm>
                <a:off x="838080" y="2357280"/>
                <a:ext cx="228600" cy="2224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58960" y="3581280"/>
                <a:ext cx="230040" cy="2224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92280" y="3110040"/>
                <a:ext cx="230040" cy="2235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583000" y="2874960"/>
                <a:ext cx="230040" cy="2221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146320" y="2216160"/>
                <a:ext cx="230040" cy="2221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 flipH="1">
              <a:off x="825480" y="2685960"/>
              <a:ext cx="109440" cy="36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1176480" y="2344680"/>
              <a:ext cx="860400" cy="10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982800" y="3298680"/>
              <a:ext cx="66672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341440" y="2546280"/>
              <a:ext cx="228600" cy="26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2036520" y="3157560"/>
              <a:ext cx="546120" cy="36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128600" y="2639880"/>
              <a:ext cx="617760" cy="83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225440" y="2592360"/>
              <a:ext cx="1247760" cy="36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969840" y="2498760"/>
              <a:ext cx="1176480" cy="59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1891800" y="2546280"/>
              <a:ext cx="303480" cy="88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079640" y="3051000"/>
              <a:ext cx="1393560" cy="15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3435480" y="2292480"/>
            <a:ext cx="2120760" cy="1511280"/>
            <a:chOff x="3435480" y="2292480"/>
            <a:chExt cx="2120760" cy="1511280"/>
          </a:xfrm>
        </p:grpSpPr>
        <p:sp>
          <p:nvSpPr>
            <p:cNvPr id="140" name=""/>
            <p:cNvSpPr/>
            <p:nvPr/>
          </p:nvSpPr>
          <p:spPr>
            <a:xfrm>
              <a:off x="3579840" y="2427120"/>
              <a:ext cx="231840" cy="211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02160" y="3592440"/>
              <a:ext cx="230040" cy="211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435480" y="3144960"/>
              <a:ext cx="230040" cy="210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26200" y="2919240"/>
              <a:ext cx="230040" cy="212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90960" y="2292480"/>
              <a:ext cx="228600" cy="210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57800" y="2919240"/>
              <a:ext cx="228600" cy="212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71800" y="2695680"/>
              <a:ext cx="374760" cy="21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4586400" y="2560680"/>
              <a:ext cx="304560" cy="34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3774960" y="3086280"/>
              <a:ext cx="520920" cy="14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695840" y="3009960"/>
              <a:ext cx="47160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502160" y="3233880"/>
              <a:ext cx="84240" cy="30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407280" y="2216160"/>
            <a:ext cx="2273040" cy="1434960"/>
            <a:chOff x="6407280" y="2216160"/>
            <a:chExt cx="2273040" cy="1434960"/>
          </a:xfrm>
        </p:grpSpPr>
        <p:grpSp>
          <p:nvGrpSpPr>
            <p:cNvPr id="152" name=""/>
            <p:cNvGrpSpPr/>
            <p:nvPr/>
          </p:nvGrpSpPr>
          <p:grpSpPr>
            <a:xfrm>
              <a:off x="6407280" y="2216160"/>
              <a:ext cx="2273040" cy="1434960"/>
              <a:chOff x="6407280" y="2216160"/>
              <a:chExt cx="2273040" cy="1434960"/>
            </a:xfrm>
          </p:grpSpPr>
          <p:sp>
            <p:nvSpPr>
              <p:cNvPr id="153" name=""/>
              <p:cNvSpPr/>
              <p:nvPr/>
            </p:nvSpPr>
            <p:spPr>
              <a:xfrm>
                <a:off x="6562800" y="2344680"/>
                <a:ext cx="247680" cy="198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550280" y="3451320"/>
                <a:ext cx="247680" cy="199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407280" y="3025800"/>
                <a:ext cx="247680" cy="198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432640" y="2813040"/>
                <a:ext cx="247680" cy="200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966080" y="2216160"/>
                <a:ext cx="245880" cy="200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 flipH="1">
              <a:off x="6550200" y="2643120"/>
              <a:ext cx="64800" cy="32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6926400" y="2331720"/>
              <a:ext cx="92232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224920" y="2471760"/>
              <a:ext cx="144360" cy="28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7797600" y="2513160"/>
              <a:ext cx="323640" cy="84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770520" y="3195720"/>
              <a:ext cx="663840" cy="24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7900560" y="3111480"/>
              <a:ext cx="53172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724320" y="3933720"/>
            <a:ext cx="2164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ae00"/>
                </a:solidFill>
                <a:latin typeface="Arial"/>
              </a:rPr>
              <a:t>This doesn’t sc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184200" y="3933720"/>
            <a:ext cx="28515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ae00"/>
                </a:solidFill>
                <a:latin typeface="Arial"/>
              </a:rPr>
              <a:t>This may  lose too mu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ae00"/>
                </a:solidFill>
                <a:latin typeface="Arial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85080" y="1647720"/>
            <a:ext cx="6583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ae00"/>
                </a:solidFill>
                <a:latin typeface="Arial"/>
              </a:rPr>
              <a:t>If formats are nodes, and conversions are directed edges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462720" y="3857760"/>
            <a:ext cx="22510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ae00"/>
                </a:solidFill>
                <a:latin typeface="Arial"/>
              </a:rPr>
              <a:t>This gives great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ae00"/>
                </a:solidFill>
                <a:latin typeface="Arial"/>
              </a:rPr>
              <a:t>flexi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427400" y="4703760"/>
            <a:ext cx="6314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But how do we find best conversion pat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03000" y="5229360"/>
            <a:ext cx="59126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eadth-first search is a good starting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can label edges with conversion characteris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 Conversions can be said to respect a 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reserve the information given in that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Respectful conversions?</a:t>
            </a:r>
            <a:endParaRPr b="1" lang="en-US" sz="36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onversion c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respec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ype T if for all inputs i in c’s domain, i and c(i) are indistinguishable when viewed through the interface of type 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ong form: abstraction mapping to T of i and c(i) map to the same “substitute” object in T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ak form: there exists no method m of type T for which m(i) can return a value that m(c(i)) cannot return, other parameters and context being equal.  (And vice versa.  With a similar rule for attributes of T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 is this important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says that a conversion preserves all the information defined in type 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lets one specify  which information must be preserve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Choices in converting our mail message</a:t>
            </a:r>
            <a:endParaRPr b="1" lang="en-US" sz="36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00040" y="2104920"/>
            <a:ext cx="893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015520" y="2943360"/>
            <a:ext cx="1106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ck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06000" y="2943360"/>
            <a:ext cx="1283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04920" y="4010040"/>
            <a:ext cx="650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R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956320" y="2867040"/>
            <a:ext cx="1428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77280" y="4086360"/>
            <a:ext cx="1665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l mes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09880" y="4086360"/>
            <a:ext cx="943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h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42880" y="2867040"/>
            <a:ext cx="1909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2126880" y="2368440"/>
            <a:ext cx="1917720" cy="520920"/>
          </a:xfrm>
          <a:prstGeom prst="line">
            <a:avLst/>
          </a:prstGeom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956040" y="2444760"/>
            <a:ext cx="317520" cy="444600"/>
          </a:xfrm>
          <a:prstGeom prst="line">
            <a:avLst/>
          </a:prstGeom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07080" y="2444760"/>
            <a:ext cx="825480" cy="520560"/>
          </a:xfrm>
          <a:prstGeom prst="line">
            <a:avLst/>
          </a:prstGeom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035680" y="2292480"/>
            <a:ext cx="2197080" cy="520560"/>
          </a:xfrm>
          <a:prstGeom prst="line">
            <a:avLst/>
          </a:prstGeom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5175360" y="3359160"/>
            <a:ext cx="241200" cy="749160"/>
          </a:xfrm>
          <a:prstGeom prst="line">
            <a:avLst/>
          </a:prstGeom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873760" y="3359160"/>
            <a:ext cx="520560" cy="749160"/>
          </a:xfrm>
          <a:prstGeom prst="line">
            <a:avLst/>
          </a:prstGeom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7079760" y="3282840"/>
            <a:ext cx="546120" cy="825480"/>
          </a:xfrm>
          <a:prstGeom prst="line">
            <a:avLst/>
          </a:prstGeom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1441080" y="3282840"/>
            <a:ext cx="165240" cy="673200"/>
          </a:xfrm>
          <a:prstGeom prst="line">
            <a:avLst/>
          </a:prstGeom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10560" y="5029200"/>
            <a:ext cx="823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pecting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Communic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Sender, recipient, etc., guaranteed preser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pecting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Packa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Attachment structure guaranteed preser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nt different guarantees?  You can always declare a new  super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What’s good about TOM’s  design?</a:t>
            </a:r>
            <a:endParaRPr b="1" lang="en-US" sz="36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68560" indent="-2685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’s simple (and therefore flexible)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imal, basic, well understood standa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’s accommodat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bes past, present and future data formats with good breadth and depth of expressiven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can be composed with a wide variety of programs and databases (including the Web, off-the-shelf program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nefits start with very low investment, then increa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’s scalable (largely by taking advantage of distributed, interactive nature of Net)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yone can define new  formats and serv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okers coordinate contributions from Net community, allowing efficient sharing of wo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What I’ll be talking about</a:t>
            </a:r>
            <a:endParaRPr b="1" lang="en-US" sz="36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data model and architecture that supports definition, use, and conversion of an arbitrarily large number of data forma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this model helps digital libraries and archives keep electronic documents accessible and usable over long term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Sharing the work: </a:t>
            </a:r>
            <a:br>
              <a:rPr sz="3600"/>
            </a:b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Key for successful digital libraries, archives</a:t>
            </a:r>
            <a:endParaRPr b="1" lang="en-US" sz="36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-27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et gives new opportunities for collaboration, resource sharing, e.g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aling with diverse data formats (TOM broker architectur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ordinated cataloging, acquisition (some now, can be done more openly and broadly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ing crucial metadata (Catalog of Copyright Entri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long-term payoffs for openly sharing colle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 just the benefits of public access for citizenry, but also.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plication minimizes risks of information lo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ue-added services (e.g. indexing, xrefs, search engines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-221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ows whole community to adapt, migrate, augment information for new needs and si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ving it away” lets you amortize cost of improvement &amp; maintenance over wide constituenc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The problem of electronic document preservation</a:t>
            </a:r>
            <a:endParaRPr b="1" lang="en-US" sz="36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can digitize lots of information, but it can become inaccessible very quick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-221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50 year old book vs. 5 year old 5 1/4” floppy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ronic preservation problems differ sharply from print preservation probl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rving the bits is easy: just replicate th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-221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Remove the hardware dependency first if you ca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-221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et allows very wide replication, avoiding single-archive failu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roblem is understanding the bits, so that you can continue to use them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Data format mismatch</a:t>
            </a:r>
            <a:endParaRPr b="1" lang="en-US" sz="36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259920" indent="-259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a large, diverse, digital archive, information comes in a variety of forma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clients only understand a few forma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therefore cannot effectively use many materia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07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may be in incomprehensible for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07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may be in form not easily worked wi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icularly problematic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07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ats that have complex (but useful) structu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07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gacy data and programs (obsolete format assumption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In a long-lived library, most information IS “legacy”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Standards are a partial solution</a:t>
            </a:r>
            <a:endParaRPr b="1" lang="en-US" sz="36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257040" indent="-257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s allow common understandings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7040" indent="-2055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: SGML/XML, Word processor formats, HTML, PDF, Quark, specialized scientific formats, page image formats…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7040" indent="-2055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adata: USMARC, Dublin Core, RDF..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no one standard fits a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7040" indent="-2055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ent  uses may require different data cho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7040" indent="-2055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est common denonimator” often not good enoug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standards change over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7040" indent="-2055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s and applications change (sometimes quickly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7040" indent="-2055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ization process la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7040" indent="-2055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en established standards become obsole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o supports EBCDIC now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o will support 1999 standards in 2049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Techologies for usefully preserving unfamiliar formats </a:t>
            </a:r>
            <a:endParaRPr b="1" lang="en-US" sz="36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ul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n’t change the data; maintain programs to deal with 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sentially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data abstra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since  the “emulation” just needs to provide same functionality, and may be implemented very differently from origin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: May be costly to maintain infrastructure; may unnecessarily lock user into old interaction sty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g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iodically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convert dat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more “up-to-date” formats; then use your everyday programs on 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: How do you control information loss?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An archived document</a:t>
            </a:r>
            <a:endParaRPr b="1" lang="en-US" sz="3600" spc="-1" strike="noStrike">
              <a:solidFill>
                <a:srgbClr val="063de8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981080" y="1612800"/>
            <a:ext cx="5168880" cy="422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Its raw electronic form</a:t>
            </a:r>
            <a:endParaRPr b="1" lang="en-US" sz="36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75000" y="1536840"/>
            <a:ext cx="5689080" cy="49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om: Sherry T Haddock &lt;shaddock@csr.uta.edu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: caeti@nosc.m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bject: CAETI Community Meeting Inf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e: Thu, 15 Feb 1996 17:12:52 -0600 (CS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me-Version: 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ent-Type: MULTIPART/MIXED; BOUNDARY="608184028-521714262-824425972=:20798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c: Sherry T Haddock &lt;shaddock@csr.uta.edu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is message is in MIME format.  The first part should be readable text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hile the remaining parts are likely unreadable without MIME-aware tool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nd mail to mime@docserver.cac.washington.edu for more inf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-608184028-521714262-824425972=:2079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ent-Type: TEXT/PLAIN; charset=US-ASCI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ere are maps detailing the March CAETI Community Meeting Location. 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anks agai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herry &lt;shaddock@csr.uta.edu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-608184028-521714262-824425972=:2079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ent-Type: TEXT/PLAIN; charset=US-ASCII; name="CaetiMap.hqx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ent-Transfer-Encoding: BASE6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ent-ID: &lt;Pine.SUN.3.90.960215171252.20798B@csr.uta.edu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ent-Description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FRoaXMgZmlsZSBtdXN0IGJlIGNvbnZlcnRlZCB3aXRoIEJpbkhleCA0Lj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QoNCjojODBLQ0E0VCklZUtGISI2NiUzYzgmIjgtYCMzIiQpIU4hLSlEMyV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ZC1tNGkrJ2EnWiUhTiIhbCEhLSFyW20NCg0KKiEhQiFOIVgiISohJCEzIzM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iEhISFtIU4hLSIhKiEkcltxMyFgIzMjMnEzcnJxM1hJaHJOIS1BISohJCF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w0KDQozIWAzIU4hLSYhKiEkIkojMyFgRiFOIS0pISohJCMzIzMhYFMhTi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CEqISQkISMzIWBkIU4hLTEhKiEkcltxDQoNCjMhcmxyTiEtNCEqISQlSiM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WEtIU4hLTghKiEkJjMjMyFhQiFOITJxcmohJHJbcTNycnEzVCEiNSEqIX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846760" y="4491000"/>
            <a:ext cx="22352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Emaile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ME-attache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64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hexe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werpoint 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TOM Basic Data Concepts</a:t>
            </a:r>
            <a:endParaRPr b="1" lang="en-US" sz="36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45520" indent="-245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objec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 (non-mutable)  typed val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9680" indent="-1965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s can come from anywhere, be passed about (cf. MIM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5520" indent="-245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typ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pecifies abstractly what can be done with an ob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9680" indent="-1965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ludes attributes, methods, with slots for specs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5520" indent="-245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encod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 mapping from one type to another type that represents the original ty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9680" indent="-1965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ually maps to a simpler typ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9680" indent="-1965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``lowest-level’’ type: byte sequ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5520" indent="-245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 representation of a type as a byte sequence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9680" indent="-1965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a type plus a sequence of encodin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9680" indent="-1965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sions can be defined between format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5T09:50:31Z</dcterms:created>
  <dc:creator>John Ockerbloom</dc:creator>
  <dc:description/>
  <dc:language>en-US</dc:language>
  <cp:lastModifiedBy>spok</cp:lastModifiedBy>
  <cp:lastPrinted>1999-04-24T21:28:08Z</cp:lastPrinted>
  <dcterms:modified xsi:type="dcterms:W3CDTF">1999-04-28T13:32:32Z</dcterms:modified>
  <cp:revision>77</cp:revision>
  <dc:subject/>
  <dc:title>Mediating Among Diverse Data Formats</dc:title>
</cp:coreProperties>
</file>