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B69-2F79-46EF-A11B-F36B3E4E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812-7AE5-426F-8276-9DFC6929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551-3374-4A6C-889D-7AF39077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FB2-F4B0-4565-9F0D-89656899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D5E-E8F3-40B6-B0B8-E7A94BAF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76B-43F7-4691-A00A-1E9075B7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16E-D2CB-41B0-8CE6-EF36A96B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0F2-0A0D-49D4-87A1-372A574C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6031-AACF-475F-8B73-EE5B0FFD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AC20-E4EA-41A9-A975-7C8963D5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F1F-21AC-4A4D-BA01-B34237CB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889-84CA-423F-8F36-7373358F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79E2-7AEF-4D26-9BA2-E773C6256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 almost always over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 to be some systematic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 developers are yo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gue requirements lead to over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Path Mistake: E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problem with E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dependenc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 waiting for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to stop developing, switc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incredibly disruptive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for entire 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engine can do without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 synthesizes placeholder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d up scrapping entire EM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Path Fix: EML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age Babel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comm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ext in any 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rectangle in any color or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 with b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 with tiled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 with transparent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 actions with 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alog is a BabelScript sub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ical EML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295280"/>
            <a:ext cx="807696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routine EditInterfaceSliderDialog(title, opts) of P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Calculate the window si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txtwidth, ctrlwid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id,qty,txt inlist(opt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v = clientfontmeasure("tahoma(9)", 10000, string(txt,":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w = nth(v,3)-nth(v,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w &gt; txtwidth) txtwidth = 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qty * 18 &gt; ctrlwidth) ctrlwidth = qty*1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height = (length(opts) / 3) * 2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x0=0; var x1=10; var x2=x1+txtwidth; var x3=x2+4; var x4=x3+ctrlwidth; var x5=x4+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y0=0; var y1=50; var y2=y1+height; var y3=y2+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win = boxdrag(boxplaced(Client.DialogID,Client.Screen,x5,y3,"c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cbox = boxposition("CBOX:",win,x4-16,y0+10,x4,y0+2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titlebox = boxposition("TITLE:",win,x1,y0+10,x4-20,y0+4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intstyle(win,1,"wingeneric","win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inttext(titlebox,0,"tahoma(9)lt",titl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intStyle(cbox,1,"wingeneric",string("close",buttonstate(cbox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tonReply(cbox,client.DialogHost,"closebox",w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c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ual Approach to Loc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143000"/>
            <a:ext cx="3276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 of BrickRack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menu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!Place.Inventory[Bricks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("Make bricks“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1143000"/>
            <a:ext cx="32763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 of BrickRack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menu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!Place.Inventory[Bricks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(STRING_MAKE_BRICK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3200400"/>
            <a:ext cx="4343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lis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_MAKE_BRICKS=“make brick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_KICK_BABY=“kick the ba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114800"/>
            <a:ext cx="4343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rma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_MAKE_BRICKS=“mache Ziegel 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_KICK_BABY=“treten Sie das Ba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51055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terrible approach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d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ugg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d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Approach to Loc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143000"/>
            <a:ext cx="3276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 of BrickRack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menu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!Place.Inventory[Bricks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("Make bricks“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3124080"/>
            <a:ext cx="4343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rma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e “make Brick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“mache Ziegel 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e “kick the ba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“treten Sie das Ba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5105520"/>
            <a:ext cx="716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dependency between translator and programm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rupt programmer – bet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ailure mode – bet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g / Buc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ed implementing just for sak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 only does out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llision det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ajor mistake: “good graphic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eed good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understood what good graphics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g/Buck in 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943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scape Tor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3880" y="1104840"/>
            <a:ext cx="6172200" cy="4632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0400" y="5715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ntown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g/Buck in 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-party 3D Eng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id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time, no free eng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I probably wou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, comes down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ng/b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 and 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option: third-party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pay a cost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 to Debug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y Mechanism to Replay Cr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 structured as event-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in a “recording”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deterministically play-back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could mail log back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if it crashes, I can replay in debu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ale in the Des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game to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yer onlin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3D renderer, high quality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rated by review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very chea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rogrammers + 2 artists, 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$1M sp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we 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 unusual software engineering pract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ent Replay Partly Success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Heap not determin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our own Heap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helped some, but still not quit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, Drivers were mai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RAM surpri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er Replay Fully Success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mportant to debug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r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much more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was ours: known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s were not a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are rock-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s in debugging pai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Bug Mgm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n’t an option for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views in th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Investment in Debug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OpenGL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Z-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Bl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Ligh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Light1 to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zbuf, no blending, blue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Z-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Blending already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Ligh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ight1 color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no zbuf, no blending, no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is “set state, then render list of triangl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with this style: bug-pr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OpenGL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Z-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Bl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Ligh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Light1 to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zbuf, no blending, blue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Z-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Blending // redundant, but put it here any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Ligh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Light1 to White // irrelevant, but put it here any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no zbuf, no blending, no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is “set ALL state, then render list of triangl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with this style of code: S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rapper around OpenG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RenderZNB(trian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Z_buffer_enabled==0) { Enable Z-buffer; Z_buffer_enabled=1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Blending_enabled==1) { Disable Blending; Blending_enabled=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Light1_enabled==0) { Enable Light 1; Light1_enabled=1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Light1_color!=blue) { Set Light1 to Blue; Light1_color=blue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no zbuf, no blending, no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bad. Used this for a w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pecial cases explo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X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Force 2 pixel processing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Force 4 pixel processing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eon/GeForce FX pixel processing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x program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rendering modes explo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: about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: about 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Unmanage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1066680"/>
            <a:ext cx="5486400" cy="499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 dynclou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eters mat $PROJ mat $MODV int $NVERT arr $VA int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size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phatest g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buffer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l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mask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ending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tex simple $PROJ $MOD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imple triangles $NVERT arr vtx tex0 tex1 tex2 col $VA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 nvrc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gb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= tex0.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= tex1.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0 = su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c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.rgb = col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.a = tex0.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ure simple $NOISE wrap lin clod -2 $NOISE wrap lin clod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066680"/>
            <a:ext cx="2819520" cy="494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ttle language, eliminated three classes of bu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 guarantees deterministic behavior if I omit a piece of stat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 guarantees that DirectX and OpenGL produce same result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 guarantees that it runs code that the card suppo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dynamically edit rendering modes while game is run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Variables Ba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ly provides a nice API, but more impor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Genesis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know what first game was to b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game based on Bug’s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game based on mad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ed up writing game in ancient Egyp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knowledge was a good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did k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econ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 builds fa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y cons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y prod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ation: Info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n: implement a specialize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Genesis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1828800"/>
            <a:ext cx="37335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consume(Wood,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leep(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consume(Wood,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leep(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produce(Boards,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447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ber Mill C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066680"/>
            <a:ext cx="8305560" cy="350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of BrickRackBuilding guard macro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menu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!Place.Inventory[Bricks] &amp; !Place.Inventory[WetFirebricks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("Make bricks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time 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 req=&lt;&lt;Mud,3,Straw,2,Sand,1&gt;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!has(actor,req)) ReqFail("To make Bricks, you need: ", req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or-&gt;eConsumeList(req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Graphic(Place,"model=brickrack-we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time 3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-&gt;eProduce(Bricks,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Graphic(Place,"model=brickrack-full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800600"/>
            <a:ext cx="3809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menu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 and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access to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800600"/>
            <a:ext cx="3353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utable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ons of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lan Wor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w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ustom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ustom language to write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case: 3MB engine, 8MB scrip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i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effect of maximiz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ang/b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ritical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990720"/>
            <a:ext cx="28958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1676520"/>
            <a:ext cx="28195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1447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09680" y="2133360"/>
            <a:ext cx="3733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2004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roved Critical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191120"/>
            <a:ext cx="14479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286000" y="4723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09680" y="1523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1828800"/>
            <a:ext cx="14475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4191120"/>
            <a:ext cx="281916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2895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5790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urrent 2D &amp; L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divided engine into two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/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API betwee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ame_Get_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ame_Get_Sp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ame_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ame_InvokeA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Path Mistake: E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: HTML for Dialog Bo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icture of 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“mask” indicating “fiel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INI file giving fields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L says what to put in th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733920"/>
            <a:ext cx="510552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ield “ok”&gt;  &lt;invoke “oksubroutine()”&gt; &lt;/fiel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ield “cancel”&gt; &lt;invoke “cancelsubroutine()”&gt; &lt;/fiel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ield “inventory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&lt;vbox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hbox&gt;&lt;text “roosters”&gt;&lt;text “25”&gt;&lt;/hbox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hbox&gt;&lt;text “hens”&gt;&lt;text “16”&gt;&lt;/hbox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&lt;/vbox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fiel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72200" y="304812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867280" y="99072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91320" y="4952880"/>
            <a:ext cx="2514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=invent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=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=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03:30:07Z</dcterms:created>
  <dc:creator>Julio Gonzales</dc:creator>
  <dc:description/>
  <dc:language>en-US</dc:language>
  <cp:lastModifiedBy>Josh Yelon</cp:lastModifiedBy>
  <dcterms:modified xsi:type="dcterms:W3CDTF">2005-01-24T17:26:29Z</dcterms:modified>
  <cp:revision>12</cp:revision>
  <dc:subject/>
  <dc:title>Game Creation with Panda3D</dc:title>
</cp:coreProperties>
</file>