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E0B61-5697-45B7-A61B-B87B4FA9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9AB7-D657-4DB2-ADC9-72F49E5C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06D9-291E-4BEA-9198-2540CAF7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9C16-CC29-469D-8791-5DE0F51E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D012-2273-4FFB-9559-310F59B5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CC16-1BAD-4B8E-83AE-43ADEE47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EB36-BF6C-45FF-AC83-5D8B04BB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6D8D-2664-4FCE-8C85-D7D30D5F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E31C-736E-436B-BE4D-51455F51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0542-18F0-402A-91FC-835280AA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9E3E-5931-4C28-BC1A-DC85EBB2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6B2E-209B-4B06-B2A6-8722CFEB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4234-DA07-4F8D-8C2D-4374F07F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8D17-E101-4D20-A233-940C04F7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B9C8-20BB-4360-A4EB-03DA57A5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88D7-1236-45EC-B88C-C0D3E88C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243A-54A2-4623-AD28-F611E1A9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9DAD-07B0-44E4-848B-63A902C0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F962-A4ED-4F38-A985-69B6CAA7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126E-0B35-47E0-844C-6EE13AC7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3D91-7003-46FF-8726-A872E66E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057A-B5A1-4D54-B7BA-D563C4C0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3685-D1AA-485E-8C62-1EEA53A7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DA9E-67DE-4431-B15A-5401621E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F705-1549-44B7-8EE7-7EBD136C1C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11F7-EE0E-4DFF-A121-7C272DDD08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developer.nvidia.com/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dow Tex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t shadows mainly on gr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ixellated unless care tak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ks on older hard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dow Ma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t shadows anywh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ixellated unless care tak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dow Volu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t shadows anywh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ll-rate inten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Textur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to use the shadow map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d an objects that the shadow “hit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the shadow map to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culate texture coordin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n you made the shadow texture in fir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place, you used a came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t the modelview and projection from that came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them to calculate secondary X,Y,Z for each verte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secondary X,Y as the texture coordin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secondary Z to compare to value stored in map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gone... see next sl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48120" y="1523880"/>
            <a:ext cx="1600200" cy="5105520"/>
          </a:xfrm>
          <a:custGeom>
            <a:avLst/>
            <a:gdLst/>
            <a:ahLst/>
            <a:rect l="l" t="t" r="r" b="b"/>
            <a:pathLst>
              <a:path w="1008" h="3216">
                <a:moveTo>
                  <a:pt x="0" y="0"/>
                </a:moveTo>
                <a:lnTo>
                  <a:pt x="336" y="3216"/>
                </a:lnTo>
                <a:lnTo>
                  <a:pt x="1008" y="3216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3657600"/>
            <a:ext cx="2666880" cy="220968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Map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40384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1295280"/>
            <a:ext cx="373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w we have a way to tell which shadow is between person and light (bogus shadow), which is beyond person (true shado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xel shader compar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-value in shadow map to projected Z-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lf-shadowing now work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137160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ene with Lamp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son in yard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cket F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971800" y="5943240"/>
            <a:ext cx="4572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1760" y="60199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jected Z greater tha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Z-value stored in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00" y="289548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jected Z less tha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Z-value stored in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3276720"/>
            <a:ext cx="68580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3581280"/>
            <a:ext cx="457200" cy="15264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5791320"/>
            <a:ext cx="914400" cy="15228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tebulb"/>
          <p:cNvSpPr/>
          <p:nvPr/>
        </p:nvSpPr>
        <p:spPr>
          <a:xfrm>
            <a:off x="2819520" y="1219320"/>
            <a:ext cx="395280" cy="55692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188040" y="3200400"/>
            <a:ext cx="3260880" cy="1143000"/>
          </a:xfrm>
          <a:custGeom>
            <a:avLst/>
            <a:gdLst/>
            <a:ahLst/>
            <a:rect l="l" t="t" r="r" b="b"/>
            <a:pathLst>
              <a:path w="2054" h="720">
                <a:moveTo>
                  <a:pt x="0" y="269"/>
                </a:moveTo>
                <a:lnTo>
                  <a:pt x="134" y="0"/>
                </a:lnTo>
                <a:lnTo>
                  <a:pt x="2054" y="720"/>
                </a:lnTo>
                <a:lnTo>
                  <a:pt x="1353" y="710"/>
                </a:lnTo>
                <a:lnTo>
                  <a:pt x="0" y="269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3352680"/>
            <a:ext cx="1325520" cy="944640"/>
          </a:xfrm>
          <a:custGeom>
            <a:avLst/>
            <a:gdLst/>
            <a:ahLst/>
            <a:rect l="l" t="t" r="r" b="b"/>
            <a:pathLst>
              <a:path w="835" h="595">
                <a:moveTo>
                  <a:pt x="0" y="96"/>
                </a:moveTo>
                <a:lnTo>
                  <a:pt x="384" y="595"/>
                </a:lnTo>
                <a:lnTo>
                  <a:pt x="835" y="576"/>
                </a:lnTo>
                <a:lnTo>
                  <a:pt x="288" y="0"/>
                </a:lnTo>
                <a:lnTo>
                  <a:pt x="0" y="96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3292560"/>
            <a:ext cx="1447920" cy="974520"/>
          </a:xfrm>
          <a:custGeom>
            <a:avLst/>
            <a:gdLst/>
            <a:ahLst/>
            <a:rect l="l" t="t" r="r" b="b"/>
            <a:pathLst>
              <a:path w="912" h="614">
                <a:moveTo>
                  <a:pt x="701" y="0"/>
                </a:moveTo>
                <a:lnTo>
                  <a:pt x="912" y="182"/>
                </a:lnTo>
                <a:lnTo>
                  <a:pt x="528" y="614"/>
                </a:lnTo>
                <a:lnTo>
                  <a:pt x="0" y="614"/>
                </a:lnTo>
                <a:lnTo>
                  <a:pt x="701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3352680"/>
            <a:ext cx="1524240" cy="914400"/>
          </a:xfrm>
          <a:custGeom>
            <a:avLst/>
            <a:gdLst/>
            <a:ahLst/>
            <a:rect l="l" t="t" r="r" b="b"/>
            <a:pathLst>
              <a:path w="960" h="576">
                <a:moveTo>
                  <a:pt x="240" y="0"/>
                </a:moveTo>
                <a:lnTo>
                  <a:pt x="0" y="96"/>
                </a:lnTo>
                <a:lnTo>
                  <a:pt x="336" y="576"/>
                </a:lnTo>
                <a:lnTo>
                  <a:pt x="960" y="576"/>
                </a:lnTo>
                <a:lnTo>
                  <a:pt x="24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320760" y="3246480"/>
            <a:ext cx="3444840" cy="1050840"/>
          </a:xfrm>
          <a:custGeom>
            <a:avLst/>
            <a:gdLst/>
            <a:ahLst/>
            <a:rect l="l" t="t" r="r" b="b"/>
            <a:pathLst>
              <a:path w="2170" h="662">
                <a:moveTo>
                  <a:pt x="1997" y="0"/>
                </a:moveTo>
                <a:lnTo>
                  <a:pt x="2170" y="211"/>
                </a:lnTo>
                <a:lnTo>
                  <a:pt x="922" y="643"/>
                </a:lnTo>
                <a:lnTo>
                  <a:pt x="0" y="662"/>
                </a:lnTo>
                <a:lnTo>
                  <a:pt x="1997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3292560"/>
            <a:ext cx="1295280" cy="1050840"/>
          </a:xfrm>
          <a:custGeom>
            <a:avLst/>
            <a:gdLst/>
            <a:ahLst/>
            <a:rect l="l" t="t" r="r" b="b"/>
            <a:pathLst>
              <a:path w="816" h="662">
                <a:moveTo>
                  <a:pt x="432" y="662"/>
                </a:moveTo>
                <a:lnTo>
                  <a:pt x="816" y="182"/>
                </a:lnTo>
                <a:lnTo>
                  <a:pt x="605" y="0"/>
                </a:lnTo>
                <a:lnTo>
                  <a:pt x="0" y="614"/>
                </a:lnTo>
                <a:lnTo>
                  <a:pt x="432" y="662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Map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ig problem with algorithms so far: combinator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114800"/>
            <a:ext cx="9144000" cy="38088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2004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32004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32004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133120" y="4114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tebulb"/>
          <p:cNvSpPr/>
          <p:nvPr/>
        </p:nvSpPr>
        <p:spPr>
          <a:xfrm>
            <a:off x="3505320" y="2209680"/>
            <a:ext cx="380880" cy="45720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tebulb"/>
          <p:cNvSpPr/>
          <p:nvPr/>
        </p:nvSpPr>
        <p:spPr>
          <a:xfrm>
            <a:off x="5257800" y="2209680"/>
            <a:ext cx="380880" cy="45720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495288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x shadow maps/tex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nder wall with six texure units? too ma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nder wall in six passes? too ma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905120"/>
            <a:ext cx="19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wo street-lamps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ree people on sidewalk,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Map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lution to the combinatorics probl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f-shadowing work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not treat entire scene as one big objec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te one shadow ma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de is simpler, to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Map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oblem with the “one big object/one big map” approach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ume light is top-down for sake of argum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ume map is 1024x102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ume shadows limited to 256 feet around view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at’s only 4 pixels per foo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dow of a human will look like a clump of a half-dozen pixe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329920" y="4114800"/>
            <a:ext cx="6739560" cy="2514600"/>
            <a:chOff x="2329920" y="4114800"/>
            <a:chExt cx="6739560" cy="2514600"/>
          </a:xfrm>
        </p:grpSpPr>
        <p:sp>
          <p:nvSpPr>
            <p:cNvPr id="301" name=""/>
            <p:cNvSpPr/>
            <p:nvPr/>
          </p:nvSpPr>
          <p:spPr>
            <a:xfrm>
              <a:off x="6172200" y="4114800"/>
              <a:ext cx="990360" cy="762120"/>
            </a:xfrm>
            <a:prstGeom prst="rect">
              <a:avLst/>
            </a:prstGeom>
            <a:solidFill>
              <a:srgbClr val="80808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5867640"/>
              <a:ext cx="1066680" cy="76176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90960" y="5867640"/>
              <a:ext cx="1067040" cy="761760"/>
            </a:xfrm>
            <a:prstGeom prst="rect">
              <a:avLst/>
            </a:prstGeom>
            <a:solidFill>
              <a:srgbClr val="e5e5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15200" y="4724640"/>
              <a:ext cx="152280" cy="152280"/>
            </a:xfrm>
            <a:prstGeom prst="smileyFace">
              <a:avLst>
                <a:gd name="adj" fmla="val 9282"/>
              </a:avLst>
            </a:prstGeom>
            <a:solidFill>
              <a:srgbClr val="000514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14600" y="4953240"/>
              <a:ext cx="6172200" cy="76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14600" y="5334120"/>
              <a:ext cx="6172200" cy="0"/>
            </a:xfrm>
            <a:prstGeom prst="line">
              <a:avLst/>
            </a:prstGeom>
            <a:ln w="316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8303040" y="4417560"/>
              <a:ext cx="766440" cy="766440"/>
              <a:chOff x="8303040" y="4417560"/>
              <a:chExt cx="766440" cy="766440"/>
            </a:xfrm>
          </p:grpSpPr>
          <p:sp>
            <p:nvSpPr>
              <p:cNvPr id="308" name=""/>
              <p:cNvSpPr/>
              <p:nvPr/>
            </p:nvSpPr>
            <p:spPr>
              <a:xfrm rot="4333800">
                <a:off x="8381160" y="44956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4333800">
                <a:off x="8312400" y="4694400"/>
                <a:ext cx="457200" cy="304920"/>
              </a:xfrm>
              <a:prstGeom prst="ellipse">
                <a:avLst/>
              </a:prstGeom>
              <a:solidFill>
                <a:srgbClr val="8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333800">
                <a:off x="8428680" y="4820760"/>
                <a:ext cx="152280" cy="759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657600" y="5410440"/>
              <a:ext cx="533160" cy="228600"/>
              <a:chOff x="3657600" y="5410440"/>
              <a:chExt cx="533160" cy="228600"/>
            </a:xfrm>
          </p:grpSpPr>
          <p:sp>
            <p:nvSpPr>
              <p:cNvPr id="312" name=""/>
              <p:cNvSpPr/>
              <p:nvPr/>
            </p:nvSpPr>
            <p:spPr>
              <a:xfrm>
                <a:off x="3657600" y="5410440"/>
                <a:ext cx="533160" cy="228600"/>
              </a:xfrm>
              <a:prstGeom prst="rect">
                <a:avLst/>
              </a:prstGeom>
              <a:solidFill>
                <a:srgbClr val="8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76040" y="5438880"/>
                <a:ext cx="207000" cy="171360"/>
              </a:xfrm>
              <a:prstGeom prst="rect">
                <a:avLst/>
              </a:prstGeom>
              <a:solidFill>
                <a:srgbClr val="8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181480" y="5410440"/>
              <a:ext cx="533520" cy="228600"/>
              <a:chOff x="5181480" y="5410440"/>
              <a:chExt cx="533520" cy="228600"/>
            </a:xfrm>
          </p:grpSpPr>
          <p:sp>
            <p:nvSpPr>
              <p:cNvPr id="315" name=""/>
              <p:cNvSpPr/>
              <p:nvPr/>
            </p:nvSpPr>
            <p:spPr>
              <a:xfrm>
                <a:off x="5181480" y="5410440"/>
                <a:ext cx="533520" cy="228600"/>
              </a:xfrm>
              <a:prstGeom prst="rect">
                <a:avLst/>
              </a:prstGeom>
              <a:solidFill>
                <a:srgbClr val="9933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99920" y="5438880"/>
                <a:ext cx="207360" cy="171360"/>
              </a:xfrm>
              <a:prstGeom prst="rect">
                <a:avLst/>
              </a:prstGeom>
              <a:solidFill>
                <a:srgbClr val="9933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324480" y="5028840"/>
              <a:ext cx="533520" cy="228600"/>
              <a:chOff x="6324480" y="5028840"/>
              <a:chExt cx="533520" cy="228600"/>
            </a:xfrm>
          </p:grpSpPr>
          <p:sp>
            <p:nvSpPr>
              <p:cNvPr id="318" name=""/>
              <p:cNvSpPr/>
              <p:nvPr/>
            </p:nvSpPr>
            <p:spPr>
              <a:xfrm flipH="1" rot="10800000">
                <a:off x="6324480" y="5028840"/>
                <a:ext cx="533520" cy="228600"/>
              </a:xfrm>
              <a:prstGeom prst="rect">
                <a:avLst/>
              </a:prstGeom>
              <a:solidFill>
                <a:srgbClr val="008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0800000">
                <a:off x="6532560" y="5057280"/>
                <a:ext cx="206280" cy="171360"/>
              </a:xfrm>
              <a:prstGeom prst="rect">
                <a:avLst/>
              </a:prstGeom>
              <a:solidFill>
                <a:srgbClr val="008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124080" y="5028840"/>
              <a:ext cx="533520" cy="228600"/>
              <a:chOff x="3124080" y="5028840"/>
              <a:chExt cx="533520" cy="228600"/>
            </a:xfrm>
          </p:grpSpPr>
          <p:sp>
            <p:nvSpPr>
              <p:cNvPr id="321" name=""/>
              <p:cNvSpPr/>
              <p:nvPr/>
            </p:nvSpPr>
            <p:spPr>
              <a:xfrm flipH="1" rot="10800000">
                <a:off x="3124080" y="5028840"/>
                <a:ext cx="533520" cy="228600"/>
              </a:xfrm>
              <a:prstGeom prst="rect">
                <a:avLst/>
              </a:prstGeom>
              <a:solidFill>
                <a:srgbClr val="0099cc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0800000">
                <a:off x="3332160" y="5057280"/>
                <a:ext cx="206280" cy="171360"/>
              </a:xfrm>
              <a:prstGeom prst="rect">
                <a:avLst/>
              </a:prstGeom>
              <a:solidFill>
                <a:srgbClr val="0099cc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6933960" y="5715000"/>
              <a:ext cx="152640" cy="152640"/>
            </a:xfrm>
            <a:prstGeom prst="smileyFace">
              <a:avLst>
                <a:gd name="adj" fmla="val 9282"/>
              </a:avLst>
            </a:prstGeom>
            <a:solidFill>
              <a:srgbClr val="000514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29920" y="4167360"/>
              <a:ext cx="2969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aramond"/>
                </a:rPr>
                <a:t>Street Scene with road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aramond"/>
                </a:rPr>
                <a:t>cars, buildings, peopl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Map Issu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 now, you have a tradeo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big object, one big map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wnside: pixel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pside: simplicity, speed of rende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le objects, multiple map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wnside: complexity, many p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pside: sharper shado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people seem to go for “one big map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Map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ple lights, using the “one big map” approach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"/>
          <p:cNvSpPr/>
          <p:nvPr/>
        </p:nvSpPr>
        <p:spPr>
          <a:xfrm>
            <a:off x="1295280" y="2133720"/>
            <a:ext cx="7315200" cy="3276360"/>
          </a:xfrm>
          <a:prstGeom prst="rect">
            <a:avLst/>
          </a:prstGeom>
          <a:solidFill>
            <a:srgbClr val="3333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all lights 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ate one big map for that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nder sce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obj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dentify 3 lights that are closest to the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3 texture units to apply 3 shadow 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xel shader calculates 3 lights, uses 3 maps to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ird concept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hadow of an object is a volu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a polygonal model of the volu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der” it to add a shadow to the sc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987200" y="4267080"/>
            <a:ext cx="5023080" cy="2057400"/>
            <a:chOff x="1987200" y="4267080"/>
            <a:chExt cx="5023080" cy="2057400"/>
          </a:xfrm>
        </p:grpSpPr>
        <p:sp>
          <p:nvSpPr>
            <p:cNvPr id="333" name="Litebulb"/>
            <p:cNvSpPr/>
            <p:nvPr/>
          </p:nvSpPr>
          <p:spPr>
            <a:xfrm>
              <a:off x="2209680" y="4952880"/>
              <a:ext cx="395280" cy="48096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62520" y="4267080"/>
              <a:ext cx="3047760" cy="2057400"/>
            </a:xfrm>
            <a:custGeom>
              <a:avLst/>
              <a:gdLst/>
              <a:ahLst/>
              <a:rect l="l" t="t" r="r" b="b"/>
              <a:pathLst>
                <a:path w="1920" h="1296">
                  <a:moveTo>
                    <a:pt x="0" y="384"/>
                  </a:moveTo>
                  <a:lnTo>
                    <a:pt x="0" y="816"/>
                  </a:lnTo>
                  <a:lnTo>
                    <a:pt x="1920" y="1296"/>
                  </a:lnTo>
                  <a:lnTo>
                    <a:pt x="1920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57600" y="4876920"/>
              <a:ext cx="685800" cy="685800"/>
            </a:xfrm>
            <a:prstGeom prst="smileyFace">
              <a:avLst>
                <a:gd name="adj" fmla="val 9282"/>
              </a:avLst>
            </a:prstGeom>
            <a:solidFill>
              <a:srgbClr val="0099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7200" y="5892840"/>
              <a:ext cx="72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aramond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21160" y="586728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aramond"/>
                </a:rPr>
                <a:t>obje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17200" y="5081760"/>
              <a:ext cx="11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aramond"/>
                </a:rPr>
                <a:t>shadow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ird concept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hadow of an object is a volu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a polygonal model of the volu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der” it to add a shadow to the sc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Litebulb"/>
          <p:cNvSpPr/>
          <p:nvPr/>
        </p:nvSpPr>
        <p:spPr>
          <a:xfrm>
            <a:off x="2209680" y="4952880"/>
            <a:ext cx="395280" cy="48096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87200" y="589284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4876920"/>
            <a:ext cx="685800" cy="685800"/>
          </a:xfrm>
          <a:prstGeom prst="ellipse">
            <a:avLst/>
          </a:prstGeom>
          <a:solidFill>
            <a:srgbClr val="000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4267080"/>
            <a:ext cx="3047760" cy="2057400"/>
          </a:xfrm>
          <a:custGeom>
            <a:avLst/>
            <a:gdLst/>
            <a:ahLst/>
            <a:rect l="l" t="t" r="r" b="b"/>
            <a:pathLst>
              <a:path w="1920" h="1296">
                <a:moveTo>
                  <a:pt x="0" y="384"/>
                </a:moveTo>
                <a:lnTo>
                  <a:pt x="0" y="816"/>
                </a:lnTo>
                <a:lnTo>
                  <a:pt x="1920" y="1296"/>
                </a:lnTo>
                <a:lnTo>
                  <a:pt x="192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00008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4876920"/>
            <a:ext cx="685800" cy="685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50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olygonal model of sha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Litebulb"/>
          <p:cNvSpPr/>
          <p:nvPr/>
        </p:nvSpPr>
        <p:spPr>
          <a:xfrm>
            <a:off x="4572000" y="6019920"/>
            <a:ext cx="395280" cy="48096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379120" y="2930040"/>
            <a:ext cx="3674160" cy="3352320"/>
            <a:chOff x="5379120" y="2930040"/>
            <a:chExt cx="3674160" cy="3352320"/>
          </a:xfrm>
        </p:grpSpPr>
        <p:sp>
          <p:nvSpPr>
            <p:cNvPr id="350" name=""/>
            <p:cNvSpPr/>
            <p:nvPr/>
          </p:nvSpPr>
          <p:spPr>
            <a:xfrm rot="19696800">
              <a:off x="5569200" y="4979520"/>
              <a:ext cx="685800" cy="685800"/>
            </a:xfrm>
            <a:prstGeom prst="ellipse">
              <a:avLst/>
            </a:prstGeom>
            <a:solidFill>
              <a:srgbClr val="00008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9696800">
              <a:off x="5692320" y="3577320"/>
              <a:ext cx="3047760" cy="2057400"/>
            </a:xfrm>
            <a:custGeom>
              <a:avLst/>
              <a:gdLst/>
              <a:ahLst/>
              <a:rect l="l" t="t" r="r" b="b"/>
              <a:pathLst>
                <a:path w="1920" h="1296">
                  <a:moveTo>
                    <a:pt x="0" y="384"/>
                  </a:moveTo>
                  <a:lnTo>
                    <a:pt x="0" y="816"/>
                  </a:lnTo>
                  <a:lnTo>
                    <a:pt x="1920" y="1296"/>
                  </a:lnTo>
                  <a:lnTo>
                    <a:pt x="1920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000080"/>
            </a:solidFill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9696800">
              <a:off x="5634000" y="4939560"/>
              <a:ext cx="685800" cy="685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934320" y="2819520"/>
            <a:ext cx="152280" cy="373356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724800" y="2394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651840" y="2965680"/>
            <a:ext cx="773280" cy="773640"/>
            <a:chOff x="3651840" y="2965680"/>
            <a:chExt cx="773280" cy="773640"/>
          </a:xfrm>
        </p:grpSpPr>
        <p:sp>
          <p:nvSpPr>
            <p:cNvPr id="356" name=""/>
            <p:cNvSpPr/>
            <p:nvPr/>
          </p:nvSpPr>
          <p:spPr>
            <a:xfrm rot="17328000">
              <a:off x="3733560" y="3047400"/>
              <a:ext cx="609480" cy="6094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7328000">
              <a:off x="3953880" y="3249000"/>
              <a:ext cx="457200" cy="304920"/>
            </a:xfrm>
            <a:prstGeom prst="ellipse">
              <a:avLst/>
            </a:pr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7328000">
              <a:off x="4142520" y="3375720"/>
              <a:ext cx="152280" cy="759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4419720" y="3429000"/>
            <a:ext cx="434340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19720" y="3505320"/>
            <a:ext cx="3352680" cy="3200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1066680"/>
            <a:ext cx="579132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ixel 1: shadow volume is not hidden by w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ixel 2: back is hidden, front is visi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ixel 3: shadow volume is entirely hid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19720" y="3505320"/>
            <a:ext cx="4343400" cy="1752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17640" y="31240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ixel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464000">
            <a:off x="5493600" y="37339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ixel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2401800">
            <a:off x="5112000" y="411444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ixel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4800600"/>
            <a:ext cx="304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idea: tell video chip to render front and back of volume invisibly, recording only whether front and back are visible or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81120" y="2282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Why Shadows?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ree good reasons I can think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vation cue (see abo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ed photorealistic sty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make it spooky (dark woods,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320760"/>
            <a:ext cx="4800600" cy="351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1676520"/>
            <a:ext cx="5867280" cy="4413240"/>
          </a:xfrm>
          <a:prstGeom prst="rect">
            <a:avLst/>
          </a:prstGeom>
          <a:solidFill>
            <a:srgbClr val="3333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nder scene (including wall) the normal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able writes to color buffer, Z-buff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nder front of volum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able backface cu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crement the stencil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nder back of volum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abl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frontfac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cu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crement the stencil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rken any pixel where stencil is posi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66880" y="2362320"/>
            <a:ext cx="2882520" cy="2895480"/>
            <a:chOff x="6266880" y="2362320"/>
            <a:chExt cx="2882520" cy="2895480"/>
          </a:xfrm>
        </p:grpSpPr>
        <p:sp>
          <p:nvSpPr>
            <p:cNvPr id="370" name="Litebulb"/>
            <p:cNvSpPr/>
            <p:nvPr/>
          </p:nvSpPr>
          <p:spPr>
            <a:xfrm>
              <a:off x="6756120" y="4797000"/>
              <a:ext cx="203400" cy="32292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7087320" y="2860200"/>
              <a:ext cx="2062080" cy="2000520"/>
              <a:chOff x="7087320" y="2860200"/>
              <a:chExt cx="2062080" cy="2000520"/>
            </a:xfrm>
          </p:grpSpPr>
          <p:sp>
            <p:nvSpPr>
              <p:cNvPr id="372" name=""/>
              <p:cNvSpPr/>
              <p:nvPr/>
            </p:nvSpPr>
            <p:spPr>
              <a:xfrm rot="19696800">
                <a:off x="7263360" y="3988800"/>
                <a:ext cx="353160" cy="460440"/>
              </a:xfrm>
              <a:prstGeom prst="ellipse">
                <a:avLst/>
              </a:prstGeom>
              <a:solidFill>
                <a:srgbClr val="00008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9696800">
                <a:off x="7332840" y="3169440"/>
                <a:ext cx="1570320" cy="1381320"/>
              </a:xfrm>
              <a:custGeom>
                <a:avLst/>
                <a:gdLst/>
                <a:ahLst/>
                <a:rect l="l" t="t" r="r" b="b"/>
                <a:pathLst>
                  <a:path w="1920" h="1296">
                    <a:moveTo>
                      <a:pt x="0" y="384"/>
                    </a:moveTo>
                    <a:lnTo>
                      <a:pt x="0" y="816"/>
                    </a:lnTo>
                    <a:lnTo>
                      <a:pt x="1920" y="1296"/>
                    </a:lnTo>
                    <a:lnTo>
                      <a:pt x="1920" y="0"/>
                    </a:lnTo>
                    <a:lnTo>
                      <a:pt x="0" y="384"/>
                    </a:lnTo>
                    <a:close/>
                  </a:path>
                </a:pathLst>
              </a:custGeom>
              <a:solidFill>
                <a:srgbClr val="000080"/>
              </a:solidFill>
              <a:ln cap="sq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9696800">
                <a:off x="7296480" y="3968280"/>
                <a:ext cx="353160" cy="460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7973280" y="2647800"/>
              <a:ext cx="78120" cy="25070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37560" y="236232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wa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6266880" y="2761920"/>
              <a:ext cx="429120" cy="488160"/>
              <a:chOff x="6266880" y="2761920"/>
              <a:chExt cx="429120" cy="488160"/>
            </a:xfrm>
          </p:grpSpPr>
          <p:sp>
            <p:nvSpPr>
              <p:cNvPr id="378" name=""/>
              <p:cNvSpPr/>
              <p:nvPr/>
            </p:nvSpPr>
            <p:spPr>
              <a:xfrm rot="17328000">
                <a:off x="6276600" y="2848680"/>
                <a:ext cx="408960" cy="3139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328000">
                <a:off x="6401520" y="2952720"/>
                <a:ext cx="306720" cy="156960"/>
              </a:xfrm>
              <a:prstGeom prst="ellipse">
                <a:avLst/>
              </a:prstGeom>
              <a:solidFill>
                <a:srgbClr val="8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328000">
                <a:off x="6523200" y="3018240"/>
                <a:ext cx="101880" cy="388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flipV="1">
              <a:off x="6677640" y="3057120"/>
              <a:ext cx="2237760" cy="51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77640" y="3108600"/>
              <a:ext cx="1727280" cy="2149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77640" y="3108600"/>
              <a:ext cx="2237760" cy="117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57160" y="285228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ixel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464000">
              <a:off x="7156800" y="333864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ixel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401800">
              <a:off x="6921720" y="363168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ixel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-145440" y="1143000"/>
            <a:ext cx="36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gorithm 1 – a first attemp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152280" y="1066680"/>
            <a:ext cx="5867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gorithm 1 handles multiple shadow volum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see front of two volumes, but only back of 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ixel is incremented twice, decremented o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nal stencil value: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at means pixel is inside 1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nal stencil count = number of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od enough. If stencil nonzero, pixel in shad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tebulb"/>
          <p:cNvSpPr/>
          <p:nvPr/>
        </p:nvSpPr>
        <p:spPr>
          <a:xfrm>
            <a:off x="5308560" y="4876920"/>
            <a:ext cx="276120" cy="37440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54840" y="2387520"/>
            <a:ext cx="106200" cy="290376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91760" y="20574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659120" y="2508840"/>
            <a:ext cx="555840" cy="586800"/>
            <a:chOff x="4659120" y="2508840"/>
            <a:chExt cx="555840" cy="586800"/>
          </a:xfrm>
        </p:grpSpPr>
        <p:sp>
          <p:nvSpPr>
            <p:cNvPr id="394" name=""/>
            <p:cNvSpPr/>
            <p:nvPr/>
          </p:nvSpPr>
          <p:spPr>
            <a:xfrm rot="17328000">
              <a:off x="4699440" y="2589480"/>
              <a:ext cx="474840" cy="425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7328000">
              <a:off x="4859280" y="2730240"/>
              <a:ext cx="356040" cy="212760"/>
            </a:xfrm>
            <a:prstGeom prst="ellipse">
              <a:avLst/>
            </a:pr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7328000">
              <a:off x="5003280" y="2818800"/>
              <a:ext cx="118440" cy="52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202360" y="2921040"/>
            <a:ext cx="2336760" cy="24890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401800">
            <a:off x="5641920" y="34081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ix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342900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1296" y="0"/>
                </a:moveTo>
                <a:lnTo>
                  <a:pt x="1584" y="960"/>
                </a:lnTo>
                <a:lnTo>
                  <a:pt x="192" y="1008"/>
                </a:lnTo>
                <a:lnTo>
                  <a:pt x="48" y="960"/>
                </a:lnTo>
                <a:lnTo>
                  <a:pt x="0" y="864"/>
                </a:lnTo>
                <a:lnTo>
                  <a:pt x="48" y="720"/>
                </a:lnTo>
                <a:lnTo>
                  <a:pt x="96" y="672"/>
                </a:lnTo>
                <a:lnTo>
                  <a:pt x="1296" y="0"/>
                </a:lnTo>
                <a:close/>
              </a:path>
            </a:pathLst>
          </a:custGeom>
          <a:solidFill>
            <a:srgbClr val="000080">
              <a:alpha val="26000"/>
            </a:srgbClr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20575800">
            <a:off x="5791320" y="274284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1296" y="0"/>
                </a:moveTo>
                <a:lnTo>
                  <a:pt x="1584" y="960"/>
                </a:lnTo>
                <a:lnTo>
                  <a:pt x="192" y="1008"/>
                </a:lnTo>
                <a:lnTo>
                  <a:pt x="48" y="960"/>
                </a:lnTo>
                <a:lnTo>
                  <a:pt x="0" y="864"/>
                </a:lnTo>
                <a:lnTo>
                  <a:pt x="48" y="720"/>
                </a:lnTo>
                <a:lnTo>
                  <a:pt x="96" y="672"/>
                </a:lnTo>
                <a:lnTo>
                  <a:pt x="1296" y="0"/>
                </a:lnTo>
                <a:close/>
              </a:path>
            </a:pathLst>
          </a:custGeom>
          <a:solidFill>
            <a:srgbClr val="000080">
              <a:alpha val="26000"/>
            </a:srgbClr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1066680"/>
            <a:ext cx="88394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verything falls apart if near clipping plane touches a shadow volu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xel 3 is 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xel 2: can’t see front of volu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xel 1: can see back, and not front!?!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is a m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88600" y="19051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tebulb"/>
          <p:cNvSpPr/>
          <p:nvPr/>
        </p:nvSpPr>
        <p:spPr>
          <a:xfrm>
            <a:off x="4495680" y="5486400"/>
            <a:ext cx="347760" cy="50004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178880" y="2518920"/>
            <a:ext cx="711000" cy="773280"/>
            <a:chOff x="4178880" y="2518920"/>
            <a:chExt cx="711000" cy="773280"/>
          </a:xfrm>
        </p:grpSpPr>
        <p:sp>
          <p:nvSpPr>
            <p:cNvPr id="406" name=""/>
            <p:cNvSpPr/>
            <p:nvPr/>
          </p:nvSpPr>
          <p:spPr>
            <a:xfrm rot="17328000">
              <a:off x="4216680" y="2637720"/>
              <a:ext cx="634680" cy="534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7328000">
              <a:off x="4422240" y="2814840"/>
              <a:ext cx="476280" cy="267480"/>
            </a:xfrm>
            <a:prstGeom prst="ellipse">
              <a:avLst/>
            </a:pr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7328000">
              <a:off x="4613040" y="2926080"/>
              <a:ext cx="158400" cy="666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 flipV="1">
            <a:off x="4870440" y="2984040"/>
            <a:ext cx="3816360" cy="79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70440" y="3063960"/>
            <a:ext cx="3816360" cy="1827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70440" y="3063960"/>
            <a:ext cx="2946240" cy="3336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5880" y="2666880"/>
            <a:ext cx="2743200" cy="266724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384" y="624"/>
                </a:moveTo>
                <a:lnTo>
                  <a:pt x="1056" y="0"/>
                </a:lnTo>
                <a:lnTo>
                  <a:pt x="1728" y="1104"/>
                </a:lnTo>
                <a:lnTo>
                  <a:pt x="0" y="1680"/>
                </a:lnTo>
                <a:lnTo>
                  <a:pt x="384" y="624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2347920"/>
            <a:ext cx="133560" cy="389412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5880" y="2666880"/>
            <a:ext cx="2743200" cy="266724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384" y="624"/>
                </a:moveTo>
                <a:lnTo>
                  <a:pt x="1056" y="0"/>
                </a:lnTo>
                <a:lnTo>
                  <a:pt x="1728" y="1104"/>
                </a:lnTo>
                <a:lnTo>
                  <a:pt x="0" y="1680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646240" y="26668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ixel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464000">
            <a:off x="5722200" y="32767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ixel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401800">
            <a:off x="5340600" y="365724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ixel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"/>
          <p:cNvSpPr/>
          <p:nvPr/>
        </p:nvSpPr>
        <p:spPr>
          <a:xfrm>
            <a:off x="152280" y="1066680"/>
            <a:ext cx="617220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to solve the near-clipping proble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swer: Reverse the Z-buff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xel 1: nothing vi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xel 2: one backside vi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xel 3: one front and one back vi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y working behind wall, we keep our distance from the near clipping pl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82160" y="10666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tebulb"/>
          <p:cNvSpPr/>
          <p:nvPr/>
        </p:nvSpPr>
        <p:spPr>
          <a:xfrm>
            <a:off x="5235480" y="4041720"/>
            <a:ext cx="312840" cy="41436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957200" y="1570320"/>
            <a:ext cx="625320" cy="654120"/>
            <a:chOff x="4957200" y="1570320"/>
            <a:chExt cx="625320" cy="654120"/>
          </a:xfrm>
        </p:grpSpPr>
        <p:sp>
          <p:nvSpPr>
            <p:cNvPr id="423" name=""/>
            <p:cNvSpPr/>
            <p:nvPr/>
          </p:nvSpPr>
          <p:spPr>
            <a:xfrm rot="17328000">
              <a:off x="5006160" y="1656720"/>
              <a:ext cx="527040" cy="480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7328000">
              <a:off x="5185440" y="1815480"/>
              <a:ext cx="395280" cy="240480"/>
            </a:xfrm>
            <a:prstGeom prst="ellipse">
              <a:avLst/>
            </a:pr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7328000">
              <a:off x="5345640" y="1915560"/>
              <a:ext cx="131400" cy="597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5572080" y="1963440"/>
            <a:ext cx="3435480" cy="65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72080" y="2028960"/>
            <a:ext cx="3435480" cy="1517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72080" y="2028960"/>
            <a:ext cx="2651040" cy="2771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75480" y="1700280"/>
            <a:ext cx="2468520" cy="221436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384" y="624"/>
                </a:moveTo>
                <a:lnTo>
                  <a:pt x="1056" y="0"/>
                </a:lnTo>
                <a:lnTo>
                  <a:pt x="1728" y="1104"/>
                </a:lnTo>
                <a:lnTo>
                  <a:pt x="0" y="1680"/>
                </a:lnTo>
                <a:lnTo>
                  <a:pt x="384" y="624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75480" y="1700280"/>
            <a:ext cx="2468520" cy="221436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384" y="624"/>
                </a:moveTo>
                <a:lnTo>
                  <a:pt x="1056" y="0"/>
                </a:lnTo>
                <a:lnTo>
                  <a:pt x="1728" y="1104"/>
                </a:lnTo>
                <a:lnTo>
                  <a:pt x="0" y="1680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65440" y="17002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ixel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464000">
            <a:off x="6314040" y="22129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ixel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2401800">
            <a:off x="5959800" y="252864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ixel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561440" y="1434960"/>
            <a:ext cx="118800" cy="323388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" y="1676520"/>
            <a:ext cx="5867280" cy="4876920"/>
          </a:xfrm>
          <a:prstGeom prst="rect">
            <a:avLst/>
          </a:prstGeom>
          <a:solidFill>
            <a:srgbClr val="3333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nder scene (including wall) the normal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able writes to color buffer, Z-buff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Revers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he direction of the Z-buff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nder front of volum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able backface cu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decremen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he stencil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nder back of volum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able frontface cu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cremen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he stencil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rken any pixel where stencil is posi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288720" y="1143000"/>
            <a:ext cx="52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gorithm 2 – improved, but not there y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266880" y="2362320"/>
            <a:ext cx="2882520" cy="2895480"/>
            <a:chOff x="6266880" y="2362320"/>
            <a:chExt cx="2882520" cy="2895480"/>
          </a:xfrm>
        </p:grpSpPr>
        <p:sp>
          <p:nvSpPr>
            <p:cNvPr id="439" name="Litebulb"/>
            <p:cNvSpPr/>
            <p:nvPr/>
          </p:nvSpPr>
          <p:spPr>
            <a:xfrm>
              <a:off x="6756120" y="4797000"/>
              <a:ext cx="203400" cy="32292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087320" y="2860200"/>
              <a:ext cx="2062080" cy="2000520"/>
              <a:chOff x="7087320" y="2860200"/>
              <a:chExt cx="2062080" cy="2000520"/>
            </a:xfrm>
          </p:grpSpPr>
          <p:sp>
            <p:nvSpPr>
              <p:cNvPr id="441" name=""/>
              <p:cNvSpPr/>
              <p:nvPr/>
            </p:nvSpPr>
            <p:spPr>
              <a:xfrm rot="19696800">
                <a:off x="7263360" y="3988800"/>
                <a:ext cx="353160" cy="460440"/>
              </a:xfrm>
              <a:prstGeom prst="ellipse">
                <a:avLst/>
              </a:prstGeom>
              <a:solidFill>
                <a:srgbClr val="00008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9696800">
                <a:off x="7332840" y="3169440"/>
                <a:ext cx="1570320" cy="1381320"/>
              </a:xfrm>
              <a:custGeom>
                <a:avLst/>
                <a:gdLst/>
                <a:ahLst/>
                <a:rect l="l" t="t" r="r" b="b"/>
                <a:pathLst>
                  <a:path w="1920" h="1296">
                    <a:moveTo>
                      <a:pt x="0" y="384"/>
                    </a:moveTo>
                    <a:lnTo>
                      <a:pt x="0" y="816"/>
                    </a:lnTo>
                    <a:lnTo>
                      <a:pt x="1920" y="1296"/>
                    </a:lnTo>
                    <a:lnTo>
                      <a:pt x="1920" y="0"/>
                    </a:lnTo>
                    <a:lnTo>
                      <a:pt x="0" y="384"/>
                    </a:lnTo>
                    <a:close/>
                  </a:path>
                </a:pathLst>
              </a:custGeom>
              <a:solidFill>
                <a:srgbClr val="000080"/>
              </a:solidFill>
              <a:ln cap="sq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9696800">
                <a:off x="7296480" y="3968280"/>
                <a:ext cx="353160" cy="460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7973280" y="2647800"/>
              <a:ext cx="78120" cy="25070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37560" y="236232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wa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266880" y="2761920"/>
              <a:ext cx="429120" cy="488160"/>
              <a:chOff x="6266880" y="2761920"/>
              <a:chExt cx="429120" cy="488160"/>
            </a:xfrm>
          </p:grpSpPr>
          <p:sp>
            <p:nvSpPr>
              <p:cNvPr id="447" name=""/>
              <p:cNvSpPr/>
              <p:nvPr/>
            </p:nvSpPr>
            <p:spPr>
              <a:xfrm rot="17328000">
                <a:off x="6276600" y="2848680"/>
                <a:ext cx="408960" cy="3139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7328000">
                <a:off x="6401520" y="2952720"/>
                <a:ext cx="306720" cy="156960"/>
              </a:xfrm>
              <a:prstGeom prst="ellipse">
                <a:avLst/>
              </a:prstGeom>
              <a:solidFill>
                <a:srgbClr val="8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7328000">
                <a:off x="6523200" y="3018240"/>
                <a:ext cx="101880" cy="388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 flipV="1">
              <a:off x="6677640" y="3057120"/>
              <a:ext cx="2237760" cy="51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77640" y="3108600"/>
              <a:ext cx="1727280" cy="2149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77640" y="3108600"/>
              <a:ext cx="2237760" cy="117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7160" y="285228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ixel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464000">
              <a:off x="7156800" y="333864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ixel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2401800">
              <a:off x="6921720" y="363168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ixel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1295280"/>
            <a:ext cx="84582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my algorithms so far say “darken if stencil positiv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doesn’t work with multiple light 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ld, bad approa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rt with a scene that’s bright (no shadow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rken areas where stencil is posi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, better approa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rt with a scene that’s dark (all shado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light where stencil is nonposi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approach is much more compatible with multiple light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" y="1676520"/>
            <a:ext cx="5867280" cy="6255360"/>
          </a:xfrm>
          <a:prstGeom prst="rect">
            <a:avLst/>
          </a:prstGeom>
          <a:solidFill>
            <a:srgbClr val="3333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nder scene using only ambient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very light 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 shadow volumes for this 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ear the stencil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able writes to color buffer, Z-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verse Z-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nder front of volumes, decrement stencil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nder back of volumes, increment stencil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render all objects touched by this 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ly render where stencil buffer is nonposi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additive blending – add to existing 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135720" y="114300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gorithm 3 – final vers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266880" y="2362320"/>
            <a:ext cx="2882520" cy="2895480"/>
            <a:chOff x="6266880" y="2362320"/>
            <a:chExt cx="2882520" cy="2895480"/>
          </a:xfrm>
        </p:grpSpPr>
        <p:sp>
          <p:nvSpPr>
            <p:cNvPr id="462" name="Litebulb"/>
            <p:cNvSpPr/>
            <p:nvPr/>
          </p:nvSpPr>
          <p:spPr>
            <a:xfrm>
              <a:off x="6756120" y="4797000"/>
              <a:ext cx="203400" cy="32292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7087320" y="2860200"/>
              <a:ext cx="2062080" cy="2000520"/>
              <a:chOff x="7087320" y="2860200"/>
              <a:chExt cx="2062080" cy="2000520"/>
            </a:xfrm>
          </p:grpSpPr>
          <p:sp>
            <p:nvSpPr>
              <p:cNvPr id="464" name=""/>
              <p:cNvSpPr/>
              <p:nvPr/>
            </p:nvSpPr>
            <p:spPr>
              <a:xfrm rot="19696800">
                <a:off x="7263360" y="3988800"/>
                <a:ext cx="353160" cy="460440"/>
              </a:xfrm>
              <a:prstGeom prst="ellipse">
                <a:avLst/>
              </a:prstGeom>
              <a:solidFill>
                <a:srgbClr val="00008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9696800">
                <a:off x="7332840" y="3169440"/>
                <a:ext cx="1570320" cy="1381320"/>
              </a:xfrm>
              <a:custGeom>
                <a:avLst/>
                <a:gdLst/>
                <a:ahLst/>
                <a:rect l="l" t="t" r="r" b="b"/>
                <a:pathLst>
                  <a:path w="1920" h="1296">
                    <a:moveTo>
                      <a:pt x="0" y="384"/>
                    </a:moveTo>
                    <a:lnTo>
                      <a:pt x="0" y="816"/>
                    </a:lnTo>
                    <a:lnTo>
                      <a:pt x="1920" y="1296"/>
                    </a:lnTo>
                    <a:lnTo>
                      <a:pt x="1920" y="0"/>
                    </a:lnTo>
                    <a:lnTo>
                      <a:pt x="0" y="384"/>
                    </a:lnTo>
                    <a:close/>
                  </a:path>
                </a:pathLst>
              </a:custGeom>
              <a:solidFill>
                <a:srgbClr val="000080"/>
              </a:solidFill>
              <a:ln cap="sq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9696800">
                <a:off x="7296480" y="3968280"/>
                <a:ext cx="353160" cy="460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7973280" y="2647800"/>
              <a:ext cx="78120" cy="25070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37560" y="236232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wa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6266880" y="2761920"/>
              <a:ext cx="429120" cy="488160"/>
              <a:chOff x="6266880" y="2761920"/>
              <a:chExt cx="429120" cy="488160"/>
            </a:xfrm>
          </p:grpSpPr>
          <p:sp>
            <p:nvSpPr>
              <p:cNvPr id="470" name=""/>
              <p:cNvSpPr/>
              <p:nvPr/>
            </p:nvSpPr>
            <p:spPr>
              <a:xfrm rot="17328000">
                <a:off x="6276600" y="2848680"/>
                <a:ext cx="408960" cy="3139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7328000">
                <a:off x="6401520" y="2952720"/>
                <a:ext cx="306720" cy="156960"/>
              </a:xfrm>
              <a:prstGeom prst="ellipse">
                <a:avLst/>
              </a:prstGeom>
              <a:solidFill>
                <a:srgbClr val="8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7328000">
                <a:off x="6523200" y="3018240"/>
                <a:ext cx="101880" cy="3888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 flipV="1">
              <a:off x="6677640" y="3057120"/>
              <a:ext cx="2237760" cy="51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77640" y="3108600"/>
              <a:ext cx="1727280" cy="2149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77640" y="3108600"/>
              <a:ext cx="2237760" cy="117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7160" y="285228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ixel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464000">
              <a:off x="7156800" y="333864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ixel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401800">
              <a:off x="6921720" y="363168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ixel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1295280"/>
            <a:ext cx="807732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ar clipping plane can cause confu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: use a Z-fail algorith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 clipping plane can also cause confu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: make sure shadow volumes don’t reach that f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ually don’t need shadows on distant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to build shadow volume in first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Litebulb"/>
          <p:cNvSpPr/>
          <p:nvPr/>
        </p:nvSpPr>
        <p:spPr>
          <a:xfrm>
            <a:off x="3303720" y="4346640"/>
            <a:ext cx="395280" cy="48096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51280" y="4270320"/>
            <a:ext cx="685800" cy="685800"/>
          </a:xfrm>
          <a:prstGeom prst="ellipse">
            <a:avLst/>
          </a:prstGeom>
          <a:solidFill>
            <a:srgbClr val="000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056200" y="3660840"/>
            <a:ext cx="3048120" cy="2057400"/>
          </a:xfrm>
          <a:custGeom>
            <a:avLst/>
            <a:gdLst/>
            <a:ahLst/>
            <a:rect l="l" t="t" r="r" b="b"/>
            <a:pathLst>
              <a:path w="1920" h="1296">
                <a:moveTo>
                  <a:pt x="0" y="384"/>
                </a:moveTo>
                <a:lnTo>
                  <a:pt x="0" y="816"/>
                </a:lnTo>
                <a:lnTo>
                  <a:pt x="1920" y="1296"/>
                </a:lnTo>
                <a:lnTo>
                  <a:pt x="192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00008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827600" y="4270320"/>
            <a:ext cx="685800" cy="685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056200" y="44226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olygonal model of sha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tebulb"/>
          <p:cNvSpPr/>
          <p:nvPr/>
        </p:nvSpPr>
        <p:spPr>
          <a:xfrm>
            <a:off x="1054080" y="2260440"/>
            <a:ext cx="260280" cy="30348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09680" y="1828800"/>
            <a:ext cx="2009880" cy="1295280"/>
          </a:xfrm>
          <a:custGeom>
            <a:avLst/>
            <a:gdLst/>
            <a:ahLst/>
            <a:rect l="l" t="t" r="r" b="b"/>
            <a:pathLst>
              <a:path w="1920" h="1296">
                <a:moveTo>
                  <a:pt x="0" y="384"/>
                </a:moveTo>
                <a:lnTo>
                  <a:pt x="0" y="816"/>
                </a:lnTo>
                <a:lnTo>
                  <a:pt x="1920" y="1296"/>
                </a:lnTo>
                <a:lnTo>
                  <a:pt x="192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008080" y="2212920"/>
            <a:ext cx="452520" cy="4320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11040" y="2822400"/>
            <a:ext cx="256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you h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light posi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model of a 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001840" y="5641920"/>
            <a:ext cx="300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at you must cre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s cone-shaped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to build it in three par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752480" y="1828800"/>
            <a:ext cx="5181840" cy="2057400"/>
            <a:chOff x="1752480" y="1828800"/>
            <a:chExt cx="5181840" cy="2057400"/>
          </a:xfrm>
        </p:grpSpPr>
        <p:sp>
          <p:nvSpPr>
            <p:cNvPr id="496" name="Litebulb"/>
            <p:cNvSpPr/>
            <p:nvPr/>
          </p:nvSpPr>
          <p:spPr>
            <a:xfrm>
              <a:off x="1752480" y="2514600"/>
              <a:ext cx="395280" cy="48096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0400" y="2438640"/>
              <a:ext cx="685800" cy="685800"/>
            </a:xfrm>
            <a:prstGeom prst="ellipse">
              <a:avLst/>
            </a:prstGeom>
            <a:solidFill>
              <a:srgbClr val="00008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05320" y="1828800"/>
              <a:ext cx="3047760" cy="2057400"/>
            </a:xfrm>
            <a:custGeom>
              <a:avLst/>
              <a:gdLst/>
              <a:ahLst/>
              <a:rect l="l" t="t" r="r" b="b"/>
              <a:pathLst>
                <a:path w="1920" h="1296">
                  <a:moveTo>
                    <a:pt x="0" y="384"/>
                  </a:moveTo>
                  <a:lnTo>
                    <a:pt x="0" y="816"/>
                  </a:lnTo>
                  <a:lnTo>
                    <a:pt x="1920" y="1296"/>
                  </a:lnTo>
                  <a:lnTo>
                    <a:pt x="1920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000080"/>
            </a:solidFill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76720" y="2438640"/>
              <a:ext cx="685800" cy="685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05320" y="2590920"/>
              <a:ext cx="342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aramond"/>
                </a:rPr>
                <a:t>polygonal model of shadow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 flipV="1">
            <a:off x="2895480" y="3123720"/>
            <a:ext cx="30492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59480" y="350532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ght 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905360" y="396252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028840" y="3581280"/>
            <a:ext cx="22860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6705360" y="3124080"/>
            <a:ext cx="685800" cy="6098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81360" y="38098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rk 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Textur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concep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a black-and-white render of an ob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xture map the render onto some other ob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to, you have a shad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cky bi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tting the camera in right place to make the rend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pping the texture in the right pl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about positioning camera on next slide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to build shadow volum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. identify “light” and “dark” polyg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. find edges that separate “light” and “dark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are called the “silhouette edge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 on next slide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Litebulb"/>
          <p:cNvSpPr/>
          <p:nvPr/>
        </p:nvSpPr>
        <p:spPr>
          <a:xfrm>
            <a:off x="914400" y="4876920"/>
            <a:ext cx="609480" cy="83808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514960" y="4267440"/>
            <a:ext cx="1828440" cy="1828080"/>
            <a:chOff x="2514960" y="4267440"/>
            <a:chExt cx="1828440" cy="1828080"/>
          </a:xfrm>
        </p:grpSpPr>
        <p:sp>
          <p:nvSpPr>
            <p:cNvPr id="511" name=""/>
            <p:cNvSpPr/>
            <p:nvPr/>
          </p:nvSpPr>
          <p:spPr>
            <a:xfrm>
              <a:off x="2514960" y="4343400"/>
              <a:ext cx="182808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2514960" y="426708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362320" y="4343760"/>
            <a:ext cx="1828440" cy="1828080"/>
            <a:chOff x="2362320" y="4343760"/>
            <a:chExt cx="1828440" cy="1828080"/>
          </a:xfrm>
        </p:grpSpPr>
        <p:sp>
          <p:nvSpPr>
            <p:cNvPr id="514" name=""/>
            <p:cNvSpPr/>
            <p:nvPr/>
          </p:nvSpPr>
          <p:spPr>
            <a:xfrm rot="10800000">
              <a:off x="2362680" y="4420080"/>
              <a:ext cx="182808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2362320" y="434340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123720" y="4343400"/>
            <a:ext cx="228960" cy="1752480"/>
            <a:chOff x="3123720" y="4343400"/>
            <a:chExt cx="228960" cy="1752480"/>
          </a:xfrm>
        </p:grpSpPr>
        <p:sp>
          <p:nvSpPr>
            <p:cNvPr id="517" name=""/>
            <p:cNvSpPr/>
            <p:nvPr/>
          </p:nvSpPr>
          <p:spPr>
            <a:xfrm flipH="1">
              <a:off x="3123720" y="4343400"/>
              <a:ext cx="15228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24080" y="48006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200040" y="5029200"/>
              <a:ext cx="76320" cy="380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00040" y="5410080"/>
              <a:ext cx="152640" cy="3049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3276360" y="5715000"/>
              <a:ext cx="76320" cy="380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276360" y="4343400"/>
            <a:ext cx="228960" cy="1752480"/>
            <a:chOff x="3276360" y="4343400"/>
            <a:chExt cx="228960" cy="1752480"/>
          </a:xfrm>
        </p:grpSpPr>
        <p:sp>
          <p:nvSpPr>
            <p:cNvPr id="523" name=""/>
            <p:cNvSpPr/>
            <p:nvPr/>
          </p:nvSpPr>
          <p:spPr>
            <a:xfrm flipH="1">
              <a:off x="3276360" y="4343400"/>
              <a:ext cx="152280" cy="457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76720" y="48006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352680" y="5029200"/>
              <a:ext cx="76320" cy="380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52680" y="5410080"/>
              <a:ext cx="152640" cy="3049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429000" y="5715000"/>
              <a:ext cx="76320" cy="380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 rot="5400000">
            <a:off x="3124080" y="5030280"/>
            <a:ext cx="7624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7" y="0"/>
                </a:moveTo>
                <a:arcTo wR="10800" hR="10800" stAng="-5410345" swAng="5410345"/>
                <a:lnTo>
                  <a:pt x="10800" y="10800"/>
                </a:lnTo>
                <a:close/>
              </a:path>
              <a:path fill="none" w="21600" h="21600">
                <a:moveTo>
                  <a:pt x="10767" y="0"/>
                </a:moveTo>
                <a:arcTo wR="10800" hR="10800" stAng="-5410345" swAng="5410345"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0800000">
            <a:off x="2895480" y="5028840"/>
            <a:ext cx="7624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7" y="0"/>
                </a:moveTo>
                <a:arcTo wR="10800" hR="10800" stAng="-5410345" swAng="5410345"/>
                <a:lnTo>
                  <a:pt x="10800" y="10800"/>
                </a:lnTo>
                <a:close/>
              </a:path>
              <a:path fill="none" w="21600" h="21600">
                <a:moveTo>
                  <a:pt x="10767" y="0"/>
                </a:moveTo>
                <a:arcTo wR="10800" hR="10800" stAng="-5410345" swAng="5410345"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95480" y="4876920"/>
            <a:ext cx="15264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4876920"/>
            <a:ext cx="15228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 flipV="1">
            <a:off x="914400" y="3581280"/>
            <a:ext cx="3124080" cy="457200"/>
          </a:xfrm>
          <a:prstGeom prst="line">
            <a:avLst/>
          </a:prstGeom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to build shadow volum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scoot the dark side away along light r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4: stitch light and dark halves togeth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 a quad for each silhouette ed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Litebulb"/>
          <p:cNvSpPr/>
          <p:nvPr/>
        </p:nvSpPr>
        <p:spPr>
          <a:xfrm>
            <a:off x="228600" y="4038480"/>
            <a:ext cx="609480" cy="83844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124080" y="3581280"/>
            <a:ext cx="1828440" cy="1828440"/>
            <a:chOff x="3124080" y="3581280"/>
            <a:chExt cx="1828440" cy="1828440"/>
          </a:xfrm>
        </p:grpSpPr>
        <p:grpSp>
          <p:nvGrpSpPr>
            <p:cNvPr id="537" name=""/>
            <p:cNvGrpSpPr/>
            <p:nvPr/>
          </p:nvGrpSpPr>
          <p:grpSpPr>
            <a:xfrm>
              <a:off x="3124080" y="3581640"/>
              <a:ext cx="1828440" cy="1828080"/>
              <a:chOff x="3124080" y="3581640"/>
              <a:chExt cx="1828440" cy="1828080"/>
            </a:xfrm>
          </p:grpSpPr>
          <p:sp>
            <p:nvSpPr>
              <p:cNvPr id="538" name=""/>
              <p:cNvSpPr/>
              <p:nvPr/>
            </p:nvSpPr>
            <p:spPr>
              <a:xfrm rot="10800000">
                <a:off x="3124440" y="3657960"/>
                <a:ext cx="1828080" cy="167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6200000">
                <a:off x="3124080" y="358128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3885480" y="3581280"/>
              <a:ext cx="228960" cy="1752480"/>
              <a:chOff x="3885480" y="3581280"/>
              <a:chExt cx="228960" cy="1752480"/>
            </a:xfrm>
          </p:grpSpPr>
          <p:sp>
            <p:nvSpPr>
              <p:cNvPr id="541" name=""/>
              <p:cNvSpPr/>
              <p:nvPr/>
            </p:nvSpPr>
            <p:spPr>
              <a:xfrm flipH="1">
                <a:off x="3885480" y="3581280"/>
                <a:ext cx="152280" cy="4572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85840" y="4038480"/>
                <a:ext cx="152280" cy="2286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3961800" y="4267080"/>
                <a:ext cx="76320" cy="3808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961800" y="4647960"/>
                <a:ext cx="152640" cy="3049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4038120" y="4952880"/>
                <a:ext cx="76320" cy="3808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rot="10800000">
              <a:off x="3657240" y="4267440"/>
              <a:ext cx="7624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7" y="0"/>
                  </a:moveTo>
                  <a:arcTo wR="10800" hR="10800" stAng="-5410345" swAng="54103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7" y="0"/>
                  </a:moveTo>
                  <a:arcTo wR="10800" hR="10800" stAng="-5410345" swAng="5410345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240" y="4114440"/>
              <a:ext cx="152640" cy="1526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141320" y="2846160"/>
            <a:ext cx="1697400" cy="3020040"/>
            <a:chOff x="7141320" y="2846160"/>
            <a:chExt cx="1697400" cy="3020040"/>
          </a:xfrm>
        </p:grpSpPr>
        <p:grpSp>
          <p:nvGrpSpPr>
            <p:cNvPr id="549" name=""/>
            <p:cNvGrpSpPr/>
            <p:nvPr/>
          </p:nvGrpSpPr>
          <p:grpSpPr>
            <a:xfrm>
              <a:off x="7141320" y="2846160"/>
              <a:ext cx="1697400" cy="3019680"/>
              <a:chOff x="7141320" y="2846160"/>
              <a:chExt cx="1697400" cy="3019680"/>
            </a:xfrm>
          </p:grpSpPr>
          <p:sp>
            <p:nvSpPr>
              <p:cNvPr id="550" name=""/>
              <p:cNvSpPr/>
              <p:nvPr/>
            </p:nvSpPr>
            <p:spPr>
              <a:xfrm>
                <a:off x="7141320" y="2971800"/>
                <a:ext cx="1697040" cy="276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5400000">
                <a:off x="6480000" y="3507120"/>
                <a:ext cx="3019680" cy="169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7848720" y="2971800"/>
              <a:ext cx="211680" cy="2894400"/>
              <a:chOff x="7848720" y="2971800"/>
              <a:chExt cx="211680" cy="2894400"/>
            </a:xfrm>
          </p:grpSpPr>
          <p:sp>
            <p:nvSpPr>
              <p:cNvPr id="553" name=""/>
              <p:cNvSpPr/>
              <p:nvPr/>
            </p:nvSpPr>
            <p:spPr>
              <a:xfrm flipH="1">
                <a:off x="7848720" y="2971800"/>
                <a:ext cx="141120" cy="7549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848720" y="3726720"/>
                <a:ext cx="141120" cy="377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7918920" y="4104360"/>
                <a:ext cx="70560" cy="6289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918920" y="4733640"/>
                <a:ext cx="141480" cy="5036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7989840" y="5237280"/>
                <a:ext cx="70560" cy="6289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 rot="5400000">
              <a:off x="7430760" y="4382280"/>
              <a:ext cx="1260000" cy="70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7" y="0"/>
                  </a:moveTo>
                  <a:arcTo wR="10800" hR="10800" stAng="-5410345" swAng="54103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7" y="0"/>
                  </a:moveTo>
                  <a:arcTo wR="10800" hR="10800" stAng="-5410345" swAng="5410345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202240" y="3852360"/>
              <a:ext cx="141120" cy="2520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 flipV="1">
            <a:off x="3886200" y="3733920"/>
            <a:ext cx="396252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4038480" y="4114440"/>
            <a:ext cx="39625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4648320"/>
            <a:ext cx="396216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14800" y="4952880"/>
            <a:ext cx="396252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038480" y="2971440"/>
            <a:ext cx="3962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038480" y="5334120"/>
            <a:ext cx="396252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14400" y="4952880"/>
            <a:ext cx="3124080" cy="3812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914400" y="4952880"/>
            <a:ext cx="3124080" cy="3812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914400" y="3581280"/>
            <a:ext cx="3124080" cy="457200"/>
          </a:xfrm>
          <a:prstGeom prst="line">
            <a:avLst/>
          </a:prstGeom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: How far to projec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: how far does light’s light g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light is infinitely strong (like sun..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ject as far as possible without hitting far clipping pla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Litebulb"/>
          <p:cNvSpPr/>
          <p:nvPr/>
        </p:nvSpPr>
        <p:spPr>
          <a:xfrm>
            <a:off x="228600" y="4038480"/>
            <a:ext cx="609480" cy="83844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124080" y="3581280"/>
            <a:ext cx="1828440" cy="1828440"/>
            <a:chOff x="3124080" y="3581280"/>
            <a:chExt cx="1828440" cy="1828440"/>
          </a:xfrm>
        </p:grpSpPr>
        <p:grpSp>
          <p:nvGrpSpPr>
            <p:cNvPr id="573" name=""/>
            <p:cNvGrpSpPr/>
            <p:nvPr/>
          </p:nvGrpSpPr>
          <p:grpSpPr>
            <a:xfrm>
              <a:off x="3124080" y="3581640"/>
              <a:ext cx="1828440" cy="1828080"/>
              <a:chOff x="3124080" y="3581640"/>
              <a:chExt cx="1828440" cy="1828080"/>
            </a:xfrm>
          </p:grpSpPr>
          <p:sp>
            <p:nvSpPr>
              <p:cNvPr id="574" name=""/>
              <p:cNvSpPr/>
              <p:nvPr/>
            </p:nvSpPr>
            <p:spPr>
              <a:xfrm rot="10800000">
                <a:off x="3124440" y="3657960"/>
                <a:ext cx="1828080" cy="167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6200000">
                <a:off x="3124080" y="358128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885480" y="3581280"/>
              <a:ext cx="228960" cy="1752480"/>
              <a:chOff x="3885480" y="3581280"/>
              <a:chExt cx="228960" cy="1752480"/>
            </a:xfrm>
          </p:grpSpPr>
          <p:sp>
            <p:nvSpPr>
              <p:cNvPr id="577" name=""/>
              <p:cNvSpPr/>
              <p:nvPr/>
            </p:nvSpPr>
            <p:spPr>
              <a:xfrm flipH="1">
                <a:off x="3885480" y="3581280"/>
                <a:ext cx="152280" cy="4572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85840" y="4038480"/>
                <a:ext cx="152280" cy="2286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3961800" y="4267080"/>
                <a:ext cx="76320" cy="3808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961800" y="4647960"/>
                <a:ext cx="152640" cy="3049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4038120" y="4952880"/>
                <a:ext cx="76320" cy="3808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 rot="10800000">
              <a:off x="3657240" y="4267440"/>
              <a:ext cx="7624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7" y="0"/>
                  </a:moveTo>
                  <a:arcTo wR="10800" hR="10800" stAng="-5410345" swAng="54103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7" y="0"/>
                  </a:moveTo>
                  <a:arcTo wR="10800" hR="10800" stAng="-5410345" swAng="5410345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57240" y="4114440"/>
              <a:ext cx="152640" cy="1526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7141320" y="2846160"/>
            <a:ext cx="1697400" cy="3020040"/>
            <a:chOff x="7141320" y="2846160"/>
            <a:chExt cx="1697400" cy="3020040"/>
          </a:xfrm>
        </p:grpSpPr>
        <p:grpSp>
          <p:nvGrpSpPr>
            <p:cNvPr id="585" name=""/>
            <p:cNvGrpSpPr/>
            <p:nvPr/>
          </p:nvGrpSpPr>
          <p:grpSpPr>
            <a:xfrm>
              <a:off x="7141320" y="2846160"/>
              <a:ext cx="1697400" cy="3019680"/>
              <a:chOff x="7141320" y="2846160"/>
              <a:chExt cx="1697400" cy="3019680"/>
            </a:xfrm>
          </p:grpSpPr>
          <p:sp>
            <p:nvSpPr>
              <p:cNvPr id="586" name=""/>
              <p:cNvSpPr/>
              <p:nvPr/>
            </p:nvSpPr>
            <p:spPr>
              <a:xfrm>
                <a:off x="7141320" y="2971800"/>
                <a:ext cx="1697040" cy="276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5400000">
                <a:off x="6480000" y="3507120"/>
                <a:ext cx="3019680" cy="169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7848720" y="2971800"/>
              <a:ext cx="211680" cy="2894400"/>
              <a:chOff x="7848720" y="2971800"/>
              <a:chExt cx="211680" cy="2894400"/>
            </a:xfrm>
          </p:grpSpPr>
          <p:sp>
            <p:nvSpPr>
              <p:cNvPr id="589" name=""/>
              <p:cNvSpPr/>
              <p:nvPr/>
            </p:nvSpPr>
            <p:spPr>
              <a:xfrm flipH="1">
                <a:off x="7848720" y="2971800"/>
                <a:ext cx="141120" cy="7549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848720" y="3726720"/>
                <a:ext cx="141120" cy="377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918920" y="4104360"/>
                <a:ext cx="70560" cy="6289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918920" y="4733640"/>
                <a:ext cx="141480" cy="5036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989840" y="5237280"/>
                <a:ext cx="70560" cy="6289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5400000">
              <a:off x="7430760" y="4382280"/>
              <a:ext cx="1260000" cy="70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7" y="0"/>
                  </a:moveTo>
                  <a:arcTo wR="10800" hR="10800" stAng="-5410345" swAng="54103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7" y="0"/>
                  </a:moveTo>
                  <a:arcTo wR="10800" hR="10800" stAng="-5410345" swAng="5410345"/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202240" y="3852360"/>
              <a:ext cx="141120" cy="2520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 flipV="1">
            <a:off x="3886200" y="3733920"/>
            <a:ext cx="396252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038480" y="4114440"/>
            <a:ext cx="39625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62520" y="4648320"/>
            <a:ext cx="396216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4952880"/>
            <a:ext cx="396252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2971440"/>
            <a:ext cx="3962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5334120"/>
            <a:ext cx="396252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Volume Issu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lumes are big objects that often fill scre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gobble up fill-ra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pathological cas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optimization algorithms for this probl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pite this problem, this is most popular metho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752480" y="2590560"/>
            <a:ext cx="1600200" cy="1904760"/>
            <a:chOff x="1752480" y="2590560"/>
            <a:chExt cx="1600200" cy="1904760"/>
          </a:xfrm>
        </p:grpSpPr>
        <p:sp>
          <p:nvSpPr>
            <p:cNvPr id="605" name="Litebulb"/>
            <p:cNvSpPr/>
            <p:nvPr/>
          </p:nvSpPr>
          <p:spPr>
            <a:xfrm>
              <a:off x="1752480" y="3428640"/>
              <a:ext cx="304920" cy="45684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743200" y="2590560"/>
              <a:ext cx="609480" cy="1904760"/>
              <a:chOff x="2743200" y="2590560"/>
              <a:chExt cx="609480" cy="1904760"/>
            </a:xfrm>
          </p:grpSpPr>
          <p:sp>
            <p:nvSpPr>
              <p:cNvPr id="607" name=""/>
              <p:cNvSpPr/>
              <p:nvPr/>
            </p:nvSpPr>
            <p:spPr>
              <a:xfrm>
                <a:off x="2895480" y="3276360"/>
                <a:ext cx="0" cy="9903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048120" y="3047760"/>
                <a:ext cx="0" cy="9903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00400" y="2819160"/>
                <a:ext cx="0" cy="9903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43200" y="3504960"/>
                <a:ext cx="0" cy="9903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352680" y="2590920"/>
                <a:ext cx="0" cy="9903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2743200" y="2590560"/>
                <a:ext cx="609480" cy="9140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2743200" y="3580920"/>
                <a:ext cx="609480" cy="9140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1219320" y="4419720"/>
            <a:ext cx="329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ght in a jail cel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ach bar creates shad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at sweeps across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91320" y="3733920"/>
            <a:ext cx="1371600" cy="3045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791320" y="3657600"/>
            <a:ext cx="22860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162920" y="3657600"/>
            <a:ext cx="22860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19920" y="3352680"/>
            <a:ext cx="1371600" cy="3049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019920" y="3276360"/>
            <a:ext cx="22860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7391520" y="3276360"/>
            <a:ext cx="22860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248520" y="2971800"/>
            <a:ext cx="1371600" cy="3049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6248520" y="2895480"/>
            <a:ext cx="22860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620120" y="2895480"/>
            <a:ext cx="22860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477120" y="2590920"/>
            <a:ext cx="1371600" cy="3045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477120" y="2514600"/>
            <a:ext cx="22860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7848720" y="2514600"/>
            <a:ext cx="22860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2209680"/>
            <a:ext cx="1371600" cy="3049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705720" y="2133360"/>
            <a:ext cx="22860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8077320" y="2133360"/>
            <a:ext cx="22860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tebulb"/>
          <p:cNvSpPr/>
          <p:nvPr/>
        </p:nvSpPr>
        <p:spPr>
          <a:xfrm>
            <a:off x="8001000" y="1676520"/>
            <a:ext cx="304920" cy="45720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264640" y="4343400"/>
            <a:ext cx="324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ght at top of stair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ach step creates shadow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at sweeps down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Maps &amp; Volum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ts of optimizations I didn’t men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many variants of these algorith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ts of pros and cons to different approach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’ve put some interesting PDFs into zip f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eveloper.nvidia.com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place to g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Textur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342900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437920" y="1523880"/>
            <a:ext cx="228600" cy="1981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360" y="1523880"/>
            <a:ext cx="533160" cy="1981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828800" y="1523880"/>
            <a:ext cx="838080" cy="18288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99840" y="1523880"/>
            <a:ext cx="1066680" cy="1600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1523880"/>
            <a:ext cx="76320" cy="1981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523880"/>
            <a:ext cx="381240" cy="1981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1523880"/>
            <a:ext cx="685800" cy="18288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1523880"/>
            <a:ext cx="914400" cy="1600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447920" y="1523880"/>
            <a:ext cx="1218960" cy="1295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523880"/>
            <a:ext cx="1067040" cy="1295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1219320"/>
            <a:ext cx="609480" cy="609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040" y="5638680"/>
            <a:ext cx="35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ene with Omni Ligh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42900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81320" y="1523880"/>
            <a:ext cx="22860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476760" y="1523880"/>
            <a:ext cx="533160" cy="1981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172200" y="1523880"/>
            <a:ext cx="838080" cy="18288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943240" y="1523880"/>
            <a:ext cx="1066680" cy="1600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1523880"/>
            <a:ext cx="7632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1523880"/>
            <a:ext cx="38124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523880"/>
            <a:ext cx="685800" cy="182880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1523880"/>
            <a:ext cx="914400" cy="160020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791320" y="1523880"/>
            <a:ext cx="1218960" cy="12956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1523880"/>
            <a:ext cx="1067040" cy="12956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96600" y="4572000"/>
            <a:ext cx="485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mera placed at light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mera rays match light ray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ustum fitted to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ame buffer init to trans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napshot is “Shadow Tex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618600" y="1055880"/>
            <a:ext cx="783720" cy="783720"/>
            <a:chOff x="6618600" y="1055880"/>
            <a:chExt cx="783720" cy="783720"/>
          </a:xfrm>
        </p:grpSpPr>
        <p:sp>
          <p:nvSpPr>
            <p:cNvPr id="134" name=""/>
            <p:cNvSpPr/>
            <p:nvPr/>
          </p:nvSpPr>
          <p:spPr>
            <a:xfrm rot="1224600">
              <a:off x="6705360" y="1143000"/>
              <a:ext cx="609480" cy="6094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224600">
              <a:off x="6728400" y="1437840"/>
              <a:ext cx="457200" cy="304920"/>
            </a:xfrm>
            <a:prstGeom prst="ellipse">
              <a:avLst/>
            </a:pr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224600">
              <a:off x="6867360" y="1588320"/>
              <a:ext cx="152280" cy="759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Textur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35812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2680" y="5638680"/>
            <a:ext cx="32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ene with Dir Ligh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35812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0440" y="4572000"/>
            <a:ext cx="532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is no “Light Position”, b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tho camera rays match light ray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ustum fitted to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ame buffer init to trans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napshot is “Shadow Tex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400800" y="1143000"/>
            <a:ext cx="609480" cy="609480"/>
            <a:chOff x="6400800" y="1143000"/>
            <a:chExt cx="609480" cy="609480"/>
          </a:xfrm>
        </p:grpSpPr>
        <p:sp>
          <p:nvSpPr>
            <p:cNvPr id="144" name=""/>
            <p:cNvSpPr/>
            <p:nvPr/>
          </p:nvSpPr>
          <p:spPr>
            <a:xfrm>
              <a:off x="6400800" y="1143000"/>
              <a:ext cx="609480" cy="6094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6760" y="1447560"/>
              <a:ext cx="457200" cy="304920"/>
            </a:xfrm>
            <a:prstGeom prst="ellipse">
              <a:avLst/>
            </a:pr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29400" y="1600200"/>
              <a:ext cx="152280" cy="759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42900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447920"/>
            <a:ext cx="0" cy="1981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1828800"/>
            <a:ext cx="0" cy="1676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1828800"/>
            <a:ext cx="0" cy="1676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1828800"/>
            <a:ext cx="0" cy="1676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828800"/>
            <a:ext cx="0" cy="1676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1523880"/>
            <a:ext cx="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Textur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to use the shadow textu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d an objects that the shadow “hit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the shadow texture to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culate texture coordin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n you made the shadow texture in fir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place, you used a came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t the modelview and projection from that came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them to calculate secondary X,Y,Z for each verte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secondary X,Y as the texture coordin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, problem. See next slide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8120" y="1523880"/>
            <a:ext cx="1600200" cy="5105520"/>
          </a:xfrm>
          <a:custGeom>
            <a:avLst/>
            <a:gdLst/>
            <a:ahLst/>
            <a:rect l="l" t="t" r="r" b="b"/>
            <a:pathLst>
              <a:path w="1008" h="3216">
                <a:moveTo>
                  <a:pt x="0" y="0"/>
                </a:moveTo>
                <a:lnTo>
                  <a:pt x="336" y="3216"/>
                </a:lnTo>
                <a:lnTo>
                  <a:pt x="1008" y="3216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657600"/>
            <a:ext cx="2666880" cy="220968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Texture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40384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295280"/>
            <a:ext cx="3733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oblem: if render picket fence using person’s shadow texture, get a bogus shadow between person and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way to tell which polygons are between person and light (no shadow), which are beyond person (shado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tty much, shadow textures only reliable on the g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37160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ene with Lamp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son in yard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cket F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71800" y="5943240"/>
            <a:ext cx="4572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0840" y="601992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al shadow on 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6240" y="29718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ogus shadow on 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3276720"/>
            <a:ext cx="68580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581280"/>
            <a:ext cx="457200" cy="15264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5791320"/>
            <a:ext cx="914400" cy="152280"/>
          </a:xfrm>
          <a:prstGeom prst="rect">
            <a:avLst/>
          </a:prstGeom>
          <a:solidFill>
            <a:srgbClr val="000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tebulb"/>
          <p:cNvSpPr/>
          <p:nvPr/>
        </p:nvSpPr>
        <p:spPr>
          <a:xfrm>
            <a:off x="2819520" y="1219320"/>
            <a:ext cx="395280" cy="55692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Map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dow Maps: improved Shadow Tex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dow Texture only indicate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heth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ight was bloc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dow Map show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ow fa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ight got before being bloc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5791320"/>
            <a:ext cx="228600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67480" y="60958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adow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3089160"/>
            <a:ext cx="180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012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3089160"/>
            <a:ext cx="180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095880" y="3200400"/>
            <a:ext cx="762120" cy="2589840"/>
            <a:chOff x="6095880" y="3200400"/>
            <a:chExt cx="762120" cy="2589840"/>
          </a:xfrm>
        </p:grpSpPr>
        <p:sp>
          <p:nvSpPr>
            <p:cNvPr id="204" name=""/>
            <p:cNvSpPr/>
            <p:nvPr/>
          </p:nvSpPr>
          <p:spPr>
            <a:xfrm>
              <a:off x="685800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5308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0536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816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0080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9588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638680" y="3089160"/>
            <a:ext cx="180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04800" y="28195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ight d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581280"/>
            <a:ext cx="609480" cy="60984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4724280"/>
            <a:ext cx="609840" cy="60984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4114800"/>
            <a:ext cx="609480" cy="60948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5791320"/>
            <a:ext cx="228600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1360" y="60958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adow Tex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3089160"/>
            <a:ext cx="180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3089160"/>
            <a:ext cx="180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133720" y="3200400"/>
            <a:ext cx="761760" cy="2589840"/>
            <a:chOff x="2133720" y="3200400"/>
            <a:chExt cx="761760" cy="2589840"/>
          </a:xfrm>
        </p:grpSpPr>
        <p:sp>
          <p:nvSpPr>
            <p:cNvPr id="227" name=""/>
            <p:cNvSpPr/>
            <p:nvPr/>
          </p:nvSpPr>
          <p:spPr>
            <a:xfrm>
              <a:off x="289548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9056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284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8564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3720" y="3200400"/>
              <a:ext cx="0" cy="2589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67652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3089160"/>
            <a:ext cx="144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3089160"/>
            <a:ext cx="1800" cy="270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2640" y="28195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ight d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3505320"/>
            <a:ext cx="609840" cy="60948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4724280"/>
            <a:ext cx="609480" cy="60984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4114800"/>
            <a:ext cx="609840" cy="60948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5791320"/>
            <a:ext cx="609840" cy="228600"/>
          </a:xfrm>
          <a:prstGeom prst="rect">
            <a:avLst/>
          </a:prstGeom>
          <a:solidFill>
            <a:srgbClr val="000514"/>
          </a:solidFill>
          <a:ln cap="sq"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5791320"/>
            <a:ext cx="914400" cy="228600"/>
          </a:xfrm>
          <a:prstGeom prst="rect">
            <a:avLst/>
          </a:prstGeom>
          <a:solidFill>
            <a:srgbClr val="000514"/>
          </a:solidFill>
          <a:ln cap="sq"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5791320"/>
            <a:ext cx="609480" cy="22860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5791320"/>
            <a:ext cx="30492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791320"/>
            <a:ext cx="609480" cy="228600"/>
          </a:xfrm>
          <a:prstGeom prst="rect">
            <a:avLst/>
          </a:prstGeom>
          <a:solidFill>
            <a:srgbClr val="111111"/>
          </a:solidFill>
          <a:ln cap="sq"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hadow Map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342900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781320" y="1523880"/>
            <a:ext cx="22860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476760" y="1523880"/>
            <a:ext cx="533160" cy="1981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172200" y="1523880"/>
            <a:ext cx="838080" cy="18288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943240" y="1523880"/>
            <a:ext cx="1066680" cy="1600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10280" y="1523880"/>
            <a:ext cx="7632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10280" y="1523880"/>
            <a:ext cx="381240" cy="19814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1523880"/>
            <a:ext cx="685800" cy="182880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1523880"/>
            <a:ext cx="914400" cy="160020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791320" y="1523880"/>
            <a:ext cx="1218960" cy="12956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10280" y="1523880"/>
            <a:ext cx="1067040" cy="1295640"/>
          </a:xfrm>
          <a:prstGeom prst="line">
            <a:avLst/>
          </a:prstGeom>
          <a:ln cap="sq" w="12600">
            <a:solidFill>
              <a:srgbClr val="000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64240" y="4572000"/>
            <a:ext cx="54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mera placed at light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mera rays match light ray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ustum fitted to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pth buffer init to “far awa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py depth buffer to “Shadow Ma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618600" y="1055880"/>
            <a:ext cx="783720" cy="783720"/>
            <a:chOff x="6618600" y="1055880"/>
            <a:chExt cx="783720" cy="783720"/>
          </a:xfrm>
        </p:grpSpPr>
        <p:sp>
          <p:nvSpPr>
            <p:cNvPr id="260" name=""/>
            <p:cNvSpPr/>
            <p:nvPr/>
          </p:nvSpPr>
          <p:spPr>
            <a:xfrm rot="1224600">
              <a:off x="6705360" y="1143000"/>
              <a:ext cx="609480" cy="6094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224600">
              <a:off x="6728400" y="1437840"/>
              <a:ext cx="457200" cy="304920"/>
            </a:xfrm>
            <a:prstGeom prst="ellipse">
              <a:avLst/>
            </a:prstGeom>
            <a:solidFill>
              <a:srgbClr val="8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224600">
              <a:off x="6867360" y="1588320"/>
              <a:ext cx="152280" cy="759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04920" y="990720"/>
            <a:ext cx="47242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ating shadow maps: same as generating shadow texture, excep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’t copy color buffer into textu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py depth buffer into textu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pth buffer is really measuring how far the light rays w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01:35:52Z</dcterms:created>
  <dc:creator>Julio Gonzales</dc:creator>
  <dc:description/>
  <dc:language>en-US</dc:language>
  <cp:lastModifiedBy>Josh Yelon</cp:lastModifiedBy>
  <dcterms:modified xsi:type="dcterms:W3CDTF">2005-03-30T20:08:35Z</dcterms:modified>
  <cp:revision>12</cp:revision>
  <dc:subject/>
  <dc:title>Slide 1</dc:title>
</cp:coreProperties>
</file>