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59F-6AE6-455C-AA61-574D76EE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6AF-4DDF-450E-B605-2F95CF29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7FE-804F-42C7-9BA0-8C6008F9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5F8-205D-4988-9BF7-89C94117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F9B-16C5-4F66-AFBB-3DFA0B7C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EBA-9C9C-441A-A5BA-A904F9B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AC5-2356-4FD8-A176-18280E5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F15-F12C-4515-94EB-975730F7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26A-9A49-4B88-86C3-977D25F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0CA-3F45-4182-B797-C3D5D30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81A-63ED-4595-B3E7-167E74F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8DE-DF3F-4362-A63C-49254A29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5DC-E584-4392-B6BB-0C90EA963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 (Part 2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software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a3D’s Networking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uto-Updater as Anti-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too hard to prevent ch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do take some minor steps to slow them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use relative values i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good reactiv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o-updater is central – don’t ask, just d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random incompatible protoco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resistant cheats will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the resistant cheats – you can break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for this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o difficult, because programmers are idl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 Lay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is mindless. clients do all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create objec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irrored to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object’s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tur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reate “dclass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o make a Panda Serv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600200"/>
            <a:ext cx="6248520" cy="3733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direct.directbase.Direct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showbase.ShowBaseGlobal import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distributed import ServerReposi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e server is a panda background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ServerRepository(tcpPort=12345, udpPort=123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for debugging: sleep for 0.05 seconds every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setSleep(0.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insert any other cod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9440" y="556272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, there’s no security in the panda net layer y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Client: Init Cod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ySuperGame(DirectObjec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__init__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 = ClientRepositor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URL = URLSpec("http://localhost:12345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connect([serverURL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taskMgr.addTask(self.monitor, “monit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monitor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isConnected()==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.exit(“Lost connection to server.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sendSetZoneMsg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haveCreateAuthority()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gamestarted = 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startGam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ask.c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: Cre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7924680" cy="3200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hip(DistributedObjec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 generate(sel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self.isLocal()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trueposition = (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prev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last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ship = self.clientrepository.createWithRequired(“ship”, 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ed objects are mirrored to all proces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not all mirrors need to be iden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for distributed objects is called ‘generat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isLocal’ to determine if we created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clientrepository.createWithRequired’ to create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s: Metho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takeDamage(self, amoun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only by object’s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hitpoints -= am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notifyPosition(self, x,y,z,dx,dy,dz,ti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by everyone but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revupdate = self.last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lastupdate = (x,y,z,dx,dy,dz,ti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setPlayerName(self, na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layerName =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getPlayerName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self.playe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“sample.dc” Fil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914400"/>
            <a:ext cx="807696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spaceship import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lass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Damage(int8 amount) p2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Position(float x,float y,float z,float dx,float dy,float dz,float t) broadca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layerName(string name) broadcast p2p requir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962520"/>
            <a:ext cx="7925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– message goes to owner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adcast – message goes to everyone but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+ broadcast – message goes to everyone including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s that start with ‘set’ are special – these define “required fiel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sendUpdate(“takeDamage”, [15]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takeDamage(15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stributed Objects: Required Field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setXyz and getXy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etXyz into dclass file, mark it ‘require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 Xyz in ‘generate’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will en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opag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: Other Stuff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sendDeleteMs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just call “del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updateZone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know why you need zones, but h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findAny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getAll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ClientRepository imports “sample.d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don’t have cyclical impor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sample program, “chatr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er can be a client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both ServerRepository and Client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I Tank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learly worked *hard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s and pages of utter gibber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ots beat Manfred and me hand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those who didn’t turn it in...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urna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ed the six tanks with highest 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six du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ergou, hkato, jmwu, lhang, norm, abp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n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wu won decisively in “standard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ato won decisively in “new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762120" cy="4952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371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61722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1430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1972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76160" y="12952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76160" y="15235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76160" y="190512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76160" y="2286000"/>
            <a:ext cx="1523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676160" y="266652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676160" y="3200040"/>
            <a:ext cx="1523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5053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8160" y="166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2195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160" y="2881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3338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419720"/>
            <a:ext cx="5029200" cy="15721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is lay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retur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object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0600" y="417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y Tank: ai_search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deadends. never go t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end defined as “place with only 1 ex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algorithm (not ver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running from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see the enemy, that is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, “bad spot” is where you were h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nearest spot without LOS to bad 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algorithm (prett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: which cells have I seen rec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ll three-mov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plan exposes most new cel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first step of tha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403848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def void (*fnp)(Buffer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header(fnp p, int 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int(int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float(float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unpack_header(fnp *p, int *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   unpack_in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unpack_floa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 etc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143000"/>
            <a:ext cx="419076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143000"/>
            <a:ext cx="3962520" cy="2895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any other player can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us to print a forma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: “FOO %d %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396252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ommand player 2 to prin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formatted message: “foo 26 8.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4191120" cy="5486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Return Valu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3962520" cy="5410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time, we’re going to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nvoke foo, but wait for a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1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is how you wait for retv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index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susp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e woke up – player 2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have intentionally awakened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incom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retval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396252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retval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awaken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066680"/>
            <a:ext cx="3962520" cy="381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index = b-&gt;unpack_in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send the return val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outgoing[caller_index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retval,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172); // the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ducing the Bit-Cou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er: use a messag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962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body: compr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zlib gives 60% reduction (long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nadaptive huffman (short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ulti-session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676520"/>
            <a:ext cx="495324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{ fnp func; int len; } msgtable[ ]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foo, 8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r, 16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z, 0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 (plus anti-cheat Advice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imary types of chea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ug exploits – “write bug-free cod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horitative clients – “never trust clie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formation exposure – “client can’t keep secre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enial of Service Attacks – “don’t give out IP add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omation / Bots – “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Why that Advice is Limite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360" y="1219320"/>
            <a:ext cx="4152960" cy="1564920"/>
            <a:chOff x="495360" y="1219320"/>
            <a:chExt cx="4152960" cy="1564920"/>
          </a:xfrm>
        </p:grpSpPr>
        <p:sp>
          <p:nvSpPr>
            <p:cNvPr id="90" name=""/>
            <p:cNvSpPr/>
            <p:nvPr/>
          </p:nvSpPr>
          <p:spPr>
            <a:xfrm>
              <a:off x="49536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1219320"/>
              <a:ext cx="133164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632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30320" y="1962720"/>
              <a:ext cx="392400" cy="758160"/>
              <a:chOff x="1030320" y="1962720"/>
              <a:chExt cx="392400" cy="758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8120" y="1962720"/>
                <a:ext cx="156960" cy="468360"/>
                <a:chOff x="1068120" y="1962720"/>
                <a:chExt cx="156960" cy="468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146240" y="211896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6240" y="2275200"/>
                  <a:ext cx="3924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107360" y="227520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8120" y="2118960"/>
                  <a:ext cx="1569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107360" y="1962720"/>
                  <a:ext cx="7812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030320" y="24444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25080" y="2274840"/>
                <a:ext cx="11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397520" y="1296360"/>
              <a:ext cx="427680" cy="757440"/>
              <a:chOff x="1397520" y="1296360"/>
              <a:chExt cx="427680" cy="757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75280" y="1296360"/>
                <a:ext cx="156600" cy="469080"/>
                <a:chOff x="1475280" y="1296360"/>
                <a:chExt cx="156600" cy="469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5340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5340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51452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7528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1452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39752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3224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55920" y="2001600"/>
              <a:ext cx="392400" cy="758160"/>
              <a:chOff x="3355920" y="2001600"/>
              <a:chExt cx="392400" cy="758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393360" y="2001600"/>
                <a:ext cx="156240" cy="468360"/>
                <a:chOff x="3393360" y="2001600"/>
                <a:chExt cx="156240" cy="468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47112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7112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43224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9336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3224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35592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996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455560" y="2001600"/>
              <a:ext cx="392400" cy="758160"/>
              <a:chOff x="2455560" y="2001600"/>
              <a:chExt cx="392400" cy="7581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493000" y="2001600"/>
                <a:ext cx="156240" cy="468360"/>
                <a:chOff x="2493000" y="2001600"/>
                <a:chExt cx="156240" cy="468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57076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57076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53188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49300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3188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45556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4960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216680" y="1296360"/>
              <a:ext cx="427680" cy="757440"/>
              <a:chOff x="4216680" y="1296360"/>
              <a:chExt cx="427680" cy="7574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294440" y="1296360"/>
                <a:ext cx="156600" cy="469080"/>
                <a:chOff x="4294440" y="1296360"/>
                <a:chExt cx="156600" cy="469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725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3725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43336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44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336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2166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514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14880" y="1296360"/>
              <a:ext cx="427680" cy="757440"/>
              <a:chOff x="2414880" y="1296360"/>
              <a:chExt cx="427680" cy="757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492640" y="1296360"/>
                <a:ext cx="156600" cy="469080"/>
                <a:chOff x="2492640" y="1296360"/>
                <a:chExt cx="156600" cy="469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5707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707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318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926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318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24148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96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526400" y="28954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Cli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67280" y="1371600"/>
            <a:ext cx="2362320" cy="1828800"/>
            <a:chOff x="5867280" y="1371600"/>
            <a:chExt cx="2362320" cy="1828800"/>
          </a:xfrm>
        </p:grpSpPr>
        <p:sp>
          <p:nvSpPr>
            <p:cNvPr id="149" name=""/>
            <p:cNvSpPr/>
            <p:nvPr/>
          </p:nvSpPr>
          <p:spPr>
            <a:xfrm>
              <a:off x="5867280" y="1371600"/>
              <a:ext cx="2362320" cy="1828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981080"/>
              <a:ext cx="945000" cy="121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3640" y="2590920"/>
              <a:ext cx="117720" cy="1216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642280" y="3276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can’t keep secre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724280"/>
            <a:ext cx="1066680" cy="1295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45720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83808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952880"/>
            <a:ext cx="91440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00400" y="457200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56272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5640" y="56386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085600">
            <a:off x="2057400" y="47998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3800">
            <a:off x="3504240" y="4572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2200" y="61722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give out IP add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Julio Gonzales</cp:lastModifiedBy>
  <dcterms:modified xsi:type="dcterms:W3CDTF">2005-02-09T07:31:09Z</dcterms:modified>
  <cp:revision>17</cp:revision>
  <dc:subject/>
  <dc:title>Networking for (small) Games</dc:title>
</cp:coreProperties>
</file>