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7EF-83A2-452C-9CA4-BFCC2F0A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D96-EAA2-421E-A0E7-09E0C3BC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52D-70A6-4B0A-9D58-5B47FDD4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427-7763-4536-AA43-61ED6A7F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557-6E74-4E04-B4D1-6E44B6C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B03-474C-4B95-812B-F6AFB4A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D8D-89B6-4DB1-9903-F9B748EA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A95-D068-4B7A-B7B6-15EC2A8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678-F707-4569-B790-8F5C925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B0A-9F5C-48B9-A707-AA3A88FA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599-871A-41CA-A54A-B563FCF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42B-86FB-412B-B93E-FF4CEC8F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3C86-1A9C-4BFB-A19C-91FBCBDE6852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s fo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rea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reads (event-dr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(one per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reemptiv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to minimiz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that use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as a programming constr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express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Hi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ways to deal with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a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conceal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the Game’s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6386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029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4419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 and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029200"/>
            <a:ext cx="9144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update gradually (interpol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client believes /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0292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51051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62520" y="4495680"/>
            <a:ext cx="99036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49568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5720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648320"/>
            <a:ext cx="99036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re 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wo data se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two extrapolated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olate from one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continuity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DSIM / Time Warp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ypical use: battlefield s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simulation clock /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challenge of parallel 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solution: Time W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ethod invocations timesta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bject executes methods in chro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 case of out-of-order delivery, roll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ed GMT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ediction </a:t>
            </a:r>
            <a:r>
              <a:rPr b="0" lang="en-US" sz="4000" spc="-1" strike="noStrike">
                <a:solidFill>
                  <a:srgbClr val="dfd293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Fewer Packe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Dead Reckoning to limi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105520" cy="1589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3429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ediction in ATI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our worl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-yet-ack’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Rollback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 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lli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 question… did I h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02000" y="2590920"/>
            <a:ext cx="607680" cy="749160"/>
            <a:chOff x="1602000" y="2590920"/>
            <a:chExt cx="607680" cy="749160"/>
          </a:xfrm>
        </p:grpSpPr>
        <p:grpSp>
          <p:nvGrpSpPr>
            <p:cNvPr id="118" name=""/>
            <p:cNvGrpSpPr/>
            <p:nvPr/>
          </p:nvGrpSpPr>
          <p:grpSpPr>
            <a:xfrm>
              <a:off x="1676520" y="2590920"/>
              <a:ext cx="304560" cy="457200"/>
              <a:chOff x="1676520" y="2590920"/>
              <a:chExt cx="3045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1828440" y="274356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440" y="289584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752480" y="289584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27435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480" y="259092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02000" y="2971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2895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8160" y="1828800"/>
            <a:ext cx="683640" cy="749160"/>
            <a:chOff x="2288160" y="1828800"/>
            <a:chExt cx="683640" cy="749160"/>
          </a:xfrm>
        </p:grpSpPr>
        <p:grpSp>
          <p:nvGrpSpPr>
            <p:cNvPr id="127" name=""/>
            <p:cNvGrpSpPr/>
            <p:nvPr/>
          </p:nvGrpSpPr>
          <p:grpSpPr>
            <a:xfrm>
              <a:off x="2438280" y="1828800"/>
              <a:ext cx="304920" cy="457200"/>
              <a:chOff x="2438280" y="1828800"/>
              <a:chExt cx="30492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25905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905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5142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82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146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81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7680" y="2514600"/>
            <a:ext cx="607680" cy="749160"/>
            <a:chOff x="6097680" y="2514600"/>
            <a:chExt cx="607680" cy="749160"/>
          </a:xfrm>
        </p:grpSpPr>
        <p:grpSp>
          <p:nvGrpSpPr>
            <p:cNvPr id="136" name=""/>
            <p:cNvGrpSpPr/>
            <p:nvPr/>
          </p:nvGrpSpPr>
          <p:grpSpPr>
            <a:xfrm>
              <a:off x="6172200" y="2514600"/>
              <a:ext cx="304560" cy="457200"/>
              <a:chOff x="6172200" y="2514600"/>
              <a:chExt cx="3045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632412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412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24816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816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09768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676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45200" y="2514600"/>
            <a:ext cx="607680" cy="749160"/>
            <a:chOff x="4345200" y="2514600"/>
            <a:chExt cx="607680" cy="749160"/>
          </a:xfrm>
        </p:grpSpPr>
        <p:grpSp>
          <p:nvGrpSpPr>
            <p:cNvPr id="145" name=""/>
            <p:cNvGrpSpPr/>
            <p:nvPr/>
          </p:nvGrpSpPr>
          <p:grpSpPr>
            <a:xfrm>
              <a:off x="4419720" y="2514600"/>
              <a:ext cx="304560" cy="457200"/>
              <a:chOff x="4419720" y="2514600"/>
              <a:chExt cx="304560" cy="4572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164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164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49568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1972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9568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34520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74560" y="1828800"/>
            <a:ext cx="683640" cy="749160"/>
            <a:chOff x="7774560" y="1828800"/>
            <a:chExt cx="683640" cy="749160"/>
          </a:xfrm>
        </p:grpSpPr>
        <p:grpSp>
          <p:nvGrpSpPr>
            <p:cNvPr id="154" name=""/>
            <p:cNvGrpSpPr/>
            <p:nvPr/>
          </p:nvGrpSpPr>
          <p:grpSpPr>
            <a:xfrm>
              <a:off x="7924680" y="1828800"/>
              <a:ext cx="304920" cy="457200"/>
              <a:chOff x="7924680" y="1828800"/>
              <a:chExt cx="304920" cy="45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80769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769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0006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46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010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7745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296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69240" y="1828800"/>
            <a:ext cx="683640" cy="749160"/>
            <a:chOff x="4269240" y="1828800"/>
            <a:chExt cx="683640" cy="749160"/>
          </a:xfrm>
        </p:grpSpPr>
        <p:grpSp>
          <p:nvGrpSpPr>
            <p:cNvPr id="163" name=""/>
            <p:cNvGrpSpPr/>
            <p:nvPr/>
          </p:nvGrpSpPr>
          <p:grpSpPr>
            <a:xfrm>
              <a:off x="4419360" y="1828800"/>
              <a:ext cx="304920" cy="457200"/>
              <a:chOff x="4419360" y="1828800"/>
              <a:chExt cx="30492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457164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164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49532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936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9568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26924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525680" y="3276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2767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31560" y="32767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you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91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lso: Rubberb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Game Rules can Hide Latenc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t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 can’t always mask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game’s rules to hid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till, give immediat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discret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Bandwidth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s: 28k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-Server: use i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-to-All, 5 players: 7 kbps per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server as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costs $1.00/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kbps * 80 hours / Month = 1 GB /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igher-Level Communica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I style mess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Method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Objects with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BA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 +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mpres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Z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obvious thing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y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uffman with fixed tables (nonadap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ulti-Session compress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ustom compression (ie, Van Jacobs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ypes of Ch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horitative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formati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omation / 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ore anti-cheating 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cide early – open play or closed pl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Trust Client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Xmit more than Client can see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s obscurity secur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 Latency: 1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m: 120 ms x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disconnects: 1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I/O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collection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to eliminate processing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CP: Sliding Window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t any given moment, transmitting a “wind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 other words, a range of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Range is typically 10 packets (ie, packets 33-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one is ack’d, stop retransmitting tha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first one is ack’d, move up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sign Heu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fast to s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long to wait to retrans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many to ack a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big to make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ptimize for bandwidth or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Op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Standar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tream 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Optimized for bandwidth, not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Homebrewed Sliding Windows over U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ike TCP, only optimized for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oesn’t have umpteen years of experience behi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ang routers tend to throw out UDP packets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weake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Use OS calls to adjust algorithm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Turn off the Na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djust window si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DP, but not sliding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an use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Full Stat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X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rver – multicasts UDP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entire state of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 – sends UDP packets to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state of 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State Updat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Quak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ransmit Diffs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0"/>
            <a:ext cx="3733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=T0+diff1,diff2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=T1+diff3,diff4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=T2+diff5,diff6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=T2+diff5,diff6,diff7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=T2+diff5,diff6,diff7,diff8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=T5+diff9,diff10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7=T6+diff11,diff12…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=T6+diff11,diff12,diff1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286000"/>
            <a:ext cx="38862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 OK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81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ata structures needed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hat if diffs too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Comman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Age of Emp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end commands to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imulate effects of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ordering must be consis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deterministic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oint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low bandwidth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 Topolog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a price in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 in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to-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needs good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 </cp:lastModifiedBy>
  <dcterms:modified xsi:type="dcterms:W3CDTF">2005-02-02T22:47:20Z</dcterms:modified>
  <cp:revision>10</cp:revision>
  <dc:subject/>
  <dc:title>Networking for (small) Games</dc:title>
</cp:coreProperties>
</file>