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8D82D-C2AD-4676-A289-DBF0D04D41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A8AB6-6C6B-4D4F-A48B-058CD369BC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5C6AE-DD63-460D-8721-D578B0CE42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9092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964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9092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D03E7-FDED-4BC3-BE00-A9CE126E18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C382B1-697E-4987-8DAC-C3ED47F32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6AADE4-6A1F-44AF-9393-E0BB26078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A7518D-3C46-49FC-947C-D4F3F39E6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ADE055-4B12-46B7-ABA1-A70031189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282633-984A-4078-9B92-78403C3C6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763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38E989-9629-4B44-9227-8609DBA23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201146-04B1-4D3E-B3DA-B20113A8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5794F-E431-4FF5-A236-2081B66A75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A5F905-3159-4DF9-87B6-CD628631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28BF1F-B3ED-4F05-B2D2-2DFFCC19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5431A4-C064-4972-955B-D8CC6D0AD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17D8E8-0F0A-4F1B-8824-44ECCEB59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0028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9092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0964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0028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9092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84E4A2-C612-4149-B83D-30BF4F936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A5F83-8036-4D17-A0AD-0E9DB63CC7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0ACE2-7581-4F13-BE02-75B1146602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9830C-AE2E-4A30-861E-A755BF7B16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763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7B498-78D2-4359-A13E-F29823D610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84E7B-430B-4CEA-AFC9-6D68764D47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BE037-E4E4-4656-A2B8-A47E15C8FE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31A17-AFF3-4FCC-9355-5A34C9B128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838080"/>
            <a:ext cx="8686800" cy="6019920"/>
          </a:xfrm>
          <a:prstGeom prst="rect">
            <a:avLst/>
          </a:prstGeom>
          <a:solidFill>
            <a:srgbClr val="000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085760" indent="-228600">
              <a:spcBef>
                <a:spcPts val="601"/>
              </a:spcBef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428840" indent="-228600">
              <a:spcBef>
                <a:spcPts val="601"/>
              </a:spcBef>
              <a:buClr>
                <a:srgbClr val="ffff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4" marL="1771560" indent="-22860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4876920" y="6552720"/>
            <a:ext cx="39621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85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D7CA4-8698-40F5-9D02-703FB325FCA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7238880" cy="5029200"/>
          </a:xfrm>
          <a:prstGeom prst="rect">
            <a:avLst/>
          </a:prstGeom>
          <a:solidFill>
            <a:srgbClr val="000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3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F4589-19AC-426F-82D4-BB9B8E24E310}" type="slidenum"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1169640" y="1501560"/>
            <a:ext cx="69073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857160" algn="ctr">
              <a:spcBef>
                <a:spcPts val="451"/>
              </a:spcBef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1200240" algn="ctr">
              <a:spcBef>
                <a:spcPts val="451"/>
              </a:spcBef>
              <a:buClr>
                <a:srgbClr val="ffff00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algn="ctr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69640" y="1447560"/>
            <a:ext cx="69073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On decision-making without regret, routing games, and convergence to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equilibria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95280" y="3047760"/>
            <a:ext cx="6662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vrim Blu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Carnegie Mellon Universit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5029200"/>
            <a:ext cx="6662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99"/>
                </a:solidFill>
                <a:latin typeface="Comic Sans MS"/>
              </a:rPr>
              <a:t>[Talk includes work joint with Eyal Even-Dar, Katrina Ligett, Yishay Mansour, and Brendan McMahan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57200" y="1828800"/>
            <a:ext cx="8686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[H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elmbold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chapire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97]: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 best pruning of given D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[BC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hawla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alai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02]: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1+</a:t>
            </a:r>
            <a:r>
              <a:rPr b="0" lang="en-US" sz="2400" spc="-1" strike="noStrike">
                <a:solidFill>
                  <a:srgbClr val="ff6699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static-optimal for list-upd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[T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akimoto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W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armuth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02]: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online shortest path in DAG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[K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alai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V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empala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03]: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elegant setting generalizing all abo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8640" indent="-2102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Online linear programming, more general online optimization (offline </a:t>
            </a:r>
            <a:r>
              <a:rPr b="0" lang="en-US" sz="2400" spc="-1" strike="noStrike">
                <a:solidFill>
                  <a:srgbClr val="ff6699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onlin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[Z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inkevich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03]: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online convex program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[A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werbuch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leinberg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04][M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cMahan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B04]: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[KV]</a:t>
            </a:r>
            <a:r>
              <a:rPr b="0" lang="en-US" sz="2400" spc="-1" strike="noStrike">
                <a:solidFill>
                  <a:srgbClr val="ff6699"/>
                </a:solidFill>
                <a:latin typeface="cmsy10"/>
              </a:rPr>
              <a:t>!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bandit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[K</a:t>
            </a:r>
            <a:r>
              <a:rPr b="0" lang="en-US" sz="1800" spc="-1" strike="noStrike">
                <a:solidFill>
                  <a:srgbClr val="99ff33"/>
                </a:solidFill>
                <a:latin typeface="Comic Sans MS"/>
              </a:rPr>
              <a:t>leinberg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,F</a:t>
            </a:r>
            <a:r>
              <a:rPr b="0" lang="en-US" sz="1800" spc="-1" strike="noStrike">
                <a:solidFill>
                  <a:srgbClr val="99ff33"/>
                </a:solidFill>
                <a:latin typeface="Comic Sans MS"/>
              </a:rPr>
              <a:t>laxman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K</a:t>
            </a:r>
            <a:r>
              <a:rPr b="0" lang="en-US" sz="1800" spc="-1" strike="noStrike">
                <a:solidFill>
                  <a:srgbClr val="99ff33"/>
                </a:solidFill>
                <a:latin typeface="Comic Sans MS"/>
              </a:rPr>
              <a:t>alai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M</a:t>
            </a:r>
            <a:r>
              <a:rPr b="0" lang="en-US" sz="1800" spc="-1" strike="noStrike">
                <a:solidFill>
                  <a:srgbClr val="99ff33"/>
                </a:solidFill>
                <a:latin typeface="Comic Sans MS"/>
              </a:rPr>
              <a:t>cMahan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05]: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[Z03] </a:t>
            </a:r>
            <a:r>
              <a:rPr b="0" lang="en-US" sz="2400" spc="-1" strike="noStrike">
                <a:solidFill>
                  <a:srgbClr val="ff6699"/>
                </a:solidFill>
                <a:latin typeface="cmsy10"/>
              </a:rPr>
              <a:t>!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bandit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[D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ani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H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ayes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06]: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faster convergence for [MB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47242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cent years: series of results giving efficient implementation/alternatives in various settings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Efficient implicit implementation for large N…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7.12303E-007 L 0.00017 -0.55736 E">
                                      <p:cBhvr>
                                        <p:cTn id="180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Kalai-Vempala setting and algorithm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3733920"/>
            <a:ext cx="8686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m of bound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O(diam(S)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bound on c’s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log(m)/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online shortest path, 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O(nm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og(n)/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andit setting [AK][MB]…: What if alg is only told 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cos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puter Modern"/>
                <a:ea typeface="Computer Modern"/>
              </a:rPr>
              <a:t>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ff"/>
                </a:solidFill>
                <a:latin typeface="Computer Modern"/>
                <a:ea typeface="Computer Modern"/>
              </a:rPr>
              <a:t>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puter Modern"/>
                <a:ea typeface="Computer Modern"/>
              </a:rPr>
              <a:t>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d not </a:t>
            </a:r>
            <a:r>
              <a:rPr b="0" lang="en-US" sz="2400" spc="-1" strike="noStrike">
                <a:solidFill>
                  <a:srgbClr val="ffffff"/>
                </a:solidFill>
                <a:latin typeface="Computer Modern"/>
                <a:ea typeface="Computer Modern"/>
              </a:rPr>
              <a:t>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puter Modern"/>
                <a:ea typeface="Computer Modern"/>
              </a:rPr>
              <a:t>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tself.  Can you still be comparable to the best path in hindsight (which you don’t even know)?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s: yes, though bounds are worse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838080"/>
            <a:ext cx="80010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t S of feasible points in R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of bounded diameter. 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(E.g., indicator vectors for possible path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ssume have oracle for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offline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blem:            given vector c, find x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S to minimize c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x. Use to solve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online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blem: on day </a:t>
            </a:r>
            <a:r>
              <a:rPr b="0" i="1" lang="en-US" sz="2400" spc="-1" strike="noStrike">
                <a:solidFill>
                  <a:srgbClr val="ffffff"/>
                </a:solidFill>
                <a:latin typeface="Footlight MT Light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must pick 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S before 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s giv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7621560" y="2743200"/>
            <a:ext cx="1217520" cy="1143000"/>
            <a:chOff x="7621560" y="2743200"/>
            <a:chExt cx="1217520" cy="1143000"/>
          </a:xfrm>
        </p:grpSpPr>
        <p:sp>
          <p:nvSpPr>
            <p:cNvPr id="157" name=""/>
            <p:cNvSpPr/>
            <p:nvPr/>
          </p:nvSpPr>
          <p:spPr>
            <a:xfrm>
              <a:off x="7621560" y="2971800"/>
              <a:ext cx="74520" cy="745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926480" y="3505320"/>
              <a:ext cx="74520" cy="745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078760" y="3200400"/>
              <a:ext cx="74520" cy="745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621560" y="3352680"/>
              <a:ext cx="74520" cy="7488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612280" y="3505320"/>
              <a:ext cx="74520" cy="745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231040" y="3809880"/>
              <a:ext cx="7632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459640" y="3048120"/>
              <a:ext cx="74880" cy="745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307360" y="3505320"/>
              <a:ext cx="74520" cy="745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459640" y="3276720"/>
              <a:ext cx="74880" cy="745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231040" y="2895480"/>
              <a:ext cx="74880" cy="7488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773840" y="3733920"/>
              <a:ext cx="74880" cy="745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926480" y="2971800"/>
              <a:ext cx="74520" cy="745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764560" y="3124080"/>
              <a:ext cx="74520" cy="7488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459640" y="2743200"/>
              <a:ext cx="74880" cy="745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 flipV="1">
            <a:off x="7392960" y="2819520"/>
            <a:ext cx="76320" cy="12189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926840" y="2971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 natural generalization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 natural generalization of our regret goal is: what if we also want that on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snowy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days, we do nearly as well as the best route for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snowy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day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d on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Monday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do nearly as well as best route for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Monday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ore generally, have N “rules” (on Monday, use path P). Goal: simultaneously, for each rule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guarantee to do nearly as well as it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on the time steps in which it fire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all i, want E[cos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alg)]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cos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i) + O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og N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(cost</a:t>
            </a:r>
            <a:r>
              <a:rPr b="0" lang="en-US" sz="2000" spc="-1" strike="noStrike" baseline="-25000">
                <a:solidFill>
                  <a:srgbClr val="99ff33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(X) = cost of X on time steps where rule i fires.  Can extend to fractional case too.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 natural generalization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s generalization is esp natural in machine learning for combining multiple if-then rule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.g., document classification.  Rule: “if &lt;word-X&gt; appears then predict &lt;Y&gt;”.  E.g., if has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football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then classify as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sport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, if 90% of documents with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football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r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bout sports, we should have error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11% on them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pecialists” or “sleeping experts” problem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udied theoretically in [B95][FSSW97][BM05]; in practice [CS’96,CS’99]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ive simple alg. (joint with Yishay Mansour).  Will describe in two ways…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 natural generalization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call setup: have N “rules” (on Monday, use path P)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all i, want E[cos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alg)]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cos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i) + O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og N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(cost</a:t>
            </a:r>
            <a:r>
              <a:rPr b="0" lang="en-US" sz="2000" spc="-1" strike="noStrike" baseline="-25000">
                <a:solidFill>
                  <a:srgbClr val="99ff33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(X) = cost of X on time steps where rule i fires.  Can extend to fractional case too.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ill consider case that rules are explicitly give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066680" y="3581280"/>
            <a:ext cx="7925040" cy="2210040"/>
          </a:xfrm>
          <a:prstGeom prst="rect">
            <a:avLst/>
          </a:prstGeom>
          <a:solidFill>
            <a:srgbClr val="000000"/>
          </a:solidFill>
          <a:ln w="64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 natural generalization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gorithm works as follow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fine “relaxed regret” with respect to rule i a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E[cos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alg)]/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– cos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i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ive rule i weight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US" sz="2400" spc="-1" strike="noStrike" baseline="1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Pick with prob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/W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itially, all weights are 1 and sum to 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ve sum of weights never increase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clude 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log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1+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¼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og 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extend to rules that can be fractionally on too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2" name=""/>
          <p:cNvSpPr/>
          <p:nvPr/>
        </p:nvSpPr>
        <p:spPr>
          <a:xfrm>
            <a:off x="4117680" y="451008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sert proof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467480" y="1676520"/>
            <a:ext cx="1676520" cy="380880"/>
          </a:xfrm>
          <a:prstGeom prst="wedgeRoundRectCallout">
            <a:avLst>
              <a:gd name="adj1" fmla="val -64490"/>
              <a:gd name="adj2" fmla="val 25833"/>
              <a:gd name="adj3" fmla="val 16667"/>
            </a:avLst>
          </a:prstGeom>
          <a:solidFill>
            <a:srgbClr val="000000"/>
          </a:solidFill>
          <a:ln w="64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ant </a:t>
            </a:r>
            <a:r>
              <a:rPr b="0" lang="en-US" sz="1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g 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066680" y="3581280"/>
            <a:ext cx="7925040" cy="2210040"/>
          </a:xfrm>
          <a:prstGeom prst="rect">
            <a:avLst/>
          </a:prstGeom>
          <a:solidFill>
            <a:srgbClr val="000000"/>
          </a:solidFill>
          <a:ln w="64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 natural generalization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gorithm works as follow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fine “relaxed regret” with respect to rule i a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E[cos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alg)]/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– cos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i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ive rule i weight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US" sz="2400" spc="-1" strike="noStrike" baseline="1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Pick with prob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/W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itially, all weights are 1 and sum to 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ve sum of weights never increase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clude 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log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1+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¼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og 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extend to rules that can be fractionally on too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143000" y="3657600"/>
            <a:ext cx="6705720" cy="20779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7467480" y="1676520"/>
            <a:ext cx="1676520" cy="380880"/>
          </a:xfrm>
          <a:prstGeom prst="wedgeRoundRectCallout">
            <a:avLst>
              <a:gd name="adj1" fmla="val -64490"/>
              <a:gd name="adj2" fmla="val 25833"/>
              <a:gd name="adj3" fmla="val 16667"/>
            </a:avLst>
          </a:prstGeom>
          <a:solidFill>
            <a:srgbClr val="000000"/>
          </a:solidFill>
          <a:ln w="64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ant </a:t>
            </a:r>
            <a:r>
              <a:rPr b="0" lang="en-US" sz="1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g 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 natural generalization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Equivalent view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tart with all rules at weight 1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t each time step, of the rules i that fire, select one with probability 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msy10"/>
              </a:rPr>
              <a:t>/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w</a:t>
            </a:r>
            <a:r>
              <a:rPr b="0" lang="en-US" sz="2800" spc="-1" strike="noStrike" baseline="-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Update weights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didn’t fire, leave weight alon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did fire, raise or lower depending on performance compared to weighted average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085760" indent="-2286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[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cost(j)]/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– cost(i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085760" indent="-2286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Ã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US" sz="2400" spc="-1" strike="noStrike" baseline="15000">
                <a:solidFill>
                  <a:srgbClr val="ffffff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So, if rule i does exactly as well as weighted average, its weight drops a little.  Weight increases if does better than weighted average by more than a (1+</a:t>
            </a:r>
            <a:r>
              <a:rPr b="0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) factor.  This ensures sum of weights doesn’t increas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s sum of 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ver all time steps in which rule i fired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an combine with KV too: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ssume we are given N “conditions” or “features” to pay attention to (is it snowing?, is it a Monday?, …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ach day satisfies some conditions and not other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each condi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run a copy of KV on just the days satisfying that conditio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n view these N algorithms as “sleeping experts” and feed their suggestions as inputs into previous alg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each condi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on the days satisfying that condition we do nearly as well as the best copy of KV for the days satisfying that conditio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69640" y="2720880"/>
            <a:ext cx="690732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Now to Part II…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69640" y="1447560"/>
            <a:ext cx="69073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Online learning and game theory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295280" y="3047760"/>
            <a:ext cx="6662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vrim Blu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Carnegie Mellon Universit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5029200"/>
            <a:ext cx="6662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99"/>
                </a:solidFill>
                <a:latin typeface="Comic Sans MS"/>
              </a:rPr>
              <a:t>[Talk includes work joint with Eyal Even-Dar, Katrina Ligett, Yishay Mansour, and Brendan McMahan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hat if everyone started using no-regret algs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686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at if changing cost function is due to other players in the system optimizing for themselves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o-regret can be viewed as a nice 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definitio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f reasonable self-interested behavior.  So, what happens to overall system if everyone uses one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3200400"/>
            <a:ext cx="8686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In zero-sum games, behavior quickly approaches minimax optim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In general-sum games, does behavior quickly (or at all) approach a Nash equilibrium?  (after all, a Nash Eq is exactly a set of distributions that are no-regret wrt each othe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Well, unfortunately,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no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 bad example for general-sum game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ugmented Shapley game from [Z04]: 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“RPSF”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irst 3 rows/cols are Shapley game (rock / paper / scissors but if both do same action then both lose)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action “play foosball” has slight negative if other player is still doing r/p/s but positive if other player does 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action too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R algs will cycle among first 3 and have no regret, but do worse than only Nash Equilibrium of both playing foosball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e didn’t really expect this to work given how hard NE can be to find…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What </a:t>
            </a:r>
            <a:r>
              <a:rPr b="0" i="1" lang="en-US" sz="3600" spc="-1" strike="noStrike">
                <a:solidFill>
                  <a:srgbClr val="ffff00"/>
                </a:solidFill>
                <a:latin typeface="Comic Sans MS"/>
              </a:rPr>
              <a:t>can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 we say?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algorithms minimize “internal” or “swap” regret, then empirical distribution of play approaches </a:t>
            </a:r>
            <a:r>
              <a:rPr b="0" i="1" lang="en-US" sz="2800" spc="-1" strike="noStrike">
                <a:solidFill>
                  <a:srgbClr val="ffff66"/>
                </a:solidFill>
                <a:latin typeface="Comic Sans MS"/>
              </a:rPr>
              <a:t>correlated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equilibrium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ster &amp; Vohra, Hart &amp; Mas-Colell,…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g joint with Yishay Mansour gives current best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T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Symbol"/>
                <a:ea typeface="Symbol"/>
              </a:rPr>
              <a:t>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s fn of size of game 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[don’t worry, I’ll define CE…]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 some natural cases, like routing in Wardrop model, can show daily traffic actually approaches Nash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ork joint with Eyal Even-Dar and Katrina Ligett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Internal/swap regre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est expert” or “external” regret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iven n strategies.  Compete with best of them in hindsight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leeping expert” or “regret with time-intervals”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iven n strategies, k properties.  Let 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be set of days satisfying property i (might overlap). Want to simultaneously achieve low regret over each 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ternal” or “swap” regret:  like (2), except that S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= set of days in which we </a:t>
            </a:r>
            <a:r>
              <a:rPr b="0" lang="en-US" sz="2800" spc="-1" strike="noStrike">
                <a:solidFill>
                  <a:srgbClr val="ff3399"/>
                </a:solidFill>
                <a:latin typeface="Comic Sans MS"/>
              </a:rPr>
              <a:t>chose strategy i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762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Internal/swap regre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 the set of days I used strategy i, how much better could I have done following some other strategy j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on’t want to have regret of the form “every time I bought IBM, I should have bought Microsoft instead”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ternal regret: (ma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R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/T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wap regret: 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R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/T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99"/>
                </a:solidFill>
                <a:latin typeface="Comic Sans MS"/>
              </a:rPr>
              <a:t>Key motivation: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all parties have swap regret </a:t>
            </a:r>
            <a:r>
              <a:rPr b="0" lang="en-US" sz="28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, then empirical distribution of play is an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correlated equilibrium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762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Internal/swap regre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198144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 the set of days I used strategy i, how much better could I have done following some other strategy j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on’t want to have regret of the form “every time I bought IBM, I should have bought Microsoft instead”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wap regret: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/T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2971800"/>
            <a:ext cx="8686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Suppose all parties have swap-regret </a:t>
            </a:r>
            <a:r>
              <a:rPr b="0" lang="en-US" sz="2400" spc="-1" strike="noStrike">
                <a:solidFill>
                  <a:srgbClr val="ff6699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6699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uppose a correlator chooses a random time 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{1,2,…,T}.  Tells each player to play the action i they played in time 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ut does not reveal value of 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pected incentive to deviate:</a:t>
            </a:r>
            <a:r>
              <a:rPr b="0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Pr(i)(Regret|i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swap-regret of algorithm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, this gives a nice distributed way to get apx correlated equilibria in multiplayer gam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762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Internal/swap regre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5345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to achieve low regret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veral algorithms known (in standard setting where have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ctions, listed explicitly). </a:t>
            </a:r>
            <a:r>
              <a:rPr b="0" lang="en-US" sz="2400" spc="-1" strike="noStrike">
                <a:solidFill>
                  <a:srgbClr val="ff6699"/>
                </a:solidFill>
                <a:latin typeface="Arial Unicode MS"/>
              </a:rPr>
              <a:t>[H</a:t>
            </a:r>
            <a:r>
              <a:rPr b="0" lang="en-US" sz="1800" spc="-1" strike="noStrike">
                <a:solidFill>
                  <a:srgbClr val="ff6699"/>
                </a:solidFill>
                <a:latin typeface="Arial Unicode MS"/>
              </a:rPr>
              <a:t>art</a:t>
            </a:r>
            <a:r>
              <a:rPr b="0" lang="en-US" sz="2400" spc="-1" strike="noStrike">
                <a:solidFill>
                  <a:srgbClr val="ff6699"/>
                </a:solidFill>
                <a:latin typeface="Arial Unicode MS"/>
              </a:rPr>
              <a:t>M</a:t>
            </a:r>
            <a:r>
              <a:rPr b="0" lang="en-US" sz="1800" spc="-1" strike="noStrike">
                <a:solidFill>
                  <a:srgbClr val="ff6699"/>
                </a:solidFill>
                <a:latin typeface="Arial Unicode MS"/>
              </a:rPr>
              <a:t>asColell</a:t>
            </a:r>
            <a:r>
              <a:rPr b="0" lang="en-US" sz="2400" spc="-1" strike="noStrike">
                <a:solidFill>
                  <a:srgbClr val="ff6699"/>
                </a:solidFill>
                <a:latin typeface="Arial Unicode MS"/>
              </a:rPr>
              <a:t>][F</a:t>
            </a:r>
            <a:r>
              <a:rPr b="0" lang="en-US" sz="1800" spc="-1" strike="noStrike">
                <a:solidFill>
                  <a:srgbClr val="ff6699"/>
                </a:solidFill>
                <a:latin typeface="Arial Unicode MS"/>
              </a:rPr>
              <a:t>oster</a:t>
            </a:r>
            <a:r>
              <a:rPr b="0" lang="en-US" sz="2400" spc="-1" strike="noStrike">
                <a:solidFill>
                  <a:srgbClr val="ff6699"/>
                </a:solidFill>
                <a:latin typeface="Arial Unicode MS"/>
              </a:rPr>
              <a:t>V</a:t>
            </a:r>
            <a:r>
              <a:rPr b="0" lang="en-US" sz="1800" spc="-1" strike="noStrike">
                <a:solidFill>
                  <a:srgbClr val="ff6699"/>
                </a:solidFill>
                <a:latin typeface="Arial Unicode MS"/>
              </a:rPr>
              <a:t>ohra</a:t>
            </a:r>
            <a:r>
              <a:rPr b="0" lang="en-US" sz="2400" spc="-1" strike="noStrike">
                <a:solidFill>
                  <a:srgbClr val="ff6699"/>
                </a:solidFill>
                <a:latin typeface="Arial Unicode MS"/>
              </a:rPr>
              <a:t>] [C</a:t>
            </a:r>
            <a:r>
              <a:rPr b="0" lang="en-US" sz="1800" spc="-1" strike="noStrike">
                <a:solidFill>
                  <a:srgbClr val="ff6699"/>
                </a:solidFill>
                <a:latin typeface="Arial Unicode MS"/>
              </a:rPr>
              <a:t>esa-Bianchi</a:t>
            </a:r>
            <a:r>
              <a:rPr b="0" lang="en-US" sz="2400" spc="-1" strike="noStrike">
                <a:solidFill>
                  <a:srgbClr val="ff6699"/>
                </a:solidFill>
                <a:latin typeface="Arial Unicode MS"/>
              </a:rPr>
              <a:t>L</a:t>
            </a:r>
            <a:r>
              <a:rPr b="0" lang="en-US" sz="1800" spc="-1" strike="noStrike">
                <a:solidFill>
                  <a:srgbClr val="ff6699"/>
                </a:solidFill>
                <a:latin typeface="Arial Unicode MS"/>
              </a:rPr>
              <a:t>ugosi</a:t>
            </a:r>
            <a:r>
              <a:rPr b="0" lang="en-US" sz="2400" spc="-1" strike="noStrike">
                <a:solidFill>
                  <a:srgbClr val="ff6699"/>
                </a:solidFill>
                <a:latin typeface="Arial Unicode MS"/>
              </a:rPr>
              <a:t>][S</a:t>
            </a:r>
            <a:r>
              <a:rPr b="0" lang="en-US" sz="1800" spc="-1" strike="noStrike">
                <a:solidFill>
                  <a:srgbClr val="ff6699"/>
                </a:solidFill>
                <a:latin typeface="Arial Unicode MS"/>
              </a:rPr>
              <a:t>toltz</a:t>
            </a:r>
            <a:r>
              <a:rPr b="0" lang="en-US" sz="2400" spc="-1" strike="noStrike">
                <a:solidFill>
                  <a:srgbClr val="ff6699"/>
                </a:solidFill>
                <a:latin typeface="Arial Unicode MS"/>
              </a:rPr>
              <a:t>L</a:t>
            </a:r>
            <a:r>
              <a:rPr b="0" lang="en-US" sz="1800" spc="-1" strike="noStrike">
                <a:solidFill>
                  <a:srgbClr val="ff6699"/>
                </a:solidFill>
                <a:latin typeface="Arial Unicode MS"/>
              </a:rPr>
              <a:t>ugosi</a:t>
            </a:r>
            <a:r>
              <a:rPr b="0" lang="en-US" sz="2400" spc="-1" strike="noStrike">
                <a:solidFill>
                  <a:srgbClr val="ff6699"/>
                </a:solidFill>
                <a:latin typeface="Arial Unicode MS"/>
              </a:rPr>
              <a:t>]…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est explicit bounds for efficient algorithm </a:t>
            </a:r>
            <a:r>
              <a:rPr b="0" lang="en-US" sz="2400" spc="-1" strike="noStrike">
                <a:solidFill>
                  <a:srgbClr val="ff6699"/>
                </a:solidFill>
                <a:latin typeface="Arial Unicode MS"/>
              </a:rPr>
              <a:t>[BM</a:t>
            </a:r>
            <a:r>
              <a:rPr b="0" lang="en-US" sz="1800" spc="-1" strike="noStrike">
                <a:solidFill>
                  <a:srgbClr val="ff6699"/>
                </a:solidFill>
                <a:latin typeface="Arial Unicode MS"/>
              </a:rPr>
              <a:t>ansour</a:t>
            </a:r>
            <a:r>
              <a:rPr b="0" lang="en-US" sz="2400" spc="-1" strike="noStrike">
                <a:solidFill>
                  <a:srgbClr val="ff6699"/>
                </a:solidFill>
                <a:latin typeface="Arial Unicode MS"/>
              </a:rPr>
              <a:t>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T</a:t>
            </a:r>
            <a:r>
              <a:rPr b="0" lang="en-US" sz="2400" spc="-1" strike="noStrike" baseline="-25000">
                <a:solidFill>
                  <a:srgbClr val="66ff33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 = O((N log N)/</a:t>
            </a:r>
            <a:r>
              <a:rPr b="0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66ff33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).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[For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1/log N]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ice open question: can you get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sublinear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N (ideally want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log 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against oblivious adversary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asy </a:t>
            </a:r>
            <a:r>
              <a:rPr b="0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(N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lower bound with adaptive adversary:  each day gives random cost vector in {0,1}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except that previously-tried actions have cost 1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ssue: swap-regret has implicit penalty for trying new action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99"/>
                </a:solidFill>
                <a:latin typeface="Arial Unicode MS"/>
              </a:rPr>
              <a:t>[BM</a:t>
            </a:r>
            <a:r>
              <a:rPr b="0" lang="en-US" sz="2000" spc="-1" strike="noStrike">
                <a:solidFill>
                  <a:srgbClr val="ff6699"/>
                </a:solidFill>
                <a:latin typeface="Arial Unicode MS"/>
              </a:rPr>
              <a:t>ansour</a:t>
            </a:r>
            <a:r>
              <a:rPr b="0" lang="en-US" sz="2800" spc="-1" strike="noStrike">
                <a:solidFill>
                  <a:srgbClr val="ff6699"/>
                </a:solidFill>
                <a:latin typeface="Arial Unicode MS"/>
              </a:rPr>
              <a:t>]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lgorithm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839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Plan: use a “best expert” algorithm A as subroutin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Idea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stantiate one copy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responsible for expected regret over times we play i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each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posed to play 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so all together we have matrix Q, then define p = pQ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lows us to view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s prob we chose action i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or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b we chose algorithm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ach time step, if we play p=(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…,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and get cost vector c=(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…,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, then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gets cost-vector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Then do a few calculations to show this works. (but not now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69640" y="2720880"/>
            <a:ext cx="690732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Now on to the last part of the talk…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onsider Wardrop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/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Roughgarden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ardos traffic model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iven a graph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G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Each edge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has non-decreasing cost function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(f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that tells latency of that edge as a function of the amount of traffic using it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ay 1 unit of traffic (infinitesimal users) wants to travel from 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to 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5607720" y="2855880"/>
            <a:ext cx="3232080" cy="1664640"/>
            <a:chOff x="5607720" y="2855880"/>
            <a:chExt cx="3232080" cy="1664640"/>
          </a:xfrm>
        </p:grpSpPr>
        <p:sp>
          <p:nvSpPr>
            <p:cNvPr id="216" name=""/>
            <p:cNvSpPr/>
            <p:nvPr/>
          </p:nvSpPr>
          <p:spPr>
            <a:xfrm>
              <a:off x="5607720" y="3410280"/>
              <a:ext cx="442800" cy="57348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puter Modern"/>
                  <a:ea typeface="Computer Modern"/>
                </a:rPr>
                <a:t>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puter Modern"/>
                  <a:ea typeface="Computer Modern"/>
                </a:rPr>
                <a:t>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397000" y="3386520"/>
              <a:ext cx="442800" cy="57348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puter Modern"/>
                  <a:ea typeface="Computer Modern"/>
                </a:rPr>
                <a:t>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puter Modern"/>
                  <a:ea typeface="Computer Modern"/>
                </a:rPr>
                <a:t>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18" name=""/>
            <p:cNvCxnSpPr>
              <a:stCxn id="216" idx="7"/>
              <a:endCxn id="217" idx="1"/>
            </p:cNvCxnSpPr>
            <p:nvPr/>
          </p:nvCxnSpPr>
          <p:spPr>
            <a:xfrm flipH="1" flipV="1" rot="5400000">
              <a:off x="7212600" y="2283120"/>
              <a:ext cx="24840" cy="2458080"/>
            </a:xfrm>
            <a:prstGeom prst="curvedConnector5">
              <a:avLst>
                <a:gd name="adj1" fmla="val 1358823"/>
                <a:gd name="adj2" fmla="val 49992"/>
                <a:gd name="adj3" fmla="val 1358823"/>
              </a:avLst>
            </a:prstGeom>
            <a:ln w="19080">
              <a:solidFill>
                <a:srgbClr val="66ff33"/>
              </a:solidFill>
              <a:miter/>
              <a:tailEnd len="med" type="triangle" w="med"/>
            </a:ln>
          </p:spPr>
        </p:cxnSp>
        <p:cxnSp>
          <p:nvCxnSpPr>
            <p:cNvPr id="219" name=""/>
            <p:cNvCxnSpPr>
              <a:stCxn id="216" idx="5"/>
              <a:endCxn id="217" idx="3"/>
            </p:cNvCxnSpPr>
            <p:nvPr/>
          </p:nvCxnSpPr>
          <p:spPr>
            <a:xfrm flipH="1" flipV="1" rot="5400000">
              <a:off x="7212600" y="2627640"/>
              <a:ext cx="24480" cy="2458080"/>
            </a:xfrm>
            <a:prstGeom prst="curvedConnector5">
              <a:avLst>
                <a:gd name="adj1" fmla="val -1252238"/>
                <a:gd name="adj2" fmla="val 49992"/>
                <a:gd name="adj3" fmla="val -1252238"/>
              </a:avLst>
            </a:prstGeom>
            <a:ln w="19080">
              <a:solidFill>
                <a:srgbClr val="66ff33"/>
              </a:solidFill>
              <a:miter/>
              <a:tailEnd len="med" type="triangle" w="med"/>
            </a:ln>
          </p:spPr>
        </p:cxnSp>
        <p:sp>
          <p:nvSpPr>
            <p:cNvPr id="220" name=""/>
            <p:cNvSpPr/>
            <p:nvPr/>
          </p:nvSpPr>
          <p:spPr>
            <a:xfrm>
              <a:off x="6770520" y="2855880"/>
              <a:ext cx="782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f)=f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758280" y="4114800"/>
              <a:ext cx="909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f)=2f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457200" y="3048120"/>
            <a:ext cx="49528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ash equilibrium is flow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f*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such that all paths with positive flow have the same cost, and no path is cheape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406560" y="3465360"/>
            <a:ext cx="1703160" cy="368280"/>
          </a:xfrm>
          <a:prstGeom prst="rect">
            <a:avLst/>
          </a:prstGeom>
          <a:noFill/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Nash is 2/3,1/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4800600"/>
            <a:ext cx="84582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Cost(f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cost of average user under f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Cost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(P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e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msy10"/>
              </a:rPr>
              <a:t>2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 P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= cost of using path P given f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, at Nash,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Cost(f*) = min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Cost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f*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(P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6172200"/>
            <a:ext cx="8458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Wha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happens if people use no-regret algorithm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979720" y="2362320"/>
            <a:ext cx="26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.g., simple cas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onsider the following setting…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54104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ach morning, you need to pick one of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ossible routes to get to work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ut traffic is different each day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ot clear a priori which will be best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en you get there you find out how long your route took.  (And maybe others too or maybe not.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5791320" y="1523880"/>
            <a:ext cx="2666880" cy="1904760"/>
            <a:chOff x="5791320" y="1523880"/>
            <a:chExt cx="2666880" cy="1904760"/>
          </a:xfrm>
        </p:grpSpPr>
        <p:sp>
          <p:nvSpPr>
            <p:cNvPr id="92" name=""/>
            <p:cNvSpPr/>
            <p:nvPr/>
          </p:nvSpPr>
          <p:spPr>
            <a:xfrm>
              <a:off x="6172200" y="1599840"/>
              <a:ext cx="2209680" cy="1752840"/>
            </a:xfrm>
            <a:custGeom>
              <a:avLst/>
              <a:gdLst/>
              <a:ahLst/>
              <a:rect l="l" t="t" r="r" b="b"/>
              <a:pathLst>
                <a:path w="1392" h="1104">
                  <a:moveTo>
                    <a:pt x="0" y="720"/>
                  </a:moveTo>
                  <a:lnTo>
                    <a:pt x="336" y="1104"/>
                  </a:lnTo>
                  <a:lnTo>
                    <a:pt x="528" y="816"/>
                  </a:lnTo>
                  <a:lnTo>
                    <a:pt x="1104" y="912"/>
                  </a:lnTo>
                  <a:lnTo>
                    <a:pt x="1392" y="384"/>
                  </a:lnTo>
                  <a:lnTo>
                    <a:pt x="720" y="480"/>
                  </a:lnTo>
                  <a:lnTo>
                    <a:pt x="960" y="0"/>
                  </a:lnTo>
                  <a:lnTo>
                    <a:pt x="1392" y="384"/>
                  </a:lnTo>
                </a:path>
              </a:pathLst>
            </a:custGeom>
            <a:noFill/>
            <a:ln w="255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172200" y="1981080"/>
              <a:ext cx="1143000" cy="914400"/>
            </a:xfrm>
            <a:custGeom>
              <a:avLst/>
              <a:gdLst/>
              <a:ahLst/>
              <a:rect l="l" t="t" r="r" b="b"/>
              <a:pathLst>
                <a:path w="720" h="576">
                  <a:moveTo>
                    <a:pt x="0" y="480"/>
                  </a:moveTo>
                  <a:lnTo>
                    <a:pt x="336" y="0"/>
                  </a:lnTo>
                  <a:lnTo>
                    <a:pt x="720" y="240"/>
                  </a:lnTo>
                  <a:lnTo>
                    <a:pt x="528" y="576"/>
                  </a:lnTo>
                  <a:lnTo>
                    <a:pt x="0" y="480"/>
                  </a:lnTo>
                  <a:close/>
                </a:path>
              </a:pathLst>
            </a:custGeom>
            <a:noFill/>
            <a:ln w="255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095880" y="2666880"/>
              <a:ext cx="152640" cy="15228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629400" y="1904760"/>
              <a:ext cx="152280" cy="15228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38880" y="2285640"/>
              <a:ext cx="152640" cy="15264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629400" y="3276360"/>
              <a:ext cx="152280" cy="15228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934320" y="2819160"/>
              <a:ext cx="152280" cy="15228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848720" y="2971440"/>
              <a:ext cx="152280" cy="15264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05920" y="2133360"/>
              <a:ext cx="152280" cy="15228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620120" y="1523880"/>
              <a:ext cx="152280" cy="15228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2" name="" descr=""/>
            <p:cNvPicPr/>
            <p:nvPr/>
          </p:nvPicPr>
          <p:blipFill>
            <a:blip r:embed="rId1"/>
            <a:stretch/>
          </p:blipFill>
          <p:spPr>
            <a:xfrm>
              <a:off x="5791320" y="2514240"/>
              <a:ext cx="27288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"/>
          <p:cNvSpPr/>
          <p:nvPr/>
        </p:nvSpPr>
        <p:spPr>
          <a:xfrm>
            <a:off x="8534520" y="2000160"/>
            <a:ext cx="609480" cy="307080"/>
          </a:xfrm>
          <a:prstGeom prst="rect">
            <a:avLst/>
          </a:prstGeom>
          <a:solidFill>
            <a:srgbClr val="000066"/>
          </a:solidFill>
          <a:ln w="255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M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72200" y="1854360"/>
            <a:ext cx="2289240" cy="736560"/>
          </a:xfrm>
          <a:custGeom>
            <a:avLst/>
            <a:gdLst/>
            <a:ahLst/>
            <a:rect l="l" t="t" r="r" b="b"/>
            <a:pathLst>
              <a:path w="1442" h="464">
                <a:moveTo>
                  <a:pt x="0" y="464"/>
                </a:moveTo>
                <a:cubicBezTo>
                  <a:pt x="76" y="264"/>
                  <a:pt x="152" y="64"/>
                  <a:pt x="288" y="32"/>
                </a:cubicBezTo>
                <a:cubicBezTo>
                  <a:pt x="424" y="0"/>
                  <a:pt x="624" y="254"/>
                  <a:pt x="816" y="272"/>
                </a:cubicBezTo>
                <a:cubicBezTo>
                  <a:pt x="1008" y="290"/>
                  <a:pt x="1312" y="170"/>
                  <a:pt x="1442" y="143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256600" y="23353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2 m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3886200"/>
            <a:ext cx="8229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Is there a strategy for picking routes so that in the long run, whatever the sequence of traffic patterns has been, you’ve done not much worse than the best fixed route in hindsight?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(In expectation, over internal randomness in the algorith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Y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onsider Wardrop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/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Roughgarden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ardos traffic model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se are “potential games” so Nash Equilibria are not that hard to find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 fact, a number of distributed procedures are known that will approach Nash at a good rate.  These even have property that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if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veryone else is using them, you might as well do so too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ut maybe you don’t trust {the others, the model,…}.  Can’t hurt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you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to use a no-regret algorithm instead!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Motivates studying what happens if everybody is minimizing regret for themselves.  Are Nash Equilibria the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inevitable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 result of users intelligently behaving in their own interest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Also further motivates “price of anarchy” result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Global  behavior of NR algs </a:t>
            </a:r>
            <a:r>
              <a:rPr b="0" lang="en-US" sz="3200" spc="-1" strike="noStrike">
                <a:solidFill>
                  <a:srgbClr val="99ff33"/>
                </a:solidFill>
                <a:latin typeface="Comic Sans MS"/>
              </a:rPr>
              <a:t>[B-EvenDar-Ligett]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762120"/>
            <a:ext cx="845820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n day </a:t>
            </a:r>
            <a:r>
              <a:rPr b="0" lang="en-US" sz="2800" spc="-1" strike="noStrike">
                <a:solidFill>
                  <a:srgbClr val="ffffff"/>
                </a:solidFill>
                <a:latin typeface="Computer Modern"/>
                <a:ea typeface="Computer Modern"/>
              </a:rPr>
              <a:t>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, have flow f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puter Modern"/>
                <a:ea typeface="Computer Modern"/>
              </a:rPr>
              <a:t>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verage regret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by some time 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o, 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[Cost(f</a:t>
            </a:r>
            <a:r>
              <a:rPr b="0" lang="en-US" sz="2800" spc="-1" strike="noStrike" baseline="30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)] </a:t>
            </a:r>
            <a:r>
              <a:rPr b="0" lang="en-US" sz="2800" spc="-1" strike="noStrike">
                <a:solidFill>
                  <a:srgbClr val="ffff66"/>
                </a:solidFill>
                <a:latin typeface="cmsy10"/>
              </a:rPr>
              <a:t>·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+ min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avg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[Cost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Comic Sans MS"/>
              </a:rPr>
              <a:t>f</a:t>
            </a:r>
            <a:r>
              <a:rPr b="0" lang="en-US" sz="2800" spc="-1" strike="noStrike" baseline="-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(P)]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at we’d like to say is the time-average flow f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avg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is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Nash:     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Cost(f</a:t>
            </a:r>
            <a:r>
              <a:rPr b="0" lang="en-US" sz="2800" spc="-1" strike="noStrike" baseline="30000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) </a:t>
            </a:r>
            <a:r>
              <a:rPr b="0" lang="en-US" sz="2800" spc="-1" strike="noStrike">
                <a:solidFill>
                  <a:srgbClr val="ffff66"/>
                </a:solidFill>
                <a:latin typeface="cmsy10"/>
              </a:rPr>
              <a:t>·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+ min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Cost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Comic Sans MS"/>
              </a:rPr>
              <a:t>f</a:t>
            </a:r>
            <a:r>
              <a:rPr b="0" lang="en-US" sz="2800" spc="-1" strike="noStrike" baseline="-5000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(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r even better that </a:t>
            </a:r>
            <a:r>
              <a:rPr b="0" i="1" lang="en-US" sz="2800" spc="-1" strike="noStrike">
                <a:solidFill>
                  <a:srgbClr val="66ff33"/>
                </a:solidFill>
                <a:latin typeface="Comic Sans MS"/>
              </a:rPr>
              <a:t>mos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f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puter Modern"/>
                <a:ea typeface="Computer Modern"/>
              </a:rPr>
              <a:t>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are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Nash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Cost(f</a:t>
            </a:r>
            <a:r>
              <a:rPr b="0" lang="en-US" sz="2800" spc="-1" strike="noStrike" baseline="30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) </a:t>
            </a:r>
            <a:r>
              <a:rPr b="0" lang="en-US" sz="2800" spc="-1" strike="noStrike">
                <a:solidFill>
                  <a:srgbClr val="ffff66"/>
                </a:solidFill>
                <a:latin typeface="cmsy10"/>
              </a:rPr>
              <a:t>·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+ min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Cost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Comic Sans MS"/>
              </a:rPr>
              <a:t>f</a:t>
            </a:r>
            <a:r>
              <a:rPr b="0" lang="en-US" sz="2800" spc="-1" strike="noStrike" baseline="-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(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ut problems if cost functions are too shar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2834640" y="4700520"/>
            <a:ext cx="3231720" cy="2009880"/>
            <a:chOff x="2834640" y="4700520"/>
            <a:chExt cx="3231720" cy="2009880"/>
          </a:xfrm>
        </p:grpSpPr>
        <p:sp>
          <p:nvSpPr>
            <p:cNvPr id="232" name=""/>
            <p:cNvSpPr/>
            <p:nvPr/>
          </p:nvSpPr>
          <p:spPr>
            <a:xfrm>
              <a:off x="2834640" y="5431320"/>
              <a:ext cx="442800" cy="57348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puter Modern"/>
                  <a:ea typeface="Computer Modern"/>
                </a:rPr>
                <a:t>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puter Modern"/>
                  <a:ea typeface="Computer Modern"/>
                </a:rPr>
                <a:t>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623560" y="5406840"/>
              <a:ext cx="442800" cy="57348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puter Modern"/>
                  <a:ea typeface="Computer Modern"/>
                </a:rPr>
                <a:t>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puter Modern"/>
                  <a:ea typeface="Computer Modern"/>
                </a:rPr>
                <a:t>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34" name=""/>
            <p:cNvCxnSpPr>
              <a:stCxn id="232" idx="7"/>
              <a:endCxn id="233" idx="1"/>
            </p:cNvCxnSpPr>
            <p:nvPr/>
          </p:nvCxnSpPr>
          <p:spPr>
            <a:xfrm flipH="1" flipV="1" rot="5400000">
              <a:off x="4439160" y="4304160"/>
              <a:ext cx="24480" cy="2458080"/>
            </a:xfrm>
            <a:prstGeom prst="curvedConnector5">
              <a:avLst>
                <a:gd name="adj1" fmla="val 1359701"/>
                <a:gd name="adj2" fmla="val 49992"/>
                <a:gd name="adj3" fmla="val 1359701"/>
              </a:avLst>
            </a:prstGeom>
            <a:ln w="19080">
              <a:solidFill>
                <a:srgbClr val="66ff33"/>
              </a:solidFill>
              <a:miter/>
              <a:tailEnd len="med" type="triangle" w="med"/>
            </a:ln>
          </p:spPr>
        </p:cxnSp>
        <p:cxnSp>
          <p:nvCxnSpPr>
            <p:cNvPr id="235" name=""/>
            <p:cNvCxnSpPr>
              <a:stCxn id="232" idx="5"/>
              <a:endCxn id="233" idx="3"/>
            </p:cNvCxnSpPr>
            <p:nvPr/>
          </p:nvCxnSpPr>
          <p:spPr>
            <a:xfrm flipH="1" flipV="1" rot="5400000">
              <a:off x="4439160" y="4648680"/>
              <a:ext cx="24480" cy="2458080"/>
            </a:xfrm>
            <a:prstGeom prst="curvedConnector5">
              <a:avLst>
                <a:gd name="adj1" fmla="val -1252238"/>
                <a:gd name="adj2" fmla="val 49992"/>
                <a:gd name="adj3" fmla="val -1252238"/>
              </a:avLst>
            </a:prstGeom>
            <a:ln w="19080">
              <a:solidFill>
                <a:srgbClr val="66ff33"/>
              </a:solidFill>
              <a:miter/>
              <a:tailEnd len="med" type="triangle" w="med"/>
            </a:ln>
          </p:spPr>
        </p:cxnSp>
        <p:grpSp>
          <p:nvGrpSpPr>
            <p:cNvPr id="236" name=""/>
            <p:cNvGrpSpPr/>
            <p:nvPr/>
          </p:nvGrpSpPr>
          <p:grpSpPr>
            <a:xfrm>
              <a:off x="4114800" y="4700520"/>
              <a:ext cx="685800" cy="480960"/>
              <a:chOff x="4114800" y="4700520"/>
              <a:chExt cx="685800" cy="480960"/>
            </a:xfrm>
          </p:grpSpPr>
          <p:sp>
            <p:nvSpPr>
              <p:cNvPr id="237" name=""/>
              <p:cNvSpPr/>
              <p:nvPr/>
            </p:nvSpPr>
            <p:spPr>
              <a:xfrm>
                <a:off x="4114800" y="4724280"/>
                <a:ext cx="685800" cy="457200"/>
              </a:xfrm>
              <a:prstGeom prst="rect">
                <a:avLst/>
              </a:prstGeom>
              <a:solidFill>
                <a:srgbClr val="000066"/>
              </a:solidFill>
              <a:ln w="648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114800" y="4700520"/>
                <a:ext cx="663480" cy="480960"/>
              </a:xfrm>
              <a:custGeom>
                <a:avLst/>
                <a:gdLst/>
                <a:ahLst/>
                <a:rect l="l" t="t" r="r" b="b"/>
                <a:pathLst>
                  <a:path w="418" h="303">
                    <a:moveTo>
                      <a:pt x="0" y="303"/>
                    </a:moveTo>
                    <a:lnTo>
                      <a:pt x="247" y="300"/>
                    </a:lnTo>
                    <a:lnTo>
                      <a:pt x="256" y="0"/>
                    </a:lnTo>
                    <a:lnTo>
                      <a:pt x="418" y="0"/>
                    </a:lnTo>
                  </a:path>
                </a:pathLst>
              </a:custGeom>
              <a:solidFill>
                <a:srgbClr val="000066"/>
              </a:soli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4114800" y="6248520"/>
              <a:ext cx="685800" cy="457200"/>
            </a:xfrm>
            <a:prstGeom prst="rect">
              <a:avLst/>
            </a:prstGeom>
            <a:solidFill>
              <a:srgbClr val="000066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14800" y="6224760"/>
              <a:ext cx="663480" cy="485640"/>
            </a:xfrm>
            <a:custGeom>
              <a:avLst/>
              <a:gdLst/>
              <a:ahLst/>
              <a:rect l="l" t="t" r="r" b="b"/>
              <a:pathLst>
                <a:path w="418" h="306">
                  <a:moveTo>
                    <a:pt x="0" y="303"/>
                  </a:moveTo>
                  <a:lnTo>
                    <a:pt x="118" y="306"/>
                  </a:lnTo>
                  <a:lnTo>
                    <a:pt x="126" y="6"/>
                  </a:lnTo>
                  <a:lnTo>
                    <a:pt x="418" y="0"/>
                  </a:lnTo>
                </a:path>
              </a:pathLst>
            </a:custGeom>
            <a:solidFill>
              <a:srgbClr val="000066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224600" y="519588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/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2920" y="57913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/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Global  behavior of NR alg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" y="762120"/>
            <a:ext cx="6248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teresting case to consid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5747760" y="1066680"/>
            <a:ext cx="3231720" cy="2009880"/>
            <a:chOff x="5747760" y="1066680"/>
            <a:chExt cx="3231720" cy="2009880"/>
          </a:xfrm>
        </p:grpSpPr>
        <p:sp>
          <p:nvSpPr>
            <p:cNvPr id="246" name=""/>
            <p:cNvSpPr/>
            <p:nvPr/>
          </p:nvSpPr>
          <p:spPr>
            <a:xfrm>
              <a:off x="5747760" y="1797480"/>
              <a:ext cx="442800" cy="57348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puter Modern"/>
                  <a:ea typeface="Computer Modern"/>
                </a:rPr>
                <a:t>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puter Modern"/>
                  <a:ea typeface="Computer Modern"/>
                </a:rPr>
                <a:t>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536680" y="1773000"/>
              <a:ext cx="442800" cy="57348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puter Modern"/>
                  <a:ea typeface="Computer Modern"/>
                </a:rPr>
                <a:t>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puter Modern"/>
                  <a:ea typeface="Computer Modern"/>
                </a:rPr>
                <a:t>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48" name=""/>
            <p:cNvCxnSpPr>
              <a:stCxn id="246" idx="7"/>
              <a:endCxn id="247" idx="1"/>
            </p:cNvCxnSpPr>
            <p:nvPr/>
          </p:nvCxnSpPr>
          <p:spPr>
            <a:xfrm flipH="1" flipV="1" rot="5400000">
              <a:off x="7352280" y="670320"/>
              <a:ext cx="24480" cy="2458080"/>
            </a:xfrm>
            <a:prstGeom prst="curvedConnector5">
              <a:avLst>
                <a:gd name="adj1" fmla="val 1359701"/>
                <a:gd name="adj2" fmla="val 49992"/>
                <a:gd name="adj3" fmla="val 1359701"/>
              </a:avLst>
            </a:prstGeom>
            <a:ln w="19080">
              <a:solidFill>
                <a:srgbClr val="66ff33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6" idx="5"/>
              <a:endCxn id="247" idx="3"/>
            </p:cNvCxnSpPr>
            <p:nvPr/>
          </p:nvCxnSpPr>
          <p:spPr>
            <a:xfrm flipH="1" flipV="1" rot="5400000">
              <a:off x="7352280" y="1014840"/>
              <a:ext cx="24480" cy="2458080"/>
            </a:xfrm>
            <a:prstGeom prst="curvedConnector5">
              <a:avLst>
                <a:gd name="adj1" fmla="val -1252238"/>
                <a:gd name="adj2" fmla="val 49992"/>
                <a:gd name="adj3" fmla="val -1252238"/>
              </a:avLst>
            </a:prstGeom>
            <a:ln w="19080">
              <a:solidFill>
                <a:srgbClr val="66ff33"/>
              </a:solidFill>
              <a:miter/>
              <a:tailEnd len="med" type="triangle" w="med"/>
            </a:ln>
          </p:spPr>
        </p:cxnSp>
        <p:grpSp>
          <p:nvGrpSpPr>
            <p:cNvPr id="250" name=""/>
            <p:cNvGrpSpPr/>
            <p:nvPr/>
          </p:nvGrpSpPr>
          <p:grpSpPr>
            <a:xfrm>
              <a:off x="7027920" y="1066680"/>
              <a:ext cx="685800" cy="480960"/>
              <a:chOff x="7027920" y="1066680"/>
              <a:chExt cx="685800" cy="480960"/>
            </a:xfrm>
          </p:grpSpPr>
          <p:sp>
            <p:nvSpPr>
              <p:cNvPr id="251" name=""/>
              <p:cNvSpPr/>
              <p:nvPr/>
            </p:nvSpPr>
            <p:spPr>
              <a:xfrm>
                <a:off x="7027920" y="1090440"/>
                <a:ext cx="685800" cy="457200"/>
              </a:xfrm>
              <a:prstGeom prst="rect">
                <a:avLst/>
              </a:prstGeom>
              <a:solidFill>
                <a:srgbClr val="000066"/>
              </a:solidFill>
              <a:ln w="648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027920" y="1066680"/>
                <a:ext cx="663480" cy="480960"/>
              </a:xfrm>
              <a:custGeom>
                <a:avLst/>
                <a:gdLst/>
                <a:ahLst/>
                <a:rect l="l" t="t" r="r" b="b"/>
                <a:pathLst>
                  <a:path w="418" h="303">
                    <a:moveTo>
                      <a:pt x="0" y="303"/>
                    </a:moveTo>
                    <a:lnTo>
                      <a:pt x="247" y="300"/>
                    </a:lnTo>
                    <a:lnTo>
                      <a:pt x="256" y="0"/>
                    </a:lnTo>
                    <a:lnTo>
                      <a:pt x="418" y="0"/>
                    </a:lnTo>
                  </a:path>
                </a:pathLst>
              </a:custGeom>
              <a:solidFill>
                <a:srgbClr val="000066"/>
              </a:soli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7027920" y="2614680"/>
              <a:ext cx="685800" cy="457200"/>
            </a:xfrm>
            <a:prstGeom prst="rect">
              <a:avLst/>
            </a:prstGeom>
            <a:solidFill>
              <a:srgbClr val="000066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027920" y="2590920"/>
              <a:ext cx="663480" cy="485640"/>
            </a:xfrm>
            <a:custGeom>
              <a:avLst/>
              <a:gdLst/>
              <a:ahLst/>
              <a:rect l="l" t="t" r="r" b="b"/>
              <a:pathLst>
                <a:path w="418" h="306">
                  <a:moveTo>
                    <a:pt x="0" y="303"/>
                  </a:moveTo>
                  <a:lnTo>
                    <a:pt x="118" y="306"/>
                  </a:lnTo>
                  <a:lnTo>
                    <a:pt x="126" y="6"/>
                  </a:lnTo>
                  <a:lnTo>
                    <a:pt x="418" y="0"/>
                  </a:lnTo>
                </a:path>
              </a:pathLst>
            </a:custGeom>
            <a:solidFill>
              <a:srgbClr val="000066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137720" y="156204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/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106040" y="215748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/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380880" y="2743200"/>
            <a:ext cx="8686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Pure greedy has cost 1 every d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NR alg: cost approaches ½ per day, which is cost of best fixed path in hindsigh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But none of the individual days is an </a:t>
            </a:r>
            <a:r>
              <a:rPr b="0" lang="en-US" sz="2800" spc="-1" strike="noStrike">
                <a:solidFill>
                  <a:srgbClr val="ffff66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-Nash flow (a flow where only a small fraction of traffic has significant incentive to switch). Same for time-average flow f</a:t>
            </a:r>
            <a:r>
              <a:rPr b="0" lang="en-US" sz="2800" spc="-1" strike="noStrike" baseline="30000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0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But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Comic Sans MS"/>
              </a:rPr>
              <a:t>can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show if bounded slope…  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" y="762120"/>
            <a:ext cx="868680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of sketch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any edge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time-avg cost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flow-avg cost.  So,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f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e</a:t>
            </a:r>
            <a:r>
              <a:rPr b="0" lang="en-US" sz="2400" spc="-1" strike="noStrike" baseline="30000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avg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[c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(f</a:t>
            </a:r>
            <a:r>
              <a:rPr b="0" lang="en-US" sz="2400" spc="-1" strike="noStrike" baseline="30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)] </a:t>
            </a:r>
            <a:r>
              <a:rPr b="0" lang="en-US" sz="2400" spc="-1" strike="noStrike">
                <a:solidFill>
                  <a:srgbClr val="ffff66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avg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[c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(f</a:t>
            </a:r>
            <a:r>
              <a:rPr b="0" lang="en-US" sz="2400" spc="-1" strike="noStrike" baseline="30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ffff66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f</a:t>
            </a:r>
            <a:r>
              <a:rPr b="0" lang="en-US" sz="2400" spc="-1" strike="noStrike" baseline="30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umming over all edges, and applying the regret bound: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[Cost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f</a:t>
            </a:r>
            <a:r>
              <a:rPr b="0" lang="en-US" sz="2400" spc="-1" strike="noStrike" baseline="-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(f</a:t>
            </a:r>
            <a:r>
              <a:rPr b="0" lang="en-US" sz="2400" spc="-1" strike="noStrike" baseline="30000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)]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cmsy10"/>
              </a:rPr>
              <a:t>·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[Cost(f</a:t>
            </a:r>
            <a:r>
              <a:rPr b="0" lang="en-US" sz="2400" spc="-1" strike="noStrike" baseline="30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)]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+min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[Cost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f</a:t>
            </a:r>
            <a:r>
              <a:rPr b="0" lang="en-US" sz="2400" spc="-1" strike="noStrike" baseline="-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(P)],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ich in turn is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+ avg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[Cost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f</a:t>
            </a:r>
            <a:r>
              <a:rPr b="0" lang="en-US" sz="2400" spc="-1" strike="noStrike" baseline="-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(f</a:t>
            </a:r>
            <a:r>
              <a:rPr b="0" lang="en-US" sz="2400" spc="-1" strike="noStrike" baseline="30000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)]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s means that actually, for each edge, the time-avg cost must be pretty close to the flow-avg cost, which (by the assumption of bounded slope) means the costs can’t vary too much over ti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s then lets you swap quantifiers (cost/avg) to get: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Cost(f</a:t>
            </a:r>
            <a:r>
              <a:rPr b="0" lang="en-US" sz="2400" spc="-1" strike="noStrike" baseline="30000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ffff66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’ + min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Cost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f</a:t>
            </a:r>
            <a:r>
              <a:rPr b="0" lang="en-US" sz="2400" spc="-1" strike="noStrike" baseline="-5000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(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ere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’ = O(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x-slope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/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also get bounds for “most” f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to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ome extension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4582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extend to multi-commodity case (different sources/destinations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extend to case of different allowable subgraph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 each commodity is a (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G’) tripl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simple case of parallel links, this is “restricted machines setting”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ummary/Open problem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ret-minimizing algorithms esp motivated by online learning and routing-type problems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leeping experts” algorithm can handle different S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wap-regret related to correlated equilibria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o-external-regret property sufficient to converge to Nash in Wardrop model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99"/>
                </a:solidFill>
                <a:latin typeface="Comic Sans MS"/>
              </a:rPr>
              <a:t>Open problems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ime-bounds sublinear in N for achieving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swap regret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ther “price of minimizing regret / true-anarchy / 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adaptiv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self-interested behavior” results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n fact, results of this sort have been known for a long time…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040"/>
            <a:ext cx="8234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Comic Sans MS"/>
              </a:rPr>
              <a:t>Plan for this talk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istory and background on these “no-regret” algorithms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ome recent results / new directions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nnections to game-theoretic equilibria 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(correlated equilibria, Nash equilibria in some cases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alk is combination of classic and new work.  Talk-version of survey chapter that Yishay Mansour and I are writing…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No-regret” algorithms for repeated game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 bit more generally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peated play of matrix game with N rows.  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(Algorithm is row-player, rows represent different possible actions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t each time step, algorithm picks row, life picks colum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66"/>
                </a:solidFill>
                <a:latin typeface="Comic Sans MS"/>
              </a:rPr>
              <a:t>Alg pays cost for action chose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66"/>
                </a:solidFill>
                <a:latin typeface="Comic Sans MS"/>
              </a:rPr>
              <a:t>Alg gets column as feedback (or just its own cost in the “bandit” model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66"/>
                </a:solidFill>
                <a:latin typeface="Comic Sans MS"/>
              </a:rPr>
              <a:t>Need to assume some bound on max cost.  Let’s say all costs between 0 and 1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733920" y="2057400"/>
            <a:ext cx="2329920" cy="1218960"/>
            <a:chOff x="3733920" y="2057400"/>
            <a:chExt cx="2329920" cy="1218960"/>
          </a:xfrm>
        </p:grpSpPr>
        <p:sp>
          <p:nvSpPr>
            <p:cNvPr id="112" name=""/>
            <p:cNvSpPr/>
            <p:nvPr/>
          </p:nvSpPr>
          <p:spPr>
            <a:xfrm>
              <a:off x="4001400" y="2300760"/>
              <a:ext cx="2016360" cy="97560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16200000">
              <a:off x="3422160" y="2555640"/>
              <a:ext cx="90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lgorith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200480" y="2057400"/>
              <a:ext cx="1863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versary – world - lif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4038480" y="2666880"/>
            <a:ext cx="1981440" cy="152640"/>
          </a:xfrm>
          <a:prstGeom prst="rect">
            <a:avLst/>
          </a:prstGeom>
          <a:solidFill>
            <a:srgbClr val="ff9966">
              <a:alpha val="38000"/>
            </a:srgbClr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2286000"/>
            <a:ext cx="152280" cy="990720"/>
          </a:xfrm>
          <a:prstGeom prst="rect">
            <a:avLst/>
          </a:prstGeom>
          <a:solidFill>
            <a:srgbClr val="ff9966">
              <a:alpha val="49000"/>
            </a:srgbClr>
          </a:solidFill>
          <a:ln w="64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No-regret” algorithms for repeated game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t each time step, algorithm picks row, life picks colum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66"/>
                </a:solidFill>
                <a:latin typeface="Comic Sans MS"/>
              </a:rPr>
              <a:t>Alg pays cost for action chose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66"/>
                </a:solidFill>
                <a:latin typeface="Comic Sans MS"/>
              </a:rPr>
              <a:t>Alg gets column as feedback (or just its own cost in the “bandit” model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66"/>
                </a:solidFill>
                <a:latin typeface="Comic Sans MS"/>
              </a:rPr>
              <a:t>Need to assume some bound on max cost.  Let’s say all costs between 0 and 1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3733920"/>
            <a:ext cx="853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Define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verage regret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in T time steps 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(avg per-day cost of alg)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–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(avg per-day cost of best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fixed row in hindsight)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.  We want this to go to 0 or better as T gets large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[= “no-regret” algorithm]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92" dur="1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ome intuition &amp; properties of no-regret algs.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6172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ime-average performance guaranteed to approach minimax value V of game (or better, if life isn’t adversarial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wo NR algorithms playing against  each other will have empirical distribution approach minimax optimal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istence of no-regret algs yields proof of minimax thm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gorithms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mus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be randomized or else it’s hopeles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400800" y="1676520"/>
            <a:ext cx="2590920" cy="1523880"/>
            <a:chOff x="6400800" y="1676520"/>
            <a:chExt cx="2590920" cy="1523880"/>
          </a:xfrm>
        </p:grpSpPr>
        <p:sp>
          <p:nvSpPr>
            <p:cNvPr id="123" name=""/>
            <p:cNvSpPr/>
            <p:nvPr/>
          </p:nvSpPr>
          <p:spPr>
            <a:xfrm>
              <a:off x="6705720" y="1981080"/>
              <a:ext cx="2286000" cy="121932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16200000">
              <a:off x="6089040" y="2447640"/>
              <a:ext cx="90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lgorith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932880" y="1676520"/>
              <a:ext cx="1863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versary – world - lif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History and development (abridged)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[Hannan’57, Blackwell’56]:  Alg. with regret O((N/T)</a:t>
            </a:r>
            <a:r>
              <a:rPr b="0" lang="en-US" sz="2400" spc="-1" strike="noStrike" baseline="30000">
                <a:solidFill>
                  <a:srgbClr val="ffff66"/>
                </a:solidFill>
                <a:latin typeface="Comic Sans MS"/>
              </a:rPr>
              <a:t>1/2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-phrasing, need only T = O(N/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steps to get time-average regret down to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(will call this quantity T</a:t>
            </a:r>
            <a:r>
              <a:rPr b="0" lang="en-US" sz="2400" spc="-1" strike="noStrike" baseline="-25000">
                <a:solidFill>
                  <a:srgbClr val="99ff33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ptimal dependence on T 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(or </a:t>
            </a:r>
            <a:r>
              <a:rPr b="0" lang="en-US" sz="2400" spc="-1" strike="noStrike">
                <a:solidFill>
                  <a:srgbClr val="99ff33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Game-theorists viewed #rows N as constant, not so important as T, so pretty much don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Learning-theory 80s-90s: “combining expert advice”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Perform (nearly) as well as best f</a:t>
            </a:r>
            <a:r>
              <a:rPr b="0" lang="en-US" sz="2400" spc="-1" strike="noStrike">
                <a:solidFill>
                  <a:srgbClr val="ff6699"/>
                </a:solidFill>
                <a:latin typeface="cmsy10"/>
              </a:rPr>
              <a:t>2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C. View N as larg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[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ttleston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rmuth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’89]: Weighted-majority algorith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085760" indent="-228600">
              <a:spcBef>
                <a:spcPts val="601"/>
              </a:spcBef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[cost]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PT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+ (log N)/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ffff66"/>
                </a:solidFill>
                <a:latin typeface="cmsy10"/>
              </a:rPr>
              <a:t>·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OPT+</a:t>
            </a:r>
            <a:r>
              <a:rPr b="0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T+(log N)/</a:t>
            </a:r>
            <a:r>
              <a:rPr b="0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085760" indent="-228600">
              <a:spcBef>
                <a:spcPts val="601"/>
              </a:spcBef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gret O((log N)/T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/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T</a:t>
            </a:r>
            <a:r>
              <a:rPr b="0" lang="en-US" sz="2400" spc="-1" strike="noStrike" baseline="-25000">
                <a:solidFill>
                  <a:srgbClr val="66ff33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 = O((log N)/</a:t>
            </a:r>
            <a:r>
              <a:rPr b="0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66ff33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Optimal as fn of N too, plus lots of work on exact constants, 2</a:t>
            </a:r>
            <a:r>
              <a:rPr b="0" lang="en-US" sz="2400" spc="-1" strike="noStrike" baseline="30000">
                <a:solidFill>
                  <a:srgbClr val="ff6699"/>
                </a:solidFill>
                <a:latin typeface="Comic Sans MS"/>
              </a:rPr>
              <a:t>nd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order terms, etc. </a:t>
            </a:r>
            <a:r>
              <a:rPr b="0" lang="en-US" sz="2000" spc="-1" strike="noStrike">
                <a:solidFill>
                  <a:srgbClr val="ff6699"/>
                </a:solidFill>
                <a:latin typeface="Comic Sans MS"/>
              </a:rPr>
              <a:t>[CFHHSW93]…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Extensions to bandit model (adds extra factor of N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ounds have only log dependence on N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o, conceivably can do well when N is exponential in natural problem size, if only could implement efficiently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.g., case of paths…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cent years: series of results giving efficient implementation/alternatives in various setting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Efficient implicit implementation for large N…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657600" y="3429000"/>
            <a:ext cx="4648320" cy="762120"/>
            <a:chOff x="3657600" y="3429000"/>
            <a:chExt cx="4648320" cy="762120"/>
          </a:xfrm>
        </p:grpSpPr>
        <p:sp>
          <p:nvSpPr>
            <p:cNvPr id="131" name=""/>
            <p:cNvSpPr/>
            <p:nvPr/>
          </p:nvSpPr>
          <p:spPr>
            <a:xfrm>
              <a:off x="5105520" y="3505320"/>
              <a:ext cx="1440" cy="617400"/>
            </a:xfrm>
            <a:custGeom>
              <a:avLst/>
              <a:gdLst/>
              <a:ahLst/>
              <a:rect l="l" t="t" r="r" b="b"/>
              <a:pathLst>
                <a:path w="1" h="389">
                  <a:moveTo>
                    <a:pt x="0" y="389"/>
                  </a:move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91320" y="3505320"/>
              <a:ext cx="1440" cy="617400"/>
            </a:xfrm>
            <a:custGeom>
              <a:avLst/>
              <a:gdLst/>
              <a:ahLst/>
              <a:rect l="l" t="t" r="r" b="b"/>
              <a:pathLst>
                <a:path w="1" h="389">
                  <a:moveTo>
                    <a:pt x="0" y="389"/>
                  </a:move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477120" y="3505320"/>
              <a:ext cx="1440" cy="617400"/>
            </a:xfrm>
            <a:custGeom>
              <a:avLst/>
              <a:gdLst/>
              <a:ahLst/>
              <a:rect l="l" t="t" r="r" b="b"/>
              <a:pathLst>
                <a:path w="1" h="389">
                  <a:moveTo>
                    <a:pt x="0" y="389"/>
                  </a:move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156440" y="3505320"/>
              <a:ext cx="439920" cy="633240"/>
            </a:xfrm>
            <a:custGeom>
              <a:avLst/>
              <a:gdLst/>
              <a:ahLst/>
              <a:rect l="l" t="t" r="r" b="b"/>
              <a:pathLst>
                <a:path w="277" h="399">
                  <a:moveTo>
                    <a:pt x="270" y="160"/>
                  </a:moveTo>
                  <a:lnTo>
                    <a:pt x="0" y="399"/>
                  </a:lnTo>
                  <a:lnTo>
                    <a:pt x="4" y="0"/>
                  </a:lnTo>
                  <a:lnTo>
                    <a:pt x="277" y="167"/>
                  </a:lnTo>
                </a:path>
              </a:pathLst>
            </a:custGeom>
            <a:noFill/>
            <a:ln w="255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407120" y="4114800"/>
              <a:ext cx="2755800" cy="11160"/>
            </a:xfrm>
            <a:custGeom>
              <a:avLst/>
              <a:gdLst/>
              <a:ahLst/>
              <a:rect l="l" t="t" r="r" b="b"/>
              <a:pathLst>
                <a:path w="1736" h="7">
                  <a:moveTo>
                    <a:pt x="1736" y="7"/>
                  </a:move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4560" bIns="-3456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405320" y="3486240"/>
              <a:ext cx="2756160" cy="11160"/>
            </a:xfrm>
            <a:custGeom>
              <a:avLst/>
              <a:gdLst/>
              <a:ahLst/>
              <a:rect l="l" t="t" r="r" b="b"/>
              <a:pathLst>
                <a:path w="1736" h="7">
                  <a:moveTo>
                    <a:pt x="1736" y="7"/>
                  </a:move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4560" bIns="-3456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27600" y="3486240"/>
              <a:ext cx="501480" cy="628560"/>
            </a:xfrm>
            <a:custGeom>
              <a:avLst/>
              <a:gdLst/>
              <a:ahLst/>
              <a:rect l="l" t="t" r="r" b="b"/>
              <a:pathLst>
                <a:path w="316" h="396">
                  <a:moveTo>
                    <a:pt x="316" y="396"/>
                  </a:moveTo>
                  <a:lnTo>
                    <a:pt x="0" y="187"/>
                  </a:lnTo>
                  <a:lnTo>
                    <a:pt x="306" y="0"/>
                  </a:lnTo>
                  <a:lnTo>
                    <a:pt x="306" y="389"/>
                  </a:lnTo>
                </a:path>
              </a:pathLst>
            </a:custGeom>
            <a:noFill/>
            <a:ln w="255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43400" y="4038480"/>
              <a:ext cx="152640" cy="15264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43400" y="3429000"/>
              <a:ext cx="152640" cy="15228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40" name="" descr=""/>
            <p:cNvPicPr/>
            <p:nvPr/>
          </p:nvPicPr>
          <p:blipFill>
            <a:blip r:embed="rId1"/>
            <a:stretch/>
          </p:blipFill>
          <p:spPr>
            <a:xfrm>
              <a:off x="3657600" y="3505320"/>
              <a:ext cx="27324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5029200" y="4038480"/>
              <a:ext cx="152640" cy="15264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29200" y="3429000"/>
              <a:ext cx="152640" cy="15228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715000" y="4038480"/>
              <a:ext cx="152640" cy="15264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715000" y="3429000"/>
              <a:ext cx="152640" cy="15228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0800" y="4038480"/>
              <a:ext cx="152640" cy="15264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00800" y="3429000"/>
              <a:ext cx="152640" cy="15228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086600" y="4038480"/>
              <a:ext cx="152640" cy="15264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086600" y="3429000"/>
              <a:ext cx="152640" cy="15228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696440" y="3581280"/>
              <a:ext cx="609480" cy="307080"/>
            </a:xfrm>
            <a:prstGeom prst="rect">
              <a:avLst/>
            </a:prstGeom>
            <a:solidFill>
              <a:srgbClr val="000066"/>
            </a:solidFill>
            <a:ln w="255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MI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vrim Blum</cp:lastModifiedBy>
  <dcterms:modified xsi:type="dcterms:W3CDTF">2006-03-14T13:24:06Z</dcterms:modified>
  <cp:revision>86</cp:revision>
  <dc:subject/>
  <dc:title>On Routing without Regre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