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30344-207E-4709-869C-94E8EF9A0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6292-18FD-4053-9650-8978968CE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D16F-6359-4B3E-9D5D-5BE4F18A8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F24A-E3C4-43E8-B3F8-8ED93A860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4FA19-7C0A-49B3-A86E-EE3126AA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C3AE2-4C93-4EFB-A93E-80189638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CB0D8-ED6E-4E64-97B3-033523DA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C76DA-0DEA-4C65-BA0D-AF683457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EEAB6-E6C0-4CDD-8E6A-D35BBC5F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AE8EC-8AAD-425A-992F-431F3076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73983-F528-4B3F-81C8-D7F49BAE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27CA6-55B8-4140-8704-4739B87C9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14D5C-688C-45AD-9993-FE4892AF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1A9E9-C683-4FFE-BBE3-520A0910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92965-75CB-4D5A-A36C-D60E04BA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A0A84-D793-4DD0-98C1-A3DAAFA7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B25E0-6AF8-49AF-9090-AD7A31D2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FF98-FF4B-4726-A245-974A4E41E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324F-E4CB-4757-9279-46A8AF64E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3107-F115-44AC-883F-932178225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7747-EFAE-4963-AB19-25C04EF6F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2313-BE34-4A21-9F07-9E8ADA59A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3AC2-6A7A-409B-8366-98457893D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B3129-E3C4-42D4-A595-607396F0C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5E05-5E2C-49E5-8482-12797BBAD5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DEF3-3F97-493E-9B62-9450F3A8FA58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decision-making without regret, routing games, and convergence to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quilibria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182880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lmbold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hapire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97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 best pruning of given D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BC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haw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1+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static-optimal for list-up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T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kimoto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2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shortest path in DA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V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empala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elegant setting generalizing all ab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8640" indent="-2102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linear programming, more general online optimization (offline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Z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inkevi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3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nline convex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A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werbuch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4][M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B04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KV]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einberg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,F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laxm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K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ala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M</a:t>
            </a:r>
            <a:r>
              <a:rPr b="0" lang="en-US" sz="1800" spc="-1" strike="noStrike">
                <a:solidFill>
                  <a:srgbClr val="99ff33"/>
                </a:solidFill>
                <a:latin typeface="Comic Sans MS"/>
              </a:rPr>
              <a:t>cMahan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5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[Z03]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band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ni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ayes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06]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faster convergence for [MB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7.12303E-007 L 0.00017 -0.55736 E">
                                      <p:cBhvr>
                                        <p:cTn id="180" dur="2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alai-Vempala setting and algorith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686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 of bound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diam(S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ound on c’s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(m)/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online shortest path, 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O(nm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(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andit setting [AK][MB]…: What if alg is only told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co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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not </a:t>
            </a:r>
            <a:r>
              <a:rPr b="0" lang="en-US" sz="24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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self.  Can you still be comparable to the best path in hindsight (which you don’t even know)?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: yes, though bounds are worse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838080"/>
            <a:ext cx="8001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t S of feasible points in 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f bounded diameter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E.g., indicator vectors for possible path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have oracl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fflin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           given vector c, find 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to minimize c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x. Use to solv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nl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on day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must pick 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 before 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giv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621560" y="2743200"/>
            <a:ext cx="1217520" cy="1143000"/>
            <a:chOff x="7621560" y="2743200"/>
            <a:chExt cx="1217520" cy="1143000"/>
          </a:xfrm>
        </p:grpSpPr>
        <p:sp>
          <p:nvSpPr>
            <p:cNvPr id="157" name=""/>
            <p:cNvSpPr/>
            <p:nvPr/>
          </p:nvSpPr>
          <p:spPr>
            <a:xfrm>
              <a:off x="762156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264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78760" y="32004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560" y="33526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61228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231040" y="3809880"/>
              <a:ext cx="76320" cy="763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59640" y="30481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07360" y="350532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459640" y="32767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31040" y="2895480"/>
              <a:ext cx="7488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3840" y="373392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26480" y="2971800"/>
              <a:ext cx="7452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4560" y="3124080"/>
              <a:ext cx="74520" cy="7488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59640" y="2743200"/>
              <a:ext cx="74880" cy="74520"/>
            </a:xfrm>
            <a:prstGeom prst="ellipse">
              <a:avLst/>
            </a:prstGeom>
            <a:solidFill>
              <a:srgbClr val="ffff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 flipV="1">
            <a:off x="7392960" y="2819520"/>
            <a:ext cx="76320" cy="12189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68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natural generalization of our regret goal is: what if we also want that on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, we do nearly as well as the best route for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now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ay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on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do nearly as well as best route for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onday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generally, have N “rules” (on Monday, use path P). Goal: simultaneously, for each rul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uarantee to do nearly as well as it </a:t>
            </a:r>
            <a:r>
              <a:rPr b="0" i="1" lang="en-US" sz="2400" spc="-1" strike="noStrike">
                <a:solidFill>
                  <a:srgbClr val="ffff00"/>
                </a:solidFill>
                <a:latin typeface="Comic Sans MS"/>
              </a:rPr>
              <a:t>on the time steps in which it fir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generalization is esp natural in machine learning for combining multiple if-then ru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document classification.  Rule: “if &lt;word-X&gt; appears then predict &lt;Y&gt;”.  E.g., if h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classify as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port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if 90% of documents with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ootb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bout sports, we should have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11% on th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pecialists” or “sleeping experts” proble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udied theoretically in [B95][FSSW97][BM05]; in practice [CS’96,CS’99]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ive simple alg. (joint with Yishay Mansour).  Will describe in two ways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call setup: have N “rules” (on Monday, use path P)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ll i, want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 + O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cost</a:t>
            </a:r>
            <a:r>
              <a:rPr b="0" lang="en-US" sz="2000" spc="-1" strike="noStrike" baseline="-25000">
                <a:solidFill>
                  <a:srgbClr val="99ff33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99ff33"/>
                </a:solidFill>
                <a:latin typeface="Comic Sans MS"/>
              </a:rPr>
              <a:t>(X) = cost of X on time steps where rule i fires.  Can extend to fractional case too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ll consider case that rules are explicitly giv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117680" y="451008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ert proof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66680" y="3581280"/>
            <a:ext cx="7925040" cy="2210040"/>
          </a:xfrm>
          <a:prstGeom prst="rect">
            <a:avLst/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 works as follow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fine “relaxed regret” with respect to rule i a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[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i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 rule i weight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Pick with prob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W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itially, all weights are 1 and sum to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ve sum of weights never increase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lud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g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+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¼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og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rules that can be fractionally on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6705720" cy="2077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467480" y="1676520"/>
            <a:ext cx="1676520" cy="380880"/>
          </a:xfrm>
          <a:prstGeom prst="wedgeRoundRectCallout">
            <a:avLst>
              <a:gd name="adj1" fmla="val -64490"/>
              <a:gd name="adj2" fmla="val 25833"/>
              <a:gd name="adj3" fmla="val 16667"/>
            </a:avLst>
          </a:prstGeom>
          <a:solidFill>
            <a:srgbClr val="000000"/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ant </a:t>
            </a:r>
            <a:r>
              <a:rPr b="0" lang="en-US" sz="1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natural generalization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Equivalent view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art with all rules at weight 1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 each time step, of the rules i that fire, select one with probability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800" spc="-1" strike="noStrike" baseline="-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pdate weight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n’t fire, leave weight al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id fire, raise or lower depending on performance compared to weighted averag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[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ost(j)]/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– cost(i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15000">
                <a:solidFill>
                  <a:srgbClr val="ffffff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So, if rule i does exactly as well as weighted average, its weight drops a little.  Weight increases if does better than weighted average by more than a (1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factor.  This ensures sum of weights doesn’t increas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sum of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ver all time steps in which rule i fire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an combine with KV too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sume we are given N “conditions” or “features” to pay attention to (is it snowing?, is it a Monday?, …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day satisfies some conditions and not other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un a copy of KV on just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n view these N algorithms as “sleeping experts” and feed their suggestions as inputs into previous alg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each condi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n the days satisfying that condition we do nearly as well as the best copy of KV for the days satisfying that conditio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to Part II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69640" y="1447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line learning and game theory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047760"/>
            <a:ext cx="6662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rim Blu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5029200"/>
            <a:ext cx="66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Talk includes work joint with Eyal Even-Dar, Katrina Ligett, Yishay Mansour, and Brendan McMahan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hat if everyone started using no-regret algs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if changing cost function is due to other players in the system optimizing for themselves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-regret can be viewed as a nice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definitio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reasonable self-interested behavior.  So, what happens to overall system if everyone uses one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320040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zero-sum games, behavior quickly approaches minimax opti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n general-sum games, does behavior quickly (or at all) approach a Nash equilibrium?  (after all, a Nash Eq is exactly a set of distributions that are no-regret wrt each o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Well, unfortunately,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A bad example for general-sum game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ugmented Shapley game from [Z04]: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“RPSF”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irst 3 rows/cols are Shapley game (rock / paper / scissors but if both do same action then both lose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“play foosball” has slight negative if other player is still doing r/p/s but positive if other player does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ction to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R algs will cycle among first 3 and have no regret, but do worse than only Nash Equilibrium of both playing foosbal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didn’t really expect this to work given how hard NE can be to find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What </a:t>
            </a:r>
            <a:r>
              <a:rPr b="0" i="1" lang="en-US" sz="3600" spc="-1" strike="noStrike">
                <a:solidFill>
                  <a:srgbClr val="ffff00"/>
                </a:solidFill>
                <a:latin typeface="Comic Sans MS"/>
              </a:rPr>
              <a:t>can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we say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gorithms minimize “internal” or “swap” regret, then empirical distribution of play approaches </a:t>
            </a:r>
            <a:r>
              <a:rPr b="0" i="1" lang="en-US" sz="2800" spc="-1" strike="noStrike">
                <a:solidFill>
                  <a:srgbClr val="ffff66"/>
                </a:solidFill>
                <a:latin typeface="Comic Sans MS"/>
              </a:rPr>
              <a:t>correlate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ster &amp; Vohra, Hart &amp; Mas-Colell,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 joint with Yishay Mansour gives current best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fn of size of game 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[don’t worry, I’ll define CE…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some natural cases, like routing in Wardrop model, can show daily traffic actually approaches Nash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ork joint with Eyal Even-Dar and Katrina Liget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est expert” or “external” regret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.  Compete with best of them in hindsigh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” or “regret with time-intervals”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n strategies, k properties.  Let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set of days satisfying property i (might overlap). Want to simultaneously achieve low regret over each 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” or “swap” regret:  like (2), except tha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set of days in which we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chose strategy 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nal regret: (ma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Key motivation: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all parties have swap regret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empirical distribution of play is a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correlated equilibriu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1981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the set of days I used strategy i, how much better could I have done following some other strategy j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on’t want to have regret of the form “every time I bought IBM, I should have bought Microsoft instead”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wap regret: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/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971800"/>
            <a:ext cx="8686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Suppose all parties have swap-regret 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ppose a correlator chooses a random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{1,2,…,T}.  Tells each player to play the action i they played in time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ut does not reveal value of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pected incentive to deviate: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r(i)(Regret|i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swap-regret of algorithm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this gives a nice distributed way to get apx correlated equilibria in multiplayer ga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7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nternal/swap regre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to achieve low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ral algorithms known (in standard setting where have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ctions, listed explicitly).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H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rt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sColell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F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ste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V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ohra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 [C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esa-Bianch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[S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toltz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L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ugosi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…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st explicit bounds for efficient algorithm 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18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4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N 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[For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1/log N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ice open question: can you ge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ublinea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N (ideally wan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log 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gainst oblivious adversar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sy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N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lower bound with adaptive adversary:  each day gives random cost vector in {0,1}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except that previously-tried actions have cost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sue: swap-regret has implicit penalty for trying new action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[BM</a:t>
            </a:r>
            <a:r>
              <a:rPr b="0" lang="en-US" sz="2000" spc="-1" strike="noStrike">
                <a:solidFill>
                  <a:srgbClr val="ff6699"/>
                </a:solidFill>
                <a:latin typeface="Arial Unicode MS"/>
              </a:rPr>
              <a:t>ansour</a:t>
            </a:r>
            <a:r>
              <a:rPr b="0" lang="en-US" sz="2800" spc="-1" strike="noStrike">
                <a:solidFill>
                  <a:srgbClr val="ff6699"/>
                </a:solidFill>
                <a:latin typeface="Arial Unicode MS"/>
              </a:rPr>
              <a:t>]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algorithm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Plan: use a “best expert” algorithm A as subrouti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de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tiate one copy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sponsible for expected regret over times we play i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each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d to play q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so all together we have matrix Q, then define p = pQ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ows us to view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 prob we chose action i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we chose algorithm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time step, if we play p=(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and get cost vector c=(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…,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, then 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gets cost-vect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Then do a few calculations to show this works. (but not now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69640" y="2720880"/>
            <a:ext cx="69073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w on to the last part of the talk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graph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Each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has non-decreasing cost function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at tells latency of that edge as a function of the amount of traffic using 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1 unit of traffic (infinitesimal users) wants to travel from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607720" y="2855880"/>
            <a:ext cx="3232080" cy="1664640"/>
            <a:chOff x="5607720" y="2855880"/>
            <a:chExt cx="3232080" cy="1664640"/>
          </a:xfrm>
        </p:grpSpPr>
        <p:sp>
          <p:nvSpPr>
            <p:cNvPr id="216" name=""/>
            <p:cNvSpPr/>
            <p:nvPr/>
          </p:nvSpPr>
          <p:spPr>
            <a:xfrm>
              <a:off x="5607720" y="34102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397000" y="33865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6" idx="7"/>
              <a:endCxn id="217" idx="1"/>
            </p:cNvCxnSpPr>
            <p:nvPr/>
          </p:nvCxnSpPr>
          <p:spPr>
            <a:xfrm flipH="1" flipV="1" rot="5400000">
              <a:off x="7212600" y="2283120"/>
              <a:ext cx="24840" cy="2458080"/>
            </a:xfrm>
            <a:prstGeom prst="curvedConnector5">
              <a:avLst>
                <a:gd name="adj1" fmla="val 1358823"/>
                <a:gd name="adj2" fmla="val 49992"/>
                <a:gd name="adj3" fmla="val 1358823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19" name=""/>
            <p:cNvCxnSpPr>
              <a:stCxn id="216" idx="5"/>
              <a:endCxn id="217" idx="3"/>
            </p:cNvCxnSpPr>
            <p:nvPr/>
          </p:nvCxnSpPr>
          <p:spPr>
            <a:xfrm flipH="1" flipV="1" rot="5400000">
              <a:off x="7212600" y="26276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>
              <a:off x="6770520" y="2855880"/>
              <a:ext cx="782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58280" y="4114800"/>
              <a:ext cx="909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f)=2f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57200" y="3048120"/>
            <a:ext cx="4952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ash equilibrium is flow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such that all paths with positive flow have the same cost, and no path is cheap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6560" y="3465360"/>
            <a:ext cx="1703160" cy="368280"/>
          </a:xfrm>
          <a:prstGeom prst="rect">
            <a:avLst/>
          </a:pr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Nash is 2/3,1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800600"/>
            <a:ext cx="8458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cost of average user under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= cost of using path P given 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at Nash,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*) =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*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172200"/>
            <a:ext cx="8458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appens if people use no-regret algorithm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9720" y="236232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simple c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sider the following setting…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410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ach morning, you need to pick one of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ossible routes to get to work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traffic is different each day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ot clear a priori which will be best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you get there you find out how long your route took.  (And maybe others too or maybe not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791320" y="1523880"/>
            <a:ext cx="2666880" cy="1904760"/>
            <a:chOff x="5791320" y="1523880"/>
            <a:chExt cx="2666880" cy="1904760"/>
          </a:xfrm>
        </p:grpSpPr>
        <p:sp>
          <p:nvSpPr>
            <p:cNvPr id="92" name=""/>
            <p:cNvSpPr/>
            <p:nvPr/>
          </p:nvSpPr>
          <p:spPr>
            <a:xfrm>
              <a:off x="6172200" y="1599840"/>
              <a:ext cx="2209680" cy="1752840"/>
            </a:xfrm>
            <a:custGeom>
              <a:avLst/>
              <a:gdLst/>
              <a:ahLst/>
              <a:rect l="l" t="t" r="r" b="b"/>
              <a:pathLst>
                <a:path w="1392" h="1104">
                  <a:moveTo>
                    <a:pt x="0" y="720"/>
                  </a:moveTo>
                  <a:lnTo>
                    <a:pt x="336" y="1104"/>
                  </a:lnTo>
                  <a:lnTo>
                    <a:pt x="528" y="816"/>
                  </a:lnTo>
                  <a:lnTo>
                    <a:pt x="1104" y="912"/>
                  </a:lnTo>
                  <a:lnTo>
                    <a:pt x="1392" y="384"/>
                  </a:lnTo>
                  <a:lnTo>
                    <a:pt x="720" y="480"/>
                  </a:lnTo>
                  <a:lnTo>
                    <a:pt x="960" y="0"/>
                  </a:lnTo>
                  <a:lnTo>
                    <a:pt x="1392" y="384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72200" y="1981080"/>
              <a:ext cx="1143000" cy="914400"/>
            </a:xfrm>
            <a:custGeom>
              <a:avLst/>
              <a:gdLst/>
              <a:ahLst/>
              <a:rect l="l" t="t" r="r" b="b"/>
              <a:pathLst>
                <a:path w="720" h="576">
                  <a:moveTo>
                    <a:pt x="0" y="480"/>
                  </a:moveTo>
                  <a:lnTo>
                    <a:pt x="336" y="0"/>
                  </a:lnTo>
                  <a:lnTo>
                    <a:pt x="720" y="240"/>
                  </a:lnTo>
                  <a:lnTo>
                    <a:pt x="528" y="576"/>
                  </a:lnTo>
                  <a:lnTo>
                    <a:pt x="0" y="480"/>
                  </a:lnTo>
                  <a:close/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095880" y="266688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29400" y="19047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228564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9400" y="3276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34320" y="28191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48720" y="297144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05920" y="213336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20120" y="1523880"/>
              <a:ext cx="15228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5791320" y="2514240"/>
              <a:ext cx="2728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8534520" y="2000160"/>
            <a:ext cx="609480" cy="307080"/>
          </a:xfrm>
          <a:prstGeom prst="rect">
            <a:avLst/>
          </a:prstGeom>
          <a:solidFill>
            <a:srgbClr val="000066"/>
          </a:solidFill>
          <a:ln w="255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I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854360"/>
            <a:ext cx="2289240" cy="736560"/>
          </a:xfrm>
          <a:custGeom>
            <a:avLst/>
            <a:gdLst/>
            <a:ahLst/>
            <a:rect l="l" t="t" r="r" b="b"/>
            <a:pathLst>
              <a:path w="1442" h="464">
                <a:moveTo>
                  <a:pt x="0" y="464"/>
                </a:moveTo>
                <a:cubicBezTo>
                  <a:pt x="76" y="264"/>
                  <a:pt x="152" y="64"/>
                  <a:pt x="288" y="32"/>
                </a:cubicBezTo>
                <a:cubicBezTo>
                  <a:pt x="424" y="0"/>
                  <a:pt x="624" y="254"/>
                  <a:pt x="816" y="272"/>
                </a:cubicBezTo>
                <a:cubicBezTo>
                  <a:pt x="1008" y="290"/>
                  <a:pt x="1312" y="170"/>
                  <a:pt x="1442" y="143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56600" y="23353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 m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8862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Is there a strategy for picking routes so that in the long run, whatever the sequence of traffic patterns has been, you’ve done not much worse than the best fixed route in hindsight?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(In expectation, over internal randomness in the algorith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onsider Wardro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/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oughgarden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ardos traffic model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se are “potential games” so Nash Equilibria are not that hard to fin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 fact, a number of distributed procedures are known that will approach Nash at a good rate.  These even have property tha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f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else is using them, you might as well do so too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ybe you don’t trust {the others, the model,…}.  Can’t hurt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 use a no-regret algorithm instead!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Motivates studying what happens if everybody is minimizing regret for themselves.  Are Nash Equilibria the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evitable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result of users intelligently behaving in their own interest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lso further motivates “price of anarchy” result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Global  behavior of NR algs </a:t>
            </a:r>
            <a:r>
              <a:rPr b="0" lang="en-US" sz="3200" spc="-1" strike="noStrike">
                <a:solidFill>
                  <a:srgbClr val="99ff33"/>
                </a:solidFill>
                <a:latin typeface="Comic Sans MS"/>
              </a:rPr>
              <a:t>[B-EvenDar-Ligett]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762120"/>
            <a:ext cx="84582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 day </a:t>
            </a:r>
            <a:r>
              <a:rPr b="0" lang="en-US" sz="2800" spc="-1" strike="noStrike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hav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verage regret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by some time T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we’d like to say is the time-average flow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     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r even better that </a:t>
            </a:r>
            <a:r>
              <a:rPr b="0" i="1" lang="en-US" sz="2800" spc="-1" strike="noStrike">
                <a:solidFill>
                  <a:srgbClr val="66ff33"/>
                </a:solidFill>
                <a:latin typeface="Comic Sans MS"/>
              </a:rPr>
              <a:t>mos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f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are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Nas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+ min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8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 problems if cost functions are too shar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834640" y="4700520"/>
            <a:ext cx="3231720" cy="2009880"/>
            <a:chOff x="2834640" y="4700520"/>
            <a:chExt cx="3231720" cy="2009880"/>
          </a:xfrm>
        </p:grpSpPr>
        <p:sp>
          <p:nvSpPr>
            <p:cNvPr id="232" name=""/>
            <p:cNvSpPr/>
            <p:nvPr/>
          </p:nvSpPr>
          <p:spPr>
            <a:xfrm>
              <a:off x="2834640" y="543132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3560" y="540684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4" name=""/>
            <p:cNvCxnSpPr>
              <a:stCxn id="232" idx="7"/>
              <a:endCxn id="233" idx="1"/>
            </p:cNvCxnSpPr>
            <p:nvPr/>
          </p:nvCxnSpPr>
          <p:spPr>
            <a:xfrm flipH="1" flipV="1" rot="5400000">
              <a:off x="4439160" y="430416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32" idx="5"/>
              <a:endCxn id="233" idx="3"/>
            </p:cNvCxnSpPr>
            <p:nvPr/>
          </p:nvCxnSpPr>
          <p:spPr>
            <a:xfrm flipH="1" flipV="1" rot="5400000">
              <a:off x="4439160" y="464868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36" name=""/>
            <p:cNvGrpSpPr/>
            <p:nvPr/>
          </p:nvGrpSpPr>
          <p:grpSpPr>
            <a:xfrm>
              <a:off x="4114800" y="4700520"/>
              <a:ext cx="685800" cy="480960"/>
              <a:chOff x="4114800" y="4700520"/>
              <a:chExt cx="685800" cy="480960"/>
            </a:xfrm>
          </p:grpSpPr>
          <p:sp>
            <p:nvSpPr>
              <p:cNvPr id="237" name=""/>
              <p:cNvSpPr/>
              <p:nvPr/>
            </p:nvSpPr>
            <p:spPr>
              <a:xfrm>
                <a:off x="4114800" y="472428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14800" y="470052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114800" y="624852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4800" y="622476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224600" y="51958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2920" y="57913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lobal  behavior of NR alg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762120"/>
            <a:ext cx="6248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teresting case to consid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747760" y="1066680"/>
            <a:ext cx="3231720" cy="2009880"/>
            <a:chOff x="5747760" y="1066680"/>
            <a:chExt cx="3231720" cy="2009880"/>
          </a:xfrm>
        </p:grpSpPr>
        <p:sp>
          <p:nvSpPr>
            <p:cNvPr id="246" name=""/>
            <p:cNvSpPr/>
            <p:nvPr/>
          </p:nvSpPr>
          <p:spPr>
            <a:xfrm>
              <a:off x="5747760" y="179748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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536680" y="1773000"/>
              <a:ext cx="442800" cy="5734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puter Modern"/>
                  <a:ea typeface="Computer Modern"/>
                </a:rPr>
                <a:t>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puter Modern"/>
                  <a:ea typeface="Computer Modern"/>
                </a:rPr>
                <a:t>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8" name=""/>
            <p:cNvCxnSpPr>
              <a:stCxn id="246" idx="7"/>
              <a:endCxn id="247" idx="1"/>
            </p:cNvCxnSpPr>
            <p:nvPr/>
          </p:nvCxnSpPr>
          <p:spPr>
            <a:xfrm flipH="1" flipV="1" rot="5400000">
              <a:off x="7352280" y="670320"/>
              <a:ext cx="24480" cy="2458080"/>
            </a:xfrm>
            <a:prstGeom prst="curvedConnector5">
              <a:avLst>
                <a:gd name="adj1" fmla="val 1359701"/>
                <a:gd name="adj2" fmla="val 49992"/>
                <a:gd name="adj3" fmla="val 1359701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6" idx="5"/>
              <a:endCxn id="247" idx="3"/>
            </p:cNvCxnSpPr>
            <p:nvPr/>
          </p:nvCxnSpPr>
          <p:spPr>
            <a:xfrm flipH="1" flipV="1" rot="5400000">
              <a:off x="7352280" y="1014840"/>
              <a:ext cx="24480" cy="2458080"/>
            </a:xfrm>
            <a:prstGeom prst="curvedConnector5">
              <a:avLst>
                <a:gd name="adj1" fmla="val -1252238"/>
                <a:gd name="adj2" fmla="val 49992"/>
                <a:gd name="adj3" fmla="val -1252238"/>
              </a:avLst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</p:cxnSp>
        <p:grpSp>
          <p:nvGrpSpPr>
            <p:cNvPr id="250" name=""/>
            <p:cNvGrpSpPr/>
            <p:nvPr/>
          </p:nvGrpSpPr>
          <p:grpSpPr>
            <a:xfrm>
              <a:off x="7027920" y="1066680"/>
              <a:ext cx="685800" cy="480960"/>
              <a:chOff x="7027920" y="1066680"/>
              <a:chExt cx="685800" cy="480960"/>
            </a:xfrm>
          </p:grpSpPr>
          <p:sp>
            <p:nvSpPr>
              <p:cNvPr id="251" name=""/>
              <p:cNvSpPr/>
              <p:nvPr/>
            </p:nvSpPr>
            <p:spPr>
              <a:xfrm>
                <a:off x="7027920" y="1090440"/>
                <a:ext cx="685800" cy="457200"/>
              </a:xfrm>
              <a:prstGeom prst="rect">
                <a:avLst/>
              </a:prstGeom>
              <a:solidFill>
                <a:srgbClr val="000066"/>
              </a:solidFill>
              <a:ln w="648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027920" y="1066680"/>
                <a:ext cx="663480" cy="480960"/>
              </a:xfrm>
              <a:custGeom>
                <a:avLst/>
                <a:gdLst/>
                <a:ahLst/>
                <a:rect l="l" t="t" r="r" b="b"/>
                <a:pathLst>
                  <a:path w="418" h="303">
                    <a:moveTo>
                      <a:pt x="0" y="303"/>
                    </a:moveTo>
                    <a:lnTo>
                      <a:pt x="247" y="300"/>
                    </a:lnTo>
                    <a:lnTo>
                      <a:pt x="256" y="0"/>
                    </a:lnTo>
                    <a:lnTo>
                      <a:pt x="418" y="0"/>
                    </a:lnTo>
                  </a:path>
                </a:pathLst>
              </a:custGeom>
              <a:solidFill>
                <a:srgbClr val="000066"/>
              </a:solidFill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7027920" y="2614680"/>
              <a:ext cx="685800" cy="457200"/>
            </a:xfrm>
            <a:prstGeom prst="rect">
              <a:avLst/>
            </a:prstGeom>
            <a:solidFill>
              <a:srgbClr val="000066"/>
            </a:solidFill>
            <a:ln w="648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27920" y="2590920"/>
              <a:ext cx="663480" cy="485640"/>
            </a:xfrm>
            <a:custGeom>
              <a:avLst/>
              <a:gdLst/>
              <a:ahLst/>
              <a:rect l="l" t="t" r="r" b="b"/>
              <a:pathLst>
                <a:path w="418" h="306">
                  <a:moveTo>
                    <a:pt x="0" y="303"/>
                  </a:moveTo>
                  <a:lnTo>
                    <a:pt x="118" y="306"/>
                  </a:lnTo>
                  <a:lnTo>
                    <a:pt x="126" y="6"/>
                  </a:lnTo>
                  <a:lnTo>
                    <a:pt x="418" y="0"/>
                  </a:lnTo>
                </a:path>
              </a:pathLst>
            </a:custGeom>
            <a:solidFill>
              <a:srgbClr val="000066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37720" y="15620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06040" y="215748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/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80880" y="274320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Pure greedy has cost 1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NR alg: cost approaches ½ per day, which is cost of best fixed path in hinds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But none of the individual days is an </a:t>
            </a:r>
            <a:r>
              <a:rPr b="0" lang="en-US" sz="28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-Nash flow (a flow where only a small fraction of traffic has significant incentive to switch). Same for time-average flow f</a:t>
            </a:r>
            <a:r>
              <a:rPr b="0" lang="en-US" sz="28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an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show if bounded slope…  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762120"/>
            <a:ext cx="86868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of sket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any edge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ime-avg cost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low-avg cost.  So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umming over all edges, and applying the regret bound: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+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]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ich in turn is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+ avg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means that actually, for each edge, the time-avg cost must be pretty close to the flow-avg cost, which (by the assumption of bounded slope) means the costs can’t vary too much ov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then lets you swap quantifiers (cost/avg) to get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Cost(f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’ + min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Cost</a:t>
            </a:r>
            <a:r>
              <a:rPr b="0" lang="en-US" sz="2400" spc="-1" strike="noStrike" baseline="-25000">
                <a:solidFill>
                  <a:srgbClr val="ffff66"/>
                </a:solidFill>
                <a:latin typeface="Comic Sans MS"/>
              </a:rPr>
              <a:t>f</a:t>
            </a:r>
            <a:r>
              <a:rPr b="0" lang="en-US" sz="2400" spc="-1" strike="noStrike" baseline="-5000">
                <a:solidFill>
                  <a:srgbClr val="ffff66"/>
                </a:solidFill>
                <a:latin typeface="Comic Sans MS"/>
              </a:rPr>
              <a:t>avg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(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 = O(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x-slope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also get bounds for “most” 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puter Modern"/>
                <a:ea typeface="Computer Modern"/>
              </a:rPr>
              <a:t>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o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extension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multi-commodity case (different sources/destina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extend to case of different allowable subgraphs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 each commodity is a (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G’) trip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imple case of parallel links, this is “restricted machines setting”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ummary/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ret-minimizing algorithms esp motivated by online learning and routing-type proble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leeping experts” algorithm can handle different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wap-regret related to correlated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-external-regret property sufficient to converge to Nash in Wardrop mode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Open problem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ime-bounds sublinear in N for achieving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wap regret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ther “price of minimizing regret / true-anarchy /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adaptiv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self-interested behavior” results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In fact, results of this sort have been known for a long time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Comic Sans MS"/>
              </a:rPr>
              <a:t>Plan for this talk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istory and background on these “no-regret” algorithm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me recent results / new direction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 </a:t>
            </a: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(correlated equilibria, Nash equilibria in some cases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alk is combination of classic and new work.  Talk-version of survey chapter that Yishay Mansour and I are writing…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bit more generally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eated play of matrix game with N rows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Algorithm is row-player, rows represent different possible action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733920" y="2057400"/>
            <a:ext cx="2329920" cy="1218960"/>
            <a:chOff x="3733920" y="2057400"/>
            <a:chExt cx="2329920" cy="1218960"/>
          </a:xfrm>
        </p:grpSpPr>
        <p:sp>
          <p:nvSpPr>
            <p:cNvPr id="112" name=""/>
            <p:cNvSpPr/>
            <p:nvPr/>
          </p:nvSpPr>
          <p:spPr>
            <a:xfrm>
              <a:off x="4001400" y="2300760"/>
              <a:ext cx="2016360" cy="9756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3422160" y="2555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00480" y="205740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038480" y="2666880"/>
            <a:ext cx="1981440" cy="152640"/>
          </a:xfrm>
          <a:prstGeom prst="rect">
            <a:avLst/>
          </a:prstGeom>
          <a:solidFill>
            <a:srgbClr val="ff9966">
              <a:alpha val="38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2286000"/>
            <a:ext cx="152280" cy="990720"/>
          </a:xfrm>
          <a:prstGeom prst="rect">
            <a:avLst/>
          </a:prstGeom>
          <a:solidFill>
            <a:srgbClr val="ff9966">
              <a:alpha val="49000"/>
            </a:srgbClr>
          </a:solidFill>
          <a:ln w="64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o-regret” algorithms for repeated gam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t each time step, algorithm picks row, life picks colum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pays cost for action chos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Alg gets column as feedback (or just its own cost in the “bandit” mode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eed to assume some bound on max cost.  Let’s say all costs between 0 and 1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733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efin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verage regret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in T time steps 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alg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 –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avg per-day cost of best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fixed row in hindsight)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.  We want this to go to 0 or better as T gets larg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= “no-regret” algorithm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ome intuition &amp; properties of no-regret algs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6172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me-average performance guaranteed to approach minimax value V of game (or better, if life isn’t adversarial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wo NR algorithms playing against  each other will have empirical distribution approach minimax optimal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istence of no-regret algs yields proof of minimax 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gorithm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mus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be randomized or else it’s hopeles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400800" y="1676520"/>
            <a:ext cx="2590920" cy="1523880"/>
            <a:chOff x="6400800" y="1676520"/>
            <a:chExt cx="2590920" cy="1523880"/>
          </a:xfrm>
        </p:grpSpPr>
        <p:sp>
          <p:nvSpPr>
            <p:cNvPr id="123" name=""/>
            <p:cNvSpPr/>
            <p:nvPr/>
          </p:nvSpPr>
          <p:spPr>
            <a:xfrm>
              <a:off x="6705720" y="1981080"/>
              <a:ext cx="2286000" cy="12193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6089040" y="2447640"/>
              <a:ext cx="90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lgorith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32880" y="1676520"/>
              <a:ext cx="186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versary – world - lif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istory and development (abridge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[Hannan’57, Blackwell’56]:  Alg. with regret O((N/T)</a:t>
            </a:r>
            <a:r>
              <a:rPr b="0" lang="en-US" sz="2400" spc="-1" strike="noStrike" baseline="30000">
                <a:solidFill>
                  <a:srgbClr val="ffff66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phrasing, need only T = O(N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teps to get time-average regret down t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will call this quantity T</a:t>
            </a:r>
            <a:r>
              <a:rPr b="0" lang="en-US" sz="2400" spc="-1" strike="noStrike" baseline="-25000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ptimal dependence on T 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(or </a:t>
            </a:r>
            <a:r>
              <a:rPr b="0" lang="en-US" sz="2400" spc="-1" strike="noStrike">
                <a:solidFill>
                  <a:srgbClr val="99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99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ame-theorists viewed #rows N as constant, not so important as T, so pretty much don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Learning-theory 80s-90s: “combining expert advice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Perform (nearly) as well as best f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C. View N as larg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ttleston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rmuth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89]: Weighted-majority algorith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[cost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PT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+ (log N)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ffff66"/>
                </a:solidFill>
                <a:latin typeface="cmsy10"/>
              </a:rPr>
              <a:t>· 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PT+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T+(log N)/</a:t>
            </a:r>
            <a:r>
              <a:rPr b="0" lang="en-US" sz="2400" spc="-1" strike="noStrike">
                <a:solidFill>
                  <a:srgbClr val="ffff66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gret O((log N)/T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O((log N)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Optimal as fn of N too, plus lots of work on exact constants, 2</a:t>
            </a:r>
            <a:r>
              <a:rPr b="0" lang="en-US" sz="2400" spc="-1" strike="noStrike" baseline="30000">
                <a:solidFill>
                  <a:srgbClr val="ff6699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order terms, etc. </a:t>
            </a:r>
            <a:r>
              <a:rPr b="0" lang="en-US" sz="2000" spc="-1" strike="noStrike">
                <a:solidFill>
                  <a:srgbClr val="ff6699"/>
                </a:solidFill>
                <a:latin typeface="Comic Sans MS"/>
              </a:rPr>
              <a:t>[CFHHSW93]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Extensions to bandit model (adds extra factor of 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have only log dependence on 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, conceivably can do well when N is exponential in natural problem size, if only could implement efficiently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case of path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ent years: series of results giving efficient implementation/alternatives in various setting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fficient implicit implementation for large N…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57600" y="3429000"/>
            <a:ext cx="4648320" cy="762120"/>
            <a:chOff x="3657600" y="3429000"/>
            <a:chExt cx="4648320" cy="762120"/>
          </a:xfrm>
        </p:grpSpPr>
        <p:sp>
          <p:nvSpPr>
            <p:cNvPr id="131" name=""/>
            <p:cNvSpPr/>
            <p:nvPr/>
          </p:nvSpPr>
          <p:spPr>
            <a:xfrm>
              <a:off x="51055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3505320"/>
              <a:ext cx="1440" cy="617400"/>
            </a:xfrm>
            <a:custGeom>
              <a:avLst/>
              <a:gdLst/>
              <a:ahLst/>
              <a:rect l="l" t="t" r="r" b="b"/>
              <a:pathLst>
                <a:path w="1" h="389">
                  <a:moveTo>
                    <a:pt x="0" y="389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56440" y="3505320"/>
              <a:ext cx="439920" cy="633240"/>
            </a:xfrm>
            <a:custGeom>
              <a:avLst/>
              <a:gdLst/>
              <a:ahLst/>
              <a:rect l="l" t="t" r="r" b="b"/>
              <a:pathLst>
                <a:path w="277" h="399">
                  <a:moveTo>
                    <a:pt x="270" y="160"/>
                  </a:moveTo>
                  <a:lnTo>
                    <a:pt x="0" y="399"/>
                  </a:lnTo>
                  <a:lnTo>
                    <a:pt x="4" y="0"/>
                  </a:lnTo>
                  <a:lnTo>
                    <a:pt x="277" y="167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07120" y="4114800"/>
              <a:ext cx="275580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05320" y="3486240"/>
              <a:ext cx="2756160" cy="11160"/>
            </a:xfrm>
            <a:custGeom>
              <a:avLst/>
              <a:gdLst/>
              <a:ahLst/>
              <a:rect l="l" t="t" r="r" b="b"/>
              <a:pathLst>
                <a:path w="1736" h="7">
                  <a:moveTo>
                    <a:pt x="1736" y="7"/>
                  </a:move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27600" y="3486240"/>
              <a:ext cx="501480" cy="628560"/>
            </a:xfrm>
            <a:custGeom>
              <a:avLst/>
              <a:gdLst/>
              <a:ahLst/>
              <a:rect l="l" t="t" r="r" b="b"/>
              <a:pathLst>
                <a:path w="316" h="396">
                  <a:moveTo>
                    <a:pt x="316" y="396"/>
                  </a:moveTo>
                  <a:lnTo>
                    <a:pt x="0" y="187"/>
                  </a:lnTo>
                  <a:lnTo>
                    <a:pt x="306" y="0"/>
                  </a:lnTo>
                  <a:lnTo>
                    <a:pt x="306" y="389"/>
                  </a:lnTo>
                </a:path>
              </a:pathLst>
            </a:custGeom>
            <a:noFill/>
            <a:ln w="25560">
              <a:solidFill>
                <a:srgbClr val="66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434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434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3657600" y="3505320"/>
              <a:ext cx="273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50292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50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008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6600" y="4038480"/>
              <a:ext cx="15264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86600" y="3429000"/>
              <a:ext cx="152640" cy="15228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96440" y="3581280"/>
              <a:ext cx="609480" cy="307080"/>
            </a:xfrm>
            <a:prstGeom prst="rect">
              <a:avLst/>
            </a:prstGeom>
            <a:solidFill>
              <a:srgbClr val="000066"/>
            </a:solidFill>
            <a:ln w="255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MI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6-03-14T13:24:06Z</dcterms:modified>
  <cp:revision>86</cp:revision>
  <dc:subject/>
  <dc:title>On Routing without Regr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