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move the slide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966C-53E3-440F-A553-77560B78B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o be concrete...  just made up ...  count Y = 1, N = 0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BD7-4865-4AAB-AEAA-D8F33A5A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E1F-2DED-4B93-BFF7-FCD908A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DE2-C91A-4996-8ADA-06E6AFFA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5D09-12AF-43FE-80FD-394A7382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77D2F-591E-4CD8-AADF-4B869919A6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65E72-D3CC-48A9-A06A-AF7A02C1E3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7C740-7153-44CC-B0D4-C37846BB82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AE310-24D5-4838-8549-775DB3534F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F909D-938C-4439-9411-9EF8158BD0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DBFC1-49BC-4F9F-94DE-2EFAC84519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5D449-ECBE-4C7A-95F5-6C1F30560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5A5-4EF2-4F01-BB86-5EF15659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928A2-0CCA-4872-AE94-E94D7BA007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965D2-FD8A-47FC-9615-9988A2F1B7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80CA5-7C29-4F72-8787-44D6F9F788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824B1-EFB7-4B54-8F36-C7C2F6E0B7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E09D-B739-4772-AB58-4B0399C9550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71987-0C87-4851-86C4-37022F11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1BBDD-DDD3-49C7-82C7-F705045D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863AC-C0E5-4D1E-9F9E-7BBA73F3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9E62E-2A60-40D7-A032-C95A7BB2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C62DB-1282-4FC5-92EA-0FAA15FD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D20-0AFE-4F9A-A999-8DDEA39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C8125-E5D9-4B6E-962A-ED12C0A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E1B862-4A4A-4CDA-BD35-0A5EAA37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48BC0-2127-4EFB-93F6-8764117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15713E-46A9-42F1-B8CE-DC475C1D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C1F75-12A5-4F95-9E00-547A86B6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1007B-090E-4EE7-9AD8-A3DD2C78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39F17-C311-49D7-89D6-DDEF2B026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513-D91B-435C-B028-BDA5EA95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84E-91A9-4B92-AE5A-9B946C9E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1E91-526C-46C0-8B0F-A9C82D4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4AB-A254-44A4-BA70-42A5AC2F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467-3EBD-4760-9255-2412E669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73D-9940-4F35-B249-74703F8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CD1D-F561-4E56-91D5-067B31BAD6B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E83B-824E-467D-9046-813665DF15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0FB5-42BC-4EA1-BF49-4441C9D3FCDF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2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2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New Horizons in Machine Learn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vrim Blum 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343400"/>
            <a:ext cx="6248160" cy="70380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is is mostly a survey, but last part is joint work with Nina Balcan and Santosh Vemp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6095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Workshop on New Horizons in Computing, Kyoto 200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place log |H| with log(# ways of splitting S using functions in H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margins: how well-separated the data is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ounds based on other observable properties of S and relation of S to H; other complexity measur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llow to implicitly map data into higher-dimensional space, without paying for it if algorithm can be “kernelized”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t back to this in a few minutes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int is: if, say, data not linearly separable in original space, it could be in new space.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ing labeled and unlabeled data together (often unlabeled data is much more plentiful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ful if have beliefs about not just form of target but also its relationship to underlying distribution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-training, graph-based methods, transductive SVM,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assic strategies with excellent regret bounds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(from Hannan in 1950s to weighted-majority in 80s-90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w work on strategies that can efficiently handle large implicit choice spaces. [KV][Z]…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nections to game-theoretic equilibri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2057400"/>
            <a:ext cx="3657600" cy="60948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Some current hot topics in ML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re precise confidence bounds, as a function of observable quantitie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ernel method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mi-supervised learn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ine learning / adaptive game play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Could give full talk on any one of thes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ocus on #2, with connection to random projection and metric embeddings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of the most natural approaches to learning is to try to learn a linear separator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what if the data is not linearly separable?  Yet you still want to use the same algorithm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e idea: Kernel function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23520" y="2286000"/>
            <a:ext cx="1757880" cy="1804320"/>
            <a:chOff x="1523520" y="2286000"/>
            <a:chExt cx="1757880" cy="1804320"/>
          </a:xfrm>
        </p:grpSpPr>
        <p:grpSp>
          <p:nvGrpSpPr>
            <p:cNvPr id="172" name=""/>
            <p:cNvGrpSpPr/>
            <p:nvPr/>
          </p:nvGrpSpPr>
          <p:grpSpPr>
            <a:xfrm>
              <a:off x="1523520" y="2286000"/>
              <a:ext cx="1757880" cy="1804320"/>
              <a:chOff x="1523520" y="2286000"/>
              <a:chExt cx="1757880" cy="1804320"/>
            </a:xfrm>
          </p:grpSpPr>
          <p:sp>
            <p:nvSpPr>
              <p:cNvPr id="173" name=""/>
              <p:cNvSpPr/>
              <p:nvPr/>
            </p:nvSpPr>
            <p:spPr>
              <a:xfrm flipH="1" flipV="1">
                <a:off x="1769760" y="2553480"/>
                <a:ext cx="1193040" cy="128376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3768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11280" y="27136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29080" y="26074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8000" y="303516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791800" y="292644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18560" y="228600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23520" y="276624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69760" y="3409920"/>
                <a:ext cx="23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848960" y="308808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121840" y="3569760"/>
                <a:ext cx="295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196720" y="3315240"/>
                <a:ext cx="294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2e482"/>
                    </a:solidFill>
                    <a:latin typeface="Comic Sans MS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523880" y="2286000"/>
              <a:ext cx="1752480" cy="171576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67400" y="2286000"/>
            <a:ext cx="1752480" cy="1804680"/>
            <a:chOff x="4667400" y="2286000"/>
            <a:chExt cx="1752480" cy="1804680"/>
          </a:xfrm>
        </p:grpSpPr>
        <p:sp>
          <p:nvSpPr>
            <p:cNvPr id="187" name=""/>
            <p:cNvSpPr/>
            <p:nvPr/>
          </p:nvSpPr>
          <p:spPr>
            <a:xfrm>
              <a:off x="528228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4120" y="3048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48680" y="2743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25720" y="3124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67800" y="2895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61720" y="22860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96000" y="243828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13280" y="3409920"/>
              <a:ext cx="23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43360" y="3048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65720" y="357012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7000" y="3443400"/>
              <a:ext cx="29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2e482"/>
                  </a:solidFill>
                  <a:latin typeface="Comic Sans MS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67400" y="2286000"/>
              <a:ext cx="1752480" cy="1716120"/>
            </a:xfrm>
            <a:prstGeom prst="rect">
              <a:avLst/>
            </a:prstGeom>
            <a:noFill/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3360" y="2438280"/>
              <a:ext cx="1249200" cy="1238400"/>
            </a:xfrm>
            <a:custGeom>
              <a:avLst/>
              <a:gdLst/>
              <a:ahLst/>
              <a:rect l="l" t="t" r="r" b="b"/>
              <a:pathLst>
                <a:path w="787" h="780">
                  <a:moveTo>
                    <a:pt x="154" y="0"/>
                  </a:moveTo>
                  <a:cubicBezTo>
                    <a:pt x="78" y="280"/>
                    <a:pt x="0" y="564"/>
                    <a:pt x="106" y="672"/>
                  </a:cubicBezTo>
                  <a:cubicBezTo>
                    <a:pt x="212" y="780"/>
                    <a:pt x="645" y="652"/>
                    <a:pt x="787" y="647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Kernel Function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a function on pairs of examples, such that for som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implici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unction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o a possibly high-dimensional space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x) </a:t>
            </a:r>
            <a:r>
              <a:rPr b="0" lang="en-US" sz="32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y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.g., K(x,y) = (1 + x 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y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x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55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K is easy to compute, even though you can’t even efficiently write dow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x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point: many linear-separator algorithms can be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kernelize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made to use K and act </a:t>
            </a:r>
            <a:r>
              <a:rPr b="0" i="1" lang="en-US" sz="3200" spc="-1" strike="noStrike">
                <a:solidFill>
                  <a:srgbClr val="ff66cc"/>
                </a:solidFill>
                <a:latin typeface="Comic Sans MS"/>
              </a:rPr>
              <a:t>as i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heir input was th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(x)’s.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Kernel Method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iven a set of images:            , represented as pixels, want to distinguish men from wome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ut pixels not a great representation for image classification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  Choose K appropriate for type of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ypical application for Kernels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876920" y="914400"/>
            <a:ext cx="1295280" cy="762120"/>
            <a:chOff x="4876920" y="914400"/>
            <a:chExt cx="1295280" cy="762120"/>
          </a:xfrm>
        </p:grpSpPr>
        <p:pic>
          <p:nvPicPr>
            <p:cNvPr id="20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876920" y="9144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638680" y="9144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581280" y="3657600"/>
            <a:ext cx="1295280" cy="762120"/>
            <a:chOff x="3581280" y="3657600"/>
            <a:chExt cx="1295280" cy="762120"/>
          </a:xfrm>
        </p:grpSpPr>
        <p:pic>
          <p:nvPicPr>
            <p:cNvPr id="208" name="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581280" y="3657600"/>
              <a:ext cx="53316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343040" y="365760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6095880" y="367524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7467480" y="365760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Kernel K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, 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about # of samples needed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on’t have to pay for dimensionality of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space if data is separable by a large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margi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.g., Perceptron, SVM need sample size only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Õ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30000">
                <a:solidFill>
                  <a:srgbClr val="ff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about sample-complexity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581280" y="990720"/>
            <a:ext cx="1295280" cy="761760"/>
            <a:chOff x="3581280" y="990720"/>
            <a:chExt cx="1295280" cy="761760"/>
          </a:xfrm>
        </p:grpSpPr>
        <p:pic>
          <p:nvPicPr>
            <p:cNvPr id="215" name="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581280" y="990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343040" y="990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" name="" descr="">
            <a:hlinkClick r:id="rId5"/>
          </p:cNvPr>
          <p:cNvPicPr/>
          <p:nvPr/>
        </p:nvPicPr>
        <p:blipFill>
          <a:blip r:embed="rId6"/>
          <a:srcRect l="9469" t="0" r="57459" b="38540"/>
          <a:stretch/>
        </p:blipFill>
        <p:spPr>
          <a:xfrm>
            <a:off x="6095880" y="100800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rcRect l="42561" t="18882" r="24347" b="18213"/>
          <a:stretch/>
        </p:blipFill>
        <p:spPr>
          <a:xfrm>
            <a:off x="7467480" y="990720"/>
            <a:ext cx="533520" cy="76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8320" y="5052960"/>
            <a:ext cx="47908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|w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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x)|/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x)|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,  |w|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962320" y="4597560"/>
            <a:ext cx="3151800" cy="1804320"/>
            <a:chOff x="5962320" y="4597560"/>
            <a:chExt cx="3151800" cy="1804320"/>
          </a:xfrm>
        </p:grpSpPr>
        <p:grpSp>
          <p:nvGrpSpPr>
            <p:cNvPr id="221" name=""/>
            <p:cNvGrpSpPr/>
            <p:nvPr/>
          </p:nvGrpSpPr>
          <p:grpSpPr>
            <a:xfrm>
              <a:off x="5962320" y="4597560"/>
              <a:ext cx="1758240" cy="1804320"/>
              <a:chOff x="5962320" y="4597560"/>
              <a:chExt cx="1758240" cy="18043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5962320" y="4597560"/>
                <a:ext cx="1758240" cy="1804320"/>
                <a:chOff x="5962320" y="4597560"/>
                <a:chExt cx="1758240" cy="1804320"/>
              </a:xfrm>
            </p:grpSpPr>
            <p:sp>
              <p:nvSpPr>
                <p:cNvPr id="223" name=""/>
                <p:cNvSpPr/>
                <p:nvPr/>
              </p:nvSpPr>
              <p:spPr>
                <a:xfrm flipH="1" flipV="1">
                  <a:off x="6208200" y="4865040"/>
                  <a:ext cx="1193400" cy="128376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57648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850440" y="50252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068240" y="491904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37160" y="534672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230960" y="523800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957360" y="4597560"/>
                  <a:ext cx="3834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+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62320" y="507780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208560" y="5721480"/>
                  <a:ext cx="23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287760" y="539964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561000" y="5881320"/>
                  <a:ext cx="295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35880" y="5626800"/>
                  <a:ext cx="294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2e482"/>
                      </a:solidFill>
                      <a:latin typeface="Comic Sans MS"/>
                    </a:rPr>
                    <a:t>-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5962680" y="4597560"/>
                <a:ext cx="1752480" cy="1715760"/>
              </a:xfrm>
              <a:prstGeom prst="rect">
                <a:avLst/>
              </a:prstGeom>
              <a:noFill/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5080" y="4759200"/>
                <a:ext cx="760680" cy="1498680"/>
              </a:xfrm>
              <a:custGeom>
                <a:avLst/>
                <a:gdLst/>
                <a:ahLst/>
                <a:rect l="l" t="t" r="r" b="b"/>
                <a:pathLst>
                  <a:path w="479" h="944">
                    <a:moveTo>
                      <a:pt x="0" y="0"/>
                    </a:moveTo>
                    <a:lnTo>
                      <a:pt x="479" y="944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093000" y="5078520"/>
                <a:ext cx="1454040" cy="869760"/>
              </a:xfrm>
              <a:custGeom>
                <a:avLst/>
                <a:gdLst/>
                <a:ahLst/>
                <a:rect l="l" t="t" r="r" b="b"/>
                <a:pathLst>
                  <a:path w="916" h="548">
                    <a:moveTo>
                      <a:pt x="0" y="0"/>
                    </a:moveTo>
                    <a:lnTo>
                      <a:pt x="916" y="548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7775280" y="510552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00"/>
                  </a:solidFill>
                  <a:latin typeface="Symbol"/>
                  <a:ea typeface="Symbol"/>
                </a:rPr>
                <a:t></a:t>
              </a:r>
              <a:r>
                <a:rPr b="0" lang="en-US" sz="2400" spc="-1" strike="noStrike">
                  <a:solidFill>
                    <a:srgbClr val="00ff00"/>
                  </a:solidFill>
                  <a:latin typeface="Arial Unicode MS"/>
                </a:rPr>
                <a:t>sp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o, with that background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What is Machine Learning?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sign of programs that adapt from experience, identify patterns in data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d to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cognize speech, faces, imag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teer a car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lay games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tegorize documents, info retrieval, ..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Goals of ML 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Comic Sans MS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develop models, analyze algorithmic and statistical issues involved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Question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kernels really allowing you to magically use power of implicit high-dimension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space without paying for i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’s going on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8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-space for f,D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8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8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contd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laim: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[BBV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Given a kernel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as a black-box program K(x,y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&amp; access to typical input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[samples from D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-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cc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cc"/>
                </a:solidFill>
                <a:latin typeface="Comic Sans MS"/>
              </a:rPr>
              <a:t> almost-as-good separator in this explicit space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Eg, sample 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from D. Given x, define x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=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View choosing a kernel like choosing a (distrib dependent) set of features,  rather than “magic power of implicit high dimensional space”.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ough argument needs existence of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functions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Why is this a plausible goal in principle?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JL lemma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ata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247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cc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251" name="" descr=""/>
                <p:cNvPicPr/>
                <p:nvPr/>
              </p:nvPicPr>
              <p:blipFill>
                <a:blip r:embed="rId1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2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255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21960" y="3957120"/>
                <a:ext cx="452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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can view coords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262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3 methods (from simplest to best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ctually, the argument is not too hard...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371600" y="4280040"/>
            <a:ext cx="6400800" cy="13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Key fact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275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68960" y="3713040"/>
            <a:ext cx="807876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9560" y="5603760"/>
            <a:ext cx="52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 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So....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23428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2209680"/>
            <a:ext cx="823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margin not preserved because length of target, examples not p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Comic Sans MS"/>
              </a:rPr>
              <a:t>What if we want to preserve margin?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(mapping 2)</a:t>
            </a:r>
            <a:endParaRPr b="0" lang="en-US" sz="2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 with last mapping i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s might be highly correlated.   So, dot-product mapping doesn’t preserve margi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want to do an orthogonal projection of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□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Use this to improve dimension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So can set </a:t>
            </a:r>
            <a:r>
              <a:rPr b="0" lang="en-US" sz="24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 small enough so that whp a sample of size O(d) is perfectly separable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we achieve that efficiently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Mapping #2, then do random projection down from that.  (using fact that mapping #2 had a margin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s us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Plan for this talk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iscuss some of current challenges and “hot topics”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cus on topic of “kernel methods”, and connections to random projection, embeddings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Start with a quick orientation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Lower bound (on necessity of access to D)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355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Open Problems</a:t>
            </a:r>
            <a:endParaRPr b="0" lang="en-US" sz="36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or specific natural kernels, like “polynomial” kernel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(x,y) = (1 + x</a:t>
            </a:r>
            <a:r>
              <a:rPr b="0" lang="en-US" sz="28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y)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is there an efficient analog to JL, without needing access to D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can one at least reduce the sample-complexity ? (use fewer accesses to D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s would increase practicality of this approach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one extend results (e.g., mapping #1:        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[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8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)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 to more general similarity function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t exactly clear what theorem statement would look lik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agine you want a computer program to help you decide which email messages are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nd which are important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ght represent each message by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atures.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e.g., return address, keywords, spelling, etc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ke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f data, labeled according to whether they were/weren’t 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spam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of algorithm is to use data seen so far to produce good prediction rule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(a “hypothesis”)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(x)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for future data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409320" y="3048120"/>
            <a:ext cx="8669520" cy="642600"/>
            <a:chOff x="409320" y="3048120"/>
            <a:chExt cx="8669520" cy="642600"/>
          </a:xfrm>
        </p:grpSpPr>
        <p:sp>
          <p:nvSpPr>
            <p:cNvPr id="141" name=""/>
            <p:cNvSpPr/>
            <p:nvPr/>
          </p:nvSpPr>
          <p:spPr>
            <a:xfrm>
              <a:off x="7391520" y="3048120"/>
              <a:ext cx="7617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76520" y="3048120"/>
              <a:ext cx="5562360" cy="2286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320" y="3062160"/>
              <a:ext cx="112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baseline="30000">
                  <a:solidFill>
                    <a:srgbClr val="ffffff"/>
                  </a:solidFill>
                  <a:latin typeface="cmmi7"/>
                </a:rPr>
                <a:t>examp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99080" y="3048120"/>
              <a:ext cx="77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baseline="30000">
                  <a:solidFill>
                    <a:srgbClr val="ffffff"/>
                  </a:solidFill>
                  <a:latin typeface="cmmi7"/>
                </a:rPr>
                <a:t>lab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he concept learning setting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3716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343400"/>
            <a:ext cx="91440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Given data, some reasonable rules might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unknown AND (money OR p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edi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vantGarde"/>
              </a:rPr>
              <a:t>SP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money + pills – known &gt; 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19280" y="1384200"/>
            <a:ext cx="6645240" cy="2478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Big questions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ow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might we automatically generate rules like this that do well on observed data?  [Algorithm design]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What to optimiz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ur real goal is to do well on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new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data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kind of confidence do we have that rules that do well on sample will do well in the future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complexit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RM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495680" y="4876920"/>
            <a:ext cx="4572000" cy="990360"/>
          </a:xfrm>
          <a:prstGeom prst="wedgeRoundRectCallout">
            <a:avLst>
              <a:gd name="adj1" fmla="val -55662"/>
              <a:gd name="adj2" fmla="val 33972"/>
              <a:gd name="adj3" fmla="val 16667"/>
            </a:avLst>
          </a:prstGeom>
          <a:solidFill>
            <a:srgbClr val="000066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for a given learning alg, how much data do we nee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To be a little more formal…</a:t>
            </a:r>
            <a:endParaRPr b="0" lang="en-US" sz="44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PAC model setup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is given sample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 = {(x,</a:t>
            </a:r>
            <a:r>
              <a:rPr b="0" lang="en-US" sz="3200" spc="-1" strike="noStrike">
                <a:solidFill>
                  <a:srgbClr val="ff66cc"/>
                </a:solidFill>
                <a:latin typeface="cmmi7"/>
              </a:rPr>
              <a:t>l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)}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rawn from some distributi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ver examples 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labeled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some target function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g does optimization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o produce some hypothes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 </a:t>
            </a:r>
            <a:r>
              <a:rPr b="0" lang="en-US" sz="3200" spc="-1" strike="noStrike">
                <a:solidFill>
                  <a:srgbClr val="ff66cc"/>
                </a:solidFill>
                <a:latin typeface="cmsy10"/>
              </a:rPr>
              <a:t>2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 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[e.g., H = linear separators]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al is fo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to be close to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over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h(x)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f(x))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ow failure with small prob </a:t>
            </a:r>
            <a:r>
              <a:rPr b="0" lang="en-US" sz="3200" spc="-1" strike="noStrike">
                <a:solidFill>
                  <a:srgbClr val="ff66cc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(to allow for chance that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s not representative)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uckily, simple sample-complexity bound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|S| </a:t>
            </a:r>
            <a:r>
              <a:rPr b="0" lang="en-US" sz="2800" spc="-1" strike="noStrike">
                <a:solidFill>
                  <a:srgbClr val="ff33cc"/>
                </a:solidFill>
                <a:latin typeface="cmsy10"/>
              </a:rPr>
              <a:t>¸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(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)[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|H|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 + </a:t>
            </a:r>
            <a:r>
              <a:rPr b="0" lang="en-US" sz="2800" spc="-1" strike="noStrike">
                <a:solidFill>
                  <a:srgbClr val="ff33cc"/>
                </a:solidFill>
                <a:latin typeface="Arial Unicode MS"/>
              </a:rPr>
              <a:t>log 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ff33cc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33cc"/>
                </a:solidFill>
                <a:latin typeface="Comic Sans MS"/>
              </a:rPr>
              <a:t>]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ff00"/>
                </a:solidFill>
                <a:latin typeface="Comic Sans MS"/>
              </a:rPr>
              <a:t>[think of log|H| as the number of bits to write down h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n whp (1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all h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 that agree with S have true error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 fact, with extra factor of O(1/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, enough so whp all have |true error – empirical error|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Comic Sans MS"/>
              </a:rPr>
              <a:t>The issue of sample-complexity</a:t>
            </a:r>
            <a:endParaRPr b="0" lang="en-US" sz="4000" spc="-1" strike="noStrike" u="sng">
              <a:solidFill>
                <a:srgbClr val="ffff00"/>
              </a:solidFill>
              <a:uFillTx/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want to do well on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, but all we have is </a:t>
            </a:r>
            <a:r>
              <a:rPr b="0" lang="en-US" sz="32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.  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e we in trouble? 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ow big does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have to be so that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msy10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low error on </a:t>
            </a:r>
            <a:r>
              <a:rPr b="0" lang="en-US" sz="2800" spc="-1" strike="noStrike">
                <a:solidFill>
                  <a:srgbClr val="ff66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mplication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f we view cost of examples as comparable to cost of computation, then don’t have to worry about data cost since just ~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1/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 per bit outpu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ut, in practice, costs often wildly different, so sample-complexity issues are crucial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4:57:18Z</dcterms:created>
  <dc:creator>Avrim Blum</dc:creator>
  <dc:description/>
  <dc:language>en-US</dc:language>
  <cp:lastModifiedBy>Avrim Blum</cp:lastModifiedBy>
  <dcterms:modified xsi:type="dcterms:W3CDTF">2008-03-17T11:45:08Z</dcterms:modified>
  <cp:revision>33</cp:revision>
  <dc:subject/>
  <dc:title>New Horizons in Machine Learning</dc:title>
</cp:coreProperties>
</file>