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DE67-9238-40B4-9FB1-1E63AF327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o be concrete...  just made up ...  count Y = 1, N = 0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417-BDCA-41EC-B7BF-2B8C797D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E83-33F5-4BD4-90D7-296026E0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90D-3B96-4394-8C8A-BDD1BB83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09B-2101-494B-B75B-9AC9EEEA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B357A-0B89-450D-9079-45D984E2A2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0D722-D016-4620-9EAD-910C265CBB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20E5B-47A5-488E-AB33-A56C6C56E7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052BB-BE16-46CC-927C-335B7E0F8D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EFB19-F8A5-4F81-A6E0-A0CA9630B0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CC5F1-ABE8-48DD-9D12-73DB68B538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6DE42-641F-4CA6-9ACD-5CC98CE6EE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71A-C37F-4C22-90E5-2DB79CBB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50AAD-4DAD-4EE2-859E-74CE84F76A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D0DB5-70EA-453A-B220-D7CFD24492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51B6D-3C83-43F6-92F9-2CC7E4DE5F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12F45-6E1D-444C-AA5F-D17F514B1A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B6976-0879-44DA-B842-90EC219C09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62AAB-C415-42E1-A162-19C89F31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B34FE-1EEE-429C-96C5-975F3A8D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1AC0C-F4A3-4292-8B61-8A7ADB9E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9D8C0-ECF1-48A1-BB55-95F58919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C3540-F422-4E89-89EE-05ECAB72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C30-25A1-439A-BEFC-22A71FB0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0B657-DAB9-4D45-B222-9CC7A1E5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DACB8-7D70-4C09-97EC-C97E7EE0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2B4F5-E728-468B-AF7F-C849ABB3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6B33D-B5FE-48CA-979B-23722F8F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EE6E8-2ADE-4241-9A40-DA3C9CB6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505FF-B31A-4227-929A-1737DC19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5ACB8-5EF1-4303-B4B2-72EEE0BC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12B-86D4-4424-8BB9-5BFEDAEF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B78-5136-4108-9DF3-3CA03C1C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DDC-B4BF-4E6E-A70D-184D91EF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141-9A1E-4572-8173-FF6E3B11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62C-D061-4C36-BA82-B16B771B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B14-4BC0-4EB7-A4C4-2B8A89AE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D47D-09A3-4A27-B418-4B3B0885CB0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F6E8-705B-4C30-A185-C70DA0A118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F11D-805E-4480-99F0-2A974388DA6A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2.jpeg"/><Relationship Id="rId9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0" Type="http://schemas.openxmlformats.org/officeDocument/2006/relationships/image" Target="../media/image2.jpeg"/><Relationship Id="rId1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New Horizons in Machine Learn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vrim Blum 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343400"/>
            <a:ext cx="6248160" cy="70380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is mostly a survey, but last part is joint work with Nina Balcan and Santosh Vemp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95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[Workshop on New Horizons in Computing, Kyoto 200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place log |H| with log(# ways of splitting S using functions in H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based on margins: how well-separated the data i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based on other observable properties of S and relation of S to H; other complexity measure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ow to implicitly map data into higher-dimensional space, without paying for it if algorithm can be “kernelized”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t back to this in a few minute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int is: if, say, data not linearly separable in original space, it could be in new spac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ing labeled and unlabeled data together (often unlabeled data is much more plentiful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ful if have beliefs about not just form of target but also its relationship to underlying distribu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-training, graph-based methods, transductive SVM,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ine learning / adaptive game play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ssic strategies with excellent regret bounds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(from Hannan in 1950s to weighted-majority in 80s-90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work on strategies that can efficiently handle large implicit choice spaces. [KV][Z]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ons to game-theoretic equilibr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2057400"/>
            <a:ext cx="3657600" cy="6094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ine learning / adaptive game play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Could give full talk on any one of th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ocus on #2, with connection to random projection and metric embeddings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of the most natural approaches to learning is to try to learn a linear separato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what if the data is not linearly separable?  Yet you still want to use the same algorithm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idea: Kernel function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Kernel Method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523520" y="2286000"/>
            <a:ext cx="1757880" cy="1804320"/>
            <a:chOff x="1523520" y="2286000"/>
            <a:chExt cx="1757880" cy="1804320"/>
          </a:xfrm>
        </p:grpSpPr>
        <p:grpSp>
          <p:nvGrpSpPr>
            <p:cNvPr id="172" name=""/>
            <p:cNvGrpSpPr/>
            <p:nvPr/>
          </p:nvGrpSpPr>
          <p:grpSpPr>
            <a:xfrm>
              <a:off x="1523520" y="2286000"/>
              <a:ext cx="1757880" cy="1804320"/>
              <a:chOff x="1523520" y="2286000"/>
              <a:chExt cx="1757880" cy="1804320"/>
            </a:xfrm>
          </p:grpSpPr>
          <p:sp>
            <p:nvSpPr>
              <p:cNvPr id="173" name=""/>
              <p:cNvSpPr/>
              <p:nvPr/>
            </p:nvSpPr>
            <p:spPr>
              <a:xfrm flipH="1" flipV="1">
                <a:off x="1769760" y="2553480"/>
                <a:ext cx="1193040" cy="12837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3768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11280" y="2713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29080" y="2607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98000" y="3035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791800" y="2926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1856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23520" y="276624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69760" y="3409920"/>
                <a:ext cx="23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48960" y="30880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21840" y="35697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196720" y="3315240"/>
                <a:ext cx="294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523880" y="2286000"/>
              <a:ext cx="1752480" cy="17157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667400" y="2286000"/>
            <a:ext cx="1752480" cy="1804680"/>
            <a:chOff x="4667400" y="2286000"/>
            <a:chExt cx="1752480" cy="1804680"/>
          </a:xfrm>
        </p:grpSpPr>
        <p:sp>
          <p:nvSpPr>
            <p:cNvPr id="187" name=""/>
            <p:cNvSpPr/>
            <p:nvPr/>
          </p:nvSpPr>
          <p:spPr>
            <a:xfrm>
              <a:off x="528228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44120" y="3048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48680" y="2743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25720" y="3124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6780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6172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96000" y="24382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13280" y="3409920"/>
              <a:ext cx="23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43360" y="30481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65720" y="35701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7000" y="344340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67400" y="2286000"/>
              <a:ext cx="1752480" cy="1716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3360" y="2438280"/>
              <a:ext cx="1249200" cy="1238400"/>
            </a:xfrm>
            <a:custGeom>
              <a:avLst/>
              <a:gdLst/>
              <a:ahLst/>
              <a:rect l="l" t="t" r="r" b="b"/>
              <a:pathLst>
                <a:path w="787" h="780">
                  <a:moveTo>
                    <a:pt x="154" y="0"/>
                  </a:moveTo>
                  <a:cubicBezTo>
                    <a:pt x="78" y="280"/>
                    <a:pt x="0" y="564"/>
                    <a:pt x="106" y="672"/>
                  </a:cubicBezTo>
                  <a:cubicBezTo>
                    <a:pt x="212" y="780"/>
                    <a:pt x="645" y="652"/>
                    <a:pt x="787" y="64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Kernel Function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a function on pairs of examples, such that for som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implici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unction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o a possibly high-dimensional space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, K(x,y) = (1 + x 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y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x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x)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55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 is easy to compute, even though you can’t even efficiently write dow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x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point: many linear-separator algorithms can be </a:t>
            </a:r>
            <a:r>
              <a:rPr b="0" i="1" lang="en-US" sz="3200" spc="-1" strike="noStrike">
                <a:solidFill>
                  <a:srgbClr val="ff66cc"/>
                </a:solidFill>
                <a:latin typeface="Comic Sans MS"/>
              </a:rPr>
              <a:t>kernelize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made to use K and act </a:t>
            </a:r>
            <a:r>
              <a:rPr b="0" i="1" lang="en-US" sz="3200" spc="-1" strike="noStrike">
                <a:solidFill>
                  <a:srgbClr val="ff66cc"/>
                </a:solidFill>
                <a:latin typeface="Comic Sans MS"/>
              </a:rPr>
              <a:t>as i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heir input was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x)’s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Perceptron, SV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Kernel Method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iven a set of images:            , represented as pixels, want to distinguish men from wome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pixels not a great representation for image classificatio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Kernel K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,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implicit, high-dimensional mapping.  Choose K appropriate for type of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ypical application for Kernels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76920" y="914400"/>
            <a:ext cx="1295280" cy="762120"/>
            <a:chOff x="4876920" y="914400"/>
            <a:chExt cx="1295280" cy="762120"/>
          </a:xfrm>
        </p:grpSpPr>
        <p:pic>
          <p:nvPicPr>
            <p:cNvPr id="20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4876920" y="914400"/>
              <a:ext cx="5331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5638680" y="91440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3581280" y="3657600"/>
            <a:ext cx="1295280" cy="762120"/>
            <a:chOff x="3581280" y="3657600"/>
            <a:chExt cx="1295280" cy="762120"/>
          </a:xfrm>
        </p:grpSpPr>
        <p:pic>
          <p:nvPicPr>
            <p:cNvPr id="208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3581280" y="3657600"/>
              <a:ext cx="5331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4343040" y="365760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" descr="">
            <a:hlinkClick r:id="rId9"/>
          </p:cNvPr>
          <p:cNvPicPr/>
          <p:nvPr/>
        </p:nvPicPr>
        <p:blipFill>
          <a:blip r:embed="rId10"/>
          <a:srcRect l="9469" t="0" r="57459" b="38540"/>
          <a:stretch/>
        </p:blipFill>
        <p:spPr>
          <a:xfrm>
            <a:off x="6095880" y="367524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11"/>
          </p:cNvPr>
          <p:cNvPicPr/>
          <p:nvPr/>
        </p:nvPicPr>
        <p:blipFill>
          <a:blip r:embed="rId12"/>
          <a:srcRect l="42561" t="18882" r="24347" b="18213"/>
          <a:stretch/>
        </p:blipFill>
        <p:spPr>
          <a:xfrm>
            <a:off x="7467480" y="365760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Kernel K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,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about # of samples needed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n’t have to pay for dimensionality of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space if data is separable by a large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margi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Perceptron, SVM need sample size only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Õ(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30000">
                <a:solidFill>
                  <a:srgbClr val="ff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What about sample-complexity?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581280" y="990720"/>
            <a:ext cx="1295280" cy="761760"/>
            <a:chOff x="3581280" y="990720"/>
            <a:chExt cx="1295280" cy="761760"/>
          </a:xfrm>
        </p:grpSpPr>
        <p:pic>
          <p:nvPicPr>
            <p:cNvPr id="21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3581280" y="9907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4343040" y="9907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" name="" descr="">
            <a:hlinkClick r:id="rId5"/>
          </p:cNvPr>
          <p:cNvPicPr/>
          <p:nvPr/>
        </p:nvPicPr>
        <p:blipFill>
          <a:blip r:embed="rId6"/>
          <a:srcRect l="9469" t="0" r="57459" b="38540"/>
          <a:stretch/>
        </p:blipFill>
        <p:spPr>
          <a:xfrm>
            <a:off x="6095880" y="100800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rcRect l="42561" t="18882" r="24347" b="18213"/>
          <a:stretch/>
        </p:blipFill>
        <p:spPr>
          <a:xfrm>
            <a:off x="7467480" y="990720"/>
            <a:ext cx="533520" cy="761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8320" y="5052960"/>
            <a:ext cx="47908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|w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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x)|/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x)|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,  |w|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962320" y="4597560"/>
            <a:ext cx="3151800" cy="1804320"/>
            <a:chOff x="5962320" y="4597560"/>
            <a:chExt cx="3151800" cy="1804320"/>
          </a:xfrm>
        </p:grpSpPr>
        <p:grpSp>
          <p:nvGrpSpPr>
            <p:cNvPr id="221" name=""/>
            <p:cNvGrpSpPr/>
            <p:nvPr/>
          </p:nvGrpSpPr>
          <p:grpSpPr>
            <a:xfrm>
              <a:off x="5962320" y="4597560"/>
              <a:ext cx="1758240" cy="1804320"/>
              <a:chOff x="5962320" y="4597560"/>
              <a:chExt cx="1758240" cy="18043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5962320" y="4597560"/>
                <a:ext cx="1758240" cy="1804320"/>
                <a:chOff x="5962320" y="4597560"/>
                <a:chExt cx="1758240" cy="1804320"/>
              </a:xfrm>
            </p:grpSpPr>
            <p:sp>
              <p:nvSpPr>
                <p:cNvPr id="223" name=""/>
                <p:cNvSpPr/>
                <p:nvPr/>
              </p:nvSpPr>
              <p:spPr>
                <a:xfrm flipH="1" flipV="1">
                  <a:off x="6208200" y="4865040"/>
                  <a:ext cx="1193400" cy="12837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576480" y="459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850440" y="5025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068240" y="4919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37160" y="53467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230960" y="52380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957360" y="459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962320" y="507780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208560" y="5721480"/>
                  <a:ext cx="23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287760" y="539964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561000" y="588132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635880" y="5626800"/>
                  <a:ext cx="294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5962680" y="4597560"/>
                <a:ext cx="1752480" cy="17157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45080" y="4759200"/>
                <a:ext cx="760680" cy="1498680"/>
              </a:xfrm>
              <a:custGeom>
                <a:avLst/>
                <a:gdLst/>
                <a:ahLst/>
                <a:rect l="l" t="t" r="r" b="b"/>
                <a:pathLst>
                  <a:path w="479" h="944">
                    <a:moveTo>
                      <a:pt x="0" y="0"/>
                    </a:moveTo>
                    <a:lnTo>
                      <a:pt x="479" y="944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093000" y="5078520"/>
                <a:ext cx="1454040" cy="869760"/>
              </a:xfrm>
              <a:custGeom>
                <a:avLst/>
                <a:gdLst/>
                <a:ahLst/>
                <a:rect l="l" t="t" r="r" b="b"/>
                <a:pathLst>
                  <a:path w="916" h="548">
                    <a:moveTo>
                      <a:pt x="0" y="0"/>
                    </a:moveTo>
                    <a:lnTo>
                      <a:pt x="916" y="548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7775280" y="510552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</a:t>
              </a:r>
              <a:r>
                <a:rPr b="0" lang="en-US" sz="2400" spc="-1" strike="noStrike">
                  <a:solidFill>
                    <a:srgbClr val="00ff00"/>
                  </a:solidFill>
                  <a:latin typeface="Arial Unicode MS"/>
                </a:rPr>
                <a:t>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o, with that background…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What is Machine Learning?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sign of programs that adapt from experience, identify patterns in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d to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ognize speech, faces, im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eer a car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lay games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tegorize documents, info retrieval,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Goals of ML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develop models, analyze algorithmic and statistical issues involv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Question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kernels really allowing you to magically use power of implicit high-dimensional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space without paying for i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’s going 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aim: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[BBV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iven a kernel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[as a black-box program K(x,y)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[samples from D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 large-margin separator in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-space for f,D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8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 almost-as-good separator in this explicit space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ontd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laim: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[BBV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n a kernel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as a black-box program K(x,y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&amp; access to typical input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samples from D]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-space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 almost-as-good separator in this explicit space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g, sample 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rom D. Given x, define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lication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actical: alternative to kernelizing the algorith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ual: View choosing a kernel like choosing a (distrib dependent) set of features,  rather than “magic power of implicit high dimensional space”.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though argument needs existence of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functions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Why is this a plausible goal in principle?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JL lemma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ata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ith pro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-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ando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ear projection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log[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]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have a linear separator of err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32160" y="2133720"/>
            <a:ext cx="7901640" cy="4572000"/>
            <a:chOff x="632160" y="2133720"/>
            <a:chExt cx="7901640" cy="4572000"/>
          </a:xfrm>
        </p:grpSpPr>
        <p:grpSp>
          <p:nvGrpSpPr>
            <p:cNvPr id="247" name=""/>
            <p:cNvGrpSpPr/>
            <p:nvPr/>
          </p:nvGrpSpPr>
          <p:grpSpPr>
            <a:xfrm>
              <a:off x="632160" y="5181840"/>
              <a:ext cx="3025080" cy="1523880"/>
              <a:chOff x="632160" y="5181840"/>
              <a:chExt cx="3025080" cy="1523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32160" y="5791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66680" y="5181840"/>
                <a:ext cx="2590560" cy="1523880"/>
              </a:xfrm>
              <a:prstGeom prst="ellipse">
                <a:avLst/>
              </a:prstGeom>
              <a:solidFill>
                <a:srgbClr val="ff66cc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752480" y="5562720"/>
                <a:ext cx="1295280" cy="762120"/>
                <a:chOff x="1752480" y="5562720"/>
                <a:chExt cx="1295280" cy="762120"/>
              </a:xfrm>
            </p:grpSpPr>
            <p:pic>
              <p:nvPicPr>
                <p:cNvPr id="251" name="" descr=""/>
                <p:cNvPicPr/>
                <p:nvPr/>
              </p:nvPicPr>
              <p:blipFill>
                <a:blip r:embed="rId1"/>
                <a:srcRect l="9469" t="0" r="57459" b="38540"/>
                <a:stretch/>
              </p:blipFill>
              <p:spPr>
                <a:xfrm>
                  <a:off x="1752480" y="5562720"/>
                  <a:ext cx="533160" cy="74448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"/>
                <a:srcRect l="42561" t="18882" r="24347" b="18213"/>
                <a:stretch/>
              </p:blipFill>
              <p:spPr>
                <a:xfrm>
                  <a:off x="2514240" y="5562720"/>
                  <a:ext cx="533520" cy="76212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</p:grpSp>
        </p:grpSp>
        <p:sp>
          <p:nvSpPr>
            <p:cNvPr id="253" name=""/>
            <p:cNvSpPr/>
            <p:nvPr/>
          </p:nvSpPr>
          <p:spPr>
            <a:xfrm>
              <a:off x="3733560" y="5791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428640" y="2133720"/>
              <a:ext cx="5105160" cy="3351960"/>
              <a:chOff x="3428640" y="2133720"/>
              <a:chExt cx="5105160" cy="335196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3428640" y="3176280"/>
                <a:ext cx="3540600" cy="230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86800" y="2133720"/>
                <a:ext cx="1647000" cy="968040"/>
              </a:xfrm>
              <a:prstGeom prst="cloudCallout">
                <a:avLst>
                  <a:gd name="adj1" fmla="val -42083"/>
                  <a:gd name="adj2" fmla="val 53365"/>
                </a:avLst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421960" y="395712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533520" y="2590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vectors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can view coords as featur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3581280"/>
            <a:ext cx="4419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Problem: uses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. Can we do directly, using K as black-box, without computing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5181480"/>
            <a:ext cx="3276720" cy="533520"/>
          </a:xfrm>
          <a:custGeom>
            <a:avLst/>
            <a:gdLst/>
            <a:ahLst/>
            <a:rect l="l" t="t" r="r" b="b"/>
            <a:pathLst>
              <a:path w="2064" h="336">
                <a:moveTo>
                  <a:pt x="0" y="336"/>
                </a:moveTo>
                <a:cubicBezTo>
                  <a:pt x="181" y="280"/>
                  <a:pt x="744" y="0"/>
                  <a:pt x="1088" y="0"/>
                </a:cubicBezTo>
                <a:cubicBezTo>
                  <a:pt x="1432" y="0"/>
                  <a:pt x="1861" y="266"/>
                  <a:pt x="2064" y="336"/>
                </a:cubicBezTo>
              </a:path>
            </a:pathLst>
          </a:custGeom>
          <a:noFill/>
          <a:ln w="28440">
            <a:solidFill>
              <a:srgbClr val="ff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553080" y="3124080"/>
            <a:ext cx="1828800" cy="3429000"/>
            <a:chOff x="6553080" y="3124080"/>
            <a:chExt cx="1828800" cy="3429000"/>
          </a:xfrm>
        </p:grpSpPr>
        <p:sp>
          <p:nvSpPr>
            <p:cNvPr id="262" name=""/>
            <p:cNvSpPr/>
            <p:nvPr/>
          </p:nvSpPr>
          <p:spPr>
            <a:xfrm flipH="1">
              <a:off x="7391160" y="5029200"/>
              <a:ext cx="114120" cy="1523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3080" y="5334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-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0235000">
              <a:off x="7010280" y="5181120"/>
              <a:ext cx="990720" cy="9907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619760" y="3124080"/>
              <a:ext cx="15228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3 methods (from simplest to best)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d exampl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Us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(x) = (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.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So, “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” = K(x,z</a:t>
            </a:r>
            <a:r>
              <a:rPr b="0" lang="en-US" sz="2400" spc="-1" strike="noStrike" baseline="30000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hp this will be separable with 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(but this method doesn’t preserve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but a little more complicated.  Separable with err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in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th further projection as in JL lemma.  G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log dependence 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ther than linear.  So, can set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All these methods need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, unlike JL.  Can this be removed?  We show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 for generic K, but may be possible for natural 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ctually, the argument is not too hard...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4280040"/>
            <a:ext cx="640080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e482"/>
                </a:solidFill>
                <a:latin typeface="Comic Sans MS"/>
              </a:rPr>
              <a:t>(though we did try a lot of things first that didn’t work..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Key fac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Claim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fect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p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xamples drawn so far.  Ass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02280" y="3200400"/>
            <a:ext cx="53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proj(w,span(S))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w –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008480" y="5181120"/>
            <a:ext cx="1387800" cy="711720"/>
            <a:chOff x="7008480" y="5181120"/>
            <a:chExt cx="1387800" cy="711720"/>
          </a:xfrm>
        </p:grpSpPr>
        <p:sp>
          <p:nvSpPr>
            <p:cNvPr id="275" name=""/>
            <p:cNvSpPr/>
            <p:nvPr/>
          </p:nvSpPr>
          <p:spPr>
            <a:xfrm rot="21470400">
              <a:off x="7016400" y="54097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086600" y="5181120"/>
              <a:ext cx="838080" cy="685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086600" y="5638320"/>
              <a:ext cx="838080" cy="22860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924680" y="5181480"/>
              <a:ext cx="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68960" y="3713040"/>
            <a:ext cx="80787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 else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small, then done: w’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se, next z has at lea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of improving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75000" y="5257800"/>
            <a:ext cx="35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9560" y="5603760"/>
            <a:ext cx="52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happen at most 4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imes. 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So....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23428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whp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209680"/>
            <a:ext cx="823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, for so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sign(w’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notice tha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ect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good separator in the feature space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margin not preserved because length of target, examples not p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What if we want to preserve margin?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(mapping 2)</a:t>
            </a:r>
            <a:endParaRPr b="0" lang="en-US" sz="2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 with last mapping i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s might be highly correlated.   So, dot-product mapping doesn’t preserve margi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ead, given a ne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want to do an orthogonal projection of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 into that span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eserves dot-product, decreas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|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 so only increases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all i,j=1,...,d.  Get matr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ompos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 = 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pping #2) = (mapping #1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 □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Use this to improve dimension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mapping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-Lindenstrauss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log 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Nice because can hav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So can set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small enough so that whp a sample of size O(d) is perfectly separable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we achieve that efficientl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wer: just combine the two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Mapping #2, then do random projection down from that.  (using fact that mapping #2 had a margi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s us desired dimension (# features), though sample-complexity remains as in mapping #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28800" y="43434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6200" y="511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55320" y="4976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41240" y="516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3120" y="5003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3520" y="4879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56760" y="5310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7120" y="5467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6800" y="5186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07320" y="5224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3280" y="5019840"/>
            <a:ext cx="1582560" cy="500040"/>
          </a:xfrm>
          <a:custGeom>
            <a:avLst/>
            <a:gdLst/>
            <a:ahLst/>
            <a:rect l="l" t="t" r="r" b="b"/>
            <a:pathLst>
              <a:path w="1104" h="392">
                <a:moveTo>
                  <a:pt x="0" y="0"/>
                </a:moveTo>
                <a:cubicBezTo>
                  <a:pt x="84" y="148"/>
                  <a:pt x="168" y="296"/>
                  <a:pt x="240" y="336"/>
                </a:cubicBezTo>
                <a:cubicBezTo>
                  <a:pt x="312" y="376"/>
                  <a:pt x="360" y="232"/>
                  <a:pt x="432" y="240"/>
                </a:cubicBezTo>
                <a:cubicBezTo>
                  <a:pt x="504" y="248"/>
                  <a:pt x="600" y="392"/>
                  <a:pt x="672" y="384"/>
                </a:cubicBezTo>
                <a:cubicBezTo>
                  <a:pt x="744" y="376"/>
                  <a:pt x="792" y="224"/>
                  <a:pt x="864" y="192"/>
                </a:cubicBezTo>
                <a:cubicBezTo>
                  <a:pt x="936" y="160"/>
                  <a:pt x="1064" y="192"/>
                  <a:pt x="110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98440" y="4635360"/>
            <a:ext cx="2200320" cy="125748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52" y="336"/>
                </a:moveTo>
                <a:cubicBezTo>
                  <a:pt x="208" y="272"/>
                  <a:pt x="232" y="120"/>
                  <a:pt x="344" y="96"/>
                </a:cubicBezTo>
                <a:cubicBezTo>
                  <a:pt x="456" y="72"/>
                  <a:pt x="720" y="208"/>
                  <a:pt x="824" y="192"/>
                </a:cubicBezTo>
                <a:cubicBezTo>
                  <a:pt x="928" y="176"/>
                  <a:pt x="888" y="0"/>
                  <a:pt x="968" y="0"/>
                </a:cubicBezTo>
                <a:cubicBezTo>
                  <a:pt x="1048" y="0"/>
                  <a:pt x="1192" y="152"/>
                  <a:pt x="1304" y="192"/>
                </a:cubicBezTo>
                <a:cubicBezTo>
                  <a:pt x="1416" y="232"/>
                  <a:pt x="1608" y="144"/>
                  <a:pt x="1640" y="240"/>
                </a:cubicBezTo>
                <a:cubicBezTo>
                  <a:pt x="1672" y="336"/>
                  <a:pt x="1544" y="648"/>
                  <a:pt x="1496" y="768"/>
                </a:cubicBezTo>
                <a:cubicBezTo>
                  <a:pt x="1448" y="888"/>
                  <a:pt x="1408" y="936"/>
                  <a:pt x="1352" y="960"/>
                </a:cubicBezTo>
                <a:cubicBezTo>
                  <a:pt x="1296" y="984"/>
                  <a:pt x="1256" y="912"/>
                  <a:pt x="1160" y="912"/>
                </a:cubicBezTo>
                <a:cubicBezTo>
                  <a:pt x="1064" y="912"/>
                  <a:pt x="880" y="968"/>
                  <a:pt x="776" y="960"/>
                </a:cubicBezTo>
                <a:cubicBezTo>
                  <a:pt x="672" y="952"/>
                  <a:pt x="632" y="904"/>
                  <a:pt x="536" y="864"/>
                </a:cubicBezTo>
                <a:cubicBezTo>
                  <a:pt x="440" y="824"/>
                  <a:pt x="288" y="784"/>
                  <a:pt x="200" y="720"/>
                </a:cubicBezTo>
                <a:cubicBezTo>
                  <a:pt x="112" y="656"/>
                  <a:pt x="16" y="552"/>
                  <a:pt x="8" y="480"/>
                </a:cubicBezTo>
                <a:cubicBezTo>
                  <a:pt x="0" y="408"/>
                  <a:pt x="96" y="400"/>
                  <a:pt x="152" y="336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27640" y="3581280"/>
            <a:ext cx="2743200" cy="1219320"/>
          </a:xfrm>
          <a:prstGeom prst="parallelogram">
            <a:avLst>
              <a:gd name="adj" fmla="val 3633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20800" y="3813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76440" y="4116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60600" y="3854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36560" y="4159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32000" y="4389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36560" y="3549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68520" y="4464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90840" y="354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01960" y="3870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646600" y="3684600"/>
            <a:ext cx="355680" cy="10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5877000"/>
            <a:ext cx="2438640" cy="798480"/>
          </a:xfrm>
          <a:prstGeom prst="parallelogram">
            <a:avLst>
              <a:gd name="adj" fmla="val 77625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2080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68520" y="6369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6120" y="5840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9800" y="6060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41200" y="6369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07960" y="6216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1624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68520" y="5791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97120" y="586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554800" y="5902200"/>
            <a:ext cx="38736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38600" y="55306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33526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4038480"/>
            <a:ext cx="1676520" cy="609840"/>
          </a:xfrm>
          <a:custGeom>
            <a:avLst/>
            <a:gdLst/>
            <a:ahLst/>
            <a:rect l="l" t="t" r="r" b="b"/>
            <a:pathLst>
              <a:path w="1104" h="816">
                <a:moveTo>
                  <a:pt x="0" y="816"/>
                </a:moveTo>
                <a:cubicBezTo>
                  <a:pt x="148" y="596"/>
                  <a:pt x="296" y="376"/>
                  <a:pt x="480" y="240"/>
                </a:cubicBezTo>
                <a:cubicBezTo>
                  <a:pt x="664" y="104"/>
                  <a:pt x="884" y="52"/>
                  <a:pt x="11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132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967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55840" y="5637240"/>
            <a:ext cx="1295640" cy="6778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cubicBezTo>
                  <a:pt x="48" y="136"/>
                  <a:pt x="96" y="272"/>
                  <a:pt x="192" y="384"/>
                </a:cubicBezTo>
                <a:cubicBezTo>
                  <a:pt x="288" y="496"/>
                  <a:pt x="504" y="624"/>
                  <a:pt x="576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1447920"/>
            <a:ext cx="1905120" cy="3581280"/>
          </a:xfrm>
          <a:custGeom>
            <a:avLst/>
            <a:gdLst/>
            <a:ahLst/>
            <a:rect l="l" t="t" r="r" b="b"/>
            <a:pathLst>
              <a:path w="1008" h="1872">
                <a:moveTo>
                  <a:pt x="0" y="1872"/>
                </a:moveTo>
                <a:cubicBezTo>
                  <a:pt x="32" y="1624"/>
                  <a:pt x="64" y="1376"/>
                  <a:pt x="144" y="1152"/>
                </a:cubicBezTo>
                <a:cubicBezTo>
                  <a:pt x="224" y="928"/>
                  <a:pt x="336" y="720"/>
                  <a:pt x="480" y="528"/>
                </a:cubicBezTo>
                <a:cubicBezTo>
                  <a:pt x="624" y="336"/>
                  <a:pt x="816" y="168"/>
                  <a:pt x="1008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838080"/>
            <a:ext cx="4343400" cy="1067040"/>
          </a:xfrm>
          <a:prstGeom prst="parallelogram">
            <a:avLst>
              <a:gd name="adj" fmla="val 65731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20800" y="149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3080" y="118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612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8400" y="114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7520" y="1523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7964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728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77800" y="914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3800" y="898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029200" y="91440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8380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365760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362320" y="2438280"/>
            <a:ext cx="380880" cy="762120"/>
          </a:xfrm>
          <a:prstGeom prst="lightningBolt">
            <a:avLst/>
          </a:prstGeom>
          <a:solidFill>
            <a:srgbClr val="ffff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799880" y="2514600"/>
            <a:ext cx="304920" cy="685800"/>
          </a:xfrm>
          <a:prstGeom prst="lightningBol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229600" y="2286000"/>
            <a:ext cx="380880" cy="838080"/>
          </a:xfrm>
          <a:prstGeom prst="lightningBol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Cloud"/>
          <p:cNvSpPr/>
          <p:nvPr/>
        </p:nvSpPr>
        <p:spPr>
          <a:xfrm>
            <a:off x="990720" y="2133720"/>
            <a:ext cx="792468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c3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4876920"/>
            <a:ext cx="457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Plan for this talk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cuss some of current challenges and “hot topics”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cus on topic of “kernel methods”, and connections to random projection, embedding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Start with a quick orientation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ower bound (on necessity of access to D)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3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arbitra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-box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an’t hope to convert to small feature space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={0,1}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nd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½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iz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niform o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rbitrary function (so learning is hopeles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have this magic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1,0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X’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 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po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-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ne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45720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857640" y="518148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55627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,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ll attempts at running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give answer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162920" y="4267080"/>
            <a:ext cx="1841760" cy="1816200"/>
            <a:chOff x="7162920" y="4267080"/>
            <a:chExt cx="1841760" cy="1816200"/>
          </a:xfrm>
        </p:grpSpPr>
        <p:grpSp>
          <p:nvGrpSpPr>
            <p:cNvPr id="355" name=""/>
            <p:cNvGrpSpPr/>
            <p:nvPr/>
          </p:nvGrpSpPr>
          <p:grpSpPr>
            <a:xfrm>
              <a:off x="7162920" y="4267080"/>
              <a:ext cx="1371600" cy="1816200"/>
              <a:chOff x="7162920" y="4267080"/>
              <a:chExt cx="1371600" cy="18162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7162920" y="4495680"/>
                <a:ext cx="1371600" cy="1371600"/>
                <a:chOff x="7162920" y="4495680"/>
                <a:chExt cx="1371600" cy="13716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848720" y="5181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7413480" y="5175360"/>
                  <a:ext cx="41472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>
                  <a:off x="7465680" y="4604400"/>
                  <a:ext cx="376920" cy="57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62920" y="4495680"/>
                  <a:ext cx="1371600" cy="1371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189200" y="4267080"/>
                <a:ext cx="362160" cy="1816200"/>
                <a:chOff x="7189200" y="4267080"/>
                <a:chExt cx="362160" cy="18162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236360" y="42670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89200" y="57150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8499240" y="495288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Open Problems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specific natural kernels, like “polynomial” kernel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(x,y) = (1 + x</a:t>
            </a:r>
            <a:r>
              <a:rPr b="0" lang="en-US" sz="28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is there an efficient analog to JL, without needing access to D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, can one at least reduce the sample-complexity ? (use fewer accesses to D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would increase practicality of this approac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one extend results (e.g., mapping #1: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[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to more general similarity function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 exactly clear what theorem statement would look lik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he concept learning sett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agine you want a computer program to help you decide which email messages ar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which are importa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ight represent each message by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atures.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e.g., return address, keywords, spelling, etc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ke sampl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f data, labeled according to whether they were/weren’t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of algorithm is to use data seen so far to produce good prediction rule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a “hypothesis”)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(x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 future data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409320" y="3048120"/>
            <a:ext cx="8669520" cy="642600"/>
            <a:chOff x="409320" y="3048120"/>
            <a:chExt cx="8669520" cy="642600"/>
          </a:xfrm>
        </p:grpSpPr>
        <p:sp>
          <p:nvSpPr>
            <p:cNvPr id="141" name=""/>
            <p:cNvSpPr/>
            <p:nvPr/>
          </p:nvSpPr>
          <p:spPr>
            <a:xfrm>
              <a:off x="7391520" y="3048120"/>
              <a:ext cx="761760" cy="2286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048120"/>
              <a:ext cx="5562360" cy="2286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9320" y="3062160"/>
              <a:ext cx="112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ffffff"/>
                  </a:solidFill>
                  <a:latin typeface="cmmi7"/>
                </a:rPr>
                <a:t>examp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99080" y="3048120"/>
              <a:ext cx="77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30000">
                  <a:solidFill>
                    <a:srgbClr val="ffffff"/>
                  </a:solidFill>
                  <a:latin typeface="cmmi7"/>
                </a:rPr>
                <a:t>lab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he concept learning sett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3716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43400"/>
            <a:ext cx="914400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Given data, some reasonable rules might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vantGarde"/>
              </a:rPr>
              <a:t>SP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unknown AND (money OR pil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vantGarde"/>
              </a:rPr>
              <a:t>SP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money + pills – known &gt;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84200"/>
            <a:ext cx="6645240" cy="2478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Big question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ow to optimiz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ight we automatically generate rules like this that do well on observed data?  [Algorithm design]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What to optimiz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ur real goal is to do well on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dat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kind of confidence do we have that rules that do well on sample will do well in the futur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ple complex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R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4876920"/>
            <a:ext cx="4572000" cy="990360"/>
          </a:xfrm>
          <a:prstGeom prst="wedgeRoundRectCallout">
            <a:avLst>
              <a:gd name="adj1" fmla="val -55662"/>
              <a:gd name="adj2" fmla="val 33972"/>
              <a:gd name="adj3" fmla="val 16667"/>
            </a:avLst>
          </a:prstGeom>
          <a:solidFill>
            <a:srgbClr val="000066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for a given learning alg, how much data do we nee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o be a little more formal…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PAC model setup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 is given sampl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 = {(x,</a:t>
            </a:r>
            <a:r>
              <a:rPr b="0" lang="en-US" sz="3200" spc="-1" strike="noStrike">
                <a:solidFill>
                  <a:srgbClr val="ff66cc"/>
                </a:solidFill>
                <a:latin typeface="cmmi7"/>
              </a:rPr>
              <a:t>l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)}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drawn from some distributi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ver examples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labele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some target function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 does optimization ove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produce some hypothes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 </a:t>
            </a:r>
            <a:r>
              <a:rPr b="0" lang="en-US" sz="3200" spc="-1" strike="noStrike">
                <a:solidFill>
                  <a:srgbClr val="ff66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 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[e.g., H = linear separators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is fo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be close to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ve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h(x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(x))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ow failure with small prob </a:t>
            </a:r>
            <a:r>
              <a:rPr b="0" lang="en-US" sz="3200" spc="-1" strike="noStrike">
                <a:solidFill>
                  <a:srgbClr val="ff66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to allow for chance that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not representative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he issue of sample-complexity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want to do well 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all we have 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we in trouble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big doe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to be so that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uckily, simple sample-complexity bound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|S| </a:t>
            </a:r>
            <a:r>
              <a:rPr b="0" lang="en-US" sz="2800" spc="-1" strike="noStrike">
                <a:solidFill>
                  <a:srgbClr val="ff33cc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(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)[</a:t>
            </a:r>
            <a:r>
              <a:rPr b="0" lang="en-US" sz="2800" spc="-1" strike="noStrike">
                <a:solidFill>
                  <a:srgbClr val="ff33cc"/>
                </a:solidFill>
                <a:latin typeface="Arial Unicode MS"/>
              </a:rPr>
              <a:t>log|H|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+ </a:t>
            </a:r>
            <a:r>
              <a:rPr b="0" lang="en-US" sz="2800" spc="-1" strike="noStrike">
                <a:solidFill>
                  <a:srgbClr val="ff33cc"/>
                </a:solidFill>
                <a:latin typeface="Arial Unicode MS"/>
              </a:rPr>
              <a:t>log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think of log|H| as the number of bits to write down h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n whp (1-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, all h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 that agree with S have true error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fact, with extra factor of O(1/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, enough so whp all have |true error – empirical error|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he issue of sample-complexity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want to do well 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all we have 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we in trouble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big doe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to be so that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plica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we view cost of examples as comparable to cost of computation, then don’t have to worry about data cost since just ~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1/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per bit outpu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, in practice, costs often wildly different, so sample-complexity issues are crucia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04:57:18Z</dcterms:created>
  <dc:creator>Avrim Blum</dc:creator>
  <dc:description/>
  <dc:language>en-US</dc:language>
  <cp:lastModifiedBy>Avrim Blum</cp:lastModifiedBy>
  <dcterms:modified xsi:type="dcterms:W3CDTF">2008-03-17T11:45:08Z</dcterms:modified>
  <cp:revision>33</cp:revision>
  <dc:subject/>
  <dc:title>New Horizons in Machine Learning</dc:title>
</cp:coreProperties>
</file>