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5DF8DCE-2714-4F9A-AA92-8B143D865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first phr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09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Maria-Florina Bal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dwords.google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2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Machine Learning for Mechanism Design and Pricing Problem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352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vrim B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Comic Sans MS"/>
              </a:rPr>
              <a:t>Carnegie Mello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t work with Maria-Florina Balc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on Hartline, and Yishay Mans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1280" y="6248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66"/>
                </a:solidFill>
                <a:latin typeface="Comic Sans MS"/>
              </a:rPr>
              <a:t>[Informs 200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038480"/>
            <a:ext cx="8686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ask people for their valuations and use this to set a price as before, but people will low-ball (not incentive-compatibl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59436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Ask buyers to submit bids b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andomly partition bidders into       two sets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Find best price over bids i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…       and use it as offer price o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! </a:t>
            </a:r>
            <a:r>
              <a:rPr b="0" lang="en-US" sz="1400" spc="-1" strike="noStrike">
                <a:solidFill>
                  <a:srgbClr val="0000cc"/>
                </a:solidFill>
                <a:latin typeface="Comic Sans MS"/>
              </a:rPr>
              <a:t>(&amp; vice vers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8944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94520" y="4537080"/>
            <a:ext cx="1987200" cy="1779120"/>
            <a:chOff x="6194520" y="4537080"/>
            <a:chExt cx="1987200" cy="1779120"/>
          </a:xfrm>
        </p:grpSpPr>
        <p:grpSp>
          <p:nvGrpSpPr>
            <p:cNvPr id="136" name=""/>
            <p:cNvGrpSpPr/>
            <p:nvPr/>
          </p:nvGrpSpPr>
          <p:grpSpPr>
            <a:xfrm>
              <a:off x="6194520" y="4537080"/>
              <a:ext cx="1987200" cy="725040"/>
              <a:chOff x="6194520" y="4537080"/>
              <a:chExt cx="1987200" cy="7250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945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23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30120" y="4537080"/>
                <a:ext cx="651600" cy="72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6194520" y="5591520"/>
              <a:ext cx="1987200" cy="724680"/>
              <a:chOff x="6194520" y="5591520"/>
              <a:chExt cx="1987200" cy="7246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45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623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0120" y="5591520"/>
                <a:ext cx="651600" cy="7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"/>
          <p:cNvGrpSpPr/>
          <p:nvPr/>
        </p:nvGrpSpPr>
        <p:grpSpPr>
          <a:xfrm>
            <a:off x="5130360" y="4156200"/>
            <a:ext cx="3813480" cy="2438280"/>
            <a:chOff x="5130360" y="4156200"/>
            <a:chExt cx="3813480" cy="2438280"/>
          </a:xfrm>
        </p:grpSpPr>
        <p:sp>
          <p:nvSpPr>
            <p:cNvPr id="145" name=""/>
            <p:cNvSpPr/>
            <p:nvPr/>
          </p:nvSpPr>
          <p:spPr>
            <a:xfrm>
              <a:off x="5585400" y="4156200"/>
              <a:ext cx="3358440" cy="243828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5400" y="5276160"/>
              <a:ext cx="3358440" cy="13176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0360" y="472464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987720"/>
            <a:ext cx="8610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ople have potentially nonlinear valuations over sub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ght also have known info about customers (current usage, demographics,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nt to perform nearly as well as best (simple) pricing function over known inf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97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(Combinatorial Attribute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65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69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82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91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352680"/>
            <a:ext cx="8686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eneric Setting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670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pace of legal offers/pricing functions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74960"/>
            <a:ext cx="8001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“take it or leave it” offer, so any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417760"/>
            <a:ext cx="8382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s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ub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pricing over the outcome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Bidder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371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priv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371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pub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37160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bid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352680"/>
            <a:ext cx="8686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Incentive Compati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 to do nearly as well as the  bes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ume max profit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r bid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954680"/>
            <a:ext cx="2590920" cy="9349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Unlimited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19840" y="4973760"/>
            <a:ext cx="443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: 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um over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04120" y="4495680"/>
            <a:ext cx="1830240" cy="1668600"/>
            <a:chOff x="6504120" y="4495680"/>
            <a:chExt cx="1830240" cy="1668600"/>
          </a:xfrm>
        </p:grpSpPr>
        <p:grpSp>
          <p:nvGrpSpPr>
            <p:cNvPr id="215" name=""/>
            <p:cNvGrpSpPr/>
            <p:nvPr/>
          </p:nvGrpSpPr>
          <p:grpSpPr>
            <a:xfrm>
              <a:off x="6504120" y="4495680"/>
              <a:ext cx="1830240" cy="679680"/>
              <a:chOff x="6504120" y="4495680"/>
              <a:chExt cx="1830240" cy="6796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412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00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424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"/>
            <p:cNvGrpSpPr/>
            <p:nvPr/>
          </p:nvGrpSpPr>
          <p:grpSpPr>
            <a:xfrm>
              <a:off x="6504120" y="5484600"/>
              <a:ext cx="1830240" cy="679680"/>
              <a:chOff x="6504120" y="5484600"/>
              <a:chExt cx="1830240" cy="6796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0412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1900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5565240" y="4114800"/>
            <a:ext cx="3530880" cy="2286000"/>
            <a:chOff x="5565240" y="4114800"/>
            <a:chExt cx="3530880" cy="2286000"/>
          </a:xfrm>
        </p:grpSpPr>
        <p:sp>
          <p:nvSpPr>
            <p:cNvPr id="224" name=""/>
            <p:cNvSpPr/>
            <p:nvPr/>
          </p:nvSpPr>
          <p:spPr>
            <a:xfrm>
              <a:off x="6004440" y="411480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04440" y="516492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5240" y="464760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421488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87631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3920" y="4572000"/>
            <a:ext cx="8638920" cy="11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37280" y="6489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914400" y="337824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ftware, movies,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63840"/>
            <a:ext cx="73915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uction mechanisms for selling digital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12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22596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66680"/>
            <a:ext cx="89917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438280"/>
            <a:ext cx="8458200" cy="191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digital-good auction.  Algorithm us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hoose price to  offer fo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discretize to powers of 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 Get |G| = (log h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se fact that alg will only output a bid value.  |G|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449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hat if hard to directly bound   # possible outpu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2520" y="3429000"/>
            <a:ext cx="6316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se covering argu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covers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how that all functions in G’ behave w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85560" y="2438280"/>
            <a:ext cx="3817440" cy="1962000"/>
            <a:chOff x="4885560" y="2438280"/>
            <a:chExt cx="3817440" cy="1962000"/>
          </a:xfrm>
        </p:grpSpPr>
        <p:sp>
          <p:nvSpPr>
            <p:cNvPr id="272" name=""/>
            <p:cNvSpPr/>
            <p:nvPr/>
          </p:nvSpPr>
          <p:spPr>
            <a:xfrm>
              <a:off x="6186600" y="40320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74000">
              <a:off x="5497200" y="2919240"/>
              <a:ext cx="3189240" cy="493560"/>
            </a:xfrm>
            <a:prstGeom prst="parallelogram">
              <a:avLst>
                <a:gd name="adj" fmla="val 88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5560" y="27532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5840" y="356472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3525840"/>
              <a:ext cx="11736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0160" y="34448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5800" y="33854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15480" y="35758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5480" y="3477960"/>
              <a:ext cx="0" cy="9792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315480" y="3229920"/>
              <a:ext cx="18720" cy="29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0760" y="3188880"/>
              <a:ext cx="98280" cy="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4760" y="3625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35762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1840" y="34272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71840" y="3229560"/>
              <a:ext cx="0" cy="1976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71840" y="2923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7120" y="2882880"/>
              <a:ext cx="98280" cy="90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03480" y="348696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8760" y="3427560"/>
              <a:ext cx="10800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81840" y="327888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881840" y="3130200"/>
              <a:ext cx="0" cy="1486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881840" y="297252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7120" y="2932920"/>
              <a:ext cx="98280" cy="88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665840" y="3318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665840" y="3081240"/>
              <a:ext cx="0" cy="24660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665840" y="268452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1480" y="2635920"/>
              <a:ext cx="98280" cy="88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7120" y="4020840"/>
              <a:ext cx="259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937120" y="2438280"/>
              <a:ext cx="0" cy="15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7840" y="3278880"/>
              <a:ext cx="268920" cy="24660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37120" y="3525840"/>
              <a:ext cx="540360" cy="494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2080" y="37692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648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2960" y="358308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28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880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920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71040" y="36378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352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38280"/>
            <a:ext cx="868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cover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wrt to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f for all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xist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s.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(i)-g’(i)|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(S)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[g(i) </a:t>
            </a:r>
            <a:r>
              <a:rPr b="0" lang="en-US" sz="2400" spc="-1" strike="noStrike">
                <a:solidFill>
                  <a:srgbClr val="009999"/>
                </a:solidFill>
                <a:latin typeface="cmsy10"/>
              </a:rPr>
              <a:t>´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profit made from bidder 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49600"/>
            <a:ext cx="289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Theorem (roughly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" y="4006800"/>
            <a:ext cx="7205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-cover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then the previous bounds hol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replaced by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’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320" y="19836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ttribute Auctions, Linear Pricing Fun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2654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R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1080" y="1325520"/>
            <a:ext cx="24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= (n+1)(1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ln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200" y="1676520"/>
            <a:ext cx="157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G’| </a:t>
            </a:r>
            <a:r>
              <a:rPr b="0" lang="en-US" sz="24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2400" spc="-1" strike="noStrike" baseline="55000">
                <a:solidFill>
                  <a:srgbClr val="3333cc"/>
                </a:solidFill>
                <a:latin typeface="Comic Sans MS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1200" y="2068560"/>
            <a:ext cx="7591320" cy="4639320"/>
            <a:chOff x="601200" y="2068560"/>
            <a:chExt cx="7591320" cy="4639320"/>
          </a:xfrm>
        </p:grpSpPr>
        <p:sp>
          <p:nvSpPr>
            <p:cNvPr id="324" name=""/>
            <p:cNvSpPr/>
            <p:nvPr/>
          </p:nvSpPr>
          <p:spPr>
            <a:xfrm>
              <a:off x="5867280" y="206856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4000">
              <a:off x="1170000" y="3068280"/>
              <a:ext cx="6927480" cy="1044720"/>
            </a:xfrm>
            <a:prstGeom prst="parallelogram">
              <a:avLst>
                <a:gd name="adj" fmla="val 90623"/>
              </a:avLst>
            </a:prstGeom>
            <a:blipFill rotWithShape="0">
              <a:blip r:embed="rId1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213800">
              <a:off x="1145520" y="3039480"/>
              <a:ext cx="7007040" cy="1066680"/>
            </a:xfrm>
            <a:prstGeom prst="parallelogram">
              <a:avLst>
                <a:gd name="adj" fmla="val 83755"/>
              </a:avLst>
            </a:prstGeom>
            <a:blipFill rotWithShape="0">
              <a:blip r:embed="rId2">
                <a:alphaModFix amt="3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7520" y="2903760"/>
              <a:ext cx="532800" cy="1218960"/>
            </a:xfrm>
            <a:prstGeom prst="line">
              <a:avLst/>
            </a:prstGeom>
            <a:ln w="255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3720" y="630900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200" y="2799000"/>
              <a:ext cx="140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6400" y="6205680"/>
              <a:ext cx="57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76400" y="2370240"/>
              <a:ext cx="0" cy="38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4320" y="4503600"/>
              <a:ext cx="1218600" cy="1701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4758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34758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05200" y="425628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1840" y="4046760"/>
              <a:ext cx="17280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502960" y="5325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5502960" y="50209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502960" y="47163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502960" y="44114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57800" y="4303800"/>
              <a:ext cx="0" cy="10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9760" y="4046760"/>
              <a:ext cx="17244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6950880" y="49719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950880" y="4667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6950880" y="4362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080" y="3803760"/>
              <a:ext cx="0" cy="1425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45080" y="34588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45080" y="3076200"/>
              <a:ext cx="0" cy="3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2979720"/>
              <a:ext cx="217080" cy="217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6341400" y="48355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6341400" y="4530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6341400" y="42256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6341400" y="39211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6341400" y="36162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6341400" y="33112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5560" y="3850920"/>
              <a:ext cx="0" cy="122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65560" y="329688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65560" y="23382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5858640" y="4640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5858640" y="4335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5858640" y="40305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58640" y="3725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58640" y="3420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58640" y="3116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858640" y="2811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858640" y="250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68560" y="4496040"/>
              <a:ext cx="0" cy="13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68560" y="42562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68560" y="36558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866320" y="538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86632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86632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2866320" y="4487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866320" y="4182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2866320" y="38620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47960" y="355932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4800" y="463896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7000" y="4616640"/>
              <a:ext cx="0" cy="118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068000" y="5402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0680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40680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9392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646520" y="4135320"/>
              <a:ext cx="4320" cy="120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46520" y="365616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6520" y="2903760"/>
              <a:ext cx="4320" cy="75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542120" y="4868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4542120" y="4563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42120" y="4259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542120" y="3954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542120" y="3649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542120" y="3344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4542120" y="3039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5920" y="281808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8755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5570640"/>
              <a:ext cx="550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35320" y="58197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796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3240" y="57229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3600" y="51339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1320" y="52657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080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438280"/>
            <a:ext cx="8458200" cy="256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binatorial auctions with m items, G = class of item-pricings, to ge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OPT, sufficient to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general valuation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results for general case, factor m savings over GH01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1066680"/>
            <a:ext cx="8991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Regularization/S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do SRM as usual, penalizing higher-complexity function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even individual functions can have different complexity leve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572000"/>
            <a:ext cx="8762760" cy="25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.g., digital-good auction.  Say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s 1 bid of value h and h-1 bids of value 1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, {1,h} are both optimal prices.  But much better stats for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s to replace “h” with “price used by OPT” in previous bou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160960"/>
            <a:ext cx="32763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43200" y="5226120"/>
            <a:ext cx="2951280" cy="459720"/>
            <a:chOff x="2743200" y="5226120"/>
            <a:chExt cx="2951280" cy="459720"/>
          </a:xfrm>
        </p:grpSpPr>
        <p:sp>
          <p:nvSpPr>
            <p:cNvPr id="415" name=""/>
            <p:cNvSpPr/>
            <p:nvPr/>
          </p:nvSpPr>
          <p:spPr>
            <a:xfrm>
              <a:off x="2743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56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8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1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4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7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$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9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2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45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Explicit connection between machine learning and mechanism design.  Use ideas of MLT to analyze when random sampling auction will do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application brings out interesting twists on usual ML issues.  What has to be large as a function of what?  S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ss function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discontinuou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symmetr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nge of valuations l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allenges/Future Direc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 similar techniques t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limite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upp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Onl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e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 big a “focus group” do you need for other kinds of pricing/allocation/decision-making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6040" y="6642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1440" y="2971800"/>
            <a:ext cx="6067440" cy="36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4990680" y="4038480"/>
            <a:ext cx="2514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495360" y="2457360"/>
            <a:ext cx="25146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d-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276720"/>
            <a:ext cx="88394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82920"/>
            <a:ext cx="43434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Combinatorial 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378240"/>
            <a:ext cx="883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ling many different kinds of items. Buyers with complex preferences over bund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I only want the hotel room if I get the flight too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items or services that overlap, others only good if have something else too.  How should you set prices to make the most prof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590920"/>
            <a:ext cx="883944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Even if all customers’ preference information, how much they would be willing to pay, etc.  is known up-front, setting prices to maximize revenue can be a challenging algorithmic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But in addition, incentive constraints: customers won’t give you the (correct) information if (possibly) not in their best inter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86728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867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200" y="4532400"/>
            <a:ext cx="2057400" cy="496800"/>
          </a:xfrm>
          <a:custGeom>
            <a:avLst/>
            <a:gdLst>
              <a:gd name="textAreaLeft" fmla="*/ 359280 w 2057400"/>
              <a:gd name="textAreaRight" fmla="*/ 1492560 w 20574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5" hR="21600" stAng="10800000" swAng="5400000"/>
                <a:lnTo>
                  <a:pt x="11897" y="0"/>
                </a:lnTo>
                <a:arcTo wR="7555" hR="21600" stAng="-5400000" swAng="2681386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7" y="14400"/>
                </a:lnTo>
                <a:arcTo wR="7555" hR="21600" stAng="-2718614" swAng="-2321959"/>
                <a:lnTo>
                  <a:pt x="9726" y="911"/>
                </a:lnTo>
                <a:arcTo wR="7555" hR="21600" stAng="-5759427" swAng="-5040573"/>
                <a:close/>
              </a:path>
              <a:path fill="darkenLess" w="21600" h="21600">
                <a:moveTo>
                  <a:pt x="0" y="21600"/>
                </a:moveTo>
                <a:arcTo wR="7555" hR="21600" stAng="10800000" swAng="5400000"/>
                <a:lnTo>
                  <a:pt x="7555" y="0"/>
                </a:lnTo>
                <a:arcTo wR="7555" hR="21600" stAng="-5400000" swAng="359427"/>
                <a:lnTo>
                  <a:pt x="9726" y="911"/>
                </a:lnTo>
                <a:arcTo wR="7555" hR="21600" stAng="-5759427" swAng="-5040573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1040" y="5216400"/>
            <a:ext cx="18738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Our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26120"/>
            <a:ext cx="5029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Generic Reduction using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105520"/>
            <a:ext cx="685800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357560" cy="23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038480"/>
            <a:ext cx="8686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c econ model: buyers “types” (valuations) chosen iid from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known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.  In this case, just set sales pri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aximize expected prof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what if don’t want to assum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8:13:09Z</dcterms:created>
  <dc:creator>Maria-Florina Balcan</dc:creator>
  <dc:description/>
  <dc:language>en-US</dc:language>
  <cp:lastModifiedBy>Avrim Blum</cp:lastModifiedBy>
  <dcterms:modified xsi:type="dcterms:W3CDTF">2009-10-13T18:26:21Z</dcterms:modified>
  <cp:revision>1752</cp:revision>
  <dc:subject/>
  <dc:title>Sponsored Search Acution Design Via Machine Learning</dc:title>
</cp:coreProperties>
</file>